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5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4.jpeg" ContentType="image/jpeg"/>
  <Override PartName="/ppt/media/chimes.wav" ContentType="audio/x-wav"/>
  <Override PartName="/ppt/media/image6.jpeg" ContentType="image/jpeg"/>
  <Override PartName="/ppt/media/image13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B3DB-C026-4996-B9F1-B727EB23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82296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41920"/>
            <a:ext cx="82296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46EA-72DD-48BF-BDD9-3E706392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4015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33280"/>
            <a:ext cx="4015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41920"/>
            <a:ext cx="4015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41920"/>
            <a:ext cx="4015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CC8B-8E6E-42D2-A06D-5932FC69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26496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33280"/>
            <a:ext cx="26496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33280"/>
            <a:ext cx="26496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41920"/>
            <a:ext cx="26496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41920"/>
            <a:ext cx="26496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41920"/>
            <a:ext cx="26496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B346-4C38-4509-B664-825437B6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114B-D586-486E-99E8-44E62421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33280"/>
            <a:ext cx="8229600" cy="34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1CDB-2688-492F-B059-6570BBA7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8229600" cy="34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E652-494F-41AA-9CBB-B3F1644D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4015800" cy="34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33280"/>
            <a:ext cx="4015800" cy="34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8D9F-8C58-49BC-8CBE-F8B2DD04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A529-0BAA-44A1-9E0C-308B6191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384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F2BF-8277-4A4E-A229-6746DEF0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4015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33280"/>
            <a:ext cx="4015800" cy="34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41920"/>
            <a:ext cx="4015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51C4-6B8B-4636-B9F7-BD6CFC1B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33280"/>
            <a:ext cx="8229600" cy="34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1B3C-FB6E-4098-BEC1-D0C24610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4015800" cy="34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33280"/>
            <a:ext cx="4015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41920"/>
            <a:ext cx="4015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F942-C4D8-4D86-82DE-449F768A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4015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33280"/>
            <a:ext cx="4015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41920"/>
            <a:ext cx="82296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C1B6-ACE5-478C-B5DF-790FDAA2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82296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41920"/>
            <a:ext cx="82296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F3E1-51A1-4632-9CB9-AA4166E5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4015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33280"/>
            <a:ext cx="4015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41920"/>
            <a:ext cx="4015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41920"/>
            <a:ext cx="4015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1D4E-F477-4A90-AF0E-BC0CD104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26496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33280"/>
            <a:ext cx="26496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33280"/>
            <a:ext cx="26496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41920"/>
            <a:ext cx="26496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41920"/>
            <a:ext cx="26496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41920"/>
            <a:ext cx="26496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2351-19F3-4B48-A342-6836A17E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8229600" cy="34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2466-DB7A-47BC-8CBC-05B213C0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4015800" cy="34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33280"/>
            <a:ext cx="4015800" cy="34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55A2-C44E-4AB3-A6A8-8CD6E0C0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FC5-9EF6-468E-B234-8723E06B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384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741D-12BA-48DB-974F-47583126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4015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33280"/>
            <a:ext cx="4015800" cy="34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41920"/>
            <a:ext cx="4015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224A-2666-4FD3-8D92-3BC1ABE2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4015800" cy="34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33280"/>
            <a:ext cx="4015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41920"/>
            <a:ext cx="4015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6B0-729B-4CA9-8440-DB4EBF2C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4015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33280"/>
            <a:ext cx="4015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41920"/>
            <a:ext cx="82296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98E-7321-4033-BA09-423DE438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0DA7-BE3B-4771-ADCA-4BFF8E51380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133280"/>
            <a:ext cx="8229600" cy="34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33280"/>
            <a:ext cx="8229600" cy="34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7D80-D229-48E7-846E-B7662E11CCC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Zs151655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>
            <a:off x="857160" y="466560"/>
            <a:ext cx="7429680" cy="188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人民解放军百万大军横渡长江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580000" y="234792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f20ec"/>
                </a:solidFill>
                <a:latin typeface="Times New Roman"/>
                <a:ea typeface="宋体"/>
              </a:rPr>
              <a:t>毛泽东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85" name="人民解放军占领南京.mp3" descr=""/>
          <p:cNvPicPr/>
          <p:nvPr/>
        </p:nvPicPr>
        <p:blipFill>
          <a:blip r:embed="rId2"/>
          <a:stretch/>
        </p:blipFill>
        <p:spPr>
          <a:xfrm>
            <a:off x="6372360" y="3921120"/>
            <a:ext cx="304560" cy="228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5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背景１"/>
          <p:cNvPicPr/>
          <p:nvPr/>
        </p:nvPicPr>
        <p:blipFill>
          <a:blip r:embed="rId1"/>
          <a:stretch/>
        </p:blipFill>
        <p:spPr>
          <a:xfrm>
            <a:off x="0" y="0"/>
            <a:ext cx="9144000" cy="52005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 u="sng">
                <a:solidFill>
                  <a:srgbClr val="ff9933"/>
                </a:solidFill>
                <a:uFillTx/>
                <a:latin typeface="Calibri"/>
              </a:rPr>
              <a:t>新闻的结构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32000" y="1582560"/>
            <a:ext cx="49212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导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主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Calibri"/>
              </a:rPr>
              <a:t>背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Calibri"/>
              </a:rPr>
              <a:t>结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3809880" y="1714680"/>
            <a:ext cx="76320" cy="742680"/>
          </a:xfrm>
          <a:custGeom>
            <a:avLst/>
            <a:gdLst>
              <a:gd name="textAreaLeft" fmla="*/ 22320 w 76320"/>
              <a:gd name="textAreaRight" fmla="*/ 76320 w 76320"/>
              <a:gd name="textAreaTop" fmla="*/ 30960 h 742680"/>
              <a:gd name="textAreaBottom" fmla="*/ 712080 h 74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6" name="WordArt 6"/>
          <p:cNvSpPr txBox="1"/>
          <p:nvPr/>
        </p:nvSpPr>
        <p:spPr>
          <a:xfrm>
            <a:off x="4343400" y="1486080"/>
            <a:ext cx="83808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引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7" name="WordArt 7"/>
          <p:cNvSpPr txBox="1"/>
          <p:nvPr/>
        </p:nvSpPr>
        <p:spPr>
          <a:xfrm>
            <a:off x="4343400" y="1886040"/>
            <a:ext cx="8380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主标</a:t>
            </a:r>
            <a:endParaRPr b="1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8" name="WordArt 8"/>
          <p:cNvSpPr txBox="1"/>
          <p:nvPr/>
        </p:nvSpPr>
        <p:spPr>
          <a:xfrm>
            <a:off x="4343400" y="2286000"/>
            <a:ext cx="8380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副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59" name="Picture 9" descr="gifmb039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背景１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304920" y="2171880"/>
            <a:ext cx="71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宋体"/>
              </a:rPr>
              <a:t>课文结构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433520" y="1428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标题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838080" y="1542960"/>
            <a:ext cx="576360" cy="3078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80280 h 3078360"/>
              <a:gd name="textAreaBottom" fmla="*/ 2998080 h 307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2186640" y="2685960"/>
            <a:ext cx="21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（第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两句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332440" y="3886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（剩余部分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4399920" y="342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中路军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4323960" y="3886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西路军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4323960" y="4400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东路军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1143000" y="388620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2818"/>
                </a:solidFill>
                <a:latin typeface="Times New Roman"/>
                <a:ea typeface="宋体"/>
              </a:rPr>
              <a:t>主体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1143000" y="26290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2818"/>
                </a:solidFill>
                <a:latin typeface="Times New Roman"/>
                <a:ea typeface="宋体"/>
              </a:rPr>
              <a:t>导语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4038480" y="3486240"/>
            <a:ext cx="71640" cy="1187280"/>
          </a:xfrm>
          <a:custGeom>
            <a:avLst/>
            <a:gdLst>
              <a:gd name="textAreaLeft" fmla="*/ 45720 w 71640"/>
              <a:gd name="textAreaRight" fmla="*/ 72000 w 71640"/>
              <a:gd name="textAreaTop" fmla="*/ 30960 h 1187280"/>
              <a:gd name="textAreaBottom" fmla="*/ 1156320 h 11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e12b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4495680" y="2343240"/>
            <a:ext cx="194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渡江概况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  <a:ea typeface="宋体"/>
              </a:rPr>
              <a:t>（从四个方面概括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6553080" y="26290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冲破敌阵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6553080" y="29718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横渡长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5410080" y="34862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路军首战告捷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5410080" y="394344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西路军所向无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7666200" y="348624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（略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7696080" y="39434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（详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7816320" y="4400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（重点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5257800" y="440064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东路军战绩辉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2133720" y="142884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人民解放军百万大军横渡长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2" name="AutoShape 24"/>
          <p:cNvSpPr/>
          <p:nvPr/>
        </p:nvSpPr>
        <p:spPr>
          <a:xfrm>
            <a:off x="6324480" y="2000160"/>
            <a:ext cx="71640" cy="1135080"/>
          </a:xfrm>
          <a:custGeom>
            <a:avLst/>
            <a:gdLst>
              <a:gd name="textAreaLeft" fmla="*/ 45720 w 71640"/>
              <a:gd name="textAreaRight" fmla="*/ 72000 w 71640"/>
              <a:gd name="textAreaTop" fmla="*/ 29520 h 1135080"/>
              <a:gd name="textAreaBottom" fmla="*/ 1105560 h 113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e12b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3" name="Text Box 25"/>
          <p:cNvSpPr/>
          <p:nvPr/>
        </p:nvSpPr>
        <p:spPr>
          <a:xfrm>
            <a:off x="533520" y="28584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0ec"/>
                </a:solidFill>
                <a:latin typeface="Times New Roman"/>
                <a:ea typeface="宋体"/>
              </a:rPr>
              <a:t>试找出本文的标题、导语、主体，并划分主体的层次和慨括导语、主体的层意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（小组讨论）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4" name="Text Box 26"/>
          <p:cNvSpPr/>
          <p:nvPr/>
        </p:nvSpPr>
        <p:spPr>
          <a:xfrm>
            <a:off x="6553080" y="182880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渡江区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5" name="Text Box 27"/>
          <p:cNvSpPr/>
          <p:nvPr/>
        </p:nvSpPr>
        <p:spPr>
          <a:xfrm>
            <a:off x="6553080" y="22287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战役全局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背景１"/>
          <p:cNvPicPr/>
          <p:nvPr/>
        </p:nvPicPr>
        <p:blipFill>
          <a:blip r:embed="rId1"/>
          <a:stretch/>
        </p:blipFill>
        <p:spPr>
          <a:xfrm>
            <a:off x="0" y="0"/>
            <a:ext cx="9144000" cy="52005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90720" y="1085760"/>
            <a:ext cx="7315200" cy="30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4800" spc="-1" strike="noStrike">
                <a:solidFill>
                  <a:srgbClr val="c0504d"/>
                </a:solidFill>
                <a:latin typeface="Calibri"/>
              </a:rPr>
              <a:t>对照地图，复述</a:t>
            </a: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三路</a:t>
            </a:r>
            <a:r>
              <a:rPr b="0" lang="zh-CN" sz="4800" spc="-1" strike="noStrike">
                <a:solidFill>
                  <a:srgbClr val="c0504d"/>
                </a:solidFill>
                <a:latin typeface="Calibri"/>
              </a:rPr>
              <a:t>大军的渡江情况。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Calibri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57240"/>
            <a:ext cx="9144000" cy="5086440"/>
            <a:chOff x="0" y="57240"/>
            <a:chExt cx="9144000" cy="5086440"/>
          </a:xfrm>
        </p:grpSpPr>
        <p:pic>
          <p:nvPicPr>
            <p:cNvPr id="189" name="Picture 3" descr="长江"/>
            <p:cNvPicPr/>
            <p:nvPr/>
          </p:nvPicPr>
          <p:blipFill>
            <a:blip r:embed="rId1"/>
            <a:stretch/>
          </p:blipFill>
          <p:spPr>
            <a:xfrm>
              <a:off x="0" y="57240"/>
              <a:ext cx="9144000" cy="50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4"/>
            <p:cNvSpPr/>
            <p:nvPr/>
          </p:nvSpPr>
          <p:spPr>
            <a:xfrm>
              <a:off x="0" y="4308840"/>
              <a:ext cx="914400" cy="37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九江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91" name="Text Box 5"/>
            <p:cNvSpPr/>
            <p:nvPr/>
          </p:nvSpPr>
          <p:spPr>
            <a:xfrm>
              <a:off x="8229600" y="1028520"/>
              <a:ext cx="900000" cy="3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江阴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92" name="Text Box 6"/>
            <p:cNvSpPr/>
            <p:nvPr/>
          </p:nvSpPr>
          <p:spPr>
            <a:xfrm>
              <a:off x="2286000" y="2800440"/>
              <a:ext cx="9907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安庆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5410080" y="1611000"/>
              <a:ext cx="114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芜湖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4" name="Text Box 8"/>
          <p:cNvSpPr/>
          <p:nvPr/>
        </p:nvSpPr>
        <p:spPr>
          <a:xfrm>
            <a:off x="0" y="4400640"/>
            <a:ext cx="91440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九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8153280" y="1028880"/>
            <a:ext cx="914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江阴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286000" y="2754360"/>
            <a:ext cx="99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安庆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5410080" y="16002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芜湖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98" name="Group 12"/>
          <p:cNvGrpSpPr/>
          <p:nvPr/>
        </p:nvGrpSpPr>
        <p:grpSpPr>
          <a:xfrm>
            <a:off x="1143000" y="285840"/>
            <a:ext cx="7391520" cy="4171680"/>
            <a:chOff x="1143000" y="285840"/>
            <a:chExt cx="7391520" cy="4171680"/>
          </a:xfrm>
        </p:grpSpPr>
        <p:sp>
          <p:nvSpPr>
            <p:cNvPr id="199" name="Freeform 13"/>
            <p:cNvSpPr/>
            <p:nvPr/>
          </p:nvSpPr>
          <p:spPr>
            <a:xfrm>
              <a:off x="1143000" y="3229920"/>
              <a:ext cx="2038320" cy="1227600"/>
            </a:xfrm>
            <a:custGeom>
              <a:avLst/>
              <a:gdLst/>
              <a:ahLst/>
              <a:rect l="l" t="t" r="r" b="b"/>
              <a:pathLst>
                <a:path w="1284" h="1008">
                  <a:moveTo>
                    <a:pt x="0" y="1008"/>
                  </a:moveTo>
                  <a:cubicBezTo>
                    <a:pt x="8" y="984"/>
                    <a:pt x="3" y="950"/>
                    <a:pt x="24" y="936"/>
                  </a:cubicBezTo>
                  <a:cubicBezTo>
                    <a:pt x="60" y="912"/>
                    <a:pt x="96" y="900"/>
                    <a:pt x="132" y="876"/>
                  </a:cubicBezTo>
                  <a:cubicBezTo>
                    <a:pt x="175" y="890"/>
                    <a:pt x="223" y="892"/>
                    <a:pt x="264" y="912"/>
                  </a:cubicBezTo>
                  <a:cubicBezTo>
                    <a:pt x="357" y="959"/>
                    <a:pt x="246" y="918"/>
                    <a:pt x="336" y="948"/>
                  </a:cubicBezTo>
                  <a:cubicBezTo>
                    <a:pt x="360" y="940"/>
                    <a:pt x="391" y="933"/>
                    <a:pt x="408" y="912"/>
                  </a:cubicBezTo>
                  <a:cubicBezTo>
                    <a:pt x="455" y="854"/>
                    <a:pt x="377" y="890"/>
                    <a:pt x="456" y="864"/>
                  </a:cubicBezTo>
                  <a:cubicBezTo>
                    <a:pt x="520" y="767"/>
                    <a:pt x="704" y="691"/>
                    <a:pt x="804" y="624"/>
                  </a:cubicBezTo>
                  <a:cubicBezTo>
                    <a:pt x="833" y="605"/>
                    <a:pt x="911" y="518"/>
                    <a:pt x="924" y="480"/>
                  </a:cubicBezTo>
                  <a:cubicBezTo>
                    <a:pt x="928" y="468"/>
                    <a:pt x="927" y="453"/>
                    <a:pt x="936" y="444"/>
                  </a:cubicBezTo>
                  <a:cubicBezTo>
                    <a:pt x="956" y="424"/>
                    <a:pt x="1008" y="396"/>
                    <a:pt x="1008" y="396"/>
                  </a:cubicBezTo>
                  <a:cubicBezTo>
                    <a:pt x="1054" y="327"/>
                    <a:pt x="1046" y="307"/>
                    <a:pt x="1020" y="228"/>
                  </a:cubicBezTo>
                  <a:cubicBezTo>
                    <a:pt x="1033" y="161"/>
                    <a:pt x="1024" y="145"/>
                    <a:pt x="1080" y="108"/>
                  </a:cubicBezTo>
                  <a:cubicBezTo>
                    <a:pt x="1107" y="27"/>
                    <a:pt x="1069" y="104"/>
                    <a:pt x="1200" y="60"/>
                  </a:cubicBezTo>
                  <a:cubicBezTo>
                    <a:pt x="1238" y="47"/>
                    <a:pt x="1259" y="25"/>
                    <a:pt x="1284" y="0"/>
                  </a:cubicBezTo>
                </a:path>
              </a:pathLst>
            </a:custGeom>
            <a:noFill/>
            <a:ln w="14292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0" name="Freeform 14"/>
            <p:cNvSpPr/>
            <p:nvPr/>
          </p:nvSpPr>
          <p:spPr>
            <a:xfrm>
              <a:off x="3124080" y="1801440"/>
              <a:ext cx="2192400" cy="1485720"/>
            </a:xfrm>
            <a:custGeom>
              <a:avLst/>
              <a:gdLst/>
              <a:ahLst/>
              <a:rect l="l" t="t" r="r" b="b"/>
              <a:pathLst>
                <a:path w="1381" h="1248">
                  <a:moveTo>
                    <a:pt x="1344" y="0"/>
                  </a:moveTo>
                  <a:cubicBezTo>
                    <a:pt x="1356" y="62"/>
                    <a:pt x="1381" y="108"/>
                    <a:pt x="1308" y="132"/>
                  </a:cubicBezTo>
                  <a:cubicBezTo>
                    <a:pt x="1261" y="116"/>
                    <a:pt x="1195" y="127"/>
                    <a:pt x="1152" y="156"/>
                  </a:cubicBezTo>
                  <a:cubicBezTo>
                    <a:pt x="1128" y="172"/>
                    <a:pt x="1080" y="204"/>
                    <a:pt x="1080" y="204"/>
                  </a:cubicBezTo>
                  <a:cubicBezTo>
                    <a:pt x="1076" y="216"/>
                    <a:pt x="1077" y="231"/>
                    <a:pt x="1068" y="240"/>
                  </a:cubicBezTo>
                  <a:cubicBezTo>
                    <a:pt x="1059" y="249"/>
                    <a:pt x="1043" y="246"/>
                    <a:pt x="1032" y="252"/>
                  </a:cubicBezTo>
                  <a:cubicBezTo>
                    <a:pt x="967" y="288"/>
                    <a:pt x="968" y="292"/>
                    <a:pt x="924" y="336"/>
                  </a:cubicBezTo>
                  <a:cubicBezTo>
                    <a:pt x="920" y="348"/>
                    <a:pt x="921" y="363"/>
                    <a:pt x="912" y="372"/>
                  </a:cubicBezTo>
                  <a:cubicBezTo>
                    <a:pt x="870" y="414"/>
                    <a:pt x="874" y="366"/>
                    <a:pt x="852" y="348"/>
                  </a:cubicBezTo>
                  <a:cubicBezTo>
                    <a:pt x="842" y="340"/>
                    <a:pt x="828" y="340"/>
                    <a:pt x="816" y="336"/>
                  </a:cubicBezTo>
                  <a:cubicBezTo>
                    <a:pt x="766" y="353"/>
                    <a:pt x="765" y="378"/>
                    <a:pt x="720" y="408"/>
                  </a:cubicBezTo>
                  <a:cubicBezTo>
                    <a:pt x="650" y="513"/>
                    <a:pt x="669" y="451"/>
                    <a:pt x="684" y="600"/>
                  </a:cubicBezTo>
                  <a:cubicBezTo>
                    <a:pt x="668" y="709"/>
                    <a:pt x="681" y="657"/>
                    <a:pt x="648" y="756"/>
                  </a:cubicBezTo>
                  <a:cubicBezTo>
                    <a:pt x="640" y="780"/>
                    <a:pt x="600" y="772"/>
                    <a:pt x="576" y="780"/>
                  </a:cubicBezTo>
                  <a:cubicBezTo>
                    <a:pt x="514" y="801"/>
                    <a:pt x="451" y="815"/>
                    <a:pt x="396" y="852"/>
                  </a:cubicBezTo>
                  <a:cubicBezTo>
                    <a:pt x="356" y="912"/>
                    <a:pt x="384" y="880"/>
                    <a:pt x="300" y="936"/>
                  </a:cubicBezTo>
                  <a:cubicBezTo>
                    <a:pt x="273" y="954"/>
                    <a:pt x="204" y="960"/>
                    <a:pt x="204" y="960"/>
                  </a:cubicBezTo>
                  <a:cubicBezTo>
                    <a:pt x="192" y="972"/>
                    <a:pt x="176" y="981"/>
                    <a:pt x="168" y="996"/>
                  </a:cubicBezTo>
                  <a:cubicBezTo>
                    <a:pt x="150" y="1029"/>
                    <a:pt x="153" y="1072"/>
                    <a:pt x="132" y="1104"/>
                  </a:cubicBezTo>
                  <a:cubicBezTo>
                    <a:pt x="116" y="1128"/>
                    <a:pt x="100" y="1152"/>
                    <a:pt x="84" y="1176"/>
                  </a:cubicBezTo>
                  <a:cubicBezTo>
                    <a:pt x="77" y="1187"/>
                    <a:pt x="59" y="1182"/>
                    <a:pt x="48" y="1188"/>
                  </a:cubicBezTo>
                  <a:cubicBezTo>
                    <a:pt x="35" y="1194"/>
                    <a:pt x="24" y="1204"/>
                    <a:pt x="12" y="1212"/>
                  </a:cubicBezTo>
                  <a:cubicBezTo>
                    <a:pt x="8" y="1224"/>
                    <a:pt x="0" y="1248"/>
                    <a:pt x="0" y="1248"/>
                  </a:cubicBezTo>
                </a:path>
              </a:pathLst>
            </a:custGeom>
            <a:noFill/>
            <a:ln w="14940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1" name="Freeform 15"/>
            <p:cNvSpPr/>
            <p:nvPr/>
          </p:nvSpPr>
          <p:spPr>
            <a:xfrm>
              <a:off x="5276880" y="285840"/>
              <a:ext cx="3257640" cy="1542960"/>
            </a:xfrm>
            <a:custGeom>
              <a:avLst/>
              <a:gdLst/>
              <a:ahLst/>
              <a:rect l="l" t="t" r="r" b="b"/>
              <a:pathLst>
                <a:path w="2052" h="1296">
                  <a:moveTo>
                    <a:pt x="2052" y="552"/>
                  </a:moveTo>
                  <a:cubicBezTo>
                    <a:pt x="1994" y="545"/>
                    <a:pt x="1903" y="546"/>
                    <a:pt x="1848" y="516"/>
                  </a:cubicBezTo>
                  <a:cubicBezTo>
                    <a:pt x="1724" y="447"/>
                    <a:pt x="1821" y="483"/>
                    <a:pt x="1740" y="456"/>
                  </a:cubicBezTo>
                  <a:cubicBezTo>
                    <a:pt x="1723" y="404"/>
                    <a:pt x="1690" y="361"/>
                    <a:pt x="1668" y="312"/>
                  </a:cubicBezTo>
                  <a:cubicBezTo>
                    <a:pt x="1643" y="255"/>
                    <a:pt x="1633" y="192"/>
                    <a:pt x="1620" y="132"/>
                  </a:cubicBezTo>
                  <a:cubicBezTo>
                    <a:pt x="1612" y="97"/>
                    <a:pt x="1603" y="37"/>
                    <a:pt x="1572" y="12"/>
                  </a:cubicBezTo>
                  <a:cubicBezTo>
                    <a:pt x="1562" y="4"/>
                    <a:pt x="1548" y="4"/>
                    <a:pt x="1536" y="0"/>
                  </a:cubicBezTo>
                  <a:cubicBezTo>
                    <a:pt x="1516" y="4"/>
                    <a:pt x="1493" y="1"/>
                    <a:pt x="1476" y="12"/>
                  </a:cubicBezTo>
                  <a:cubicBezTo>
                    <a:pt x="1465" y="19"/>
                    <a:pt x="1470" y="37"/>
                    <a:pt x="1464" y="48"/>
                  </a:cubicBezTo>
                  <a:cubicBezTo>
                    <a:pt x="1458" y="61"/>
                    <a:pt x="1449" y="73"/>
                    <a:pt x="1440" y="84"/>
                  </a:cubicBezTo>
                  <a:cubicBezTo>
                    <a:pt x="1409" y="121"/>
                    <a:pt x="1377" y="141"/>
                    <a:pt x="1332" y="156"/>
                  </a:cubicBezTo>
                  <a:cubicBezTo>
                    <a:pt x="1258" y="107"/>
                    <a:pt x="1245" y="122"/>
                    <a:pt x="1140" y="132"/>
                  </a:cubicBezTo>
                  <a:cubicBezTo>
                    <a:pt x="986" y="123"/>
                    <a:pt x="904" y="110"/>
                    <a:pt x="756" y="132"/>
                  </a:cubicBezTo>
                  <a:cubicBezTo>
                    <a:pt x="688" y="142"/>
                    <a:pt x="631" y="187"/>
                    <a:pt x="564" y="204"/>
                  </a:cubicBezTo>
                  <a:cubicBezTo>
                    <a:pt x="519" y="234"/>
                    <a:pt x="518" y="259"/>
                    <a:pt x="468" y="276"/>
                  </a:cubicBezTo>
                  <a:cubicBezTo>
                    <a:pt x="451" y="328"/>
                    <a:pt x="450" y="342"/>
                    <a:pt x="396" y="360"/>
                  </a:cubicBezTo>
                  <a:cubicBezTo>
                    <a:pt x="380" y="384"/>
                    <a:pt x="357" y="405"/>
                    <a:pt x="348" y="432"/>
                  </a:cubicBezTo>
                  <a:cubicBezTo>
                    <a:pt x="340" y="456"/>
                    <a:pt x="342" y="486"/>
                    <a:pt x="324" y="504"/>
                  </a:cubicBezTo>
                  <a:cubicBezTo>
                    <a:pt x="293" y="535"/>
                    <a:pt x="221" y="611"/>
                    <a:pt x="204" y="648"/>
                  </a:cubicBezTo>
                  <a:cubicBezTo>
                    <a:pt x="172" y="720"/>
                    <a:pt x="164" y="798"/>
                    <a:pt x="120" y="864"/>
                  </a:cubicBezTo>
                  <a:cubicBezTo>
                    <a:pt x="95" y="1011"/>
                    <a:pt x="0" y="1145"/>
                    <a:pt x="0" y="1296"/>
                  </a:cubicBezTo>
                </a:path>
              </a:pathLst>
            </a:custGeom>
            <a:noFill/>
            <a:ln w="200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202" name="Group 16"/>
          <p:cNvGrpSpPr/>
          <p:nvPr/>
        </p:nvGrpSpPr>
        <p:grpSpPr>
          <a:xfrm>
            <a:off x="1143000" y="285840"/>
            <a:ext cx="7391520" cy="4171680"/>
            <a:chOff x="1143000" y="285840"/>
            <a:chExt cx="7391520" cy="4171680"/>
          </a:xfrm>
        </p:grpSpPr>
        <p:sp>
          <p:nvSpPr>
            <p:cNvPr id="203" name="Freeform 17"/>
            <p:cNvSpPr/>
            <p:nvPr/>
          </p:nvSpPr>
          <p:spPr>
            <a:xfrm>
              <a:off x="1143000" y="3229920"/>
              <a:ext cx="2038320" cy="1227600"/>
            </a:xfrm>
            <a:custGeom>
              <a:avLst/>
              <a:gdLst/>
              <a:ahLst/>
              <a:rect l="l" t="t" r="r" b="b"/>
              <a:pathLst>
                <a:path w="1284" h="1008">
                  <a:moveTo>
                    <a:pt x="0" y="1008"/>
                  </a:moveTo>
                  <a:cubicBezTo>
                    <a:pt x="8" y="984"/>
                    <a:pt x="3" y="950"/>
                    <a:pt x="24" y="936"/>
                  </a:cubicBezTo>
                  <a:cubicBezTo>
                    <a:pt x="60" y="912"/>
                    <a:pt x="96" y="900"/>
                    <a:pt x="132" y="876"/>
                  </a:cubicBezTo>
                  <a:cubicBezTo>
                    <a:pt x="175" y="890"/>
                    <a:pt x="223" y="892"/>
                    <a:pt x="264" y="912"/>
                  </a:cubicBezTo>
                  <a:cubicBezTo>
                    <a:pt x="357" y="959"/>
                    <a:pt x="246" y="918"/>
                    <a:pt x="336" y="948"/>
                  </a:cubicBezTo>
                  <a:cubicBezTo>
                    <a:pt x="360" y="940"/>
                    <a:pt x="391" y="933"/>
                    <a:pt x="408" y="912"/>
                  </a:cubicBezTo>
                  <a:cubicBezTo>
                    <a:pt x="455" y="854"/>
                    <a:pt x="377" y="890"/>
                    <a:pt x="456" y="864"/>
                  </a:cubicBezTo>
                  <a:cubicBezTo>
                    <a:pt x="520" y="767"/>
                    <a:pt x="704" y="691"/>
                    <a:pt x="804" y="624"/>
                  </a:cubicBezTo>
                  <a:cubicBezTo>
                    <a:pt x="833" y="605"/>
                    <a:pt x="911" y="518"/>
                    <a:pt x="924" y="480"/>
                  </a:cubicBezTo>
                  <a:cubicBezTo>
                    <a:pt x="928" y="468"/>
                    <a:pt x="927" y="453"/>
                    <a:pt x="936" y="444"/>
                  </a:cubicBezTo>
                  <a:cubicBezTo>
                    <a:pt x="956" y="424"/>
                    <a:pt x="1008" y="396"/>
                    <a:pt x="1008" y="396"/>
                  </a:cubicBezTo>
                  <a:cubicBezTo>
                    <a:pt x="1054" y="327"/>
                    <a:pt x="1046" y="307"/>
                    <a:pt x="1020" y="228"/>
                  </a:cubicBezTo>
                  <a:cubicBezTo>
                    <a:pt x="1033" y="161"/>
                    <a:pt x="1024" y="145"/>
                    <a:pt x="1080" y="108"/>
                  </a:cubicBezTo>
                  <a:cubicBezTo>
                    <a:pt x="1107" y="27"/>
                    <a:pt x="1069" y="104"/>
                    <a:pt x="1200" y="60"/>
                  </a:cubicBezTo>
                  <a:cubicBezTo>
                    <a:pt x="1238" y="47"/>
                    <a:pt x="1259" y="25"/>
                    <a:pt x="1284" y="0"/>
                  </a:cubicBezTo>
                </a:path>
              </a:pathLst>
            </a:custGeom>
            <a:noFill/>
            <a:ln w="14292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4" name="Freeform 18"/>
            <p:cNvSpPr/>
            <p:nvPr/>
          </p:nvSpPr>
          <p:spPr>
            <a:xfrm>
              <a:off x="3124080" y="1801440"/>
              <a:ext cx="2192400" cy="1485720"/>
            </a:xfrm>
            <a:custGeom>
              <a:avLst/>
              <a:gdLst/>
              <a:ahLst/>
              <a:rect l="l" t="t" r="r" b="b"/>
              <a:pathLst>
                <a:path w="1381" h="1248">
                  <a:moveTo>
                    <a:pt x="1344" y="0"/>
                  </a:moveTo>
                  <a:cubicBezTo>
                    <a:pt x="1356" y="62"/>
                    <a:pt x="1381" y="108"/>
                    <a:pt x="1308" y="132"/>
                  </a:cubicBezTo>
                  <a:cubicBezTo>
                    <a:pt x="1261" y="116"/>
                    <a:pt x="1195" y="127"/>
                    <a:pt x="1152" y="156"/>
                  </a:cubicBezTo>
                  <a:cubicBezTo>
                    <a:pt x="1128" y="172"/>
                    <a:pt x="1080" y="204"/>
                    <a:pt x="1080" y="204"/>
                  </a:cubicBezTo>
                  <a:cubicBezTo>
                    <a:pt x="1076" y="216"/>
                    <a:pt x="1077" y="231"/>
                    <a:pt x="1068" y="240"/>
                  </a:cubicBezTo>
                  <a:cubicBezTo>
                    <a:pt x="1059" y="249"/>
                    <a:pt x="1043" y="246"/>
                    <a:pt x="1032" y="252"/>
                  </a:cubicBezTo>
                  <a:cubicBezTo>
                    <a:pt x="967" y="288"/>
                    <a:pt x="968" y="292"/>
                    <a:pt x="924" y="336"/>
                  </a:cubicBezTo>
                  <a:cubicBezTo>
                    <a:pt x="920" y="348"/>
                    <a:pt x="921" y="363"/>
                    <a:pt x="912" y="372"/>
                  </a:cubicBezTo>
                  <a:cubicBezTo>
                    <a:pt x="870" y="414"/>
                    <a:pt x="874" y="366"/>
                    <a:pt x="852" y="348"/>
                  </a:cubicBezTo>
                  <a:cubicBezTo>
                    <a:pt x="842" y="340"/>
                    <a:pt x="828" y="340"/>
                    <a:pt x="816" y="336"/>
                  </a:cubicBezTo>
                  <a:cubicBezTo>
                    <a:pt x="766" y="353"/>
                    <a:pt x="765" y="378"/>
                    <a:pt x="720" y="408"/>
                  </a:cubicBezTo>
                  <a:cubicBezTo>
                    <a:pt x="650" y="513"/>
                    <a:pt x="669" y="451"/>
                    <a:pt x="684" y="600"/>
                  </a:cubicBezTo>
                  <a:cubicBezTo>
                    <a:pt x="668" y="709"/>
                    <a:pt x="681" y="657"/>
                    <a:pt x="648" y="756"/>
                  </a:cubicBezTo>
                  <a:cubicBezTo>
                    <a:pt x="640" y="780"/>
                    <a:pt x="600" y="772"/>
                    <a:pt x="576" y="780"/>
                  </a:cubicBezTo>
                  <a:cubicBezTo>
                    <a:pt x="514" y="801"/>
                    <a:pt x="451" y="815"/>
                    <a:pt x="396" y="852"/>
                  </a:cubicBezTo>
                  <a:cubicBezTo>
                    <a:pt x="356" y="912"/>
                    <a:pt x="384" y="880"/>
                    <a:pt x="300" y="936"/>
                  </a:cubicBezTo>
                  <a:cubicBezTo>
                    <a:pt x="273" y="954"/>
                    <a:pt x="204" y="960"/>
                    <a:pt x="204" y="960"/>
                  </a:cubicBezTo>
                  <a:cubicBezTo>
                    <a:pt x="192" y="972"/>
                    <a:pt x="176" y="981"/>
                    <a:pt x="168" y="996"/>
                  </a:cubicBezTo>
                  <a:cubicBezTo>
                    <a:pt x="150" y="1029"/>
                    <a:pt x="153" y="1072"/>
                    <a:pt x="132" y="1104"/>
                  </a:cubicBezTo>
                  <a:cubicBezTo>
                    <a:pt x="116" y="1128"/>
                    <a:pt x="100" y="1152"/>
                    <a:pt x="84" y="1176"/>
                  </a:cubicBezTo>
                  <a:cubicBezTo>
                    <a:pt x="77" y="1187"/>
                    <a:pt x="59" y="1182"/>
                    <a:pt x="48" y="1188"/>
                  </a:cubicBezTo>
                  <a:cubicBezTo>
                    <a:pt x="35" y="1194"/>
                    <a:pt x="24" y="1204"/>
                    <a:pt x="12" y="1212"/>
                  </a:cubicBezTo>
                  <a:cubicBezTo>
                    <a:pt x="8" y="1224"/>
                    <a:pt x="0" y="1248"/>
                    <a:pt x="0" y="1248"/>
                  </a:cubicBezTo>
                </a:path>
              </a:pathLst>
            </a:custGeom>
            <a:noFill/>
            <a:ln w="1494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5" name="Freeform 19"/>
            <p:cNvSpPr/>
            <p:nvPr/>
          </p:nvSpPr>
          <p:spPr>
            <a:xfrm>
              <a:off x="5276880" y="285840"/>
              <a:ext cx="3257640" cy="1542960"/>
            </a:xfrm>
            <a:custGeom>
              <a:avLst/>
              <a:gdLst/>
              <a:ahLst/>
              <a:rect l="l" t="t" r="r" b="b"/>
              <a:pathLst>
                <a:path w="2052" h="1296">
                  <a:moveTo>
                    <a:pt x="2052" y="552"/>
                  </a:moveTo>
                  <a:cubicBezTo>
                    <a:pt x="1994" y="545"/>
                    <a:pt x="1903" y="546"/>
                    <a:pt x="1848" y="516"/>
                  </a:cubicBezTo>
                  <a:cubicBezTo>
                    <a:pt x="1724" y="447"/>
                    <a:pt x="1821" y="483"/>
                    <a:pt x="1740" y="456"/>
                  </a:cubicBezTo>
                  <a:cubicBezTo>
                    <a:pt x="1723" y="404"/>
                    <a:pt x="1690" y="361"/>
                    <a:pt x="1668" y="312"/>
                  </a:cubicBezTo>
                  <a:cubicBezTo>
                    <a:pt x="1643" y="255"/>
                    <a:pt x="1633" y="192"/>
                    <a:pt x="1620" y="132"/>
                  </a:cubicBezTo>
                  <a:cubicBezTo>
                    <a:pt x="1612" y="97"/>
                    <a:pt x="1603" y="37"/>
                    <a:pt x="1572" y="12"/>
                  </a:cubicBezTo>
                  <a:cubicBezTo>
                    <a:pt x="1562" y="4"/>
                    <a:pt x="1548" y="4"/>
                    <a:pt x="1536" y="0"/>
                  </a:cubicBezTo>
                  <a:cubicBezTo>
                    <a:pt x="1516" y="4"/>
                    <a:pt x="1493" y="1"/>
                    <a:pt x="1476" y="12"/>
                  </a:cubicBezTo>
                  <a:cubicBezTo>
                    <a:pt x="1465" y="19"/>
                    <a:pt x="1470" y="37"/>
                    <a:pt x="1464" y="48"/>
                  </a:cubicBezTo>
                  <a:cubicBezTo>
                    <a:pt x="1458" y="61"/>
                    <a:pt x="1449" y="73"/>
                    <a:pt x="1440" y="84"/>
                  </a:cubicBezTo>
                  <a:cubicBezTo>
                    <a:pt x="1409" y="121"/>
                    <a:pt x="1377" y="141"/>
                    <a:pt x="1332" y="156"/>
                  </a:cubicBezTo>
                  <a:cubicBezTo>
                    <a:pt x="1258" y="107"/>
                    <a:pt x="1245" y="122"/>
                    <a:pt x="1140" y="132"/>
                  </a:cubicBezTo>
                  <a:cubicBezTo>
                    <a:pt x="986" y="123"/>
                    <a:pt x="904" y="110"/>
                    <a:pt x="756" y="132"/>
                  </a:cubicBezTo>
                  <a:cubicBezTo>
                    <a:pt x="688" y="142"/>
                    <a:pt x="631" y="187"/>
                    <a:pt x="564" y="204"/>
                  </a:cubicBezTo>
                  <a:cubicBezTo>
                    <a:pt x="519" y="234"/>
                    <a:pt x="518" y="259"/>
                    <a:pt x="468" y="276"/>
                  </a:cubicBezTo>
                  <a:cubicBezTo>
                    <a:pt x="451" y="328"/>
                    <a:pt x="450" y="342"/>
                    <a:pt x="396" y="360"/>
                  </a:cubicBezTo>
                  <a:cubicBezTo>
                    <a:pt x="380" y="384"/>
                    <a:pt x="357" y="405"/>
                    <a:pt x="348" y="432"/>
                  </a:cubicBezTo>
                  <a:cubicBezTo>
                    <a:pt x="340" y="456"/>
                    <a:pt x="342" y="486"/>
                    <a:pt x="324" y="504"/>
                  </a:cubicBezTo>
                  <a:cubicBezTo>
                    <a:pt x="293" y="535"/>
                    <a:pt x="221" y="611"/>
                    <a:pt x="204" y="648"/>
                  </a:cubicBezTo>
                  <a:cubicBezTo>
                    <a:pt x="172" y="720"/>
                    <a:pt x="164" y="798"/>
                    <a:pt x="120" y="864"/>
                  </a:cubicBezTo>
                  <a:cubicBezTo>
                    <a:pt x="95" y="1011"/>
                    <a:pt x="0" y="1145"/>
                    <a:pt x="0" y="1296"/>
                  </a:cubicBezTo>
                </a:path>
              </a:pathLst>
            </a:custGeom>
            <a:noFill/>
            <a:ln w="2001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206" name="Group 20"/>
          <p:cNvGrpSpPr/>
          <p:nvPr/>
        </p:nvGrpSpPr>
        <p:grpSpPr>
          <a:xfrm>
            <a:off x="1143000" y="285840"/>
            <a:ext cx="7391520" cy="4171680"/>
            <a:chOff x="1143000" y="285840"/>
            <a:chExt cx="7391520" cy="4171680"/>
          </a:xfrm>
        </p:grpSpPr>
        <p:sp>
          <p:nvSpPr>
            <p:cNvPr id="207" name="Freeform 21"/>
            <p:cNvSpPr/>
            <p:nvPr/>
          </p:nvSpPr>
          <p:spPr>
            <a:xfrm>
              <a:off x="1143000" y="3229920"/>
              <a:ext cx="2038320" cy="1227600"/>
            </a:xfrm>
            <a:custGeom>
              <a:avLst/>
              <a:gdLst/>
              <a:ahLst/>
              <a:rect l="l" t="t" r="r" b="b"/>
              <a:pathLst>
                <a:path w="1284" h="1008">
                  <a:moveTo>
                    <a:pt x="0" y="1008"/>
                  </a:moveTo>
                  <a:cubicBezTo>
                    <a:pt x="8" y="984"/>
                    <a:pt x="3" y="950"/>
                    <a:pt x="24" y="936"/>
                  </a:cubicBezTo>
                  <a:cubicBezTo>
                    <a:pt x="60" y="912"/>
                    <a:pt x="96" y="900"/>
                    <a:pt x="132" y="876"/>
                  </a:cubicBezTo>
                  <a:cubicBezTo>
                    <a:pt x="175" y="890"/>
                    <a:pt x="223" y="892"/>
                    <a:pt x="264" y="912"/>
                  </a:cubicBezTo>
                  <a:cubicBezTo>
                    <a:pt x="357" y="959"/>
                    <a:pt x="246" y="918"/>
                    <a:pt x="336" y="948"/>
                  </a:cubicBezTo>
                  <a:cubicBezTo>
                    <a:pt x="360" y="940"/>
                    <a:pt x="391" y="933"/>
                    <a:pt x="408" y="912"/>
                  </a:cubicBezTo>
                  <a:cubicBezTo>
                    <a:pt x="455" y="854"/>
                    <a:pt x="377" y="890"/>
                    <a:pt x="456" y="864"/>
                  </a:cubicBezTo>
                  <a:cubicBezTo>
                    <a:pt x="520" y="767"/>
                    <a:pt x="704" y="691"/>
                    <a:pt x="804" y="624"/>
                  </a:cubicBezTo>
                  <a:cubicBezTo>
                    <a:pt x="833" y="605"/>
                    <a:pt x="911" y="518"/>
                    <a:pt x="924" y="480"/>
                  </a:cubicBezTo>
                  <a:cubicBezTo>
                    <a:pt x="928" y="468"/>
                    <a:pt x="927" y="453"/>
                    <a:pt x="936" y="444"/>
                  </a:cubicBezTo>
                  <a:cubicBezTo>
                    <a:pt x="956" y="424"/>
                    <a:pt x="1008" y="396"/>
                    <a:pt x="1008" y="396"/>
                  </a:cubicBezTo>
                  <a:cubicBezTo>
                    <a:pt x="1054" y="327"/>
                    <a:pt x="1046" y="307"/>
                    <a:pt x="1020" y="228"/>
                  </a:cubicBezTo>
                  <a:cubicBezTo>
                    <a:pt x="1033" y="161"/>
                    <a:pt x="1024" y="145"/>
                    <a:pt x="1080" y="108"/>
                  </a:cubicBezTo>
                  <a:cubicBezTo>
                    <a:pt x="1107" y="27"/>
                    <a:pt x="1069" y="104"/>
                    <a:pt x="1200" y="60"/>
                  </a:cubicBezTo>
                  <a:cubicBezTo>
                    <a:pt x="1238" y="47"/>
                    <a:pt x="1259" y="25"/>
                    <a:pt x="1284" y="0"/>
                  </a:cubicBezTo>
                </a:path>
              </a:pathLst>
            </a:custGeom>
            <a:noFill/>
            <a:ln w="14292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8" name="Freeform 22"/>
            <p:cNvSpPr/>
            <p:nvPr/>
          </p:nvSpPr>
          <p:spPr>
            <a:xfrm>
              <a:off x="3124080" y="1801440"/>
              <a:ext cx="2192400" cy="1485720"/>
            </a:xfrm>
            <a:custGeom>
              <a:avLst/>
              <a:gdLst/>
              <a:ahLst/>
              <a:rect l="l" t="t" r="r" b="b"/>
              <a:pathLst>
                <a:path w="1381" h="1248">
                  <a:moveTo>
                    <a:pt x="1344" y="0"/>
                  </a:moveTo>
                  <a:cubicBezTo>
                    <a:pt x="1356" y="62"/>
                    <a:pt x="1381" y="108"/>
                    <a:pt x="1308" y="132"/>
                  </a:cubicBezTo>
                  <a:cubicBezTo>
                    <a:pt x="1261" y="116"/>
                    <a:pt x="1195" y="127"/>
                    <a:pt x="1152" y="156"/>
                  </a:cubicBezTo>
                  <a:cubicBezTo>
                    <a:pt x="1128" y="172"/>
                    <a:pt x="1080" y="204"/>
                    <a:pt x="1080" y="204"/>
                  </a:cubicBezTo>
                  <a:cubicBezTo>
                    <a:pt x="1076" y="216"/>
                    <a:pt x="1077" y="231"/>
                    <a:pt x="1068" y="240"/>
                  </a:cubicBezTo>
                  <a:cubicBezTo>
                    <a:pt x="1059" y="249"/>
                    <a:pt x="1043" y="246"/>
                    <a:pt x="1032" y="252"/>
                  </a:cubicBezTo>
                  <a:cubicBezTo>
                    <a:pt x="967" y="288"/>
                    <a:pt x="968" y="292"/>
                    <a:pt x="924" y="336"/>
                  </a:cubicBezTo>
                  <a:cubicBezTo>
                    <a:pt x="920" y="348"/>
                    <a:pt x="921" y="363"/>
                    <a:pt x="912" y="372"/>
                  </a:cubicBezTo>
                  <a:cubicBezTo>
                    <a:pt x="870" y="414"/>
                    <a:pt x="874" y="366"/>
                    <a:pt x="852" y="348"/>
                  </a:cubicBezTo>
                  <a:cubicBezTo>
                    <a:pt x="842" y="340"/>
                    <a:pt x="828" y="340"/>
                    <a:pt x="816" y="336"/>
                  </a:cubicBezTo>
                  <a:cubicBezTo>
                    <a:pt x="766" y="353"/>
                    <a:pt x="765" y="378"/>
                    <a:pt x="720" y="408"/>
                  </a:cubicBezTo>
                  <a:cubicBezTo>
                    <a:pt x="650" y="513"/>
                    <a:pt x="669" y="451"/>
                    <a:pt x="684" y="600"/>
                  </a:cubicBezTo>
                  <a:cubicBezTo>
                    <a:pt x="668" y="709"/>
                    <a:pt x="681" y="657"/>
                    <a:pt x="648" y="756"/>
                  </a:cubicBezTo>
                  <a:cubicBezTo>
                    <a:pt x="640" y="780"/>
                    <a:pt x="600" y="772"/>
                    <a:pt x="576" y="780"/>
                  </a:cubicBezTo>
                  <a:cubicBezTo>
                    <a:pt x="514" y="801"/>
                    <a:pt x="451" y="815"/>
                    <a:pt x="396" y="852"/>
                  </a:cubicBezTo>
                  <a:cubicBezTo>
                    <a:pt x="356" y="912"/>
                    <a:pt x="384" y="880"/>
                    <a:pt x="300" y="936"/>
                  </a:cubicBezTo>
                  <a:cubicBezTo>
                    <a:pt x="273" y="954"/>
                    <a:pt x="204" y="960"/>
                    <a:pt x="204" y="960"/>
                  </a:cubicBezTo>
                  <a:cubicBezTo>
                    <a:pt x="192" y="972"/>
                    <a:pt x="176" y="981"/>
                    <a:pt x="168" y="996"/>
                  </a:cubicBezTo>
                  <a:cubicBezTo>
                    <a:pt x="150" y="1029"/>
                    <a:pt x="153" y="1072"/>
                    <a:pt x="132" y="1104"/>
                  </a:cubicBezTo>
                  <a:cubicBezTo>
                    <a:pt x="116" y="1128"/>
                    <a:pt x="100" y="1152"/>
                    <a:pt x="84" y="1176"/>
                  </a:cubicBezTo>
                  <a:cubicBezTo>
                    <a:pt x="77" y="1187"/>
                    <a:pt x="59" y="1182"/>
                    <a:pt x="48" y="1188"/>
                  </a:cubicBezTo>
                  <a:cubicBezTo>
                    <a:pt x="35" y="1194"/>
                    <a:pt x="24" y="1204"/>
                    <a:pt x="12" y="1212"/>
                  </a:cubicBezTo>
                  <a:cubicBezTo>
                    <a:pt x="8" y="1224"/>
                    <a:pt x="0" y="1248"/>
                    <a:pt x="0" y="1248"/>
                  </a:cubicBezTo>
                </a:path>
              </a:pathLst>
            </a:custGeom>
            <a:noFill/>
            <a:ln w="14940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9" name="Freeform 23"/>
            <p:cNvSpPr/>
            <p:nvPr/>
          </p:nvSpPr>
          <p:spPr>
            <a:xfrm>
              <a:off x="5276880" y="285840"/>
              <a:ext cx="3257640" cy="1542960"/>
            </a:xfrm>
            <a:custGeom>
              <a:avLst/>
              <a:gdLst/>
              <a:ahLst/>
              <a:rect l="l" t="t" r="r" b="b"/>
              <a:pathLst>
                <a:path w="2052" h="1296">
                  <a:moveTo>
                    <a:pt x="2052" y="552"/>
                  </a:moveTo>
                  <a:cubicBezTo>
                    <a:pt x="1994" y="545"/>
                    <a:pt x="1903" y="546"/>
                    <a:pt x="1848" y="516"/>
                  </a:cubicBezTo>
                  <a:cubicBezTo>
                    <a:pt x="1724" y="447"/>
                    <a:pt x="1821" y="483"/>
                    <a:pt x="1740" y="456"/>
                  </a:cubicBezTo>
                  <a:cubicBezTo>
                    <a:pt x="1723" y="404"/>
                    <a:pt x="1690" y="361"/>
                    <a:pt x="1668" y="312"/>
                  </a:cubicBezTo>
                  <a:cubicBezTo>
                    <a:pt x="1643" y="255"/>
                    <a:pt x="1633" y="192"/>
                    <a:pt x="1620" y="132"/>
                  </a:cubicBezTo>
                  <a:cubicBezTo>
                    <a:pt x="1612" y="97"/>
                    <a:pt x="1603" y="37"/>
                    <a:pt x="1572" y="12"/>
                  </a:cubicBezTo>
                  <a:cubicBezTo>
                    <a:pt x="1562" y="4"/>
                    <a:pt x="1548" y="4"/>
                    <a:pt x="1536" y="0"/>
                  </a:cubicBezTo>
                  <a:cubicBezTo>
                    <a:pt x="1516" y="4"/>
                    <a:pt x="1493" y="1"/>
                    <a:pt x="1476" y="12"/>
                  </a:cubicBezTo>
                  <a:cubicBezTo>
                    <a:pt x="1465" y="19"/>
                    <a:pt x="1470" y="37"/>
                    <a:pt x="1464" y="48"/>
                  </a:cubicBezTo>
                  <a:cubicBezTo>
                    <a:pt x="1458" y="61"/>
                    <a:pt x="1449" y="73"/>
                    <a:pt x="1440" y="84"/>
                  </a:cubicBezTo>
                  <a:cubicBezTo>
                    <a:pt x="1409" y="121"/>
                    <a:pt x="1377" y="141"/>
                    <a:pt x="1332" y="156"/>
                  </a:cubicBezTo>
                  <a:cubicBezTo>
                    <a:pt x="1258" y="107"/>
                    <a:pt x="1245" y="122"/>
                    <a:pt x="1140" y="132"/>
                  </a:cubicBezTo>
                  <a:cubicBezTo>
                    <a:pt x="986" y="123"/>
                    <a:pt x="904" y="110"/>
                    <a:pt x="756" y="132"/>
                  </a:cubicBezTo>
                  <a:cubicBezTo>
                    <a:pt x="688" y="142"/>
                    <a:pt x="631" y="187"/>
                    <a:pt x="564" y="204"/>
                  </a:cubicBezTo>
                  <a:cubicBezTo>
                    <a:pt x="519" y="234"/>
                    <a:pt x="518" y="259"/>
                    <a:pt x="468" y="276"/>
                  </a:cubicBezTo>
                  <a:cubicBezTo>
                    <a:pt x="451" y="328"/>
                    <a:pt x="450" y="342"/>
                    <a:pt x="396" y="360"/>
                  </a:cubicBezTo>
                  <a:cubicBezTo>
                    <a:pt x="380" y="384"/>
                    <a:pt x="357" y="405"/>
                    <a:pt x="348" y="432"/>
                  </a:cubicBezTo>
                  <a:cubicBezTo>
                    <a:pt x="340" y="456"/>
                    <a:pt x="342" y="486"/>
                    <a:pt x="324" y="504"/>
                  </a:cubicBezTo>
                  <a:cubicBezTo>
                    <a:pt x="293" y="535"/>
                    <a:pt x="221" y="611"/>
                    <a:pt x="204" y="648"/>
                  </a:cubicBezTo>
                  <a:cubicBezTo>
                    <a:pt x="172" y="720"/>
                    <a:pt x="164" y="798"/>
                    <a:pt x="120" y="864"/>
                  </a:cubicBezTo>
                  <a:cubicBezTo>
                    <a:pt x="95" y="1011"/>
                    <a:pt x="0" y="1145"/>
                    <a:pt x="0" y="1296"/>
                  </a:cubicBezTo>
                </a:path>
              </a:pathLst>
            </a:custGeom>
            <a:noFill/>
            <a:ln w="200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210" name="Group 24"/>
          <p:cNvGrpSpPr/>
          <p:nvPr/>
        </p:nvGrpSpPr>
        <p:grpSpPr>
          <a:xfrm>
            <a:off x="1143000" y="285840"/>
            <a:ext cx="7391520" cy="4171680"/>
            <a:chOff x="1143000" y="285840"/>
            <a:chExt cx="7391520" cy="4171680"/>
          </a:xfrm>
        </p:grpSpPr>
        <p:sp>
          <p:nvSpPr>
            <p:cNvPr id="211" name="Freeform 25"/>
            <p:cNvSpPr/>
            <p:nvPr/>
          </p:nvSpPr>
          <p:spPr>
            <a:xfrm>
              <a:off x="1143000" y="3229920"/>
              <a:ext cx="2038320" cy="1227600"/>
            </a:xfrm>
            <a:custGeom>
              <a:avLst/>
              <a:gdLst/>
              <a:ahLst/>
              <a:rect l="l" t="t" r="r" b="b"/>
              <a:pathLst>
                <a:path w="1284" h="1008">
                  <a:moveTo>
                    <a:pt x="0" y="1008"/>
                  </a:moveTo>
                  <a:cubicBezTo>
                    <a:pt x="8" y="984"/>
                    <a:pt x="3" y="950"/>
                    <a:pt x="24" y="936"/>
                  </a:cubicBezTo>
                  <a:cubicBezTo>
                    <a:pt x="60" y="912"/>
                    <a:pt x="96" y="900"/>
                    <a:pt x="132" y="876"/>
                  </a:cubicBezTo>
                  <a:cubicBezTo>
                    <a:pt x="175" y="890"/>
                    <a:pt x="223" y="892"/>
                    <a:pt x="264" y="912"/>
                  </a:cubicBezTo>
                  <a:cubicBezTo>
                    <a:pt x="357" y="959"/>
                    <a:pt x="246" y="918"/>
                    <a:pt x="336" y="948"/>
                  </a:cubicBezTo>
                  <a:cubicBezTo>
                    <a:pt x="360" y="940"/>
                    <a:pt x="391" y="933"/>
                    <a:pt x="408" y="912"/>
                  </a:cubicBezTo>
                  <a:cubicBezTo>
                    <a:pt x="455" y="854"/>
                    <a:pt x="377" y="890"/>
                    <a:pt x="456" y="864"/>
                  </a:cubicBezTo>
                  <a:cubicBezTo>
                    <a:pt x="520" y="767"/>
                    <a:pt x="704" y="691"/>
                    <a:pt x="804" y="624"/>
                  </a:cubicBezTo>
                  <a:cubicBezTo>
                    <a:pt x="833" y="605"/>
                    <a:pt x="911" y="518"/>
                    <a:pt x="924" y="480"/>
                  </a:cubicBezTo>
                  <a:cubicBezTo>
                    <a:pt x="928" y="468"/>
                    <a:pt x="927" y="453"/>
                    <a:pt x="936" y="444"/>
                  </a:cubicBezTo>
                  <a:cubicBezTo>
                    <a:pt x="956" y="424"/>
                    <a:pt x="1008" y="396"/>
                    <a:pt x="1008" y="396"/>
                  </a:cubicBezTo>
                  <a:cubicBezTo>
                    <a:pt x="1054" y="327"/>
                    <a:pt x="1046" y="307"/>
                    <a:pt x="1020" y="228"/>
                  </a:cubicBezTo>
                  <a:cubicBezTo>
                    <a:pt x="1033" y="161"/>
                    <a:pt x="1024" y="145"/>
                    <a:pt x="1080" y="108"/>
                  </a:cubicBezTo>
                  <a:cubicBezTo>
                    <a:pt x="1107" y="27"/>
                    <a:pt x="1069" y="104"/>
                    <a:pt x="1200" y="60"/>
                  </a:cubicBezTo>
                  <a:cubicBezTo>
                    <a:pt x="1238" y="47"/>
                    <a:pt x="1259" y="25"/>
                    <a:pt x="1284" y="0"/>
                  </a:cubicBezTo>
                </a:path>
              </a:pathLst>
            </a:custGeom>
            <a:noFill/>
            <a:ln w="14292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12" name="Freeform 26"/>
            <p:cNvSpPr/>
            <p:nvPr/>
          </p:nvSpPr>
          <p:spPr>
            <a:xfrm>
              <a:off x="3124080" y="1801440"/>
              <a:ext cx="2192400" cy="1485720"/>
            </a:xfrm>
            <a:custGeom>
              <a:avLst/>
              <a:gdLst/>
              <a:ahLst/>
              <a:rect l="l" t="t" r="r" b="b"/>
              <a:pathLst>
                <a:path w="1381" h="1248">
                  <a:moveTo>
                    <a:pt x="1344" y="0"/>
                  </a:moveTo>
                  <a:cubicBezTo>
                    <a:pt x="1356" y="62"/>
                    <a:pt x="1381" y="108"/>
                    <a:pt x="1308" y="132"/>
                  </a:cubicBezTo>
                  <a:cubicBezTo>
                    <a:pt x="1261" y="116"/>
                    <a:pt x="1195" y="127"/>
                    <a:pt x="1152" y="156"/>
                  </a:cubicBezTo>
                  <a:cubicBezTo>
                    <a:pt x="1128" y="172"/>
                    <a:pt x="1080" y="204"/>
                    <a:pt x="1080" y="204"/>
                  </a:cubicBezTo>
                  <a:cubicBezTo>
                    <a:pt x="1076" y="216"/>
                    <a:pt x="1077" y="231"/>
                    <a:pt x="1068" y="240"/>
                  </a:cubicBezTo>
                  <a:cubicBezTo>
                    <a:pt x="1059" y="249"/>
                    <a:pt x="1043" y="246"/>
                    <a:pt x="1032" y="252"/>
                  </a:cubicBezTo>
                  <a:cubicBezTo>
                    <a:pt x="967" y="288"/>
                    <a:pt x="968" y="292"/>
                    <a:pt x="924" y="336"/>
                  </a:cubicBezTo>
                  <a:cubicBezTo>
                    <a:pt x="920" y="348"/>
                    <a:pt x="921" y="363"/>
                    <a:pt x="912" y="372"/>
                  </a:cubicBezTo>
                  <a:cubicBezTo>
                    <a:pt x="870" y="414"/>
                    <a:pt x="874" y="366"/>
                    <a:pt x="852" y="348"/>
                  </a:cubicBezTo>
                  <a:cubicBezTo>
                    <a:pt x="842" y="340"/>
                    <a:pt x="828" y="340"/>
                    <a:pt x="816" y="336"/>
                  </a:cubicBezTo>
                  <a:cubicBezTo>
                    <a:pt x="766" y="353"/>
                    <a:pt x="765" y="378"/>
                    <a:pt x="720" y="408"/>
                  </a:cubicBezTo>
                  <a:cubicBezTo>
                    <a:pt x="650" y="513"/>
                    <a:pt x="669" y="451"/>
                    <a:pt x="684" y="600"/>
                  </a:cubicBezTo>
                  <a:cubicBezTo>
                    <a:pt x="668" y="709"/>
                    <a:pt x="681" y="657"/>
                    <a:pt x="648" y="756"/>
                  </a:cubicBezTo>
                  <a:cubicBezTo>
                    <a:pt x="640" y="780"/>
                    <a:pt x="600" y="772"/>
                    <a:pt x="576" y="780"/>
                  </a:cubicBezTo>
                  <a:cubicBezTo>
                    <a:pt x="514" y="801"/>
                    <a:pt x="451" y="815"/>
                    <a:pt x="396" y="852"/>
                  </a:cubicBezTo>
                  <a:cubicBezTo>
                    <a:pt x="356" y="912"/>
                    <a:pt x="384" y="880"/>
                    <a:pt x="300" y="936"/>
                  </a:cubicBezTo>
                  <a:cubicBezTo>
                    <a:pt x="273" y="954"/>
                    <a:pt x="204" y="960"/>
                    <a:pt x="204" y="960"/>
                  </a:cubicBezTo>
                  <a:cubicBezTo>
                    <a:pt x="192" y="972"/>
                    <a:pt x="176" y="981"/>
                    <a:pt x="168" y="996"/>
                  </a:cubicBezTo>
                  <a:cubicBezTo>
                    <a:pt x="150" y="1029"/>
                    <a:pt x="153" y="1072"/>
                    <a:pt x="132" y="1104"/>
                  </a:cubicBezTo>
                  <a:cubicBezTo>
                    <a:pt x="116" y="1128"/>
                    <a:pt x="100" y="1152"/>
                    <a:pt x="84" y="1176"/>
                  </a:cubicBezTo>
                  <a:cubicBezTo>
                    <a:pt x="77" y="1187"/>
                    <a:pt x="59" y="1182"/>
                    <a:pt x="48" y="1188"/>
                  </a:cubicBezTo>
                  <a:cubicBezTo>
                    <a:pt x="35" y="1194"/>
                    <a:pt x="24" y="1204"/>
                    <a:pt x="12" y="1212"/>
                  </a:cubicBezTo>
                  <a:cubicBezTo>
                    <a:pt x="8" y="1224"/>
                    <a:pt x="0" y="1248"/>
                    <a:pt x="0" y="1248"/>
                  </a:cubicBezTo>
                </a:path>
              </a:pathLst>
            </a:custGeom>
            <a:noFill/>
            <a:ln w="1494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13" name="Freeform 27"/>
            <p:cNvSpPr/>
            <p:nvPr/>
          </p:nvSpPr>
          <p:spPr>
            <a:xfrm>
              <a:off x="5276880" y="285840"/>
              <a:ext cx="3257640" cy="1542960"/>
            </a:xfrm>
            <a:custGeom>
              <a:avLst/>
              <a:gdLst/>
              <a:ahLst/>
              <a:rect l="l" t="t" r="r" b="b"/>
              <a:pathLst>
                <a:path w="2052" h="1296">
                  <a:moveTo>
                    <a:pt x="2052" y="552"/>
                  </a:moveTo>
                  <a:cubicBezTo>
                    <a:pt x="1994" y="545"/>
                    <a:pt x="1903" y="546"/>
                    <a:pt x="1848" y="516"/>
                  </a:cubicBezTo>
                  <a:cubicBezTo>
                    <a:pt x="1724" y="447"/>
                    <a:pt x="1821" y="483"/>
                    <a:pt x="1740" y="456"/>
                  </a:cubicBezTo>
                  <a:cubicBezTo>
                    <a:pt x="1723" y="404"/>
                    <a:pt x="1690" y="361"/>
                    <a:pt x="1668" y="312"/>
                  </a:cubicBezTo>
                  <a:cubicBezTo>
                    <a:pt x="1643" y="255"/>
                    <a:pt x="1633" y="192"/>
                    <a:pt x="1620" y="132"/>
                  </a:cubicBezTo>
                  <a:cubicBezTo>
                    <a:pt x="1612" y="97"/>
                    <a:pt x="1603" y="37"/>
                    <a:pt x="1572" y="12"/>
                  </a:cubicBezTo>
                  <a:cubicBezTo>
                    <a:pt x="1562" y="4"/>
                    <a:pt x="1548" y="4"/>
                    <a:pt x="1536" y="0"/>
                  </a:cubicBezTo>
                  <a:cubicBezTo>
                    <a:pt x="1516" y="4"/>
                    <a:pt x="1493" y="1"/>
                    <a:pt x="1476" y="12"/>
                  </a:cubicBezTo>
                  <a:cubicBezTo>
                    <a:pt x="1465" y="19"/>
                    <a:pt x="1470" y="37"/>
                    <a:pt x="1464" y="48"/>
                  </a:cubicBezTo>
                  <a:cubicBezTo>
                    <a:pt x="1458" y="61"/>
                    <a:pt x="1449" y="73"/>
                    <a:pt x="1440" y="84"/>
                  </a:cubicBezTo>
                  <a:cubicBezTo>
                    <a:pt x="1409" y="121"/>
                    <a:pt x="1377" y="141"/>
                    <a:pt x="1332" y="156"/>
                  </a:cubicBezTo>
                  <a:cubicBezTo>
                    <a:pt x="1258" y="107"/>
                    <a:pt x="1245" y="122"/>
                    <a:pt x="1140" y="132"/>
                  </a:cubicBezTo>
                  <a:cubicBezTo>
                    <a:pt x="986" y="123"/>
                    <a:pt x="904" y="110"/>
                    <a:pt x="756" y="132"/>
                  </a:cubicBezTo>
                  <a:cubicBezTo>
                    <a:pt x="688" y="142"/>
                    <a:pt x="631" y="187"/>
                    <a:pt x="564" y="204"/>
                  </a:cubicBezTo>
                  <a:cubicBezTo>
                    <a:pt x="519" y="234"/>
                    <a:pt x="518" y="259"/>
                    <a:pt x="468" y="276"/>
                  </a:cubicBezTo>
                  <a:cubicBezTo>
                    <a:pt x="451" y="328"/>
                    <a:pt x="450" y="342"/>
                    <a:pt x="396" y="360"/>
                  </a:cubicBezTo>
                  <a:cubicBezTo>
                    <a:pt x="380" y="384"/>
                    <a:pt x="357" y="405"/>
                    <a:pt x="348" y="432"/>
                  </a:cubicBezTo>
                  <a:cubicBezTo>
                    <a:pt x="340" y="456"/>
                    <a:pt x="342" y="486"/>
                    <a:pt x="324" y="504"/>
                  </a:cubicBezTo>
                  <a:cubicBezTo>
                    <a:pt x="293" y="535"/>
                    <a:pt x="221" y="611"/>
                    <a:pt x="204" y="648"/>
                  </a:cubicBezTo>
                  <a:cubicBezTo>
                    <a:pt x="172" y="720"/>
                    <a:pt x="164" y="798"/>
                    <a:pt x="120" y="864"/>
                  </a:cubicBezTo>
                  <a:cubicBezTo>
                    <a:pt x="95" y="1011"/>
                    <a:pt x="0" y="1145"/>
                    <a:pt x="0" y="1296"/>
                  </a:cubicBezTo>
                </a:path>
              </a:pathLst>
            </a:custGeom>
            <a:noFill/>
            <a:ln w="2001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214" name="Group 28"/>
          <p:cNvGrpSpPr/>
          <p:nvPr/>
        </p:nvGrpSpPr>
        <p:grpSpPr>
          <a:xfrm>
            <a:off x="1143000" y="285840"/>
            <a:ext cx="7391520" cy="4171680"/>
            <a:chOff x="1143000" y="285840"/>
            <a:chExt cx="7391520" cy="4171680"/>
          </a:xfrm>
        </p:grpSpPr>
        <p:sp>
          <p:nvSpPr>
            <p:cNvPr id="215" name="Freeform 29"/>
            <p:cNvSpPr/>
            <p:nvPr/>
          </p:nvSpPr>
          <p:spPr>
            <a:xfrm>
              <a:off x="1143000" y="3229920"/>
              <a:ext cx="2038320" cy="1227600"/>
            </a:xfrm>
            <a:custGeom>
              <a:avLst/>
              <a:gdLst/>
              <a:ahLst/>
              <a:rect l="l" t="t" r="r" b="b"/>
              <a:pathLst>
                <a:path w="1284" h="1008">
                  <a:moveTo>
                    <a:pt x="0" y="1008"/>
                  </a:moveTo>
                  <a:cubicBezTo>
                    <a:pt x="8" y="984"/>
                    <a:pt x="3" y="950"/>
                    <a:pt x="24" y="936"/>
                  </a:cubicBezTo>
                  <a:cubicBezTo>
                    <a:pt x="60" y="912"/>
                    <a:pt x="96" y="900"/>
                    <a:pt x="132" y="876"/>
                  </a:cubicBezTo>
                  <a:cubicBezTo>
                    <a:pt x="175" y="890"/>
                    <a:pt x="223" y="892"/>
                    <a:pt x="264" y="912"/>
                  </a:cubicBezTo>
                  <a:cubicBezTo>
                    <a:pt x="357" y="959"/>
                    <a:pt x="246" y="918"/>
                    <a:pt x="336" y="948"/>
                  </a:cubicBezTo>
                  <a:cubicBezTo>
                    <a:pt x="360" y="940"/>
                    <a:pt x="391" y="933"/>
                    <a:pt x="408" y="912"/>
                  </a:cubicBezTo>
                  <a:cubicBezTo>
                    <a:pt x="455" y="854"/>
                    <a:pt x="377" y="890"/>
                    <a:pt x="456" y="864"/>
                  </a:cubicBezTo>
                  <a:cubicBezTo>
                    <a:pt x="520" y="767"/>
                    <a:pt x="704" y="691"/>
                    <a:pt x="804" y="624"/>
                  </a:cubicBezTo>
                  <a:cubicBezTo>
                    <a:pt x="833" y="605"/>
                    <a:pt x="911" y="518"/>
                    <a:pt x="924" y="480"/>
                  </a:cubicBezTo>
                  <a:cubicBezTo>
                    <a:pt x="928" y="468"/>
                    <a:pt x="927" y="453"/>
                    <a:pt x="936" y="444"/>
                  </a:cubicBezTo>
                  <a:cubicBezTo>
                    <a:pt x="956" y="424"/>
                    <a:pt x="1008" y="396"/>
                    <a:pt x="1008" y="396"/>
                  </a:cubicBezTo>
                  <a:cubicBezTo>
                    <a:pt x="1054" y="327"/>
                    <a:pt x="1046" y="307"/>
                    <a:pt x="1020" y="228"/>
                  </a:cubicBezTo>
                  <a:cubicBezTo>
                    <a:pt x="1033" y="161"/>
                    <a:pt x="1024" y="145"/>
                    <a:pt x="1080" y="108"/>
                  </a:cubicBezTo>
                  <a:cubicBezTo>
                    <a:pt x="1107" y="27"/>
                    <a:pt x="1069" y="104"/>
                    <a:pt x="1200" y="60"/>
                  </a:cubicBezTo>
                  <a:cubicBezTo>
                    <a:pt x="1238" y="47"/>
                    <a:pt x="1259" y="25"/>
                    <a:pt x="1284" y="0"/>
                  </a:cubicBezTo>
                </a:path>
              </a:pathLst>
            </a:custGeom>
            <a:noFill/>
            <a:ln w="14292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16" name="Freeform 30"/>
            <p:cNvSpPr/>
            <p:nvPr/>
          </p:nvSpPr>
          <p:spPr>
            <a:xfrm>
              <a:off x="3124080" y="1801440"/>
              <a:ext cx="2192400" cy="1485720"/>
            </a:xfrm>
            <a:custGeom>
              <a:avLst/>
              <a:gdLst/>
              <a:ahLst/>
              <a:rect l="l" t="t" r="r" b="b"/>
              <a:pathLst>
                <a:path w="1381" h="1248">
                  <a:moveTo>
                    <a:pt x="1344" y="0"/>
                  </a:moveTo>
                  <a:cubicBezTo>
                    <a:pt x="1356" y="62"/>
                    <a:pt x="1381" y="108"/>
                    <a:pt x="1308" y="132"/>
                  </a:cubicBezTo>
                  <a:cubicBezTo>
                    <a:pt x="1261" y="116"/>
                    <a:pt x="1195" y="127"/>
                    <a:pt x="1152" y="156"/>
                  </a:cubicBezTo>
                  <a:cubicBezTo>
                    <a:pt x="1128" y="172"/>
                    <a:pt x="1080" y="204"/>
                    <a:pt x="1080" y="204"/>
                  </a:cubicBezTo>
                  <a:cubicBezTo>
                    <a:pt x="1076" y="216"/>
                    <a:pt x="1077" y="231"/>
                    <a:pt x="1068" y="240"/>
                  </a:cubicBezTo>
                  <a:cubicBezTo>
                    <a:pt x="1059" y="249"/>
                    <a:pt x="1043" y="246"/>
                    <a:pt x="1032" y="252"/>
                  </a:cubicBezTo>
                  <a:cubicBezTo>
                    <a:pt x="967" y="288"/>
                    <a:pt x="968" y="292"/>
                    <a:pt x="924" y="336"/>
                  </a:cubicBezTo>
                  <a:cubicBezTo>
                    <a:pt x="920" y="348"/>
                    <a:pt x="921" y="363"/>
                    <a:pt x="912" y="372"/>
                  </a:cubicBezTo>
                  <a:cubicBezTo>
                    <a:pt x="870" y="414"/>
                    <a:pt x="874" y="366"/>
                    <a:pt x="852" y="348"/>
                  </a:cubicBezTo>
                  <a:cubicBezTo>
                    <a:pt x="842" y="340"/>
                    <a:pt x="828" y="340"/>
                    <a:pt x="816" y="336"/>
                  </a:cubicBezTo>
                  <a:cubicBezTo>
                    <a:pt x="766" y="353"/>
                    <a:pt x="765" y="378"/>
                    <a:pt x="720" y="408"/>
                  </a:cubicBezTo>
                  <a:cubicBezTo>
                    <a:pt x="650" y="513"/>
                    <a:pt x="669" y="451"/>
                    <a:pt x="684" y="600"/>
                  </a:cubicBezTo>
                  <a:cubicBezTo>
                    <a:pt x="668" y="709"/>
                    <a:pt x="681" y="657"/>
                    <a:pt x="648" y="756"/>
                  </a:cubicBezTo>
                  <a:cubicBezTo>
                    <a:pt x="640" y="780"/>
                    <a:pt x="600" y="772"/>
                    <a:pt x="576" y="780"/>
                  </a:cubicBezTo>
                  <a:cubicBezTo>
                    <a:pt x="514" y="801"/>
                    <a:pt x="451" y="815"/>
                    <a:pt x="396" y="852"/>
                  </a:cubicBezTo>
                  <a:cubicBezTo>
                    <a:pt x="356" y="912"/>
                    <a:pt x="384" y="880"/>
                    <a:pt x="300" y="936"/>
                  </a:cubicBezTo>
                  <a:cubicBezTo>
                    <a:pt x="273" y="954"/>
                    <a:pt x="204" y="960"/>
                    <a:pt x="204" y="960"/>
                  </a:cubicBezTo>
                  <a:cubicBezTo>
                    <a:pt x="192" y="972"/>
                    <a:pt x="176" y="981"/>
                    <a:pt x="168" y="996"/>
                  </a:cubicBezTo>
                  <a:cubicBezTo>
                    <a:pt x="150" y="1029"/>
                    <a:pt x="153" y="1072"/>
                    <a:pt x="132" y="1104"/>
                  </a:cubicBezTo>
                  <a:cubicBezTo>
                    <a:pt x="116" y="1128"/>
                    <a:pt x="100" y="1152"/>
                    <a:pt x="84" y="1176"/>
                  </a:cubicBezTo>
                  <a:cubicBezTo>
                    <a:pt x="77" y="1187"/>
                    <a:pt x="59" y="1182"/>
                    <a:pt x="48" y="1188"/>
                  </a:cubicBezTo>
                  <a:cubicBezTo>
                    <a:pt x="35" y="1194"/>
                    <a:pt x="24" y="1204"/>
                    <a:pt x="12" y="1212"/>
                  </a:cubicBezTo>
                  <a:cubicBezTo>
                    <a:pt x="8" y="1224"/>
                    <a:pt x="0" y="1248"/>
                    <a:pt x="0" y="1248"/>
                  </a:cubicBezTo>
                </a:path>
              </a:pathLst>
            </a:custGeom>
            <a:noFill/>
            <a:ln w="14940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17" name="Freeform 31"/>
            <p:cNvSpPr/>
            <p:nvPr/>
          </p:nvSpPr>
          <p:spPr>
            <a:xfrm>
              <a:off x="5276880" y="285840"/>
              <a:ext cx="3257640" cy="1542960"/>
            </a:xfrm>
            <a:custGeom>
              <a:avLst/>
              <a:gdLst/>
              <a:ahLst/>
              <a:rect l="l" t="t" r="r" b="b"/>
              <a:pathLst>
                <a:path w="2052" h="1296">
                  <a:moveTo>
                    <a:pt x="2052" y="552"/>
                  </a:moveTo>
                  <a:cubicBezTo>
                    <a:pt x="1994" y="545"/>
                    <a:pt x="1903" y="546"/>
                    <a:pt x="1848" y="516"/>
                  </a:cubicBezTo>
                  <a:cubicBezTo>
                    <a:pt x="1724" y="447"/>
                    <a:pt x="1821" y="483"/>
                    <a:pt x="1740" y="456"/>
                  </a:cubicBezTo>
                  <a:cubicBezTo>
                    <a:pt x="1723" y="404"/>
                    <a:pt x="1690" y="361"/>
                    <a:pt x="1668" y="312"/>
                  </a:cubicBezTo>
                  <a:cubicBezTo>
                    <a:pt x="1643" y="255"/>
                    <a:pt x="1633" y="192"/>
                    <a:pt x="1620" y="132"/>
                  </a:cubicBezTo>
                  <a:cubicBezTo>
                    <a:pt x="1612" y="97"/>
                    <a:pt x="1603" y="37"/>
                    <a:pt x="1572" y="12"/>
                  </a:cubicBezTo>
                  <a:cubicBezTo>
                    <a:pt x="1562" y="4"/>
                    <a:pt x="1548" y="4"/>
                    <a:pt x="1536" y="0"/>
                  </a:cubicBezTo>
                  <a:cubicBezTo>
                    <a:pt x="1516" y="4"/>
                    <a:pt x="1493" y="1"/>
                    <a:pt x="1476" y="12"/>
                  </a:cubicBezTo>
                  <a:cubicBezTo>
                    <a:pt x="1465" y="19"/>
                    <a:pt x="1470" y="37"/>
                    <a:pt x="1464" y="48"/>
                  </a:cubicBezTo>
                  <a:cubicBezTo>
                    <a:pt x="1458" y="61"/>
                    <a:pt x="1449" y="73"/>
                    <a:pt x="1440" y="84"/>
                  </a:cubicBezTo>
                  <a:cubicBezTo>
                    <a:pt x="1409" y="121"/>
                    <a:pt x="1377" y="141"/>
                    <a:pt x="1332" y="156"/>
                  </a:cubicBezTo>
                  <a:cubicBezTo>
                    <a:pt x="1258" y="107"/>
                    <a:pt x="1245" y="122"/>
                    <a:pt x="1140" y="132"/>
                  </a:cubicBezTo>
                  <a:cubicBezTo>
                    <a:pt x="986" y="123"/>
                    <a:pt x="904" y="110"/>
                    <a:pt x="756" y="132"/>
                  </a:cubicBezTo>
                  <a:cubicBezTo>
                    <a:pt x="688" y="142"/>
                    <a:pt x="631" y="187"/>
                    <a:pt x="564" y="204"/>
                  </a:cubicBezTo>
                  <a:cubicBezTo>
                    <a:pt x="519" y="234"/>
                    <a:pt x="518" y="259"/>
                    <a:pt x="468" y="276"/>
                  </a:cubicBezTo>
                  <a:cubicBezTo>
                    <a:pt x="451" y="328"/>
                    <a:pt x="450" y="342"/>
                    <a:pt x="396" y="360"/>
                  </a:cubicBezTo>
                  <a:cubicBezTo>
                    <a:pt x="380" y="384"/>
                    <a:pt x="357" y="405"/>
                    <a:pt x="348" y="432"/>
                  </a:cubicBezTo>
                  <a:cubicBezTo>
                    <a:pt x="340" y="456"/>
                    <a:pt x="342" y="486"/>
                    <a:pt x="324" y="504"/>
                  </a:cubicBezTo>
                  <a:cubicBezTo>
                    <a:pt x="293" y="535"/>
                    <a:pt x="221" y="611"/>
                    <a:pt x="204" y="648"/>
                  </a:cubicBezTo>
                  <a:cubicBezTo>
                    <a:pt x="172" y="720"/>
                    <a:pt x="164" y="798"/>
                    <a:pt x="120" y="864"/>
                  </a:cubicBezTo>
                  <a:cubicBezTo>
                    <a:pt x="95" y="1011"/>
                    <a:pt x="0" y="1145"/>
                    <a:pt x="0" y="1296"/>
                  </a:cubicBezTo>
                </a:path>
              </a:pathLst>
            </a:custGeom>
            <a:noFill/>
            <a:ln w="200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18" name="Freeform 32"/>
          <p:cNvSpPr/>
          <p:nvPr/>
        </p:nvSpPr>
        <p:spPr>
          <a:xfrm>
            <a:off x="1162080" y="3230640"/>
            <a:ext cx="2038320" cy="1227240"/>
          </a:xfrm>
          <a:custGeom>
            <a:avLst/>
            <a:gdLst/>
            <a:ahLst/>
            <a:rect l="l" t="t" r="r" b="b"/>
            <a:pathLst>
              <a:path w="1284" h="1008">
                <a:moveTo>
                  <a:pt x="0" y="1008"/>
                </a:moveTo>
                <a:cubicBezTo>
                  <a:pt x="8" y="984"/>
                  <a:pt x="3" y="950"/>
                  <a:pt x="24" y="936"/>
                </a:cubicBezTo>
                <a:cubicBezTo>
                  <a:pt x="60" y="912"/>
                  <a:pt x="96" y="900"/>
                  <a:pt x="132" y="876"/>
                </a:cubicBezTo>
                <a:cubicBezTo>
                  <a:pt x="175" y="890"/>
                  <a:pt x="223" y="892"/>
                  <a:pt x="264" y="912"/>
                </a:cubicBezTo>
                <a:cubicBezTo>
                  <a:pt x="357" y="959"/>
                  <a:pt x="246" y="918"/>
                  <a:pt x="336" y="948"/>
                </a:cubicBezTo>
                <a:cubicBezTo>
                  <a:pt x="360" y="940"/>
                  <a:pt x="391" y="933"/>
                  <a:pt x="408" y="912"/>
                </a:cubicBezTo>
                <a:cubicBezTo>
                  <a:pt x="455" y="854"/>
                  <a:pt x="377" y="890"/>
                  <a:pt x="456" y="864"/>
                </a:cubicBezTo>
                <a:cubicBezTo>
                  <a:pt x="520" y="767"/>
                  <a:pt x="704" y="691"/>
                  <a:pt x="804" y="624"/>
                </a:cubicBezTo>
                <a:cubicBezTo>
                  <a:pt x="833" y="605"/>
                  <a:pt x="911" y="518"/>
                  <a:pt x="924" y="480"/>
                </a:cubicBezTo>
                <a:cubicBezTo>
                  <a:pt x="928" y="468"/>
                  <a:pt x="927" y="453"/>
                  <a:pt x="936" y="444"/>
                </a:cubicBezTo>
                <a:cubicBezTo>
                  <a:pt x="956" y="424"/>
                  <a:pt x="1008" y="396"/>
                  <a:pt x="1008" y="396"/>
                </a:cubicBezTo>
                <a:cubicBezTo>
                  <a:pt x="1054" y="327"/>
                  <a:pt x="1046" y="307"/>
                  <a:pt x="1020" y="228"/>
                </a:cubicBezTo>
                <a:cubicBezTo>
                  <a:pt x="1033" y="161"/>
                  <a:pt x="1024" y="145"/>
                  <a:pt x="1080" y="108"/>
                </a:cubicBezTo>
                <a:cubicBezTo>
                  <a:pt x="1107" y="27"/>
                  <a:pt x="1069" y="104"/>
                  <a:pt x="1200" y="60"/>
                </a:cubicBezTo>
                <a:cubicBezTo>
                  <a:pt x="1238" y="47"/>
                  <a:pt x="1259" y="25"/>
                  <a:pt x="1284" y="0"/>
                </a:cubicBezTo>
              </a:path>
            </a:pathLst>
          </a:custGeom>
          <a:noFill/>
          <a:ln w="20304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9" name="Freeform 33"/>
          <p:cNvSpPr/>
          <p:nvPr/>
        </p:nvSpPr>
        <p:spPr>
          <a:xfrm>
            <a:off x="1162080" y="3230640"/>
            <a:ext cx="2038320" cy="1227240"/>
          </a:xfrm>
          <a:custGeom>
            <a:avLst/>
            <a:gdLst/>
            <a:ahLst/>
            <a:rect l="l" t="t" r="r" b="b"/>
            <a:pathLst>
              <a:path w="1284" h="1008">
                <a:moveTo>
                  <a:pt x="0" y="1008"/>
                </a:moveTo>
                <a:cubicBezTo>
                  <a:pt x="8" y="984"/>
                  <a:pt x="3" y="950"/>
                  <a:pt x="24" y="936"/>
                </a:cubicBezTo>
                <a:cubicBezTo>
                  <a:pt x="60" y="912"/>
                  <a:pt x="96" y="900"/>
                  <a:pt x="132" y="876"/>
                </a:cubicBezTo>
                <a:cubicBezTo>
                  <a:pt x="175" y="890"/>
                  <a:pt x="223" y="892"/>
                  <a:pt x="264" y="912"/>
                </a:cubicBezTo>
                <a:cubicBezTo>
                  <a:pt x="357" y="959"/>
                  <a:pt x="246" y="918"/>
                  <a:pt x="336" y="948"/>
                </a:cubicBezTo>
                <a:cubicBezTo>
                  <a:pt x="360" y="940"/>
                  <a:pt x="391" y="933"/>
                  <a:pt x="408" y="912"/>
                </a:cubicBezTo>
                <a:cubicBezTo>
                  <a:pt x="455" y="854"/>
                  <a:pt x="377" y="890"/>
                  <a:pt x="456" y="864"/>
                </a:cubicBezTo>
                <a:cubicBezTo>
                  <a:pt x="520" y="767"/>
                  <a:pt x="704" y="691"/>
                  <a:pt x="804" y="624"/>
                </a:cubicBezTo>
                <a:cubicBezTo>
                  <a:pt x="833" y="605"/>
                  <a:pt x="911" y="518"/>
                  <a:pt x="924" y="480"/>
                </a:cubicBezTo>
                <a:cubicBezTo>
                  <a:pt x="928" y="468"/>
                  <a:pt x="927" y="453"/>
                  <a:pt x="936" y="444"/>
                </a:cubicBezTo>
                <a:cubicBezTo>
                  <a:pt x="956" y="424"/>
                  <a:pt x="1008" y="396"/>
                  <a:pt x="1008" y="396"/>
                </a:cubicBezTo>
                <a:cubicBezTo>
                  <a:pt x="1054" y="327"/>
                  <a:pt x="1046" y="307"/>
                  <a:pt x="1020" y="228"/>
                </a:cubicBezTo>
                <a:cubicBezTo>
                  <a:pt x="1033" y="161"/>
                  <a:pt x="1024" y="145"/>
                  <a:pt x="1080" y="108"/>
                </a:cubicBezTo>
                <a:cubicBezTo>
                  <a:pt x="1107" y="27"/>
                  <a:pt x="1069" y="104"/>
                  <a:pt x="1200" y="60"/>
                </a:cubicBezTo>
                <a:cubicBezTo>
                  <a:pt x="1238" y="47"/>
                  <a:pt x="1259" y="25"/>
                  <a:pt x="1284" y="0"/>
                </a:cubicBezTo>
              </a:path>
            </a:pathLst>
          </a:custGeom>
          <a:noFill/>
          <a:ln w="20304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0" name="Freeform 34"/>
          <p:cNvSpPr/>
          <p:nvPr/>
        </p:nvSpPr>
        <p:spPr>
          <a:xfrm>
            <a:off x="1162080" y="3230640"/>
            <a:ext cx="2038320" cy="1227240"/>
          </a:xfrm>
          <a:custGeom>
            <a:avLst/>
            <a:gdLst/>
            <a:ahLst/>
            <a:rect l="l" t="t" r="r" b="b"/>
            <a:pathLst>
              <a:path w="1284" h="1008">
                <a:moveTo>
                  <a:pt x="0" y="1008"/>
                </a:moveTo>
                <a:cubicBezTo>
                  <a:pt x="8" y="984"/>
                  <a:pt x="3" y="950"/>
                  <a:pt x="24" y="936"/>
                </a:cubicBezTo>
                <a:cubicBezTo>
                  <a:pt x="60" y="912"/>
                  <a:pt x="96" y="900"/>
                  <a:pt x="132" y="876"/>
                </a:cubicBezTo>
                <a:cubicBezTo>
                  <a:pt x="175" y="890"/>
                  <a:pt x="223" y="892"/>
                  <a:pt x="264" y="912"/>
                </a:cubicBezTo>
                <a:cubicBezTo>
                  <a:pt x="357" y="959"/>
                  <a:pt x="246" y="918"/>
                  <a:pt x="336" y="948"/>
                </a:cubicBezTo>
                <a:cubicBezTo>
                  <a:pt x="360" y="940"/>
                  <a:pt x="391" y="933"/>
                  <a:pt x="408" y="912"/>
                </a:cubicBezTo>
                <a:cubicBezTo>
                  <a:pt x="455" y="854"/>
                  <a:pt x="377" y="890"/>
                  <a:pt x="456" y="864"/>
                </a:cubicBezTo>
                <a:cubicBezTo>
                  <a:pt x="520" y="767"/>
                  <a:pt x="704" y="691"/>
                  <a:pt x="804" y="624"/>
                </a:cubicBezTo>
                <a:cubicBezTo>
                  <a:pt x="833" y="605"/>
                  <a:pt x="911" y="518"/>
                  <a:pt x="924" y="480"/>
                </a:cubicBezTo>
                <a:cubicBezTo>
                  <a:pt x="928" y="468"/>
                  <a:pt x="927" y="453"/>
                  <a:pt x="936" y="444"/>
                </a:cubicBezTo>
                <a:cubicBezTo>
                  <a:pt x="956" y="424"/>
                  <a:pt x="1008" y="396"/>
                  <a:pt x="1008" y="396"/>
                </a:cubicBezTo>
                <a:cubicBezTo>
                  <a:pt x="1054" y="327"/>
                  <a:pt x="1046" y="307"/>
                  <a:pt x="1020" y="228"/>
                </a:cubicBezTo>
                <a:cubicBezTo>
                  <a:pt x="1033" y="161"/>
                  <a:pt x="1024" y="145"/>
                  <a:pt x="1080" y="108"/>
                </a:cubicBezTo>
                <a:cubicBezTo>
                  <a:pt x="1107" y="27"/>
                  <a:pt x="1069" y="104"/>
                  <a:pt x="1200" y="60"/>
                </a:cubicBezTo>
                <a:cubicBezTo>
                  <a:pt x="1238" y="47"/>
                  <a:pt x="1259" y="25"/>
                  <a:pt x="1284" y="0"/>
                </a:cubicBezTo>
              </a:path>
            </a:pathLst>
          </a:custGeom>
          <a:noFill/>
          <a:ln w="20304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1" name="Freeform 35"/>
          <p:cNvSpPr/>
          <p:nvPr/>
        </p:nvSpPr>
        <p:spPr>
          <a:xfrm>
            <a:off x="1162080" y="3230640"/>
            <a:ext cx="2038320" cy="1227240"/>
          </a:xfrm>
          <a:custGeom>
            <a:avLst/>
            <a:gdLst/>
            <a:ahLst/>
            <a:rect l="l" t="t" r="r" b="b"/>
            <a:pathLst>
              <a:path w="1284" h="1008">
                <a:moveTo>
                  <a:pt x="0" y="1008"/>
                </a:moveTo>
                <a:cubicBezTo>
                  <a:pt x="8" y="984"/>
                  <a:pt x="3" y="950"/>
                  <a:pt x="24" y="936"/>
                </a:cubicBezTo>
                <a:cubicBezTo>
                  <a:pt x="60" y="912"/>
                  <a:pt x="96" y="900"/>
                  <a:pt x="132" y="876"/>
                </a:cubicBezTo>
                <a:cubicBezTo>
                  <a:pt x="175" y="890"/>
                  <a:pt x="223" y="892"/>
                  <a:pt x="264" y="912"/>
                </a:cubicBezTo>
                <a:cubicBezTo>
                  <a:pt x="357" y="959"/>
                  <a:pt x="246" y="918"/>
                  <a:pt x="336" y="948"/>
                </a:cubicBezTo>
                <a:cubicBezTo>
                  <a:pt x="360" y="940"/>
                  <a:pt x="391" y="933"/>
                  <a:pt x="408" y="912"/>
                </a:cubicBezTo>
                <a:cubicBezTo>
                  <a:pt x="455" y="854"/>
                  <a:pt x="377" y="890"/>
                  <a:pt x="456" y="864"/>
                </a:cubicBezTo>
                <a:cubicBezTo>
                  <a:pt x="520" y="767"/>
                  <a:pt x="704" y="691"/>
                  <a:pt x="804" y="624"/>
                </a:cubicBezTo>
                <a:cubicBezTo>
                  <a:pt x="833" y="605"/>
                  <a:pt x="911" y="518"/>
                  <a:pt x="924" y="480"/>
                </a:cubicBezTo>
                <a:cubicBezTo>
                  <a:pt x="928" y="468"/>
                  <a:pt x="927" y="453"/>
                  <a:pt x="936" y="444"/>
                </a:cubicBezTo>
                <a:cubicBezTo>
                  <a:pt x="956" y="424"/>
                  <a:pt x="1008" y="396"/>
                  <a:pt x="1008" y="396"/>
                </a:cubicBezTo>
                <a:cubicBezTo>
                  <a:pt x="1054" y="327"/>
                  <a:pt x="1046" y="307"/>
                  <a:pt x="1020" y="228"/>
                </a:cubicBezTo>
                <a:cubicBezTo>
                  <a:pt x="1033" y="161"/>
                  <a:pt x="1024" y="145"/>
                  <a:pt x="1080" y="108"/>
                </a:cubicBezTo>
                <a:cubicBezTo>
                  <a:pt x="1107" y="27"/>
                  <a:pt x="1069" y="104"/>
                  <a:pt x="1200" y="60"/>
                </a:cubicBezTo>
                <a:cubicBezTo>
                  <a:pt x="1238" y="47"/>
                  <a:pt x="1259" y="25"/>
                  <a:pt x="1284" y="0"/>
                </a:cubicBezTo>
              </a:path>
            </a:pathLst>
          </a:custGeom>
          <a:noFill/>
          <a:ln w="20304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2" name="Freeform 36"/>
          <p:cNvSpPr/>
          <p:nvPr/>
        </p:nvSpPr>
        <p:spPr>
          <a:xfrm>
            <a:off x="3124080" y="1828800"/>
            <a:ext cx="2192400" cy="1486080"/>
          </a:xfrm>
          <a:custGeom>
            <a:avLst/>
            <a:gdLst/>
            <a:ahLst/>
            <a:rect l="l" t="t" r="r" b="b"/>
            <a:pathLst>
              <a:path w="1381" h="1248">
                <a:moveTo>
                  <a:pt x="1344" y="0"/>
                </a:moveTo>
                <a:cubicBezTo>
                  <a:pt x="1356" y="62"/>
                  <a:pt x="1381" y="108"/>
                  <a:pt x="1308" y="132"/>
                </a:cubicBezTo>
                <a:cubicBezTo>
                  <a:pt x="1261" y="116"/>
                  <a:pt x="1195" y="127"/>
                  <a:pt x="1152" y="156"/>
                </a:cubicBezTo>
                <a:cubicBezTo>
                  <a:pt x="1128" y="172"/>
                  <a:pt x="1080" y="204"/>
                  <a:pt x="1080" y="204"/>
                </a:cubicBezTo>
                <a:cubicBezTo>
                  <a:pt x="1076" y="216"/>
                  <a:pt x="1077" y="231"/>
                  <a:pt x="1068" y="240"/>
                </a:cubicBezTo>
                <a:cubicBezTo>
                  <a:pt x="1059" y="249"/>
                  <a:pt x="1043" y="246"/>
                  <a:pt x="1032" y="252"/>
                </a:cubicBezTo>
                <a:cubicBezTo>
                  <a:pt x="967" y="288"/>
                  <a:pt x="968" y="292"/>
                  <a:pt x="924" y="336"/>
                </a:cubicBezTo>
                <a:cubicBezTo>
                  <a:pt x="920" y="348"/>
                  <a:pt x="921" y="363"/>
                  <a:pt x="912" y="372"/>
                </a:cubicBezTo>
                <a:cubicBezTo>
                  <a:pt x="870" y="414"/>
                  <a:pt x="874" y="366"/>
                  <a:pt x="852" y="348"/>
                </a:cubicBezTo>
                <a:cubicBezTo>
                  <a:pt x="842" y="340"/>
                  <a:pt x="828" y="340"/>
                  <a:pt x="816" y="336"/>
                </a:cubicBezTo>
                <a:cubicBezTo>
                  <a:pt x="766" y="353"/>
                  <a:pt x="765" y="378"/>
                  <a:pt x="720" y="408"/>
                </a:cubicBezTo>
                <a:cubicBezTo>
                  <a:pt x="650" y="513"/>
                  <a:pt x="669" y="451"/>
                  <a:pt x="684" y="600"/>
                </a:cubicBezTo>
                <a:cubicBezTo>
                  <a:pt x="668" y="709"/>
                  <a:pt x="681" y="657"/>
                  <a:pt x="648" y="756"/>
                </a:cubicBezTo>
                <a:cubicBezTo>
                  <a:pt x="640" y="780"/>
                  <a:pt x="600" y="772"/>
                  <a:pt x="576" y="780"/>
                </a:cubicBezTo>
                <a:cubicBezTo>
                  <a:pt x="514" y="801"/>
                  <a:pt x="451" y="815"/>
                  <a:pt x="396" y="852"/>
                </a:cubicBezTo>
                <a:cubicBezTo>
                  <a:pt x="356" y="912"/>
                  <a:pt x="384" y="880"/>
                  <a:pt x="300" y="936"/>
                </a:cubicBezTo>
                <a:cubicBezTo>
                  <a:pt x="273" y="954"/>
                  <a:pt x="204" y="960"/>
                  <a:pt x="204" y="960"/>
                </a:cubicBezTo>
                <a:cubicBezTo>
                  <a:pt x="192" y="972"/>
                  <a:pt x="176" y="981"/>
                  <a:pt x="168" y="996"/>
                </a:cubicBezTo>
                <a:cubicBezTo>
                  <a:pt x="150" y="1029"/>
                  <a:pt x="153" y="1072"/>
                  <a:pt x="132" y="1104"/>
                </a:cubicBezTo>
                <a:cubicBezTo>
                  <a:pt x="116" y="1128"/>
                  <a:pt x="100" y="1152"/>
                  <a:pt x="84" y="1176"/>
                </a:cubicBezTo>
                <a:cubicBezTo>
                  <a:pt x="77" y="1187"/>
                  <a:pt x="59" y="1182"/>
                  <a:pt x="48" y="1188"/>
                </a:cubicBezTo>
                <a:cubicBezTo>
                  <a:pt x="35" y="1194"/>
                  <a:pt x="24" y="1204"/>
                  <a:pt x="12" y="1212"/>
                </a:cubicBezTo>
                <a:cubicBezTo>
                  <a:pt x="8" y="1224"/>
                  <a:pt x="0" y="1248"/>
                  <a:pt x="0" y="1248"/>
                </a:cubicBezTo>
              </a:path>
            </a:pathLst>
          </a:custGeom>
          <a:noFill/>
          <a:ln w="2030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3" name="Freeform 37"/>
          <p:cNvSpPr/>
          <p:nvPr/>
        </p:nvSpPr>
        <p:spPr>
          <a:xfrm>
            <a:off x="3124080" y="1828800"/>
            <a:ext cx="2192400" cy="1486080"/>
          </a:xfrm>
          <a:custGeom>
            <a:avLst/>
            <a:gdLst/>
            <a:ahLst/>
            <a:rect l="l" t="t" r="r" b="b"/>
            <a:pathLst>
              <a:path w="1381" h="1248">
                <a:moveTo>
                  <a:pt x="1344" y="0"/>
                </a:moveTo>
                <a:cubicBezTo>
                  <a:pt x="1356" y="62"/>
                  <a:pt x="1381" y="108"/>
                  <a:pt x="1308" y="132"/>
                </a:cubicBezTo>
                <a:cubicBezTo>
                  <a:pt x="1261" y="116"/>
                  <a:pt x="1195" y="127"/>
                  <a:pt x="1152" y="156"/>
                </a:cubicBezTo>
                <a:cubicBezTo>
                  <a:pt x="1128" y="172"/>
                  <a:pt x="1080" y="204"/>
                  <a:pt x="1080" y="204"/>
                </a:cubicBezTo>
                <a:cubicBezTo>
                  <a:pt x="1076" y="216"/>
                  <a:pt x="1077" y="231"/>
                  <a:pt x="1068" y="240"/>
                </a:cubicBezTo>
                <a:cubicBezTo>
                  <a:pt x="1059" y="249"/>
                  <a:pt x="1043" y="246"/>
                  <a:pt x="1032" y="252"/>
                </a:cubicBezTo>
                <a:cubicBezTo>
                  <a:pt x="967" y="288"/>
                  <a:pt x="968" y="292"/>
                  <a:pt x="924" y="336"/>
                </a:cubicBezTo>
                <a:cubicBezTo>
                  <a:pt x="920" y="348"/>
                  <a:pt x="921" y="363"/>
                  <a:pt x="912" y="372"/>
                </a:cubicBezTo>
                <a:cubicBezTo>
                  <a:pt x="870" y="414"/>
                  <a:pt x="874" y="366"/>
                  <a:pt x="852" y="348"/>
                </a:cubicBezTo>
                <a:cubicBezTo>
                  <a:pt x="842" y="340"/>
                  <a:pt x="828" y="340"/>
                  <a:pt x="816" y="336"/>
                </a:cubicBezTo>
                <a:cubicBezTo>
                  <a:pt x="766" y="353"/>
                  <a:pt x="765" y="378"/>
                  <a:pt x="720" y="408"/>
                </a:cubicBezTo>
                <a:cubicBezTo>
                  <a:pt x="650" y="513"/>
                  <a:pt x="669" y="451"/>
                  <a:pt x="684" y="600"/>
                </a:cubicBezTo>
                <a:cubicBezTo>
                  <a:pt x="668" y="709"/>
                  <a:pt x="681" y="657"/>
                  <a:pt x="648" y="756"/>
                </a:cubicBezTo>
                <a:cubicBezTo>
                  <a:pt x="640" y="780"/>
                  <a:pt x="600" y="772"/>
                  <a:pt x="576" y="780"/>
                </a:cubicBezTo>
                <a:cubicBezTo>
                  <a:pt x="514" y="801"/>
                  <a:pt x="451" y="815"/>
                  <a:pt x="396" y="852"/>
                </a:cubicBezTo>
                <a:cubicBezTo>
                  <a:pt x="356" y="912"/>
                  <a:pt x="384" y="880"/>
                  <a:pt x="300" y="936"/>
                </a:cubicBezTo>
                <a:cubicBezTo>
                  <a:pt x="273" y="954"/>
                  <a:pt x="204" y="960"/>
                  <a:pt x="204" y="960"/>
                </a:cubicBezTo>
                <a:cubicBezTo>
                  <a:pt x="192" y="972"/>
                  <a:pt x="176" y="981"/>
                  <a:pt x="168" y="996"/>
                </a:cubicBezTo>
                <a:cubicBezTo>
                  <a:pt x="150" y="1029"/>
                  <a:pt x="153" y="1072"/>
                  <a:pt x="132" y="1104"/>
                </a:cubicBezTo>
                <a:cubicBezTo>
                  <a:pt x="116" y="1128"/>
                  <a:pt x="100" y="1152"/>
                  <a:pt x="84" y="1176"/>
                </a:cubicBezTo>
                <a:cubicBezTo>
                  <a:pt x="77" y="1187"/>
                  <a:pt x="59" y="1182"/>
                  <a:pt x="48" y="1188"/>
                </a:cubicBezTo>
                <a:cubicBezTo>
                  <a:pt x="35" y="1194"/>
                  <a:pt x="24" y="1204"/>
                  <a:pt x="12" y="1212"/>
                </a:cubicBezTo>
                <a:cubicBezTo>
                  <a:pt x="8" y="1224"/>
                  <a:pt x="0" y="1248"/>
                  <a:pt x="0" y="1248"/>
                </a:cubicBezTo>
              </a:path>
            </a:pathLst>
          </a:custGeom>
          <a:noFill/>
          <a:ln w="20304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4" name="Freeform 38"/>
          <p:cNvSpPr/>
          <p:nvPr/>
        </p:nvSpPr>
        <p:spPr>
          <a:xfrm>
            <a:off x="3124080" y="1828800"/>
            <a:ext cx="2192400" cy="1486080"/>
          </a:xfrm>
          <a:custGeom>
            <a:avLst/>
            <a:gdLst/>
            <a:ahLst/>
            <a:rect l="l" t="t" r="r" b="b"/>
            <a:pathLst>
              <a:path w="1381" h="1248">
                <a:moveTo>
                  <a:pt x="1344" y="0"/>
                </a:moveTo>
                <a:cubicBezTo>
                  <a:pt x="1356" y="62"/>
                  <a:pt x="1381" y="108"/>
                  <a:pt x="1308" y="132"/>
                </a:cubicBezTo>
                <a:cubicBezTo>
                  <a:pt x="1261" y="116"/>
                  <a:pt x="1195" y="127"/>
                  <a:pt x="1152" y="156"/>
                </a:cubicBezTo>
                <a:cubicBezTo>
                  <a:pt x="1128" y="172"/>
                  <a:pt x="1080" y="204"/>
                  <a:pt x="1080" y="204"/>
                </a:cubicBezTo>
                <a:cubicBezTo>
                  <a:pt x="1076" y="216"/>
                  <a:pt x="1077" y="231"/>
                  <a:pt x="1068" y="240"/>
                </a:cubicBezTo>
                <a:cubicBezTo>
                  <a:pt x="1059" y="249"/>
                  <a:pt x="1043" y="246"/>
                  <a:pt x="1032" y="252"/>
                </a:cubicBezTo>
                <a:cubicBezTo>
                  <a:pt x="967" y="288"/>
                  <a:pt x="968" y="292"/>
                  <a:pt x="924" y="336"/>
                </a:cubicBezTo>
                <a:cubicBezTo>
                  <a:pt x="920" y="348"/>
                  <a:pt x="921" y="363"/>
                  <a:pt x="912" y="372"/>
                </a:cubicBezTo>
                <a:cubicBezTo>
                  <a:pt x="870" y="414"/>
                  <a:pt x="874" y="366"/>
                  <a:pt x="852" y="348"/>
                </a:cubicBezTo>
                <a:cubicBezTo>
                  <a:pt x="842" y="340"/>
                  <a:pt x="828" y="340"/>
                  <a:pt x="816" y="336"/>
                </a:cubicBezTo>
                <a:cubicBezTo>
                  <a:pt x="766" y="353"/>
                  <a:pt x="765" y="378"/>
                  <a:pt x="720" y="408"/>
                </a:cubicBezTo>
                <a:cubicBezTo>
                  <a:pt x="650" y="513"/>
                  <a:pt x="669" y="451"/>
                  <a:pt x="684" y="600"/>
                </a:cubicBezTo>
                <a:cubicBezTo>
                  <a:pt x="668" y="709"/>
                  <a:pt x="681" y="657"/>
                  <a:pt x="648" y="756"/>
                </a:cubicBezTo>
                <a:cubicBezTo>
                  <a:pt x="640" y="780"/>
                  <a:pt x="600" y="772"/>
                  <a:pt x="576" y="780"/>
                </a:cubicBezTo>
                <a:cubicBezTo>
                  <a:pt x="514" y="801"/>
                  <a:pt x="451" y="815"/>
                  <a:pt x="396" y="852"/>
                </a:cubicBezTo>
                <a:cubicBezTo>
                  <a:pt x="356" y="912"/>
                  <a:pt x="384" y="880"/>
                  <a:pt x="300" y="936"/>
                </a:cubicBezTo>
                <a:cubicBezTo>
                  <a:pt x="273" y="954"/>
                  <a:pt x="204" y="960"/>
                  <a:pt x="204" y="960"/>
                </a:cubicBezTo>
                <a:cubicBezTo>
                  <a:pt x="192" y="972"/>
                  <a:pt x="176" y="981"/>
                  <a:pt x="168" y="996"/>
                </a:cubicBezTo>
                <a:cubicBezTo>
                  <a:pt x="150" y="1029"/>
                  <a:pt x="153" y="1072"/>
                  <a:pt x="132" y="1104"/>
                </a:cubicBezTo>
                <a:cubicBezTo>
                  <a:pt x="116" y="1128"/>
                  <a:pt x="100" y="1152"/>
                  <a:pt x="84" y="1176"/>
                </a:cubicBezTo>
                <a:cubicBezTo>
                  <a:pt x="77" y="1187"/>
                  <a:pt x="59" y="1182"/>
                  <a:pt x="48" y="1188"/>
                </a:cubicBezTo>
                <a:cubicBezTo>
                  <a:pt x="35" y="1194"/>
                  <a:pt x="24" y="1204"/>
                  <a:pt x="12" y="1212"/>
                </a:cubicBezTo>
                <a:cubicBezTo>
                  <a:pt x="8" y="1224"/>
                  <a:pt x="0" y="1248"/>
                  <a:pt x="0" y="1248"/>
                </a:cubicBezTo>
              </a:path>
            </a:pathLst>
          </a:custGeom>
          <a:noFill/>
          <a:ln w="2030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5" name="Freeform 39"/>
          <p:cNvSpPr/>
          <p:nvPr/>
        </p:nvSpPr>
        <p:spPr>
          <a:xfrm>
            <a:off x="3124080" y="1828800"/>
            <a:ext cx="2192400" cy="1486080"/>
          </a:xfrm>
          <a:custGeom>
            <a:avLst/>
            <a:gdLst/>
            <a:ahLst/>
            <a:rect l="l" t="t" r="r" b="b"/>
            <a:pathLst>
              <a:path w="1381" h="1248">
                <a:moveTo>
                  <a:pt x="1344" y="0"/>
                </a:moveTo>
                <a:cubicBezTo>
                  <a:pt x="1356" y="62"/>
                  <a:pt x="1381" y="108"/>
                  <a:pt x="1308" y="132"/>
                </a:cubicBezTo>
                <a:cubicBezTo>
                  <a:pt x="1261" y="116"/>
                  <a:pt x="1195" y="127"/>
                  <a:pt x="1152" y="156"/>
                </a:cubicBezTo>
                <a:cubicBezTo>
                  <a:pt x="1128" y="172"/>
                  <a:pt x="1080" y="204"/>
                  <a:pt x="1080" y="204"/>
                </a:cubicBezTo>
                <a:cubicBezTo>
                  <a:pt x="1076" y="216"/>
                  <a:pt x="1077" y="231"/>
                  <a:pt x="1068" y="240"/>
                </a:cubicBezTo>
                <a:cubicBezTo>
                  <a:pt x="1059" y="249"/>
                  <a:pt x="1043" y="246"/>
                  <a:pt x="1032" y="252"/>
                </a:cubicBezTo>
                <a:cubicBezTo>
                  <a:pt x="967" y="288"/>
                  <a:pt x="968" y="292"/>
                  <a:pt x="924" y="336"/>
                </a:cubicBezTo>
                <a:cubicBezTo>
                  <a:pt x="920" y="348"/>
                  <a:pt x="921" y="363"/>
                  <a:pt x="912" y="372"/>
                </a:cubicBezTo>
                <a:cubicBezTo>
                  <a:pt x="870" y="414"/>
                  <a:pt x="874" y="366"/>
                  <a:pt x="852" y="348"/>
                </a:cubicBezTo>
                <a:cubicBezTo>
                  <a:pt x="842" y="340"/>
                  <a:pt x="828" y="340"/>
                  <a:pt x="816" y="336"/>
                </a:cubicBezTo>
                <a:cubicBezTo>
                  <a:pt x="766" y="353"/>
                  <a:pt x="765" y="378"/>
                  <a:pt x="720" y="408"/>
                </a:cubicBezTo>
                <a:cubicBezTo>
                  <a:pt x="650" y="513"/>
                  <a:pt x="669" y="451"/>
                  <a:pt x="684" y="600"/>
                </a:cubicBezTo>
                <a:cubicBezTo>
                  <a:pt x="668" y="709"/>
                  <a:pt x="681" y="657"/>
                  <a:pt x="648" y="756"/>
                </a:cubicBezTo>
                <a:cubicBezTo>
                  <a:pt x="640" y="780"/>
                  <a:pt x="600" y="772"/>
                  <a:pt x="576" y="780"/>
                </a:cubicBezTo>
                <a:cubicBezTo>
                  <a:pt x="514" y="801"/>
                  <a:pt x="451" y="815"/>
                  <a:pt x="396" y="852"/>
                </a:cubicBezTo>
                <a:cubicBezTo>
                  <a:pt x="356" y="912"/>
                  <a:pt x="384" y="880"/>
                  <a:pt x="300" y="936"/>
                </a:cubicBezTo>
                <a:cubicBezTo>
                  <a:pt x="273" y="954"/>
                  <a:pt x="204" y="960"/>
                  <a:pt x="204" y="960"/>
                </a:cubicBezTo>
                <a:cubicBezTo>
                  <a:pt x="192" y="972"/>
                  <a:pt x="176" y="981"/>
                  <a:pt x="168" y="996"/>
                </a:cubicBezTo>
                <a:cubicBezTo>
                  <a:pt x="150" y="1029"/>
                  <a:pt x="153" y="1072"/>
                  <a:pt x="132" y="1104"/>
                </a:cubicBezTo>
                <a:cubicBezTo>
                  <a:pt x="116" y="1128"/>
                  <a:pt x="100" y="1152"/>
                  <a:pt x="84" y="1176"/>
                </a:cubicBezTo>
                <a:cubicBezTo>
                  <a:pt x="77" y="1187"/>
                  <a:pt x="59" y="1182"/>
                  <a:pt x="48" y="1188"/>
                </a:cubicBezTo>
                <a:cubicBezTo>
                  <a:pt x="35" y="1194"/>
                  <a:pt x="24" y="1204"/>
                  <a:pt x="12" y="1212"/>
                </a:cubicBezTo>
                <a:cubicBezTo>
                  <a:pt x="8" y="1224"/>
                  <a:pt x="0" y="1248"/>
                  <a:pt x="0" y="1248"/>
                </a:cubicBezTo>
              </a:path>
            </a:pathLst>
          </a:custGeom>
          <a:noFill/>
          <a:ln w="20304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6" name="Freeform 40"/>
          <p:cNvSpPr/>
          <p:nvPr/>
        </p:nvSpPr>
        <p:spPr>
          <a:xfrm>
            <a:off x="5276880" y="285840"/>
            <a:ext cx="3257640" cy="1542960"/>
          </a:xfrm>
          <a:custGeom>
            <a:avLst/>
            <a:gdLst/>
            <a:ahLst/>
            <a:rect l="l" t="t" r="r" b="b"/>
            <a:pathLst>
              <a:path w="2052" h="1296">
                <a:moveTo>
                  <a:pt x="2052" y="552"/>
                </a:moveTo>
                <a:cubicBezTo>
                  <a:pt x="1994" y="545"/>
                  <a:pt x="1903" y="546"/>
                  <a:pt x="1848" y="516"/>
                </a:cubicBezTo>
                <a:cubicBezTo>
                  <a:pt x="1724" y="447"/>
                  <a:pt x="1821" y="483"/>
                  <a:pt x="1740" y="456"/>
                </a:cubicBezTo>
                <a:cubicBezTo>
                  <a:pt x="1723" y="404"/>
                  <a:pt x="1690" y="361"/>
                  <a:pt x="1668" y="312"/>
                </a:cubicBezTo>
                <a:cubicBezTo>
                  <a:pt x="1643" y="255"/>
                  <a:pt x="1633" y="192"/>
                  <a:pt x="1620" y="132"/>
                </a:cubicBezTo>
                <a:cubicBezTo>
                  <a:pt x="1612" y="97"/>
                  <a:pt x="1603" y="37"/>
                  <a:pt x="1572" y="12"/>
                </a:cubicBezTo>
                <a:cubicBezTo>
                  <a:pt x="1562" y="4"/>
                  <a:pt x="1548" y="4"/>
                  <a:pt x="1536" y="0"/>
                </a:cubicBezTo>
                <a:cubicBezTo>
                  <a:pt x="1516" y="4"/>
                  <a:pt x="1493" y="1"/>
                  <a:pt x="1476" y="12"/>
                </a:cubicBezTo>
                <a:cubicBezTo>
                  <a:pt x="1465" y="19"/>
                  <a:pt x="1470" y="37"/>
                  <a:pt x="1464" y="48"/>
                </a:cubicBezTo>
                <a:cubicBezTo>
                  <a:pt x="1458" y="61"/>
                  <a:pt x="1449" y="73"/>
                  <a:pt x="1440" y="84"/>
                </a:cubicBezTo>
                <a:cubicBezTo>
                  <a:pt x="1409" y="121"/>
                  <a:pt x="1377" y="141"/>
                  <a:pt x="1332" y="156"/>
                </a:cubicBezTo>
                <a:cubicBezTo>
                  <a:pt x="1258" y="107"/>
                  <a:pt x="1245" y="122"/>
                  <a:pt x="1140" y="132"/>
                </a:cubicBezTo>
                <a:cubicBezTo>
                  <a:pt x="986" y="123"/>
                  <a:pt x="904" y="110"/>
                  <a:pt x="756" y="132"/>
                </a:cubicBezTo>
                <a:cubicBezTo>
                  <a:pt x="688" y="142"/>
                  <a:pt x="631" y="187"/>
                  <a:pt x="564" y="204"/>
                </a:cubicBezTo>
                <a:cubicBezTo>
                  <a:pt x="519" y="234"/>
                  <a:pt x="518" y="259"/>
                  <a:pt x="468" y="276"/>
                </a:cubicBezTo>
                <a:cubicBezTo>
                  <a:pt x="451" y="328"/>
                  <a:pt x="450" y="342"/>
                  <a:pt x="396" y="360"/>
                </a:cubicBezTo>
                <a:cubicBezTo>
                  <a:pt x="380" y="384"/>
                  <a:pt x="357" y="405"/>
                  <a:pt x="348" y="432"/>
                </a:cubicBezTo>
                <a:cubicBezTo>
                  <a:pt x="340" y="456"/>
                  <a:pt x="342" y="486"/>
                  <a:pt x="324" y="504"/>
                </a:cubicBezTo>
                <a:cubicBezTo>
                  <a:pt x="293" y="535"/>
                  <a:pt x="221" y="611"/>
                  <a:pt x="204" y="648"/>
                </a:cubicBezTo>
                <a:cubicBezTo>
                  <a:pt x="172" y="720"/>
                  <a:pt x="164" y="798"/>
                  <a:pt x="120" y="864"/>
                </a:cubicBezTo>
                <a:cubicBezTo>
                  <a:pt x="95" y="1011"/>
                  <a:pt x="0" y="1145"/>
                  <a:pt x="0" y="1296"/>
                </a:cubicBezTo>
              </a:path>
            </a:pathLst>
          </a:custGeom>
          <a:noFill/>
          <a:ln w="200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7" name="Freeform 41"/>
          <p:cNvSpPr/>
          <p:nvPr/>
        </p:nvSpPr>
        <p:spPr>
          <a:xfrm>
            <a:off x="5276880" y="285840"/>
            <a:ext cx="3257640" cy="1542960"/>
          </a:xfrm>
          <a:custGeom>
            <a:avLst/>
            <a:gdLst/>
            <a:ahLst/>
            <a:rect l="l" t="t" r="r" b="b"/>
            <a:pathLst>
              <a:path w="2052" h="1296">
                <a:moveTo>
                  <a:pt x="2052" y="552"/>
                </a:moveTo>
                <a:cubicBezTo>
                  <a:pt x="1994" y="545"/>
                  <a:pt x="1903" y="546"/>
                  <a:pt x="1848" y="516"/>
                </a:cubicBezTo>
                <a:cubicBezTo>
                  <a:pt x="1724" y="447"/>
                  <a:pt x="1821" y="483"/>
                  <a:pt x="1740" y="456"/>
                </a:cubicBezTo>
                <a:cubicBezTo>
                  <a:pt x="1723" y="404"/>
                  <a:pt x="1690" y="361"/>
                  <a:pt x="1668" y="312"/>
                </a:cubicBezTo>
                <a:cubicBezTo>
                  <a:pt x="1643" y="255"/>
                  <a:pt x="1633" y="192"/>
                  <a:pt x="1620" y="132"/>
                </a:cubicBezTo>
                <a:cubicBezTo>
                  <a:pt x="1612" y="97"/>
                  <a:pt x="1603" y="37"/>
                  <a:pt x="1572" y="12"/>
                </a:cubicBezTo>
                <a:cubicBezTo>
                  <a:pt x="1562" y="4"/>
                  <a:pt x="1548" y="4"/>
                  <a:pt x="1536" y="0"/>
                </a:cubicBezTo>
                <a:cubicBezTo>
                  <a:pt x="1516" y="4"/>
                  <a:pt x="1493" y="1"/>
                  <a:pt x="1476" y="12"/>
                </a:cubicBezTo>
                <a:cubicBezTo>
                  <a:pt x="1465" y="19"/>
                  <a:pt x="1470" y="37"/>
                  <a:pt x="1464" y="48"/>
                </a:cubicBezTo>
                <a:cubicBezTo>
                  <a:pt x="1458" y="61"/>
                  <a:pt x="1449" y="73"/>
                  <a:pt x="1440" y="84"/>
                </a:cubicBezTo>
                <a:cubicBezTo>
                  <a:pt x="1409" y="121"/>
                  <a:pt x="1377" y="141"/>
                  <a:pt x="1332" y="156"/>
                </a:cubicBezTo>
                <a:cubicBezTo>
                  <a:pt x="1258" y="107"/>
                  <a:pt x="1245" y="122"/>
                  <a:pt x="1140" y="132"/>
                </a:cubicBezTo>
                <a:cubicBezTo>
                  <a:pt x="986" y="123"/>
                  <a:pt x="904" y="110"/>
                  <a:pt x="756" y="132"/>
                </a:cubicBezTo>
                <a:cubicBezTo>
                  <a:pt x="688" y="142"/>
                  <a:pt x="631" y="187"/>
                  <a:pt x="564" y="204"/>
                </a:cubicBezTo>
                <a:cubicBezTo>
                  <a:pt x="519" y="234"/>
                  <a:pt x="518" y="259"/>
                  <a:pt x="468" y="276"/>
                </a:cubicBezTo>
                <a:cubicBezTo>
                  <a:pt x="451" y="328"/>
                  <a:pt x="450" y="342"/>
                  <a:pt x="396" y="360"/>
                </a:cubicBezTo>
                <a:cubicBezTo>
                  <a:pt x="380" y="384"/>
                  <a:pt x="357" y="405"/>
                  <a:pt x="348" y="432"/>
                </a:cubicBezTo>
                <a:cubicBezTo>
                  <a:pt x="340" y="456"/>
                  <a:pt x="342" y="486"/>
                  <a:pt x="324" y="504"/>
                </a:cubicBezTo>
                <a:cubicBezTo>
                  <a:pt x="293" y="535"/>
                  <a:pt x="221" y="611"/>
                  <a:pt x="204" y="648"/>
                </a:cubicBezTo>
                <a:cubicBezTo>
                  <a:pt x="172" y="720"/>
                  <a:pt x="164" y="798"/>
                  <a:pt x="120" y="864"/>
                </a:cubicBezTo>
                <a:cubicBezTo>
                  <a:pt x="95" y="1011"/>
                  <a:pt x="0" y="1145"/>
                  <a:pt x="0" y="1296"/>
                </a:cubicBezTo>
              </a:path>
            </a:pathLst>
          </a:custGeom>
          <a:noFill/>
          <a:ln w="2001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8" name="Freeform 42"/>
          <p:cNvSpPr/>
          <p:nvPr/>
        </p:nvSpPr>
        <p:spPr>
          <a:xfrm>
            <a:off x="5276880" y="285840"/>
            <a:ext cx="3257640" cy="1542960"/>
          </a:xfrm>
          <a:custGeom>
            <a:avLst/>
            <a:gdLst/>
            <a:ahLst/>
            <a:rect l="l" t="t" r="r" b="b"/>
            <a:pathLst>
              <a:path w="2052" h="1296">
                <a:moveTo>
                  <a:pt x="2052" y="552"/>
                </a:moveTo>
                <a:cubicBezTo>
                  <a:pt x="1994" y="545"/>
                  <a:pt x="1903" y="546"/>
                  <a:pt x="1848" y="516"/>
                </a:cubicBezTo>
                <a:cubicBezTo>
                  <a:pt x="1724" y="447"/>
                  <a:pt x="1821" y="483"/>
                  <a:pt x="1740" y="456"/>
                </a:cubicBezTo>
                <a:cubicBezTo>
                  <a:pt x="1723" y="404"/>
                  <a:pt x="1690" y="361"/>
                  <a:pt x="1668" y="312"/>
                </a:cubicBezTo>
                <a:cubicBezTo>
                  <a:pt x="1643" y="255"/>
                  <a:pt x="1633" y="192"/>
                  <a:pt x="1620" y="132"/>
                </a:cubicBezTo>
                <a:cubicBezTo>
                  <a:pt x="1612" y="97"/>
                  <a:pt x="1603" y="37"/>
                  <a:pt x="1572" y="12"/>
                </a:cubicBezTo>
                <a:cubicBezTo>
                  <a:pt x="1562" y="4"/>
                  <a:pt x="1548" y="4"/>
                  <a:pt x="1536" y="0"/>
                </a:cubicBezTo>
                <a:cubicBezTo>
                  <a:pt x="1516" y="4"/>
                  <a:pt x="1493" y="1"/>
                  <a:pt x="1476" y="12"/>
                </a:cubicBezTo>
                <a:cubicBezTo>
                  <a:pt x="1465" y="19"/>
                  <a:pt x="1470" y="37"/>
                  <a:pt x="1464" y="48"/>
                </a:cubicBezTo>
                <a:cubicBezTo>
                  <a:pt x="1458" y="61"/>
                  <a:pt x="1449" y="73"/>
                  <a:pt x="1440" y="84"/>
                </a:cubicBezTo>
                <a:cubicBezTo>
                  <a:pt x="1409" y="121"/>
                  <a:pt x="1377" y="141"/>
                  <a:pt x="1332" y="156"/>
                </a:cubicBezTo>
                <a:cubicBezTo>
                  <a:pt x="1258" y="107"/>
                  <a:pt x="1245" y="122"/>
                  <a:pt x="1140" y="132"/>
                </a:cubicBezTo>
                <a:cubicBezTo>
                  <a:pt x="986" y="123"/>
                  <a:pt x="904" y="110"/>
                  <a:pt x="756" y="132"/>
                </a:cubicBezTo>
                <a:cubicBezTo>
                  <a:pt x="688" y="142"/>
                  <a:pt x="631" y="187"/>
                  <a:pt x="564" y="204"/>
                </a:cubicBezTo>
                <a:cubicBezTo>
                  <a:pt x="519" y="234"/>
                  <a:pt x="518" y="259"/>
                  <a:pt x="468" y="276"/>
                </a:cubicBezTo>
                <a:cubicBezTo>
                  <a:pt x="451" y="328"/>
                  <a:pt x="450" y="342"/>
                  <a:pt x="396" y="360"/>
                </a:cubicBezTo>
                <a:cubicBezTo>
                  <a:pt x="380" y="384"/>
                  <a:pt x="357" y="405"/>
                  <a:pt x="348" y="432"/>
                </a:cubicBezTo>
                <a:cubicBezTo>
                  <a:pt x="340" y="456"/>
                  <a:pt x="342" y="486"/>
                  <a:pt x="324" y="504"/>
                </a:cubicBezTo>
                <a:cubicBezTo>
                  <a:pt x="293" y="535"/>
                  <a:pt x="221" y="611"/>
                  <a:pt x="204" y="648"/>
                </a:cubicBezTo>
                <a:cubicBezTo>
                  <a:pt x="172" y="720"/>
                  <a:pt x="164" y="798"/>
                  <a:pt x="120" y="864"/>
                </a:cubicBezTo>
                <a:cubicBezTo>
                  <a:pt x="95" y="1011"/>
                  <a:pt x="0" y="1145"/>
                  <a:pt x="0" y="1296"/>
                </a:cubicBezTo>
              </a:path>
            </a:pathLst>
          </a:custGeom>
          <a:noFill/>
          <a:ln w="200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9" name="Freeform 43"/>
          <p:cNvSpPr/>
          <p:nvPr/>
        </p:nvSpPr>
        <p:spPr>
          <a:xfrm>
            <a:off x="5276880" y="285840"/>
            <a:ext cx="3257640" cy="1542960"/>
          </a:xfrm>
          <a:custGeom>
            <a:avLst/>
            <a:gdLst/>
            <a:ahLst/>
            <a:rect l="l" t="t" r="r" b="b"/>
            <a:pathLst>
              <a:path w="2052" h="1296">
                <a:moveTo>
                  <a:pt x="2052" y="552"/>
                </a:moveTo>
                <a:cubicBezTo>
                  <a:pt x="1994" y="545"/>
                  <a:pt x="1903" y="546"/>
                  <a:pt x="1848" y="516"/>
                </a:cubicBezTo>
                <a:cubicBezTo>
                  <a:pt x="1724" y="447"/>
                  <a:pt x="1821" y="483"/>
                  <a:pt x="1740" y="456"/>
                </a:cubicBezTo>
                <a:cubicBezTo>
                  <a:pt x="1723" y="404"/>
                  <a:pt x="1690" y="361"/>
                  <a:pt x="1668" y="312"/>
                </a:cubicBezTo>
                <a:cubicBezTo>
                  <a:pt x="1643" y="255"/>
                  <a:pt x="1633" y="192"/>
                  <a:pt x="1620" y="132"/>
                </a:cubicBezTo>
                <a:cubicBezTo>
                  <a:pt x="1612" y="97"/>
                  <a:pt x="1603" y="37"/>
                  <a:pt x="1572" y="12"/>
                </a:cubicBezTo>
                <a:cubicBezTo>
                  <a:pt x="1562" y="4"/>
                  <a:pt x="1548" y="4"/>
                  <a:pt x="1536" y="0"/>
                </a:cubicBezTo>
                <a:cubicBezTo>
                  <a:pt x="1516" y="4"/>
                  <a:pt x="1493" y="1"/>
                  <a:pt x="1476" y="12"/>
                </a:cubicBezTo>
                <a:cubicBezTo>
                  <a:pt x="1465" y="19"/>
                  <a:pt x="1470" y="37"/>
                  <a:pt x="1464" y="48"/>
                </a:cubicBezTo>
                <a:cubicBezTo>
                  <a:pt x="1458" y="61"/>
                  <a:pt x="1449" y="73"/>
                  <a:pt x="1440" y="84"/>
                </a:cubicBezTo>
                <a:cubicBezTo>
                  <a:pt x="1409" y="121"/>
                  <a:pt x="1377" y="141"/>
                  <a:pt x="1332" y="156"/>
                </a:cubicBezTo>
                <a:cubicBezTo>
                  <a:pt x="1258" y="107"/>
                  <a:pt x="1245" y="122"/>
                  <a:pt x="1140" y="132"/>
                </a:cubicBezTo>
                <a:cubicBezTo>
                  <a:pt x="986" y="123"/>
                  <a:pt x="904" y="110"/>
                  <a:pt x="756" y="132"/>
                </a:cubicBezTo>
                <a:cubicBezTo>
                  <a:pt x="688" y="142"/>
                  <a:pt x="631" y="187"/>
                  <a:pt x="564" y="204"/>
                </a:cubicBezTo>
                <a:cubicBezTo>
                  <a:pt x="519" y="234"/>
                  <a:pt x="518" y="259"/>
                  <a:pt x="468" y="276"/>
                </a:cubicBezTo>
                <a:cubicBezTo>
                  <a:pt x="451" y="328"/>
                  <a:pt x="450" y="342"/>
                  <a:pt x="396" y="360"/>
                </a:cubicBezTo>
                <a:cubicBezTo>
                  <a:pt x="380" y="384"/>
                  <a:pt x="357" y="405"/>
                  <a:pt x="348" y="432"/>
                </a:cubicBezTo>
                <a:cubicBezTo>
                  <a:pt x="340" y="456"/>
                  <a:pt x="342" y="486"/>
                  <a:pt x="324" y="504"/>
                </a:cubicBezTo>
                <a:cubicBezTo>
                  <a:pt x="293" y="535"/>
                  <a:pt x="221" y="611"/>
                  <a:pt x="204" y="648"/>
                </a:cubicBezTo>
                <a:cubicBezTo>
                  <a:pt x="172" y="720"/>
                  <a:pt x="164" y="798"/>
                  <a:pt x="120" y="864"/>
                </a:cubicBezTo>
                <a:cubicBezTo>
                  <a:pt x="95" y="1011"/>
                  <a:pt x="0" y="1145"/>
                  <a:pt x="0" y="1296"/>
                </a:cubicBezTo>
              </a:path>
            </a:pathLst>
          </a:custGeom>
          <a:noFill/>
          <a:ln w="2001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0" name="Freeform 44"/>
          <p:cNvSpPr/>
          <p:nvPr/>
        </p:nvSpPr>
        <p:spPr>
          <a:xfrm>
            <a:off x="5276880" y="285840"/>
            <a:ext cx="3257640" cy="1542960"/>
          </a:xfrm>
          <a:custGeom>
            <a:avLst/>
            <a:gdLst/>
            <a:ahLst/>
            <a:rect l="l" t="t" r="r" b="b"/>
            <a:pathLst>
              <a:path w="2052" h="1296">
                <a:moveTo>
                  <a:pt x="2052" y="552"/>
                </a:moveTo>
                <a:cubicBezTo>
                  <a:pt x="1994" y="545"/>
                  <a:pt x="1903" y="546"/>
                  <a:pt x="1848" y="516"/>
                </a:cubicBezTo>
                <a:cubicBezTo>
                  <a:pt x="1724" y="447"/>
                  <a:pt x="1821" y="483"/>
                  <a:pt x="1740" y="456"/>
                </a:cubicBezTo>
                <a:cubicBezTo>
                  <a:pt x="1723" y="404"/>
                  <a:pt x="1690" y="361"/>
                  <a:pt x="1668" y="312"/>
                </a:cubicBezTo>
                <a:cubicBezTo>
                  <a:pt x="1643" y="255"/>
                  <a:pt x="1633" y="192"/>
                  <a:pt x="1620" y="132"/>
                </a:cubicBezTo>
                <a:cubicBezTo>
                  <a:pt x="1612" y="97"/>
                  <a:pt x="1603" y="37"/>
                  <a:pt x="1572" y="12"/>
                </a:cubicBezTo>
                <a:cubicBezTo>
                  <a:pt x="1562" y="4"/>
                  <a:pt x="1548" y="4"/>
                  <a:pt x="1536" y="0"/>
                </a:cubicBezTo>
                <a:cubicBezTo>
                  <a:pt x="1516" y="4"/>
                  <a:pt x="1493" y="1"/>
                  <a:pt x="1476" y="12"/>
                </a:cubicBezTo>
                <a:cubicBezTo>
                  <a:pt x="1465" y="19"/>
                  <a:pt x="1470" y="37"/>
                  <a:pt x="1464" y="48"/>
                </a:cubicBezTo>
                <a:cubicBezTo>
                  <a:pt x="1458" y="61"/>
                  <a:pt x="1449" y="73"/>
                  <a:pt x="1440" y="84"/>
                </a:cubicBezTo>
                <a:cubicBezTo>
                  <a:pt x="1409" y="121"/>
                  <a:pt x="1377" y="141"/>
                  <a:pt x="1332" y="156"/>
                </a:cubicBezTo>
                <a:cubicBezTo>
                  <a:pt x="1258" y="107"/>
                  <a:pt x="1245" y="122"/>
                  <a:pt x="1140" y="132"/>
                </a:cubicBezTo>
                <a:cubicBezTo>
                  <a:pt x="986" y="123"/>
                  <a:pt x="904" y="110"/>
                  <a:pt x="756" y="132"/>
                </a:cubicBezTo>
                <a:cubicBezTo>
                  <a:pt x="688" y="142"/>
                  <a:pt x="631" y="187"/>
                  <a:pt x="564" y="204"/>
                </a:cubicBezTo>
                <a:cubicBezTo>
                  <a:pt x="519" y="234"/>
                  <a:pt x="518" y="259"/>
                  <a:pt x="468" y="276"/>
                </a:cubicBezTo>
                <a:cubicBezTo>
                  <a:pt x="451" y="328"/>
                  <a:pt x="450" y="342"/>
                  <a:pt x="396" y="360"/>
                </a:cubicBezTo>
                <a:cubicBezTo>
                  <a:pt x="380" y="384"/>
                  <a:pt x="357" y="405"/>
                  <a:pt x="348" y="432"/>
                </a:cubicBezTo>
                <a:cubicBezTo>
                  <a:pt x="340" y="456"/>
                  <a:pt x="342" y="486"/>
                  <a:pt x="324" y="504"/>
                </a:cubicBezTo>
                <a:cubicBezTo>
                  <a:pt x="293" y="535"/>
                  <a:pt x="221" y="611"/>
                  <a:pt x="204" y="648"/>
                </a:cubicBezTo>
                <a:cubicBezTo>
                  <a:pt x="172" y="720"/>
                  <a:pt x="164" y="798"/>
                  <a:pt x="120" y="864"/>
                </a:cubicBezTo>
                <a:cubicBezTo>
                  <a:pt x="95" y="1011"/>
                  <a:pt x="0" y="1145"/>
                  <a:pt x="0" y="1296"/>
                </a:cubicBezTo>
              </a:path>
            </a:pathLst>
          </a:custGeom>
          <a:noFill/>
          <a:ln w="200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1" name="Freeform 45"/>
          <p:cNvSpPr/>
          <p:nvPr/>
        </p:nvSpPr>
        <p:spPr>
          <a:xfrm>
            <a:off x="1162080" y="3200400"/>
            <a:ext cx="2038320" cy="1228680"/>
          </a:xfrm>
          <a:custGeom>
            <a:avLst/>
            <a:gdLst/>
            <a:ahLst/>
            <a:rect l="l" t="t" r="r" b="b"/>
            <a:pathLst>
              <a:path w="1284" h="1008">
                <a:moveTo>
                  <a:pt x="0" y="1008"/>
                </a:moveTo>
                <a:cubicBezTo>
                  <a:pt x="8" y="984"/>
                  <a:pt x="3" y="950"/>
                  <a:pt x="24" y="936"/>
                </a:cubicBezTo>
                <a:cubicBezTo>
                  <a:pt x="60" y="912"/>
                  <a:pt x="96" y="900"/>
                  <a:pt x="132" y="876"/>
                </a:cubicBezTo>
                <a:cubicBezTo>
                  <a:pt x="175" y="890"/>
                  <a:pt x="223" y="892"/>
                  <a:pt x="264" y="912"/>
                </a:cubicBezTo>
                <a:cubicBezTo>
                  <a:pt x="357" y="959"/>
                  <a:pt x="246" y="918"/>
                  <a:pt x="336" y="948"/>
                </a:cubicBezTo>
                <a:cubicBezTo>
                  <a:pt x="360" y="940"/>
                  <a:pt x="391" y="933"/>
                  <a:pt x="408" y="912"/>
                </a:cubicBezTo>
                <a:cubicBezTo>
                  <a:pt x="455" y="854"/>
                  <a:pt x="377" y="890"/>
                  <a:pt x="456" y="864"/>
                </a:cubicBezTo>
                <a:cubicBezTo>
                  <a:pt x="520" y="767"/>
                  <a:pt x="704" y="691"/>
                  <a:pt x="804" y="624"/>
                </a:cubicBezTo>
                <a:cubicBezTo>
                  <a:pt x="833" y="605"/>
                  <a:pt x="911" y="518"/>
                  <a:pt x="924" y="480"/>
                </a:cubicBezTo>
                <a:cubicBezTo>
                  <a:pt x="928" y="468"/>
                  <a:pt x="927" y="453"/>
                  <a:pt x="936" y="444"/>
                </a:cubicBezTo>
                <a:cubicBezTo>
                  <a:pt x="956" y="424"/>
                  <a:pt x="1008" y="396"/>
                  <a:pt x="1008" y="396"/>
                </a:cubicBezTo>
                <a:cubicBezTo>
                  <a:pt x="1054" y="327"/>
                  <a:pt x="1046" y="307"/>
                  <a:pt x="1020" y="228"/>
                </a:cubicBezTo>
                <a:cubicBezTo>
                  <a:pt x="1033" y="161"/>
                  <a:pt x="1024" y="145"/>
                  <a:pt x="1080" y="108"/>
                </a:cubicBezTo>
                <a:cubicBezTo>
                  <a:pt x="1107" y="27"/>
                  <a:pt x="1069" y="104"/>
                  <a:pt x="1200" y="60"/>
                </a:cubicBezTo>
                <a:cubicBezTo>
                  <a:pt x="1238" y="47"/>
                  <a:pt x="1259" y="25"/>
                  <a:pt x="1284" y="0"/>
                </a:cubicBezTo>
              </a:path>
            </a:pathLst>
          </a:custGeom>
          <a:noFill/>
          <a:ln w="20304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2" name="Freeform 46"/>
          <p:cNvSpPr/>
          <p:nvPr/>
        </p:nvSpPr>
        <p:spPr>
          <a:xfrm>
            <a:off x="3124080" y="1828800"/>
            <a:ext cx="2192400" cy="1486080"/>
          </a:xfrm>
          <a:custGeom>
            <a:avLst/>
            <a:gdLst/>
            <a:ahLst/>
            <a:rect l="l" t="t" r="r" b="b"/>
            <a:pathLst>
              <a:path w="1381" h="1248">
                <a:moveTo>
                  <a:pt x="1344" y="0"/>
                </a:moveTo>
                <a:cubicBezTo>
                  <a:pt x="1356" y="62"/>
                  <a:pt x="1381" y="108"/>
                  <a:pt x="1308" y="132"/>
                </a:cubicBezTo>
                <a:cubicBezTo>
                  <a:pt x="1261" y="116"/>
                  <a:pt x="1195" y="127"/>
                  <a:pt x="1152" y="156"/>
                </a:cubicBezTo>
                <a:cubicBezTo>
                  <a:pt x="1128" y="172"/>
                  <a:pt x="1080" y="204"/>
                  <a:pt x="1080" y="204"/>
                </a:cubicBezTo>
                <a:cubicBezTo>
                  <a:pt x="1076" y="216"/>
                  <a:pt x="1077" y="231"/>
                  <a:pt x="1068" y="240"/>
                </a:cubicBezTo>
                <a:cubicBezTo>
                  <a:pt x="1059" y="249"/>
                  <a:pt x="1043" y="246"/>
                  <a:pt x="1032" y="252"/>
                </a:cubicBezTo>
                <a:cubicBezTo>
                  <a:pt x="967" y="288"/>
                  <a:pt x="968" y="292"/>
                  <a:pt x="924" y="336"/>
                </a:cubicBezTo>
                <a:cubicBezTo>
                  <a:pt x="920" y="348"/>
                  <a:pt x="921" y="363"/>
                  <a:pt x="912" y="372"/>
                </a:cubicBezTo>
                <a:cubicBezTo>
                  <a:pt x="870" y="414"/>
                  <a:pt x="874" y="366"/>
                  <a:pt x="852" y="348"/>
                </a:cubicBezTo>
                <a:cubicBezTo>
                  <a:pt x="842" y="340"/>
                  <a:pt x="828" y="340"/>
                  <a:pt x="816" y="336"/>
                </a:cubicBezTo>
                <a:cubicBezTo>
                  <a:pt x="766" y="353"/>
                  <a:pt x="765" y="378"/>
                  <a:pt x="720" y="408"/>
                </a:cubicBezTo>
                <a:cubicBezTo>
                  <a:pt x="650" y="513"/>
                  <a:pt x="669" y="451"/>
                  <a:pt x="684" y="600"/>
                </a:cubicBezTo>
                <a:cubicBezTo>
                  <a:pt x="668" y="709"/>
                  <a:pt x="681" y="657"/>
                  <a:pt x="648" y="756"/>
                </a:cubicBezTo>
                <a:cubicBezTo>
                  <a:pt x="640" y="780"/>
                  <a:pt x="600" y="772"/>
                  <a:pt x="576" y="780"/>
                </a:cubicBezTo>
                <a:cubicBezTo>
                  <a:pt x="514" y="801"/>
                  <a:pt x="451" y="815"/>
                  <a:pt x="396" y="852"/>
                </a:cubicBezTo>
                <a:cubicBezTo>
                  <a:pt x="356" y="912"/>
                  <a:pt x="384" y="880"/>
                  <a:pt x="300" y="936"/>
                </a:cubicBezTo>
                <a:cubicBezTo>
                  <a:pt x="273" y="954"/>
                  <a:pt x="204" y="960"/>
                  <a:pt x="204" y="960"/>
                </a:cubicBezTo>
                <a:cubicBezTo>
                  <a:pt x="192" y="972"/>
                  <a:pt x="176" y="981"/>
                  <a:pt x="168" y="996"/>
                </a:cubicBezTo>
                <a:cubicBezTo>
                  <a:pt x="150" y="1029"/>
                  <a:pt x="153" y="1072"/>
                  <a:pt x="132" y="1104"/>
                </a:cubicBezTo>
                <a:cubicBezTo>
                  <a:pt x="116" y="1128"/>
                  <a:pt x="100" y="1152"/>
                  <a:pt x="84" y="1176"/>
                </a:cubicBezTo>
                <a:cubicBezTo>
                  <a:pt x="77" y="1187"/>
                  <a:pt x="59" y="1182"/>
                  <a:pt x="48" y="1188"/>
                </a:cubicBezTo>
                <a:cubicBezTo>
                  <a:pt x="35" y="1194"/>
                  <a:pt x="24" y="1204"/>
                  <a:pt x="12" y="1212"/>
                </a:cubicBezTo>
                <a:cubicBezTo>
                  <a:pt x="8" y="1224"/>
                  <a:pt x="0" y="1248"/>
                  <a:pt x="0" y="1248"/>
                </a:cubicBezTo>
              </a:path>
            </a:pathLst>
          </a:custGeom>
          <a:noFill/>
          <a:ln w="2030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3" name="Text Box 47"/>
          <p:cNvSpPr/>
          <p:nvPr/>
        </p:nvSpPr>
        <p:spPr>
          <a:xfrm rot="19011000">
            <a:off x="2417040" y="15202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方正行楷简体"/>
              </a:rPr>
              <a:t>中路军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4" name="Text Box 48"/>
          <p:cNvSpPr/>
          <p:nvPr/>
        </p:nvSpPr>
        <p:spPr>
          <a:xfrm rot="19495800">
            <a:off x="578520" y="2990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f81bd"/>
                </a:solidFill>
                <a:latin typeface="Times New Roman"/>
                <a:ea typeface="方正行楷简体"/>
              </a:rPr>
              <a:t>西路军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Text Box 49"/>
          <p:cNvSpPr/>
          <p:nvPr/>
        </p:nvSpPr>
        <p:spPr>
          <a:xfrm rot="19011000">
            <a:off x="3788640" y="12456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方正行楷简体"/>
              </a:rPr>
              <a:t>东路军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Text Box 50"/>
          <p:cNvSpPr/>
          <p:nvPr/>
        </p:nvSpPr>
        <p:spPr>
          <a:xfrm rot="19324800">
            <a:off x="741960" y="3377880"/>
            <a:ext cx="158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f81bd"/>
                </a:solidFill>
                <a:latin typeface="Times New Roman"/>
                <a:ea typeface="宋体"/>
              </a:rPr>
              <a:t>（</a:t>
            </a:r>
            <a:r>
              <a:rPr b="0" lang="zh-CN" sz="3200" spc="-1" strike="noStrike">
                <a:solidFill>
                  <a:srgbClr val="4f81bd"/>
                </a:solidFill>
                <a:latin typeface="Times New Roman"/>
                <a:ea typeface="宋体"/>
              </a:rPr>
              <a:t>35</a:t>
            </a:r>
            <a:r>
              <a:rPr b="0" lang="zh-CN" sz="3200" spc="-1" strike="noStrike">
                <a:solidFill>
                  <a:srgbClr val="4f81bd"/>
                </a:solidFill>
                <a:latin typeface="Times New Roman"/>
                <a:ea typeface="宋体"/>
              </a:rPr>
              <a:t>万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7" name="Text Box 51"/>
          <p:cNvSpPr/>
          <p:nvPr/>
        </p:nvSpPr>
        <p:spPr>
          <a:xfrm rot="18661200">
            <a:off x="2750040" y="1895040"/>
            <a:ext cx="158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万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8" name="Text Box 52"/>
          <p:cNvSpPr/>
          <p:nvPr/>
        </p:nvSpPr>
        <p:spPr>
          <a:xfrm rot="18814200">
            <a:off x="4196880" y="492480"/>
            <a:ext cx="158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cc"/>
                </a:solidFill>
                <a:latin typeface="Times New Roman"/>
                <a:ea typeface="宋体"/>
              </a:rPr>
              <a:t>（</a:t>
            </a:r>
            <a:r>
              <a:rPr b="0" lang="zh-CN" sz="3200" spc="-1" strike="noStrike">
                <a:solidFill>
                  <a:srgbClr val="ff66cc"/>
                </a:solidFill>
                <a:latin typeface="Times New Roman"/>
                <a:ea typeface="宋体"/>
              </a:rPr>
              <a:t>35</a:t>
            </a:r>
            <a:r>
              <a:rPr b="0" lang="zh-CN" sz="3200" spc="-1" strike="noStrike">
                <a:solidFill>
                  <a:srgbClr val="ff66cc"/>
                </a:solidFill>
                <a:latin typeface="Times New Roman"/>
                <a:ea typeface="宋体"/>
              </a:rPr>
              <a:t>万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9" name="Line 53"/>
          <p:cNvSpPr/>
          <p:nvPr/>
        </p:nvSpPr>
        <p:spPr>
          <a:xfrm flipV="1">
            <a:off x="8362800" y="34272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0" name="Line 54"/>
          <p:cNvSpPr/>
          <p:nvPr/>
        </p:nvSpPr>
        <p:spPr>
          <a:xfrm>
            <a:off x="7962840" y="343080"/>
            <a:ext cx="0" cy="5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1" name="Line 55"/>
          <p:cNvSpPr/>
          <p:nvPr/>
        </p:nvSpPr>
        <p:spPr>
          <a:xfrm>
            <a:off x="8035920" y="36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75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0" dur="1" fill="hold">
                                    <p:stCondLst>
                                      <p:cond evt="end">
                                        <p:tn val="418"/>
                                      </p:cond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4" dur="1" fill="hold">
                                    <p:stCondLst>
                                      <p:cond evt="end">
                                        <p:tn val="422"/>
                                      </p:cond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evt="end">
                                        <p:tn val="426"/>
                                      </p:cond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2" dur="1" fill="hold">
                                    <p:stCondLst>
                                      <p:cond evt="end">
                                        <p:tn val="430"/>
                                      </p:cond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1" dur="1" fill="hold">
                                    <p:stCondLst>
                                      <p:cond evt="end">
                                        <p:tn val="449"/>
                                      </p:cond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5" dur="1" fill="hold">
                                    <p:stCondLst>
                                      <p:cond evt="end">
                                        <p:tn val="453"/>
                                      </p:cond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9" dur="1" fill="hold">
                                    <p:stCondLst>
                                      <p:cond evt="end">
                                        <p:tn val="457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4" dur="1" fill="hold">
                                    <p:stCondLst>
                                      <p:cond evt="end">
                                        <p:tn val="472"/>
                                      </p:cond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8" dur="1" fill="hold">
                                    <p:stCondLst>
                                      <p:cond evt="end">
                                        <p:tn val="476"/>
                                      </p:cond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2" dur="1" fill="hold">
                                    <p:stCondLst>
                                      <p:cond evt="end">
                                        <p:tn val="480"/>
                                      </p:cond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6" dur="1" fill="hold">
                                    <p:stCondLst>
                                      <p:cond evt="end">
                                        <p:tn val="484"/>
                                      </p:cond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9" dur="1" fill="hold">
                                    <p:stCondLst>
                                      <p:cond evt="end">
                                        <p:tn val="497"/>
                                      </p:cond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3" dur="1" fill="hold">
                                    <p:stCondLst>
                                      <p:cond evt="end">
                                        <p:tn val="501"/>
                                      </p:cond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7" dur="1" fill="hold">
                                    <p:stCondLst>
                                      <p:cond evt="end">
                                        <p:tn val="505"/>
                                      </p:cond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evt="end">
                                        <p:tn val="509"/>
                                      </p:cond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背景１"/>
          <p:cNvPicPr/>
          <p:nvPr/>
        </p:nvPicPr>
        <p:blipFill>
          <a:blip r:embed="rId1"/>
          <a:stretch/>
        </p:blipFill>
        <p:spPr>
          <a:xfrm>
            <a:off x="0" y="0"/>
            <a:ext cx="9144000" cy="52005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8856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ffffff"/>
                </a:solidFill>
                <a:latin typeface="Calibri"/>
              </a:rPr>
              <a:t>你还有什么疑问</a:t>
            </a:r>
            <a:endParaRPr b="0" lang="en-US" sz="5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97128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5" descr="5"/>
          <p:cNvPicPr/>
          <p:nvPr/>
        </p:nvPicPr>
        <p:blipFill>
          <a:blip r:embed="rId2"/>
          <a:stretch/>
        </p:blipFill>
        <p:spPr>
          <a:xfrm>
            <a:off x="914400" y="1143000"/>
            <a:ext cx="1523880" cy="679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背景１"/>
          <p:cNvPicPr/>
          <p:nvPr/>
        </p:nvPicPr>
        <p:blipFill>
          <a:blip r:embed="rId1"/>
          <a:stretch/>
        </p:blipFill>
        <p:spPr>
          <a:xfrm>
            <a:off x="0" y="0"/>
            <a:ext cx="9144000" cy="52005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486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alibri"/>
              </a:rPr>
              <a:t>新闻的小知识：电头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520" y="1486080"/>
            <a:ext cx="38149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电头就是在报道开头用括号或黑体字表示，交代槁子的来源和发稿的时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１、在报道的开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２、用括号或黑体字表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３、交代稿子的来源和发稿时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67080" y="1542600"/>
            <a:ext cx="464832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练习：分析［新华社长江前线２２日２２时电］这电头所含的信息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Calibri"/>
              </a:rPr>
              <a:t>新华社“是通讯社的名称，交代了稿子的来源； “长江前线”交代了发稿的地点，说明稿子的真实性； “ </a:t>
            </a:r>
            <a:r>
              <a:rPr b="1" lang="en-US" sz="1800" spc="-1" strike="noStrike">
                <a:solidFill>
                  <a:srgbClr val="ff00ff"/>
                </a:solidFill>
                <a:latin typeface="Calibri"/>
              </a:rPr>
              <a:t>22</a:t>
            </a:r>
            <a:r>
              <a:rPr b="1" lang="zh-CN" sz="1800" spc="-1" strike="noStrike">
                <a:solidFill>
                  <a:srgbClr val="ff00ff"/>
                </a:solidFill>
                <a:latin typeface="Calibri"/>
              </a:rPr>
              <a:t>日</a:t>
            </a:r>
            <a:r>
              <a:rPr b="1" lang="en-US" sz="1800" spc="-1" strike="noStrike">
                <a:solidFill>
                  <a:srgbClr val="ff00ff"/>
                </a:solidFill>
                <a:latin typeface="Calibri"/>
              </a:rPr>
              <a:t>22</a:t>
            </a:r>
            <a:r>
              <a:rPr b="1" lang="zh-CN" sz="1800" spc="-1" strike="noStrike">
                <a:solidFill>
                  <a:srgbClr val="ff00ff"/>
                </a:solidFill>
                <a:latin typeface="Calibri"/>
              </a:rPr>
              <a:t>时” 交代了发稿的时间，说明了新闻的及时性； “电”说明了发稿所采用的形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背景１"/>
          <p:cNvPicPr/>
          <p:nvPr/>
        </p:nvPicPr>
        <p:blipFill>
          <a:blip r:embed="rId1"/>
          <a:stretch/>
        </p:blipFill>
        <p:spPr>
          <a:xfrm>
            <a:off x="0" y="0"/>
            <a:ext cx="9144000" cy="52005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3"/>
          <p:cNvSpPr/>
          <p:nvPr/>
        </p:nvSpPr>
        <p:spPr>
          <a:xfrm>
            <a:off x="762120" y="68580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、为什么按中、西、东的顺序叙述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80880" y="1028880"/>
            <a:ext cx="85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路军首先发起渡江作战，所以先说。四路军和中路军所遇敌情一样，敌军抵抗甚为微弱，而东线敌军抵抗较为顽强，所以西路接着中路说，合在一起，可以议一议。最后说东路激战，文势也涌起高潮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609480" y="234324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、东路与西路是同时发起渡江作战的，为什么先说西路军，再说东路军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533520" y="301932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新闻的主体里，中路军和西路军都从时间说起，中路一层开头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十日夜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西路一层开头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十一日下午五时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层次分明而又紧相衔接。说了西路战况之后，又合起来有所议论，议论最后一句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汤恩伯认为南京江阴段防线是很巩固的，弱点只存在于南京九江一线。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  <a:ea typeface="宋体"/>
              </a:rPr>
              <a:t>不料正是汤恩伯到芜湖的那一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东面防线又被我军突破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话题巧妙而自然地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西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东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838080" y="114480"/>
            <a:ext cx="57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隶书"/>
              </a:rPr>
              <a:t>问题探究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75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75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75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75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75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75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背景１"/>
          <p:cNvPicPr/>
          <p:nvPr/>
        </p:nvPicPr>
        <p:blipFill>
          <a:blip r:embed="rId1"/>
          <a:stretch/>
        </p:blipFill>
        <p:spPr>
          <a:xfrm>
            <a:off x="0" y="0"/>
            <a:ext cx="9144000" cy="520056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"/>
          <p:cNvSpPr/>
          <p:nvPr/>
        </p:nvSpPr>
        <p:spPr>
          <a:xfrm>
            <a:off x="990720" y="5716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本文主体部分的三个层次是怎样衔接的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3520" y="268596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找出本文的议论句，看看它属新闻结构的哪个部分，有什么表达效果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762120" y="1200240"/>
            <a:ext cx="81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1d6709"/>
                </a:solidFill>
                <a:latin typeface="Times New Roman"/>
                <a:ea typeface="宋体"/>
              </a:rPr>
              <a:t>第二层开头</a:t>
            </a:r>
            <a:r>
              <a:rPr b="1" lang="zh-CN" sz="2800" spc="-1" strike="noStrike">
                <a:solidFill>
                  <a:srgbClr val="1d6709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1d6709"/>
                </a:solidFill>
                <a:latin typeface="Times New Roman"/>
                <a:ea typeface="宋体"/>
              </a:rPr>
              <a:t>二十日下午五时起</a:t>
            </a:r>
            <a:r>
              <a:rPr b="1" lang="zh-CN" sz="2800" spc="-1" strike="noStrike">
                <a:solidFill>
                  <a:srgbClr val="1d6709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1d6709"/>
                </a:solidFill>
                <a:latin typeface="Times New Roman"/>
                <a:ea typeface="宋体"/>
              </a:rPr>
              <a:t>与第一层开头</a:t>
            </a:r>
            <a:r>
              <a:rPr b="1" lang="zh-CN" sz="2800" spc="-1" strike="noStrike">
                <a:solidFill>
                  <a:srgbClr val="1d6709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1d6709"/>
                </a:solidFill>
                <a:latin typeface="Times New Roman"/>
                <a:ea typeface="宋体"/>
              </a:rPr>
              <a:t>二十日夜起</a:t>
            </a:r>
            <a:r>
              <a:rPr b="1" lang="zh-CN" sz="2800" spc="-1" strike="noStrike">
                <a:solidFill>
                  <a:srgbClr val="1d6709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1d6709"/>
                </a:solidFill>
                <a:latin typeface="Times New Roman"/>
                <a:ea typeface="宋体"/>
              </a:rPr>
              <a:t>紧相衔接；第三层开头</a:t>
            </a:r>
            <a:r>
              <a:rPr b="1" lang="zh-CN" sz="2800" spc="-1" strike="noStrike">
                <a:solidFill>
                  <a:srgbClr val="1d6709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1d6709"/>
                </a:solidFill>
                <a:latin typeface="Times New Roman"/>
                <a:ea typeface="宋体"/>
              </a:rPr>
              <a:t>不料正是汤恩伯到芜湖的那一天</a:t>
            </a:r>
            <a:r>
              <a:rPr b="1" lang="zh-CN" sz="2800" spc="-1" strike="noStrike">
                <a:solidFill>
                  <a:srgbClr val="1d6709"/>
                </a:solidFill>
                <a:latin typeface="Arial"/>
                <a:ea typeface="宋体"/>
              </a:rPr>
              <a:t>……</a:t>
            </a:r>
            <a:r>
              <a:rPr b="1" lang="zh-CN" sz="2800" spc="-1" strike="noStrike">
                <a:solidFill>
                  <a:srgbClr val="1d6709"/>
                </a:solidFill>
                <a:latin typeface="Times New Roman"/>
                <a:ea typeface="宋体"/>
              </a:rPr>
              <a:t>我军突破了</a:t>
            </a:r>
            <a:r>
              <a:rPr b="1" lang="zh-CN" sz="2800" spc="-1" strike="noStrike">
                <a:solidFill>
                  <a:srgbClr val="1d6709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1d6709"/>
                </a:solidFill>
                <a:latin typeface="Times New Roman"/>
                <a:ea typeface="宋体"/>
              </a:rPr>
              <a:t>一句起了承上启下的作用，把第二层与第三层衔接起来了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85800" y="360036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1d6709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1d6709"/>
                </a:solidFill>
                <a:latin typeface="Times New Roman"/>
                <a:ea typeface="宋体"/>
              </a:rPr>
              <a:t>此种情况</a:t>
            </a:r>
            <a:r>
              <a:rPr b="1" lang="zh-CN" sz="2800" spc="-1" strike="noStrike">
                <a:solidFill>
                  <a:srgbClr val="1d6709"/>
                </a:solidFill>
                <a:latin typeface="Arial"/>
                <a:ea typeface="宋体"/>
              </a:rPr>
              <a:t>……</a:t>
            </a:r>
            <a:r>
              <a:rPr b="1" lang="zh-CN" sz="2800" spc="-1" strike="noStrike">
                <a:solidFill>
                  <a:srgbClr val="1d6709"/>
                </a:solidFill>
                <a:latin typeface="Times New Roman"/>
                <a:ea typeface="宋体"/>
              </a:rPr>
              <a:t>都很泄气</a:t>
            </a:r>
            <a:r>
              <a:rPr b="1" lang="zh-CN" sz="2800" spc="-1" strike="noStrike">
                <a:solidFill>
                  <a:srgbClr val="1d6709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1d6709"/>
                </a:solidFill>
                <a:latin typeface="Times New Roman"/>
                <a:ea typeface="宋体"/>
              </a:rPr>
              <a:t>。属</a:t>
            </a:r>
            <a:r>
              <a:rPr b="1" lang="zh-CN" sz="2800" spc="-1" strike="noStrike">
                <a:solidFill>
                  <a:srgbClr val="1d6709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1d6709"/>
                </a:solidFill>
                <a:latin typeface="Times New Roman"/>
                <a:ea typeface="宋体"/>
              </a:rPr>
              <a:t>背景</a:t>
            </a:r>
            <a:r>
              <a:rPr b="1" lang="zh-CN" sz="2800" spc="-1" strike="noStrike">
                <a:solidFill>
                  <a:srgbClr val="1d6709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1d6709"/>
                </a:solidFill>
                <a:latin typeface="Times New Roman"/>
                <a:ea typeface="宋体"/>
              </a:rPr>
              <a:t>部分。分析了敌溃我胜的原因，突出了文章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  <a:ea typeface="宋体"/>
              </a:rPr>
              <a:t>中心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背景１"/>
          <p:cNvPicPr/>
          <p:nvPr/>
        </p:nvPicPr>
        <p:blipFill>
          <a:blip r:embed="rId1"/>
          <a:stretch/>
        </p:blipFill>
        <p:spPr>
          <a:xfrm>
            <a:off x="0" y="0"/>
            <a:ext cx="9144000" cy="52005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"/>
          <p:cNvSpPr/>
          <p:nvPr/>
        </p:nvSpPr>
        <p:spPr>
          <a:xfrm>
            <a:off x="1295280" y="22860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华文隶书"/>
              </a:rPr>
              <a:t>揣摩语言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09480" y="8571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请比较下面每组中的句子，看哪句好，说说理由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685800" y="16002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二十日夜起，长江北岸人民解放军中路军首先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  <a:ea typeface="宋体"/>
              </a:rPr>
              <a:t>越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庆、芜湖线，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  <a:ea typeface="宋体"/>
              </a:rPr>
              <a:t>到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繁昌、铜陵、青阳、荻港、鲁港地区，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  <a:ea typeface="宋体"/>
              </a:rPr>
              <a:t>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渡过三十万人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762120" y="25718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二十日夜起，长江北岸人民解放军中路军首先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  <a:ea typeface="宋体"/>
              </a:rPr>
              <a:t>突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庆、芜湖线，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  <a:ea typeface="宋体"/>
              </a:rPr>
              <a:t>渡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繁昌、铜陵、青阳、荻港、鲁港地区，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  <a:ea typeface="宋体"/>
              </a:rPr>
              <a:t>二十四小时内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渡过三十万人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6" name="AutoShape 7"/>
          <p:cNvSpPr/>
          <p:nvPr/>
        </p:nvSpPr>
        <p:spPr>
          <a:xfrm>
            <a:off x="609480" y="1771560"/>
            <a:ext cx="138240" cy="1241640"/>
          </a:xfrm>
          <a:custGeom>
            <a:avLst/>
            <a:gdLst>
              <a:gd name="textAreaLeft" fmla="*/ 88200 w 138240"/>
              <a:gd name="textAreaRight" fmla="*/ 138600 w 138240"/>
              <a:gd name="textAreaTop" fmla="*/ 32040 h 1241640"/>
              <a:gd name="textAreaBottom" fmla="*/ 1209600 h 124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e12b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250920" y="181620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0ec"/>
                </a:solidFill>
                <a:latin typeface="Times New Roman"/>
                <a:ea typeface="宋体"/>
              </a:rPr>
              <a:t>Ⅰ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609480" y="351936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  <a:ea typeface="宋体"/>
              </a:rPr>
              <a:t>组的</a:t>
            </a:r>
            <a:r>
              <a:rPr b="1" lang="zh-CN" sz="2400" spc="-1" strike="noStrike">
                <a:solidFill>
                  <a:srgbClr val="20700a"/>
                </a:solidFill>
                <a:latin typeface="Times New Roman"/>
                <a:ea typeface="宋体"/>
              </a:rPr>
              <a:t>②句好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  <a:ea typeface="宋体"/>
              </a:rPr>
              <a:t>突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20700a"/>
                </a:solidFill>
                <a:latin typeface="Times New Roman"/>
                <a:ea typeface="宋体"/>
              </a:rPr>
              <a:t>表明我军歼灭或击溃守敌冲破敌阵。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  <a:ea typeface="宋体"/>
              </a:rPr>
              <a:t>越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20700a"/>
                </a:solidFill>
                <a:latin typeface="Times New Roman"/>
                <a:ea typeface="宋体"/>
              </a:rPr>
              <a:t>表现不出经过战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  <a:ea typeface="宋体"/>
              </a:rPr>
              <a:t>渡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20700a"/>
                </a:solidFill>
                <a:latin typeface="Times New Roman"/>
                <a:ea typeface="宋体"/>
              </a:rPr>
              <a:t>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  <a:ea typeface="宋体"/>
              </a:rPr>
              <a:t>到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20700a"/>
                </a:solidFill>
                <a:latin typeface="Times New Roman"/>
                <a:ea typeface="宋体"/>
              </a:rPr>
              <a:t>含义丰富，有横渡与到达两层意思，且文字简洁有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  <a:ea typeface="宋体"/>
              </a:rPr>
              <a:t>二十四小时内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  <a:ea typeface="宋体"/>
              </a:rPr>
              <a:t>，时间明确，且含渡江迅速，作战顺利之意。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  <a:ea typeface="宋体"/>
              </a:rPr>
              <a:t>字不能表达这些意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背景１"/>
          <p:cNvPicPr/>
          <p:nvPr/>
        </p:nvPicPr>
        <p:blipFill>
          <a:blip r:embed="rId1"/>
          <a:stretch/>
        </p:blipFill>
        <p:spPr>
          <a:xfrm>
            <a:off x="0" y="0"/>
            <a:ext cx="9144000" cy="52005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643680" y="51912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0ec"/>
                </a:solidFill>
                <a:latin typeface="Times New Roman"/>
                <a:ea typeface="宋体"/>
              </a:rPr>
              <a:t>Ⅱ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1403280" y="19512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  <a:ea typeface="宋体"/>
              </a:rPr>
              <a:t>结果就在二十日那一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东面防线又被我军突破了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1476360" y="898560"/>
            <a:ext cx="691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  <a:ea typeface="宋体"/>
              </a:rPr>
              <a:t>不料正是汤恩伯到芜湖的那一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东面防线又被我军突破了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1332000" y="30492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e12b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900000" y="160020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0700a"/>
                </a:solidFill>
                <a:latin typeface="Times New Roman"/>
                <a:ea typeface="宋体"/>
              </a:rPr>
              <a:t>    Ⅱ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  <a:ea typeface="宋体"/>
              </a:rPr>
              <a:t>组的②句好。</a:t>
            </a:r>
            <a:r>
              <a:rPr b="1" lang="zh-CN" sz="2800" spc="-1" strike="noStrike">
                <a:solidFill>
                  <a:srgbClr val="2f20ec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  <a:ea typeface="宋体"/>
              </a:rPr>
              <a:t>不料正是汤恩伯到芜湖的那一天</a:t>
            </a:r>
            <a:r>
              <a:rPr b="1" lang="zh-CN" sz="2800" spc="-1" strike="noStrike">
                <a:solidFill>
                  <a:srgbClr val="2f20ec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  <a:ea typeface="宋体"/>
              </a:rPr>
              <a:t>有嘲讽意味，嘲讽汤恩伯过高估计东面防线的巩固性，过低估计人民解放军的战斗力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  <a:ea typeface="宋体"/>
              </a:rPr>
              <a:t>倘说</a:t>
            </a:r>
            <a:r>
              <a:rPr b="1" lang="zh-CN" sz="2800" spc="-1" strike="noStrike">
                <a:solidFill>
                  <a:srgbClr val="2f20ec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结果就在二十日那一天</a:t>
            </a:r>
            <a:r>
              <a:rPr b="1" lang="zh-CN" sz="2800" spc="-1" strike="noStrike">
                <a:solidFill>
                  <a:srgbClr val="2f20ec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  <a:ea typeface="宋体"/>
              </a:rPr>
              <a:t>毫无感情色彩，且与上句</a:t>
            </a:r>
            <a:r>
              <a:rPr b="1" lang="zh-CN" sz="2800" spc="-1" strike="noStrike">
                <a:solidFill>
                  <a:srgbClr val="20700a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二十一日</a:t>
            </a:r>
            <a:r>
              <a:rPr b="1" lang="zh-CN" sz="2800" spc="-1" strike="noStrike">
                <a:solidFill>
                  <a:srgbClr val="20700a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  <a:ea typeface="宋体"/>
              </a:rPr>
              <a:t>重复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901800" y="3219480"/>
            <a:ext cx="78469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600" spc="-1" strike="noStrike">
                <a:solidFill>
                  <a:srgbClr val="2f20ec"/>
                </a:solidFill>
                <a:latin typeface="华文隶书"/>
                <a:ea typeface="华文隶书"/>
              </a:rPr>
              <a:t> </a:t>
            </a:r>
            <a:r>
              <a:rPr b="1" lang="zh-CN" sz="3600" spc="-1" strike="noStrike">
                <a:solidFill>
                  <a:srgbClr val="2f20ec"/>
                </a:solidFill>
                <a:latin typeface="华文隶书"/>
                <a:ea typeface="华文隶书"/>
              </a:rPr>
              <a:t>小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 可见这则新闻的</a:t>
            </a:r>
            <a:r>
              <a:rPr b="1" lang="zh-CN" sz="2800" spc="-1" strike="noStrike">
                <a:solidFill>
                  <a:srgbClr val="e933c6"/>
                </a:solidFill>
                <a:latin typeface="Times New Roman"/>
                <a:ea typeface="宋体"/>
              </a:rPr>
              <a:t>语言用词准确精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e933c6"/>
                </a:solidFill>
                <a:latin typeface="Times New Roman"/>
                <a:ea typeface="宋体"/>
              </a:rPr>
              <a:t>铿锵有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另外还有</a:t>
            </a:r>
            <a:r>
              <a:rPr b="1" lang="zh-CN" sz="2800" spc="-1" strike="noStrike">
                <a:solidFill>
                  <a:srgbClr val="e933c6"/>
                </a:solidFill>
                <a:latin typeface="Times New Roman"/>
                <a:ea typeface="宋体"/>
              </a:rPr>
              <a:t>书面语和口头语相穿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相益得彰（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敌亦纷纷溃退，毫无斗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文气十足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想再打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都很泄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非常口语化），各有妙处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背景１"/>
          <p:cNvPicPr/>
          <p:nvPr/>
        </p:nvPicPr>
        <p:blipFill>
          <a:blip r:embed="rId1"/>
          <a:stretch/>
        </p:blipFill>
        <p:spPr>
          <a:xfrm>
            <a:off x="0" y="0"/>
            <a:ext cx="9144000" cy="5200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新闻背景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8229600" cy="34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49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日，国民党政府拒绝签订国内和平协定。人民解放军坚决执行毛泽东主席和朱德总司令向全国进军的命令，渡江战役打响，百万雄师展开了浩浩荡荡的渡江行动。这篇消息就展示了震惊中外的渡江战役概貌。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背景１"/>
          <p:cNvPicPr/>
          <p:nvPr/>
        </p:nvPicPr>
        <p:blipFill>
          <a:blip r:embed="rId1"/>
          <a:stretch/>
        </p:blipFill>
        <p:spPr>
          <a:xfrm>
            <a:off x="0" y="0"/>
            <a:ext cx="9144000" cy="520056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3"/>
          <p:cNvSpPr/>
          <p:nvPr/>
        </p:nvSpPr>
        <p:spPr>
          <a:xfrm>
            <a:off x="228600" y="3430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Times New Roman"/>
                <a:ea typeface="方正行楷简体"/>
              </a:rPr>
              <a:t>新闻的基本特征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3429000" y="120024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方正水柱简体"/>
              </a:rPr>
              <a:t>用事实讲话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89920" y="19242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Times New Roman"/>
                <a:ea typeface="宋体"/>
              </a:rPr>
              <a:t>新闻的特点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657600" y="2171880"/>
            <a:ext cx="5219640" cy="38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933c6"/>
                </a:solidFill>
                <a:latin typeface="Times New Roman"/>
                <a:ea typeface="宋体"/>
              </a:rPr>
              <a:t>观点</a:t>
            </a:r>
            <a:r>
              <a:rPr b="1" lang="zh-CN" sz="5400" spc="-1" strike="noStrike">
                <a:solidFill>
                  <a:srgbClr val="1f497d"/>
                </a:solidFill>
                <a:latin typeface="Times New Roman"/>
                <a:ea typeface="宋体"/>
              </a:rPr>
              <a:t>鲜明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933c6"/>
                </a:solidFill>
                <a:latin typeface="Times New Roman"/>
                <a:ea typeface="宋体"/>
              </a:rPr>
              <a:t>内容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真实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及时</a:t>
            </a:r>
            <a:r>
              <a:rPr b="1" lang="zh-CN" sz="4400" spc="-1" strike="noStrike">
                <a:solidFill>
                  <a:srgbClr val="e933c6"/>
                </a:solidFill>
                <a:latin typeface="Times New Roman"/>
                <a:ea typeface="宋体"/>
              </a:rPr>
              <a:t>迅速 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933c6"/>
                </a:solidFill>
                <a:latin typeface="Times New Roman"/>
                <a:ea typeface="宋体"/>
              </a:rPr>
              <a:t>语言简明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准确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75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75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背景１"/>
          <p:cNvPicPr/>
          <p:nvPr/>
        </p:nvPicPr>
        <p:blipFill>
          <a:blip r:embed="rId1"/>
          <a:stretch/>
        </p:blipFill>
        <p:spPr>
          <a:xfrm>
            <a:off x="0" y="-55440"/>
            <a:ext cx="9144000" cy="519912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3"/>
          <p:cNvSpPr/>
          <p:nvPr/>
        </p:nvSpPr>
        <p:spPr>
          <a:xfrm>
            <a:off x="3429000" y="171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933c6"/>
                </a:solidFill>
                <a:latin typeface="Times New Roman"/>
                <a:ea typeface="华文隶书"/>
              </a:rPr>
              <a:t>小结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80880" y="10288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文是一篇消息（狭义新闻），它真实、及时、简要地报道人民解放军百万大军横渡长江的情况。全面介绍了渡江三路军的进军的时间、地点、战线、战况，使人对震惊中外的渡江战役之概貌有所了解。这则新闻的标题、导语和主体部分的结构安排等都颇有讲究，值得细心体味。文中的语言准确精练，铿锵有力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380880" y="3371760"/>
            <a:ext cx="820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  <a:ea typeface="宋体"/>
              </a:rPr>
              <a:t>这篇新闻，气势磅礴，全面地报道了人民解放军的渡江战役，这是中国解放战争战略进攻阶段具有关键意义的胜利。这一历史，让我们看到正义战争的威力，认识到中国革命的胜利来之不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背景１"/>
          <p:cNvPicPr/>
          <p:nvPr/>
        </p:nvPicPr>
        <p:blipFill>
          <a:blip r:embed="rId1"/>
          <a:stretch/>
        </p:blipFill>
        <p:spPr>
          <a:xfrm>
            <a:off x="0" y="0"/>
            <a:ext cx="9144000" cy="52005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3"/>
          <p:cNvSpPr/>
          <p:nvPr/>
        </p:nvSpPr>
        <p:spPr>
          <a:xfrm>
            <a:off x="1371600" y="10288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00400" y="85716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838080" y="743040"/>
            <a:ext cx="7162920" cy="52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七    律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楷体简体"/>
              </a:rPr>
              <a:t>人民解放军占领南京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方正黄草简体"/>
              </a:rPr>
              <a:t>毛泽东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94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月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新舒体简体"/>
              </a:rPr>
              <a:t>钟山风雨起苍黄，百万雄师过大江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新舒体简体"/>
              </a:rPr>
              <a:t>虎踞龙盘今胜昔，天翻地覆慨而慷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新舒体简体"/>
              </a:rPr>
              <a:t>宜将剩勇追穷寇，不可沽名学霸王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新舒体简体"/>
              </a:rPr>
              <a:t>天若有情天亦老，人间正道是沧桑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289" name="Group 6"/>
          <p:cNvGrpSpPr/>
          <p:nvPr/>
        </p:nvGrpSpPr>
        <p:grpSpPr>
          <a:xfrm>
            <a:off x="6934320" y="343080"/>
            <a:ext cx="2209680" cy="1485720"/>
            <a:chOff x="6934320" y="343080"/>
            <a:chExt cx="2209680" cy="1485720"/>
          </a:xfrm>
        </p:grpSpPr>
        <p:sp>
          <p:nvSpPr>
            <p:cNvPr id="290" name="AutoShape 7"/>
            <p:cNvSpPr/>
            <p:nvPr/>
          </p:nvSpPr>
          <p:spPr>
            <a:xfrm>
              <a:off x="6934320" y="343080"/>
              <a:ext cx="2209680" cy="1485720"/>
            </a:xfrm>
            <a:custGeom>
              <a:avLst/>
              <a:gdLst>
                <a:gd name="textAreaLeft" fmla="*/ 504360 w 2209680"/>
                <a:gd name="textAreaRight" fmla="*/ 1705320 w 2209680"/>
                <a:gd name="textAreaTop" fmla="*/ 339120 h 1485720"/>
                <a:gd name="textAreaBottom" fmla="*/ 11466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ff">
                <a:alpha val="50000"/>
              </a:srgbClr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91" name="WordArt 8"/>
            <p:cNvSpPr txBox="1"/>
            <p:nvPr/>
          </p:nvSpPr>
          <p:spPr>
            <a:xfrm rot="21089400">
              <a:off x="7259040" y="689400"/>
              <a:ext cx="1429560" cy="80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12600">
                    <a:solidFill>
                      <a:srgbClr val="339966"/>
                    </a:solidFill>
                    <a:miter/>
                  </a:ln>
                  <a:solidFill>
                    <a:srgbClr val="3366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黑体"/>
                </a:rPr>
                <a:t>积累</a:t>
              </a:r>
              <a:endParaRPr b="1" lang="en-US" sz="4800" spc="1" strike="noStrike">
                <a:ln w="12600">
                  <a:solidFill>
                    <a:srgbClr val="339966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黑体"/>
                <a:ea typeface="黑体"/>
              </a:endParaRPr>
            </a:p>
          </p:txBody>
        </p:sp>
      </p:grpSp>
    </p:spTree>
  </p:cSld>
  <p:transition spd="med">
    <p:blinds dir="vert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背景１"/>
          <p:cNvPicPr/>
          <p:nvPr/>
        </p:nvPicPr>
        <p:blipFill>
          <a:blip r:embed="rId1"/>
          <a:stretch/>
        </p:blipFill>
        <p:spPr>
          <a:xfrm>
            <a:off x="0" y="0"/>
            <a:ext cx="9144000" cy="52005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3"/>
          <p:cNvSpPr/>
          <p:nvPr/>
        </p:nvSpPr>
        <p:spPr>
          <a:xfrm>
            <a:off x="1143000" y="4572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933c6"/>
                </a:solidFill>
                <a:latin typeface="Times New Roman"/>
                <a:ea typeface="华文隶书"/>
              </a:rPr>
              <a:t>拓展延伸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990720" y="114300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请找出下面这则新闻的标题、导语和主体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789120" y="1771560"/>
            <a:ext cx="8354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  <a:ea typeface="宋体"/>
              </a:rPr>
              <a:t>温家宝强调加强应急管理工作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0700a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  <a:ea typeface="宋体"/>
              </a:rPr>
              <a:t>国务院于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  <a:ea typeface="宋体"/>
              </a:rPr>
              <a:t>7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  <a:ea typeface="宋体"/>
              </a:rPr>
              <a:t>月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  <a:ea typeface="宋体"/>
              </a:rPr>
              <a:t>23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  <a:ea typeface="宋体"/>
              </a:rPr>
              <a:t>日在京召开全国应急管理工作会议。中共中央政治局常委、国务院总理温家宝强调，加强全国应急体系建设和应急管理工作，必须做好健全组织体系、运行机制、保障制度等工作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457200" y="17715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450d"/>
                </a:solidFill>
                <a:latin typeface="Times New Roman"/>
                <a:ea typeface="宋体"/>
              </a:rPr>
              <a:t>标题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04920" y="36576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450d"/>
                </a:solidFill>
                <a:latin typeface="Times New Roman"/>
                <a:ea typeface="宋体"/>
              </a:rPr>
              <a:t>导语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079640" y="37148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国务院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在京召开全国应急管理工作会议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324000" y="4245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450d"/>
                </a:solidFill>
                <a:latin typeface="Times New Roman"/>
                <a:ea typeface="宋体"/>
              </a:rPr>
              <a:t>主体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32000" y="4292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中共中央政治局常委、国务院总理温家宝强调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保障制度等工作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背景１"/>
          <p:cNvPicPr/>
          <p:nvPr/>
        </p:nvPicPr>
        <p:blipFill>
          <a:blip r:embed="rId1"/>
          <a:stretch/>
        </p:blipFill>
        <p:spPr>
          <a:xfrm>
            <a:off x="0" y="0"/>
            <a:ext cx="9144000" cy="47307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3"/>
          <p:cNvSpPr/>
          <p:nvPr/>
        </p:nvSpPr>
        <p:spPr>
          <a:xfrm>
            <a:off x="685800" y="114480"/>
            <a:ext cx="44956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方正彩云简体"/>
              </a:rPr>
              <a:t>写一则新闻：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533520" y="1257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f497d"/>
                </a:solidFill>
                <a:latin typeface="Times New Roman"/>
                <a:ea typeface="方正魏碑简体"/>
              </a:rPr>
              <a:t>报道学校或班上某人、某事或某项活动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52480" y="2228760"/>
            <a:ext cx="6400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219320" y="2114640"/>
            <a:ext cx="6400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方正楷体简体"/>
                <a:ea typeface="方正楷体简体"/>
              </a:rPr>
              <a:t>拟出恰当的标题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方正楷体简体"/>
                <a:ea typeface="方正楷体简体"/>
              </a:rPr>
              <a:t>注意导语的概括性和准确性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方正楷体简体"/>
                <a:ea typeface="方正楷体简体"/>
              </a:rPr>
              <a:t>要简明，</a:t>
            </a:r>
            <a:r>
              <a:rPr b="0" lang="zh-CN" sz="3600" spc="-1" strike="noStrike">
                <a:solidFill>
                  <a:srgbClr val="990000"/>
                </a:solidFill>
                <a:latin typeface="方正楷体简体"/>
                <a:ea typeface="方正楷体简体"/>
              </a:rPr>
              <a:t>200</a:t>
            </a:r>
            <a:r>
              <a:rPr b="0" lang="zh-CN" sz="3600" spc="-1" strike="noStrike">
                <a:solidFill>
                  <a:srgbClr val="990000"/>
                </a:solidFill>
                <a:latin typeface="方正楷体简体"/>
                <a:ea typeface="方正楷体简体"/>
              </a:rPr>
              <a:t>字左右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6" name="Line 7"/>
          <p:cNvSpPr/>
          <p:nvPr/>
        </p:nvSpPr>
        <p:spPr>
          <a:xfrm>
            <a:off x="838080" y="800280"/>
            <a:ext cx="297180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7" name="Line 8"/>
          <p:cNvSpPr/>
          <p:nvPr/>
        </p:nvSpPr>
        <p:spPr>
          <a:xfrm>
            <a:off x="838080" y="743040"/>
            <a:ext cx="297180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308" name="Picture 9" descr="6"/>
          <p:cNvPicPr/>
          <p:nvPr/>
        </p:nvPicPr>
        <p:blipFill>
          <a:blip r:embed="rId2"/>
          <a:stretch/>
        </p:blipFill>
        <p:spPr>
          <a:xfrm>
            <a:off x="685800" y="3429000"/>
            <a:ext cx="571680" cy="3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6"/>
          <p:cNvPicPr/>
          <p:nvPr/>
        </p:nvPicPr>
        <p:blipFill>
          <a:blip r:embed="rId3"/>
          <a:stretch/>
        </p:blipFill>
        <p:spPr>
          <a:xfrm>
            <a:off x="685800" y="2857680"/>
            <a:ext cx="571680" cy="3427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1" descr="6"/>
          <p:cNvPicPr/>
          <p:nvPr/>
        </p:nvPicPr>
        <p:blipFill>
          <a:blip r:embed="rId4"/>
          <a:stretch/>
        </p:blipFill>
        <p:spPr>
          <a:xfrm>
            <a:off x="685800" y="2228760"/>
            <a:ext cx="571680" cy="343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2" descr="book4"/>
          <p:cNvPicPr/>
          <p:nvPr/>
        </p:nvPicPr>
        <p:blipFill>
          <a:blip r:embed="rId5"/>
          <a:stretch/>
        </p:blipFill>
        <p:spPr>
          <a:xfrm>
            <a:off x="7162920" y="3657600"/>
            <a:ext cx="1295280" cy="971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0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8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人民解放军占领南京1"/>
          <p:cNvPicPr/>
          <p:nvPr/>
        </p:nvPicPr>
        <p:blipFill>
          <a:blip r:embed="rId1"/>
          <a:stretch/>
        </p:blipFill>
        <p:spPr>
          <a:xfrm>
            <a:off x="395280" y="2085840"/>
            <a:ext cx="6121440" cy="2806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7380360" y="195120"/>
            <a:ext cx="898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12bba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e12bba"/>
                </a:solidFill>
                <a:latin typeface="Times New Roman"/>
                <a:ea typeface="宋体"/>
              </a:rPr>
              <a:t>人民解放军占领南京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1" name="Picture 4" descr="占领南京"/>
          <p:cNvPicPr/>
          <p:nvPr/>
        </p:nvPicPr>
        <p:blipFill>
          <a:blip r:embed="rId2"/>
          <a:stretch/>
        </p:blipFill>
        <p:spPr>
          <a:xfrm>
            <a:off x="468360" y="357120"/>
            <a:ext cx="6048360" cy="147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90_2"/>
          <p:cNvPicPr/>
          <p:nvPr/>
        </p:nvPicPr>
        <p:blipFill>
          <a:blip r:embed="rId1"/>
          <a:stretch/>
        </p:blipFill>
        <p:spPr>
          <a:xfrm>
            <a:off x="0" y="952560"/>
            <a:ext cx="4427640" cy="1888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190_3"/>
          <p:cNvPicPr/>
          <p:nvPr/>
        </p:nvPicPr>
        <p:blipFill>
          <a:blip r:embed="rId2"/>
          <a:stretch/>
        </p:blipFill>
        <p:spPr>
          <a:xfrm>
            <a:off x="0" y="2921040"/>
            <a:ext cx="4500720" cy="2222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190_4"/>
          <p:cNvPicPr/>
          <p:nvPr/>
        </p:nvPicPr>
        <p:blipFill>
          <a:blip r:embed="rId3"/>
          <a:stretch/>
        </p:blipFill>
        <p:spPr>
          <a:xfrm>
            <a:off x="4572000" y="2955960"/>
            <a:ext cx="4572000" cy="2158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190_5"/>
          <p:cNvPicPr/>
          <p:nvPr/>
        </p:nvPicPr>
        <p:blipFill>
          <a:blip r:embed="rId4"/>
          <a:stretch/>
        </p:blipFill>
        <p:spPr>
          <a:xfrm>
            <a:off x="4572000" y="952560"/>
            <a:ext cx="4572000" cy="1920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670760" y="1951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看图描述战争场面：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FR_056"/>
          <p:cNvPicPr/>
          <p:nvPr/>
        </p:nvPicPr>
        <p:blipFill>
          <a:blip r:embed="rId1"/>
          <a:stretch/>
        </p:blipFill>
        <p:spPr>
          <a:xfrm>
            <a:off x="0" y="0"/>
            <a:ext cx="10152000" cy="5562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1187280" y="1006560"/>
            <a:ext cx="68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请给下面红色的字标上正确的读音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476360" y="51912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42818"/>
                </a:solidFill>
                <a:latin typeface="Times New Roman"/>
                <a:ea typeface="华文隶书"/>
              </a:rPr>
              <a:t>检查预习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332000" y="14922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阻</a:t>
            </a:r>
            <a:r>
              <a:rPr b="1" lang="zh-CN" sz="2800" spc="-1" strike="noStrike">
                <a:solidFill>
                  <a:srgbClr val="f42818"/>
                </a:solidFill>
                <a:latin typeface="Times New Roman"/>
                <a:ea typeface="宋体"/>
              </a:rPr>
              <a:t>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 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356000" y="143820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芜</a:t>
            </a:r>
            <a:r>
              <a:rPr b="1" lang="zh-CN" sz="2800" spc="-1" strike="noStrike">
                <a:solidFill>
                  <a:srgbClr val="f42818"/>
                </a:solidFill>
                <a:latin typeface="Times New Roman"/>
                <a:ea typeface="宋体"/>
              </a:rPr>
              <a:t>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 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332000" y="19782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2818"/>
                </a:solidFill>
                <a:latin typeface="Times New Roman"/>
                <a:ea typeface="宋体"/>
              </a:rPr>
              <a:t>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港（          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4356000" y="192420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2818"/>
                </a:solidFill>
                <a:latin typeface="Times New Roman"/>
                <a:ea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退（            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403280" y="25178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2818"/>
                </a:solidFill>
                <a:latin typeface="Times New Roman"/>
                <a:ea typeface="宋体"/>
              </a:rPr>
              <a:t>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灭（           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 flipV="1" rot="10756800">
            <a:off x="4355280" y="23882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2818"/>
                </a:solidFill>
                <a:latin typeface="Times New Roman"/>
                <a:ea typeface="宋体"/>
              </a:rPr>
              <a:t>绥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  ）（             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1403280" y="30574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2818"/>
                </a:solidFill>
                <a:latin typeface="Times New Roman"/>
                <a:ea typeface="宋体"/>
              </a:rPr>
              <a:t>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宝（          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4356000" y="3057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负</a:t>
            </a:r>
            <a:r>
              <a:rPr b="1" lang="zh-CN" sz="2800" spc="-1" strike="noStrike">
                <a:solidFill>
                  <a:srgbClr val="f42818"/>
                </a:solidFill>
                <a:latin typeface="Times New Roman"/>
                <a:ea typeface="宋体"/>
              </a:rPr>
              <a:t>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顽抗（          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1403280" y="36511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屋建</a:t>
            </a:r>
            <a:r>
              <a:rPr b="1" lang="zh-CN" sz="2800" spc="-1" strike="noStrike">
                <a:solidFill>
                  <a:srgbClr val="f42818"/>
                </a:solidFill>
                <a:latin typeface="Times New Roman"/>
                <a:ea typeface="宋体"/>
              </a:rPr>
              <a:t>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 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4356000" y="35971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势</a:t>
            </a:r>
            <a:r>
              <a:rPr b="1" lang="zh-CN" sz="2800" spc="-1" strike="noStrike">
                <a:solidFill>
                  <a:srgbClr val="f42818"/>
                </a:solidFill>
                <a:latin typeface="Times New Roman"/>
                <a:ea typeface="宋体"/>
              </a:rPr>
              <a:t>磅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   ）（        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2771640" y="14796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Arial"/>
                <a:ea typeface="宋体"/>
              </a:rPr>
              <a:t>è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5653080" y="13842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w</a:t>
            </a:r>
            <a:r>
              <a:rPr b="1" lang="en-US" sz="1800" spc="-1" strike="noStrike">
                <a:solidFill>
                  <a:srgbClr val="2f20ec"/>
                </a:solidFill>
                <a:latin typeface="Arial"/>
                <a:ea typeface="宋体"/>
              </a:rPr>
              <a:t>ù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2771640" y="19782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d</a:t>
            </a:r>
            <a:r>
              <a:rPr b="1" lang="en-US" sz="2800" spc="-1" strike="noStrike">
                <a:solidFill>
                  <a:srgbClr val="2f20ec"/>
                </a:solidFill>
                <a:latin typeface="Arial"/>
                <a:ea typeface="宋体"/>
              </a:rPr>
              <a:t>í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5651640" y="18702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kuī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2627280" y="246384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jīan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5651640" y="24638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su</a:t>
            </a:r>
            <a:r>
              <a:rPr b="1" lang="en-US" sz="2800" spc="-1" strike="noStrike">
                <a:solidFill>
                  <a:srgbClr val="2f20ec"/>
                </a:solidFill>
                <a:latin typeface="Arial"/>
                <a:ea typeface="宋体"/>
              </a:rPr>
              <a:t>ì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7380360" y="24638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j</a:t>
            </a:r>
            <a:r>
              <a:rPr b="1" lang="en-US" sz="2800" spc="-1" strike="noStrike">
                <a:solidFill>
                  <a:srgbClr val="2f20ec"/>
                </a:solidFill>
                <a:latin typeface="Arial"/>
                <a:ea typeface="宋体"/>
              </a:rPr>
              <a:t>ì</a:t>
            </a:r>
            <a:r>
              <a:rPr b="1" lang="en-US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ng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2627280" y="30034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guī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6443640" y="30034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y</a:t>
            </a:r>
            <a:r>
              <a:rPr b="1" lang="en-US" sz="2800" spc="-1" strike="noStrike">
                <a:solidFill>
                  <a:srgbClr val="2f20ec"/>
                </a:solidFill>
                <a:latin typeface="Arial"/>
                <a:ea typeface="宋体"/>
              </a:rPr>
              <a:t>ù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3276720" y="35971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2f20ec"/>
                </a:solidFill>
                <a:latin typeface="Arial"/>
                <a:ea typeface="宋体"/>
              </a:rPr>
              <a:t>í</a:t>
            </a:r>
            <a:r>
              <a:rPr b="1" lang="en-US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ng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6300720" y="3543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p</a:t>
            </a:r>
            <a:r>
              <a:rPr b="1" lang="en-US" sz="2800" spc="-1" strike="noStrike">
                <a:solidFill>
                  <a:srgbClr val="2f20ec"/>
                </a:solidFill>
                <a:latin typeface="Arial"/>
                <a:ea typeface="宋体"/>
              </a:rPr>
              <a:t>á</a:t>
            </a:r>
            <a:r>
              <a:rPr b="1" lang="en-US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ng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8028000" y="358632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b</a:t>
            </a:r>
            <a:r>
              <a:rPr b="1" lang="en-US" sz="2800" spc="-1" strike="noStrike">
                <a:solidFill>
                  <a:srgbClr val="2f20ec"/>
                </a:solidFill>
                <a:latin typeface="Arial"/>
                <a:ea typeface="宋体"/>
              </a:rPr>
              <a:t>ó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FR_056"/>
          <p:cNvPicPr/>
          <p:nvPr/>
        </p:nvPicPr>
        <p:blipFill>
          <a:blip r:embed="rId1"/>
          <a:stretch/>
        </p:blipFill>
        <p:spPr>
          <a:xfrm>
            <a:off x="0" y="0"/>
            <a:ext cx="10152000" cy="5562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1979640" y="73656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请解析下面的词语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619280" y="1276200"/>
            <a:ext cx="1727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屋建瓴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负隅顽抗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势磅礴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阻遏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溃退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悍然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348000" y="125244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20ec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  <a:ea typeface="宋体"/>
              </a:rPr>
              <a:t>形容居高临下，无法阻挡的有利形势。</a:t>
            </a:r>
            <a:r>
              <a:rPr b="1" lang="zh-CN" sz="2400" spc="-1" strike="noStrike">
                <a:solidFill>
                  <a:srgbClr val="2f20ec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  <a:ea typeface="宋体"/>
              </a:rPr>
              <a:t>瓴</a:t>
            </a:r>
            <a:r>
              <a:rPr b="1" lang="zh-CN" sz="2400" spc="-1" strike="noStrike">
                <a:solidFill>
                  <a:srgbClr val="2f20ec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  <a:ea typeface="宋体"/>
              </a:rPr>
              <a:t>，古代一种盛水的瓶子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419640" y="181620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20ec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  <a:ea typeface="宋体"/>
              </a:rPr>
              <a:t>垂死挣扎，顽固抵抗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419640" y="219384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20ec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  <a:ea typeface="宋体"/>
              </a:rPr>
              <a:t>形容气势雄伟壮大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2627280" y="27338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20ec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  <a:ea typeface="宋体"/>
              </a:rPr>
              <a:t>阻止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2700360" y="32194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20ec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  <a:ea typeface="宋体"/>
              </a:rPr>
              <a:t>败退。</a:t>
            </a:r>
            <a:r>
              <a:rPr b="1" lang="zh-CN" sz="2400" spc="-1" strike="noStrike">
                <a:solidFill>
                  <a:srgbClr val="2f20ec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  <a:ea typeface="宋体"/>
              </a:rPr>
              <a:t>溃</a:t>
            </a:r>
            <a:r>
              <a:rPr b="1" lang="zh-CN" sz="2400" spc="-1" strike="noStrike">
                <a:solidFill>
                  <a:srgbClr val="2f20ec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  <a:ea typeface="宋体"/>
              </a:rPr>
              <a:t>，溃败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2700360" y="37591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20ec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  <a:ea typeface="宋体"/>
              </a:rPr>
              <a:t>蛮横的样子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背景１"/>
          <p:cNvPicPr/>
          <p:nvPr/>
        </p:nvPicPr>
        <p:blipFill>
          <a:blip r:embed="rId1"/>
          <a:stretch/>
        </p:blipFill>
        <p:spPr>
          <a:xfrm>
            <a:off x="0" y="0"/>
            <a:ext cx="9144000" cy="52005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334440"/>
            <a:ext cx="30654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66"/>
                </a:solidFill>
                <a:latin typeface="Calibri"/>
              </a:rPr>
              <a:t>整体感知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79040" y="1390320"/>
            <a:ext cx="750420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zh-CN" sz="5400" spc="-1" strike="noStrike">
                <a:solidFill>
                  <a:srgbClr val="c0504d"/>
                </a:solidFill>
                <a:latin typeface="Calibri"/>
              </a:rPr>
              <a:t>读了这篇新闻报道，</a:t>
            </a:r>
            <a:r>
              <a:rPr b="0" lang="zh-CN" sz="5400" spc="-1" strike="noStrike">
                <a:solidFill>
                  <a:srgbClr val="ff0000"/>
                </a:solidFill>
                <a:latin typeface="Calibri"/>
              </a:rPr>
              <a:t>你有什么发现？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gifmb039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1066680" y="2286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700a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20700a"/>
                </a:solidFill>
                <a:latin typeface="Times New Roman"/>
                <a:ea typeface="宋体"/>
              </a:rPr>
              <a:t>、新闻的记叙要素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143000" y="2629080"/>
            <a:ext cx="280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物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间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点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件的起因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件的经过和结果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619280" y="35568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Times New Roman"/>
                <a:ea typeface="宋体"/>
              </a:rPr>
              <a:t>新闻的有关知识：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990720" y="102888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700a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20700a"/>
                </a:solidFill>
                <a:latin typeface="Times New Roman"/>
                <a:ea typeface="宋体"/>
              </a:rPr>
              <a:t>、广义新闻泛指消息、通讯、报告文学等；狭义新闻，专指消息。消息，是报纸常用的一种文章样式。《人民解放军百万大军横渡长江》是狭义新闻，即消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438280" y="262908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450d"/>
                </a:solidFill>
                <a:latin typeface="Times New Roman"/>
                <a:ea typeface="宋体"/>
              </a:rPr>
              <a:t>人民解放军百万大军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286000" y="291456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450d"/>
                </a:solidFill>
                <a:latin typeface="Times New Roman"/>
                <a:ea typeface="宋体"/>
              </a:rPr>
              <a:t>1949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  <a:ea typeface="宋体"/>
              </a:rPr>
              <a:t>年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  <a:ea typeface="宋体"/>
              </a:rPr>
              <a:t>月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  <a:ea typeface="宋体"/>
              </a:rPr>
              <a:t>日夜起止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  <a:ea typeface="宋体"/>
              </a:rPr>
              <a:t>月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  <a:ea typeface="宋体"/>
              </a:rPr>
              <a:t>22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  <a:ea typeface="宋体"/>
              </a:rPr>
              <a:t>日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  <a:ea typeface="宋体"/>
              </a:rPr>
              <a:t>22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  <a:ea typeface="宋体"/>
              </a:rPr>
              <a:t>时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2362320" y="3200400"/>
            <a:ext cx="63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450d"/>
                </a:solidFill>
                <a:latin typeface="Times New Roman"/>
                <a:ea typeface="宋体"/>
              </a:rPr>
              <a:t>西起九江（不含）东至江阴一千余华里战场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971800" y="34862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450d"/>
                </a:solidFill>
                <a:latin typeface="Times New Roman"/>
                <a:ea typeface="宋体"/>
              </a:rPr>
              <a:t>反动派拒签和平协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1219320" y="377208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450d"/>
                </a:solidFill>
                <a:latin typeface="Times New Roman"/>
                <a:ea typeface="宋体"/>
              </a:rPr>
              <a:t>                                         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  <a:ea typeface="宋体"/>
              </a:rPr>
              <a:t>中路军首先突破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  <a:ea typeface="宋体"/>
              </a:rPr>
              <a:t>30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  <a:ea typeface="宋体"/>
              </a:rPr>
              <a:t>万人全渡过，西路军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  <a:ea typeface="宋体"/>
              </a:rPr>
              <a:t>35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  <a:ea typeface="宋体"/>
              </a:rPr>
              <a:t>万已渡三分之二 ，东路军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  <a:ea typeface="宋体"/>
              </a:rPr>
              <a:t>35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  <a:ea typeface="宋体"/>
              </a:rPr>
              <a:t>万大部渡过，占领、控制广大南岸阵地及要塞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gifmb039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990720" y="628560"/>
            <a:ext cx="33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700a"/>
                </a:solidFill>
                <a:latin typeface="Times New Roman"/>
                <a:ea typeface="宋体"/>
              </a:rPr>
              <a:t>新闻的结构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838080" y="1371600"/>
            <a:ext cx="136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标题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导语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体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语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背景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600200" y="1314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700a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  <a:ea typeface="宋体"/>
              </a:rPr>
              <a:t>高度概括事件（迅速了解新闻主要内容，要看标题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371600" y="1886040"/>
            <a:ext cx="69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700a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  <a:ea typeface="宋体"/>
              </a:rPr>
              <a:t>简洁明了的叙述事件。一般指</a:t>
            </a:r>
            <a:r>
              <a:rPr b="1" lang="zh-CN" sz="2400" spc="-1" strike="noStrike">
                <a:solidFill>
                  <a:srgbClr val="2f20ec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  <a:ea typeface="宋体"/>
              </a:rPr>
              <a:t>电头</a:t>
            </a:r>
            <a:r>
              <a:rPr b="1" lang="zh-CN" sz="2400" spc="-1" strike="noStrike">
                <a:solidFill>
                  <a:srgbClr val="2f20ec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  <a:ea typeface="宋体"/>
              </a:rPr>
              <a:t>后的第一句话或第一段。（较详细了解新闻内容，要看导语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1447920" y="2457360"/>
            <a:ext cx="7235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0700a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  <a:ea typeface="宋体"/>
              </a:rPr>
              <a:t>导语后集中叙述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  <a:ea typeface="宋体"/>
              </a:rPr>
              <a:t>事件、阐发问题和表明观点的中心部分。（详细地的了解新闻内容，要看主体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523880" y="365760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14bc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  <a:ea typeface="宋体"/>
              </a:rPr>
              <a:t>是事物的历史状况或存在的环境、条件，是从属部分，一般插在主体中，也可插在</a:t>
            </a:r>
            <a:r>
              <a:rPr b="1" lang="zh-CN" sz="2400" spc="-1" strike="noStrike">
                <a:solidFill>
                  <a:srgbClr val="2f20ec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  <a:ea typeface="宋体"/>
              </a:rPr>
              <a:t>导语</a:t>
            </a:r>
            <a:r>
              <a:rPr b="1" lang="zh-CN" sz="2400" spc="-1" strike="noStrike">
                <a:solidFill>
                  <a:srgbClr val="2f20ec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  <a:ea typeface="宋体"/>
              </a:rPr>
              <a:t>或</a:t>
            </a:r>
            <a:r>
              <a:rPr b="1" lang="zh-CN" sz="2400" spc="-1" strike="noStrike">
                <a:solidFill>
                  <a:srgbClr val="2f20ec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  <a:ea typeface="宋体"/>
              </a:rPr>
              <a:t>结语</a:t>
            </a:r>
            <a:r>
              <a:rPr b="1" lang="zh-CN" sz="2400" spc="-1" strike="noStrike">
                <a:solidFill>
                  <a:srgbClr val="2f20ec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  <a:ea typeface="宋体"/>
              </a:rPr>
              <a:t>中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676520" y="3086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20ec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  <a:ea typeface="宋体"/>
              </a:rPr>
              <a:t>是新闻的结尾，一般指新闻的最后一句或一段。（依内容的需要，可有可无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BC</cp:lastModifiedBy>
  <dcterms:modified xsi:type="dcterms:W3CDTF">2015-12-23T06:12:48Z</dcterms:modified>
  <cp:revision>1</cp:revision>
  <dc:subject/>
  <dc:title>PowerPoint 演示文稿</dc:title>
</cp:coreProperties>
</file>