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3.gif" ContentType="image/gif"/>
  <Override PartName="/ppt/media/image8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12.gif" ContentType="image/gif"/>
  <Override PartName="/ppt/media/image30.gif" ContentType="image/gif"/>
  <Override PartName="/ppt/media/image28.gif" ContentType="image/gif"/>
  <Override PartName="/ppt/media/image4.jpeg" ContentType="image/jpeg"/>
  <Override PartName="/ppt/media/image22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10.jpeg" ContentType="image/jpeg"/>
  <Override PartName="/ppt/media/image21.gif" ContentType="image/gif"/>
  <Override PartName="/ppt/media/image14.gif" ContentType="image/gif"/>
  <Override PartName="/ppt/media/image16.gif" ContentType="image/gif"/>
  <Override PartName="/ppt/media/image17.gif" ContentType="image/gif"/>
  <Override PartName="/ppt/media/image20.gif" ContentType="image/gif"/>
  <Override PartName="/ppt/media/image23.gif" ContentType="image/gif"/>
  <Override PartName="/ppt/media/image24.gif" ContentType="image/gif"/>
  <Override PartName="/ppt/media/image26.gif" ContentType="image/gif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DC0-5FC4-487C-8C20-211D1841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D22-60A2-4B17-B193-76C506A8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DE6BB-046D-4E47-B3F2-319D7646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7638-2DAC-46F3-85E9-7624A83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7933-DE40-4EC1-A62C-CC61083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4DCC-C1AB-49BD-AA4B-3C1F893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1A9C1-0F74-4533-A596-45BBF6E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F7151-586C-4A4F-A846-165DA66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CBD32-9B66-486F-AA38-C915369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43CF-8AEC-4DC0-AD71-48A1553B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DC626-F704-4C87-8098-FD48D15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9C86C-6AF2-4575-B5BE-B9CA396F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4B1-6D49-4E9D-9937-3705E6B6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A729B-9FD8-4B7E-997E-116F35D8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BE566-FFA9-4C21-96A8-6D7161E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DDFCC-3879-4717-9A16-2BA030C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9FB5-FCD7-4DA1-B734-719DC0C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53E75-3720-41BE-B459-402CC76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543C3-8E13-4FC0-AE2F-1DE173A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20007-2AE7-4BA3-8E7D-D0E00B7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D40D0-67AB-41AB-8ADB-55018B5A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EFFC-A8CA-4446-A3FD-B6B170F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5A7B3-331F-4732-AED0-598CCFB0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D86-D03F-405E-BA0A-BA864B09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C7325-E908-4316-A9CB-1303B39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1996-AED8-43CC-8380-A7C0E9A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AF3AB-FAB6-433E-81BA-2447C45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ABA8F-CC1F-4BE0-8C4D-250E5FB1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6050-842F-4EE8-9CE0-BD6D3022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01400-3530-4A7F-8076-F50200B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6283-D07B-4192-A9B1-C390445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EC843-074D-48E7-9406-1B3C0E6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F0E6E-A8B6-4FA7-9885-6BF25B7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B6A4-F93F-4706-A9AB-A4A71B6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82ED-02B6-4D28-A53D-17D72FB3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537A7-ECBC-4A78-BF62-0BBEC90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8B392-B04D-4BDB-A4AB-8AD943A6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C6C56-6A25-4661-8099-E00779E2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86F89-4ADB-434B-A102-27D7A054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9AC14-239D-41D8-A63A-476E3344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E7BC5-ACE7-4647-A279-50CFACD8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7CE7A-0FEC-413C-9C5F-379ACE2E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64AA2-887E-4791-92DD-65C8122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18922-E56F-4AD8-AC34-67DDE82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92BDE-C524-410F-8BBD-5764835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32D0-6C0B-4044-BAF7-D16ED6E6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B599-9369-4292-B17A-1042550A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93879-DB5D-44D8-942A-BEF8E53B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205FB-9E7A-4B56-A887-67D8049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0EB8-64E1-4CC2-BBB2-B14ABCBD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D385F-53DB-454E-A507-CA28DBCB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6A1D0-280B-4522-8547-5B7573EC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2D57A-DF2D-486F-9DAB-A3EA2825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DE869-085E-40AB-B39E-0292B104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00068-EF47-43FA-AC66-3D7ACD0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19315-F7B6-4588-B5C7-1D07E1A5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82B2-48FE-4D42-8573-6A4F4D31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167AA-EE4D-40CD-AAD7-742DE09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59EE3-83E1-4908-BE5D-65BECDE3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6B4AE-EC98-4C21-A709-0F5C562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B8D33-F9CE-4F2F-A02E-5AFC345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2AFE3-B031-47D3-A23F-5F5B267E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AF2D7-54EB-41BA-B5B4-747482BB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9615F-CE59-406B-80C7-442EA4B1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8696C-7825-4815-B8CF-E5A83BDE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D002E-F98F-41CC-9047-9A6D0C5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D1CB8-3A9C-49F6-B690-5050484A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1DE-3706-45CF-AA4E-C4314C92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A78E9-2D92-4F99-94E9-0B3A25BD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FF17A-361C-4597-B991-771AAE8C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E1B9E-6117-4FE6-AAA5-5AD16760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83211-197E-42C6-BE53-B04876B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FA892-A2A7-40E8-A6B1-503DE8B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C1161-249E-40D7-AE61-BDD4FDB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9562F-32DF-4A15-8C90-C0FA4B0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30CBB-1B54-43C8-8DE2-5ABCC8EA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886B3-C57A-4C00-BB90-530E30D3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67328-74D0-43CF-B903-76C98A65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004F-86AD-4C20-8BA2-B393D2EF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24B15-7AC4-410D-BFAD-A806F66A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5B1FF-DB8E-432C-886C-D8813887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0CFD4-F105-496A-8BA4-998F6C8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E7AB7-83DC-40DD-8EAB-78DB1B0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C3567-6E52-4187-A4A9-6C39354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61807-8CE4-4A8C-89E2-00AD3472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2814B-42E4-4842-9AC8-79F1C71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34A3F-915A-4E53-84F7-ADECC6C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AB9CB-C751-4B04-87EB-DC71F88E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26D0D-C1FC-45C9-9D21-4850476E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8C23-4214-46AF-8E6D-F54849A0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D47C3-55D1-4FF1-8E6A-AEEB7981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5D1AD-17EB-473B-9BC8-4A25B9F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8D965-32F4-4F3A-9AB7-CCBF466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5E09E-F766-4E33-80E7-5B661485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E3677-3DE7-475D-8B5F-49D1E18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356DF-0CCB-4ACC-8379-A81733E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2D00E-3FA3-4FD6-B0BF-14ACD76C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509EC-AC2A-4940-BC03-741C94E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6C93A-37E0-47C0-804C-38C78BF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AF8CE-3AAE-4C3A-AC3C-71F02A7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75F8-B372-48A1-A586-9B6249F7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F2BF6-0ECF-42ED-BA66-153F6348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4030C-ED94-4709-8480-91D10096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96989-7F2B-4C69-B176-6A68837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C70F6-5899-43D7-848B-C4633344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37D60-73E7-40E5-8E9F-40BD64CB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262C5-62C8-4C3D-9F95-1E60ABC0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9B951-32B3-4737-8F60-C44F65C0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42A24-8437-4EB7-92DA-B380581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97D38-1F0E-4585-97DB-D4EF4DD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13F0E-E6A1-4C00-B5EB-DA4B700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525-FE38-45ED-9FAE-0ED32EC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F697-8210-4341-94B2-F37FC90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0D3C4-FBC7-4260-8A6E-D750364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955CA-FC8C-4F3C-B243-80234FE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4217D-06E9-4DED-881D-5DA947B7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B407C-CC98-48EA-8880-AB6D00FA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D46AA-9EE8-474A-A584-9C4AE04C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15119-0A4B-4222-B2E6-9684F8A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DA873-E3D3-437D-8F6D-D49E8D03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7BA6A-42C9-44A5-8107-7139C0A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A3B57-0E4B-4E33-8E53-41768DF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CDA87-4E84-4AEB-AC0A-9E12A3D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F0C9-5A57-4A8D-A7BE-9E4BBEDA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B47D2-5252-4427-A484-B8CADB43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00C66-3495-4949-B611-A1C35AD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15711-2D64-44FB-9083-13C2B50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F7AD0-3847-426F-B9C9-9E26BF5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FC784-7255-461D-B7DC-C4DC4C7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F7844-560F-4444-A6F7-A63DF050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C2984-983F-41E1-BCA4-CA5484D8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AEDF8-3A18-4D07-884F-03ACE053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16951-4068-492B-86C2-6C35F4C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28BD5-E756-4562-9F1A-3199D4C9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4CA-1E59-4696-8B89-39D170F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86B9F-1CDE-43B1-BEEE-DDEAA7DE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EB52BC-DD1A-4717-AFC8-58830D49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859EC-7EF8-44AD-9CAB-B64C077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DC9F4-A7F1-4857-966F-AC62CEC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9729C-4AC7-4982-96B8-0BD246D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A23E5-EB66-4A79-A1F4-D7339EBA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E4485-4F83-4EB8-B23C-72C068C3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10055-F68D-4617-B2A1-0F397F2E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35A0B-989E-4838-921B-77905E1B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F5F8-D8B5-47B3-963D-8B2AB801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2E32-66A5-44D4-B6F9-17EC4E5D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EEF0-4306-42DB-ADEA-54429F1D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905C-EE37-4A1F-853B-97E8C00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0109-3958-49CC-B7B8-B8F6B97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7423-AAD5-4C1D-95E5-7308061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5309-1FAA-4922-A576-7E66405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A6F-7E95-4F49-81C5-0836ACC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30EA-99EE-480B-8BEC-E6F2011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50CB-16A8-4447-BD87-2EA8CB2E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D500-AEA7-4A23-BE96-0342252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2EB0-5FA8-4623-9D19-E8046CFF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D5C4-DA17-493F-AC21-7303A6AE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565A-E089-41BD-A0A5-B42F7113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A406-7778-4225-B868-65575D5B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E947-0AB1-4EA4-944B-DAC15B7F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F6C4-2EE6-45D3-AC49-8E4C8F4E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0777-33DE-4A7F-9278-DB3898C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75B-577D-44BD-8B2B-458BE01E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20C6-6BE4-4F84-B6A0-606C6425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2295-7EF5-46BF-86C0-008E4D6E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824D-1253-47EA-9539-C26EDCD4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872E-100A-43A9-8BE5-0B875BA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4D04-F91C-4226-A64B-E89DA28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08B4-6B95-49DF-8BF4-11D851A0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F136-9C2E-40A1-9D2B-86AC1F90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A08B-ABCC-4974-97B6-FDB0B5E3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1C69-79E9-4CED-893B-9645C54B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2D7A6-A516-4966-A1FE-DD82959E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7F3-4EF5-4045-A8B8-52BAAC35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CEC6-4E3E-43B3-AB11-8E5BD7A1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1D45-21B5-47B0-9F35-DE2D228A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35ED9-A00B-4DB3-A1EB-A7F52796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70335-52E4-4D38-918C-FE59BDFC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6717-515C-40B5-8717-1CB1269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0FC6-957B-4376-82C8-E74B33C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8A74-588F-43FE-A805-F5284A3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553F-7F21-4597-95F2-D8351A34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AF18F-E956-48AF-8521-D709D4BF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B692-A08E-421D-8A46-AF7D6D17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9ED-1D07-48CC-8872-9F611AE2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F249-2FFB-4EA3-BE3A-5A3D009F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638F3-A9C9-441D-94D7-F8D0C9BA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676B-22ED-4B04-9B74-DA4B125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4EDA-ADFE-4D12-AD59-2637A280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7D95-084F-4BFF-AEBF-BB04FCF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64D5-54A7-45BD-9692-C4D9E81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104F-DB54-40FF-AE8A-CBD0D00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1AFAF-B093-4234-9594-541ABF3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0949-94C8-4D14-A499-A7A4C03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39C19-EE41-4F59-83F3-0D7D07B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BB2-EDBA-4643-A181-F2DD58F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7EB7-DEAA-4CB9-9605-3CAE4E42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7484-FEEF-429A-953D-803C8F6B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5BC7-4741-4639-8006-79C6D84E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8582-3A73-43AD-AADF-0F1C22CC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D6391-9234-4B0D-8A8F-C2F2B5D3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E68A-EC4D-411A-990D-835163E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10882-92DD-4909-9E13-0C9D53A8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6CA1-3C70-4BAC-BA51-642E637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640A-9339-4028-B611-E33313A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E082-174A-498B-94CD-BEA08D5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6C4-78F8-4AC9-9854-BC0C0EA9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9973D-8D62-4D39-B857-3341945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8F721-C734-4EC5-A578-EE398EC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2107-B9AE-4E1A-9F16-FC6C62C2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15E0-32DC-4F4D-9637-99708E21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052F-56AF-400E-8F90-81CED689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35FD-4982-4B39-9F72-78CE642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86374-1338-4F3B-B22F-BB04057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A7384-7F21-42F5-8473-A1965975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9D442-D66C-496C-8192-E0381224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39E1-CE4D-44C4-9713-3080071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2D5-A3C2-4529-A530-B863AD1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07F1-87F1-4AF0-A395-BF943D7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F74C-D90A-49C4-8C0E-04F3067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41FD-5D12-45E6-821A-77FB0F48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A590-0FE6-4D6C-B414-10E4EA2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0928E-1E48-42D8-8CCF-F760055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EE6F3-DAA9-47F4-9FB6-69DFA352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FC99-7A50-4690-93B8-E10AC117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B2E88-1820-4E7E-9359-2AF496C9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5550-0076-406F-B144-650B39B6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76EC9-F7AA-4192-9599-A9E37CE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990-9A3D-40F6-A3DF-8909E57C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1026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608" name="Rectangle 1027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28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29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30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31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32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33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34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35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36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37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38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039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40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41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42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43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44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5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46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47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48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49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050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051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052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53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54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55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56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57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58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59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60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61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62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063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64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65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66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67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68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69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70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71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72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73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074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075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76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77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78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79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80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81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82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3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84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085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086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87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088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089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090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91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92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093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094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095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96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097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98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99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100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01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02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03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04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05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06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07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08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09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10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11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12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13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14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15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116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117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18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19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120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21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122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123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24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125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126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127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28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129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130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131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132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133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134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135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136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37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38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139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140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141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42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143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144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145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46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47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48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149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50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51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52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153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54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55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56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57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158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159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160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61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62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63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164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65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66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167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168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169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170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71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172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754" name="Freeform 1173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74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75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76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77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178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79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80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181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82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183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184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185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1186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768" name="Freeform 1187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188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189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190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191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192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193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94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95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96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97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98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99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200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782" name="Freeform 1201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202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203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4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05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06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07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8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09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10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11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12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13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1214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96" name="Freeform 1215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16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17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18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19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20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21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22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223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224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225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226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227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228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810" name="Freeform 1229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30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231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232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33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34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235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236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237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238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39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240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241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1242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824" name="Freeform 1243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244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45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246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47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248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249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50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51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252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253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54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55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256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838" name="Freeform 1257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1258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840" name="Freeform 1259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60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61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2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63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64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265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266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67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68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269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70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271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5E3-2DA9-4108-A4A9-EEE30B34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"/>
          <p:cNvGrpSpPr/>
          <p:nvPr/>
        </p:nvGrpSpPr>
        <p:grpSpPr>
          <a:xfrm>
            <a:off x="2010960" y="244800"/>
            <a:ext cx="6896160" cy="5452560"/>
            <a:chOff x="2010960" y="244800"/>
            <a:chExt cx="6896160" cy="5452560"/>
          </a:xfrm>
        </p:grpSpPr>
        <p:grpSp>
          <p:nvGrpSpPr>
            <p:cNvPr id="895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96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6"/>
            <p:cNvGrpSpPr/>
            <p:nvPr/>
          </p:nvGrpSpPr>
          <p:grpSpPr>
            <a:xfrm>
              <a:off x="2010960" y="244800"/>
              <a:ext cx="6896160" cy="5452560"/>
              <a:chOff x="2010960" y="244800"/>
              <a:chExt cx="6896160" cy="5452560"/>
            </a:xfrm>
          </p:grpSpPr>
          <p:grpSp>
            <p:nvGrpSpPr>
              <p:cNvPr id="899" name="Group 7"/>
              <p:cNvGrpSpPr/>
              <p:nvPr/>
            </p:nvGrpSpPr>
            <p:grpSpPr>
              <a:xfrm>
                <a:off x="2010960" y="244800"/>
                <a:ext cx="6891120" cy="5452560"/>
                <a:chOff x="2010960" y="244800"/>
                <a:chExt cx="6891120" cy="5452560"/>
              </a:xfrm>
            </p:grpSpPr>
            <p:grpSp>
              <p:nvGrpSpPr>
                <p:cNvPr id="900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1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11"/>
                <p:cNvGrpSpPr/>
                <p:nvPr/>
              </p:nvGrpSpPr>
              <p:grpSpPr>
                <a:xfrm>
                  <a:off x="2010960" y="244800"/>
                  <a:ext cx="6891120" cy="5452560"/>
                  <a:chOff x="2010960" y="244800"/>
                  <a:chExt cx="6891120" cy="5452560"/>
                </a:xfrm>
              </p:grpSpPr>
              <p:grpSp>
                <p:nvGrpSpPr>
                  <p:cNvPr id="904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905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08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1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1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17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0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2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Group 33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926" name="Freeform 34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35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2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35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3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0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3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4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6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47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9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2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5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956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Group 66"/>
                  <p:cNvGrpSpPr/>
                  <p:nvPr/>
                </p:nvGrpSpPr>
                <p:grpSpPr>
                  <a:xfrm>
                    <a:off x="4448160" y="244800"/>
                    <a:ext cx="1122120" cy="1947240"/>
                    <a:chOff x="4448160" y="244800"/>
                    <a:chExt cx="1122120" cy="1947240"/>
                  </a:xfrm>
                </p:grpSpPr>
                <p:sp>
                  <p:nvSpPr>
                    <p:cNvPr id="959" name="Freeform 67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68"/>
                    <p:cNvSpPr/>
                    <p:nvPr/>
                  </p:nvSpPr>
                  <p:spPr>
                    <a:xfrm flipH="1" rot="4126800">
                      <a:off x="4417920" y="439200"/>
                      <a:ext cx="7030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4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65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7" name="Freeform 75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9" name="Group 77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970" name="Freeform 78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973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976" name="Freeform 84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Freeform 85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979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Freeform 88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2" name="Freeform 90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Freeform 91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985" name="Freeform 93"/>
                    <p:cNvSpPr/>
                    <p:nvPr/>
                  </p:nvSpPr>
                  <p:spPr>
                    <a:xfrm flipH="1" rot="16870800">
                      <a:off x="408708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988" name="Freeform 96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991" name="Freeform 99"/>
                    <p:cNvSpPr/>
                    <p:nvPr/>
                  </p:nvSpPr>
                  <p:spPr>
                    <a:xfrm rot="3745200">
                      <a:off x="5265000" y="3395880"/>
                      <a:ext cx="203436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Freeform 100"/>
                    <p:cNvSpPr/>
                    <p:nvPr/>
                  </p:nvSpPr>
                  <p:spPr>
                    <a:xfrm rot="3745200">
                      <a:off x="635220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994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Group 104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997" name="Freeform 105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106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Group 107"/>
                  <p:cNvGrpSpPr/>
                  <p:nvPr/>
                </p:nvGrpSpPr>
                <p:grpSpPr>
                  <a:xfrm>
                    <a:off x="4960800" y="2887560"/>
                    <a:ext cx="663480" cy="2717280"/>
                    <a:chOff x="4960800" y="2887560"/>
                    <a:chExt cx="663480" cy="2717280"/>
                  </a:xfrm>
                </p:grpSpPr>
                <p:sp>
                  <p:nvSpPr>
                    <p:cNvPr id="1000" name="Freeform 108"/>
                    <p:cNvSpPr/>
                    <p:nvPr/>
                  </p:nvSpPr>
                  <p:spPr>
                    <a:xfrm rot="5755200">
                      <a:off x="4531680" y="366444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Freeform 109"/>
                    <p:cNvSpPr/>
                    <p:nvPr/>
                  </p:nvSpPr>
                  <p:spPr>
                    <a:xfrm rot="5755200">
                      <a:off x="4715280" y="4931640"/>
                      <a:ext cx="95040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2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03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04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1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2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013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AC80-6C55-45C8-97E4-E3395E1E6B5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1031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032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980-44BE-4471-8B40-7A97337A4A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1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1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Group 18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123" name="Freeform 19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22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127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5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6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A75-DC47-40BD-A3D6-B254A26ADB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1C1-ADC7-436A-9414-051602A9DB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5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25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25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4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4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729-411E-43DA-9D97-4E5DD9601E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CF07-0827-4905-9523-4CAB456004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99D-0900-4A0B-8EFB-7FBC0909C5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91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2CB3-D036-4920-B2AD-1A58BBFBF8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144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145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60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55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5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26B9-2F1C-4857-A354-B5781A32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50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2051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2052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2053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2054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2055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2056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2057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2058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2059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2060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52" name="Group 2061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2062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063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2064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56" name="Group 2065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57" name="Freeform 2066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2067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68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069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070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071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072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073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074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075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076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077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2078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2079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2080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2081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2082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2083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2084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2085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086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78" name="Freeform 2087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2088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2089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2090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2091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2092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2093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2094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2095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2096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2097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2098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2099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2100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2101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2102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2103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2104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2105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2106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2107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2108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2109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2110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2111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2112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2113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2114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115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2116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08" name="Freeform 2117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2118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2119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11" name="Freeform 2120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2121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2122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2123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2124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2125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2126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127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2128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129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2130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22" name="Freeform 2131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2132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2133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25" name="Freeform 2134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135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2136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28" name="Freeform 2137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2138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2139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31" name="Freeform 2140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2141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2142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34" name="Freeform 2143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2144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145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2146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2147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2148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40" name="Freeform 2149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2150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2151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43" name="Freeform 2152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2153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2154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46" name="Freeform 2155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156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2157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2158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2159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2160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2161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2162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2163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2164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2165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2166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2167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2168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2169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2170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2171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172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173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2174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2175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2176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177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78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179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180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181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182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183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2184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3BBF-2FF1-48AE-AC26-208BD3419AE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790-E513-4513-9CAE-C6CAA87519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6A3-119C-46B7-91A5-4F87D32ED2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8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0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299" name="Group 41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30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43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302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5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46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7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48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49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51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909E-CAC8-4B3D-B933-54271089AA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5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689-5F5A-4721-AE50-1AA391FE5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AutoShape 1028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029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AFA-6C8E-4CE3-BDA1-0BE52D1B69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1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1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1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E6F-115A-409F-9979-2612F2BD34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617F-7531-482F-AD8B-C83E651BDA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9,14,&#38405;&#35835;&#35838;&#25991;&#65297;&#65293;&#65303;&#33258;&#28982;&#27573;&#65292;&#24605;&#32771;&#65306;" TargetMode="External"/><Relationship Id="rId2" Type="http://schemas.openxmlformats.org/officeDocument/2006/relationships/hyperlink" Target="273,15,&#38405;&#35835;&#35838;&#25991;13&#65293;19&#27573;&#65292;&#24605;&#32771;&#65306;" TargetMode="External"/><Relationship Id="rId3" Type="http://schemas.openxmlformats.org/officeDocument/2006/relationships/image" Target="../media/image14.gif"/><Relationship Id="rId4" Type="http://schemas.openxmlformats.org/officeDocument/2006/relationships/hyperlink" Target="276,18,&#26500;&#24605;&#31934;&#24039;" TargetMode="External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fsyz.com.cn/xuexiao/feshan/djzc/xjdl/&#27431;&#27954;2_b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ladaily.com.cn/item/SZZRFC/TPJJ/pic-h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Picture 5" descr="bisaxiet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5" name="Text Box 6"/>
          <p:cNvSpPr/>
          <p:nvPr/>
        </p:nvSpPr>
        <p:spPr>
          <a:xfrm>
            <a:off x="1763640" y="6922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66"/>
                </a:solidFill>
                <a:latin typeface="Arial"/>
                <a:ea typeface="隶书"/>
              </a:rPr>
              <a:t>斜塔上的实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读课文，注音，填词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咕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祈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卷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)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经心　心不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闻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一劳永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名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动　兴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烈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私语　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                         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Picture 23" descr="001"/>
          <p:cNvPicPr/>
          <p:nvPr/>
        </p:nvPicPr>
        <p:blipFill>
          <a:blip r:embed="rId1"/>
          <a:stretch/>
        </p:blipFill>
        <p:spPr>
          <a:xfrm>
            <a:off x="6372360" y="836640"/>
            <a:ext cx="476280" cy="57132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4"/>
          <p:cNvSpPr/>
          <p:nvPr/>
        </p:nvSpPr>
        <p:spPr>
          <a:xfrm>
            <a:off x="4361040" y="1700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ídă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6"/>
          <p:cNvSpPr/>
          <p:nvPr/>
        </p:nvSpPr>
        <p:spPr>
          <a:xfrm>
            <a:off x="1481400" y="1714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ūn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7"/>
          <p:cNvSpPr/>
          <p:nvPr/>
        </p:nvSpPr>
        <p:spPr>
          <a:xfrm>
            <a:off x="7173720" y="17208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8"/>
          <p:cNvSpPr/>
          <p:nvPr/>
        </p:nvSpPr>
        <p:spPr>
          <a:xfrm>
            <a:off x="1511640" y="229716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uànz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9"/>
          <p:cNvSpPr/>
          <p:nvPr/>
        </p:nvSpPr>
        <p:spPr>
          <a:xfrm>
            <a:off x="4628880" y="2333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0"/>
          <p:cNvSpPr/>
          <p:nvPr/>
        </p:nvSpPr>
        <p:spPr>
          <a:xfrm>
            <a:off x="7261200" y="2333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1"/>
          <p:cNvSpPr/>
          <p:nvPr/>
        </p:nvSpPr>
        <p:spPr>
          <a:xfrm>
            <a:off x="1378440" y="3352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2"/>
          <p:cNvSpPr/>
          <p:nvPr/>
        </p:nvSpPr>
        <p:spPr>
          <a:xfrm>
            <a:off x="4597200" y="3352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3"/>
          <p:cNvSpPr/>
          <p:nvPr/>
        </p:nvSpPr>
        <p:spPr>
          <a:xfrm>
            <a:off x="549828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默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4"/>
          <p:cNvSpPr/>
          <p:nvPr/>
        </p:nvSpPr>
        <p:spPr>
          <a:xfrm>
            <a:off x="255096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5"/>
          <p:cNvSpPr/>
          <p:nvPr/>
        </p:nvSpPr>
        <p:spPr>
          <a:xfrm>
            <a:off x="549828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赫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6"/>
          <p:cNvSpPr/>
          <p:nvPr/>
        </p:nvSpPr>
        <p:spPr>
          <a:xfrm>
            <a:off x="1776240" y="4495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7"/>
          <p:cNvSpPr/>
          <p:nvPr/>
        </p:nvSpPr>
        <p:spPr>
          <a:xfrm>
            <a:off x="4208040" y="4495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8"/>
          <p:cNvSpPr/>
          <p:nvPr/>
        </p:nvSpPr>
        <p:spPr>
          <a:xfrm>
            <a:off x="5568120" y="449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窃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9"/>
          <p:cNvSpPr/>
          <p:nvPr/>
        </p:nvSpPr>
        <p:spPr>
          <a:xfrm>
            <a:off x="3708360" y="39164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高　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6" name="Picture 26" descr="209"/>
          <p:cNvPicPr/>
          <p:nvPr/>
        </p:nvPicPr>
        <p:blipFill>
          <a:blip r:embed="rId2"/>
          <a:stretch/>
        </p:blipFill>
        <p:spPr>
          <a:xfrm>
            <a:off x="5796000" y="907920"/>
            <a:ext cx="52380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再读课文，理清思路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684360" y="1988640"/>
            <a:ext cx="777240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读课文，给课文划分结构，并准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复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课文主要内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9" name="Rectangle 4"/>
          <p:cNvSpPr/>
          <p:nvPr/>
        </p:nvSpPr>
        <p:spPr>
          <a:xfrm>
            <a:off x="1774080" y="3557520"/>
            <a:ext cx="167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隶书"/>
                <a:hlinkClick r:id="rId1"/>
              </a:rPr>
              <a:t>摆动挂灯的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5"/>
          <p:cNvSpPr/>
          <p:nvPr/>
        </p:nvSpPr>
        <p:spPr>
          <a:xfrm>
            <a:off x="2839320" y="4149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孩子和学生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6"/>
          <p:cNvSpPr/>
          <p:nvPr/>
        </p:nvSpPr>
        <p:spPr>
          <a:xfrm>
            <a:off x="3925080" y="4710240"/>
            <a:ext cx="1887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隶书"/>
                <a:hlinkClick r:id="rId2"/>
              </a:rPr>
              <a:t>比萨斜塔上的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8"/>
          <p:cNvSpPr/>
          <p:nvPr/>
        </p:nvSpPr>
        <p:spPr>
          <a:xfrm>
            <a:off x="2843280" y="4005360"/>
            <a:ext cx="433440" cy="28728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9"/>
          <p:cNvSpPr/>
          <p:nvPr/>
        </p:nvSpPr>
        <p:spPr>
          <a:xfrm>
            <a:off x="3922560" y="4581360"/>
            <a:ext cx="433440" cy="287640"/>
          </a:xfrm>
          <a:prstGeom prst="line">
            <a:avLst/>
          </a:prstGeom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4" name="Picture 11" descr="052916"/>
          <p:cNvPicPr/>
          <p:nvPr/>
        </p:nvPicPr>
        <p:blipFill>
          <a:blip r:embed="rId3"/>
          <a:stretch/>
        </p:blipFill>
        <p:spPr>
          <a:xfrm>
            <a:off x="155520" y="4608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705" name="Rectangle 12"/>
          <p:cNvSpPr/>
          <p:nvPr/>
        </p:nvSpPr>
        <p:spPr>
          <a:xfrm>
            <a:off x="684360" y="5300640"/>
            <a:ext cx="741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思考：人物传记一般按时间顺序来写．课文的写法有所不同，你能说说这样写的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4"/>
              </a:rPr>
              <a:t>好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13"/>
          <p:cNvSpPr/>
          <p:nvPr/>
        </p:nvSpPr>
        <p:spPr>
          <a:xfrm>
            <a:off x="146448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宋体"/>
              </a:rPr>
              <a:t>课文思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阅读课文１－７自然段，思考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326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这一部分写了伽利略发现的实验原理是什么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他是从什么中得到的启示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目前你知道的它的应用领域是哪些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Rectangle 4"/>
          <p:cNvSpPr/>
          <p:nvPr/>
        </p:nvSpPr>
        <p:spPr>
          <a:xfrm>
            <a:off x="232920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自然节奏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5"/>
          <p:cNvSpPr/>
          <p:nvPr/>
        </p:nvSpPr>
        <p:spPr>
          <a:xfrm>
            <a:off x="2405160" y="3276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教堂挂灯的摇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6"/>
          <p:cNvSpPr/>
          <p:nvPr/>
        </p:nvSpPr>
        <p:spPr>
          <a:xfrm>
            <a:off x="2256480" y="42670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时钟计时 计数脉搏 计算日食 推算星辰的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Picture 11" descr="035"/>
          <p:cNvPicPr/>
          <p:nvPr/>
        </p:nvPicPr>
        <p:blipFill>
          <a:blip r:embed="rId1"/>
          <a:stretch/>
        </p:blipFill>
        <p:spPr>
          <a:xfrm>
            <a:off x="685800" y="228600"/>
            <a:ext cx="974880" cy="62856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16" descr="http://www2.chinagif.com/gif/en/back/0004.gif"/>
          <p:cNvPicPr/>
          <p:nvPr/>
        </p:nvPicPr>
        <p:blipFill>
          <a:blip r:embed="rId2"/>
          <a:stretch/>
        </p:blipFill>
        <p:spPr>
          <a:xfrm>
            <a:off x="7467480" y="5486400"/>
            <a:ext cx="8575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阅读课文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段，思考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１伽利略在比萨斜塔上进行了怎样一个实验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２实验的结果怎样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３这个实验要证明一个什么问题呢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6" name="Picture 5" descr="052913"/>
          <p:cNvPicPr/>
          <p:nvPr/>
        </p:nvPicPr>
        <p:blipFill>
          <a:blip r:embed="rId1"/>
          <a:stretch/>
        </p:blipFill>
        <p:spPr>
          <a:xfrm>
            <a:off x="6732720" y="4365720"/>
            <a:ext cx="2411280" cy="210168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7"/>
          <p:cNvSpPr/>
          <p:nvPr/>
        </p:nvSpPr>
        <p:spPr>
          <a:xfrm>
            <a:off x="4501080" y="274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隶书"/>
              </a:rPr>
              <a:t>两个重量不同的铅球，同时从塔顶落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8"/>
          <p:cNvSpPr/>
          <p:nvPr/>
        </p:nvSpPr>
        <p:spPr>
          <a:xfrm>
            <a:off x="4410360" y="3657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隶书"/>
              </a:rPr>
              <a:t>这两个重量不同的铅球，同时落到地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9"/>
          <p:cNvSpPr/>
          <p:nvPr/>
        </p:nvSpPr>
        <p:spPr>
          <a:xfrm>
            <a:off x="1876320" y="4572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隶书"/>
              </a:rPr>
              <a:t>自由落体定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比萨斜塔实验.AVI" descr=""/>
          <p:cNvPicPr/>
          <p:nvPr/>
        </p:nvPicPr>
        <p:blipFill>
          <a:blip r:embed="rId1"/>
          <a:stretch/>
        </p:blipFill>
        <p:spPr>
          <a:xfrm>
            <a:off x="0" y="0"/>
            <a:ext cx="3930480" cy="6858000"/>
          </a:xfrm>
          <a:prstGeom prst="rect">
            <a:avLst/>
          </a:prstGeom>
          <a:ln w="0">
            <a:noFill/>
          </a:ln>
        </p:spPr>
      </p:pic>
      <p:sp>
        <p:nvSpPr>
          <p:cNvPr id="1721" name="Rectangle 7"/>
          <p:cNvSpPr/>
          <p:nvPr/>
        </p:nvSpPr>
        <p:spPr>
          <a:xfrm>
            <a:off x="144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Picture 9" descr="http://www2.chinagif.com/gif/en/back/0008.gif"/>
          <p:cNvPicPr/>
          <p:nvPr/>
        </p:nvPicPr>
        <p:blipFill>
          <a:blip r:embed="rId2"/>
          <a:stretch/>
        </p:blipFill>
        <p:spPr>
          <a:xfrm>
            <a:off x="7238880" y="5334120"/>
            <a:ext cx="15541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172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72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2444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构思精巧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首先描写了伽利略发现摆的规律的经过，写得引人入胜，这就一下子抓住了读者。然后再回过头来略写伽利略孩童和学生时的情况，接着重点写伽利略发现自由落体定律的情况．这样构思全文，不仅使读者清楚地了解到伽利略的生平和前期的两个重大发现，而且读来感到波澜起伏，兴趣盎然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4"/>
          <p:cNvSpPr/>
          <p:nvPr/>
        </p:nvSpPr>
        <p:spPr>
          <a:xfrm>
            <a:off x="1440" y="30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6" name="Picture 6" descr="http://www.chinagif.com/gif/animal/horse/0015.gif"/>
          <p:cNvPicPr/>
          <p:nvPr/>
        </p:nvPicPr>
        <p:blipFill>
          <a:blip r:embed="rId1"/>
          <a:stretch/>
        </p:blipFill>
        <p:spPr>
          <a:xfrm>
            <a:off x="4876920" y="533520"/>
            <a:ext cx="9032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华文彩云"/>
              </a:rPr>
              <a:t>课文探究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685440" y="1981080"/>
            <a:ext cx="80629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课文所写的两个发现，实际上就是知识创新。你能不能从伽利略的实际中总结出几条关于知识创新的经验，并用恰当的语句表述出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29" name="Picture 6" descr="http://www.chinagif.com/gif/animal/chook/0001.gif"/>
          <p:cNvPicPr/>
          <p:nvPr/>
        </p:nvPicPr>
        <p:blipFill>
          <a:blip r:embed="rId1"/>
          <a:stretch/>
        </p:blipFill>
        <p:spPr>
          <a:xfrm>
            <a:off x="3276720" y="838080"/>
            <a:ext cx="2546280" cy="536760"/>
          </a:xfrm>
          <a:prstGeom prst="rect">
            <a:avLst/>
          </a:prstGeom>
          <a:ln w="0">
            <a:noFill/>
          </a:ln>
        </p:spPr>
      </p:pic>
      <p:sp>
        <p:nvSpPr>
          <p:cNvPr id="1730" name="Rectangle 11"/>
          <p:cNvSpPr/>
          <p:nvPr/>
        </p:nvSpPr>
        <p:spPr>
          <a:xfrm>
            <a:off x="1414080" y="42670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1f08"/>
                </a:solidFill>
                <a:latin typeface="Arial Black"/>
                <a:ea typeface="宋体"/>
              </a:rPr>
              <a:t>不轻易相信权威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2"/>
          <p:cNvSpPr/>
          <p:nvPr/>
        </p:nvSpPr>
        <p:spPr>
          <a:xfrm>
            <a:off x="4440600" y="5638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1f08"/>
                </a:solidFill>
                <a:latin typeface="Arial Black"/>
                <a:ea typeface="宋体"/>
              </a:rPr>
              <a:t>将每一事物都放在自己的感官和思索的考察之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3"/>
          <p:cNvSpPr/>
          <p:nvPr/>
        </p:nvSpPr>
        <p:spPr>
          <a:xfrm>
            <a:off x="3029400" y="49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1f08"/>
                </a:solidFill>
                <a:latin typeface="Arial Black"/>
                <a:ea typeface="宋体"/>
              </a:rPr>
              <a:t>勤于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4"/>
          <p:cNvSpPr/>
          <p:nvPr/>
        </p:nvSpPr>
        <p:spPr>
          <a:xfrm>
            <a:off x="1200600" y="4952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1f08"/>
                </a:solidFill>
                <a:latin typeface="Arial Black"/>
                <a:ea typeface="宋体"/>
              </a:rPr>
              <a:t>不断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00cc"/>
                </a:solidFill>
                <a:latin typeface="Wingdings"/>
                <a:ea typeface="Wingdings"/>
              </a:rPr>
              <a:t>评价人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488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课文后，你觉得伽利略是个怎样的人，他身上有哪些优秀的精神品质？请结合文中具体的语段来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6" name="Picture 9" descr="gif043"/>
          <p:cNvPicPr/>
          <p:nvPr/>
        </p:nvPicPr>
        <p:blipFill>
          <a:blip r:embed="rId1"/>
          <a:stretch/>
        </p:blipFill>
        <p:spPr>
          <a:xfrm>
            <a:off x="949320" y="228600"/>
            <a:ext cx="1413000" cy="1190520"/>
          </a:xfrm>
          <a:prstGeom prst="rect">
            <a:avLst/>
          </a:prstGeom>
          <a:ln w="0">
            <a:noFill/>
          </a:ln>
        </p:spPr>
      </p:pic>
      <p:sp>
        <p:nvSpPr>
          <p:cNvPr id="1737" name="WordArt 12"/>
          <p:cNvSpPr txBox="1"/>
          <p:nvPr/>
        </p:nvSpPr>
        <p:spPr>
          <a:xfrm>
            <a:off x="1447920" y="3733920"/>
            <a:ext cx="6076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9093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华文琥珀"/>
              </a:rPr>
              <a:t>这些精神对你有怎样的启示？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琥珀"/>
              </a:rPr>
              <a:t>记叙和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 Box 4"/>
          <p:cNvSpPr/>
          <p:nvPr/>
        </p:nvSpPr>
        <p:spPr>
          <a:xfrm>
            <a:off x="762120" y="1447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宋体"/>
              </a:rPr>
              <a:t>从课文中找出用了描写的语句，并分析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6"/>
          <p:cNvSpPr/>
          <p:nvPr/>
        </p:nvSpPr>
        <p:spPr>
          <a:xfrm>
            <a:off x="685800" y="2362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人物传记如果只是平铺直叙，就会使人感到单调、枯燥。课文多初运用了描写的手法，如写教堂里的气氛、伽利略的突然发现，写教授们的压制、学生们的反对，观察比萨斜塔实验的队伍等都运用了描写，这就使文章生动形象、令人爱读。开头和结尾的场面描写，起着营造气氛的作用，表现了伽利略的求索精神和创新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Picture 9" descr="http://www.chinagif.com/gif/part/foot/0009.gif"/>
          <p:cNvPicPr/>
          <p:nvPr/>
        </p:nvPicPr>
        <p:blipFill>
          <a:blip r:embed="rId1"/>
          <a:stretch/>
        </p:blipFill>
        <p:spPr>
          <a:xfrm>
            <a:off x="762120" y="2514600"/>
            <a:ext cx="560160" cy="263520"/>
          </a:xfrm>
          <a:prstGeom prst="rect">
            <a:avLst/>
          </a:prstGeom>
          <a:ln w="0">
            <a:noFill/>
          </a:ln>
        </p:spPr>
      </p:pic>
      <p:sp>
        <p:nvSpPr>
          <p:cNvPr id="1742" name="Rectangle 14"/>
          <p:cNvSpPr/>
          <p:nvPr/>
        </p:nvSpPr>
        <p:spPr>
          <a:xfrm>
            <a:off x="14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1"/>
          <p:cNvSpPr/>
          <p:nvPr/>
        </p:nvSpPr>
        <p:spPr>
          <a:xfrm>
            <a:off x="1440" y="27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4" name="Picture 23" descr="http://www.chinagif.com/gif/part/scholar/0004.gif"/>
          <p:cNvPicPr/>
          <p:nvPr/>
        </p:nvPicPr>
        <p:blipFill>
          <a:blip r:embed="rId2"/>
          <a:stretch/>
        </p:blipFill>
        <p:spPr>
          <a:xfrm>
            <a:off x="3429000" y="228600"/>
            <a:ext cx="12952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75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彩云"/>
              </a:rPr>
              <a:t>课文总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描述了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伽利略发现摆的规律、自由落体定律的经过和他孩童、学生时的情况，表现了他不轻信权威，坚持用实验来检验理论、探索新理论的科学思想和热爱科学、勇于创新、甘为科学奉献终身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4"/>
          <p:cNvSpPr/>
          <p:nvPr/>
        </p:nvSpPr>
        <p:spPr>
          <a:xfrm>
            <a:off x="1298160" y="4572000"/>
            <a:ext cx="60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写作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AutoShape 9"/>
          <p:cNvSpPr/>
          <p:nvPr/>
        </p:nvSpPr>
        <p:spPr>
          <a:xfrm>
            <a:off x="1752480" y="4648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 Box 10"/>
          <p:cNvSpPr/>
          <p:nvPr/>
        </p:nvSpPr>
        <p:spPr>
          <a:xfrm>
            <a:off x="2286000" y="44956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构思巧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 Box 11"/>
          <p:cNvSpPr/>
          <p:nvPr/>
        </p:nvSpPr>
        <p:spPr>
          <a:xfrm>
            <a:off x="2209680" y="54100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记叙和描写相结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144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2" name="Picture 14" descr="http://www.chinagif.com/gif/part/teacher/0002.gif"/>
          <p:cNvPicPr/>
          <p:nvPr/>
        </p:nvPicPr>
        <p:blipFill>
          <a:blip r:embed="rId1"/>
          <a:stretch/>
        </p:blipFill>
        <p:spPr>
          <a:xfrm>
            <a:off x="228600" y="152280"/>
            <a:ext cx="880920" cy="137160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21" descr="http://www.chinagif.com/gif/animal/penguin/0012.gif"/>
          <p:cNvPicPr/>
          <p:nvPr/>
        </p:nvPicPr>
        <p:blipFill>
          <a:blip r:embed="rId2"/>
          <a:stretch/>
        </p:blipFill>
        <p:spPr>
          <a:xfrm>
            <a:off x="0" y="472428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75" fill="hold"/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5" descr="Img221428451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Text Box 6"/>
          <p:cNvSpPr/>
          <p:nvPr/>
        </p:nvSpPr>
        <p:spPr>
          <a:xfrm>
            <a:off x="5580000" y="76320"/>
            <a:ext cx="356400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萨斜塔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萨斜塔位于意大利中部比萨古城内的教堂广场上，是一组古罗马建筑群中的钟楼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比萨斜塔开工，一直修建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世纪才完成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修建第三层的时候，塔身开始倾斜，建造工程因而停止了一个世纪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7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建筑家修建了一个重心偏移的第四层，以补偿塔身的倾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比萨斜塔再次停建，直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7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才建造完成，并在塔顶安放了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27716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华文彩云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2803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选出下列句中引号用法不同于其他的一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、他请他的教父穆契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铁达迪帮助他进行这个实验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你数这条绳索的摆动次数，我数那一条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．老头子耸一耸肩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又是伽利略一个发疯的念头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他咕哝着，但是他同意帮忙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．他是一个音乐师的儿子，但从小就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天空的音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有兴趣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制止这种胡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他们威胁说，否则，他们就将给他一顿教训，叫他永不忘记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Rectangle 7"/>
          <p:cNvSpPr/>
          <p:nvPr/>
        </p:nvSpPr>
        <p:spPr>
          <a:xfrm>
            <a:off x="7448400" y="1287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8"/>
          <p:cNvSpPr/>
          <p:nvPr/>
        </p:nvSpPr>
        <p:spPr>
          <a:xfrm>
            <a:off x="1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10" descr="http://www.chinagif.com/gif/animal/mouse/0016.gif"/>
          <p:cNvPicPr/>
          <p:nvPr/>
        </p:nvPicPr>
        <p:blipFill>
          <a:blip r:embed="rId1"/>
          <a:stretch/>
        </p:blipFill>
        <p:spPr>
          <a:xfrm>
            <a:off x="2895480" y="304920"/>
            <a:ext cx="2057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6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600" fill="hold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00" fill="hold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324000" y="549360"/>
            <a:ext cx="7991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选择恰当的词语填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最后，父子两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　　　　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伽利略进入了比萨大学学医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威胁　　妥协　　要挟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教学之余，伽利略更忙于实验。他说，他的目的是重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　　　　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亚里士多德有关科学的学说，而不是把这些学说当做福音真理来接受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检查　　检察　　检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Rectangle 4"/>
          <p:cNvSpPr/>
          <p:nvPr/>
        </p:nvSpPr>
        <p:spPr>
          <a:xfrm>
            <a:off x="4418280" y="150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妥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5"/>
          <p:cNvSpPr/>
          <p:nvPr/>
        </p:nvSpPr>
        <p:spPr>
          <a:xfrm>
            <a:off x="4130640" y="36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8"/>
          <p:cNvSpPr/>
          <p:nvPr/>
        </p:nvSpPr>
        <p:spPr>
          <a:xfrm>
            <a:off x="4444920" y="329256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Picture 15" descr="http://www2.chinagif.com/gif/culture_sports/kt_lbxx/0015.gif"/>
          <p:cNvPicPr/>
          <p:nvPr/>
        </p:nvPicPr>
        <p:blipFill>
          <a:blip r:embed="rId1"/>
          <a:stretch/>
        </p:blipFill>
        <p:spPr>
          <a:xfrm>
            <a:off x="4648320" y="228600"/>
            <a:ext cx="888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268000" y="441360"/>
            <a:ext cx="12970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7750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仿照例子造句。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Verdana"/>
              </a:rPr>
              <a:t>(1)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他发现真理的道路，不是靠背诵亚里士多德的著作，而是通过学习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大自然这本宝书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。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Verdana"/>
              </a:rPr>
              <a:t>(2)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两条绳索的起点虽大不相同，但在同样时间内到达同样的点上。 </a:t>
            </a:r>
            <a:br>
              <a:rPr sz="2600"/>
            </a:b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6" name="Picture 9" descr="052930"/>
          <p:cNvPicPr/>
          <p:nvPr/>
        </p:nvPicPr>
        <p:blipFill>
          <a:blip r:embed="rId1"/>
          <a:stretch/>
        </p:blipFill>
        <p:spPr>
          <a:xfrm>
            <a:off x="826920" y="189000"/>
            <a:ext cx="15843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7695720" y="1752120"/>
            <a:ext cx="6858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伽利略名言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4"/>
          <p:cNvSpPr/>
          <p:nvPr/>
        </p:nvSpPr>
        <p:spPr>
          <a:xfrm>
            <a:off x="6328800" y="1447920"/>
            <a:ext cx="60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科学不是一个人的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5"/>
          <p:cNvSpPr/>
          <p:nvPr/>
        </p:nvSpPr>
        <p:spPr>
          <a:xfrm>
            <a:off x="3111480" y="685800"/>
            <a:ext cx="12128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科学的真理不应在古代圣人的蒙着灰尘的书上去找，而应该在实验中和以实验为基础的理论中去找。真正的哲学是写在那本经常在我们眼前打开着的最伟大的书里面的。这本书就是宇宙，就是自然本身，人们必须去读它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6"/>
          <p:cNvSpPr/>
          <p:nvPr/>
        </p:nvSpPr>
        <p:spPr>
          <a:xfrm>
            <a:off x="5506560" y="685800"/>
            <a:ext cx="60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真理就是具备这样的力量，你越是想要攻击它，你的攻击就愈加充实了和证明了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7"/>
          <p:cNvSpPr/>
          <p:nvPr/>
        </p:nvSpPr>
        <p:spPr>
          <a:xfrm>
            <a:off x="1440" y="30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3" name="Picture 9" descr="http://www2.chinagif.com/gif/goods/candle/0024.gif"/>
          <p:cNvPicPr/>
          <p:nvPr/>
        </p:nvPicPr>
        <p:blipFill>
          <a:blip r:embed="rId1"/>
          <a:stretch/>
        </p:blipFill>
        <p:spPr>
          <a:xfrm>
            <a:off x="7696080" y="5105520"/>
            <a:ext cx="9144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8" name="Picture 5" descr="bisa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9" descr="b540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Picture 5" descr="02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3" name="Text Box 6"/>
          <p:cNvSpPr/>
          <p:nvPr/>
        </p:nvSpPr>
        <p:spPr>
          <a:xfrm>
            <a:off x="4427640" y="260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比萨斜塔周围建筑风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4" name="Picture 5" descr="20040814115757_95180"/>
          <p:cNvPicPr/>
          <p:nvPr/>
        </p:nvPicPr>
        <p:blipFill>
          <a:blip r:embed="rId1"/>
          <a:stretch/>
        </p:blipFill>
        <p:spPr>
          <a:xfrm>
            <a:off x="0" y="46080"/>
            <a:ext cx="4859280" cy="6811920"/>
          </a:xfrm>
          <a:prstGeom prst="rect">
            <a:avLst/>
          </a:prstGeom>
          <a:ln w="0">
            <a:noFill/>
          </a:ln>
        </p:spPr>
      </p:pic>
      <p:sp>
        <p:nvSpPr>
          <p:cNvPr id="1665" name="Text Box 6"/>
          <p:cNvSpPr/>
          <p:nvPr/>
        </p:nvSpPr>
        <p:spPr>
          <a:xfrm>
            <a:off x="6659640" y="765000"/>
            <a:ext cx="79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行楷"/>
              </a:rPr>
              <a:t>比萨斜塔前的酒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6" name="Picture 5" descr="h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667" name="Text Box 6"/>
          <p:cNvSpPr/>
          <p:nvPr/>
        </p:nvSpPr>
        <p:spPr>
          <a:xfrm>
            <a:off x="8434440" y="1052640"/>
            <a:ext cx="4586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WordArt 11"/>
          <p:cNvSpPr txBox="1"/>
          <p:nvPr/>
        </p:nvSpPr>
        <p:spPr>
          <a:xfrm rot="5400000">
            <a:off x="5111280" y="3178080"/>
            <a:ext cx="5400720" cy="17272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斜塔上的实验</a:t>
            </a:r>
            <a:endParaRPr b="0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9" name="Text Box 12"/>
          <p:cNvSpPr/>
          <p:nvPr/>
        </p:nvSpPr>
        <p:spPr>
          <a:xfrm>
            <a:off x="5601240" y="3357720"/>
            <a:ext cx="11552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物传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Picture 5" descr="伽利略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671" name="Text Box 6"/>
          <p:cNvSpPr/>
          <p:nvPr/>
        </p:nvSpPr>
        <p:spPr>
          <a:xfrm>
            <a:off x="5219640" y="1159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伽利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564-164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7"/>
          <p:cNvSpPr/>
          <p:nvPr/>
        </p:nvSpPr>
        <p:spPr>
          <a:xfrm>
            <a:off x="5221440" y="112536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伽利略是伟大的意大利物理学家和天文学家，科学革命的先驱。历史上他首先在科学实验的基础上融会贯通了数学、物理学和天文学三门知识，扩大、加深并改变了人类对物质运动和宇宙的认识。为了证实和传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哥白尼的日心说，伽利略献出了毕生精力。由此，他晚年受到教会迫害，并被终身监禁。他以系统的实验和观察推翻了以亚里士多德为代表的、纯属思辨的传统的自然观，开创了以实验事实为根据并具有严密逻辑体系的近代科学。因此，他被称为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近代科学之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”。他的工作，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牛顿的理论体系的建立奠定了基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4" descr="1_1-1-21-1792741_20030922141213"/>
          <p:cNvPicPr/>
          <p:nvPr/>
        </p:nvPicPr>
        <p:blipFill>
          <a:blip r:embed="rId1"/>
          <a:stretch/>
        </p:blipFill>
        <p:spPr>
          <a:xfrm>
            <a:off x="0" y="0"/>
            <a:ext cx="2176560" cy="292428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9"/>
          <p:cNvSpPr/>
          <p:nvPr/>
        </p:nvSpPr>
        <p:spPr>
          <a:xfrm>
            <a:off x="2340000" y="2570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Arial"/>
                <a:ea typeface="黑体"/>
              </a:rPr>
              <a:t>伽利略生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10"/>
          <p:cNvSpPr/>
          <p:nvPr/>
        </p:nvSpPr>
        <p:spPr>
          <a:xfrm>
            <a:off x="2266920" y="94932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6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生于比萨，卒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4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7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全家迁往佛罗伦萨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入比萨大学学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8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因家贫退学，任家庭教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仍坚持自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8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发明了浮力天平，并写出了关于固体重心计算法的论文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8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受聘为比萨大学讲师。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9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到帕多瓦大学任教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9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受友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J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普勒的影响，开始接受日心说。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任帕多瓦大学终身教授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担任托斯卡纳公国的宫廷首席数学家、哲学家和比萨大学首席数学教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5" descr="p000005107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1677" name="Text Box 11"/>
          <p:cNvSpPr/>
          <p:nvPr/>
        </p:nvSpPr>
        <p:spPr>
          <a:xfrm>
            <a:off x="4140360" y="193680"/>
            <a:ext cx="482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1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哥白尼学说论点受到宗教界的攻击，致使教皇保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世下达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1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禁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禁止宣传日心说，后仅允许将日心说保留为单纯的数学命题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后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伽利略撰写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关于托勒密和哥白尼两大世界体系对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书，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3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出版。该书是一本表面中立而实系宣传哥白尼学说的历史科学著作。但出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后就被罗马教廷封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后来，教皇乌尔邦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世指令伽利略到罗马宗教裁判所受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审判和严刑威胁下，年近七旬体弱多病的伽利略终于被迫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悔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并被判处终身监禁。随后又改为在家软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3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，双目失明的伽利略住在儿子家中，此后他受到他的两位学生照料，并共同研究科学问题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4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病逝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后遗骨才迁到家乡的比萨大教堂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7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罗马教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J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保罗二世代表罗马教廷公开承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多年前对伽利略的迫害是严重的错误，伽利略蒙受的冤案终于得到平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05:33:10Z</dcterms:created>
  <dc:creator/>
  <dc:description>第一PPT模板网-WWW.1PPT.COM
</dc:description>
  <dc:language>en-US</dc:language>
  <cp:lastModifiedBy>Administrator</cp:lastModifiedBy>
  <dcterms:modified xsi:type="dcterms:W3CDTF">2017-08-03T02:00:17Z</dcterms:modified>
  <cp:revision>22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