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E3A-D94B-4600-B50F-857256E7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64D-5552-4A20-88F7-BE7E3213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F42-C256-45DE-9EA6-1A46F51A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6F2-C6FB-4B9E-9526-8D1F1188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F87-1BB8-4243-ADF3-0940D332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31F-341D-4854-809A-8C5D6662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3B4-3967-4DD0-AFAC-CDE710F3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842-B02D-4933-A1A1-096344C7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274-5B4E-4BFE-9A3A-E67D41F2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FB5-14B5-4BD5-B023-773E1D6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9EE-AB51-4CBE-B5EE-E0EBCA2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5A7-F00A-4426-90C6-7AF7C62B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18D8-3656-4625-BD5D-7A97633272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&#23567;&#30707;&#28525;&#35760;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2000" y="0"/>
            <a:ext cx="31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36720" y="1197000"/>
            <a:ext cx="759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潭西南而望，斗折蛇行，明灭可见。其岸势犬牙差互，不可知其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2724120"/>
            <a:ext cx="820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向小石潭的西南方向望去，看到溪水像北斗星那样曲折，像蛇那样蜿蜒前行，时隐时现。小溪两岸的形状像狗的牙齿那样参差不齐，无法知道它的源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692280"/>
            <a:ext cx="763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坐潭上，四面竹树环合，寂寥无人，凄神寒骨，悄怆幽邃。以其境过清，不可久居，乃记之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637000"/>
            <a:ext cx="86407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坐在小石潭上，四周围被密密的竹子和树木环绕着，寂静得见不到一个人影，令人感到心情凄凉，寒气透骨，幽静深远，弥漫着忧伤的气息。因为这里的环境太过凄清了，不适宜人久留，就题字离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1503360"/>
            <a:ext cx="748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游者：吴武陵，龚古，余弟宗玄。隶而从者，崔氏二小生：曰恕己，曰奉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021120"/>
            <a:ext cx="7777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同游的人有吴武陵、龚古、我的弟弟宗玄。跟着一同去的还有姓崔的两个年轻人：一个叫恕己，一个叫奉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43600" y="2514600"/>
            <a:ext cx="667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小石潭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9480" y="762120"/>
            <a:ext cx="152280" cy="5257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25440" y="588960"/>
            <a:ext cx="20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现小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67440" y="811080"/>
            <a:ext cx="1447920" cy="4597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移步换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1225440" y="209088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潭中景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35440" y="206064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4240" y="18702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潭水：清澈透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06720" y="2421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游鱼：动静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10480" y="206064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27920" y="2205000"/>
            <a:ext cx="1523880" cy="45972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特写镜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5440" y="342900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潭源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0196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82840" y="3048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溪身：曲折蜿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82840" y="3809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岸势：参差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26040" y="32767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3429000"/>
            <a:ext cx="1447560" cy="45972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形象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78000" y="5013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潭中气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67440" y="5084640"/>
            <a:ext cx="1511280" cy="45972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寓情于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78000" y="58053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录同游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90720" y="5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隔、闻、伐、取、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94000" y="450864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氛：幽深冷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951440" y="549360"/>
            <a:ext cx="287280" cy="936720"/>
            <a:chOff x="4951440" y="549360"/>
            <a:chExt cx="287280" cy="936720"/>
          </a:xfrm>
        </p:grpSpPr>
        <p:sp>
          <p:nvSpPr>
            <p:cNvPr id="113" name=""/>
            <p:cNvSpPr/>
            <p:nvPr/>
          </p:nvSpPr>
          <p:spPr>
            <a:xfrm>
              <a:off x="4951440" y="549360"/>
              <a:ext cx="216000" cy="93672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38880 h 936720"/>
                <a:gd name="textAreaBottom" fmla="*/ 89784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51440" y="1052640"/>
              <a:ext cx="2872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11800" y="33336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——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11800" y="765000"/>
            <a:ext cx="16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——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11800" y="119700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——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23080" y="547560"/>
            <a:ext cx="73080" cy="936720"/>
          </a:xfrm>
          <a:custGeom>
            <a:avLst/>
            <a:gdLst>
              <a:gd name="textAreaLeft" fmla="*/ 0 w 73080"/>
              <a:gd name="textAreaRight" fmla="*/ 2628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8000" y="486900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22720" y="5300640"/>
            <a:ext cx="27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受：凄苦孤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83080" y="1844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侧面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79640" y="2743200"/>
            <a:ext cx="6781680" cy="83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小石潭究竟是一个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中宋"/>
              </a:rPr>
              <a:t>美丽宜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的地方，还是一个令人感到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中宋"/>
              </a:rPr>
              <a:t>凄凉忧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的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8040" y="2374920"/>
            <a:ext cx="459000" cy="9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2895480"/>
            <a:ext cx="1467000" cy="3353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683320" y="990720"/>
            <a:ext cx="205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质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6920" y="3919680"/>
            <a:ext cx="78375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者善于用细致入微的描绘、比喻、拟人等手法融情于景，使全文充满诗情画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1494000"/>
            <a:ext cx="81691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生动写出了小石潭环境景物的幽美和静穆，抒发了作者贬官失意后的孤凄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01160" y="914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主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20680" y="328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写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6659640" cy="499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51280" y="2205000"/>
            <a:ext cx="3440160" cy="2719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87280" y="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根据图片提示背诵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780000" y="2205000"/>
            <a:ext cx="3528720" cy="2657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708360" y="220500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780000" y="2421000"/>
            <a:ext cx="3528720" cy="2665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851280" y="2276640"/>
            <a:ext cx="3529080" cy="279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3780000" y="2205000"/>
            <a:ext cx="3528720" cy="2797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3780000" y="2205000"/>
            <a:ext cx="3600360" cy="2725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3780000" y="2205000"/>
            <a:ext cx="3600360" cy="2906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3780000" y="2276640"/>
            <a:ext cx="3528720" cy="280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771640" y="765000"/>
            <a:ext cx="24386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小石潭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1052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柳宗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9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尝试写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生活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美丽风景无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留存在记忆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已然触动了我们的灵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路边偶拾一株青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庭院仰望一朵白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外出登临一座高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游园掬起一汪清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在特别的今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你瞬间的心动即将化为笔端的永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651640" y="2997360"/>
            <a:ext cx="3165480" cy="2376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716360" y="126828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观察一处景点的景色，用移步换景或定点特写写一段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838080"/>
            <a:ext cx="5029200" cy="1492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95640" y="299736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琥珀"/>
              </a:rPr>
              <a:t>柳宗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3640" y="981000"/>
            <a:ext cx="540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柳宗元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77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19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子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代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著名文学家、哲学家，河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山西永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，世称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柳河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宋八大家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之一，与韩愈并称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韩柳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。与韩愈、刘禹锡为同朝为官，由于参加（刘禹锡也参加了）主张革新的王叔文政治集团，贞元二十一年十一月贬永州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湖南永州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司马。在此期间写下了为人称道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永州八记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本文是《永州八记》中的第四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219708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14000"/>
            <a:ext cx="85406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《永州八记》与《小石潭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05048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曾被贬为永州司马，结合自己的经历和遭遇，写下了有连续性的、精美的山水游记多篇，合称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《永州八记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《小石潭记》就是其中最著名的一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作者参与改革，失败被贬，心中愤懑难平，因此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他所写的游记散文，往往借景抒情，抒发谪居生活的清寂苦闷、抑郁忧伤之情，并寄托自己政治上不得志的悲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58360" y="1174680"/>
            <a:ext cx="180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4400" y="1174680"/>
            <a:ext cx="79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li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52480" y="2013120"/>
            <a:ext cx="93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0080" y="2013120"/>
            <a:ext cx="80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y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17200" y="2774880"/>
            <a:ext cx="113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k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41280" y="2774880"/>
            <a:ext cx="62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y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4120" y="3537000"/>
            <a:ext cx="110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0680" y="3537000"/>
            <a:ext cx="628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2440" y="4299120"/>
            <a:ext cx="59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28960" y="4375080"/>
            <a:ext cx="111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liá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39920" y="5137200"/>
            <a:ext cx="207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u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8320" y="5137200"/>
            <a:ext cx="92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su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82720" y="260280"/>
            <a:ext cx="8153280" cy="5715000"/>
            <a:chOff x="882720" y="260280"/>
            <a:chExt cx="8153280" cy="5715000"/>
          </a:xfrm>
        </p:grpSpPr>
        <p:sp>
          <p:nvSpPr>
            <p:cNvPr id="65" name=""/>
            <p:cNvSpPr/>
            <p:nvPr/>
          </p:nvSpPr>
          <p:spPr>
            <a:xfrm>
              <a:off x="882720" y="260280"/>
              <a:ext cx="8153280" cy="563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给下列加点的字注音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篁竹（      ） 清冽（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坻（      ） 为屿（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嵁（      ） 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佁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然（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俶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尔（      ） 翕忽（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参差（      ） 寂寥（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悄怆（      ） 幽邃（      ）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97520" y="4299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87280" y="1936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30680" y="1860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20800" y="2622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30680" y="2698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0800" y="3460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87280" y="4299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58960" y="5060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20800" y="5899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07000" y="5899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30680" y="5137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73480" y="3537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中宋"/>
              </a:rPr>
              <a:t>借助注释，翻译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62614" r="0" b="0"/>
          <a:stretch/>
        </p:blipFill>
        <p:spPr>
          <a:xfrm>
            <a:off x="1187280" y="1628640"/>
            <a:ext cx="6877080" cy="4449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404640"/>
            <a:ext cx="799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小丘西行百二十步，隔篁竹，闻水声，如鸣珮环，心乐之。伐竹取道，下见小潭，水尤清冽。全石以为底，近岸，卷石底以出，为坻，为屿，为嵁，为岩。青树翠蔓，蒙络摇缀，参差披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080" y="2421000"/>
            <a:ext cx="85309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从小土丘向西走一百二十步，隔着竹林，听到了水声，好像身上带的玉佩、玉环相碰发出的清脆声音，（我的）心情高兴起来。砍倒竹子，开辟出一条道路（走过去），下面看见一个小潭，潭水特别清凉。整块石头作为潭底，靠近岸边，有一圈从潭底周围突出水面的石头，成为坻、屿、岩各种不同的形状。青葱的树，翠绿的茎蔓，遮盖交结，摇动下垂，参差不齐，随风飘动。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934920"/>
            <a:ext cx="734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潭中鱼可百许头，皆若空游无所依，日光下澈，影布石上。佁然不动，俶尔远逝，往来翕忽。似与游者相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6560" y="2565360"/>
            <a:ext cx="8353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潭中的鱼大约有一百来条，好像都在空中游动，周围什么也没有似的。阳光直照到水底，鱼的影子映在水底的石头上，呆呆的一动也不动，忽然间又向远处游去了，来来往往非常轻快敏捷。好像在和游人一同欢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5:40:37Z</dcterms:created>
  <dc:creator>王金健</dc:creator>
  <dc:description/>
  <dc:language>en-US</dc:language>
  <cp:lastModifiedBy>王金健</cp:lastModifiedBy>
  <dcterms:modified xsi:type="dcterms:W3CDTF">2006-05-09T15:56:21Z</dcterms:modified>
  <cp:revision>20</cp:revision>
  <dc:subject/>
  <dc:title>幻灯片 1</dc:title>
</cp:coreProperties>
</file>