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07CD-5B1D-44DA-8807-CC73FD94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00B9-CDCF-4DFC-9CC4-27DB3BE05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0201-1D92-4863-AF92-401A66506B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4B22-1546-4414-9517-D73F3B1880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0B13-8224-44BB-A0DE-450D905970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C0B9-9D3C-4505-A009-1A350E8BC3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8C7B-3AD0-45D5-AA30-027AF2382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8956-C5B5-489B-8850-4824560BF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BDF-63A3-4831-8F0E-401B56B4CE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BAE1-BA5A-41EC-AA23-2CD6BB1F66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F570-8B4C-4C8C-B8F3-90F3673ACC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9BC7-493F-46A3-BF94-C5363673B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643B-28F9-44F1-9B56-CCA8E6C4EC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7A0-0F28-4F9B-B70E-659282FB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02B-A98F-473F-BE2F-2C74426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894-084A-4C54-B3AF-AE7F8E0C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A89-15AF-499D-80E9-7A467DC0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00672-8ED0-45A6-80D6-6DB6B809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418AD-CCF5-414D-A412-4F22D2A3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C3119-C48D-4036-8194-C42BAF32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EC424-2ED4-463E-9317-60A05B01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ABC34-7B47-4FFD-AF86-DC0F1660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B394B-6B33-4B45-8FC3-04277C00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AA6E6-457A-4E6D-8B10-FD157FD8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00F-766C-4A43-99BC-CBACD45D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81F12-80DB-4062-8EE0-EB8E87B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EFE48-376E-41FE-A789-8CE5D473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FB742-1BBE-4C89-BE55-25CF8D14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0ACD0-A8E0-41D6-9EFB-116F3885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44D7C-7B6B-48F6-899F-0FF4CFFF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C15-CF9B-41ED-B0F1-2C2AB352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205-E261-4909-88BC-965EF2DA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244-FCD1-4CF2-99EA-B9A3CE8B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904-1682-4CC7-B751-912D31A2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D57-B71F-4446-8FAC-629A629C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625-9CAA-41C2-B1ED-85B3725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A79-C303-4726-88C7-081734C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77EA-23BA-42DC-A238-F3227270C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466B-EDAD-4BCA-99FC-C20CB72124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xsgmxgzww_19624"/>
          <p:cNvPicPr/>
          <p:nvPr/>
        </p:nvPicPr>
        <p:blipFill>
          <a:blip r:embed="rId1"/>
          <a:stretch/>
        </p:blipFill>
        <p:spPr>
          <a:xfrm>
            <a:off x="990720" y="647640"/>
            <a:ext cx="3657600" cy="582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1300000309485122749411705257"/>
          <p:cNvPicPr/>
          <p:nvPr/>
        </p:nvPicPr>
        <p:blipFill>
          <a:blip r:embed="rId2"/>
          <a:stretch/>
        </p:blipFill>
        <p:spPr>
          <a:xfrm>
            <a:off x="5156280" y="3505320"/>
            <a:ext cx="3987720" cy="32302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1128600" y="1752480"/>
            <a:ext cx="4052880" cy="18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你呢？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11" name="Picture 5" descr="无标题"/>
          <p:cNvPicPr/>
          <p:nvPr/>
        </p:nvPicPr>
        <p:blipFill>
          <a:blip r:embed="rId1"/>
          <a:stretch/>
        </p:blipFill>
        <p:spPr>
          <a:xfrm>
            <a:off x="5438880" y="3886200"/>
            <a:ext cx="2562120" cy="2173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80880" y="10501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卖一次血能挣三十五块钱呢，在地里干半年的它也还是那么多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…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选自小说第一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33520" y="3869280"/>
            <a:ext cx="85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我们娶女人、盖屋子都是靠卖血挣的钱，这田地里挣的钱最多也就是不让我们饿死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根龙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次卖血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04920" y="8380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个农民不能从土地中获得生存的保障，一个工人不能通过工作获得生活来源，一个父亲不能通过劳动养家糊口，这是一种什么样的悲苦？许三观的悲苦和微笑，使我们不禁要问那是什么时代，那是什么社会；我们不禁要呐喊：谁来关心贫苦的大众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10562221_413351"/>
          <p:cNvPicPr/>
          <p:nvPr/>
        </p:nvPicPr>
        <p:blipFill>
          <a:blip r:embed="rId1"/>
          <a:stretch/>
        </p:blipFill>
        <p:spPr>
          <a:xfrm>
            <a:off x="6319800" y="3048120"/>
            <a:ext cx="2824200" cy="3733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152280" y="533520"/>
            <a:ext cx="678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200" spc="-1" strike="noStrike">
                <a:solidFill>
                  <a:srgbClr val="ffffff"/>
                </a:solidFill>
                <a:latin typeface="Arial"/>
              </a:rPr>
              <a:t>这就是余华，不用华丽的辞藻，不靠牵强的情节，不弄宏大的题材，在看似平常的叙述中，描绘了磨难中的人生，表达了人在面对厄运时求生的欲望。渗透着对底层人们的人文关怀，挖掘出勤劳坚韧的中国人幽深纯洁的灵魂。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609480" y="1066680"/>
            <a:ext cx="31244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作业展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28600" y="3717000"/>
            <a:ext cx="86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许三观卖血前、后的心情及感受如何？请</a:t>
            </a:r>
            <a:r>
              <a:rPr b="1" lang="zh-CN" sz="5000" spc="-1" strike="noStrike" u="sng">
                <a:solidFill>
                  <a:srgbClr val="ffffff"/>
                </a:solidFill>
                <a:uFillTx/>
                <a:latin typeface="Arial"/>
              </a:rPr>
              <a:t>结合具体语句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加以分析。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620120" y="3733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1066680" y="457200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4800600" y="4495680"/>
            <a:ext cx="3886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17680" y="1103400"/>
            <a:ext cx="8169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卖血前， “他再舀起一碗河水，再次一口喝下去，接着他再次抱住自己抖动起来。”从这句话可以看出，许三观为了给儿子看病是忍受了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痛苦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的，虽然冰冷的河水让他全身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他却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急切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想要卖血挣钱救儿子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王露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80880" y="97488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卖血后，“他感到风正从他胸口滑下去，一直到腹部，使他肚子里一阵阵抽搐”，“他们看见许三观缩成一团靠在墙上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两只手还紧紧抓住衣领。”这两句描写中可以看出许三观卖血之后身体的感受，受到冬天寒风入侵，他感到更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了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邱国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80880" y="1165320"/>
            <a:ext cx="8093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卖血后，他感到十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他在有阳光的墙壁上靠着，还遇到几个年轻人以为他发烧，关心地询问，让他感受到了别人给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暖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这时，他心情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轻松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张鑫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878120" y="533520"/>
            <a:ext cx="551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许三观卖血的直接原因是什么？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37960" y="1812960"/>
            <a:ext cx="875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乐病了，病得很重，是肝炎，已经送到上海的大医院去了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他病得很重，只有上海的大医院能治。家里没有钱，我就出来卖血。我一路卖过去，卖到上海时，一乐治病的钱就会有了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许三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0" y="323748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血，作为商品是一件很悲哀的事情，针对卖血这件事，不同的人有着不同的</a:t>
            </a:r>
            <a:r>
              <a:rPr b="1" lang="zh-CN" sz="4500" spc="-1" strike="noStrike">
                <a:solidFill>
                  <a:srgbClr val="ffcc00"/>
                </a:solidFill>
                <a:latin typeface="Arial"/>
              </a:rPr>
              <a:t>态度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，请仔细阅读课文，分析，并落实在学案上，与小组同学交流。 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457200" y="533520"/>
            <a:ext cx="3809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课堂研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478320" y="548640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提示：许三观自己、周围的人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8153280" y="6172200"/>
            <a:ext cx="609840" cy="509760"/>
          </a:xfrm>
          <a:custGeom>
            <a:avLst/>
            <a:gdLst>
              <a:gd name="textAreaLeft" fmla="*/ 32760 w 609840"/>
              <a:gd name="textAreaRight" fmla="*/ 577080 w 60984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5838" h="21600">
                <a:moveTo>
                  <a:pt x="0" y="0"/>
                </a:moveTo>
                <a:lnTo>
                  <a:pt x="25838" y="0"/>
                </a:lnTo>
                <a:lnTo>
                  <a:pt x="25838" y="21600"/>
                </a:lnTo>
                <a:lnTo>
                  <a:pt x="0" y="21600"/>
                </a:lnTo>
                <a:close/>
              </a:path>
              <a:path fill="lightenLess" w="25838" h="21600">
                <a:moveTo>
                  <a:pt x="0" y="0"/>
                </a:moveTo>
                <a:lnTo>
                  <a:pt x="25838" y="0"/>
                </a:lnTo>
                <a:lnTo>
                  <a:pt x="24438" y="1400"/>
                </a:lnTo>
                <a:lnTo>
                  <a:pt x="1400" y="1400"/>
                </a:lnTo>
                <a:close/>
              </a:path>
              <a:path fill="darken" w="25838" h="21600">
                <a:moveTo>
                  <a:pt x="25838" y="0"/>
                </a:moveTo>
                <a:lnTo>
                  <a:pt x="25838" y="21600"/>
                </a:lnTo>
                <a:lnTo>
                  <a:pt x="24438" y="20200"/>
                </a:lnTo>
                <a:lnTo>
                  <a:pt x="24438" y="1400"/>
                </a:lnTo>
                <a:close/>
              </a:path>
              <a:path fill="darkenLess" w="25838" h="21600">
                <a:moveTo>
                  <a:pt x="25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38" y="20200"/>
                </a:lnTo>
                <a:close/>
              </a:path>
              <a:path fill="lighten" w="25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245664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许三观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态度是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</a:rPr>
              <a:t>从容，平静，镇定，欣慰的，习以为常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在卖血前，他非常熟练地做着准备工作、喝水的情景描写，我们可以看出他对此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</a:rPr>
              <a:t>习以为常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；当人们询问他时他总是笑着回答，以及与人的对话都能说明他的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</a:rPr>
              <a:t>平静从容、镇定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，甚至还为自己掌握了能卖更多的血的“高招儿”而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</a:rPr>
              <a:t>沾沾自喜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（举起手里的碗拍拍，然后笑了起来）；至于因卖血而得到钱、得到钱就能治好儿子的病，那就更让许三观颇感</a:t>
            </a:r>
            <a:r>
              <a:rPr b="1" lang="zh-CN" sz="3700" spc="-1" strike="noStrike">
                <a:solidFill>
                  <a:srgbClr val="ff0000"/>
                </a:solidFill>
                <a:latin typeface="Arial"/>
              </a:rPr>
              <a:t>欣慰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了（一个人笑了起来）。</a:t>
            </a:r>
            <a:r>
              <a:rPr b="0" lang="zh-CN" sz="3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9246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2280" y="1461600"/>
            <a:ext cx="876312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周围的人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许三观喝冷水已经超出人们所能承受的艰辛，激发了人们的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恻隐之心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林浦的居民：“他们听了这话都怔住了，看着许三观不再说话”、“他们都点起了头，过了一会儿，有几个人给他送来了盐，都是用纸包着的，还有人给他送来了三壶热茶”、“盐吃不了你就带上，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……”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、“你就走吧，茶壶我们自己会拿的”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都可以看出他们对此抱以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同情、怜悯、理解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的态度。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79246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4:06:28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3000000000001024120</vt:lpwstr>
  </property>
  <property fmtid="{D5CDD505-2E9C-101B-9397-08002B2CF9AE}" pid="3" name="Version">
    <vt:r8>1</vt:r8>
  </property>
</Properties>
</file>