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90D-6034-43A3-8893-B02F7D7B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9DA-DD1E-4D6E-93BA-E7D38D0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DCD-E877-4D62-A27A-9793FEA1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6EF-270F-46B3-86AE-72EE4728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8908-1DA1-42CB-8D7B-20B8ADA1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729B-3BDD-4FFA-B8EA-1663A0AA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C169-63C2-449D-A3AF-0CE19769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A31B-AC4E-4971-B5F0-1A294130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4985-D1DC-44F3-B5E5-3BEDC58E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9B96-9B5C-4A9B-A382-B0201205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BB79-A68B-4AD6-9B3C-63629B6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288-761D-4F0F-BD83-F2BDF826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0B5D-AA56-42BB-A8DD-113D688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6FCC-3FC6-4DA7-B980-3C8D0A18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5ECA-FD4B-45A4-BF79-47519BA5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8E44-4483-4151-9E21-A793A3AD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051C-4CD3-4AB1-B15C-E71ABF46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D6E-C2DF-465F-A08A-10C41B2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DC9-365B-4F08-A1D7-81D92D6F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1EF-4955-482C-808B-BCE80A9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3B6-3DF9-4CF6-91CD-CB187EC0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F0-12EB-4A84-9D67-2CD0A10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1AB-E9C3-4D6E-91F5-318FCE5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6B0-C8B7-4FB9-A083-31AD7883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D074-C075-4433-BD72-784CF8FAE1AE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F09-595A-4ACC-BE95-940B5387F77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435640" y="5734080"/>
            <a:ext cx="3516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dc5900">
                    <a:alpha val="6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奉贤区齐贤学校：朱琳琳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dc5900">
                  <a:alpha val="6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行楷"/>
              </a:rPr>
              <a:t>历史虽有沉沦，但我们不屈不挠的中国人民面对灾难，总能在灾难中站起来，今天，就让我们一起学习革命战士们民族不屈的爱国精神；学会对血腥历史的清醒反思，从而更加珍惜我们今天的幸福生活。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692280"/>
            <a:ext cx="280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结束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摘抄并积累课文中的词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课堂上未完成“仿写”的同学，回家继续完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自选题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周末网上观看影视片《定海风云》，写一篇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00—50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观后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课外阅读《葛云飞的故事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上“中华英雄网”了解更多的在鸦片战争中为国捐躯的将士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620640"/>
            <a:ext cx="165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作业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定海保卫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鸦片战争期间，英国政府贪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婪的目光瞄准了中国美丽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饶的舟山群岛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4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上旬，英国侵略军曾一度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领定海，后被迫退出，但野心未死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4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英军集结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艘战舰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0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余人，倚仗着坚船利炮的绝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优势，再次进犯舟山，驻岛将士奋起抵抗，历时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夜、悲壮激烈的定海抗英战役悲壮失败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05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411280" y="1557360"/>
            <a:ext cx="468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血染的丰碑</a:t>
            </a:r>
            <a:endParaRPr b="0" lang="en-US" sz="2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    </a:t>
            </a:r>
            <a:endParaRPr b="0" lang="en-US" sz="2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35280" y="3573360"/>
            <a:ext cx="201636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汪浙成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64000" y="5300640"/>
            <a:ext cx="3516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dc5900">
                    <a:alpha val="62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奉贤区齐贤学校：朱琳琳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dc5900">
                  <a:alpha val="62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40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、给下列加点字注音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耸峙（  ）    扼守（  ）   饷给（    ）（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麾下（  ）    同仇敌忾（  ）    浩淼（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铩羽（  ）    响遏行云（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62064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初读课文 整体感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"/>
          <p:cNvSpPr/>
          <p:nvPr/>
        </p:nvSpPr>
        <p:spPr>
          <a:xfrm>
            <a:off x="730440" y="3357720"/>
            <a:ext cx="22287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解释下列词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扼守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响遏行云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深谙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844640"/>
            <a:ext cx="6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zh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616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48080" y="184464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xiǎ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91840" y="1844640"/>
            <a:ext cx="3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j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3400" y="2276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hu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3440" y="22050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kà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2440" y="22766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miǎ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23360" y="270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sh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5080" y="2657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192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据守要地，防敌侵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280" y="429264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声音高入云霄，把浮动的云彩也止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了，形容声音嘹亮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1440" y="5157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深知，熟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快速自读课文，概括文章层次及主要内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62064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初读课文 整体感知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205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第一层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2205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-3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220500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交待竹山门地理位置和曾发生的历史事件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781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第二层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2781360"/>
            <a:ext cx="12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-15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781360"/>
            <a:ext cx="67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具体叙述以葛云飞为指挥的第二次定海战役的经过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3500280"/>
            <a:ext cx="144360" cy="1584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33177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-5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3321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葛云飞别母赴前线和战前准备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37638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-7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376380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将士们阵前誓师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422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8-9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41958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葛云飞与士兵们同甘共苦，英勇歼敌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7721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0-15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65300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在救援无果的情况下，葛云飞率领将士们与敌人殊死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搏斗最后壮烈牺牲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第三层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551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6-17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5516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歌颂葛云飞及将士们英勇报国的精神永存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小组学习（圈画、批注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）”为什么作者开头说“竹山门是我国抗击侵略者的一座血染的大门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）课文是怎样描写葛云飞等将士“血染”竹山门场面的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）怎样感悟课文结尾“竹山门啊，你是耸立在我国近代史上一座血染的丰碑！”的作者情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620640"/>
            <a:ext cx="39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读课文 把握中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1280" y="549360"/>
            <a:ext cx="37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质疑探究 加深感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1680" y="1413000"/>
          <a:ext cx="8663040" cy="4608360"/>
        </p:xfrm>
        <a:graphic>
          <a:graphicData uri="http://schemas.openxmlformats.org/drawingml/2006/table">
            <a:tbl>
              <a:tblPr/>
              <a:tblGrid>
                <a:gridCol w="4199040"/>
                <a:gridCol w="44640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史料记载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楷体_GB2312"/>
                        </a:rPr>
                        <a:t>课文描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81720" y="1989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士兵大部分在血战中阵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4040" y="1989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麾下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80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名守军无一变节投降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99880" y="2565360"/>
            <a:ext cx="2558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这时，英军正在向土城进逼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葛云飞捧抱四千斤炮回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6600" y="2492280"/>
            <a:ext cx="25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情急之下，葛云飞上前掇抱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身，猛一发力，竟将这大铁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瘩转个向，随即便操炮发射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一直打到炮身红透，无法再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28240" y="42210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葛云飞被枪弹击中左眼，又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英军劈开面孔，鲜血淋漓，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土城上跌下，英勇捐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5360" y="4149720"/>
            <a:ext cx="3070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葛云飞身中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余枪，浑身血染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仍倚崖屹立在竹山门上，须发怒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张，一目如炬，双手紧握着两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佩刀，仿佛继续在抗击着侵略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为增强文章的感染力、为表达主题的需要，对历史事实作一些“适当”加工是自然合理的，使文章更具有感染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484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楷体_GB2312"/>
              </a:rPr>
              <a:t>散文的文学特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713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郑国鸿碑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郑国鸿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777——184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字雪堂，湖南凤凰厅（今凤凰县）人。出生于行伍家庭。道光二十年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4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升为浙江处州镇总兵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4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月，与葛云飞、王锡朋等带兵三千人，渡海收复被英军占领的定海。道光二十一年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84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九月，英军再犯定海，郑国鸿死守竹山门，直到枪炮弹药用尽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日，晓峰岭失守，王锡朋阵亡，英军夺道下攻竹山门。面对蜂拥而至的英军，郑国鸿镇定执旗督战。虽身中两炮，受伤数十处，他仍挥刀作战，杀死杀伤数名敌人，流尽最后一滴血，壮死在竹山上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4000" y="549360"/>
            <a:ext cx="40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仿写练习 培养能力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05:42:25Z</dcterms:created>
  <dc:creator>user</dc:creator>
  <dc:description/>
  <dc:language>en-US</dc:language>
  <cp:lastModifiedBy>user</cp:lastModifiedBy>
  <dcterms:modified xsi:type="dcterms:W3CDTF">2011-04-26T06:34:17Z</dcterms:modified>
  <cp:revision>31</cp:revision>
  <dc:subject/>
  <dc:title>幻灯片 1</dc:title>
</cp:coreProperties>
</file>