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8.gif" ContentType="image/gif"/>
  <Override PartName="/ppt/media/image18.jpeg" ContentType="image/jpeg"/>
  <Override PartName="/ppt/media/image12.gif" ContentType="image/gif"/>
  <Override PartName="/ppt/media/image7.gif" ContentType="image/gif"/>
  <Override PartName="/ppt/media/image11.gif" ContentType="image/gif"/>
  <Override PartName="/ppt/media/image19.jpeg" ContentType="image/jpeg"/>
  <Override PartName="/ppt/media/image1.gif" ContentType="image/gif"/>
  <Override PartName="/ppt/media/image17.jpeg" ContentType="image/jpeg"/>
  <Override PartName="/ppt/media/image5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.gif" ContentType="image/gif"/>
  <Override PartName="/ppt/media/image4.gif" ContentType="image/gif"/>
  <Override PartName="/ppt/media/image13.png" ContentType="image/png"/>
  <Override PartName="/ppt/media/image6.gif" ContentType="image/gif"/>
  <Override PartName="/ppt/media/image10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2189-B368-42FF-9D70-235F4FB8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298-F119-4946-B003-229F4850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CDF-9F1E-4E9E-A41E-11C589BB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BCF6-7820-4B85-BA4A-6C0268F9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FE8-F323-4752-A8FA-DD84829F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8B0-C6FF-4770-BA0F-DBB7B5C2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B763-B70C-4A9C-BCF0-CC40BAF1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684-2411-44BD-8535-B3EA2FD6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AF9D-0B55-47CC-A9B4-010C410D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27A-155F-4C75-A963-AB20A98B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F84-FA0D-4B94-ACEE-2D3B28C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3C5-897B-4622-BB2B-982A1C74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5B07-B813-4BA3-AA0D-C7DEC68B2D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学们，我们每个人都有童年生活，那是多么欢快，多么有趣，至今记忆犹新，下面请欣赏几副童年的图片，让它们带我们回到童年时代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045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295280" cy="2133720"/>
          </a:xfrm>
          <a:prstGeom prst="rect">
            <a:avLst/>
          </a:prstGeom>
          <a:ln w="0">
            <a:noFill/>
          </a:ln>
        </p:spPr>
      </p:pic>
      <p:pic>
        <p:nvPicPr>
          <p:cNvPr id="43" name="047" descr=""/>
          <p:cNvPicPr/>
          <p:nvPr/>
        </p:nvPicPr>
        <p:blipFill>
          <a:blip r:embed="rId2"/>
          <a:stretch/>
        </p:blipFill>
        <p:spPr>
          <a:xfrm>
            <a:off x="3124080" y="0"/>
            <a:ext cx="222912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061" descr=""/>
          <p:cNvPicPr/>
          <p:nvPr/>
        </p:nvPicPr>
        <p:blipFill>
          <a:blip r:embed="rId3"/>
          <a:stretch/>
        </p:blipFill>
        <p:spPr>
          <a:xfrm>
            <a:off x="5791320" y="16344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45" name="065" descr=""/>
          <p:cNvPicPr/>
          <p:nvPr/>
        </p:nvPicPr>
        <p:blipFill>
          <a:blip r:embed="rId4"/>
          <a:stretch/>
        </p:blipFill>
        <p:spPr>
          <a:xfrm>
            <a:off x="380880" y="4191120"/>
            <a:ext cx="1954440" cy="2384280"/>
          </a:xfrm>
          <a:prstGeom prst="rect">
            <a:avLst/>
          </a:prstGeom>
          <a:ln w="0">
            <a:noFill/>
          </a:ln>
        </p:spPr>
      </p:pic>
      <p:pic>
        <p:nvPicPr>
          <p:cNvPr id="46" name="046" descr=""/>
          <p:cNvPicPr/>
          <p:nvPr/>
        </p:nvPicPr>
        <p:blipFill>
          <a:blip r:embed="rId5"/>
          <a:stretch/>
        </p:blipFill>
        <p:spPr>
          <a:xfrm>
            <a:off x="2514600" y="4191120"/>
            <a:ext cx="227664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044" descr=""/>
          <p:cNvPicPr/>
          <p:nvPr/>
        </p:nvPicPr>
        <p:blipFill>
          <a:blip r:embed="rId6"/>
          <a:stretch/>
        </p:blipFill>
        <p:spPr>
          <a:xfrm>
            <a:off x="5257800" y="4351320"/>
            <a:ext cx="35971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．填空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　　《闲情记趣》的作者是，＿ （朝代）＿家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　　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．给下列加点的字注音。 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　　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童稚（    ）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果如鹤唳（    ）云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项为之强（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以土砾（      ）凸者为丘 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　　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．根据拼音写汉字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　　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l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见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miao3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＿小微物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凹者为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he4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pang2__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然大物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yi2__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然自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．解释下列加点的字。</a:t>
            </a:r>
            <a:br>
              <a:rPr sz="3200"/>
            </a:b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　　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项为之强：＿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能张目对日：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徐喷以烟：＿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鞭数十：＿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又留蚊于素帐中：＿ （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66"/>
                </a:solidFill>
                <a:latin typeface="Times New Roman"/>
              </a:rPr>
              <a:t>）余亿童稚时：＿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71080" y="533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370880" y="6324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57080" y="5791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13880" y="5791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714280" y="5334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0600" y="632448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199680" y="23623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400080" y="1905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438280" y="190512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66880" y="289548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-457200"/>
            <a:ext cx="9144000" cy="75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1800" spc="-1" strike="noStrike">
                <a:solidFill>
                  <a:srgbClr val="ff0066"/>
                </a:solidFill>
                <a:latin typeface="Times New Roman"/>
              </a:rPr>
              <a:t>巩固与掌握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阅读下面的文字，完成文后的练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f00ff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于土墙凹凸处，花台小草丛杂处，常蹲其身，使与台齐；定神细视，以丛草为林，以虫蚊为兽，以土砾凸者为丘，凹者为壑，神游其中，怕然自得。 </a:t>
            </a: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．写出下列加点词语在文中的含义。</a:t>
            </a: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l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）于土墙凹凸处：＿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（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）常蹲其身：＿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）神游其中：＿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</a:rPr>
              <a:t>                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 （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）定神细观：＿ </a:t>
            </a: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．翻译下列句子。</a:t>
            </a: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）使与台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（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）以土砾凸者为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怡然自得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这个词语，我们在初一哪篇文言文中学过？你能记得吗？请将该话默写出来。</a:t>
            </a: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4.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解释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怡然自得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并造句。</a:t>
            </a:r>
            <a:br>
              <a:rPr sz="2800"/>
            </a:b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　　 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．文中运用了＿修辞方法，突出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神游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"</a:t>
            </a:r>
            <a:r>
              <a:rPr b="0" lang="zh-CN" sz="2800" spc="-1" strike="noStrike">
                <a:solidFill>
                  <a:srgbClr val="ccccff"/>
                </a:solidFill>
                <a:latin typeface="Times New Roman"/>
              </a:rPr>
              <a:t>之乐。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52480" y="2666880"/>
            <a:ext cx="76320" cy="763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818800" y="2590920"/>
            <a:ext cx="7596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7467480" y="3048120"/>
            <a:ext cx="7632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514600" y="3048120"/>
            <a:ext cx="7632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086600" y="2590920"/>
            <a:ext cx="76320" cy="759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133720" y="609480"/>
            <a:ext cx="46479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宋体"/>
              </a:rPr>
              <a:t>陕西省实验中学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0066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05320" y="4876920"/>
            <a:ext cx="175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ff00"/>
                    </a:gs>
                  </a:gsLst>
                  <a:lin ang="5400000"/>
                </a:gradFill>
                <a:latin typeface="宋体"/>
              </a:rPr>
              <a:t>拓凤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00ff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590920" y="2362320"/>
            <a:ext cx="35049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e76a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再见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e76a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rasshopper" descr=""/>
          <p:cNvPicPr/>
          <p:nvPr/>
        </p:nvPicPr>
        <p:blipFill>
          <a:blip r:embed="rId1"/>
          <a:stretch/>
        </p:blipFill>
        <p:spPr>
          <a:xfrm>
            <a:off x="0" y="4664160"/>
            <a:ext cx="4389480" cy="219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2952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捉蛐蛐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天色已经很晚了，四周静悄悄的，乘凉的人们仿佛都陆续进屋了，只有我还在路灯下玩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突然，一阵“嘟儿——嘟儿”的叫声从墙根下传来。再侧耳听，又是一阵“嘟儿——嘟儿”声，对，是蛐蛐！我马上跑进屋，拿了手电筒和玻璃瓶出来捉蛐蛐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我蹑手蹑脚地顺着叫声寻找着，突然，一个小黑点一蹦，钻到了墙边的砖缝中，又继续叫了起来。我连忙打开了手电筒一照，啊，好大的蛐蛐呀！你看它，两根触须微微抖动，两只后腿强健有力。叫的时候，那只小肚子忽闪忽闪的，好像在使劲喊我呢。刚走近，它就跳到附近的碎砖堆里去了。我轻轻地把砖扒开，两手拢成喇叭，慢慢弓下身，心想：这下你可跑不了啦，谁知一扑竟没扑着，蛐蛐顺着手边又蹦到了墙根处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我也追近墙根，那蛐蛐似乎知道了我在捉它，索性转身逃到了一个小洞里，再也不出来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我焦急地等着，却始终不见动静。唉，怎么才能挺住它呢！我急中生智，忙向屋里喊道：“小弟，拿杯水来！”一回头，小弟不知什么时候已经蹲在我身边。他听了我的话，赶忙起身向屋里跑去。等小弟把水拿来以后，我把水小心地对着洞口倒去。畸，这下可灵了。只见那只蛐蛐浑身湿滚滚的，一下子跳出洞来，可在它还没站稳的当儿，我看准了，一扑，终于捉住它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　　小东西在我手里还一个劲儿地蹬脚呢，我赶忙把它扣进玻璃瓶中。这时，我那高兴劲就甭提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心想，捉住它可真不容易啊，还真动了一番脑筋呢。</a:t>
            </a:r>
            <a:br>
              <a:rPr sz="1800"/>
            </a:br>
            <a:br>
              <a:rPr sz="1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0-431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396920" y="445680"/>
            <a:ext cx="1094760" cy="4245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闲情记趣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7360" y="2362320"/>
            <a:ext cx="85068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沈   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浮生六记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2403360" cy="3504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17880" y="727200"/>
            <a:ext cx="450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沈复（公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63——180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清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和年间苏州人，字三白，以作幕僚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经商为生，能文善画，曾一度幕游四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晚年学道以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2743200"/>
            <a:ext cx="383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《浮生六记》沈复撰写，是一部自传体的作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书中记述了作者平凡的家居生活和浪游各地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见闻，以及坎坷的遭遇。文辞朴素，情感真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反映了当时的世态人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39360" y="4940280"/>
            <a:ext cx="571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&l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闲情记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文，作者以第一人称自述了童年生活的小故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反映了儿童丰富的想象力和天真烂漫的童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中紧扣一个“趣”字，揭示出儿童美妙的内心世界。“我”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蚊为鹤，以从草为林，皆真实可信，从中领略孩子的纯真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丰富的想象力与创造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600" y="-886680"/>
            <a:ext cx="1642680" cy="7306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余忆童稚时，能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张目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明察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秋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见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微物，必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察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纹理，故时有物外之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759400" y="246240"/>
            <a:ext cx="4691520" cy="7038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注：张目—睁开眼        秋毫—秋天鸟兽身上新长的细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藐——小                其——指前面的“藐小微物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70400" y="114300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问题一：作者童稚时，为什么常有“物外之趣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484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问题二：这一段在全文里有何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35600" y="1744560"/>
            <a:ext cx="410652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因为作者能“张目对日，明察秋毫，见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微物，必细察其纹理”，故时有物外之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14600" y="3398760"/>
            <a:ext cx="383832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总括。这一段总领并概括了作者童年时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时常有世以外的乐趣的原因，为下文的描述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4952880"/>
            <a:ext cx="6584760" cy="16786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回忆起我小时候，（视力特别好）能睁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眼睛直视太阳，能看清秋天鸟儿新长出最纤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羽毛，（只要）见到细微的东西，一定要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察看它的纹理，因此常常产生超然物外的乐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80" y="-1003680"/>
            <a:ext cx="1643400" cy="838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夏蚊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成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拟作群鹤舞空。心之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向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则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千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百果然鹤也。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昂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观之，项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为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又留蚊于素帐中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喷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烟，使其冲烟飞鸣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青云白鹤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如鹤唳云端，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然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称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042" descr=""/>
          <p:cNvPicPr/>
          <p:nvPr/>
        </p:nvPicPr>
        <p:blipFill>
          <a:blip r:embed="rId1"/>
          <a:stretch/>
        </p:blipFill>
        <p:spPr>
          <a:xfrm>
            <a:off x="0" y="6400800"/>
            <a:ext cx="1600200" cy="457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727360" y="270000"/>
            <a:ext cx="4374720" cy="9169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注：成雷—好像打雷的声音        私—自己        所—……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或……或—有时        昂首—抬起头        为之—因为抬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徐……以—慢慢地；用        作……观—形成；景观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05320" y="150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一：这段写的什么？（概括段意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160" y="22096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二：这段可分为两层，在何处断开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97280" y="289548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三：这样分层的根据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61840" y="3627360"/>
            <a:ext cx="381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四：“昂首观之，项为之强”一句是什么意思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有什么含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2880" y="18064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作者在夏天所见的蚊飞的情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5600" y="25606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又”字之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60440" y="3246480"/>
            <a:ext cx="33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前一层在“素帐”外，后一层在“素帐”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76480" y="4335480"/>
            <a:ext cx="459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抬头看着飞舞如鹤的蚊子，脖子（竟）因为抬头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变僵了。这句写出了作者的好奇、专注与着迷，体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神奇的想象所带来的影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64040" y="5392800"/>
            <a:ext cx="4460040" cy="14655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译：夏天蚊子成群地飞，嗡嗡的叫声像闷雷，我暗暗地把它们比作一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鹤在空中飞舞。我心里这样想，那成千上百的蚊子果然变成鹤了。（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昂头看，脖子也累得发僵了。（我）又把蚊子留在白色的睡帐中，慢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地用烟喷它们，让它们冲着烟雾飞叫，（我把这景象）比作“青云百鹤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果然它们就像折鹤在云端飞鸣，我高兴得（不停地拍手）叫好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" y="-1020960"/>
            <a:ext cx="2617560" cy="8415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于土墙凹凸处，花台小草丛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处，常蹲其身，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使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台齐；定神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视，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丛草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林，以虫蚁为兽，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土砾凸处者为丘，凹者为壑，神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其中，怡然自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03" descr=""/>
          <p:cNvPicPr/>
          <p:nvPr/>
        </p:nvPicPr>
        <p:blipFill>
          <a:blip r:embed="rId1"/>
          <a:stretch/>
        </p:blipFill>
        <p:spPr>
          <a:xfrm>
            <a:off x="0" y="6458040"/>
            <a:ext cx="838080" cy="399960"/>
          </a:xfrm>
          <a:prstGeom prst="rect">
            <a:avLst/>
          </a:prstGeom>
          <a:ln w="0">
            <a:noFill/>
          </a:ln>
        </p:spPr>
      </p:pic>
      <p:pic>
        <p:nvPicPr>
          <p:cNvPr id="79" name="03" descr=""/>
          <p:cNvPicPr/>
          <p:nvPr/>
        </p:nvPicPr>
        <p:blipFill>
          <a:blip r:embed="rId2"/>
          <a:stretch/>
        </p:blipFill>
        <p:spPr>
          <a:xfrm>
            <a:off x="685800" y="6456240"/>
            <a:ext cx="838080" cy="401760"/>
          </a:xfrm>
          <a:prstGeom prst="rect">
            <a:avLst/>
          </a:prstGeom>
          <a:ln w="0">
            <a:noFill/>
          </a:ln>
        </p:spPr>
      </p:pic>
      <p:pic>
        <p:nvPicPr>
          <p:cNvPr id="80" name="03" descr=""/>
          <p:cNvPicPr/>
          <p:nvPr/>
        </p:nvPicPr>
        <p:blipFill>
          <a:blip r:embed="rId3"/>
          <a:stretch/>
        </p:blipFill>
        <p:spPr>
          <a:xfrm>
            <a:off x="1371600" y="6400800"/>
            <a:ext cx="743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03" descr=""/>
          <p:cNvPicPr/>
          <p:nvPr/>
        </p:nvPicPr>
        <p:blipFill>
          <a:blip r:embed="rId4"/>
          <a:stretch/>
        </p:blipFill>
        <p:spPr>
          <a:xfrm>
            <a:off x="1981080" y="6400800"/>
            <a:ext cx="762120" cy="45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604680" y="0"/>
            <a:ext cx="44812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使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使自己同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以……为…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把……当作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63560" y="5335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一：这段写什么事？请概括段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90440" y="160812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二：这段使用了什么修辞手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3080" y="107460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作者神游土墙，花台时的想象情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38560" y="20653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排比和比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03560" y="3354480"/>
            <a:ext cx="3899160" cy="3506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译：我在土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凹凸不平的地方，花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旁小草丛杂处，常蹲下来，让身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和花台一样高。聚精会神地仔细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察，把草丛看作树林，把蚊虫想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为野兽，把凸起的土块比作山，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低洼的地方当作壕沟，我便在其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安闲自在地神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035" descr=""/>
          <p:cNvPicPr/>
          <p:nvPr/>
        </p:nvPicPr>
        <p:blipFill>
          <a:blip r:embed="rId5"/>
          <a:stretch/>
        </p:blipFill>
        <p:spPr>
          <a:xfrm>
            <a:off x="8145360" y="1600200"/>
            <a:ext cx="998640" cy="1752480"/>
          </a:xfrm>
          <a:prstGeom prst="rect">
            <a:avLst/>
          </a:prstGeom>
          <a:ln w="0">
            <a:noFill/>
          </a:ln>
        </p:spPr>
      </p:pic>
      <p:pic>
        <p:nvPicPr>
          <p:cNvPr id="89" name="0-587" descr=""/>
          <p:cNvPicPr/>
          <p:nvPr/>
        </p:nvPicPr>
        <p:blipFill>
          <a:blip r:embed="rId6"/>
          <a:stretch/>
        </p:blipFill>
        <p:spPr>
          <a:xfrm>
            <a:off x="5257800" y="2362320"/>
            <a:ext cx="1730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040" descr=""/>
          <p:cNvPicPr/>
          <p:nvPr/>
        </p:nvPicPr>
        <p:blipFill>
          <a:blip r:embed="rId1"/>
          <a:stretch/>
        </p:blipFill>
        <p:spPr>
          <a:xfrm>
            <a:off x="7010280" y="2057400"/>
            <a:ext cx="2133720" cy="1255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484200" y="0"/>
            <a:ext cx="3105000" cy="6858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日，见二虫斗草间，观之正浓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忽有庞然大物拔山倒树而来，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癞虾蟆，舌一吐而二虫尽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为所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余年幼，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出神，不觉呀然惊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神定，捉虾蟆，</a:t>
            </a: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数十，驱之别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0"/>
            <a:ext cx="6553080" cy="8254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原来是；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为所吞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被癞虾蟆吞没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方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正                </a:t>
            </a:r>
            <a:r>
              <a:rPr b="0" lang="zh-CN" sz="2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用鞭子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88440" y="990720"/>
            <a:ext cx="188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一：当作者正观虫斗兴浓之时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草间发生了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55880" y="24382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问题二：作者有何反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560" y="17524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草间出现了一只癞虾蟆拔山倒海而来，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作者看到的两只小虫全部吃掉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560" y="3124080"/>
            <a:ext cx="48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作者先是一惊，接着捉住虾蟆，用鞭子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了几十下，蒋它赶到另外的院子里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940200"/>
            <a:ext cx="6629400" cy="3020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译：有一天，我看见两个小虫在草间争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就仔细观察，看得兴致正浓时，突然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家伙掀倒“山”压倒“树”地走来，原来是一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癞蛤蟆，它的舌头一吐，两只小虫就全被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吞掉。当时我年幼，正在出神地看那两只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虫争斗，癞蛤蟆的到来不觉使我猛然一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等我神情安定下来，便捉住了这蛤蟆，抽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它几十鞭子，把它赶到别的院子去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7800" y="3288240"/>
            <a:ext cx="100332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此皆幼时闲情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31560" y="380880"/>
            <a:ext cx="461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通假字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项为之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强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。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“强”通“僵”，僵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49240" y="3124080"/>
            <a:ext cx="427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、活用词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      </a:t>
            </a: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鞭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数十，驱之别院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Times New Roman"/>
                <a:ea typeface="华文新魏"/>
              </a:rPr>
              <a:t>鞭：作动词用，“用鞭子打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9:02:33Z</dcterms:created>
  <dc:creator>yjyz</dc:creator>
  <dc:description/>
  <dc:language>en-US</dc:language>
  <cp:lastModifiedBy>tjt</cp:lastModifiedBy>
  <dcterms:modified xsi:type="dcterms:W3CDTF">2004-03-27T15:18:50Z</dcterms:modified>
  <cp:revision>28</cp:revision>
  <dc:subject/>
  <dc:title>PowerPoint 演示文稿</dc:title>
</cp:coreProperties>
</file>