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chimes.wav" ContentType="audio/x-wav"/>
  <Override PartName="/ppt/media/image7.png" ContentType="image/pn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03A-8911-4EB5-8406-EE19E573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7E0-BCFF-4F20-9CC7-E05566B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C10-A421-4084-87E4-5DF2A949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86F-34B6-4560-9175-107B6C1D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ECC-DF0A-4BEF-991D-4916C593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4B82-09E6-462A-BAEA-8AB54BF3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3F02-7D44-4099-9A57-830DFC2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D51C-4E0A-41D1-9C4B-33B175B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277-40E1-4079-94DE-3BE32BCD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214-0B63-4B42-AC63-536A25AD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B17C-9DCC-4294-9EAF-F0222E0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E5C-4201-4B9A-97D5-8E730CF6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1D5-8CFD-4734-A7CB-6776E46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31C-C144-4F0A-A314-61E3B05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99FA-9936-44D9-80B8-084B0F2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8001-6498-427E-91A3-C1F783D7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B5C-8D16-4936-B9A2-AF75A508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0A4-4AC9-4D0F-B8B7-BCF074E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C46-E253-40C5-ACF6-80509245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D25-A8E5-4DC3-8E20-72D0596C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34C-30F3-4142-B722-7DA779F4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06B-2D00-4527-B222-75F4DC7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E06-A963-4AA2-A6AD-F7CA57B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E26-E369-46A3-8BE0-52476AC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FF0-E533-4BC5-B0FF-444DACF2BD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DDD-23A0-4E05-BF7C-C4371B7B03B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58920" y="1268280"/>
            <a:ext cx="648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7a77"/>
                </a:solidFill>
                <a:latin typeface="黑体"/>
                <a:ea typeface="黑体"/>
              </a:rPr>
              <a:t>香菱学诗</a:t>
            </a:r>
            <a:endParaRPr b="0" lang="en-US" sz="11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755640" y="2276640"/>
            <a:ext cx="4897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根并荷花一茎香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dc5900"/>
                </a:solidFill>
                <a:uFillTx/>
                <a:latin typeface="Arial"/>
              </a:rPr>
              <a:t>平生遭际实堪伤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自从两地生孤木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致使香魂返故乡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4000" y="476280"/>
            <a:ext cx="84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红楼梦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第五回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中，贾宝玉梦游“太虚幻境”，翻看副册时，只见画着一株桂花，下面有一池沼，其中水涸泥干，莲枯藕败，后面书云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Picture 15" descr="香菱"/>
          <p:cNvPicPr/>
          <p:nvPr/>
        </p:nvPicPr>
        <p:blipFill>
          <a:blip r:embed="rId1"/>
          <a:srcRect l="39133" t="2173" r="0" b="0"/>
          <a:stretch/>
        </p:blipFill>
        <p:spPr>
          <a:xfrm>
            <a:off x="5364000" y="2116080"/>
            <a:ext cx="3240360" cy="3905280"/>
          </a:xfrm>
          <a:prstGeom prst="rect">
            <a:avLst/>
          </a:prstGeom>
          <a:ln w="0">
            <a:noFill/>
          </a:ln>
        </p:spPr>
      </p:pic>
      <p:pic>
        <p:nvPicPr>
          <p:cNvPr id="86" name="郑绪岚 红楼梦 - 叹香菱.mp3" descr=""/>
          <p:cNvPicPr/>
          <p:nvPr/>
        </p:nvPicPr>
        <p:blipFill>
          <a:blip r:embed="rId2"/>
          <a:stretch/>
        </p:blipFill>
        <p:spPr>
          <a:xfrm>
            <a:off x="611280" y="5678640"/>
            <a:ext cx="5760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53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692280"/>
            <a:ext cx="8675640" cy="916920"/>
          </a:xfrm>
          <a:prstGeom prst="rect">
            <a:avLst/>
          </a:prstGeom>
          <a:solidFill>
            <a:srgbClr val="f2f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dc5900"/>
                </a:solidFill>
                <a:latin typeface="Times New Roman"/>
                <a:ea typeface="华文彩云"/>
              </a:rPr>
              <a:t>说一说：</a:t>
            </a:r>
            <a:r>
              <a:rPr b="1" i="1" lang="zh-CN" sz="3600" spc="-1" strike="noStrike">
                <a:solidFill>
                  <a:srgbClr val="008000"/>
                </a:solidFill>
                <a:latin typeface="Times New Roman"/>
              </a:rPr>
              <a:t>预习课文后，你想知道些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Picture 19" descr="xiangling"/>
          <p:cNvPicPr/>
          <p:nvPr/>
        </p:nvPicPr>
        <p:blipFill>
          <a:blip r:embed="rId1"/>
          <a:srcRect l="16384" t="22020" r="20917" b="36580"/>
          <a:stretch/>
        </p:blipFill>
        <p:spPr>
          <a:xfrm>
            <a:off x="539640" y="2421000"/>
            <a:ext cx="2673360" cy="34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黛玉"/>
          <p:cNvPicPr/>
          <p:nvPr/>
        </p:nvPicPr>
        <p:blipFill>
          <a:blip r:embed="rId2"/>
          <a:stretch/>
        </p:blipFill>
        <p:spPr>
          <a:xfrm>
            <a:off x="5867280" y="2060640"/>
            <a:ext cx="2853000" cy="4140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2"/>
          <p:cNvSpPr/>
          <p:nvPr/>
        </p:nvSpPr>
        <p:spPr>
          <a:xfrm>
            <a:off x="2627280" y="4869000"/>
            <a:ext cx="2808360" cy="1296720"/>
          </a:xfrm>
          <a:prstGeom prst="cloudCallout">
            <a:avLst>
              <a:gd name="adj1" fmla="val -55935"/>
              <a:gd name="adj2" fmla="val -83537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看我怎么学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>
            <a:off x="3419640" y="2060640"/>
            <a:ext cx="2808000" cy="1297080"/>
          </a:xfrm>
          <a:prstGeom prst="cloudCallout">
            <a:avLst>
              <a:gd name="adj1" fmla="val 58819"/>
              <a:gd name="adj2" fmla="val 67013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看我怎么教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4360" y="549360"/>
            <a:ext cx="8820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dc5900"/>
                </a:solidFill>
                <a:latin typeface="Times New Roman"/>
                <a:ea typeface="华文彩云"/>
              </a:rPr>
              <a:t>师傅领进门</a:t>
            </a:r>
            <a:r>
              <a:rPr b="1" i="1" lang="en-US" sz="3600" spc="-1" strike="noStrike">
                <a:solidFill>
                  <a:srgbClr val="dc5900"/>
                </a:solidFill>
                <a:latin typeface="Times New Roman"/>
                <a:ea typeface="华文彩云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8000"/>
                </a:solidFill>
                <a:latin typeface="Arial"/>
              </a:rPr>
              <a:t>第一段中黛玉是怎么指导香菱学诗的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681440" y="2637000"/>
            <a:ext cx="4067280" cy="2766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179280" y="2349360"/>
            <a:ext cx="4608720" cy="1871640"/>
          </a:xfrm>
          <a:prstGeom prst="cloudCallout">
            <a:avLst>
              <a:gd name="adj1" fmla="val 74907"/>
              <a:gd name="adj2" fmla="val 38041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针对初学者易受格律拘束的通病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指出立意的重要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900000" y="4724280"/>
            <a:ext cx="4824360" cy="1368720"/>
          </a:xfrm>
          <a:prstGeom prst="cloudCallout">
            <a:avLst>
              <a:gd name="adj1" fmla="val 76587"/>
              <a:gd name="adj2" fmla="val -64615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针对喜爱浅近诗句的倾向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开列书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"/>
          <p:cNvSpPr/>
          <p:nvPr/>
        </p:nvSpPr>
        <p:spPr>
          <a:xfrm>
            <a:off x="3924360" y="2556000"/>
            <a:ext cx="4319640" cy="581400"/>
          </a:xfrm>
          <a:prstGeom prst="rect">
            <a:avLst/>
          </a:prstGeom>
          <a:solidFill>
            <a:srgbClr val="f2f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华文新魏"/>
              </a:rPr>
              <a:t>细节描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是刻画人物的一种重要方法，它是对于肖像、语言、动作、心理、环境和场面的细微末节所作的描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189000"/>
            <a:ext cx="83534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c5900"/>
                </a:solidFill>
                <a:latin typeface="Times New Roman"/>
                <a:ea typeface="华文彩云"/>
              </a:rPr>
              <a:t>修行靠个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8000"/>
                </a:solidFill>
                <a:latin typeface="Arial"/>
              </a:rPr>
              <a:t>找出表现香菱苦志写诗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(4-8</a:t>
            </a:r>
            <a:r>
              <a:rPr b="1" i="1" lang="zh-CN" sz="3200" spc="-1" strike="noStrike">
                <a:solidFill>
                  <a:srgbClr val="008000"/>
                </a:solidFill>
                <a:latin typeface="Arial"/>
              </a:rPr>
              <a:t>段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i="1" lang="zh-CN" sz="3200" spc="-1" strike="noStrike">
                <a:solidFill>
                  <a:srgbClr val="008000"/>
                </a:solidFill>
                <a:latin typeface="Arial"/>
              </a:rPr>
              <a:t>的</a:t>
            </a:r>
            <a:r>
              <a:rPr b="1" i="1" lang="zh-CN" sz="3200" spc="-1" strike="noStrike">
                <a:solidFill>
                  <a:srgbClr val="dc5900"/>
                </a:solidFill>
                <a:latin typeface="Arial"/>
              </a:rPr>
              <a:t>细节描写</a:t>
            </a:r>
            <a:r>
              <a:rPr b="1" i="1" lang="zh-CN" sz="3200" spc="-1" strike="noStrike">
                <a:solidFill>
                  <a:srgbClr val="008000"/>
                </a:solidFill>
                <a:latin typeface="Arial"/>
              </a:rPr>
              <a:t>，抓住</a:t>
            </a:r>
            <a:r>
              <a:rPr b="1" i="1" lang="zh-CN" sz="3200" spc="-1" strike="noStrike">
                <a:solidFill>
                  <a:srgbClr val="dc5900"/>
                </a:solidFill>
                <a:latin typeface="Arial"/>
              </a:rPr>
              <a:t>关键词</a:t>
            </a:r>
            <a:r>
              <a:rPr b="1" i="1" lang="zh-CN" sz="3200" spc="-1" strike="noStrike">
                <a:solidFill>
                  <a:srgbClr val="008000"/>
                </a:solidFill>
                <a:latin typeface="Arial"/>
              </a:rPr>
              <a:t>分析表现了人物的什么精神。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50920" y="5516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写香菱读诗：</a:t>
            </a:r>
            <a:r>
              <a:rPr b="1" lang="en-US" sz="2800" spc="-1" strike="noStrike">
                <a:solidFill>
                  <a:srgbClr val="001615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1615"/>
                </a:solidFill>
                <a:latin typeface="Arial"/>
              </a:rPr>
              <a:t>回至蘅芜苑中，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诸事不顾</a:t>
            </a:r>
            <a:r>
              <a:rPr b="1" lang="zh-CN" sz="2800" spc="-1" strike="noStrike">
                <a:solidFill>
                  <a:srgbClr val="001615"/>
                </a:solidFill>
                <a:latin typeface="Arial"/>
              </a:rPr>
              <a:t>，只向灯下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一首一首</a:t>
            </a:r>
            <a:r>
              <a:rPr b="1" lang="zh-CN" sz="2800" spc="-1" strike="noStrike">
                <a:solidFill>
                  <a:srgbClr val="001615"/>
                </a:solidFill>
                <a:latin typeface="Arial"/>
              </a:rPr>
              <a:t>的读起来。宝钗连催他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数次</a:t>
            </a:r>
            <a:r>
              <a:rPr b="1" lang="zh-CN" sz="2800" spc="-1" strike="noStrike">
                <a:solidFill>
                  <a:srgbClr val="001615"/>
                </a:solidFill>
                <a:latin typeface="Arial"/>
              </a:rPr>
              <a:t>睡觉，他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也</a:t>
            </a:r>
            <a:r>
              <a:rPr b="1" lang="zh-CN" sz="2800" spc="-1" strike="noStrike">
                <a:solidFill>
                  <a:srgbClr val="001615"/>
                </a:solidFill>
                <a:latin typeface="Arial"/>
              </a:rPr>
              <a:t>不睡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Picture 15" descr="xiangling"/>
          <p:cNvPicPr/>
          <p:nvPr/>
        </p:nvPicPr>
        <p:blipFill>
          <a:blip r:embed="rId1"/>
          <a:srcRect l="16384" t="22020" r="20917" b="36580"/>
          <a:stretch/>
        </p:blipFill>
        <p:spPr>
          <a:xfrm>
            <a:off x="900000" y="2060640"/>
            <a:ext cx="2670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528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香菱听了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拿回诗来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苦思一回作两句诗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舍不得杜诗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两首。如此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茶饭无心，坐卧不定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170028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香菱听了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默默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回来，越性连房也不入，只在池边树下，或坐在山石上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出神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或蹲在地下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抠土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只见他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皱一回眉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又自己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含笑一回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6720" y="3141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便自己走至阶前竹下闲步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挖心搜胆，耳不旁听，目不别视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一时探春隔窗笑说道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菱姑娘，你闲闲罢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香菱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怔怔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道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闲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字是十五删的，你错了韵了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5280" y="501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至晚间对灯出了一回神，至三更以后上床卧下，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两眼鳏鳏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直到五更方才朦胧睡去了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从梦中笑道：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可是有了，难道这一首还不好</a:t>
            </a:r>
            <a:r>
              <a:rPr b="1" lang="en-US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?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68360" y="3860640"/>
            <a:ext cx="3456000" cy="1729080"/>
          </a:xfrm>
          <a:prstGeom prst="cloudCallout">
            <a:avLst>
              <a:gd name="adj1" fmla="val 22347"/>
              <a:gd name="adj2" fmla="val -95273"/>
            </a:avLst>
          </a:prstGeom>
          <a:solidFill>
            <a:srgbClr val="e57fd6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  <a:ea typeface="楷体_GB2312"/>
              </a:rPr>
              <a:t>专心致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615"/>
                </a:solidFill>
                <a:latin typeface="Arial"/>
                <a:ea typeface="楷体_GB2312"/>
              </a:rPr>
              <a:t>废寝忘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539640" y="260280"/>
            <a:ext cx="5400720" cy="1800360"/>
          </a:xfrm>
          <a:prstGeom prst="wedgeRoundRectCallout">
            <a:avLst>
              <a:gd name="adj1" fmla="val 30157"/>
              <a:gd name="adj2" fmla="val 114550"/>
              <a:gd name="adj3" fmla="val 16667"/>
            </a:avLst>
          </a:prstGeom>
          <a:solidFill>
            <a:srgbClr val="f2f258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平时要细心观察；通过细节描写，可具体、传神地体现人物的精神、性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6948360" y="189000"/>
            <a:ext cx="1764000" cy="792000"/>
          </a:xfrm>
          <a:prstGeom prst="wedgeEllipseCallout">
            <a:avLst>
              <a:gd name="adj1" fmla="val -48828"/>
              <a:gd name="adj2" fmla="val 9108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1557360"/>
            <a:ext cx="1764000" cy="792000"/>
          </a:xfrm>
          <a:prstGeom prst="wedgeEllipseCallout">
            <a:avLst>
              <a:gd name="adj1" fmla="val -42259"/>
              <a:gd name="adj2" fmla="val 107115"/>
            </a:avLst>
          </a:prstGeom>
          <a:solidFill>
            <a:srgbClr val="7ec1e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7056360" y="3573360"/>
            <a:ext cx="1728720" cy="863640"/>
          </a:xfrm>
          <a:prstGeom prst="wedgeEllipseCallout">
            <a:avLst>
              <a:gd name="adj1" fmla="val -43296"/>
              <a:gd name="adj2" fmla="val 94486"/>
            </a:avLst>
          </a:prstGeom>
          <a:solidFill>
            <a:srgbClr val="0033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Picture 16" descr="image1437"/>
          <p:cNvPicPr/>
          <p:nvPr/>
        </p:nvPicPr>
        <p:blipFill>
          <a:blip r:embed="rId1"/>
          <a:stretch/>
        </p:blipFill>
        <p:spPr>
          <a:xfrm>
            <a:off x="7775640" y="5978520"/>
            <a:ext cx="13683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47640" y="620640"/>
            <a:ext cx="7812000" cy="1584360"/>
          </a:xfrm>
          <a:prstGeom prst="rect">
            <a:avLst/>
          </a:prstGeom>
          <a:solidFill>
            <a:srgbClr val="f2f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dc5900"/>
                </a:solidFill>
                <a:latin typeface="Arial"/>
                <a:ea typeface="华文彩云"/>
              </a:rPr>
              <a:t>谈一谈：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香菱学诗对你的阅读或写作有哪些启示（态度上或方法上）？以“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香菱学诗启发我</a:t>
            </a:r>
            <a:r>
              <a:rPr b="1" lang="en-US" sz="3200" spc="-1" strike="noStrike">
                <a:solidFill>
                  <a:srgbClr val="001615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1615"/>
                </a:solidFill>
                <a:latin typeface="Arial"/>
              </a:rPr>
              <a:t> 为开头说一两句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24000" y="2637000"/>
            <a:ext cx="48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做有心人，提高兴趣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勤奋执着，专心致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4076640"/>
            <a:ext cx="777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香菱学诗启发我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要多读；要挑选文质兼美的作品进行阅读；要大胆创作，要敢于想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Picture 5" descr="书写"/>
          <p:cNvPicPr/>
          <p:nvPr/>
        </p:nvPicPr>
        <p:blipFill>
          <a:blip r:embed="rId1"/>
          <a:stretch/>
        </p:blipFill>
        <p:spPr>
          <a:xfrm>
            <a:off x="702000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50920" y="693720"/>
            <a:ext cx="8893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c5900"/>
                </a:solidFill>
                <a:latin typeface="Arial"/>
                <a:ea typeface="华文彩云"/>
              </a:rPr>
              <a:t>练一练：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赏析香菱的三首诗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２、写某同学解难题的经过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要求运用细节描写。</a:t>
            </a:r>
            <a:br>
              <a:rPr sz="3200"/>
            </a:br>
            <a:br>
              <a:rPr sz="3200"/>
            </a:b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阅读“中国封建社会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百科全书”、我国古代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小说的顶峰之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红楼梦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Picture 13" descr="图片2"/>
          <p:cNvPicPr/>
          <p:nvPr/>
        </p:nvPicPr>
        <p:blipFill>
          <a:blip r:embed="rId1"/>
          <a:stretch/>
        </p:blipFill>
        <p:spPr>
          <a:xfrm>
            <a:off x="5581800" y="3500280"/>
            <a:ext cx="3311280" cy="241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花链"/>
          <p:cNvPicPr/>
          <p:nvPr/>
        </p:nvPicPr>
        <p:blipFill>
          <a:blip r:embed="rId2"/>
          <a:stretch/>
        </p:blipFill>
        <p:spPr>
          <a:xfrm>
            <a:off x="0" y="6093000"/>
            <a:ext cx="9144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2:09:48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2:10:14Z</dcterms:modified>
  <cp:revision>1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