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298F-F30C-4971-87D9-63BCEE4BF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AE4A-DD02-44F0-B999-A9EF7342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8336-F5BB-467E-8FC2-867BB92CD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F596-BACE-4C75-BE29-B779A5A54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0361-9461-475D-9DA3-F0C5ECFB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0CA9-11B1-4B83-8FBE-41A1CFCB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0CE7-2D18-4870-951C-39AFBB62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27A6-844E-4603-B993-50AB7298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EDCE-F88D-44B6-A5C9-AA96600A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9051-1317-4793-9005-47E3BF3D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8CDE-E9CE-4A06-B755-A5FD4C5B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9184-03F6-49C1-8427-2ACF1F75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053E-EC9E-4E96-BDAD-40F22FA65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0053209518607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6881760" y="765000"/>
            <a:ext cx="106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Times New Roman"/>
                <a:ea typeface="隶书"/>
              </a:rPr>
              <a:t>香菱学诗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 flipH="1">
            <a:off x="5580000" y="357336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曹雪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枉凝眉.mp3" descr=""/>
          <p:cNvPicPr/>
          <p:nvPr/>
        </p:nvPicPr>
        <p:blipFill>
          <a:blip r:embed="rId2"/>
          <a:stretch/>
        </p:blipFill>
        <p:spPr>
          <a:xfrm>
            <a:off x="31608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lm_09"/>
          <p:cNvPicPr/>
          <p:nvPr/>
        </p:nvPicPr>
        <p:blipFill>
          <a:blip r:embed="rId1"/>
          <a:stretch/>
        </p:blipFill>
        <p:spPr>
          <a:xfrm>
            <a:off x="0" y="0"/>
            <a:ext cx="8915400" cy="1074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20050628110453560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40194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0" y="3657600"/>
            <a:ext cx="9144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红楼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五回中，贾宝玉梦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太虚幻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翻看副册时，只见画着一株桂花，下面有一池沼，其中水涸泥干，莲枯藕败，后面书云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根并荷花一茎香，平生遭际实堪伤。自从两地生孤木，致使香魂返故乡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首判词说的就是香菱。她在小说中是出场最早的薄命女，自幼被拐，十几岁时被呆霸王薛蟠强买为妾，后来正妻金桂一来，她的命运就更为不堪，很快就被折磨致死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叹香菱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0" y="152280"/>
            <a:ext cx="579132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香菱是一个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从官宦小姐沦为奴婢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的悲剧人物。她有着不幸的命运：从小遭受灾难，被拐卖，又被呆霸王薛蟠生拖死拽弄到家里，终于沦为侍妾，受尽凌辱和折磨。薛蟠遭打外出后，香菱住进了大观园，有机会接触大观园内这许多富于才情的少女们，特别是像林黛玉这样的才女，萌发了强烈的精神追求，本文就是从香菱刻苦学诗写起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6" descr="2005523125057"/>
          <p:cNvPicPr/>
          <p:nvPr/>
        </p:nvPicPr>
        <p:blipFill>
          <a:blip r:embed="rId1"/>
          <a:stretch/>
        </p:blipFill>
        <p:spPr>
          <a:xfrm>
            <a:off x="5908680" y="228600"/>
            <a:ext cx="3235320" cy="6477120"/>
          </a:xfrm>
          <a:prstGeom prst="rect">
            <a:avLst/>
          </a:prstGeom>
          <a:ln w="0">
            <a:noFill/>
          </a:ln>
        </p:spPr>
      </p:pic>
      <p:pic>
        <p:nvPicPr>
          <p:cNvPr id="64" name="叹香菱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200411102026100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叹香菱1.mp3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0" y="0"/>
            <a:ext cx="9144000" cy="64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字音：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阮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u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庾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ǔ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鲍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ào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暧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ài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　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z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ō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颦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ín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臊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ào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纨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án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藕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ǒ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　　榭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iè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坞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ū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缯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ē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g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鳏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u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橄榄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l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腻烦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ì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摩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诘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jié)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揣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摩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u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蘅芜苑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éng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ú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uàn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0" y="0"/>
            <a:ext cx="2057400" cy="64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　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词语解释：</a:t>
            </a:r>
            <a:br>
              <a:rPr sz="2800"/>
            </a:b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造化：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　腻烦：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　揣摩：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　诌：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　鳏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　穿凿：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　地灵人杰：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　自暴自弃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　起承转合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1676520" y="8380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福气；运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1600200" y="15238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因次数过多或时间过长而感到厌倦。</a:t>
            </a:r>
            <a:r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1523880" y="213372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反复思考推求。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1295280" y="281952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编造言词。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1447920" y="342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形容忧愁失眠的样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1447920" y="403848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非常牵强的解释，把没有这种意思的说成有这种意思。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2"/>
          <p:cNvSpPr/>
          <p:nvPr/>
        </p:nvSpPr>
        <p:spPr>
          <a:xfrm>
            <a:off x="1981080" y="472428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山川灵秀，人物杰出。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2057400" y="541008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自己甘心落后，不求上进。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4"/>
          <p:cNvSpPr/>
          <p:nvPr/>
        </p:nvSpPr>
        <p:spPr>
          <a:xfrm>
            <a:off x="1981080" y="601992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旧时写文章常用的行文的顺序。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0" y="3049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香菱学诗的过程分为几个阶段，如何概括？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0" y="1600200"/>
            <a:ext cx="9144000" cy="36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香菱学诗可分三个步骤：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拜黛玉为师，并在黛玉的指导下细细品味王维诗；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一边读杜甫诗，一边尝试作诗；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经历了两次失败，终于成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" descr="2005320951860770"/>
          <p:cNvPicPr/>
          <p:nvPr/>
        </p:nvPicPr>
        <p:blipFill>
          <a:blip r:embed="rId1">
            <a:lum contrast="-48000"/>
            <a:alphaModFix amt="50000"/>
          </a:blip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0" y="304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文中哪些语句表现出香菱学诗的专心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114300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　　香菱拿了诗，回至蘅芜苑中，诸事不顾，只向灯下一首一首的读起来。宝钗连催她数次睡觉，她也不睡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 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243828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　　如此茶饭无心，坐卧不定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 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0" y="329868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　　只在池边树下，或坐在山石上出神，或蹲在地下抠土，来往的人都诧异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 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0" y="4648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　　至三更以后上床卧下，两眼鳏鳏，直到五更方才朦胧睡去了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4952880" y="152280"/>
            <a:ext cx="358164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香菱学诗的过程表现了一种什么精神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请用自己的话进行概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5105520" y="4191120"/>
            <a:ext cx="3429000" cy="21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专心致志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废寝忘食。</a:t>
            </a:r>
            <a:r>
              <a:rPr b="0" lang="zh-CN" sz="4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6" descr="hj005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u=1511407228,2066329400&amp;gp=1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380880" y="304920"/>
            <a:ext cx="784872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幼圆"/>
              </a:rPr>
              <a:t>请你对香菱写的第三首诗作一点分析理解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幼圆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幼圆"/>
              </a:rPr>
              <a:t>　精华欲掩料应难，影自娟娟魄自寒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幼圆"/>
              </a:rPr>
              <a:t>　一片砧敲千里白，半轮鸡唱五更残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幼圆"/>
              </a:rPr>
              <a:t>　绿蓑江上秋闻笛，红袖楼头夜倚栏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幼圆"/>
              </a:rPr>
              <a:t>　博得嫦娥应借问，缘何不使永团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3124080" y="152280"/>
            <a:ext cx="556272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曹雪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名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字梦阮，号雪芹，又号芹溪、芹圃。祖籍今辽宁省辽阳市。曹雪芹约于乾隆九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74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前后开始写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石头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后来雪芹贫病交迫，乾隆二十七年壬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76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又殇子，禁不起丧子之痛，此年除夕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76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雪芹病逝，终年虚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曹雪芹生于荣华，中经巨变，历尽沧桑，于世态所味甚深，而又博学通识，才华富赡，胸多波澜，笔无滞碍，才得成此绝世之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38EDJAU5_0"/>
          <p:cNvPicPr/>
          <p:nvPr/>
        </p:nvPicPr>
        <p:blipFill>
          <a:blip r:embed="rId1"/>
          <a:stretch/>
        </p:blipFill>
        <p:spPr>
          <a:xfrm>
            <a:off x="228600" y="3429000"/>
            <a:ext cx="2438280" cy="3048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caoxq"/>
          <p:cNvPicPr/>
          <p:nvPr/>
        </p:nvPicPr>
        <p:blipFill>
          <a:blip r:embed="rId2"/>
          <a:stretch/>
        </p:blipFill>
        <p:spPr>
          <a:xfrm>
            <a:off x="228600" y="152280"/>
            <a:ext cx="2362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u=2748206453,3481156265&amp;gp=0"/>
          <p:cNvPicPr/>
          <p:nvPr/>
        </p:nvPicPr>
        <p:blipFill>
          <a:blip r:embed="rId1"/>
          <a:stretch/>
        </p:blipFill>
        <p:spPr>
          <a:xfrm>
            <a:off x="1905120" y="0"/>
            <a:ext cx="723888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228600" y="2514600"/>
            <a:ext cx="4419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她仿佛对月低吟，顾影自怜，把自己沉痛的遭遇融入寒月之中，结句的感喟本是自己的心声，却推给处境同样寂寞的嫦娥，曲折含蓄。</a:t>
            </a:r>
            <a:r>
              <a:rPr b="1" lang="zh-CN" sz="37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304920" y="380880"/>
            <a:ext cx="8534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从文章中你觉得香菱是一个怎样的人？从哪里可以看出来？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0" y="106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　　精华灵秀，悟性极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685800" y="1981080"/>
            <a:ext cx="8001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宋体"/>
              </a:rPr>
              <a:t>学诗时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9900"/>
                </a:solidFill>
                <a:latin typeface="宋体"/>
              </a:rPr>
              <a:t>挖心搜胆，耳不旁听，目不别视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9900"/>
                </a:solidFill>
                <a:latin typeface="宋体"/>
              </a:rPr>
              <a:t>，已到了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9900"/>
                </a:solidFill>
                <a:latin typeface="宋体"/>
              </a:rPr>
              <a:t>呆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99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9900"/>
                </a:solidFill>
                <a:latin typeface="宋体"/>
              </a:rPr>
              <a:t>疯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99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9900"/>
                </a:solidFill>
                <a:latin typeface="宋体"/>
              </a:rPr>
              <a:t>魔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9900"/>
                </a:solidFill>
                <a:latin typeface="宋体"/>
              </a:rPr>
              <a:t>的程度。</a:t>
            </a:r>
            <a:r>
              <a:rPr b="1" lang="zh-CN" sz="25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685800" y="4952880"/>
            <a:ext cx="762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宋体"/>
              </a:rPr>
              <a:t>　　她说：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9900"/>
                </a:solidFill>
                <a:latin typeface="宋体"/>
              </a:rPr>
              <a:t>诗的好处，有口里说不出来的意思，想去却是逼真的。有似乎无理的，想去竟是有理有情的。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"</a:t>
            </a:r>
            <a:r>
              <a:rPr b="1" lang="en-US" sz="25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762120" y="3276720"/>
            <a:ext cx="7162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宋体"/>
              </a:rPr>
              <a:t>　　诸事不顾，只向灯下一首一首地读起来。宝钗连催他数次睡觉，他也不睡。宝钗见他这般苦心，只得随他去了。</a:t>
            </a:r>
            <a:r>
              <a:rPr b="1" lang="zh-CN" sz="25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8" descr="20055261747529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0" y="38088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文中林黛玉论写诗是如何论的？你有哪些感触？</a:t>
            </a:r>
            <a:r>
              <a:rPr b="1" lang="zh-CN" sz="29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1143000"/>
            <a:ext cx="914400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3300"/>
                </a:solidFill>
                <a:latin typeface="宋体"/>
              </a:rPr>
              <a:t>不过是起承转合，当中承转是两副对子，平声对仄声，虚的对实的，实的对虚的，若是果有了奇句，连平仄虚实不对都使得的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"</a:t>
            </a:r>
            <a:r>
              <a:rPr b="1" lang="en-US" sz="25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0" y="266688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3300"/>
                </a:solidFill>
                <a:latin typeface="宋体"/>
              </a:rPr>
              <a:t>词句究竟还是末事，第一立意要紧。若意趣真了，连词句不用修饰，自是好的，这叫做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'</a:t>
            </a:r>
            <a:r>
              <a:rPr b="1" lang="zh-CN" sz="2400" spc="-1" strike="noStrike">
                <a:solidFill>
                  <a:srgbClr val="003300"/>
                </a:solidFill>
                <a:latin typeface="宋体"/>
              </a:rPr>
              <a:t>不以词害意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"</a:t>
            </a:r>
            <a:r>
              <a:rPr b="1" lang="en-US" sz="25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0" y="4114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　　林黛玉看似轻巧的几句话，却句句点出写诗的要旨，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"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重在立意，轻在形式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"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，如今作文何尝不是如此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8" descr="200583936518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4"/>
          <p:cNvSpPr/>
          <p:nvPr/>
        </p:nvSpPr>
        <p:spPr>
          <a:xfrm>
            <a:off x="0" y="228600"/>
            <a:ext cx="9144000" cy="12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林黛玉在全文中是如何指导香菱作诗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　　对我们有何现实的指导意义？</a:t>
            </a:r>
            <a:r>
              <a:rPr b="1" lang="zh-CN" sz="29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0" y="1752480"/>
            <a:ext cx="91440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　　首先，要多读。</a:t>
            </a:r>
            <a:r>
              <a:rPr b="1" lang="zh-CN" sz="37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0" y="2743200"/>
            <a:ext cx="91440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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　其次，黛玉认为，要学诗就要学一流的。</a:t>
            </a:r>
            <a:r>
              <a:rPr b="1" lang="zh-CN" sz="37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0" y="3733920"/>
            <a:ext cx="91440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宋体"/>
              </a:rPr>
              <a:t>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　第三，要大胆创作，要敢于想像。</a:t>
            </a:r>
            <a:r>
              <a:rPr b="1" lang="zh-CN" sz="37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4572000" y="152280"/>
            <a:ext cx="44197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结合文章内容，谈谈课文中的林黛玉有怎样的性格特征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qianqian08zhao_1124271616"/>
          <p:cNvPicPr/>
          <p:nvPr/>
        </p:nvPicPr>
        <p:blipFill>
          <a:blip r:embed="rId1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4572000" y="2438280"/>
            <a:ext cx="42670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在本文中我们却看到了一位诗人气质的林姑娘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她热情指导香菱，不厌其烦，不顾劳累，显现出了宽大的襟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从她给香菱所开的书目来看，她的学识积累又是何等的深厚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0" y="22860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中</a:t>
            </a:r>
            <a:r>
              <a:rPr b="1" lang="zh-CN" sz="2800" spc="-1" strike="noStrike">
                <a:solidFill>
                  <a:srgbClr val="003300"/>
                </a:solidFill>
                <a:latin typeface="_x000b_"/>
              </a:rPr>
              <a:t> 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考</a:t>
            </a:r>
            <a:r>
              <a:rPr b="1" lang="zh-CN" sz="2800" spc="-1" strike="noStrike">
                <a:solidFill>
                  <a:srgbClr val="003300"/>
                </a:solidFill>
                <a:latin typeface="_x000b_"/>
              </a:rPr>
              <a:t> 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解</a:t>
            </a:r>
            <a:r>
              <a:rPr b="1" lang="zh-CN" sz="2800" spc="-1" strike="noStrike">
                <a:solidFill>
                  <a:srgbClr val="003300"/>
                </a:solidFill>
                <a:latin typeface="_x000b_"/>
              </a:rPr>
              <a:t> 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、（内蒙古自治区通辽市）下列句子没有语病的一句是（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 ）</a:t>
            </a:r>
            <a:br>
              <a:rPr sz="2800"/>
            </a:b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．他从提包里拿出一叠厚厚的人民币。</a:t>
            </a:r>
            <a:br>
              <a:rPr sz="2800"/>
            </a:b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．在经济全球化的大潮中，使我们受到了极大的促动。</a:t>
            </a:r>
            <a:br>
              <a:rPr sz="2800"/>
            </a:b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．信息高速公路，对人类的影响，将远远超过以往任何一次科技革命。</a:t>
            </a:r>
            <a:br>
              <a:rPr sz="2800"/>
            </a:b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．学习写作是否一定要多读多写呢？从前人的写作经验来看，这是一条必由之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069200" y="1066680"/>
            <a:ext cx="52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0" y="620640"/>
            <a:ext cx="914400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、（山东省滨州市）下列句子</a:t>
            </a:r>
            <a:r>
              <a:rPr b="1" lang="zh-CN" sz="2800" spc="-1" strike="noStrike" u="sng">
                <a:solidFill>
                  <a:srgbClr val="003300"/>
                </a:solidFill>
                <a:uFillTx/>
                <a:latin typeface="宋体"/>
              </a:rPr>
              <a:t>没有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语病的一项是（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  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）</a:t>
            </a:r>
            <a:br>
              <a:rPr sz="2800"/>
            </a:b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．鲁迅先生的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故乡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，实际上是写了回忆中、现实中、理想中。</a:t>
            </a:r>
            <a:br>
              <a:rPr sz="2800"/>
            </a:b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．大家必须认真克服并及时发现我们工作中的错误。</a:t>
            </a:r>
            <a:br>
              <a:rPr sz="2800"/>
            </a:b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．中国是最早建立图书馆的国家之一</a:t>
            </a:r>
            <a:br>
              <a:rPr sz="2800"/>
            </a:b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．能否不断地学习实践是人们获得才能的基础和源泉。</a:t>
            </a:r>
            <a:r>
              <a:rPr b="1" lang="zh-CN" sz="29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8308440" y="1219320"/>
            <a:ext cx="52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0" y="442800"/>
            <a:ext cx="914400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、（浙江省嘉兴市）下列一段话中画线的四句话，没有语病的一项是（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   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 ）</a:t>
            </a:r>
            <a:br>
              <a:rPr sz="2800"/>
            </a:b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　　主题班会一开始，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A</a:t>
            </a:r>
            <a:r>
              <a:rPr b="1" lang="zh-CN" sz="2800" spc="-1" strike="noStrike" u="sng">
                <a:solidFill>
                  <a:srgbClr val="003300"/>
                </a:solidFill>
                <a:uFillTx/>
                <a:latin typeface="宋体"/>
              </a:rPr>
              <a:t>林非就首先第一个上台发言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。他说：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3300"/>
                </a:solidFill>
                <a:latin typeface="_x000b_"/>
              </a:rPr>
              <a:t>B</a:t>
            </a:r>
            <a:r>
              <a:rPr b="1" lang="zh-CN" sz="2800" spc="-1" strike="noStrike" u="sng">
                <a:solidFill>
                  <a:srgbClr val="003300"/>
                </a:solidFill>
                <a:uFillTx/>
                <a:latin typeface="宋体"/>
              </a:rPr>
              <a:t>我语文不好的原因是课余时间没有阅读课外书的结果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。我决心向张红学习，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C</a:t>
            </a:r>
            <a:r>
              <a:rPr b="1" lang="zh-CN" sz="2800" spc="-1" strike="noStrike" u="sng">
                <a:solidFill>
                  <a:srgbClr val="003300"/>
                </a:solidFill>
                <a:uFillTx/>
                <a:latin typeface="宋体"/>
              </a:rPr>
              <a:t>每天课外阅读量至少在</a:t>
            </a:r>
            <a:r>
              <a:rPr b="1" lang="en-US" sz="2800" spc="-1" strike="noStrike" u="sng">
                <a:solidFill>
                  <a:srgbClr val="003300"/>
                </a:solidFill>
                <a:uFillTx/>
                <a:latin typeface="宋体"/>
              </a:rPr>
              <a:t>2000</a:t>
            </a:r>
            <a:r>
              <a:rPr b="1" lang="zh-CN" sz="2800" spc="-1" strike="noStrike" u="sng">
                <a:solidFill>
                  <a:srgbClr val="003300"/>
                </a:solidFill>
                <a:uFillTx/>
                <a:latin typeface="宋体"/>
              </a:rPr>
              <a:t>字以上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，争取天天写读书体会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……”</a:t>
            </a:r>
            <a:r>
              <a:rPr b="1" lang="en-US" sz="2800" spc="-1" strike="noStrike">
                <a:solidFill>
                  <a:srgbClr val="003300"/>
                </a:solidFill>
                <a:latin typeface="_x000b_"/>
              </a:rPr>
              <a:t>D</a:t>
            </a:r>
            <a:r>
              <a:rPr b="1" lang="zh-CN" sz="2800" spc="-1" strike="noStrike" u="sng">
                <a:solidFill>
                  <a:srgbClr val="003300"/>
                </a:solidFill>
                <a:uFillTx/>
                <a:latin typeface="宋体"/>
              </a:rPr>
              <a:t>林非的发言，赢得了同学们热烈的掌声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973960" y="15238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876920" y="304920"/>
            <a:ext cx="36576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cc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红楼梦</a:t>
            </a:r>
            <a:r>
              <a:rPr b="1" lang="en-US" sz="2400" spc="-1" strike="noStrike">
                <a:solidFill>
                  <a:srgbClr val="cc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又名</a:t>
            </a:r>
            <a:r>
              <a:rPr b="1" lang="en-US" sz="2400" spc="-1" strike="noStrike">
                <a:solidFill>
                  <a:srgbClr val="cc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石头记</a:t>
            </a:r>
            <a:r>
              <a:rPr b="1" lang="en-US" sz="2400" spc="-1" strike="noStrike">
                <a:solidFill>
                  <a:srgbClr val="cc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是以作者自己和亲戚家庭的败落为创作素材的，因此带有一定的回忆性质；但他创作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红楼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是小说而不是自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红楼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总的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主题思想是反封建主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在这个总主题下，作者通过贾宝玉、林黛玉两个典型人物，对当时现存正统的封建社会秩序都表示反对，因而这两个典型就成为封建社会的叛逆形象。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1749820003"/>
          <p:cNvPicPr/>
          <p:nvPr/>
        </p:nvPicPr>
        <p:blipFill>
          <a:blip r:embed="rId1"/>
          <a:stretch/>
        </p:blipFill>
        <p:spPr>
          <a:xfrm>
            <a:off x="0" y="685800"/>
            <a:ext cx="4267080" cy="4664160"/>
          </a:xfrm>
          <a:prstGeom prst="rect">
            <a:avLst/>
          </a:prstGeom>
          <a:ln w="0">
            <a:noFill/>
          </a:ln>
        </p:spPr>
      </p:pic>
      <p:pic>
        <p:nvPicPr>
          <p:cNvPr id="50" name="葬花吟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3581280" y="152280"/>
            <a:ext cx="5562720" cy="17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红楼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共写了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七百多个人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其中称得上典型的也有数十人。如贾宝玉、林黛玉、薛宝钗、王熙凤、晴雯、袭人、史湘云、妙玉、贾母、刘姥姥等都是家喻户晓的人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曹雪芹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红楼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既是现实主义的又是理想主义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他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世纪中国封建社会的批判是现实主义的，而他对宝黛爱情深刻动人的描写、他们至死不渝的追求和对美好的自由幸福生活的渴望，则既是现实主义的又是理想主义的，而这种对理想生活的渴望和追求，正是曹雪芹对后来社会的奉献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6" descr="无标题"/>
          <p:cNvPicPr/>
          <p:nvPr/>
        </p:nvPicPr>
        <p:blipFill>
          <a:blip r:embed="rId1"/>
          <a:stretch/>
        </p:blipFill>
        <p:spPr>
          <a:xfrm>
            <a:off x="304920" y="1143000"/>
            <a:ext cx="285732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35"/>
          <p:cNvPicPr/>
          <p:nvPr/>
        </p:nvPicPr>
        <p:blipFill>
          <a:blip r:embed="rId1"/>
          <a:stretch/>
        </p:blipFill>
        <p:spPr>
          <a:xfrm>
            <a:off x="457200" y="0"/>
            <a:ext cx="807732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101"/>
          <p:cNvPicPr/>
          <p:nvPr/>
        </p:nvPicPr>
        <p:blipFill>
          <a:blip r:embed="rId1"/>
          <a:stretch/>
        </p:blipFill>
        <p:spPr>
          <a:xfrm>
            <a:off x="60948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20004_20050909_224"/>
          <p:cNvPicPr/>
          <p:nvPr/>
        </p:nvPicPr>
        <p:blipFill>
          <a:blip r:embed="rId1"/>
          <a:stretch/>
        </p:blipFill>
        <p:spPr>
          <a:xfrm>
            <a:off x="1905120" y="152280"/>
            <a:ext cx="507996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200596011389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A1081909366_501"/>
          <p:cNvPicPr/>
          <p:nvPr/>
        </p:nvPicPr>
        <p:blipFill>
          <a:blip r:embed="rId1"/>
          <a:stretch/>
        </p:blipFill>
        <p:spPr>
          <a:xfrm>
            <a:off x="0" y="0"/>
            <a:ext cx="9144000" cy="75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13:53:45Z</dcterms:created>
  <dc:creator>第一PPT模板网-WWW.1PPT.COM</dc:creator>
  <dc:description>第一PPT模板网-WWW.1PPT.COM
</dc:description>
  <cp:keywords>第一PPT模板网-WWW.1PPT.COM</cp:keywords>
  <dc:language>en-US</dc:language>
  <cp:lastModifiedBy>win7-64</cp:lastModifiedBy>
  <dcterms:modified xsi:type="dcterms:W3CDTF">2017-04-17T02:16:58Z</dcterms:modified>
  <cp:revision>1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82</vt:lpwstr>
  </property>
</Properties>
</file>