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.jpeg" ContentType="image/jpeg"/>
  <Override PartName="/ppt/media/chimes.wav" ContentType="audio/x-wav"/>
  <Override PartName="/ppt/media/image1.jpeg" ContentType="image/jpeg"/>
  <Override PartName="/ppt/media/image7.png" ContentType="image/png"/>
  <Override PartName="/ppt/media/type.wav" ContentType="audio/x-wav"/>
  <Override PartName="/ppt/media/image4.png" ContentType="image/png"/>
  <Override PartName="/ppt/media/image10.jpeg" ContentType="image/jpeg"/>
  <Override PartName="/ppt/media/image5.png" ContentType="image/png"/>
  <Override PartName="/ppt/media/image8.jpeg" ContentType="image/jpeg"/>
  <Override PartName="/ppt/media/projctor.wav" ContentType="audio/x-wav"/>
  <Override PartName="/ppt/media/image3.gif" ContentType="image/gif"/>
  <Override PartName="/ppt/media/image6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9D4-2A78-4AE9-A7D5-036B664C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6C55-3C3A-49FA-9385-C9F28632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2D69-46D7-466A-9402-8A4A729BD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1AF7-79E2-4EA5-B233-E89A2E89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828F-E7E3-4C33-8927-4D977EA5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835A-018B-4A7D-80C6-94DD6383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3D86-6B81-40A3-AC65-3EFD81AD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1CE4-53FD-4361-929B-571F8B1C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0065-9A9A-451F-AE65-50E9ADE88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7358-589F-4993-9A55-A986938C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8B56-BCF8-45C9-B98F-534E4E03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2FB-FAB6-4B1A-A686-3F4D64F5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8CF6D-F67D-4533-929C-89045247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57326-0185-4BBB-B2E6-3503AECB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9BA7B-0037-4E54-9FF8-ADDB45FA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74286-4BDB-4B77-945B-98DE9117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14B4-1B64-4678-8342-E602A03F4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9D34-7084-41E7-8E3B-02454387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BEB8C-E328-48A3-9A3C-E30804DEC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4958B-2087-4B0C-AF52-21535FBC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5A52E-246C-4CE2-A5E0-BF65A7FC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30AE-5C19-4787-BB40-437F4208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C27A-F39E-463F-9F64-3B8719C2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E71DB-5E0C-4F19-A480-7564CA2F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93DC9-2ED1-4A8F-9E74-27D0F120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C93E6-9820-48B2-85D1-55F10D75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2D52B-4A4E-4865-9AA0-3EDDA90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85194D-0567-4846-B7AE-DFA38BAA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C903F-6247-491A-A9D3-3F41FFBA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BBB07-B5DE-45BD-A321-2F3A08281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FA56-ACEC-44BC-9E99-532101D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2811-F068-478D-8D45-D3A80E240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D02-0B58-4EB1-9F19-7C5253C1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EBC-D2CC-41A3-83D8-E0A3DF95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6CF4-AEA3-4973-B620-B433C1E01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652-4A37-4FF4-8562-8BC537DB8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C719-520A-433E-BF2D-02B683763EE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9BD1-D733-4F58-B80D-2D2B6FC4E2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AF80-0DEE-4EC2-A830-809ADA86FA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audio" Target="../media/projctor.wav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50000">
              <a:srgbClr val="5e9eff"/>
            </a:gs>
            <a:gs pos="100000">
              <a:srgbClr val="ffebfa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019160" y="2276640"/>
            <a:ext cx="3400560" cy="25509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800600" y="2276640"/>
            <a:ext cx="3429000" cy="2573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332000" y="69228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Times New Roman"/>
                <a:ea typeface="隶书"/>
              </a:rPr>
              <a:t>《史记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  <a:ea typeface="隶书"/>
              </a:rPr>
              <a:t>·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  <a:ea typeface="隶书"/>
              </a:rPr>
              <a:t>魏公子列传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1828800"/>
            <a:ext cx="426744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9900"/>
                </a:solidFill>
                <a:uFillTx/>
                <a:latin typeface="Times New Roman"/>
                <a:ea typeface="隶书"/>
              </a:rPr>
              <a:t>名词作动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仁而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下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留军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壁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如姬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资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之三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朱亥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袖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四十斤铁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14600" y="380880"/>
            <a:ext cx="3352680" cy="1008360"/>
          </a:xfrm>
          <a:prstGeom prst="rect">
            <a:avLst/>
          </a:prstGeom>
          <a:noFill/>
          <a:ln w="7632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ff"/>
                </a:solidFill>
                <a:latin typeface="Times New Roman"/>
                <a:ea typeface="华文新魏"/>
              </a:rPr>
              <a:t>词类活用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743200"/>
            <a:ext cx="351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谦逊地对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59280" y="3535200"/>
            <a:ext cx="307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驻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88000" y="4343400"/>
            <a:ext cx="40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出资悬赏，蓄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5181480"/>
            <a:ext cx="30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袖里藏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52280" y="304920"/>
            <a:ext cx="456408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009900"/>
                </a:solidFill>
                <a:uFillTx/>
                <a:latin typeface="Times New Roman"/>
                <a:ea typeface="隶书"/>
              </a:rPr>
              <a:t>形容词作动词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不敢以其富贵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骄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臣修身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洁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行数十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公子从车骑，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虚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为能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急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人之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公子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怪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95680" y="1295280"/>
            <a:ext cx="34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傲慢地对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419720" y="2057400"/>
            <a:ext cx="447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使……高洁，使动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2971800"/>
            <a:ext cx="45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使……空着，使动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37339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为……着急为动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45720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感到奇怪，意动用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20760" y="457200"/>
            <a:ext cx="43275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9900"/>
                </a:solidFill>
                <a:uFillTx/>
                <a:latin typeface="Times New Roman"/>
                <a:ea typeface="隶书"/>
              </a:rPr>
              <a:t>动词的使动用法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公子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从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车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故久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立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公子车骑市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侯生乃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屏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人间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959280"/>
            <a:ext cx="3657600" cy="23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9900"/>
                </a:solidFill>
                <a:uFillTx/>
                <a:latin typeface="Times New Roman"/>
                <a:ea typeface="隶书"/>
              </a:rPr>
              <a:t>名词作状语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北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救赵而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西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却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皆谦而</a:t>
            </a:r>
            <a:r>
              <a:rPr b="1" lang="zh-CN" sz="36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礼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交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876920" y="1295280"/>
            <a:ext cx="394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让……跟从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952880" y="2133720"/>
            <a:ext cx="35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使……站立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2971800"/>
            <a:ext cx="34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让……退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4280" y="4800600"/>
            <a:ext cx="359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向北，向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648320" y="5715000"/>
            <a:ext cx="431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礼貌──以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519200"/>
            <a:ext cx="464832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欲以（之）观公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遍赞（于）宾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臣客屠者朱亥可与（之）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可使（之）击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81400" y="3049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特殊句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523880"/>
            <a:ext cx="42991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请救于魏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何功之有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安在公子能急人之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29000" y="4343400"/>
            <a:ext cx="51814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赢乃夷门抱关者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魏公子无忌者，魏昭王少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此人力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0400" y="134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9900"/>
                </a:solidFill>
                <a:uFillTx/>
                <a:latin typeface="Times New Roman"/>
                <a:ea typeface="隶书"/>
              </a:rPr>
              <a:t>省略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43480" y="1341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倒装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30760" y="4149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  <a:ea typeface="隶书"/>
              </a:rPr>
              <a:t>判断句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2280" y="109440"/>
            <a:ext cx="5562720" cy="29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于众人广坐之中，不宜有所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行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过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夷门，见侯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33520" y="2895480"/>
            <a:ext cx="4952880" cy="37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此五霸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伐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今日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为公子亦足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士以此方数千里争往归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如姬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之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三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08840" y="1066680"/>
            <a:ext cx="21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访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1752480"/>
            <a:ext cx="26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经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594360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代事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95880" y="3824280"/>
            <a:ext cx="286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，助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45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助词，无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9440" y="52578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他，代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52280" y="345960"/>
            <a:ext cx="586764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以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以至晋鄙军之日，北乡自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实持两端以观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欲以客往赴秦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以是知公子恨之复返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3362400"/>
            <a:ext cx="5791320" cy="26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故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终不以监门困故而受公子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故久立与其客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今公子故过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世莫能知，故隐屠问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53120" y="380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在，介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161040" y="1066680"/>
            <a:ext cx="27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而，连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53120" y="1690560"/>
            <a:ext cx="281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与，连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29440" y="236232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因，介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11880" y="3429000"/>
            <a:ext cx="24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缘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61120" y="4114800"/>
            <a:ext cx="255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故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311880" y="4815000"/>
            <a:ext cx="23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特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486400"/>
            <a:ext cx="264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所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3095640"/>
            <a:ext cx="830556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762120" y="9360"/>
            <a:ext cx="327636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引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公子引车入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公子引侯生坐上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复引车追问侯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为公子先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5800" y="3438360"/>
            <a:ext cx="289548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就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乃谢客就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赢欲就公子之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金就砺则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使归就戮于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791320" y="762120"/>
            <a:ext cx="317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带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1447920"/>
            <a:ext cx="37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延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27600" y="213372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退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27600" y="2681280"/>
            <a:ext cx="251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引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95920" y="42814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上，登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15000" y="4890960"/>
            <a:ext cx="25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成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718240" y="5500800"/>
            <a:ext cx="303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接近，靠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27600" y="6110280"/>
            <a:ext cx="258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接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76320" y="76320"/>
            <a:ext cx="563868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下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礼贤下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　旦暮且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　闻寡人之耳者，受下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　每薄暮，下管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　刘琦合江夏战士亦不下万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320" y="3514680"/>
            <a:ext cx="624816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辞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辞决而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　无一言半辞送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　如姬之欲为公子死，无所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　近日奉辞伐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　　　臣等不肖，请辞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80000" y="1522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谦逊地对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96200" y="838080"/>
            <a:ext cx="26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攻下，打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629400" y="15382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低等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05720" y="2224080"/>
            <a:ext cx="21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使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18320" y="2833560"/>
            <a:ext cx="20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少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718320" y="3595680"/>
            <a:ext cx="26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辞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18320" y="4267080"/>
            <a:ext cx="212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言语，言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967280"/>
            <a:ext cx="211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推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05720" y="5653080"/>
            <a:ext cx="225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32720" y="61657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辞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43080" y="3429000"/>
            <a:ext cx="8420040" cy="1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2362320" y="76320"/>
            <a:ext cx="4495680" cy="36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公子亲数存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却秦存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道之所存，师之所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此诚危机存亡之秋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438280" y="4267080"/>
            <a:ext cx="396252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士无贤不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独子无兄弟，归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97680" y="914400"/>
            <a:ext cx="20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问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0280" y="1706400"/>
            <a:ext cx="166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保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74000" y="2438280"/>
            <a:ext cx="20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存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86600" y="3124080"/>
            <a:ext cx="180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生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162920" y="5105520"/>
            <a:ext cx="18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无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5791320"/>
            <a:ext cx="15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单个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4000" y="242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古代座位常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28600" y="1197000"/>
            <a:ext cx="852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战国时代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，出现了一个特殊的阶层，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“士”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的阶层，这是个知识分子阶层。这些人走公室，跑私门，不狩不猎，不农不商，靠知识糊口于四方。他们有较高的文化素养，也有人有高强的武艺，能文能武，懂政治、经济、军事、外交，为各国统治者效劳。他们在战国时代起着异乎寻常的作用，可以左右各国的政策，处理各国的外交，指挥各国的军队，如著名的纵横家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苏秦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与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张仪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  <a:ea typeface="黑体"/>
              </a:rPr>
              <a:t>两人几乎操纵着战国时代各国的外交关系。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时代背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04920" y="990720"/>
            <a:ext cx="83818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在古代一般是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尊右卑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的，如古人称大姓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右姓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，称望族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右族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，称高官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右职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，称贵戚为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右戚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，成语有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无出其右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的说法；而“左物”是下物，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左迁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为贬官，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左道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为邪道，此外像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左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左袒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等“左”字都含有贬义。这是因为在古人看来，右手右足力大而且使用方便，左手相对要逊色，故崇右而贬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但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乘车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时，则正好相反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尊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居左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御者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居中，居于右位的叫“车右”，亦名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骖乘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”，职责在于防止车子倾斜或受阻，保护居左尊者的安全，一般由有能力的人担任。因此文中的“虚左”就是“空出尊位”的意思。这个句子后来演变为成语“信陵虚左”或“虚左待贤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52280" y="0"/>
            <a:ext cx="478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古代的座次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6320" y="76320"/>
            <a:ext cx="2666880" cy="764280"/>
          </a:xfrm>
          <a:prstGeom prst="rect">
            <a:avLst/>
          </a:prstGeom>
          <a:solidFill>
            <a:srgbClr val="ffff99"/>
          </a:solidFill>
          <a:ln w="7632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黑体"/>
              </a:rPr>
              <a:t>微观课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969920" y="473040"/>
            <a:ext cx="500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侯嬴为什么不在信陵君辞决时献上计策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而一定要让信陵君去而复返才献计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是否当时侯嬴并未想好计策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5640" y="1957320"/>
            <a:ext cx="83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陵君以大队人马过夷门，顺便辞决侯生，并无问计之意，作为门客不能主动干预；此时耳目众多，不便说出；此计关乎多人性命，干系重大，故不可轻易说出；若轻易说出恐不能引起信陵君的重视；侯嬴料定信陵君心中有憾，必定去而复返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90960" y="4478400"/>
            <a:ext cx="475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侯嬴早已想好此计，这可以从以下四点来说明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146320" y="5146560"/>
            <a:ext cx="5063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早已打听出魏王藏符地点；想定窃符之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考虑到晋鄙的态度；计划好用朱亥去对付晋鄙等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52280" y="765000"/>
            <a:ext cx="8839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一，战国时，士人交往的一条重要准则是“士为知已者死”。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信陵君能“仁而下士”，且“待侯生者备矣”，侯生就会成为“为知己者死”的士。文中朱亥说：“今公子有急，此乃臣效命之秋也”，就是当时这一道德观念的反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二，是侯生为激励信陵君，坚定他的意志而为。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因为当初侯生一讲出“夺晋鄙军”的计策，信陵君就哭了。晋鄙是为国领兵在外的大将，下决心杀了他是要有大决心支持的。侯生可能是在用自己的生命坚定信陵君的夺军信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第三，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侯生为信陵君出此计，客观上救了赵国，也保住了魏国，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毕竟是欺君之举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，欺君是不忠的，为了保住声誉，只有一死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-100080"/>
            <a:ext cx="88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思考：侯赢为什么一定要北向自刎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28600" y="969840"/>
            <a:ext cx="845820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要从春秋战国时期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社会风尚、道德观念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来分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在春秋战国时期，尽管社会处在大变动中，但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守信用、践诺言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还是人们的行为规范。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士为知己者死，以死报知遇之恩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是他们坚守不渝的信条。如果对以死相报知己的行动加以劝阻，就会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被认为是不以知己相待的表现，是对人格的蔑视，是极不礼貌的行为。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作为“仁而下士”，有三千余宾客的信陵君，对“士”的这些特点是一清二楚的，所以他不能劝阻侯嬴轻生死，重信诺的行动。相反，他认为侯嬴的以死相报将会激励自己在夺军救赵的斗争中必须成功、不能失败的决心，也只有这样，才对得起侯嬴。显然，这样的处理完全符合当时的社会风气和人物的性格特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10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ff"/>
                </a:solidFill>
                <a:uFillTx/>
                <a:latin typeface="黑体"/>
                <a:ea typeface="黑体"/>
              </a:rPr>
              <a:t>思考；侯嬴以死相报，信陵君为何不加劝阻呢</a:t>
            </a:r>
            <a:r>
              <a:rPr b="1" lang="zh-CN" sz="3200" spc="-1" strike="noStrike" u="sng">
                <a:solidFill>
                  <a:srgbClr val="cc00ff"/>
                </a:solidFill>
                <a:uFillTx/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258640" y="0"/>
            <a:ext cx="3794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、信陵君为了怜“姊”而牺牲魏国的利益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这是否算得上“义勇”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即：该如何评价信陵君“窃符救赵”一事</a:t>
            </a:r>
            <a:r>
              <a:rPr b="1" i="1" lang="zh-CN" sz="3200" spc="-1" strike="noStrike">
                <a:solidFill>
                  <a:srgbClr val="ff0000"/>
                </a:solidFill>
                <a:latin typeface="Arial"/>
              </a:rPr>
              <a:t>?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659960" y="1654200"/>
            <a:ext cx="57495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明确：关于信陵君的为人，可说是众说纷纭，有人认为信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君“急”的是“姊之困”，而不是“魏之困”，这称不上“义”，他置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国面临被秦军“移兵而击之”的危难于不顾，先“以客往赴秦军，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赵俱死”，后又私盗兵符，矫杀晋鄙，这算不上“勇”。但如果把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物放到当时的历史环境中来分析，我们就会得出截然不同的结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《过秦论》中明确指出，六国对付秦国的基本策略是“约从离衡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赵国“请救于魏”、信陵君窃符救赵，实际上都是“约从离衡”，维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了六国的根本利益。六国唇齿相依，一荣皆荣，一损俱损，虽然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陵君窃符救赵，从主观动机上说，为的是怜“姊”，但是，在客观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果上却“却秦存赵”，遏制了秦并吞六国的野心，信陵君窃符救赵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存魏乃至六国，这应当是“义勇”的表现。相反地，如果六国的国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都像魏王那样，在强秦面前“恐”而“持两端以观望”甚至于“赂秦”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“从散约离”，丧权辱国，那才叫不仁不义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6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29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5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3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9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2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4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2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3" dur="2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04920" y="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思考：信陵君能够完成退秦存赵历史使命的原因是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600200"/>
            <a:ext cx="8305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一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、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信陵君善于用兵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，这从他接管晋鄙军后的一系列措施可以看出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二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、凭借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侯嬴的妙计和朱亥的神勇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，而二人之所以肯替信陵君出力，又源于信陵君的仁而下士，谦而礼交的品格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三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、得到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黑体"/>
              </a:rPr>
              <a:t>如姬的帮助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。偷得虎符，而这又是信陵君急人之困、有义有勇带来的结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7f7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98280" y="108000"/>
            <a:ext cx="3635640" cy="9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人物形象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1447920"/>
            <a:ext cx="8686800" cy="1630440"/>
          </a:xfrm>
          <a:prstGeom prst="rect">
            <a:avLst/>
          </a:prstGeom>
          <a:solidFill>
            <a:srgbClr val="ffffcc"/>
          </a:solidFill>
          <a:ln w="7632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信陵君：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求贤若渴，尊贤重士，知人善任，虚心谦恭，善纳人言，大勇大义，急人所难，抑强扶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侯嬴：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修身洁行，远见卓识，足智多谋，忠于知己，冷静沉着，料事如神，多谋善断，知恩图报，一诺千金，是一个超凡出众的人才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1254240"/>
            <a:ext cx="91440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可从三个方面来考虑：①这是司马迁的一种理想道德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他歌颂那些忠于知己、能为知己者奋勇牺牲的人，而憎恨那些朝秦暮楚，不念旧交，甚至落井下石，卖友求荣的败类。在此，他所正面歌颂的人物大都具有忠于知己，为知己尽心效力，甚至在紧要关头能为知己奋勇献身的特点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②同是“士为知己者死”，但在性质上也有差别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象程婴、专诸等人，仅为了某一个主子的私人利益去拼命，所反映的只是个人恩怨，是一种收买与被收卖、豢养与被豢养的关系。而侯嬴、朱亥与信陵君虽然也有报知遇之恩的思想，但他们之间是平等的朋友关系，不是主奴关系，并且是在国家存亡的关键时刻共同为保卫国家而效力的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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③在封建社会里，士能如此，不失为一种美德，是值得称颂的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但是，这一封建社会知识分子信条，是一种建立在封建制度基础上的处世哲学，尽管侯嬴、朱亥与信陵君之间的关系相对平等，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但本质上他们所反映的人与人之间的关系仍然是一种主子与奴才、依附与被依附的关系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封建社会是“家天下”，所以统治者与士的关系只能是“知”与“被知”、利用与被利用的关系。某些士人得到封建统治者的赏识之后便踌躇满志，把统治者视为知己，表示要为知己者用，甚至为知己者死，无非是要报知遇之恩，尽力效忠而已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cc00ff"/>
                </a:solidFill>
                <a:uFillTx/>
                <a:latin typeface="华文新魏"/>
                <a:ea typeface="华文新魏"/>
              </a:rPr>
              <a:t>思考：课文突出表现了“士为知己者死”的思想意识，对此你是如何认识的</a:t>
            </a:r>
            <a:r>
              <a:rPr b="1" lang="zh-CN" sz="3600" spc="-1" strike="noStrike" u="sng">
                <a:solidFill>
                  <a:srgbClr val="cc00ff"/>
                </a:solidFill>
                <a:uFillTx/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04920" y="108252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司马迁最长于刻画历史人物，他刻画人物的方法，既通过人物自己的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语言行动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来表现人物性格，如写侯嬴。 也通过</a:t>
            </a:r>
            <a:r>
              <a:rPr b="1" lang="zh-CN" sz="36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人物之间的关系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来揭示人物的性格特征，如写信陵君。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信陵君的“下士”，是着重通过他亲迎侯嬴这一事件来表现的。当时侯嬴的一切行动表现，明写侯生，实写信陵，烘云托月，信陵君下士的诚意，最后才表现得透彻晶莹。至于满堂等候的宾客、市上的围观者和抱怨窃骂的从骑，都好像银幕背景上的闲杂人物，只是为衬托主要人物，聚光点始终在信陵君身上。其他如魏王的短视、畏秦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还有对信陵君的猜忌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，衬托出信陵君的坦率、远见和敢于抗暴的精神；平原君的“不敢自比于人”，又衬托出信陵君此时在诸侯中的威望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86680" y="763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写作特点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时代背景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1484280"/>
            <a:ext cx="813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这些士人投奔到权贵的门下，以谋生活，故称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门客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，或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食客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。各国贵族都大量收养门客。其中收养门客名声最大的是四君，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魏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国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信陵君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无忌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齐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国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孟尝君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田文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赵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国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平原君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赵胜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楚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国的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春申君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  <a:ea typeface="黑体"/>
              </a:rPr>
              <a:t>黄歇，他们都收养几千门客，对内维护自己的势力以对付政敌，对外与敌国作政治、军事上的斗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0880" y="838080"/>
            <a:ext cx="8305920" cy="19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、司马迁叙述事件发展的过程，不是平铺直叙，而是曲折回环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如亲迎侯嬴一段，在“大会宾客”已经“坐定”的时候，公子却去“自迎夷门侯生”；侯生已上车，却又要求过访朱亥；访朱亥后，又“故久立与其客语”，加强了波澜的激荡；直到侯生“谢客就车”后，文章才奔流直泻。又如与侯嬴告别那一段，信陵君本已“辞决而行”，可是因为怪侯生没有给自己临别赠言，又“引车还问侯生”，引出侯嬴为他出谋划策，决定了事态的发展，文章达到了高潮；后来临行时，侯嬴又为他作进一步的考虑，并推荐朱亥同行，更是巨浪滔天，惊心动魄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2280" y="1031760"/>
            <a:ext cx="883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信陵君窃符救赵这件事，发生在周赧王五十七年，即公元前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258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年，当时属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战国末期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，秦国吞并六国日亟，战争进行得频繁而激烈。公元前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260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年，在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长平之战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中，秦国大破赵军，坑杀赵降卒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40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万。秦又乘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进围赵国首都邯郸</a:t>
            </a:r>
            <a:r>
              <a:rPr b="1" lang="zh-CN" sz="2800" spc="-1" strike="noStrike">
                <a:solidFill>
                  <a:srgbClr val="3333ff"/>
                </a:solidFill>
                <a:latin typeface="黑体"/>
                <a:ea typeface="黑体"/>
              </a:rPr>
              <a:t>，企图一举灭赵，再进一步吞并韩、魏、楚、燕、齐等国，完成统一中国的计划。当时的形势十分紧张，特别是赵国首都被围甚急，诸侯都被秦国的兵威所慑，不敢援助。魏国是赵国的近邻，又是姻亲之国，所以赵国只得向魏国求援。就魏国来说，唇亡齿寒，救邻即自救，存赵就是存魏，赵亡魏也将随之灭亡。信陵君认识了这一点，才不惜冒险犯难，窃符救赵，抗击秦兵；终于挫败了敌人的图谋，保障了两国的安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写作背景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228600"/>
            <a:ext cx="4114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文章结构内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523880"/>
            <a:ext cx="7772400" cy="41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文章大致可分为三部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一、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(1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自然段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概述信陵君的身份、为人和他在当时的威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二、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(2——4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自然段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叙写信陵君与侯赢的交往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第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段到最后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记叙信陵君采纳侯赢的策略窃符救赵的全过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1430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143000" cy="1295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861120" y="1442880"/>
            <a:ext cx="2271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魏安</a:t>
            </a:r>
            <a:r>
              <a:rPr b="1" lang="zh-CN" sz="2400" spc="-1" strike="noStrike" u="sng">
                <a:solidFill>
                  <a:srgbClr val="3333ff"/>
                </a:solidFill>
                <a:uFillTx/>
                <a:latin typeface="Arial"/>
                <a:ea typeface="华文中宋"/>
              </a:rPr>
              <a:t>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士无贤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不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俾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故久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公子往，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请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公子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为赵惠文王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冠盖相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宾客辩士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王万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公子自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终不能得之于王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约车骑百余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716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音释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00440" y="2133720"/>
            <a:ext cx="328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ià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才能低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321300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u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多次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3280" y="378936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姐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5080" y="4221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zh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连续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45080" y="479736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u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劝说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43280" y="53481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u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揣测，估计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643280" y="592452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hè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量词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658400" y="155736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4840" y="2708280"/>
            <a:ext cx="341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pìnì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眼睛斜着看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8880" y="5181480"/>
            <a:ext cx="1143000" cy="1295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216440" y="1227240"/>
            <a:ext cx="210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今有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侯生乃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人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譬若以肉投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馁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杀晋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矫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杀晋鄙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公子遂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晋鄙军。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兵……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嚄唶宿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。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北乡自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赵王以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为公子</a:t>
            </a:r>
            <a:r>
              <a:rPr b="1" lang="zh-CN" sz="2400" spc="-1" strike="noStrike" u="sng">
                <a:solidFill>
                  <a:srgbClr val="9900ff"/>
                </a:solidFill>
                <a:uFillTx/>
                <a:latin typeface="Arial"/>
                <a:ea typeface="华文中宋"/>
              </a:rPr>
              <a:t>汤沐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87160" y="1159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音释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11680" y="1316160"/>
            <a:ext cx="15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à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危难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72520" y="1916280"/>
            <a:ext cx="335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ǐ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人退避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ià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秘密地，悄悄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98960" y="299736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chu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铁椎打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173480" y="3573360"/>
            <a:ext cx="30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iǎ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托……命令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30600" y="4149720"/>
            <a:ext cx="35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ià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统帅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中作“整顿”讲）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16040" y="4724280"/>
            <a:ext cx="420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uòzè  sùjià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经验，有威势的老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48280" y="52293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jǐn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刀割脖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18240" y="2421000"/>
            <a:ext cx="163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ě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饥饿的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28400" y="5784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封地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066680" y="1676520"/>
            <a:ext cx="693432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知识点总结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762120"/>
            <a:ext cx="426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直上载公子上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俾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以至晋鄙军之日北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乡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自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辞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决</a:t>
            </a: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而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599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以公子为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长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黑体"/>
              </a:rPr>
              <a:t>胜所以自附为</a:t>
            </a:r>
            <a:r>
              <a:rPr b="1" lang="zh-CN" sz="2800" spc="-1" strike="noStrike" u="sng">
                <a:solidFill>
                  <a:srgbClr val="3333ff"/>
                </a:solidFill>
                <a:uFillTx/>
                <a:latin typeface="Times New Roman"/>
                <a:ea typeface="黑体"/>
              </a:rPr>
              <a:t>婚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通假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81360" y="700200"/>
            <a:ext cx="27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坐”通“座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41040" y="1295280"/>
            <a:ext cx="24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通“睥睨”，斜着眼睛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1981080"/>
            <a:ext cx="33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乡”通“向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734000" y="2666880"/>
            <a:ext cx="37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决”通“诀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320" y="3870360"/>
            <a:ext cx="377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古今异义</a:t>
            </a:r>
            <a:r>
              <a:rPr b="1" lang="zh-CN" sz="3200" spc="-1" strike="noStrike" u="sng">
                <a:solidFill>
                  <a:srgbClr val="cc00ff"/>
                </a:solidFill>
                <a:uFillTx/>
                <a:latin typeface="Times New Roman"/>
                <a:ea typeface="华文新魏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57600" y="4464000"/>
            <a:ext cx="465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古：有德行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今：年长的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57600" y="5664240"/>
            <a:ext cx="5235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古：姻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今：因结婚而产生的夫妻关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0:51:43Z</dcterms:created>
  <dc:creator>zhy</dc:creator>
  <dc:description/>
  <dc:language>en-US</dc:language>
  <cp:lastModifiedBy>hp</cp:lastModifiedBy>
  <dcterms:modified xsi:type="dcterms:W3CDTF">2007-02-25T07:28:56Z</dcterms:modified>
  <cp:revision>150</cp:revision>
  <dc:subject/>
  <dc:title>PowerPoint 演示文稿</dc:title>
</cp:coreProperties>
</file>