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5F7-9CFB-4040-9BD6-D94414CF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53A-3B11-4683-BD52-FC0C7B6D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752-B366-495D-B0F8-341DD6EF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EDE-3D58-4261-904F-0C9E4A64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BAB8-232F-4D55-ADF3-01446DAA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AB73-FE96-439C-934E-18290246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9BE6-4260-46DA-B2EC-86EF52CF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7A36-5957-4E80-9B5E-984CF533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3C4A-2A84-467A-89CC-C70ABD4E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17BF-FA8E-44FC-B72F-FF69D995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A339-6FC6-4F4E-AE35-87B766B1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C46-2277-41F2-8529-B5A422E1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DAD7-986B-4016-B3C3-063A885B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3B07-E7F6-4E55-AED8-12219799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8955-647A-4044-99A8-91FE151A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FA17-3A67-40D6-8A82-DFEC7569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6870-559C-4F48-A77D-C578475D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2B7-2CA0-49B2-8904-96463F69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891-E2F0-4307-B9A9-C18D9666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5A3-969F-43FE-99FF-36041202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7B6-E12D-4E80-973E-27F461B8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495-FFAF-488D-817E-97CF89ED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BEE-78AE-4C58-BED1-85E71C5E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E01-F15E-419F-B081-DEF3E70F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7141-DCF0-4B74-96E5-E6426604F4D8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B462-3DAD-4E82-963A-447E0E4A02B5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3.xml"/><Relationship Id="rId11" Type="http://schemas.openxmlformats.org/officeDocument/2006/relationships/slide" Target="slide23.xml"/><Relationship Id="rId12" Type="http://schemas.openxmlformats.org/officeDocument/2006/relationships/slide" Target="slide23.xml"/><Relationship Id="rId13" Type="http://schemas.openxmlformats.org/officeDocument/2006/relationships/slide" Target="slide24.xml"/><Relationship Id="rId14" Type="http://schemas.openxmlformats.org/officeDocument/2006/relationships/slide" Target="slide24.xml"/><Relationship Id="rId15" Type="http://schemas.openxmlformats.org/officeDocument/2006/relationships/slide" Target="slide24.xml"/><Relationship Id="rId16" Type="http://schemas.openxmlformats.org/officeDocument/2006/relationships/slide" Target="slide24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25.xml"/><Relationship Id="rId20" Type="http://schemas.openxmlformats.org/officeDocument/2006/relationships/slide" Target="slide25.xml"/><Relationship Id="rId21" Type="http://schemas.openxmlformats.org/officeDocument/2006/relationships/slide" Target="slide26.xml"/><Relationship Id="rId22" Type="http://schemas.openxmlformats.org/officeDocument/2006/relationships/slide" Target="slide26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7.xml"/><Relationship Id="rId28" Type="http://schemas.openxmlformats.org/officeDocument/2006/relationships/slide" Target="slide27.xml"/><Relationship Id="rId29" Type="http://schemas.openxmlformats.org/officeDocument/2006/relationships/image" Target="../media/image3.jpeg"/><Relationship Id="rId30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29.xml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30.xml"/><Relationship Id="rId13" Type="http://schemas.openxmlformats.org/officeDocument/2006/relationships/slide" Target="slide31.xml"/><Relationship Id="rId14" Type="http://schemas.openxmlformats.org/officeDocument/2006/relationships/slide" Target="slide31.xml"/><Relationship Id="rId15" Type="http://schemas.openxmlformats.org/officeDocument/2006/relationships/slide" Target="slide31.xml"/><Relationship Id="rId16" Type="http://schemas.openxmlformats.org/officeDocument/2006/relationships/slide" Target="slide31.xml"/><Relationship Id="rId17" Type="http://schemas.openxmlformats.org/officeDocument/2006/relationships/slide" Target="slide32.xml"/><Relationship Id="rId18" Type="http://schemas.openxmlformats.org/officeDocument/2006/relationships/slide" Target="slide32.xml"/><Relationship Id="rId19" Type="http://schemas.openxmlformats.org/officeDocument/2006/relationships/slide" Target="slide32.xml"/><Relationship Id="rId20" Type="http://schemas.openxmlformats.org/officeDocument/2006/relationships/slide" Target="slide32.xml"/><Relationship Id="rId21" Type="http://schemas.openxmlformats.org/officeDocument/2006/relationships/image" Target="../media/image3.jpeg"/><Relationship Id="rId2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4.xml"/><Relationship Id="rId7" Type="http://schemas.openxmlformats.org/officeDocument/2006/relationships/slide" Target="slide34.xml"/><Relationship Id="rId8" Type="http://schemas.openxmlformats.org/officeDocument/2006/relationships/slide" Target="slide34.xml"/><Relationship Id="rId9" Type="http://schemas.openxmlformats.org/officeDocument/2006/relationships/slide" Target="slide35.xml"/><Relationship Id="rId10" Type="http://schemas.openxmlformats.org/officeDocument/2006/relationships/slide" Target="slide35.xml"/><Relationship Id="rId11" Type="http://schemas.openxmlformats.org/officeDocument/2006/relationships/slide" Target="slide35.xml"/><Relationship Id="rId12" Type="http://schemas.openxmlformats.org/officeDocument/2006/relationships/slide" Target="slide35.xml"/><Relationship Id="rId13" Type="http://schemas.openxmlformats.org/officeDocument/2006/relationships/slide" Target="slide36.xml"/><Relationship Id="rId14" Type="http://schemas.openxmlformats.org/officeDocument/2006/relationships/slide" Target="slide36.xml"/><Relationship Id="rId15" Type="http://schemas.openxmlformats.org/officeDocument/2006/relationships/slide" Target="slide36.xml"/><Relationship Id="rId16" Type="http://schemas.openxmlformats.org/officeDocument/2006/relationships/slide" Target="slide36.xml"/><Relationship Id="rId17" Type="http://schemas.openxmlformats.org/officeDocument/2006/relationships/slide" Target="slide37.xml"/><Relationship Id="rId18" Type="http://schemas.openxmlformats.org/officeDocument/2006/relationships/slide" Target="slide37.xml"/><Relationship Id="rId19" Type="http://schemas.openxmlformats.org/officeDocument/2006/relationships/slide" Target="slide37.xml"/><Relationship Id="rId20" Type="http://schemas.openxmlformats.org/officeDocument/2006/relationships/slide" Target="slide37.xml"/><Relationship Id="rId21" Type="http://schemas.openxmlformats.org/officeDocument/2006/relationships/slide" Target="slide38.xml"/><Relationship Id="rId22" Type="http://schemas.openxmlformats.org/officeDocument/2006/relationships/slide" Target="slide38.xml"/><Relationship Id="rId23" Type="http://schemas.openxmlformats.org/officeDocument/2006/relationships/slide" Target="slide38.xml"/><Relationship Id="rId24" Type="http://schemas.openxmlformats.org/officeDocument/2006/relationships/slide" Target="slide38.xml"/><Relationship Id="rId25" Type="http://schemas.openxmlformats.org/officeDocument/2006/relationships/slide" Target="slide39.xml"/><Relationship Id="rId26" Type="http://schemas.openxmlformats.org/officeDocument/2006/relationships/slide" Target="slide39.xml"/><Relationship Id="rId27" Type="http://schemas.openxmlformats.org/officeDocument/2006/relationships/slide" Target="slide39.xml"/><Relationship Id="rId28" Type="http://schemas.openxmlformats.org/officeDocument/2006/relationships/slide" Target="slide39.xml"/><Relationship Id="rId29" Type="http://schemas.openxmlformats.org/officeDocument/2006/relationships/image" Target="../media/image3.jpeg"/><Relationship Id="rId30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0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41.xml"/><Relationship Id="rId6" Type="http://schemas.openxmlformats.org/officeDocument/2006/relationships/slide" Target="slide41.xml"/><Relationship Id="rId7" Type="http://schemas.openxmlformats.org/officeDocument/2006/relationships/slide" Target="slide41.xml"/><Relationship Id="rId8" Type="http://schemas.openxmlformats.org/officeDocument/2006/relationships/slide" Target="slide41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43.xml"/><Relationship Id="rId9" Type="http://schemas.openxmlformats.org/officeDocument/2006/relationships/slide" Target="slide44.xml"/><Relationship Id="rId10" Type="http://schemas.openxmlformats.org/officeDocument/2006/relationships/slide" Target="slide44.xml"/><Relationship Id="rId11" Type="http://schemas.openxmlformats.org/officeDocument/2006/relationships/slide" Target="slide44.xml"/><Relationship Id="rId12" Type="http://schemas.openxmlformats.org/officeDocument/2006/relationships/slide" Target="slide44.xml"/><Relationship Id="rId13" Type="http://schemas.openxmlformats.org/officeDocument/2006/relationships/slide" Target="slide45.xml"/><Relationship Id="rId14" Type="http://schemas.openxmlformats.org/officeDocument/2006/relationships/slide" Target="slide45.xml"/><Relationship Id="rId15" Type="http://schemas.openxmlformats.org/officeDocument/2006/relationships/slide" Target="slide45.xml"/><Relationship Id="rId16" Type="http://schemas.openxmlformats.org/officeDocument/2006/relationships/slide" Target="slide45.xml"/><Relationship Id="rId17" Type="http://schemas.openxmlformats.org/officeDocument/2006/relationships/slide" Target="slide46.xml"/><Relationship Id="rId18" Type="http://schemas.openxmlformats.org/officeDocument/2006/relationships/slide" Target="slide46.xml"/><Relationship Id="rId19" Type="http://schemas.openxmlformats.org/officeDocument/2006/relationships/slide" Target="slide46.xml"/><Relationship Id="rId20" Type="http://schemas.openxmlformats.org/officeDocument/2006/relationships/slide" Target="slide46.xml"/><Relationship Id="rId21" Type="http://schemas.openxmlformats.org/officeDocument/2006/relationships/slide" Target="slide46.xml"/><Relationship Id="rId22" Type="http://schemas.openxmlformats.org/officeDocument/2006/relationships/slide" Target="slide47.xml"/><Relationship Id="rId23" Type="http://schemas.openxmlformats.org/officeDocument/2006/relationships/slide" Target="slide47.xml"/><Relationship Id="rId24" Type="http://schemas.openxmlformats.org/officeDocument/2006/relationships/slide" Target="slide47.xml"/><Relationship Id="rId25" Type="http://schemas.openxmlformats.org/officeDocument/2006/relationships/slide" Target="slide47.xml"/><Relationship Id="rId26" Type="http://schemas.openxmlformats.org/officeDocument/2006/relationships/image" Target="../media/image3.jpeg"/><Relationship Id="rId27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8.xml"/><Relationship Id="rId3" Type="http://schemas.openxmlformats.org/officeDocument/2006/relationships/slide" Target="slide48.xml"/><Relationship Id="rId4" Type="http://schemas.openxmlformats.org/officeDocument/2006/relationships/slide" Target="slide48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" Target="slide49.xml"/><Relationship Id="rId8" Type="http://schemas.openxmlformats.org/officeDocument/2006/relationships/slide" Target="slide49.xml"/><Relationship Id="rId9" Type="http://schemas.openxmlformats.org/officeDocument/2006/relationships/slide" Target="slide50.xml"/><Relationship Id="rId10" Type="http://schemas.openxmlformats.org/officeDocument/2006/relationships/slide" Target="slide50.xml"/><Relationship Id="rId11" Type="http://schemas.openxmlformats.org/officeDocument/2006/relationships/slide" Target="slide50.xml"/><Relationship Id="rId12" Type="http://schemas.openxmlformats.org/officeDocument/2006/relationships/slide" Target="slide50.xml"/><Relationship Id="rId13" Type="http://schemas.openxmlformats.org/officeDocument/2006/relationships/slide" Target="slide51.xml"/><Relationship Id="rId14" Type="http://schemas.openxmlformats.org/officeDocument/2006/relationships/slide" Target="slide51.xml"/><Relationship Id="rId15" Type="http://schemas.openxmlformats.org/officeDocument/2006/relationships/slide" Target="slide51.xml"/><Relationship Id="rId16" Type="http://schemas.openxmlformats.org/officeDocument/2006/relationships/slide" Target="slide51.xml"/><Relationship Id="rId17" Type="http://schemas.openxmlformats.org/officeDocument/2006/relationships/slide" Target="slide52.xml"/><Relationship Id="rId18" Type="http://schemas.openxmlformats.org/officeDocument/2006/relationships/slide" Target="slide52.xml"/><Relationship Id="rId19" Type="http://schemas.openxmlformats.org/officeDocument/2006/relationships/slide" Target="slide52.xml"/><Relationship Id="rId20" Type="http://schemas.openxmlformats.org/officeDocument/2006/relationships/slide" Target="slide52.xml"/><Relationship Id="rId21" Type="http://schemas.openxmlformats.org/officeDocument/2006/relationships/slide" Target="slide53.xml"/><Relationship Id="rId22" Type="http://schemas.openxmlformats.org/officeDocument/2006/relationships/slide" Target="slide53.xml"/><Relationship Id="rId23" Type="http://schemas.openxmlformats.org/officeDocument/2006/relationships/slide" Target="slide53.xml"/><Relationship Id="rId24" Type="http://schemas.openxmlformats.org/officeDocument/2006/relationships/slide" Target="slide53.xml"/><Relationship Id="rId25" Type="http://schemas.openxmlformats.org/officeDocument/2006/relationships/image" Target="../media/image3.jpeg"/><Relationship Id="rId26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" Target="slide54.xml"/><Relationship Id="rId5" Type="http://schemas.openxmlformats.org/officeDocument/2006/relationships/slide" Target="slide55.xml"/><Relationship Id="rId6" Type="http://schemas.openxmlformats.org/officeDocument/2006/relationships/slide" Target="slide55.xml"/><Relationship Id="rId7" Type="http://schemas.openxmlformats.org/officeDocument/2006/relationships/slide" Target="slide55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6.xml"/><Relationship Id="rId11" Type="http://schemas.openxmlformats.org/officeDocument/2006/relationships/slide" Target="slide56.xml"/><Relationship Id="rId12" Type="http://schemas.openxmlformats.org/officeDocument/2006/relationships/slide" Target="slide56.xml"/><Relationship Id="rId13" Type="http://schemas.openxmlformats.org/officeDocument/2006/relationships/slide" Target="slide57.xml"/><Relationship Id="rId14" Type="http://schemas.openxmlformats.org/officeDocument/2006/relationships/slide" Target="slide57.xml"/><Relationship Id="rId15" Type="http://schemas.openxmlformats.org/officeDocument/2006/relationships/slide" Target="slide57.xml"/><Relationship Id="rId16" Type="http://schemas.openxmlformats.org/officeDocument/2006/relationships/slide" Target="slide57.xml"/><Relationship Id="rId17" Type="http://schemas.openxmlformats.org/officeDocument/2006/relationships/image" Target="../media/image3.jpeg"/><Relationship Id="rId18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8.xml"/><Relationship Id="rId3" Type="http://schemas.openxmlformats.org/officeDocument/2006/relationships/slide" Target="slide58.xml"/><Relationship Id="rId4" Type="http://schemas.openxmlformats.org/officeDocument/2006/relationships/slide" Target="slide58.xml"/><Relationship Id="rId5" Type="http://schemas.openxmlformats.org/officeDocument/2006/relationships/slide" Target="slide59.xml"/><Relationship Id="rId6" Type="http://schemas.openxmlformats.org/officeDocument/2006/relationships/slide" Target="slide59.xml"/><Relationship Id="rId7" Type="http://schemas.openxmlformats.org/officeDocument/2006/relationships/slide" Target="slide59.xml"/><Relationship Id="rId8" Type="http://schemas.openxmlformats.org/officeDocument/2006/relationships/slide" Target="slide59.xml"/><Relationship Id="rId9" Type="http://schemas.openxmlformats.org/officeDocument/2006/relationships/slide" Target="slide60.xml"/><Relationship Id="rId10" Type="http://schemas.openxmlformats.org/officeDocument/2006/relationships/slide" Target="slide60.xml"/><Relationship Id="rId11" Type="http://schemas.openxmlformats.org/officeDocument/2006/relationships/slide" Target="slide60.xml"/><Relationship Id="rId12" Type="http://schemas.openxmlformats.org/officeDocument/2006/relationships/slide" Target="slide60.xml"/><Relationship Id="rId13" Type="http://schemas.openxmlformats.org/officeDocument/2006/relationships/slide" Target="slide60.xml"/><Relationship Id="rId14" Type="http://schemas.openxmlformats.org/officeDocument/2006/relationships/slide" Target="slide61.xml"/><Relationship Id="rId15" Type="http://schemas.openxmlformats.org/officeDocument/2006/relationships/slide" Target="slide61.xml"/><Relationship Id="rId16" Type="http://schemas.openxmlformats.org/officeDocument/2006/relationships/slide" Target="slide61.xml"/><Relationship Id="rId17" Type="http://schemas.openxmlformats.org/officeDocument/2006/relationships/slide" Target="slide61.xml"/><Relationship Id="rId18" Type="http://schemas.openxmlformats.org/officeDocument/2006/relationships/slide" Target="slide61.xml"/><Relationship Id="rId19" Type="http://schemas.openxmlformats.org/officeDocument/2006/relationships/slide" Target="slide62.xml"/><Relationship Id="rId20" Type="http://schemas.openxmlformats.org/officeDocument/2006/relationships/slide" Target="slide62.xml"/><Relationship Id="rId21" Type="http://schemas.openxmlformats.org/officeDocument/2006/relationships/slide" Target="slide62.xml"/><Relationship Id="rId22" Type="http://schemas.openxmlformats.org/officeDocument/2006/relationships/slide" Target="slide62.xml"/><Relationship Id="rId23" Type="http://schemas.openxmlformats.org/officeDocument/2006/relationships/slide" Target="slide63.xml"/><Relationship Id="rId24" Type="http://schemas.openxmlformats.org/officeDocument/2006/relationships/slide" Target="slide63.xml"/><Relationship Id="rId25" Type="http://schemas.openxmlformats.org/officeDocument/2006/relationships/slide" Target="slide63.xml"/><Relationship Id="rId26" Type="http://schemas.openxmlformats.org/officeDocument/2006/relationships/slide" Target="slide63.xml"/><Relationship Id="rId27" Type="http://schemas.openxmlformats.org/officeDocument/2006/relationships/slide" Target="slide63.xml"/><Relationship Id="rId28" Type="http://schemas.openxmlformats.org/officeDocument/2006/relationships/slide" Target="slide64.xml"/><Relationship Id="rId29" Type="http://schemas.openxmlformats.org/officeDocument/2006/relationships/slide" Target="slide64.xml"/><Relationship Id="rId30" Type="http://schemas.openxmlformats.org/officeDocument/2006/relationships/slide" Target="slide64.xml"/><Relationship Id="rId31" Type="http://schemas.openxmlformats.org/officeDocument/2006/relationships/slide" Target="slide64.xml"/><Relationship Id="rId32" Type="http://schemas.openxmlformats.org/officeDocument/2006/relationships/slide" Target="slide65.xml"/><Relationship Id="rId33" Type="http://schemas.openxmlformats.org/officeDocument/2006/relationships/slide" Target="slide65.xml"/><Relationship Id="rId34" Type="http://schemas.openxmlformats.org/officeDocument/2006/relationships/slide" Target="slide65.xml"/><Relationship Id="rId35" Type="http://schemas.openxmlformats.org/officeDocument/2006/relationships/slide" Target="slide65.xml"/><Relationship Id="rId36" Type="http://schemas.openxmlformats.org/officeDocument/2006/relationships/slide" Target="slide66.xml"/><Relationship Id="rId37" Type="http://schemas.openxmlformats.org/officeDocument/2006/relationships/slide" Target="slide66.xml"/><Relationship Id="rId38" Type="http://schemas.openxmlformats.org/officeDocument/2006/relationships/slide" Target="slide66.xml"/><Relationship Id="rId39" Type="http://schemas.openxmlformats.org/officeDocument/2006/relationships/slide" Target="slide66.xml"/><Relationship Id="rId40" Type="http://schemas.openxmlformats.org/officeDocument/2006/relationships/slide" Target="slide67.xml"/><Relationship Id="rId41" Type="http://schemas.openxmlformats.org/officeDocument/2006/relationships/slide" Target="slide67.xml"/><Relationship Id="rId42" Type="http://schemas.openxmlformats.org/officeDocument/2006/relationships/slide" Target="slide67.xml"/><Relationship Id="rId43" Type="http://schemas.openxmlformats.org/officeDocument/2006/relationships/slide" Target="slide67.xml"/><Relationship Id="rId44" Type="http://schemas.openxmlformats.org/officeDocument/2006/relationships/slide" Target="slide68.xml"/><Relationship Id="rId45" Type="http://schemas.openxmlformats.org/officeDocument/2006/relationships/slide" Target="slide68.xml"/><Relationship Id="rId46" Type="http://schemas.openxmlformats.org/officeDocument/2006/relationships/slide" Target="slide68.xml"/><Relationship Id="rId47" Type="http://schemas.openxmlformats.org/officeDocument/2006/relationships/slide" Target="slide68.xml"/><Relationship Id="rId48" Type="http://schemas.openxmlformats.org/officeDocument/2006/relationships/slide" Target="slide69.xml"/><Relationship Id="rId49" Type="http://schemas.openxmlformats.org/officeDocument/2006/relationships/slide" Target="slide69.xml"/><Relationship Id="rId50" Type="http://schemas.openxmlformats.org/officeDocument/2006/relationships/slide" Target="slide69.xml"/><Relationship Id="rId51" Type="http://schemas.openxmlformats.org/officeDocument/2006/relationships/slide" Target="slide69.xml"/><Relationship Id="rId52" Type="http://schemas.openxmlformats.org/officeDocument/2006/relationships/slide" Target="slide70.xml"/><Relationship Id="rId53" Type="http://schemas.openxmlformats.org/officeDocument/2006/relationships/slide" Target="slide70.xml"/><Relationship Id="rId54" Type="http://schemas.openxmlformats.org/officeDocument/2006/relationships/slide" Target="slide70.xml"/><Relationship Id="rId55" Type="http://schemas.openxmlformats.org/officeDocument/2006/relationships/slide" Target="slide70.xml"/><Relationship Id="rId56" Type="http://schemas.openxmlformats.org/officeDocument/2006/relationships/slide" Target="slide71.xml"/><Relationship Id="rId57" Type="http://schemas.openxmlformats.org/officeDocument/2006/relationships/slide" Target="slide71.xml"/><Relationship Id="rId58" Type="http://schemas.openxmlformats.org/officeDocument/2006/relationships/slide" Target="slide71.xml"/><Relationship Id="rId59" Type="http://schemas.openxmlformats.org/officeDocument/2006/relationships/slide" Target="slide71.xml"/><Relationship Id="rId60" Type="http://schemas.openxmlformats.org/officeDocument/2006/relationships/image" Target="../media/image3.jpeg"/><Relationship Id="rId6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2.xml"/><Relationship Id="rId3" Type="http://schemas.openxmlformats.org/officeDocument/2006/relationships/slide" Target="slide72.xml"/><Relationship Id="rId4" Type="http://schemas.openxmlformats.org/officeDocument/2006/relationships/slide" Target="slide7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1862280"/>
            <a:ext cx="518148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訓儉示康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5880" y="4876560"/>
            <a:ext cx="1905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司馬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軼聞趣事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2)</a:t>
            </a:r>
            <a:r>
              <a:rPr b="1" lang="zh-TW" sz="4400" spc="-1" strike="noStrike">
                <a:solidFill>
                  <a:srgbClr val="993300"/>
                </a:solidFill>
                <a:latin typeface="Tahoma"/>
              </a:rPr>
              <a:t>司馬光薦才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司馬光果然接著說道：「在我賦閒居家時，你經常去我那裏。我們在一起談文論史，各抒己見，有時還爭得面紅耳赤。嘻嘻，回想起那段生活，還真有些意思。我當時心境不好，你常常寬慰我，鼓勵我。我那時無權無勢，能有你這樣的朋友，真是幸事！後來我做了官，如今已是宰相，那些過去的泛泛之交，甚至僅見過一面、對答過幾句話的人，都紛紛給我來信，借敍舊為名，行要官之實。可只有你是從不給我來信的人！你並不因為我居高位而生依附之心，你對我一無所求，依舊讀書做學問！不打失意人、不捧得意人，這就是你與其他人的最不同處。我就是衝這一點竭力向朝廷推薦你的……」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劉器之聽罷，起身對司馬光深深一揖：「君實兄知我，我由此更知君實兄！」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(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水缸" descr=""/>
          <p:cNvPicPr/>
          <p:nvPr/>
        </p:nvPicPr>
        <p:blipFill>
          <a:blip r:embed="rId1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課文講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762120" y="304812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　　吾本</a:t>
            </a:r>
            <a:r>
              <a:rPr b="0" lang="zh-TW" sz="26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寒家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一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)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，世以</a:t>
            </a:r>
            <a:r>
              <a:rPr b="0" lang="zh-TW" sz="26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清白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二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)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相承。吾性不喜華</a:t>
            </a:r>
            <a:r>
              <a:rPr b="0" lang="zh-TW" sz="26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靡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1" action="ppaction://hlinksldjump"/>
              </a:rPr>
              <a:t>三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2" action="ppaction://hlinksldjump"/>
              </a:rPr>
              <a:t>)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，自為乳兒，長者加以金銀華美之服，輒羞赧棄去之。</a:t>
            </a:r>
            <a:r>
              <a:rPr b="0" lang="zh-TW" sz="2600" spc="-1" strike="noStrike" u="sng">
                <a:solidFill>
                  <a:srgbClr val="6f89f7"/>
                </a:solidFill>
                <a:uFillTx/>
                <a:latin typeface="Tahoma"/>
                <a:hlinkClick r:id="rId13" action="ppaction://hlinksldjump"/>
              </a:rPr>
              <a:t>二十忝科名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4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5" action="ppaction://hlinksldjump"/>
              </a:rPr>
              <a:t>四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6" action="ppaction://hlinksldjump"/>
              </a:rPr>
              <a:t>)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600" spc="-1" strike="noStrike" u="sng">
                <a:solidFill>
                  <a:srgbClr val="6f89f7"/>
                </a:solidFill>
                <a:uFillTx/>
                <a:latin typeface="Tahoma"/>
                <a:hlinkClick r:id="rId17" action="ppaction://hlinksldjump"/>
              </a:rPr>
              <a:t>「聞喜宴」獨不戴花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8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9" action="ppaction://hlinksldjump"/>
              </a:rPr>
              <a:t>五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0" action="ppaction://hlinksldjump"/>
              </a:rPr>
              <a:t>)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。</a:t>
            </a:r>
            <a:r>
              <a:rPr b="0" lang="zh-TW" sz="2600" spc="-1" strike="noStrike" u="sng">
                <a:solidFill>
                  <a:srgbClr val="6f89f7"/>
                </a:solidFill>
                <a:uFillTx/>
                <a:latin typeface="Tahoma"/>
                <a:hlinkClick r:id="rId21" action="ppaction://hlinksldjump"/>
              </a:rPr>
              <a:t>同年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2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3" action="ppaction://hlinksldjump"/>
              </a:rPr>
              <a:t>六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4" action="ppaction://hlinksldjump"/>
              </a:rPr>
              <a:t>)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曰：「君賜不可違也。」乃簪一花。平生衣取蔽寒，食取充腹；亦不敢服垢弊以</a:t>
            </a:r>
            <a:r>
              <a:rPr b="0" lang="zh-TW" sz="2600" spc="-1" strike="noStrike" u="sng">
                <a:solidFill>
                  <a:srgbClr val="6f89f7"/>
                </a:solidFill>
                <a:uFillTx/>
                <a:latin typeface="Tahoma"/>
                <a:hlinkClick r:id="rId25" action="ppaction://hlinksldjump"/>
              </a:rPr>
              <a:t>矯俗干名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6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7" action="ppaction://hlinksldjump"/>
              </a:rPr>
              <a:t>七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8" action="ppaction://hlinksldjump"/>
              </a:rPr>
              <a:t>)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，但順吾性而已。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9" name="水缸" descr="">
            <a:hlinkClick r:id="" action="ppaction://hlinkshowjump?jump=nextslide"/>
          </p:cNvPr>
          <p:cNvPicPr/>
          <p:nvPr/>
        </p:nvPicPr>
        <p:blipFill>
          <a:blip r:embed="rId29"/>
          <a:stretch/>
        </p:blipFill>
        <p:spPr>
          <a:xfrm>
            <a:off x="8381880" y="6095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課文講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　　眾人皆以奢靡為榮，吾心獨以儉素為美。人皆</a:t>
            </a:r>
            <a:r>
              <a:rPr b="0" lang="zh-TW" sz="26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嗤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八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)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吾固陋，吾不以為病。應之曰：</a:t>
            </a:r>
            <a:r>
              <a:rPr b="0" lang="zh-TW" sz="2600" spc="-1" strike="noStrike" u="sng">
                <a:solidFill>
                  <a:srgbClr val="40458c"/>
                </a:solidFill>
                <a:uFillTx/>
                <a:latin typeface="Tahoma"/>
              </a:rPr>
              <a:t>孔子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稱：</a:t>
            </a:r>
            <a:r>
              <a:rPr b="0" lang="zh-TW" sz="26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「與其不遜，也，寧固。」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九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)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又曰：</a:t>
            </a:r>
            <a:r>
              <a:rPr b="0" lang="zh-TW" sz="26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「以約失之者，鮮矣！」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1" action="ppaction://hlinksldjump"/>
              </a:rPr>
              <a:t>一○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2" action="ppaction://hlinksldjump"/>
              </a:rPr>
              <a:t>)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又曰：</a:t>
            </a:r>
            <a:r>
              <a:rPr b="0" lang="zh-TW" sz="2600" spc="-1" strike="noStrike" u="sng">
                <a:solidFill>
                  <a:srgbClr val="6f89f7"/>
                </a:solidFill>
                <a:uFillTx/>
                <a:latin typeface="Tahoma"/>
                <a:hlinkClick r:id="rId13" action="ppaction://hlinksldjump"/>
              </a:rPr>
              <a:t>「士志於道，而恥惡衣惡食者，未足與議也。」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4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5" action="ppaction://hlinksldjump"/>
              </a:rPr>
              <a:t>一一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6" action="ppaction://hlinksldjump"/>
              </a:rPr>
              <a:t>)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古人以儉為美德，今人乃以儉相</a:t>
            </a:r>
            <a:r>
              <a:rPr b="0" lang="zh-TW" sz="2600" spc="-1" strike="noStrike" u="sng">
                <a:solidFill>
                  <a:srgbClr val="6f89f7"/>
                </a:solidFill>
                <a:uFillTx/>
                <a:latin typeface="Tahoma"/>
                <a:hlinkClick r:id="rId17" action="ppaction://hlinksldjump"/>
              </a:rPr>
              <a:t>詬病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8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9" action="ppaction://hlinksldjump"/>
              </a:rPr>
              <a:t>一二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0" action="ppaction://hlinksldjump"/>
              </a:rPr>
              <a:t>)</a:t>
            </a:r>
            <a:r>
              <a:rPr b="0" lang="zh-TW" sz="2600" spc="-1" strike="noStrike">
                <a:solidFill>
                  <a:srgbClr val="40458c"/>
                </a:solidFill>
                <a:latin typeface="Tahoma"/>
              </a:rPr>
              <a:t>。嘻，異哉！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水缸" descr="">
            <a:hlinkClick r:id="" action="ppaction://hlinkshowjump?jump=nextslide"/>
          </p:cNvPr>
          <p:cNvPicPr/>
          <p:nvPr/>
        </p:nvPicPr>
        <p:blipFill>
          <a:blip r:embed="rId21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課文講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　　近歲風俗尤為侈靡，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走卒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一三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類士服，農夫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躡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一四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絲履。吾記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天聖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1" action="ppaction://hlinksldjump"/>
              </a:rPr>
              <a:t>一五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2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中，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13" action="ppaction://hlinksldjump"/>
              </a:rPr>
              <a:t>先公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4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5" action="ppaction://hlinksldjump"/>
              </a:rPr>
              <a:t>一六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6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為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17" action="ppaction://hlinksldjump"/>
              </a:rPr>
              <a:t>群牧判官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8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9" action="ppaction://hlinksldjump"/>
              </a:rPr>
              <a:t>一七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0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，客至未嘗不置酒，或三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21" action="ppaction://hlinksldjump"/>
              </a:rPr>
              <a:t>行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2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3" action="ppaction://hlinksldjump"/>
              </a:rPr>
              <a:t>一八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4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、五行，多不過七行。酒酤於市，果止於梨、栗、棗、柿之類；肴止於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25" action="ppaction://hlinksldjump"/>
              </a:rPr>
              <a:t>脯醢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6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7" action="ppaction://hlinksldjump"/>
              </a:rPr>
              <a:t>一九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8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、菜羮，器用瓷漆。當時士大夫家皆然，人不相非也。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水缸" descr="">
            <a:hlinkClick r:id="" action="ppaction://hlinkshowjump?jump=nextslide"/>
          </p:cNvPr>
          <p:cNvPicPr/>
          <p:nvPr/>
        </p:nvPicPr>
        <p:blipFill>
          <a:blip r:embed="rId29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課文講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會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數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二○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而禮勤，物薄而情厚。近日士大夫家，酒非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內法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二一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，果、肴非遠方珍異，食非多品，器皿非滿案，不敢會賓友；常數月營聚，然後敢發書。茍或不然，人爭非之，以為鄙吝。故不隨俗靡者蓋鮮矣！嗟乎！風俗頹敝如是，居位者雖不能禁，忍助之乎？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水缸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課文講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2120" y="32767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　　又聞昔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李文靖公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二二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為相，治居第於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封丘門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二三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內，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廳事前僅容旋馬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1" action="ppaction://hlinksldjump"/>
              </a:rPr>
              <a:t>二四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2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。或言其太隘，公笑曰：「居第當傳子孫，此為宰相廳事誠隘，為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13" action="ppaction://hlinksldjump"/>
              </a:rPr>
              <a:t>太祝、奉禮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4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5" action="ppaction://hlinksldjump"/>
              </a:rPr>
              <a:t>二五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6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廳事已寬矣！」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17" action="ppaction://hlinksldjump"/>
              </a:rPr>
              <a:t>參政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18" action="ppaction://hlinksldjump"/>
              </a:rPr>
              <a:t>魯公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9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0" action="ppaction://hlinksldjump"/>
              </a:rPr>
              <a:t>二六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1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為諫官，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22" action="ppaction://hlinksldjump"/>
              </a:rPr>
              <a:t>真宗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3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4" action="ppaction://hlinksldjump"/>
              </a:rPr>
              <a:t>二七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5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遣使急召之，得於酒家。既入，問其所來，以實對。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水缸" descr="">
            <a:hlinkClick r:id="" action="ppaction://hlinkshowjump?jump=nextslide"/>
          </p:cNvPr>
          <p:cNvPicPr/>
          <p:nvPr/>
        </p:nvPicPr>
        <p:blipFill>
          <a:blip r:embed="rId26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課文講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62120" y="31237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上曰：「卿為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清望官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二八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，奈何飲於酒肆？」對曰：「臣家貧，客至無器皿、肴、果，故就酒家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觴之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二九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。」上以無隱，益重之。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張文節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1" action="ppaction://hlinksldjump"/>
              </a:rPr>
              <a:t>三○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2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為相，自奉養如為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13" action="ppaction://hlinksldjump"/>
              </a:rPr>
              <a:t>河陽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4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5" action="ppaction://hlinksldjump"/>
              </a:rPr>
              <a:t>三一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6" action="ppaction://hlinksldjump"/>
              </a:rPr>
              <a:t>)</a:t>
            </a:r>
            <a:r>
              <a:rPr b="0" lang="zh-TW" sz="2500" spc="-1" strike="noStrike" u="sng" baseline="-25000">
                <a:solidFill>
                  <a:srgbClr val="6f89f7"/>
                </a:solidFill>
                <a:uFillTx/>
                <a:latin typeface="Tahoma"/>
                <a:hlinkClick r:id="rId17" action="ppaction://hlinksldjump"/>
              </a:rPr>
              <a:t>掌書記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8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9" action="ppaction://hlinksldjump"/>
              </a:rPr>
              <a:t>三二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0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時，所親或規之曰：「公今受俸不少，而自奉若此。公雖自信清約，外人頗有</a:t>
            </a:r>
            <a:r>
              <a:rPr b="0" lang="zh-TW" sz="2500" spc="-1" strike="noStrike" u="sng">
                <a:solidFill>
                  <a:srgbClr val="6f89f7"/>
                </a:solidFill>
                <a:uFillTx/>
                <a:latin typeface="Tahoma"/>
                <a:hlinkClick r:id="rId21" action="ppaction://hlinksldjump"/>
              </a:rPr>
              <a:t>公孫布被之譏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2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3" action="ppaction://hlinksldjump"/>
              </a:rPr>
              <a:t>三三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4" action="ppaction://hlinksldjump"/>
              </a:rPr>
              <a:t>)</a:t>
            </a: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。公宜少從眾。」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4" name="水缸" descr="">
            <a:hlinkClick r:id="" action="ppaction://hlinkshowjump?jump=nextslide"/>
          </p:cNvPr>
          <p:cNvPicPr/>
          <p:nvPr/>
        </p:nvPicPr>
        <p:blipFill>
          <a:blip r:embed="rId25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課文講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62120" y="31237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40458c"/>
                </a:solidFill>
                <a:latin typeface="Tahoma"/>
              </a:rPr>
              <a:t>公嘆曰：「吾今日之俸，雖舉家錦衣玉食，何患不能？顧人之常情，由儉入奢易，由奢入儉難。吾今日之俸豈能常有？身豈能常存？一旦異於今日，家人習奢已久，不能頓儉，必致失所。豈若吾居位、去位、身存、身亡，常如一日乎？」嗚呼！大賢之深謀遠慮，豈庸人所及哉！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水缸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課文講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62120" y="3048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御孫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三四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曰：「儉，德之共也；侈，惡之大也。」共，同也；言有德者皆由儉來也。夫儉則寡欲：君子寡欲，則不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役於物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三五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，可以直道而行；小人寡欲，則能謹身節用，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遠罪豐家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1" action="ppaction://hlinksldjump"/>
              </a:rPr>
              <a:t>三六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2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。故曰：「儉，德之共也。」侈則多欲：君子多欲，則貪慕富貴，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13" action="ppaction://hlinksldjump"/>
              </a:rPr>
              <a:t>枉道速禍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4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5" action="ppaction://hlinksldjump"/>
              </a:rPr>
              <a:t>三七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6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；小人多欲，則多求妄用，敗家喪身。是以居官必賄，居鄉必盜。故曰：「侈，惡之大也。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水缸" descr="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課文講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543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　　昔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正考父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三八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)</a:t>
            </a:r>
            <a:r>
              <a:rPr b="0" lang="zh-TW" sz="2400" spc="-1" strike="noStrike" u="sng" baseline="-25000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饘粥以餬口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三九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孟僖子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知其後必有達人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1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2" action="ppaction://hlinksldjump"/>
              </a:rPr>
              <a:t>四○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3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。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14" action="ppaction://hlinksldjump"/>
              </a:rPr>
              <a:t>季文子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15" action="ppaction://hlinksldjump"/>
              </a:rPr>
              <a:t>相三君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6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7" action="ppaction://hlinksldjump"/>
              </a:rPr>
              <a:t>四一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18" action="ppaction://hlinksldjump"/>
              </a:rPr>
              <a:t>)</a:t>
            </a:r>
            <a:r>
              <a:rPr b="1" i="1" lang="zh-TW" sz="24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妾不衣帛，馬不食粟，君子以為忠。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管仲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19" action="ppaction://hlinksldjump"/>
              </a:rPr>
              <a:t>鏤簋朱紘，山楶藻梲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0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1" action="ppaction://hlinksldjump"/>
              </a:rPr>
              <a:t>四二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2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23" action="ppaction://hlinksldjump"/>
              </a:rPr>
              <a:t>孔子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24" action="ppaction://hlinksldjump"/>
              </a:rPr>
              <a:t>鄙其小器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5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6" action="ppaction://hlinksldjump"/>
              </a:rPr>
              <a:t>四三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7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。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28" action="ppaction://hlinksldjump"/>
              </a:rPr>
              <a:t>公叔文子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9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0" action="ppaction://hlinksldjump"/>
              </a:rPr>
              <a:t>四四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1" action="ppaction://hlinksldjump"/>
              </a:rPr>
              <a:t>)</a:t>
            </a:r>
            <a:r>
              <a:rPr b="0" lang="zh-TW" sz="2400" spc="-1" strike="noStrike" u="sng" baseline="-25000">
                <a:solidFill>
                  <a:srgbClr val="6f89f7"/>
                </a:solidFill>
                <a:uFillTx/>
                <a:latin typeface="Tahoma"/>
                <a:hlinkClick r:id="rId32" action="ppaction://hlinksldjump"/>
              </a:rPr>
              <a:t>享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3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4" action="ppaction://hlinksldjump"/>
              </a:rPr>
              <a:t>四五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5" action="ppaction://hlinksldjump"/>
              </a:rPr>
              <a:t>)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衛靈公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36" action="ppaction://hlinksldjump"/>
              </a:rPr>
              <a:t>史鰌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7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8" action="ppaction://hlinksldjump"/>
              </a:rPr>
              <a:t>四六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9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知其及禍；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40" action="ppaction://hlinksldjump"/>
              </a:rPr>
              <a:t>及戍，果以富得罪出亡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1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2" action="ppaction://hlinksldjump"/>
              </a:rPr>
              <a:t>四七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3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。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44" action="ppaction://hlinksldjump"/>
              </a:rPr>
              <a:t>何曾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5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6" action="ppaction://hlinksldjump"/>
              </a:rPr>
              <a:t>四八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7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日食萬錢，至孫以驕溢傾家。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48" action="ppaction://hlinksldjump"/>
              </a:rPr>
              <a:t>石崇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9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50" action="ppaction://hlinksldjump"/>
              </a:rPr>
              <a:t>四九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51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以奢靡誇人，卒以此死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52" action="ppaction://hlinksldjump"/>
              </a:rPr>
              <a:t>東市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53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54" action="ppaction://hlinksldjump"/>
              </a:rPr>
              <a:t>五○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55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。近世</a:t>
            </a:r>
            <a:r>
              <a:rPr b="0" lang="zh-TW" sz="2400" spc="-1" strike="noStrike" u="sng">
                <a:solidFill>
                  <a:srgbClr val="6f89f7"/>
                </a:solidFill>
                <a:uFillTx/>
                <a:latin typeface="Tahoma"/>
                <a:hlinkClick r:id="rId56" action="ppaction://hlinksldjump"/>
              </a:rPr>
              <a:t>寇萊公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57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58" action="ppaction://hlinksldjump"/>
              </a:rPr>
              <a:t>五一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59" action="ppaction://hlinksldjump"/>
              </a:rPr>
              <a:t>)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豪侈冠一時，然以功業大，人莫之非，子孫習其家風，今多窮困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3" name="水缸" descr="">
            <a:hlinkClick r:id="" action="ppaction://hlinkshowjump?jump=nextslide"/>
          </p:cNvPr>
          <p:cNvPicPr/>
          <p:nvPr/>
        </p:nvPicPr>
        <p:blipFill>
          <a:blip r:embed="rId60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水缸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、題解</a:t>
            </a: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、認識作者</a:t>
            </a: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、軼聞趣事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1) (2)</a:t>
            </a: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、課文講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17524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課文講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其餘以儉立名，以侈自敗者多矣！不可遍數，聊舉數人以訓汝。汝非徒身當</a:t>
            </a:r>
            <a:r>
              <a:rPr b="0" lang="zh-TW" sz="28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服行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(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五二</a:t>
            </a:r>
            <a:r>
              <a:rPr b="0" lang="zh-TW" sz="2000" spc="-1" strike="noStrike" u="sng" baseline="-25000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)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當以訓汝子孫，使知前輩之風俗云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水缸" descr=""/>
          <p:cNvPicPr/>
          <p:nvPr/>
        </p:nvPicPr>
        <p:blipFill>
          <a:blip r:embed="rId5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213372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　寒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猶言「寒門」，貧儉之家。此其謙詞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213372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　清白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操行純潔無瑕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2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13372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　靡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麗、侈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5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　二十忝科名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年二十即考中進士。忝，辱；自謙之詞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8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1337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五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聞喜宴獨不戴花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聞喜宴上只有我沒有簪花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宋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制，賜宴新科進士暨諸科及第者於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瓊林苑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叫做「聞喜宴」。戴花，凡赴宴者，皆賜花，簪於帽上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六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同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同榜登科的人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4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1337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七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矯俗干名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故意違背世俗，以求取美名。矯，違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7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音ㄔ，譏笑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八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嗤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0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九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與其不遜也寧固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奢侈就驕泰而謙遜，太儉省就簡陋寒傖；與其不謙遜，寧可簡陋寒傖些。遜，謙順。固，簡陋、寒傖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3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1828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題解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040" y="32004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　　本文選自傳家集。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康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，字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公休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，性至孝，聰敏好學，官至右正言。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宋代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官俸優厚，加上承平日久，士大夫因此侈靡成習。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司馬光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既已顯貴，惟恐其子薰染時習，成為紈絝子，便引述聖賢言論，列舉古今事例，闡明儉以立德，奢則致敗的道理，以垂訓誡。惜財愛物固然是儉，一言一行能夠收斂節制也是儉。所謂「有德者皆由儉來」，為人謙抑遜讓，行事不敢恣緃，正是以儉德來鍛鍊人格的修養工夫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水缸" descr=""/>
          <p:cNvPicPr/>
          <p:nvPr/>
        </p:nvPicPr>
        <p:blipFill>
          <a:blip r:embed="rId1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○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以約失之者鮮矣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能節制自己而還會犯錯的人，就很少了。約，規約、節制；凡謹言慎行，不奢侈浪費，皆約也。鮮，少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6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士志於道三句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想行道於世，卻以粗劣的衣食為恥辱，這樣的人不值得和他議論正道。惡，粗劣。未足，不值得。與議，與之議道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9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二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詬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批評。詬，音ㄍㄡˋ，罵。病，非議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2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三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走卒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供人差遣役使的僕隸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5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四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躡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音ㄋ｜ㄝˋ，蹈，此處有穿著的意思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8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五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天聖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宋仁宗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年號（西元一○二三</a:t>
            </a:r>
            <a:r>
              <a:rPr b="1" lang="zh-TW" sz="28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一○三一年）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1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六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先公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猶言「先父」、「先君」，稱已死的父親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光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父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池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字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和中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累官州縣，有政聲，卒於知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晉州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（今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河北省晉縣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）任所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4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七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群牧判官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宋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制於太僕寺卿下設群牧司，內置使一人，副使一人，都監二人，判官二人，掌內外廄牧事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7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八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行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宴會時，主人敬酒一巡曰一行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0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九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脯醢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脯，音ㄈㄨˇ，乾肉；醢，音ㄏㄞˇ，肉醬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3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2666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認識作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14040" y="3123720"/>
            <a:ext cx="7162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0" lang="zh-TW" sz="3200" spc="-1" strike="noStrike" u="sng">
                <a:solidFill>
                  <a:srgbClr val="40458c"/>
                </a:solidFill>
                <a:uFillTx/>
                <a:latin typeface="Tahoma"/>
              </a:rPr>
              <a:t>司馬光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，字</a:t>
            </a:r>
            <a:r>
              <a:rPr b="0" lang="zh-TW" sz="3200" spc="-1" strike="noStrike" u="sng">
                <a:solidFill>
                  <a:srgbClr val="40458c"/>
                </a:solidFill>
                <a:uFillTx/>
                <a:latin typeface="Tahoma"/>
              </a:rPr>
              <a:t>君實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3200" spc="-1" strike="noStrike" u="sng">
                <a:solidFill>
                  <a:srgbClr val="40458c"/>
                </a:solidFill>
                <a:uFillTx/>
                <a:latin typeface="Tahoma"/>
              </a:rPr>
              <a:t>宋陝州夏縣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（今</a:t>
            </a:r>
            <a:r>
              <a:rPr b="0" lang="zh-TW" sz="3200" spc="-1" strike="noStrike" u="sng">
                <a:solidFill>
                  <a:srgbClr val="40458c"/>
                </a:solidFill>
                <a:uFillTx/>
                <a:latin typeface="Tahoma"/>
              </a:rPr>
              <a:t>山西省夏縣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）人。生於</a:t>
            </a:r>
            <a:r>
              <a:rPr b="0" lang="zh-TW" sz="3200" spc="-1" strike="noStrike" u="sng">
                <a:solidFill>
                  <a:srgbClr val="40458c"/>
                </a:solidFill>
                <a:uFillTx/>
                <a:latin typeface="Tahoma"/>
              </a:rPr>
              <a:t>真宗天禧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三年（西元一○一九年），卒於</a:t>
            </a:r>
            <a:r>
              <a:rPr b="0" lang="zh-TW" sz="3200" spc="-1" strike="noStrike" u="sng">
                <a:solidFill>
                  <a:srgbClr val="40458c"/>
                </a:solidFill>
                <a:uFillTx/>
                <a:latin typeface="Tahoma"/>
              </a:rPr>
              <a:t>哲宗元祐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元年（西元一○八六年），年六十八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水缸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○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音ㄕㄨㄛˋ，多次、屢次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6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內法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內廷釀酒之法，此指官酒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宋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時之酒，官製者味醇而厚，民製者味劣而薄。上文「酒酤於市」，即指民酒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9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二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李文靖公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名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沆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字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太初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宋洺州肥鄉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（今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河北省肥鄉縣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）人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真宗咸平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初為相，深謀遠慮，時稱聖相，卒諡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文靖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2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三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封丘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宋汴京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城門名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5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四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廳事前僅容旋馬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辦公廳前，僅容旋馬，言其狹小。廳事，本取聽事之意，為官府辦公的處所，後私宅亦襲用。旋，回轉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8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五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太祝奉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太祝，官名，掌宗廟祭之事；奉禮，指奉禮郎，掌供幣帛之事。二者官位都不高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1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六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參政魯公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90720" y="31237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指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魯宗道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。參政，官名，即參政知事，在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宋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為副宰相。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魯宗道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，字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貫之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宋亳州譙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（今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安徽省亳縣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）人。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真宗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時，任諫官，恥尸位，請罷去，帝撫慰良久，他日題殿壁曰「魯直」，懷念不已。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仁宗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時，官參知政事，挫折權貴，廷臣嚴憚之，目為「魚頭參政」。因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魯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姓（魯之頭為魚），並言其強鯁，若魚頭然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4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七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真宗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名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恆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宋太宗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子，在位二十五年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7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八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清望官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名望清高的官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0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九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觴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進酒款客。觴，音ㄕㄤ，酒器，此作動詞用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3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2590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認識作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2120" y="3123720"/>
            <a:ext cx="76197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光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自幼穎慧，勤於攻讀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仁宗寶元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初登進士第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神宗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時，因批評新法，與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王安石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不合，退居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洛陽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哲宗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即位，起為門下侍郎，轉尚書左僕射，罷新法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光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聲威遠播，親理庶務，日夕勞瘁，居相位八月而卒。贈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溫國公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諡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文正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水缸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○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張文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名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知白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字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用晦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宋滄州清池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（今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河北省滄縣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東南）人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真宗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時進士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仁宗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時為相，公正清廉，雖居顯貴，樸實如寒士，卒諡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文節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6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河陽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在今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河南省孟縣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南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9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二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掌書記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官名。即節度掌書記，是節度使的屬官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2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三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公孫布被之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外人認為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公孫弘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故示儉樸，其實是為了盜取虛名罷了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公孫弘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漢菑（ㄗ）川薛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（今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山東省滕縣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東南）人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武帝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時為丞相，封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平津侯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平日生活儉樸，布被，粗飯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5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四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御孫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春秋魯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大夫，名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慶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8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五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役於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受外物所支配。役，役使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71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六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遠罪豐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遠離罪罰而富厚其家。遠，音ㄩㄢˋ，遠離，動詞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74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七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枉道速禍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枉曲正道而召致災禍。枉，歪曲。速，召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77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八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正考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春秋宋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之宗室，為上卿，位高而愈恭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孔子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是他的後代。父，音ㄈㄨˇ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0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九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饘粥以餬口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吃粥過日子，言其儉約。饘，音ㄓㄢ，稠粥。粥，稀飯。餬，亦粥類，此處作動詞用，飼養。餬口，意謂勉強維持生活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3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2666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認識作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62120" y="3123720"/>
            <a:ext cx="76197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光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忠信孝友，恭儉正直，自云：「吾無過人者，但生平所為，未嘗有不可對人言者耳！」其思想源出六經，文章如布帛菽粟，深切日用，以羽翼名教，端正世風為主。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資治通鑑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為光所主撰，上起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戰國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，下終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五代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，計一千三百六十二年，凡二百九十四卷。另有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獨樂園集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、</a:t>
            </a:r>
            <a:r>
              <a:rPr b="0" lang="zh-TW" sz="2400" spc="-1" strike="noStrike" u="sng">
                <a:solidFill>
                  <a:srgbClr val="40458c"/>
                </a:solidFill>
                <a:uFillTx/>
                <a:latin typeface="Tahoma"/>
              </a:rPr>
              <a:t>傳家集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等行世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水缸" descr=""/>
          <p:cNvPicPr/>
          <p:nvPr/>
        </p:nvPicPr>
        <p:blipFill>
          <a:blip r:embed="rId1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○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孟僖子知其後必　　　　　　　有達人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孟僖子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認為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正考父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恭儉如此，必有顯達的後裔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孟僖子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魯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大夫。達人，指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孔子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6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季文子相三君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季文子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相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宣公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、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成公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、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襄公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三朝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季文子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春秋魯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大夫，名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行父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諡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文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。及卒，家無長物，足見其忠於公室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9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二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</a:t>
            </a:r>
            <a:r>
              <a:rPr b="0" lang="zh-TW" sz="3800" spc="-1" strike="noStrike">
                <a:solidFill>
                  <a:srgbClr val="660066"/>
                </a:solidFill>
                <a:latin typeface="Tahoma"/>
              </a:rPr>
              <a:t>鏤簋朱紘山楶藻梲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761760" y="3048120"/>
            <a:ext cx="7391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40458c"/>
                </a:solidFill>
                <a:latin typeface="Tahoma"/>
              </a:rPr>
              <a:t>雕花器冊、朱紅帳幔、彩繪山形圖案的斗拱、塗畫水藻花紋的短柱，極言器物、裝潢之華美。鏤，音，ㄌㄡˋ，雕刻花紋。簋，音ㄍㄨㄟˇ，古代祭燕享時盛黍稷的器具。紘，音ㄏㄨㄥˊ，維，在這裡指帳幔一類的東西。山楶，在楶上繪山形圖案。楶，音ㄐ｜ㄝˊ，亦作「節」，柱頭斗拱，方似斗形，上承屋棟。藻梲，在梲上繪水藻花紋。梲，音ㄓㄨㄛˊ，梁上短柱。由鏤簋這些事，可以看出</a:t>
            </a:r>
            <a:r>
              <a:rPr b="0" lang="zh-TW" sz="2200" spc="-1" strike="noStrike" u="sng">
                <a:solidFill>
                  <a:srgbClr val="40458c"/>
                </a:solidFill>
                <a:uFillTx/>
                <a:latin typeface="Tahoma"/>
              </a:rPr>
              <a:t>管仲</a:t>
            </a:r>
            <a:r>
              <a:rPr b="0" lang="zh-TW" sz="2200" spc="-1" strike="noStrike">
                <a:solidFill>
                  <a:srgbClr val="40458c"/>
                </a:solidFill>
                <a:latin typeface="Tahoma"/>
              </a:rPr>
              <a:t>的奢侈。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2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三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孔子鄙其小器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孔子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輕視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管仲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之器量狹小。鄙，輕視。小器，器量狹小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5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四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公叔文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公孫拔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春秋衛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大夫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8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五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享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同「饗」，宴享，以酒食宴客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1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六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史鰌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字子魚，亦史魚，春秋衛大夫。鰌，音ㄑ｜ㄡ，亦音ㄑ｜ㄡˊ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4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七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及戍果以富得罪　　　　　　　出亡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傳至戍，果然因富得罪而逃亡奔魯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7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八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何曾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字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穎孝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晉陳國陽夏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（今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河南省太康縣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）人。官至太傅，生性豪侈，日食萬錢，猶無下箸處。子孫亦不改其風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懷帝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末年，曾孫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綏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為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東海王越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所殺，竟覆亡其家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0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九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石崇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字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季倫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晉渤海南皮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（今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河北省南皮縣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）人。官至衛尉，窮極奢靡，與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羊琇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、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王愷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等爭誇富豪。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趙王倫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專權，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石崇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全家十五口被殺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3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Arial"/>
              </a:rPr>
              <a:t>司</a:t>
            </a:r>
            <a:r>
              <a:rPr b="0" lang="zh-TW" sz="2800" spc="-1" strike="noStrike">
                <a:solidFill>
                  <a:srgbClr val="40458c"/>
                </a:solidFill>
                <a:latin typeface="Arial"/>
                <a:ea typeface="Arial"/>
              </a:rPr>
              <a:t>馬光小的時候，有一次，跟許多小朋友到花園裡去做遊戲。 其中一個小朋友爬到水缸上去玩，一個不小心，這位小朋友掉進水缸裡去了。一起遊玩的小朋友，個個嚇得驚魂失色，拔腿就跑。</a:t>
            </a:r>
            <a:br>
              <a:rPr sz="2800"/>
            </a:br>
            <a:r>
              <a:rPr b="0" lang="zh-TW" sz="2800" spc="-1" strike="noStrike">
                <a:solidFill>
                  <a:srgbClr val="40458c"/>
                </a:solidFill>
                <a:latin typeface="Arial"/>
                <a:ea typeface="Arial"/>
              </a:rPr>
              <a:t>缸裡的小朋友更是嚇得大叫「救命」，奮力掙扎，想要爬出水缸。這時，反應機靈的司馬光，不慌不忙的在地上拾起一塊大石頭，用力把水缸扎破，讓水流出水缸。而缸裡的小朋友順勢爬出水缸，才沒有被水淹死。司馬光的機靈與勇敢終於保全了小朋友的性命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914400" y="45720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軼聞趣事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1)</a:t>
            </a:r>
            <a:r>
              <a:rPr b="1" lang="zh-TW" sz="4400" spc="-1" strike="noStrike">
                <a:solidFill>
                  <a:srgbClr val="a50021"/>
                </a:solidFill>
                <a:latin typeface="Tahoma"/>
              </a:rPr>
              <a:t>打破水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水缸" descr=""/>
          <p:cNvPicPr/>
          <p:nvPr/>
        </p:nvPicPr>
        <p:blipFill>
          <a:blip r:embed="rId1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五○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東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刑場的通稱。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漢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時在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長安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東市處決人犯，故稱。此指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晉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都</a:t>
            </a:r>
            <a:r>
              <a:rPr b="0" lang="zh-TW" sz="2800" spc="-1" strike="noStrike" u="sng">
                <a:solidFill>
                  <a:srgbClr val="40458c"/>
                </a:solidFill>
                <a:uFillTx/>
                <a:latin typeface="Tahoma"/>
              </a:rPr>
              <a:t>洛陽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的刑場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6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五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寇萊公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7239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 u="sng">
                <a:solidFill>
                  <a:srgbClr val="40458c"/>
                </a:solidFill>
                <a:uFillTx/>
                <a:latin typeface="Tahoma"/>
              </a:rPr>
              <a:t>寇準</a:t>
            </a:r>
            <a:r>
              <a:rPr b="0" lang="zh-TW" sz="2700" spc="-1" strike="noStrike">
                <a:solidFill>
                  <a:srgbClr val="40458c"/>
                </a:solidFill>
                <a:latin typeface="Tahoma"/>
              </a:rPr>
              <a:t>，字</a:t>
            </a:r>
            <a:r>
              <a:rPr b="0" lang="zh-TW" sz="2700" spc="-1" strike="noStrike" u="sng">
                <a:solidFill>
                  <a:srgbClr val="40458c"/>
                </a:solidFill>
                <a:uFillTx/>
                <a:latin typeface="Tahoma"/>
              </a:rPr>
              <a:t>平仲</a:t>
            </a:r>
            <a:r>
              <a:rPr b="0" lang="zh-TW" sz="27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zh-TW" sz="2700" spc="-1" strike="noStrike" u="sng">
                <a:solidFill>
                  <a:srgbClr val="40458c"/>
                </a:solidFill>
                <a:uFillTx/>
                <a:latin typeface="Tahoma"/>
              </a:rPr>
              <a:t>宋華州下邽</a:t>
            </a:r>
            <a:r>
              <a:rPr b="0" lang="zh-TW" sz="2700" spc="-1" strike="noStrike">
                <a:solidFill>
                  <a:srgbClr val="40458c"/>
                </a:solidFill>
                <a:latin typeface="Tahoma"/>
              </a:rPr>
              <a:t>（今</a:t>
            </a:r>
            <a:r>
              <a:rPr b="0" lang="zh-TW" sz="2700" spc="-1" strike="noStrike" u="sng">
                <a:solidFill>
                  <a:srgbClr val="40458c"/>
                </a:solidFill>
                <a:uFillTx/>
                <a:latin typeface="Tahoma"/>
              </a:rPr>
              <a:t>陝西省渭南縣</a:t>
            </a:r>
            <a:r>
              <a:rPr b="0" lang="zh-TW" sz="2700" spc="-1" strike="noStrike">
                <a:solidFill>
                  <a:srgbClr val="40458c"/>
                </a:solidFill>
                <a:latin typeface="Tahoma"/>
              </a:rPr>
              <a:t>東北）人。</a:t>
            </a:r>
            <a:r>
              <a:rPr b="0" lang="zh-TW" sz="2700" spc="-1" strike="noStrike" u="sng">
                <a:solidFill>
                  <a:srgbClr val="40458c"/>
                </a:solidFill>
                <a:uFillTx/>
                <a:latin typeface="Tahoma"/>
              </a:rPr>
              <a:t>太宗</a:t>
            </a:r>
            <a:r>
              <a:rPr b="0" lang="zh-TW" sz="2700" spc="-1" strike="noStrike">
                <a:solidFill>
                  <a:srgbClr val="40458c"/>
                </a:solidFill>
                <a:latin typeface="Tahoma"/>
              </a:rPr>
              <a:t>時進士，</a:t>
            </a:r>
            <a:r>
              <a:rPr b="0" lang="zh-TW" sz="2700" spc="-1" strike="noStrike" u="sng">
                <a:solidFill>
                  <a:srgbClr val="40458c"/>
                </a:solidFill>
                <a:uFillTx/>
                <a:latin typeface="Tahoma"/>
              </a:rPr>
              <a:t>真宗</a:t>
            </a:r>
            <a:r>
              <a:rPr b="0" lang="zh-TW" sz="2700" spc="-1" strike="noStrike">
                <a:solidFill>
                  <a:srgbClr val="40458c"/>
                </a:solidFill>
                <a:latin typeface="Tahoma"/>
              </a:rPr>
              <a:t>時為相。</a:t>
            </a:r>
            <a:r>
              <a:rPr b="0" lang="zh-TW" sz="2700" spc="-1" strike="noStrike" u="sng">
                <a:solidFill>
                  <a:srgbClr val="40458c"/>
                </a:solidFill>
                <a:uFillTx/>
                <a:latin typeface="Tahoma"/>
              </a:rPr>
              <a:t>契丹</a:t>
            </a:r>
            <a:r>
              <a:rPr b="0" lang="zh-TW" sz="2700" spc="-1" strike="noStrike">
                <a:solidFill>
                  <a:srgbClr val="40458c"/>
                </a:solidFill>
                <a:latin typeface="Tahoma"/>
              </a:rPr>
              <a:t>入寇時，勸帝親征，因而退敵，訂</a:t>
            </a:r>
            <a:r>
              <a:rPr b="0" lang="zh-TW" sz="2700" spc="-1" strike="noStrike" u="sng">
                <a:solidFill>
                  <a:srgbClr val="40458c"/>
                </a:solidFill>
                <a:uFillTx/>
                <a:latin typeface="Tahoma"/>
              </a:rPr>
              <a:t>澶（ㄔㄢˊ）淵</a:t>
            </a:r>
            <a:r>
              <a:rPr b="0" lang="zh-TW" sz="2700" spc="-1" strike="noStrike">
                <a:solidFill>
                  <a:srgbClr val="40458c"/>
                </a:solidFill>
                <a:latin typeface="Tahoma"/>
              </a:rPr>
              <a:t>之盟。因有功而封</a:t>
            </a:r>
            <a:r>
              <a:rPr b="0" lang="zh-TW" sz="2700" spc="-1" strike="noStrike" u="sng">
                <a:solidFill>
                  <a:srgbClr val="40458c"/>
                </a:solidFill>
                <a:uFillTx/>
                <a:latin typeface="Tahoma"/>
              </a:rPr>
              <a:t>萊國公</a:t>
            </a:r>
            <a:r>
              <a:rPr b="0" lang="zh-TW" sz="2700" spc="-1" strike="noStrike">
                <a:solidFill>
                  <a:srgbClr val="40458c"/>
                </a:solidFill>
                <a:latin typeface="Tahoma"/>
              </a:rPr>
              <a:t>。</a:t>
            </a:r>
            <a:r>
              <a:rPr b="0" lang="zh-TW" sz="2700" spc="-1" strike="noStrike" u="sng">
                <a:solidFill>
                  <a:srgbClr val="40458c"/>
                </a:solidFill>
                <a:uFillTx/>
                <a:latin typeface="Tahoma"/>
              </a:rPr>
              <a:t>準</a:t>
            </a:r>
            <a:r>
              <a:rPr b="0" lang="zh-TW" sz="2700" spc="-1" strike="noStrike">
                <a:solidFill>
                  <a:srgbClr val="40458c"/>
                </a:solidFill>
                <a:latin typeface="Tahoma"/>
              </a:rPr>
              <a:t>少年顯貴，生性豪華，家中不用油燈，連廚廁也燃巨燭，蠟淚成堆。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9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注釋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五二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　服行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Tahoma"/>
              </a:rPr>
              <a:t>實踐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22" name="水缸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軼聞趣事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2)</a:t>
            </a:r>
            <a:r>
              <a:rPr b="1" lang="zh-TW" sz="4400" spc="-1" strike="noStrike">
                <a:solidFill>
                  <a:srgbClr val="993300"/>
                </a:solidFill>
                <a:latin typeface="Tahoma"/>
              </a:rPr>
              <a:t>司馬光薦才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司馬光並非一直春風得意，在他失意賦閑在家時，他曾一度消沈。好在他熱愛讀書，喜歡交朋友，與友人一起舉杯小酌，談古論今，時光也好打發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司馬光當宰相後日理萬機，案頭文書堆積如山，其中有不少是舊友來函。這些人在給司馬光的信中，多半是回憶舊情，欲勾起司馬光的懷舊情結，然後就是敍述個人目前處境如何不好，大有懷才不遇的感歎，繼而或暗示或者恬不知恥地表示希望得到司馬光的提攜……司馬光對這些來信並不是每函必覆，對其中啼饑號寒者有時也給予恰當的接濟；對有意進取功名者覆函表示鼓勵；對厚顏討官要爵者則置之不理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0" name="水缸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ahoma"/>
              </a:rPr>
              <a:t>軼聞趣事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(2)</a:t>
            </a:r>
            <a:r>
              <a:rPr b="1" lang="zh-TW" sz="4400" spc="-1" strike="noStrike">
                <a:solidFill>
                  <a:srgbClr val="993300"/>
                </a:solidFill>
                <a:latin typeface="Tahoma"/>
              </a:rPr>
              <a:t>司馬光薦才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司馬光也並非全然不念舊情。公餘，他也有時憶起故舊，對舊友中那些德行好、有才氣的，他是忘不掉的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這一天，史館的劉器之來拜望司馬光，談完公事後，司馬光問劉器之道：「器之，你可曾知道，你是怎樣進入史館的？」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「知道知道！若不是君實（司馬光字君實）兄為薦，器之將依舊是布衣寒士……」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不等劉器之說完感恩圖報之類的話，司馬光又問他道：「那你可知我為何要推薦你呢？」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「知道知道！這完全是君實兄有念舊之情……」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「哈哈！這點你就說錯了！我的故友舊交倒確實不少，如果僅因念舊而薦人，那朝廷裏不到處都會有我的舊友？」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劉器之聽後一時茫然，他靜待司馬光說下去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水缸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1880" y="60865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3:33:04Z</dcterms:created>
  <dc:creator>user</dc:creator>
  <dc:description/>
  <dc:language>en-US</dc:language>
  <cp:lastModifiedBy>Customer</cp:lastModifiedBy>
  <dcterms:modified xsi:type="dcterms:W3CDTF">2008-04-23T02:10:29Z</dcterms:modified>
  <cp:revision>51</cp:revision>
  <dc:subject/>
  <dc:title>第七課　訓儉示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2000000000001024120</vt:lpwstr>
  </property>
</Properties>
</file>