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4F6E-D853-45FF-B8B8-1FC5A4762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355E-2439-4C35-91F2-7DE40167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DBE5-E9EF-4321-B837-73082938A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D636-A1C4-44EC-9797-A2560B07A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CF0F-2152-474A-8F96-FD8D5904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A756-D4CA-47AA-90AF-22DA5EFC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C794-B1F2-435F-9775-30BB40A9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E558-02C8-44A2-8478-75F57774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6E9A-C1C3-449B-AC80-C1638858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201B-6902-47AF-8F25-C5C7117B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D22E-AA5F-4D0C-A82E-000B00B0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2611-747B-4B30-9E6E-FCE188EA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6142-4548-47F5-A5F1-AB8EE28CE2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00400" y="380880"/>
            <a:ext cx="59436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  <a:ea typeface="隶书"/>
              </a:rPr>
              <a:t>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  <a:ea typeface="隶书"/>
              </a:rPr>
              <a:t>桔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  <a:ea typeface="隶书"/>
              </a:rPr>
              <a:t>灯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29400" y="3886200"/>
            <a:ext cx="1371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小桔灯冰心-1%20copy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3809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994040" y="1463760"/>
            <a:ext cx="5154480" cy="39290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38080" y="1066680"/>
            <a:ext cx="769644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600" spc="-1" strike="noStrike" u="sng">
                <a:solidFill>
                  <a:srgbClr val="990099"/>
                </a:solidFill>
                <a:uFillTx/>
                <a:latin typeface="Times New Roman"/>
                <a:ea typeface="黑体"/>
              </a:rPr>
              <a:t>替 换 练 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cc3399"/>
                </a:solidFill>
                <a:latin typeface="隶书"/>
                <a:ea typeface="隶书"/>
              </a:rPr>
              <a:t>她（                ） 说：“红薯稀饭，我们的年夜饭。”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20574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笑  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971800" y="45720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行动描写（二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1204920"/>
            <a:ext cx="86104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我站起来要走，她    住我，一面极其敏捷地     过穿着麻线的大针，把那小桔碗四周相对地    起来，像个小筐似的，用一根小竹棍     着，又从窗台上    了一段短短的蜡烛头，     在里面    起来，     给我说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:“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天黑了，路滑，这盏小桔灯照你上山吧！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4648320"/>
            <a:ext cx="71629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穷人的孩子早当家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12193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1676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21337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24280" y="260496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52680" y="31240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31240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22760" y="2562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514600" y="99072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行动描写（二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95280" y="2133720"/>
            <a:ext cx="65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她又像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安慰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我似的说：“不久，我爸爸一定会回来的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那时我妈妈就会好了。”她用小手在面前</a:t>
            </a:r>
            <a:r>
              <a:rPr b="1" lang="zh-CN" sz="3200" spc="-1" strike="noStrike">
                <a:solidFill>
                  <a:srgbClr val="cc3399"/>
                </a:solidFill>
                <a:latin typeface="隶书"/>
                <a:ea typeface="隶书"/>
              </a:rPr>
              <a:t>画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一个圆圈，最后</a:t>
            </a:r>
            <a:r>
              <a:rPr b="1" lang="zh-CN" sz="3200" spc="-1" strike="noStrike">
                <a:solidFill>
                  <a:srgbClr val="cc3399"/>
                </a:solidFill>
                <a:latin typeface="隶书"/>
                <a:ea typeface="隶书"/>
              </a:rPr>
              <a:t>按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到我的手上，“我们大家也都好了！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57800" y="51055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Times New Roman"/>
              </a:rPr>
              <a:t>体会一下 </a:t>
            </a:r>
            <a:r>
              <a:rPr b="1" i="1" lang="zh-CN" sz="40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828800" y="3049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小姑娘性格形成原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143000"/>
            <a:ext cx="6324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王春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替那些学生（共产党）送信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16765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家庭影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2819520"/>
            <a:ext cx="43434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胡大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只要一打电话就会来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4097160"/>
            <a:ext cx="4419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素不相识除夕夜前来探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350532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社会基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828800" cy="12826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133720" y="152388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小桔灯，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53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年的思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2819520"/>
            <a:ext cx="6629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年的小姑娘，如今已是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头，你能想象一下她现在的外貌，为她设计一下动作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还会再做一盏小桔灯，献在冰心奶奶灵前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姑娘”这时会说些什么呢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小桔灯冰心-1%20copy" descr=""/>
          <p:cNvPicPr/>
          <p:nvPr/>
        </p:nvPicPr>
        <p:blipFill>
          <a:blip r:embed="rId1"/>
          <a:stretch/>
        </p:blipFill>
        <p:spPr>
          <a:xfrm>
            <a:off x="533520" y="0"/>
            <a:ext cx="5059080" cy="6413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 rot="267000">
            <a:off x="3047760" y="1143000"/>
            <a:ext cx="41148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就这样的一盏小桔灯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2" name=""/>
          <p:cNvSpPr/>
          <p:nvPr/>
        </p:nvSpPr>
        <p:spPr>
          <a:xfrm>
            <a:off x="7240680" y="106668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3333cc"/>
                </a:solidFill>
                <a:latin typeface="Times New Roman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666880" y="1295280"/>
            <a:ext cx="495324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5050"/>
                </a:solidFill>
                <a:latin typeface="Times New Roman"/>
                <a:ea typeface="隶书"/>
              </a:rPr>
              <a:t>同学们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5050"/>
                </a:solidFill>
                <a:latin typeface="Times New Roman"/>
                <a:ea typeface="隶书"/>
              </a:rPr>
              <a:t>  </a:t>
            </a:r>
            <a:r>
              <a:rPr b="1" lang="zh-CN" sz="8800" spc="-1" strike="noStrike">
                <a:solidFill>
                  <a:srgbClr val="ff5050"/>
                </a:solidFill>
                <a:latin typeface="Times New Roman"/>
                <a:ea typeface="隶书"/>
              </a:rPr>
              <a:t>再见！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743200" y="838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写 了 什 么 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20574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时间                      地点                  人物                事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657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99"/>
                </a:solidFill>
                <a:latin typeface="Times New Roman"/>
              </a:rPr>
              <a:t>十二年前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99"/>
                </a:solidFill>
                <a:latin typeface="Times New Roman"/>
              </a:rPr>
              <a:t>一个除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99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cc3399"/>
                </a:solidFill>
                <a:latin typeface="Times New Roman"/>
              </a:rPr>
              <a:t>1945</a:t>
            </a:r>
            <a:r>
              <a:rPr b="1" lang="zh-CN" sz="2400" spc="-1" strike="noStrike">
                <a:solidFill>
                  <a:srgbClr val="cc3399"/>
                </a:solidFill>
                <a:latin typeface="Times New Roman"/>
              </a:rPr>
              <a:t>年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38862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99"/>
                </a:solidFill>
                <a:latin typeface="Times New Roman"/>
              </a:rPr>
              <a:t>重庆郊外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99"/>
                </a:solidFill>
                <a:latin typeface="Times New Roman"/>
              </a:rPr>
              <a:t>一个小山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91120" y="38098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99"/>
                </a:solidFill>
                <a:latin typeface="Times New Roman"/>
              </a:rPr>
              <a:t>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99"/>
                </a:solidFill>
                <a:latin typeface="Times New Roman"/>
              </a:rPr>
              <a:t>小姑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638680" y="3505320"/>
            <a:ext cx="32767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99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cc3399"/>
                </a:solidFill>
                <a:latin typeface="Times New Roman"/>
              </a:rPr>
              <a:t>我”两次遇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99"/>
                </a:solidFill>
                <a:latin typeface="Times New Roman"/>
              </a:rPr>
              <a:t>小姑娘，并且去看望   她，小姑娘做小桔灯                                                                                 照“我”上山，“我”                                                                      到现在还在怀念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68360" cy="2438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666880" y="30492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5050"/>
                </a:solidFill>
                <a:latin typeface="Times New Roman"/>
                <a:ea typeface="隶书"/>
              </a:rPr>
              <a:t>外貌描写</a:t>
            </a:r>
            <a:r>
              <a:rPr b="1" lang="zh-CN" sz="4000" spc="-1" strike="noStrike">
                <a:solidFill>
                  <a:srgbClr val="ff5050"/>
                </a:solidFill>
                <a:latin typeface="Times New Roman"/>
                <a:ea typeface="隶书"/>
              </a:rPr>
              <a:t>（一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1523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瘦瘦的苍白的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09680" y="1600200"/>
            <a:ext cx="7898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990099"/>
                </a:solidFill>
                <a:latin typeface="黑体"/>
                <a:ea typeface="黑体"/>
              </a:rPr>
              <a:t>饥 寒 交 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24382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冻得发紫的嘴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短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3429000"/>
            <a:ext cx="7010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很破的衣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58800" y="4343400"/>
            <a:ext cx="140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光脚穿草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ccecff"/>
            </a:gs>
            <a:gs pos="100000">
              <a:srgbClr val="66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666880" y="685800"/>
            <a:ext cx="464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5050"/>
                </a:solidFill>
                <a:latin typeface="Times New Roman"/>
                <a:ea typeface="隶书"/>
              </a:rPr>
              <a:t>行动描写</a:t>
            </a:r>
            <a:r>
              <a:rPr b="1" lang="zh-CN" sz="4000" spc="-1" strike="noStrike">
                <a:solidFill>
                  <a:srgbClr val="ff5050"/>
                </a:solidFill>
                <a:latin typeface="Times New Roman"/>
                <a:ea typeface="隶书"/>
              </a:rPr>
              <a:t>（一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52480" y="20113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登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19051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想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2480" y="28494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爬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28638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缩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356544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点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3535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摇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4297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下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52480" y="42973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谢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11120" y="1905120"/>
            <a:ext cx="7898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990099"/>
                </a:solidFill>
                <a:latin typeface="黑体"/>
                <a:ea typeface="黑体"/>
              </a:rPr>
              <a:t>机 警 镇 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ccecff"/>
            </a:gs>
            <a:gs pos="100000">
              <a:srgbClr val="66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371600" y="91440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行动描写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（二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2819520"/>
            <a:ext cx="6629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她感激地谢了我，回头就走…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说着就噔噔噔地下楼去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28800" y="50292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99"/>
                </a:solidFill>
                <a:latin typeface="Times New Roman"/>
                <a:ea typeface="楷体_GB2312"/>
              </a:rPr>
              <a:t>（走上一段阴暗的仄仄的楼梯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514600" y="533520"/>
            <a:ext cx="54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外貌描写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（二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95280" y="259092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愣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9880" y="35812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微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838080" y="3108240"/>
            <a:ext cx="769644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600" spc="-1" strike="noStrike" u="sng">
                <a:solidFill>
                  <a:srgbClr val="990099"/>
                </a:solidFill>
                <a:uFillTx/>
                <a:latin typeface="Times New Roman"/>
                <a:ea typeface="黑体"/>
              </a:rPr>
              <a:t>替 换 练 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cc3399"/>
                </a:solidFill>
                <a:latin typeface="隶书"/>
                <a:ea typeface="隶书"/>
              </a:rPr>
              <a:t>她（                ） 说：“红薯稀饭，我们的年夜饭。”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90920" y="39924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笑   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914400" y="304920"/>
            <a:ext cx="1523880" cy="3276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38080" y="1066680"/>
            <a:ext cx="769644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600" spc="-1" strike="noStrike" u="sng">
                <a:solidFill>
                  <a:srgbClr val="990099"/>
                </a:solidFill>
                <a:uFillTx/>
                <a:latin typeface="Times New Roman"/>
                <a:ea typeface="黑体"/>
              </a:rPr>
              <a:t>替 换 练 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cc3399"/>
                </a:solidFill>
                <a:latin typeface="隶书"/>
                <a:ea typeface="隶书"/>
              </a:rPr>
              <a:t>她（                ） 说：“红薯稀饭，我们的年夜饭。”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205740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无  奈  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371600" y="3505320"/>
            <a:ext cx="129528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38080" y="1066680"/>
            <a:ext cx="769644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600" spc="-1" strike="noStrike" u="sng">
                <a:solidFill>
                  <a:srgbClr val="990099"/>
                </a:solidFill>
                <a:uFillTx/>
                <a:latin typeface="Times New Roman"/>
                <a:ea typeface="黑体"/>
              </a:rPr>
              <a:t>替 换 练 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cc3399"/>
                </a:solidFill>
                <a:latin typeface="隶书"/>
                <a:ea typeface="隶书"/>
              </a:rPr>
              <a:t>她（                ） 说：“红薯稀饭，我们的年夜饭。”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20574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豪 迈 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905120" y="3581280"/>
            <a:ext cx="1917720" cy="27925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4343400" y="4191120"/>
            <a:ext cx="137160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会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06:22:53Z</dcterms:created>
  <dc:creator>教师</dc:creator>
  <dc:description/>
  <dc:language>en-US</dc:language>
  <cp:lastModifiedBy>Admin</cp:lastModifiedBy>
  <dcterms:modified xsi:type="dcterms:W3CDTF">2004-03-07T08:49:06Z</dcterms:modified>
  <cp:revision>32</cp:revision>
  <dc:subject/>
  <dc:title>没有幻灯片标题</dc:title>
</cp:coreProperties>
</file>