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explode.wav" ContentType="audio/x-wav"/>
  <Override PartName="/ppt/media/type.wav" ContentType="audio/x-wav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13.gif" ContentType="image/gif"/>
  <Override PartName="/ppt/media/chimes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7DF-D6D7-4622-9D2E-FCED9423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2CF-E319-4B49-A711-98063428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D93-68AD-4E97-8054-561B80E9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721-281D-40FA-841F-5CF294F6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9A4-9939-4A57-95AA-98BB9906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C5F-94F9-469E-A24A-2F897E56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591-29BA-4262-ABF5-5CEE2A9B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A5A-3BD5-4341-A1AB-4CBAF038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798-AACA-49F8-B867-C0E4E6B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436-43F7-4E30-BCD7-75D3530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DAD-525E-4D6A-A131-0A7334E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468-2110-44D3-B9C1-61F34CC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7E00-C562-444F-B10F-8BD624B61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5u5.name/temp/opus/temp/oly/stage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0" y="-1752480"/>
            <a:ext cx="9753120" cy="8839080"/>
            <a:chOff x="0" y="-1752480"/>
            <a:chExt cx="9753120" cy="8839080"/>
          </a:xfrm>
        </p:grpSpPr>
        <p:pic>
          <p:nvPicPr>
            <p:cNvPr id="43" name="Picture 5" descr="xl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-211320"/>
              <a:ext cx="9753120" cy="72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/>
            <p:cNvSpPr/>
            <p:nvPr/>
          </p:nvSpPr>
          <p:spPr>
            <a:xfrm>
              <a:off x="907560" y="-1752480"/>
              <a:ext cx="6786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9"/>
          <p:cNvSpPr/>
          <p:nvPr/>
        </p:nvSpPr>
        <p:spPr>
          <a:xfrm>
            <a:off x="1143000" y="762120"/>
            <a:ext cx="2057400" cy="2209680"/>
          </a:xfrm>
          <a:prstGeom prst="ellipse">
            <a:avLst/>
          </a:prstGeom>
          <a:solidFill>
            <a:srgbClr val="fa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Arial"/>
                <a:ea typeface="华文彩云"/>
              </a:rPr>
              <a:t>项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990720" y="472428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锁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5400000">
            <a:off x="1638000" y="3390840"/>
            <a:ext cx="1219320" cy="8380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faf8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2666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请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39280" y="175248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舞会</a:t>
            </a: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（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3657600" y="2590920"/>
            <a:ext cx="1447920" cy="2031840"/>
          </a:xfrm>
          <a:custGeom>
            <a:avLst/>
            <a:gdLst/>
            <a:ahLst/>
            <a:rect l="l" t="t" r="r" b="b"/>
            <a:pathLst>
              <a:path w="912" h="1280">
                <a:moveTo>
                  <a:pt x="0" y="32"/>
                </a:moveTo>
                <a:cubicBezTo>
                  <a:pt x="16" y="28"/>
                  <a:pt x="32" y="24"/>
                  <a:pt x="48" y="32"/>
                </a:cubicBezTo>
                <a:cubicBezTo>
                  <a:pt x="64" y="40"/>
                  <a:pt x="56" y="0"/>
                  <a:pt x="96" y="80"/>
                </a:cubicBezTo>
                <a:cubicBezTo>
                  <a:pt x="136" y="160"/>
                  <a:pt x="192" y="336"/>
                  <a:pt x="288" y="512"/>
                </a:cubicBezTo>
                <a:cubicBezTo>
                  <a:pt x="384" y="688"/>
                  <a:pt x="568" y="1008"/>
                  <a:pt x="672" y="1136"/>
                </a:cubicBezTo>
                <a:cubicBezTo>
                  <a:pt x="776" y="1264"/>
                  <a:pt x="872" y="1256"/>
                  <a:pt x="912" y="128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889520" y="4619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2209680"/>
            <a:ext cx="14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偿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1600200" y="3429000"/>
            <a:ext cx="363600" cy="457200"/>
          </a:xfrm>
          <a:custGeom>
            <a:avLst/>
            <a:gdLst/>
            <a:ahLst/>
            <a:rect l="l" t="t" r="r" b="b"/>
            <a:pathLst>
              <a:path w="229" h="288">
                <a:moveTo>
                  <a:pt x="0" y="288"/>
                </a:moveTo>
                <a:cubicBezTo>
                  <a:pt x="30" y="160"/>
                  <a:pt x="68" y="0"/>
                  <a:pt x="229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828800" y="609480"/>
            <a:ext cx="548640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玛蒂尔德的命运曲线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6172200" y="3048120"/>
            <a:ext cx="2666880" cy="3936240"/>
            <a:chOff x="6172200" y="3048120"/>
            <a:chExt cx="2666880" cy="3936240"/>
          </a:xfrm>
        </p:grpSpPr>
        <p:sp>
          <p:nvSpPr>
            <p:cNvPr id="110" name="未知"/>
            <p:cNvSpPr/>
            <p:nvPr/>
          </p:nvSpPr>
          <p:spPr>
            <a:xfrm>
              <a:off x="6256440" y="3048120"/>
              <a:ext cx="753840" cy="2514600"/>
            </a:xfrm>
            <a:custGeom>
              <a:avLst/>
              <a:gdLst/>
              <a:ahLst/>
              <a:rect l="l" t="t" r="r" b="b"/>
              <a:pathLst>
                <a:path w="475" h="1584">
                  <a:moveTo>
                    <a:pt x="0" y="0"/>
                  </a:moveTo>
                  <a:cubicBezTo>
                    <a:pt x="65" y="6"/>
                    <a:pt x="110" y="10"/>
                    <a:pt x="170" y="26"/>
                  </a:cubicBezTo>
                  <a:cubicBezTo>
                    <a:pt x="200" y="46"/>
                    <a:pt x="200" y="64"/>
                    <a:pt x="220" y="93"/>
                  </a:cubicBezTo>
                  <a:cubicBezTo>
                    <a:pt x="249" y="202"/>
                    <a:pt x="290" y="302"/>
                    <a:pt x="305" y="415"/>
                  </a:cubicBezTo>
                  <a:cubicBezTo>
                    <a:pt x="312" y="539"/>
                    <a:pt x="321" y="587"/>
                    <a:pt x="339" y="703"/>
                  </a:cubicBezTo>
                  <a:cubicBezTo>
                    <a:pt x="349" y="768"/>
                    <a:pt x="351" y="836"/>
                    <a:pt x="373" y="898"/>
                  </a:cubicBezTo>
                  <a:cubicBezTo>
                    <a:pt x="391" y="1153"/>
                    <a:pt x="365" y="1066"/>
                    <a:pt x="398" y="1169"/>
                  </a:cubicBezTo>
                  <a:cubicBezTo>
                    <a:pt x="408" y="1237"/>
                    <a:pt x="437" y="1298"/>
                    <a:pt x="449" y="1364"/>
                  </a:cubicBezTo>
                  <a:cubicBezTo>
                    <a:pt x="460" y="1424"/>
                    <a:pt x="453" y="1399"/>
                    <a:pt x="466" y="1440"/>
                  </a:cubicBezTo>
                  <a:cubicBezTo>
                    <a:pt x="475" y="1573"/>
                    <a:pt x="475" y="1525"/>
                    <a:pt x="475" y="1584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6172200" y="3843360"/>
              <a:ext cx="53352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真相大白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400800" y="5214960"/>
              <a:ext cx="24382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4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识</a:t>
              </a:r>
              <a:r>
                <a:rPr b="1" lang="zh-CN" sz="4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3"/>
          <p:cNvGrpSpPr/>
          <p:nvPr/>
        </p:nvGrpSpPr>
        <p:grpSpPr>
          <a:xfrm>
            <a:off x="1981080" y="2590920"/>
            <a:ext cx="1676520" cy="1574640"/>
            <a:chOff x="1981080" y="2590920"/>
            <a:chExt cx="1676520" cy="1574640"/>
          </a:xfrm>
        </p:grpSpPr>
        <p:sp>
          <p:nvSpPr>
            <p:cNvPr id="114" name="未知"/>
            <p:cNvSpPr/>
            <p:nvPr/>
          </p:nvSpPr>
          <p:spPr>
            <a:xfrm>
              <a:off x="1981080" y="2590920"/>
              <a:ext cx="1676520" cy="1574640"/>
            </a:xfrm>
            <a:custGeom>
              <a:avLst/>
              <a:gdLst/>
              <a:ahLst/>
              <a:rect l="l" t="t" r="r" b="b"/>
              <a:pathLst>
                <a:path w="1056" h="992">
                  <a:moveTo>
                    <a:pt x="0" y="544"/>
                  </a:moveTo>
                  <a:cubicBezTo>
                    <a:pt x="64" y="580"/>
                    <a:pt x="128" y="616"/>
                    <a:pt x="192" y="688"/>
                  </a:cubicBezTo>
                  <a:cubicBezTo>
                    <a:pt x="256" y="760"/>
                    <a:pt x="320" y="960"/>
                    <a:pt x="384" y="976"/>
                  </a:cubicBezTo>
                  <a:cubicBezTo>
                    <a:pt x="448" y="992"/>
                    <a:pt x="512" y="880"/>
                    <a:pt x="576" y="784"/>
                  </a:cubicBezTo>
                  <a:cubicBezTo>
                    <a:pt x="640" y="688"/>
                    <a:pt x="712" y="520"/>
                    <a:pt x="768" y="400"/>
                  </a:cubicBezTo>
                  <a:cubicBezTo>
                    <a:pt x="824" y="280"/>
                    <a:pt x="864" y="128"/>
                    <a:pt x="912" y="64"/>
                  </a:cubicBezTo>
                  <a:cubicBezTo>
                    <a:pt x="960" y="0"/>
                    <a:pt x="1032" y="24"/>
                    <a:pt x="1056" y="16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859120" y="2971800"/>
              <a:ext cx="5158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9966"/>
                  </a:solidFill>
                  <a:latin typeface="隶书"/>
                  <a:ea typeface="隶书"/>
                </a:rPr>
                <a:t>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6"/>
          <p:cNvGrpSpPr/>
          <p:nvPr/>
        </p:nvGrpSpPr>
        <p:grpSpPr>
          <a:xfrm>
            <a:off x="5111280" y="3048120"/>
            <a:ext cx="1136880" cy="1571400"/>
            <a:chOff x="5111280" y="3048120"/>
            <a:chExt cx="1136880" cy="1571400"/>
          </a:xfrm>
        </p:grpSpPr>
        <p:sp>
          <p:nvSpPr>
            <p:cNvPr id="117" name="未知"/>
            <p:cNvSpPr/>
            <p:nvPr/>
          </p:nvSpPr>
          <p:spPr>
            <a:xfrm>
              <a:off x="5111280" y="3048120"/>
              <a:ext cx="1136880" cy="1571400"/>
            </a:xfrm>
            <a:custGeom>
              <a:avLst/>
              <a:gdLst/>
              <a:ahLst/>
              <a:rect l="l" t="t" r="r" b="b"/>
              <a:pathLst>
                <a:path w="729" h="1004">
                  <a:moveTo>
                    <a:pt x="0" y="991"/>
                  </a:moveTo>
                  <a:cubicBezTo>
                    <a:pt x="48" y="987"/>
                    <a:pt x="106" y="1004"/>
                    <a:pt x="144" y="974"/>
                  </a:cubicBezTo>
                  <a:cubicBezTo>
                    <a:pt x="151" y="969"/>
                    <a:pt x="147" y="956"/>
                    <a:pt x="153" y="949"/>
                  </a:cubicBezTo>
                  <a:cubicBezTo>
                    <a:pt x="167" y="932"/>
                    <a:pt x="188" y="922"/>
                    <a:pt x="203" y="907"/>
                  </a:cubicBezTo>
                  <a:cubicBezTo>
                    <a:pt x="216" y="867"/>
                    <a:pt x="223" y="838"/>
                    <a:pt x="246" y="805"/>
                  </a:cubicBezTo>
                  <a:cubicBezTo>
                    <a:pt x="256" y="772"/>
                    <a:pt x="265" y="743"/>
                    <a:pt x="280" y="712"/>
                  </a:cubicBezTo>
                  <a:cubicBezTo>
                    <a:pt x="289" y="654"/>
                    <a:pt x="298" y="592"/>
                    <a:pt x="331" y="542"/>
                  </a:cubicBezTo>
                  <a:cubicBezTo>
                    <a:pt x="358" y="457"/>
                    <a:pt x="396" y="386"/>
                    <a:pt x="432" y="305"/>
                  </a:cubicBezTo>
                  <a:cubicBezTo>
                    <a:pt x="439" y="289"/>
                    <a:pt x="440" y="270"/>
                    <a:pt x="449" y="254"/>
                  </a:cubicBezTo>
                  <a:cubicBezTo>
                    <a:pt x="459" y="236"/>
                    <a:pt x="483" y="203"/>
                    <a:pt x="483" y="203"/>
                  </a:cubicBezTo>
                  <a:cubicBezTo>
                    <a:pt x="495" y="164"/>
                    <a:pt x="525" y="108"/>
                    <a:pt x="559" y="85"/>
                  </a:cubicBezTo>
                  <a:cubicBezTo>
                    <a:pt x="585" y="10"/>
                    <a:pt x="660" y="0"/>
                    <a:pt x="729" y="0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5139000" y="3220200"/>
              <a:ext cx="5158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9"/>
          <p:cNvSpPr/>
          <p:nvPr/>
        </p:nvSpPr>
        <p:spPr>
          <a:xfrm>
            <a:off x="4764240" y="441972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7924680" y="304920"/>
            <a:ext cx="914400" cy="503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隶书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457200" y="457200"/>
            <a:ext cx="2666880" cy="9907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华文彩云"/>
              </a:rPr>
              <a:t>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600200" y="20574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343400" y="990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幼圆"/>
              </a:rPr>
              <a:t>玛蒂尔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666880" y="2971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高尔基说：</a:t>
            </a:r>
            <a:r>
              <a:rPr b="1" lang="zh-CN" sz="2800" spc="-1" strike="noStrike">
                <a:solidFill>
                  <a:srgbClr val="ff6699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情节是性格发展的历史。</a:t>
            </a:r>
            <a:r>
              <a:rPr b="1" lang="zh-CN" sz="2800" spc="-1" strike="noStrike">
                <a:solidFill>
                  <a:srgbClr val="ff6699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111920" y="396216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情节是展示性格的生活基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性格是情节发展的内在因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情节的发展，其内在根据是人物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3b7d0a20cf431ad42a791214936acaf2edd98b5"/>
          <p:cNvPicPr/>
          <p:nvPr/>
        </p:nvPicPr>
        <p:blipFill>
          <a:blip r:embed="rId1"/>
          <a:stretch/>
        </p:blipFill>
        <p:spPr>
          <a:xfrm>
            <a:off x="228600" y="2362320"/>
            <a:ext cx="2343240" cy="4362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952880" y="2057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黑体"/>
                <a:ea typeface="黑体"/>
              </a:rPr>
              <a:t>----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路瓦栽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400800" y="380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幼圆"/>
              </a:rPr>
              <a:t>玛蒂尔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2362320" y="2209680"/>
            <a:ext cx="1447560" cy="0"/>
          </a:xfrm>
          <a:prstGeom prst="line">
            <a:avLst/>
          </a:prstGeom>
          <a:ln w="38160">
            <a:solidFill>
              <a:srgbClr val="0c02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5562360" y="2133720"/>
            <a:ext cx="1143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4419720" y="1066680"/>
            <a:ext cx="380880" cy="577800"/>
          </a:xfrm>
          <a:prstGeom prst="upArrow">
            <a:avLst>
              <a:gd name="adj1" fmla="val 50000"/>
              <a:gd name="adj2" fmla="val 37925"/>
            </a:avLst>
          </a:prstGeom>
          <a:solidFill>
            <a:srgbClr val="fa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28600" y="27432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楷体_GB2312"/>
              </a:rPr>
              <a:t>美丽、动人，出身低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楷体_GB2312"/>
              </a:rPr>
              <a:t>没有陪嫁的资产，没有一个有钱的体面人爱她、娶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2860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楷体_GB2312"/>
              </a:rPr>
              <a:t>住宅寒伧，墙壁黯淡，家具破旧，衣料粗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2ce"/>
                </a:solidFill>
                <a:latin typeface="Arial"/>
                <a:ea typeface="黑体"/>
              </a:rPr>
              <a:t>桌布三天没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049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楷体_GB2312"/>
              </a:rPr>
              <a:t>没有漂亮服装、没有珠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191120" y="4876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得人欢心，被人艳羡，具有诱惑力而被人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191120" y="2666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幽静的厅堂，宽敞的客厅，华美的小客室</a:t>
            </a:r>
            <a:r>
              <a:rPr b="1" lang="zh-CN" sz="14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267080" y="3581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精美的晚餐，墙上的壁衣，盛在名贵盘碟里的佳肴，边吃边带着迷人的微笑听客人密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"/>
          <p:cNvSpPr/>
          <p:nvPr/>
        </p:nvSpPr>
        <p:spPr>
          <a:xfrm>
            <a:off x="457200" y="457200"/>
            <a:ext cx="1828800" cy="7621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华文彩云"/>
              </a:rPr>
              <a:t>序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3657600" y="380880"/>
            <a:ext cx="2133720" cy="60984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爱慕虚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6858000" y="1371600"/>
            <a:ext cx="1447920" cy="914400"/>
          </a:xfrm>
          <a:prstGeom prst="cloudCallout">
            <a:avLst>
              <a:gd name="adj1" fmla="val -72699"/>
              <a:gd name="adj2" fmla="val 56597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3520" y="1295280"/>
            <a:ext cx="1904760" cy="1447920"/>
          </a:xfrm>
          <a:prstGeom prst="irregularSeal2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3962520" y="1752480"/>
            <a:ext cx="1371600" cy="7621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105520" y="6172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偏偏   一向   常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228600" y="6172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痛苦  伤心  悔恨  失望  困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7745760" y="2057400"/>
            <a:ext cx="1155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心理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5720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说起自己的烦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04920" y="4800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高兴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得心都快跳出来了，双手拿着那项链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发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0492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迟疑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而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焦急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地问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8600" y="5791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跳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起来，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搂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住朋友的脖子，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狂热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地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亲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她，接着带着这件宝物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跑</a:t>
            </a:r>
            <a:r>
              <a:rPr b="1" lang="zh-CN" sz="2400" spc="-1" strike="noStrike">
                <a:solidFill>
                  <a:srgbClr val="0c02ce"/>
                </a:solidFill>
                <a:latin typeface="Times New Roman"/>
                <a:ea typeface="黑体"/>
              </a:rPr>
              <a:t>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553080" y="1371600"/>
            <a:ext cx="381240" cy="1066680"/>
          </a:xfrm>
          <a:prstGeom prst="upArrow">
            <a:avLst>
              <a:gd name="adj1" fmla="val 50000"/>
              <a:gd name="adj2" fmla="val 69948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438280" y="1143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玛蒂尔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5181480" y="350532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语言  神态  动作   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304920" y="380880"/>
            <a:ext cx="2361960" cy="9144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华文彩云"/>
              </a:rPr>
              <a:t>借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2860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懊恼   恼怒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   没有像样的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没有一粒珍珠，一块宝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处处带着穷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在阔太太中间露穷酸相，再难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4191120" y="2590920"/>
            <a:ext cx="4952880" cy="76176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4191120" y="2666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烦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5181480" y="2895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594360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6934320" y="2895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769608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激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5715000" y="53352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爱慕虚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4"/>
          <p:cNvSpPr/>
          <p:nvPr/>
        </p:nvSpPr>
        <p:spPr>
          <a:xfrm>
            <a:off x="685800" y="457200"/>
            <a:ext cx="2133720" cy="83808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丢项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47920" y="13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马蒂尔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57200" y="213372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狂热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地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兴奋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地跳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沉迷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在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欢乐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80880" y="3352680"/>
            <a:ext cx="4648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陶醉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于自己的美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陶醉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于成功的光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陶醉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在</a:t>
            </a:r>
            <a:r>
              <a:rPr b="0" lang="en-US" sz="2400" spc="-1" strike="noStrike">
                <a:solidFill>
                  <a:srgbClr val="ff6699"/>
                </a:solidFill>
                <a:latin typeface="黑体"/>
                <a:ea typeface="黑体"/>
              </a:rPr>
              <a:t>……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幸福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陶醉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在</a:t>
            </a:r>
            <a:r>
              <a:rPr b="0" lang="en-US" sz="2400" spc="-1" strike="noStrike">
                <a:solidFill>
                  <a:srgbClr val="ff6699"/>
                </a:solidFill>
                <a:latin typeface="黑体"/>
                <a:ea typeface="黑体"/>
              </a:rPr>
              <a:t>……</a:t>
            </a:r>
            <a:r>
              <a:rPr b="0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胜利里   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（排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99"/>
                </a:solidFill>
                <a:latin typeface="Arial"/>
                <a:ea typeface="黑体"/>
              </a:rPr>
              <a:t>舞得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快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486400" y="3048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6324480" y="1905120"/>
            <a:ext cx="304920" cy="1066680"/>
          </a:xfrm>
          <a:prstGeom prst="upArrow">
            <a:avLst>
              <a:gd name="adj1" fmla="val 50000"/>
              <a:gd name="adj2" fmla="val 87456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562720" y="838080"/>
            <a:ext cx="2286000" cy="91440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爱慕虚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a"/>
          <p:cNvPicPr/>
          <p:nvPr/>
        </p:nvPicPr>
        <p:blipFill>
          <a:blip r:embed="rId1"/>
          <a:stretch/>
        </p:blipFill>
        <p:spPr>
          <a:xfrm>
            <a:off x="4952880" y="4038480"/>
            <a:ext cx="4191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38088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辞退了女仆  迁移住所，租赁小阁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28600" y="3962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一个铜子一个铜子地节省她那艰难的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04920" y="3124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刷洗杯盘碗碟        用肥皂洗衬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04920" y="3581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把垃圾从楼上提到街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276720" y="91440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幼圆"/>
              </a:rPr>
              <a:t>——</a:t>
            </a:r>
            <a:r>
              <a:rPr b="1" lang="zh-CN" sz="4000" spc="-1" strike="noStrike">
                <a:solidFill>
                  <a:srgbClr val="800000"/>
                </a:solidFill>
                <a:latin typeface="幼圆"/>
                <a:ea typeface="幼圆"/>
              </a:rPr>
              <a:t>玛蒂尔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533520" y="304920"/>
            <a:ext cx="2514600" cy="9144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偿巨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04920" y="441972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成了穷苦人家的粗壮耐劳的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胡乱地挽着头发  歪斜地系着裙子</a:t>
            </a: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6095880" y="2743200"/>
            <a:ext cx="2743200" cy="160020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勇敢坚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吃苦耐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5715000" y="1905120"/>
            <a:ext cx="304920" cy="3429000"/>
          </a:xfrm>
          <a:custGeom>
            <a:avLst/>
            <a:gdLst>
              <a:gd name="textAreaLeft" fmla="*/ 0 w 304920"/>
              <a:gd name="textAreaRight" fmla="*/ 11016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57200" y="1676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一下子显示了英雄气概，毅然决然要偿还可怕的债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304920" y="5562720"/>
            <a:ext cx="6095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时候，就回想起当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么美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么使人倾倒啊！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6699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>
            <a:off x="6553080" y="57913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7238880" y="5410080"/>
            <a:ext cx="1905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虚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317240" y="3276720"/>
            <a:ext cx="19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玛蒂尔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8320" y="25909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幼圆"/>
              </a:rPr>
              <a:t>爱慕虚荣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648320" y="3581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幼圆"/>
              </a:rPr>
              <a:t>诚实善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124080" y="272880"/>
            <a:ext cx="26672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9900"/>
                </a:solidFill>
                <a:latin typeface="Times New Roman"/>
                <a:ea typeface="黑体"/>
              </a:rPr>
              <a:t>项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124080" y="1278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泊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724280" y="4572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吃苦耐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987640" y="299736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玛蒂尔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60720" y="148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爱慕虚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763640" y="41497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实守信            坚强勤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781440" y="2060640"/>
            <a:ext cx="287280" cy="976320"/>
          </a:xfrm>
          <a:prstGeom prst="upArrow">
            <a:avLst>
              <a:gd name="adj1" fmla="val 100000"/>
              <a:gd name="adj2" fmla="val 1038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692080" y="3284640"/>
            <a:ext cx="8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141520" y="3357720"/>
            <a:ext cx="8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66560" y="692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归 结人物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409840" cy="1809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5076720" y="46530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"/>
          <p:cNvPicPr/>
          <p:nvPr/>
        </p:nvPicPr>
        <p:blipFill>
          <a:blip r:embed="rId3"/>
          <a:stretch/>
        </p:blipFill>
        <p:spPr>
          <a:xfrm>
            <a:off x="1476360" y="4653000"/>
            <a:ext cx="2314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黑体"/>
              </a:rPr>
              <a:t>       “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梦想”本身有两层含义：一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妄想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，二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渴望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。马蒂尔德渴望这些物质享受。但她的社会地位似乎暗示了这一切是难以实现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38088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▲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探究：应如何看待马蒂尔德的梦想和虚荣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861160" y="2514240"/>
            <a:ext cx="267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虚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dashi15"/>
          <p:cNvPicPr/>
          <p:nvPr/>
        </p:nvPicPr>
        <p:blipFill>
          <a:blip r:embed="rId1"/>
          <a:stretch/>
        </p:blipFill>
        <p:spPr>
          <a:xfrm>
            <a:off x="533520" y="1523880"/>
            <a:ext cx="2633400" cy="336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3657600" y="289548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657600" y="3276720"/>
            <a:ext cx="2286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343400" y="1371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838080" y="3808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梦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781680" y="50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法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Oval 4"/>
          <p:cNvSpPr/>
          <p:nvPr/>
        </p:nvSpPr>
        <p:spPr>
          <a:xfrm>
            <a:off x="685800" y="609480"/>
            <a:ext cx="2057400" cy="83844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彩云"/>
              </a:rPr>
              <a:t>思考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28600" y="17524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你如何评价马蒂尔德这个人物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何评价塑造马蒂尔德这个人物的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04920" y="3352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的结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人认为是悲剧，有人认为是喜剧，你认为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838080" y="5791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讽刺（主要是讽刺）       同情        赞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228600" y="4724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造成马蒂尔德命运悲剧的原因是社么？根源是社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914400" y="380880"/>
            <a:ext cx="754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人说：对现状不满，渴求改变是一种可贵的精神，正是这种精神才使人类不断前进。因此，玛蒂尔德对梦想的追求无可厚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人说：爱慕虚荣是套在玛蒂尔德脖子上的一挂项链，其实，它又何尝不是拴在我们人类精神上的一根锁链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55YI5MCA5DIO26CACZQOTKCA9V6MWKCAQUAZWMCA1X8DGXCAN7YN04CAMGOL6ZCAP38WBLCARFBJBSCATIP6QTCAGAOP8HCATTBCVECAIJJUE2CAY900UXCAI3VUGBCAEY37K7CA2XH19SCASOKR4ZCA27BZ35"/>
          <p:cNvPicPr/>
          <p:nvPr/>
        </p:nvPicPr>
        <p:blipFill>
          <a:blip r:embed="rId1"/>
          <a:stretch/>
        </p:blipFill>
        <p:spPr>
          <a:xfrm>
            <a:off x="0" y="5486400"/>
            <a:ext cx="1219320" cy="1185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990720" y="3276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十年还债，她用坚韧的性格，谱写了一曲令人赞叹的英雄之歌；十年艰辛换来自己灵魂的升华，十年悲苦让玛蒂尔德走出了虚幻的迷雾，回到了实实在在的生活，她生活得平静坦然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这何尝不是一出喜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80880" y="660240"/>
            <a:ext cx="857412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38080" y="4287960"/>
            <a:ext cx="876312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98516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GIF-494"/>
          <p:cNvPicPr/>
          <p:nvPr/>
        </p:nvPicPr>
        <p:blipFill>
          <a:blip r:embed="rId1"/>
          <a:stretch/>
        </p:blipFill>
        <p:spPr>
          <a:xfrm>
            <a:off x="7907400" y="5562720"/>
            <a:ext cx="123660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6"/>
          <p:cNvSpPr txBox="1"/>
          <p:nvPr/>
        </p:nvSpPr>
        <p:spPr>
          <a:xfrm>
            <a:off x="324000" y="260280"/>
            <a:ext cx="1371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：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AutoShape 8">
            <a:hlinkClick r:id="rId2" action="ppaction://hlinksldjump"/>
          </p:cNvPr>
          <p:cNvSpPr/>
          <p:nvPr/>
        </p:nvSpPr>
        <p:spPr>
          <a:xfrm>
            <a:off x="2556000" y="5589720"/>
            <a:ext cx="215640" cy="315720"/>
          </a:xfrm>
          <a:custGeom>
            <a:avLst/>
            <a:gdLst>
              <a:gd name="textAreaLeft" fmla="*/ 50040 w 215640"/>
              <a:gd name="textAreaRight" fmla="*/ 165240 w 215640"/>
              <a:gd name="textAreaTop" fmla="*/ 33120 h 315720"/>
              <a:gd name="textAreaBottom" fmla="*/ 199800 h 315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497480" y="4572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57200" y="152280"/>
            <a:ext cx="2590920" cy="7621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彩云"/>
              </a:rPr>
              <a:t>主题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152280" y="2971800"/>
            <a:ext cx="8610840" cy="121932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小说反映了当时法国社会中小人物的梦想和痛苦，追求和遭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感慨社会的不公和人性的弱点，感慨命运对小人物的残酷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304920" y="990720"/>
            <a:ext cx="8229600" cy="175248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小说叙述了玛蒂尔德为了虚荣的生活而付出十年青春代价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故事，尖锐地讽刺了虚荣心和追求享乐的思想，深刻揭露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资产阶级对人们灵魂的腐蚀和毒害，有力地抨击了资本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社会的腐朽本质。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79520" y="517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152280" y="4419720"/>
            <a:ext cx="8534520" cy="213336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说对女主人公的追求奢华生活而遭到失败的不幸表示同情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其以诚实劳动偿还债务的行为予以肯定，对主人公的虚荣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了批评。                     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1447920" y="457200"/>
            <a:ext cx="5638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玛蒂尔德的命运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95280" y="1828800"/>
            <a:ext cx="6705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康简标题宋"/>
                <a:ea typeface="华康简标题宋"/>
              </a:rPr>
              <a:t>上联：</a:t>
            </a:r>
            <a:r>
              <a:rPr b="1" lang="zh-CN" sz="3600" spc="-1" strike="noStrike">
                <a:solidFill>
                  <a:srgbClr val="ff3300"/>
                </a:solidFill>
                <a:latin typeface="华康简标题宋"/>
                <a:ea typeface="华康简标题宋"/>
              </a:rPr>
              <a:t>一夜虚荣，项链即锁链；</a:t>
            </a:r>
            <a:r>
              <a:rPr b="1" lang="zh-CN" sz="3700" spc="-1" strike="noStrike">
                <a:solidFill>
                  <a:srgbClr val="000000"/>
                </a:solidFill>
                <a:latin typeface="华康简标题宋"/>
                <a:ea typeface="华康简标题宋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295280" y="2666880"/>
            <a:ext cx="69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康简标题宋"/>
                <a:ea typeface="华康简标题宋"/>
              </a:rPr>
              <a:t>下联：十年辛苦，悲剧实闹剧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66880" y="3505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康简标题宋"/>
                <a:ea typeface="华康简标题宋"/>
              </a:rPr>
              <a:t>十年清贫，美梦化恶梦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666880" y="4343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康简标题宋"/>
                <a:ea typeface="华康简标题宋"/>
              </a:rPr>
              <a:t>十年劳顿，梦碎变心碎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2743200" y="5105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康简标题宋"/>
                <a:ea typeface="华康简标题宋"/>
              </a:rPr>
              <a:t>十载含悲，辛苦成痛苦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4"/>
          <p:cNvSpPr/>
          <p:nvPr/>
        </p:nvSpPr>
        <p:spPr>
          <a:xfrm>
            <a:off x="533520" y="533520"/>
            <a:ext cx="1981080" cy="6858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彩云"/>
              </a:rPr>
              <a:t>艺术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57200" y="1828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细腻的心理描写，刻画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 rot="6290400">
            <a:off x="-76320" y="4876560"/>
            <a:ext cx="2819520" cy="1143000"/>
          </a:xfrm>
          <a:prstGeom prst="wedgeEllipseCallout">
            <a:avLst>
              <a:gd name="adj1" fmla="val -61171"/>
              <a:gd name="adj2" fmla="val 33902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 rot="606600">
            <a:off x="1065960" y="4210200"/>
            <a:ext cx="53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黑体"/>
              </a:rPr>
              <a:t>精彩的伏笔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2133720" y="510552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3429000" y="4800600"/>
            <a:ext cx="3276720" cy="9144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精巧的铺垫和暗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733920" y="30481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情节跌宕起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80880" y="3048120"/>
            <a:ext cx="2438640" cy="609480"/>
          </a:xfrm>
          <a:prstGeom prst="rect">
            <a:avLst/>
          </a:prstGeom>
          <a:solidFill>
            <a:srgbClr val="faf8a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精巧的构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val 4"/>
          <p:cNvSpPr/>
          <p:nvPr/>
        </p:nvSpPr>
        <p:spPr>
          <a:xfrm>
            <a:off x="609480" y="533520"/>
            <a:ext cx="1828800" cy="99036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假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04920" y="1828800"/>
            <a:ext cx="8610480" cy="914400"/>
          </a:xfrm>
          <a:prstGeom prst="rect">
            <a:avLst/>
          </a:prstGeom>
          <a:solidFill>
            <a:srgbClr val="faf8a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小说的结尾，点明真相。既出乎意料，又合乎情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629400" y="2971800"/>
            <a:ext cx="1219320" cy="37339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521400" y="3429000"/>
            <a:ext cx="1033560" cy="2971800"/>
          </a:xfrm>
          <a:prstGeom prst="rect">
            <a:avLst/>
          </a:prstGeom>
          <a:solidFill>
            <a:srgbClr val="faf8a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精巧的铺垫和暗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762120" y="3429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借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762120" y="4267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找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838080" y="51814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还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6858000" y="26668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99"/>
          </a:solidFill>
          <a:ln w="9360">
            <a:solidFill>
              <a:srgbClr val="faf8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343400" y="2412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发现项链是假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2895480" y="4675320"/>
            <a:ext cx="533520" cy="620640"/>
          </a:xfrm>
          <a:prstGeom prst="downArrow">
            <a:avLst>
              <a:gd name="adj1" fmla="val 25000"/>
              <a:gd name="adj2" fmla="val 51115"/>
            </a:avLst>
          </a:prstGeom>
          <a:solidFill>
            <a:srgbClr val="0080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85800" y="1936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项链时，朋友很爽快地答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可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相当随便，毫无顾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85800" y="2895480"/>
            <a:ext cx="7620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买项链时，老板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只卖出去这个盒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项链与盒子不是原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8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85800" y="38448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还项链时，朋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竟没有打开盒子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并不是什么贵重的首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57200" y="53341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原来项链是假的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构思巧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127160" y="1295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巧妙的铺垫（伏笔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0"/>
          <p:cNvSpPr txBox="1"/>
          <p:nvPr/>
        </p:nvSpPr>
        <p:spPr>
          <a:xfrm>
            <a:off x="685800" y="212760"/>
            <a:ext cx="31813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精妙的构思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4"/>
          <p:cNvSpPr/>
          <p:nvPr/>
        </p:nvSpPr>
        <p:spPr>
          <a:xfrm>
            <a:off x="609480" y="380880"/>
            <a:ext cx="1981440" cy="7621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彩云"/>
              </a:rPr>
              <a:t>题目品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04920" y="1295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小说为什么以“项链”为题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28600" y="2743200"/>
            <a:ext cx="8458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小说情节结构的线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爱慕虚荣、追求享乐是套在马蒂尔德脖子上的一串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项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拴在人类精神上的一根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项链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4"/>
          <p:cNvSpPr/>
          <p:nvPr/>
        </p:nvSpPr>
        <p:spPr>
          <a:xfrm>
            <a:off x="304920" y="304920"/>
            <a:ext cx="2666880" cy="6858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彩云"/>
              </a:rPr>
              <a:t>语言品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80880" y="1066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要是那时候没有丢掉那挂项链，她现在是怎样一个境况呢？谁知道呢？谁知道呢！人生是多么奇怪，多么变幻无常啊，极细小的一件事可以败坏你，也可以成全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04920" y="2362320"/>
            <a:ext cx="8839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这是作者的议论，这段话触及了主人公马蒂尔德悲剧命运酿成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人物的命运悲剧总是有其社会原因和主观原因的，这是内在的必然，而这种必然又常常通过某种偶然的形式表现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马蒂尔德丢失项链是一件偶发事件，但在它的背后隐藏着必然性。一方面马蒂尔德的境遇和性格特点。马蒂尔德出生低微，但她强烈的虚荣心与现实生活无法取得平衡，这是她为其强烈的虚荣心付出的代价。另一方面她所处的社会环境是造成人物命运悲剧的社会原因与根源。当时法国社会崇尚浮华势利的风气充斥一切，上层社会生活奢靡，人与人之间的财富差异巨大，这也促进了马蒂尔德追求虚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黑体"/>
              </a:rPr>
              <a:t>马蒂尔德特别强烈的虚荣心、上层社会奢华生活对她的诱惑和心理压力，使她最终深陷不幸而不能自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4"/>
          <p:cNvSpPr/>
          <p:nvPr/>
        </p:nvSpPr>
        <p:spPr>
          <a:xfrm>
            <a:off x="533520" y="304920"/>
            <a:ext cx="2438280" cy="53316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彩云"/>
              </a:rPr>
              <a:t>练习与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80880" y="91440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莫泊桑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羊脂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的叔叔于勒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欧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亨利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后一片常春藤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麦琪的礼物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契诃夫    俄国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色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套中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28600" y="2514600"/>
            <a:ext cx="8915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“宽大”侧重形容体积等；“宽敞”侧重形容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“精巧”重在事物的结构与工艺；“精美”则强调整体效果。由“精巧”到“精美”写出了马蒂尔德的选择过程，突出她的虚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“恼怒”比“懊恼”多了怒的成分，生动写出了人物的不满在升级；人物的内心世界与外部表情、姿态非常契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“注视”写出男宾的仰慕，“注意”符合部长的身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“苦恼”主要是指精神上的不愉快，而“苦楚”则是肉体上的、现实生活上的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0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教学目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知识与能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解细腻、深刻的心理描写对刻画人物的作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小说精心的构思和巧妙的布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培养学生的推断、想象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过程与方法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通过阅读全文，整体理解，合作探讨来把握小说的情节、人物和主题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情感态度与价值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分析玛蒂尔德悲剧产生的原因（个人、社会），正确理解虚荣心，树立正确的价值观和人生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152280" y="1066680"/>
            <a:ext cx="8686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、短语排列，运用排比的手法从四个角度写出马蒂尔德对于简朴生活的不满，增强了语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运用排比的修辞手法，从多个角度描写马蒂尔德当时极大的满足，强调了马蒂尔德虚荣心满足后的得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运用承接关系，写出马蒂尔德一连串的行为，突出她面对灾难时坚定的决心与果断的行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描写了马蒂尔德的心理，运用疑问、感叹句，反复的修辞手法，突出马蒂尔德回忆当年丢项链经历时的感慨。间接写出作者对偶然与命运的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28600" y="32767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五、转折点   丢项链    明真相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假项链。这是作者的艺术构思，也符合生活逻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“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丢项链”这个情节，既推动了情节的发展，又推进了人物性格的揭示，揭示出主人公诚实守信、坚强勤劳的性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28600" y="30492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四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直接写出马蒂尔德对于物质生活的向往，这也是故事发生、发展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“英雄气概”、“毅然”间接写出了马蒂尔德的内心活动，突出她面对自己的失误、面对灾难时的勇气与坚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写出马蒂尔德回忆当年风光刹那的感受，写出她对那一时刻美好的回忆。突出成熟的马蒂尔德对年轻幼稚的当年的留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04920" y="160020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玛蒂尔德悔恨不已，从此她抛开追求享乐的思想和虚荣心，开始脚踏实地地生活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玛蒂尔德百感交集，从此喜怒无常，精神崩溃，最后郁郁而终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玛蒂尔德喜出望外，讨回了三万五千五百法郎，又出入于上流社会，重新追求她梦寐以求的生活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玛蒂尔德为夺回那挂钻石项链，与佛来思节夫人争吵不休，不得不对簿公堂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最后玛蒂尔德和佛来思节夫人都惊讶地发现，原来赔偿的那挂项链也是假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228600" y="457200"/>
            <a:ext cx="4419720" cy="9144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几种结尾设计之争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111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6019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2050920" y="1628640"/>
            <a:ext cx="50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谢谢大家的指导，再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556000" y="237960"/>
            <a:ext cx="6588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居伊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德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莫泊桑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850—1893) 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半期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法国优秀的批判现实主义作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一生创作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长篇小说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中短篇小说，他的文学成就以短篇小说最为突出，被誉为“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短篇小说之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对后世产生极大影响。 莫泊桑出身于一个没落贵族之家，母亲醉心文艺。他受老师、诗人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路易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布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响，开始多种体裁的文学习作，后在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福楼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自指导下练习写作，参加了以左拉为首的自然主义作家集团的活动。他勤奋地创作了一生，由于过度劳累得了精神错乱病，后来被送进巴黎的一家疯人院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莫泊桑逝世，年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20-4_17"/>
          <p:cNvPicPr/>
          <p:nvPr/>
        </p:nvPicPr>
        <p:blipFill>
          <a:blip r:embed="rId2"/>
          <a:stretch/>
        </p:blipFill>
        <p:spPr>
          <a:xfrm>
            <a:off x="228600" y="1828800"/>
            <a:ext cx="210672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Oval 6"/>
          <p:cNvSpPr/>
          <p:nvPr/>
        </p:nvSpPr>
        <p:spPr>
          <a:xfrm>
            <a:off x="0" y="304920"/>
            <a:ext cx="2286000" cy="6858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af8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99"/>
                </a:solidFill>
                <a:latin typeface="Arial"/>
                <a:ea typeface="华文彩云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304920" y="5029200"/>
            <a:ext cx="1981080" cy="106668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莫泊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308400" y="1635120"/>
            <a:ext cx="777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5056200"/>
            <a:ext cx="2971800" cy="1818000"/>
          </a:xfrm>
          <a:prstGeom prst="rect">
            <a:avLst/>
          </a:prstGeom>
          <a:solidFill>
            <a:srgbClr val="faf8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莫泊桑 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契诃夫  （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欧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亨利 （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1219320"/>
            <a:ext cx="8686800" cy="2295360"/>
          </a:xfrm>
          <a:prstGeom prst="rect">
            <a:avLst/>
          </a:prstGeom>
          <a:solidFill>
            <a:srgbClr val="faf8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短篇小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羊脂球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朋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米隆老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项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叔叔于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长篇小说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》    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漂亮朋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0" y="3886200"/>
            <a:ext cx="4038480" cy="91440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af8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三大短篇小说巨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380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代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01"/>
          <p:cNvPicPr/>
          <p:nvPr/>
        </p:nvPicPr>
        <p:blipFill>
          <a:blip r:embed="rId2"/>
          <a:stretch/>
        </p:blipFill>
        <p:spPr>
          <a:xfrm>
            <a:off x="5486400" y="3886200"/>
            <a:ext cx="2895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28600" y="1143000"/>
            <a:ext cx="8686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篇小说写于１８８４年，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当时正是法国由资本主义向帝国主义阶段过渡的时代，大资产阶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依靠疯狂的掠夺和残酷的剥削走向垄断并当权，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他们过着奢侈的生活，追求享乐，贪慕虚荣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成为一种恶劣的社会风气。上流社会糜烂生活和唯利是图的道德观念影响到社会的各个阶层。同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资产阶级的经济地位极不稳固，他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升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为大资产阶级者寥寥无几，而破产沦为平民阶层的越来越多，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小资产阶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社会地位和经济地位非常脆弱，所以他们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羡慕上流社会，想极力跻身于大资产阶级</a:t>
            </a: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的行列，为此做出各种各样的努力。羡慕上流社会，追求虚荣已经成为他们的普遍心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作者曾做过海军部，公共教育部的下级官吏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小资产阶级的尴尬处境感受很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１８７８年，他调到会计部门工作以后，科长明确禁止他做公务以外的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无法忍受，只得放弃海军部较好的经济待遇，由福楼拜介绍到公共教育部做一名随员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的作品中对小资产阶级的生活的不稳定与处境寄托了深切的同情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04920" y="228600"/>
            <a:ext cx="2666880" cy="7621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6477120" y="228600"/>
            <a:ext cx="2133360" cy="76212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5"/>
          <p:cNvSpPr/>
          <p:nvPr/>
        </p:nvSpPr>
        <p:spPr>
          <a:xfrm>
            <a:off x="533520" y="304920"/>
            <a:ext cx="2209680" cy="76176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华文彩云"/>
              </a:rPr>
              <a:t>找一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480" y="1219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找出文中交代故事发生的</a:t>
            </a: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社会环境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的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 rot="10800000">
            <a:off x="-360" y="2743200"/>
            <a:ext cx="2128680" cy="1674720"/>
          </a:xfrm>
          <a:prstGeom prst="cloudCallout">
            <a:avLst>
              <a:gd name="adj1" fmla="val -69240"/>
              <a:gd name="adj2" fmla="val 44120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Arial"/>
                <a:ea typeface="华文彩云"/>
              </a:rPr>
              <a:t>梦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5638680" y="228600"/>
            <a:ext cx="1676520" cy="914400"/>
          </a:xfrm>
          <a:prstGeom prst="wedgeEllipseCallout">
            <a:avLst>
              <a:gd name="adj1" fmla="val -48009"/>
              <a:gd name="adj2" fmla="val 69967"/>
            </a:avLst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序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 rot="10300200">
            <a:off x="-360" y="5257440"/>
            <a:ext cx="2514600" cy="1600200"/>
          </a:xfrm>
          <a:prstGeom prst="irregularSeal1">
            <a:avLst/>
          </a:prstGeom>
          <a:solidFill>
            <a:srgbClr val="fa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彩云"/>
              </a:rPr>
              <a:t>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2895480" y="1905120"/>
            <a:ext cx="6248520" cy="228600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高雅和奢华的生活</a:t>
            </a:r>
            <a:r>
              <a:rPr b="1" lang="en-US" sz="2400" spc="-1" strike="noStrike">
                <a:solidFill>
                  <a:srgbClr val="ff6699"/>
                </a:solidFill>
                <a:latin typeface="黑体"/>
                <a:ea typeface="黑体"/>
              </a:rPr>
              <a:t>----</a:t>
            </a: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幽静的厅堂，宽敞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客厅，华美的小客室，精美的晚餐，亮晶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的银器，墙上的壁衣，盛在名贵盘碟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佳肴，边吃边带着迷人的微笑听客人密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七个梦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黑体"/>
              </a:rPr>
              <a:t>得人欢心，被人艳羡，具有诱惑力而被人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2819520" y="4724280"/>
            <a:ext cx="5638680" cy="1905120"/>
          </a:xfrm>
          <a:prstGeom prst="rect">
            <a:avLst/>
          </a:prstGeom>
          <a:solidFill>
            <a:srgbClr val="fa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没有陪嫁的资产，没有一个有钱的体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爱她娶她，没有漂亮服装和珠宝，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什么也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住宅的寒碜、墙壁的黯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家具的破旧、衣料的粗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 rot="5121600">
            <a:off x="800280" y="4076640"/>
            <a:ext cx="761760" cy="1447920"/>
          </a:xfrm>
          <a:custGeom>
            <a:avLst/>
            <a:gdLst>
              <a:gd name="textAreaLeft" fmla="*/ 0 w 761760"/>
              <a:gd name="textAreaRight" fmla="*/ 762120 w 76176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苦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1" presetSubtype="4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4"/>
          <p:cNvSpPr/>
          <p:nvPr/>
        </p:nvSpPr>
        <p:spPr>
          <a:xfrm>
            <a:off x="685800" y="609480"/>
            <a:ext cx="2514600" cy="838440"/>
          </a:xfrm>
          <a:prstGeom prst="ellipse">
            <a:avLst/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99"/>
                </a:solidFill>
                <a:latin typeface="Arial"/>
                <a:ea typeface="华文彩云"/>
              </a:rPr>
              <a:t>序幕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352680" y="1905120"/>
            <a:ext cx="2286000" cy="609480"/>
          </a:xfrm>
          <a:prstGeom prst="rect">
            <a:avLst/>
          </a:prstGeom>
          <a:solidFill>
            <a:srgbClr val="fa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华文彩云"/>
              </a:rPr>
              <a:t>梦想与苦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2895480"/>
            <a:ext cx="7238880" cy="2514600"/>
          </a:xfrm>
          <a:prstGeom prst="rect">
            <a:avLst/>
          </a:prstGeom>
          <a:solidFill>
            <a:srgbClr val="fa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交代故事情节发生的社会环境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揭示主人公悲剧命运的根源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全文故事情节发展和人物命运展示作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28600" y="12945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说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故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情节围绕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项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展开，可分为四大部分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457200" y="304920"/>
            <a:ext cx="2514600" cy="838080"/>
          </a:xfrm>
          <a:prstGeom prst="ellipse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华文彩云"/>
              </a:rPr>
              <a:t>小说情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2209680" y="3505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304920" y="3124080"/>
            <a:ext cx="1752480" cy="68580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0492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3276720" y="3048120"/>
            <a:ext cx="18288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276720" y="312408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81480" y="342900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6248520" y="3124080"/>
            <a:ext cx="1904760" cy="685800"/>
          </a:xfrm>
          <a:prstGeom prst="rect">
            <a:avLst/>
          </a:prstGeom>
          <a:solidFill>
            <a:srgbClr val="faf8a6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6324480" y="3200400"/>
            <a:ext cx="60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赔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6095880" y="4495680"/>
            <a:ext cx="2057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617220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6858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（开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373392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发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9"/>
          <p:cNvSpPr/>
          <p:nvPr/>
        </p:nvSpPr>
        <p:spPr>
          <a:xfrm>
            <a:off x="723888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发展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5638680" y="5486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（高潮、结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3"/>
          <p:cNvSpPr/>
          <p:nvPr/>
        </p:nvSpPr>
        <p:spPr>
          <a:xfrm rot="4691400">
            <a:off x="3161880" y="4685760"/>
            <a:ext cx="1600200" cy="762120"/>
          </a:xfrm>
          <a:prstGeom prst="wedgeEllipseCallout">
            <a:avLst>
              <a:gd name="adj1" fmla="val -80222"/>
              <a:gd name="adj2" fmla="val 254"/>
            </a:avLst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黑体"/>
              </a:rPr>
              <a:t>转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4"/>
          <p:cNvSpPr/>
          <p:nvPr/>
        </p:nvSpPr>
        <p:spPr>
          <a:xfrm rot="11746200">
            <a:off x="532800" y="5028840"/>
            <a:ext cx="1447560" cy="990720"/>
          </a:xfrm>
          <a:prstGeom prst="cloudCallout">
            <a:avLst>
              <a:gd name="adj1" fmla="val -61972"/>
              <a:gd name="adj2" fmla="val 65375"/>
            </a:avLst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5"/>
          <p:cNvSpPr/>
          <p:nvPr/>
        </p:nvSpPr>
        <p:spPr>
          <a:xfrm>
            <a:off x="609480" y="3962520"/>
            <a:ext cx="304920" cy="1066680"/>
          </a:xfrm>
          <a:prstGeom prst="upArrow">
            <a:avLst>
              <a:gd name="adj1" fmla="val 50000"/>
              <a:gd name="adj2" fmla="val 87456"/>
            </a:avLst>
          </a:prstGeom>
          <a:solidFill>
            <a:srgbClr val="ff66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30492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（序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609480" y="1905120"/>
            <a:ext cx="1219320" cy="990360"/>
          </a:xfrm>
          <a:prstGeom prst="wedgeRoundRectCallout">
            <a:avLst>
              <a:gd name="adj1" fmla="val -61981"/>
              <a:gd name="adj2" fmla="val 68587"/>
              <a:gd name="adj3" fmla="val 16667"/>
            </a:avLst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获请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添新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9"/>
          <p:cNvSpPr/>
          <p:nvPr/>
        </p:nvSpPr>
        <p:spPr>
          <a:xfrm>
            <a:off x="3276720" y="2209680"/>
            <a:ext cx="1600200" cy="609840"/>
          </a:xfrm>
          <a:prstGeom prst="wedgeEllipseCallout">
            <a:avLst>
              <a:gd name="adj1" fmla="val -43750"/>
              <a:gd name="adj2" fmla="val 92449"/>
            </a:avLst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赴夜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0"/>
          <p:cNvSpPr/>
          <p:nvPr/>
        </p:nvSpPr>
        <p:spPr>
          <a:xfrm>
            <a:off x="7238880" y="2209680"/>
            <a:ext cx="1371600" cy="533520"/>
          </a:xfrm>
          <a:prstGeom prst="wedgeRectCallout">
            <a:avLst>
              <a:gd name="adj1" fmla="val 5208"/>
              <a:gd name="adj2" fmla="val 112796"/>
            </a:avLst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偿巨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3"/>
          <p:cNvSpPr/>
          <p:nvPr/>
        </p:nvSpPr>
        <p:spPr>
          <a:xfrm>
            <a:off x="2514600" y="5867280"/>
            <a:ext cx="3200400" cy="838440"/>
          </a:xfrm>
          <a:prstGeom prst="ellipse">
            <a:avLst/>
          </a:prstGeom>
          <a:solidFill>
            <a:srgbClr val="faf8a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黑体"/>
              </a:rPr>
              <a:t>主人公命运和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1:54:18Z</dcterms:created>
  <dc:creator/>
  <dc:description/>
  <cp:keywords/>
  <dc:language>en-US</dc:language>
  <cp:lastModifiedBy>ABC</cp:lastModifiedBy>
  <dcterms:modified xsi:type="dcterms:W3CDTF">2015-12-23T05:10:4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