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9B6-4758-46D9-B64C-FCECDCC8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4F8-1DE1-468F-B9AA-7A9B13FC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D34-83E7-4951-B50A-079273D5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AB8-72C5-4C34-841A-EBCE6699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74B-2C77-4C7D-96AF-FF5C9658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02E-343B-4DB4-ADF1-78EDBF26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6A6-F36A-43CC-ACFA-76CDF94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4BF-9E89-4DC8-8083-76ABEA55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0DA-6683-4683-9692-620B1146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C55-7D92-4EA2-B898-D3E73A98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E84-28F9-49A0-991F-D66E3F4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643-3E9B-4ED1-8402-60CDF3BB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78D-56DA-4CB7-AA6C-4E26017E3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1337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Arial"/>
              </a:rPr>
              <a:t>西湖的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45720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2872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港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01120" y="2085840"/>
            <a:ext cx="1186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香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港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港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45720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2872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蜿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37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39280" y="12952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蜿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45720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2872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蜒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37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39280" y="1295280"/>
            <a:ext cx="1186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蜿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淙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80880" y="3124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溪水淙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澄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64680" y="2895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碧澄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溅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05680" y="2666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飞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轼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24800" y="342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苏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浚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05680" y="26668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浚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蹬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64680" y="3200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蹬着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袂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04560" y="33526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裙袂飞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380880" y="1219320"/>
            <a:ext cx="5105520" cy="464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52760" y="7621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隐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43000"/>
            <a:ext cx="4381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隐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隐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难言之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00120" y="60948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翩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04560" y="33526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翩然起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700360" y="37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13680" y="727200"/>
            <a:ext cx="5813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古木参天     苍翠欲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蜿蜒            心旷神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溪水淙淙     碧澄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飞溅            裙袂飞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翩然起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83808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0996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参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7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600200"/>
            <a:ext cx="48229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参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参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古木参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3809880" y="990720"/>
            <a:ext cx="5105520" cy="464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5772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径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1219320"/>
            <a:ext cx="5333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曲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小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捷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380880" y="1219320"/>
            <a:ext cx="5105520" cy="4647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52760" y="7621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缝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1212840"/>
            <a:ext cx="4038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缝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裂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天衣无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83808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73240" y="54936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旷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685800"/>
            <a:ext cx="4724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空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旷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旷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心旷神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3809880" y="990720"/>
            <a:ext cx="5105520" cy="4647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5772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幽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219320"/>
            <a:ext cx="3692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幽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幽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幽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83808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73240" y="54936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宛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1447920"/>
            <a:ext cx="3581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宛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宛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>
            <a:lum contrast="6000"/>
          </a:blip>
          <a:srcRect l="16310" t="20935" r="10863" b="8146"/>
          <a:stretch/>
        </p:blipFill>
        <p:spPr>
          <a:xfrm>
            <a:off x="457200" y="838080"/>
            <a:ext cx="5105520" cy="4648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28720" y="53352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职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39280" y="1295280"/>
            <a:ext cx="1186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职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职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职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职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1kejian.com</dc:creator>
  <dc:description>www.1kejian.com</dc:description>
  <dc:language>en-US</dc:language>
  <cp:lastModifiedBy>530La</cp:lastModifiedBy>
  <dcterms:modified xsi:type="dcterms:W3CDTF">2012-03-09T00:16:45Z</dcterms:modified>
  <cp:revision>9</cp:revision>
  <dc:subject/>
  <dc:title>第一课件网www.1kej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2000000000001024120</vt:lpwstr>
  </property>
  <property fmtid="{D5CDD505-2E9C-101B-9397-08002B2CF9AE}" pid="3" name="Version">
    <vt:r8>1</vt:r8>
  </property>
</Properties>
</file>