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9B6-33FE-43AA-B443-E05124D6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36A-7D34-49AD-84ED-B81BA580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192-100E-4B65-9B01-A7641412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889-7866-404C-940C-F1E5E9F6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577-163B-4776-8483-C044D9E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AC0-0155-4812-9270-6AC670DD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46E-EB19-46AB-8433-6A0F604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62F-6A4F-41B9-9130-FF7FFAA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F70-737E-4BD0-A74C-DB726211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0C0-8863-4CE3-8EC7-202C4DA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DD7-9467-455A-8889-F372717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248-CBD1-47A8-9380-6C10EB6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5C6-9090-4852-BBB9-32C269A179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ky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219320"/>
            <a:ext cx="5791320" cy="29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写给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——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白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533520"/>
            <a:ext cx="3886200" cy="53974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变窄就变窄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变宽就变宽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窄，窄得像粉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透明的珠帘凌空而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宽，宽得像天河决口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雨神倾盆将甘霖泼洒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人能到天上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起一道高高的堤坝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52280"/>
            <a:ext cx="4267080" cy="59583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乐意当什么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去当什么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成为甘霖就成为甘霖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爱抚蓓蕾嫩芽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变成云就变成云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追随月亮到海角天涯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后，成为晶莹的白雪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飞呀，飞向人间盛开朵朵六角鲜花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人用无数“谋略”“策划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排你的降落和挥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《写给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066680"/>
            <a:ext cx="76197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你想对云（大树、山泉、小溪、瀑布、落叶……）说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　　展开丰富的想象，仿照诗歌写一小段（几句）诗歌诉说你的心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1600200"/>
            <a:ext cx="80773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熟读诗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修改、补充课堂上仿写的诗句，使之成为一首题为《写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》的完整的小诗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一比，谁的诗写得最好，吟诵得最有感情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本名白玉琢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95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年出生。中国作家协会会员、儿童文学委员会委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现任接力出版社总编辑。主要作品：儿童诗集《飞翔的童心》、作品集《绿太阳和红月亮》。作品曾获“冰心儿童图书奖”、“陈伯吹儿童文学奖”、“海峡两岸童话小说征文奖”等多种奖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3124080" cy="3994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91320" y="380880"/>
            <a:ext cx="28191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白冰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62120" y="264960"/>
            <a:ext cx="5626080" cy="31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679320"/>
            <a:ext cx="6769440" cy="260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8862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　　自由朗读诗歌并体会：你觉得诗人像是以什么人的口吻向白云诉说心声？诗人最想对白云说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62120" y="264960"/>
            <a:ext cx="5626080" cy="31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679320"/>
            <a:ext cx="6769440" cy="2605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657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003300"/>
                </a:solidFill>
                <a:latin typeface="Times New Roman"/>
              </a:rPr>
              <a:t>有感情地朗读诗歌，充分感受白云的自由幸福和诗人的情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1532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628640"/>
            <a:ext cx="373536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想变小你就变小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想变大你就变大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小，小得像块手帕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像朵洁白的小花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大，大得无边无际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能盖住整个天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没有人在蓝天上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为你把框框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想变什么就变什么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小鹿、大象、小鸟、青蛙…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即使变成猪八戒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也没人笑话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即使变成小狗熊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也不担心挨骂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67280" y="1523880"/>
            <a:ext cx="417672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没有人要你老老实实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成“聪明”的傻瓜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愿意做什么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就去做什么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想成为雨就成为雨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去亲吻小草小花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想成为雪就成为雪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像白蝴蝶飞落千家万家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然后，成为透明的水汽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飞呀，飞回天上老家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没有人用好多“安排”、“计划”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把你变成机器娃娃…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啊，让我也变成一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自由幸福的云吧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333360"/>
            <a:ext cx="40388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写给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628640"/>
            <a:ext cx="360828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小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就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小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大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就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大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小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，小得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像块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手帕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像朵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洁白的小花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，大得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无边无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能盖住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整个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天下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没有人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在蓝天上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为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框框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什么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就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什么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小鹿、大象、小鸟、青蛙…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即使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成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猪八戒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也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没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笑话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即使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成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小狗熊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也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不担心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挨骂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1484280"/>
            <a:ext cx="417672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没有人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要你老老实实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变成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聪明”的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傻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愿意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做什么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就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去做什么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成为雨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就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成为雨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去亲吻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小草小花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成为雪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就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成为雪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像白蝴蝶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飞落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千家万家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然后，成为透明的水汽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飞呀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，飞回天上老家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没有人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用好多“安排”、“计划”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把你变成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机器娃娃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啊，让我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也变成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一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楷体_GB2312"/>
              </a:rPr>
              <a:t>自由幸福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云吧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333360"/>
            <a:ext cx="30956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写给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白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24382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云：随心所欲的变幻。</a:t>
            </a:r>
            <a:br>
              <a:rPr sz="3200"/>
            </a:b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人借少年的口吻向白云诉说心声，表达了少年人希望摆脱来自家庭、学校等方面的束缚与压力，渴望得到心灵的自由与快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写作特点：借用生动形象的比喻，展开想象和联想，赋予云儿情感和思想，童趣盎然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为什么诗人想变成一朵自由幸福的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533520"/>
            <a:ext cx="3886200" cy="60217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飞到草原就飞到草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领略那一望无际的绿色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飞到高山就飞到高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感受那顶天立地的气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用强而有力的翅膀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蔚蓝的天空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一道道优美的弧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有你那雄浑的声音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歌唱出一曲自由之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《写给雄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52280"/>
            <a:ext cx="4267080" cy="6577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像一个充满想像力的艺术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单调的天空变得有趣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把白云捏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象、老虎、兔子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瞧，天边还有一个福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京奥运会捷报频传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当一次广播员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奥运健儿骄人的佳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到千家万家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《写给风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533520"/>
            <a:ext cx="3886200" cy="43531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变白你就变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变黑你就变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得像张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片无瑕的花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黑得昏天黑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触动所有伤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人在蓝天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你掩藏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52280"/>
            <a:ext cx="4267080" cy="54655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想变什么就变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使变成黑黢黢的乌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没人阻拦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使变成水滴落下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不担心责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人要你不哭不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成听话的皮大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《写给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4:42:25Z</dcterms:created>
  <dc:creator/>
  <dc:description/>
  <dc:language>en-US</dc:language>
  <cp:lastModifiedBy>教师</cp:lastModifiedBy>
  <dcterms:modified xsi:type="dcterms:W3CDTF">2009-04-08T00:58:18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2000000000001024120</vt:lpwstr>
  </property>
</Properties>
</file>