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13.gif" ContentType="image/gif"/>
  <Override PartName="/ppt/media/image16.jpeg" ContentType="image/jpeg"/>
  <Override PartName="/ppt/media/image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DB40-04FB-4D9E-94A3-F8CCF8C99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1E21-0AE4-4761-8FD3-41B08F2B7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EF50-791F-4D1B-BE3C-875860DD3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9465-D902-4CB6-AACB-2DEB6C4F0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492D-9082-41C4-805D-4E1FDA167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6726-B016-4AF7-B88B-62CFFE2E0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DCD9-018A-4E34-A062-2358EB0BE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922D-F1C6-48D7-8C15-28BD52FF2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74AB-954D-426F-90E4-49D09D2C0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EDA2-946B-49C1-82A7-0488D7055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4781-A3E2-4FC8-87B9-9CD0DEC44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5A2D-4F47-4396-867E-B0BB5070F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4BA92-D1D6-47DE-AB3C-786F7C9D9FA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392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53040" y="264240"/>
            <a:ext cx="1642680" cy="336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湘夫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    </a:t>
            </a:r>
            <a:r>
              <a:rPr b="1" lang="zh-CN" sz="4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屈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46360" y="4508640"/>
            <a:ext cx="34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袅袅兮秋风，洞庭波兮木叶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029280" y="0"/>
            <a:ext cx="311472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170360" y="68400"/>
            <a:ext cx="2219760" cy="36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登白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薠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兮骋望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沅有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芷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兮澧有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荪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壁兮紫坛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罔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薜荔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兮为帷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擗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蕙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兮既张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050360" y="-96840"/>
            <a:ext cx="2236680" cy="37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Fá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Zh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Sū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Bì  l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Huì  miá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00440" y="422100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香草、香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94804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030920" y="103320"/>
            <a:ext cx="1945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桂</a:t>
            </a:r>
            <a:r>
              <a:rPr b="1" lang="zh-CN" sz="3600" spc="-1" strike="noStrike">
                <a:solidFill>
                  <a:srgbClr val="ff66ff"/>
                </a:solidFill>
                <a:latin typeface="Arial"/>
              </a:rPr>
              <a:t>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兮兰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辛夷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楣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兮药</a:t>
            </a:r>
            <a:r>
              <a:rPr b="1" lang="zh-CN" sz="3600" spc="-1" strike="noStrike">
                <a:solidFill>
                  <a:srgbClr val="ff66ff"/>
                </a:solidFill>
                <a:latin typeface="Arial"/>
              </a:rPr>
              <a:t>房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建芳馨兮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庑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门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134120" y="58680"/>
            <a:ext cx="992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Lǎ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Mé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w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070520" y="2060640"/>
            <a:ext cx="217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ff"/>
                </a:solidFill>
                <a:latin typeface="Arial"/>
              </a:rPr>
              <a:t>屋梁　屋椽　厢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728880" y="3284640"/>
            <a:ext cx="232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捐余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兮江中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遗余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兮澧浦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58000" y="3298680"/>
            <a:ext cx="94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Mè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di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66480" y="4653000"/>
            <a:ext cx="196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衣袖　　汗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284720" y="0"/>
            <a:ext cx="4716360" cy="3537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704040" y="3736800"/>
            <a:ext cx="462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帝子降兮北渚，目眇眇兮愁予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袅袅兮秋风，洞庭波兮木叶下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004040" y="33336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以意逆志，知人论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5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476280"/>
            <a:ext cx="914400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袅袅兮秋风，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洞庭波兮木叶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4920" y="2707920"/>
            <a:ext cx="837072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融情入景，以景染情</a:t>
            </a:r>
            <a:r>
              <a:rPr b="0" lang="zh-CN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秋水的</a:t>
            </a:r>
            <a:r>
              <a:rPr b="0" lang="zh-CN" sz="4800" spc="-1" strike="noStrike">
                <a:solidFill>
                  <a:srgbClr val="ff0000"/>
                </a:solidFill>
                <a:latin typeface="华文新魏"/>
                <a:ea typeface="华文新魏"/>
              </a:rPr>
              <a:t>绝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被誉为“</a:t>
            </a:r>
            <a:r>
              <a:rPr b="0" lang="zh-CN" sz="4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千古言秋之祖</a:t>
            </a:r>
            <a:r>
              <a:rPr b="0" lang="zh-CN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191511295160"/>
          <p:cNvPicPr/>
          <p:nvPr/>
        </p:nvPicPr>
        <p:blipFill>
          <a:blip r:embed="rId1"/>
          <a:stretch/>
        </p:blipFill>
        <p:spPr>
          <a:xfrm>
            <a:off x="7343640" y="0"/>
            <a:ext cx="180036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4716360" y="0"/>
            <a:ext cx="4427640" cy="3321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2045160" y="3260880"/>
            <a:ext cx="48135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秋风瑟瑟，似乎凉意渗透心间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落叶纷纷，犹如一颗沉重的心渐渐下沉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微波荡漾，犹若“心波”起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湘君面对这烟波浩渺的洞庭湖，心事茫然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愁绪四溢。情与景，水乳交融，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803240" y="2217600"/>
            <a:ext cx="206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白描  借景抒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6227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038040" y="824040"/>
            <a:ext cx="408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鸟何萃兮蘋中，罾何为兮木上？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106360" y="4672080"/>
            <a:ext cx="344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鸟儿聚集在水草中，鱼网张在树上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17120" y="52293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异常情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36720" y="5373720"/>
            <a:ext cx="359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难道说我们的约会也会出现异常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693080" y="60213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比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924360" y="0"/>
            <a:ext cx="5219640" cy="39146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315080" y="660240"/>
            <a:ext cx="1992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沅有芷兮澧有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思公子兮不敢言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71360" y="4724280"/>
            <a:ext cx="5118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沅江上澧水边那</a:t>
            </a: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美丽高洁的白芷与香兰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有着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芬芳的香气，而</a:t>
            </a: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爱慕着如香草般美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高洁的你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我，却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没有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向你表白的勇气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073960" y="17733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比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6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962360" y="611280"/>
            <a:ext cx="369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麋何食兮庭中，蛟何为兮水裔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619640" y="1484280"/>
            <a:ext cx="31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鸟何萃兮蘋中，罾何为兮木上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95560" y="2781360"/>
            <a:ext cx="5057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麋鹿为什么不在外面草地上吃草，跑到庭院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来吃东西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蛟龙为什么不深藏水底而跑到了岸边？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8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077200" y="260280"/>
            <a:ext cx="4021200" cy="60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筑</a:t>
            </a: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室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兮水中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葺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之兮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荷</a:t>
            </a: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盖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荪</a:t>
            </a: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兮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紫</a:t>
            </a: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坛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播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芳椒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兮成</a:t>
            </a: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桂</a:t>
            </a: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兮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兰</a:t>
            </a: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橑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辛夷</a:t>
            </a: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楣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兮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药</a:t>
            </a: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房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罔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薜荔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兮为</a:t>
            </a: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帷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擗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蕙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櫋兮既</a:t>
            </a: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张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白玉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兮为</a:t>
            </a: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镇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疏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石兰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兮为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芷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葺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兮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荷</a:t>
            </a: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缭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之兮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杜衡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合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百草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兮实</a:t>
            </a: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庭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建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芳馨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兮</a:t>
            </a: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庑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080160" y="228600"/>
            <a:ext cx="3807720" cy="615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筑</a:t>
            </a:r>
            <a:r>
              <a:rPr b="1" lang="zh-CN" sz="1800" spc="-1" strike="noStrike">
                <a:solidFill>
                  <a:srgbClr val="3333ff"/>
                </a:solidFill>
                <a:latin typeface="Arial"/>
              </a:rPr>
              <a:t>室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兮水中，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葺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之兮</a:t>
            </a:r>
            <a:r>
              <a:rPr b="1" lang="zh-CN" sz="1800" spc="-1" strike="noStrike">
                <a:solidFill>
                  <a:srgbClr val="66ff33"/>
                </a:solidFill>
                <a:latin typeface="Arial"/>
              </a:rPr>
              <a:t>荷</a:t>
            </a:r>
            <a:r>
              <a:rPr b="1" lang="zh-CN" sz="1800" spc="-1" strike="noStrike">
                <a:solidFill>
                  <a:srgbClr val="3333ff"/>
                </a:solidFill>
                <a:latin typeface="Arial"/>
              </a:rPr>
              <a:t>盖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建造房屋在水中央，覆盖屋顶用荷叶的芳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66ff33"/>
                </a:solidFill>
                <a:latin typeface="Arial"/>
              </a:rPr>
              <a:t>荪</a:t>
            </a:r>
            <a:r>
              <a:rPr b="1" lang="zh-CN" sz="1800" spc="-1" strike="noStrike">
                <a:solidFill>
                  <a:srgbClr val="3333ff"/>
                </a:solidFill>
                <a:latin typeface="Arial"/>
              </a:rPr>
              <a:t>壁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兮</a:t>
            </a:r>
            <a:r>
              <a:rPr b="1" lang="zh-CN" sz="1800" spc="-1" strike="noStrike">
                <a:solidFill>
                  <a:srgbClr val="66ff33"/>
                </a:solidFill>
                <a:latin typeface="Arial"/>
              </a:rPr>
              <a:t>紫</a:t>
            </a:r>
            <a:r>
              <a:rPr b="1" lang="zh-CN" sz="1800" spc="-1" strike="noStrike">
                <a:solidFill>
                  <a:srgbClr val="3333ff"/>
                </a:solidFill>
                <a:latin typeface="Arial"/>
              </a:rPr>
              <a:t>坛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播</a:t>
            </a:r>
            <a:r>
              <a:rPr b="1" lang="zh-CN" sz="1800" spc="-1" strike="noStrike">
                <a:solidFill>
                  <a:srgbClr val="66ff33"/>
                </a:solidFill>
                <a:latin typeface="Arial"/>
              </a:rPr>
              <a:t>芳椒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兮成</a:t>
            </a:r>
            <a:r>
              <a:rPr b="1" lang="zh-CN" sz="1800" spc="-1" strike="noStrike">
                <a:solidFill>
                  <a:srgbClr val="3333ff"/>
                </a:solidFill>
                <a:latin typeface="Arial"/>
              </a:rPr>
              <a:t>堂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用荪草装饰了墙啊，以紫贝砌成了庭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用散布芬香的花椒泥涂在壁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66ff33"/>
                </a:solidFill>
                <a:latin typeface="Arial"/>
              </a:rPr>
              <a:t>桂</a:t>
            </a:r>
            <a:r>
              <a:rPr b="1" lang="zh-CN" sz="1800" spc="-1" strike="noStrike">
                <a:solidFill>
                  <a:srgbClr val="3333ff"/>
                </a:solidFill>
                <a:latin typeface="Arial"/>
              </a:rPr>
              <a:t>栋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兮</a:t>
            </a:r>
            <a:r>
              <a:rPr b="1" lang="zh-CN" sz="1800" spc="-1" strike="noStrike">
                <a:solidFill>
                  <a:srgbClr val="66ff33"/>
                </a:solidFill>
                <a:latin typeface="Arial"/>
              </a:rPr>
              <a:t>兰</a:t>
            </a:r>
            <a:r>
              <a:rPr b="1" lang="zh-CN" sz="1800" spc="-1" strike="noStrike">
                <a:solidFill>
                  <a:srgbClr val="3333ff"/>
                </a:solidFill>
                <a:latin typeface="Arial"/>
              </a:rPr>
              <a:t>橑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1800" spc="-1" strike="noStrike">
                <a:solidFill>
                  <a:srgbClr val="66ff33"/>
                </a:solidFill>
                <a:latin typeface="Arial"/>
              </a:rPr>
              <a:t>辛夷</a:t>
            </a:r>
            <a:r>
              <a:rPr b="1" lang="zh-CN" sz="1800" spc="-1" strike="noStrike">
                <a:solidFill>
                  <a:srgbClr val="3333ff"/>
                </a:solidFill>
                <a:latin typeface="Arial"/>
              </a:rPr>
              <a:t>楣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兮</a:t>
            </a:r>
            <a:r>
              <a:rPr b="1" lang="zh-CN" sz="1800" spc="-1" strike="noStrike">
                <a:solidFill>
                  <a:srgbClr val="66ff33"/>
                </a:solidFill>
                <a:latin typeface="Arial"/>
              </a:rPr>
              <a:t>药</a:t>
            </a:r>
            <a:r>
              <a:rPr b="1" lang="zh-CN" sz="1800" spc="-1" strike="noStrike">
                <a:solidFill>
                  <a:srgbClr val="3333ff"/>
                </a:solidFill>
                <a:latin typeface="Arial"/>
              </a:rPr>
              <a:t>房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用桂木做屋梁啊木兰作椽子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用辛夷作门楣啊用白芷装饰了卧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罔</a:t>
            </a:r>
            <a:r>
              <a:rPr b="1" lang="zh-CN" sz="1800" spc="-1" strike="noStrike">
                <a:solidFill>
                  <a:srgbClr val="66ff33"/>
                </a:solidFill>
                <a:latin typeface="Arial"/>
              </a:rPr>
              <a:t>薜荔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兮为</a:t>
            </a:r>
            <a:r>
              <a:rPr b="1" lang="zh-CN" sz="1800" spc="-1" strike="noStrike">
                <a:solidFill>
                  <a:srgbClr val="3333ff"/>
                </a:solidFill>
                <a:latin typeface="Arial"/>
              </a:rPr>
              <a:t>帷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擗</a:t>
            </a:r>
            <a:r>
              <a:rPr b="1" lang="zh-CN" sz="1800" spc="-1" strike="noStrike">
                <a:solidFill>
                  <a:srgbClr val="66ff33"/>
                </a:solidFill>
                <a:latin typeface="Arial"/>
              </a:rPr>
              <a:t>蕙　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兮既</a:t>
            </a:r>
            <a:r>
              <a:rPr b="1" lang="zh-CN" sz="1800" spc="-1" strike="noStrike">
                <a:solidFill>
                  <a:srgbClr val="3333ff"/>
                </a:solidFill>
                <a:latin typeface="Arial"/>
              </a:rPr>
              <a:t>张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编结薜荔做成帷幔，分开蕙草啊做室内的隔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ffff"/>
                </a:solidFill>
                <a:latin typeface="Arial"/>
              </a:rPr>
              <a:t>白玉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兮为</a:t>
            </a:r>
            <a:r>
              <a:rPr b="1" lang="zh-CN" sz="1800" spc="-1" strike="noStrike">
                <a:solidFill>
                  <a:srgbClr val="3333ff"/>
                </a:solidFill>
                <a:latin typeface="Arial"/>
              </a:rPr>
              <a:t>镇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疏</a:t>
            </a:r>
            <a:r>
              <a:rPr b="1" lang="zh-CN" sz="1800" spc="-1" strike="noStrike">
                <a:solidFill>
                  <a:srgbClr val="66ff33"/>
                </a:solidFill>
                <a:latin typeface="Arial"/>
              </a:rPr>
              <a:t>石兰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兮为芳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用白玉压住坐席，用石兰在室内散布芬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66ff33"/>
                </a:solidFill>
                <a:latin typeface="Arial"/>
              </a:rPr>
              <a:t>芷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葺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兮</a:t>
            </a:r>
            <a:r>
              <a:rPr b="1" lang="zh-CN" sz="1800" spc="-1" strike="noStrike">
                <a:solidFill>
                  <a:srgbClr val="66ff33"/>
                </a:solidFill>
                <a:latin typeface="Arial"/>
              </a:rPr>
              <a:t>荷</a:t>
            </a:r>
            <a:r>
              <a:rPr b="1" lang="zh-CN" sz="1800" spc="-1" strike="noStrike">
                <a:solidFill>
                  <a:srgbClr val="3333ff"/>
                </a:solidFill>
                <a:latin typeface="Arial"/>
              </a:rPr>
              <a:t>屋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缭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之兮</a:t>
            </a:r>
            <a:r>
              <a:rPr b="1" lang="zh-CN" sz="1800" spc="-1" strike="noStrike">
                <a:solidFill>
                  <a:srgbClr val="66ff33"/>
                </a:solidFill>
                <a:latin typeface="Arial"/>
              </a:rPr>
              <a:t>杜衡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用白芷修葺啊用荷叶作帷幄，在用杜衡啊缠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合</a:t>
            </a:r>
            <a:r>
              <a:rPr b="1" lang="zh-CN" sz="1800" spc="-1" strike="noStrike">
                <a:solidFill>
                  <a:srgbClr val="66ff33"/>
                </a:solidFill>
                <a:latin typeface="Arial"/>
              </a:rPr>
              <a:t>百草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兮实</a:t>
            </a:r>
            <a:r>
              <a:rPr b="1" lang="zh-CN" sz="1800" spc="-1" strike="noStrike">
                <a:solidFill>
                  <a:srgbClr val="3333ff"/>
                </a:solidFill>
                <a:latin typeface="Arial"/>
              </a:rPr>
              <a:t>庭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建</a:t>
            </a:r>
            <a:r>
              <a:rPr b="1" lang="zh-CN" sz="1800" spc="-1" strike="noStrike">
                <a:solidFill>
                  <a:srgbClr val="66ff33"/>
                </a:solidFill>
                <a:latin typeface="Arial"/>
              </a:rPr>
              <a:t>芳馨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兮</a:t>
            </a:r>
            <a:r>
              <a:rPr b="1" lang="zh-CN" sz="1800" spc="-1" strike="noStrike">
                <a:solidFill>
                  <a:srgbClr val="3333ff"/>
                </a:solidFill>
                <a:latin typeface="Arial"/>
              </a:rPr>
              <a:t>庑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汇集各种花草啊使庭院充实，陈设芬芳馥郁啊回廊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577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700360" y="537372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湘   妃 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3873600" y="692280"/>
            <a:ext cx="1411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香草、香木是一种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比喻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比拟、比兴，明写美物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美事，暗写美的人、美的心；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564640" y="2224080"/>
            <a:ext cx="4447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香草、香木，一方面是美化环境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渲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气氛，活画出一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切都无限美好，处处喜气洋溢的结婚氛围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使整个画面呈现为人间看不到的绚丽多彩的幻奇境界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478880" y="4076640"/>
            <a:ext cx="4569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越铺张，越细致就越能表现湘君对湘夫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如海深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楚辞开启的创作母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360" y="1980720"/>
            <a:ext cx="83772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香草美人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——对《诗经》赋比兴手法的推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悲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士不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忠怨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——忠君爱国，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昏君形象的曲折表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" descr="F:\屈原19.files\21.jpg"/>
          <p:cNvPicPr/>
          <p:nvPr/>
        </p:nvPicPr>
        <p:blipFill>
          <a:blip r:embed="rId1"/>
          <a:stretch/>
        </p:blipFill>
        <p:spPr>
          <a:xfrm>
            <a:off x="6300720" y="2924280"/>
            <a:ext cx="2374920" cy="33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4230720" cy="61722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5292720" y="1268280"/>
            <a:ext cx="18874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九嶷缤兮并迎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灵之来兮如云。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012000" y="0"/>
            <a:ext cx="3132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029960" y="608040"/>
            <a:ext cx="2215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捐余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兮江中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遗余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兮澧浦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搴汀洲兮</a:t>
            </a:r>
            <a:r>
              <a:rPr b="1" lang="zh-CN" sz="3600" spc="-1" strike="noStrike">
                <a:solidFill>
                  <a:srgbClr val="66ff33"/>
                </a:solidFill>
                <a:latin typeface="Arial"/>
              </a:rPr>
              <a:t>杜若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将以遗兮远者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690640" y="3284640"/>
            <a:ext cx="517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我把自己的衣袖、单衣抛向你经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出没的沅江、澧水。希望你能看到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知道我曾经来过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259640" y="5589720"/>
            <a:ext cx="3381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我还要拔下这个地方的香草，做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纪念，以待将来送给你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50920" y="404640"/>
            <a:ext cx="3276360" cy="5715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4888440" y="3500280"/>
            <a:ext cx="34725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好机会、好时运是不能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下子得到的，好事多磨嘛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还是让自己放宽心胸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逍逍遥遥从容自在的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慢慢的等待着吧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93960" y="673200"/>
            <a:ext cx="378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时不可兮骤得，聊逍遥兮容与。</a:t>
            </a: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2628000" y="442800"/>
            <a:ext cx="41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刚到约会地点，不见湘夫人时的忧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792080" y="1268280"/>
            <a:ext cx="4326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盼等湘夫人到夜幕降临时，愁情加深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直发展到懊恼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031480" y="2584440"/>
            <a:ext cx="4874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过去与湘夫人多次见面未敢表明爱慕之心的追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中，心情更加痛苦，以至于神志恍惚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888200" y="3736800"/>
            <a:ext cx="466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恍惚中进入了对幸福生活的幻想，从而达到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全诗感情的高潮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006000" y="4932360"/>
            <a:ext cx="48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最后离开时无可奈何的宽解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5428440" y="393840"/>
            <a:ext cx="1552320" cy="43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艺术手法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１、白描、借景抒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比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渲染、烘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浪漫主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2124000" y="585720"/>
            <a:ext cx="4740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请结合“以意逆志”与“知人论世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谈谈你对《湘夫人》主旨的理解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539280" y="691920"/>
            <a:ext cx="820908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从湘君期约难遇、可望难即的悲剧情景，我们是否可以联想到</a:t>
            </a:r>
            <a:r>
              <a:rPr b="1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屈原一再被楚王疏远、流放的遭遇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相君在沅江、澧水两岸徘徊、追寻的身影，是否有时会叠印着</a:t>
            </a:r>
            <a:r>
              <a:rPr b="1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屈原“行吟江畔”的“上下求索”形象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24000" y="765000"/>
            <a:ext cx="816120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1001"/>
              </a:spcBef>
              <a:buClr>
                <a:srgbClr val="000000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相君对真挚爱情、美满生活的执著追求，是否寄托着</a:t>
            </a:r>
            <a:r>
              <a:rPr b="1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屈原对政治理想、复兴事业的至死不渝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1001"/>
              </a:spcBef>
              <a:buClr>
                <a:srgbClr val="000000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相君在无可奈何情况下的“逍遥容与”，是否融进了</a:t>
            </a:r>
            <a:r>
              <a:rPr b="1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屈原在人生偃蹇路途中的宽解自慰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？</a:t>
            </a: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211640" y="0"/>
            <a:ext cx="4932360" cy="4292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068560" y="4287960"/>
            <a:ext cx="513360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据传湘君和湘夫人是湘水的配偶神。湘君就是传说中尧、舜、禹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舜。他到九嶷山惩戒恶龙 ，死在苍梧，他的妃子是尧的两个女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娥皇、女英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到南方寻找舜，走到洞庭湖附近，听说舜已死，二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抱头痛哭起来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一直哭了九天九夜，眼睛流干了，哭出血泪来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最后也死在了舜帝的旁边。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21164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228600" y="609480"/>
            <a:ext cx="8686800" cy="598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《九歌》中大多数诗篇都包含有神与神或人与神相恋的情节。这些恋爱，在诗中又都呈现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会合无缘、彷徨怅惘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状态，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透出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</a:rPr>
              <a:t>对生命的执着追求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，和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</a:rPr>
              <a:t>追求不得的忧伤怀疑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。这里面也许包含着屈原自己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</a:rPr>
              <a:t>人生失路、孤独凄凉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的心情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——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章培恒、骆玉明主编《中国文学史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2341440" y="169920"/>
            <a:ext cx="53056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精彩语言辑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△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长太息以掩涕兮，哀民生之多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《离骚》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△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苟余心之所善兮，虽九死其犹未悔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《离骚》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△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路漫漫其修远兮，吾将上下而求索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《离骚》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△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帝子降兮北诸，目眇眇兮愁予，袅袅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秋风，洞庭波兮木叶下。（《九歌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湘夫人》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△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悲莫悲兮生别离，乐莫乐兮新相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《九歌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少司命》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491920" y="390600"/>
            <a:ext cx="475704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△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青云衣兮白霓裳，举长矢兮射天狼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《九歌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东君》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△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诚既勇兮又以武，终刚强兮不可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身既死兮神以灵，子魂魄兮为鬼雄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《九歌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国殇》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△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鸟飞反故乡兮，狐死必首丘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《九章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哀郢》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△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苟余心之端直兮，虽僻远其何伤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《九章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涉江》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△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世皆浊而我独清，众人皆醉而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独醒。（《渔父》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978920" y="4307040"/>
            <a:ext cx="5514840" cy="25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娥皇和女英的眼泪，洒在了九嶷山的竹子山，竹竿上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呈现出点点泪斑，有紫色的，有雪白的，还有血红血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，这便是“湘妃竹”。竹子上有的像印有指纹，传说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二妃在竹子抹眼泪印上的；有的竹子上鲜红鲜红的血斑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便是两位妃子眼中流出来的血泪染成的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3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572080" y="0"/>
            <a:ext cx="357192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068480" y="189000"/>
            <a:ext cx="33811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九歌”原为传说中的一种远古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曲的名称。《楚辞》的《九歌》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是战国楚人屈原据民间祭神乐歌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作或加工而成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共十一篇：《东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太一》、《云中君》、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《湘君》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《湘夫人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《大司命》、《少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命》、《东君》、《河伯》、《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鬼》、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《国殇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《礼魂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《国殇》一篇，悼念和颂赞为楚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国而战死的将士；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多数篇章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则皆描写神灵间的眷恋，表现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深切的思念或所求未遂的哀伤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051640" y="260280"/>
            <a:ext cx="53013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湘水是楚国境内所独有的最大河流。湘君、湘夫人这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神祗反映了原始初民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崇拜自然神灵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一种意识形态和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神人恋爱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构想。楚国民间文艺，有着浓厚的宗教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氛，祭坛实际上就是“剧坛”或“文坛”。以《湘君》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《湘夫人》为例：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人们在祭湘君时，以女性的歌者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祭者扮演角色迎接湘君；祭湘夫人时，以男性的歌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或祭者扮演角色迎接湘夫人，各致以爱慕之深情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们借神为对象，寄托人间纯朴真挚的爱情；同时也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映楚国人民与自然界的和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4221000"/>
            <a:ext cx="914400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082240" y="0"/>
            <a:ext cx="53013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作为《湘君》的姊妹篇，《湘夫人》由男神的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演者演唱，表达了赴约的湘君来到约会地北渚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却不见湘夫人的惆怅和迷惘。</a:t>
            </a:r>
            <a:br>
              <a:rPr sz="3200"/>
            </a:b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     如果把这两首祭神曲联系起来看，那么这首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湘夫人》所写的情事，正发生在湘夫人久等湘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不至而北出湘浦、转道洞庭之时。因此当晚到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湘君抵达约会地北渚时，自然难以见到他的心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人了。作品即由此落笔，与《湘君》的情节紧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配合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360680" y="4908600"/>
            <a:ext cx="9259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湘君》和《湘夫人》是由一次约会在时间上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误差而引出的两个故事，但合起来又是一幕两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相悦、忠贞不渝的故事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330280" y="1413000"/>
            <a:ext cx="73915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他们彼此相信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是瞬间迸发的热情让他们相遇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这样的确定是美丽的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但变幻无常更为美丽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——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辛波丝卡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Love at First Sight”..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334760" y="378000"/>
            <a:ext cx="15537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帝子降兮北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蛟何为兮水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朝弛余马江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夕济兮西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遗余褋兮澧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浦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485040" y="297000"/>
            <a:ext cx="11667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Zh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Y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Gā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Sh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p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436360" y="39718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水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096080" y="4797360"/>
            <a:ext cx="354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汀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洲兮杜若：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tīng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水中平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7T07:35:25Z</dcterms:created>
  <dc:creator>YlmF</dc:creator>
  <dc:description/>
  <dc:language>en-US</dc:language>
  <cp:lastModifiedBy>zmj</cp:lastModifiedBy>
  <dcterms:modified xsi:type="dcterms:W3CDTF">2009-11-16T04:20:33Z</dcterms:modified>
  <cp:revision>47</cp:revision>
  <dc:subject/>
  <dc:title>幻灯片 1</dc:title>
</cp:coreProperties>
</file>