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2A6-2DE8-48B4-A066-AF2BA847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85A-AB1F-4128-B84A-49361BE5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BCC-F4D7-4C4C-9D46-DF2DFF9D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A3D-4EB8-4EB1-BC35-2785878B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576-F6FD-4FC1-967D-A120D9A7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CDC-EFEB-4914-A86D-34763493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D72-8D08-4B62-8D3D-3A49F8E8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7B6-17F4-4EC8-A4EC-4C98D302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57F-149B-4A8C-8861-ED945B2D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035-1B47-40CD-9921-1C37DA90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E93-9767-43CD-8919-7EAD69E9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A66-BED2-42A9-AAD7-4C6AC3FD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行楷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倩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倩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倩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倩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倩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倩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倩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767F-D4CD-448B-BF47-005FBB1557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0E2E-968F-4796-9BE2-3AA227D874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" y="-12600"/>
            <a:ext cx="121838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16120" y="841320"/>
            <a:ext cx="718920" cy="717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19000" y="3103560"/>
            <a:ext cx="717840" cy="719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20800" y="234648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816120" y="1595520"/>
            <a:ext cx="717480" cy="71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44200" y="932040"/>
            <a:ext cx="7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360" y="1638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9760" y="2390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8520" y="3139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8280" y="3063960"/>
            <a:ext cx="6138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美丽的湘水边生长着一种竹子，这种竹子的竹竿结满了斑点。这就是“斑竹”，又名“湘妃竹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806400" y="4084560"/>
            <a:ext cx="3889440" cy="26751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6960" y="74628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2181240" y="1909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渚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hǔ) 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眇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ǎo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薠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fán)  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罾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ēng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蘋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ín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芷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hǐ)    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澧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lǐ) 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h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潺湲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hányuán)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qì)  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荪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ūn) 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橑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lǎ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楣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éi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薜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ì lì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擗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pǐ)  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mián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庑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wǔ)  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嶷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í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袂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mèi)     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遗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wèi)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dié)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搴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qiān)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汀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tī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444680" y="738360"/>
            <a:ext cx="717480" cy="718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187720" y="743040"/>
            <a:ext cx="717480" cy="718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928960" y="74448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2400" y="781200"/>
            <a:ext cx="5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字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781200"/>
            <a:ext cx="6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辨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798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96720" y="774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840" y="12600"/>
            <a:ext cx="1218744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96960" y="73188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327320" y="1355760"/>
            <a:ext cx="717480" cy="719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95160" y="19717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14360" y="2600280"/>
            <a:ext cx="717480" cy="71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86000" y="2619360"/>
            <a:ext cx="7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3400" y="781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0960" y="1393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9360" y="2001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82920" y="1793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帝子  降兮北渚，目眇眇  兮愁予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93360" y="1768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宋体"/>
              </a:rPr>
              <a:t>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04520" y="1714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11960" y="17524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4160" y="1730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65640" y="3016080"/>
            <a:ext cx="34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天帝的女儿，指湘夫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865440" y="17384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7720" y="354960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水中小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02360" y="3032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向远看的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04160" y="356220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使我发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4320" y="432900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湘夫人降落在北洲之上，极目远眺啊使我惆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32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95560" y="1044720"/>
            <a:ext cx="70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袅袅  兮秋风，洞庭波  兮木叶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3280" y="949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30400" y="2276640"/>
            <a:ext cx="52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微风吹拂的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7560" y="22953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这里作动词，微波泛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7360" y="94788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09600" y="3218040"/>
            <a:ext cx="61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秋风微拂，洞庭湖波浪摇荡，树叶缓缓下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1413000" y="3960720"/>
            <a:ext cx="866448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瑟瑟秋风、浩渺的秋水、萧萧落叶使湘君的心情更加惆怅万分。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妙在以可见之水波、木叶，写出不可见之袅袅秋风，写风而有画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种写法启发了无数的后来人，如杜甫的“无边落木萧萧下，不尽长江滚滚来”；晏殊的“昨夜西风凋碧树，独上高楼，望尽天涯路”等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476440"/>
            <a:ext cx="27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融情于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26000" y="12873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登白薠  兮骋望  ，与佳期  兮夕张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51520" y="116208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09480" y="1181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42440" y="118116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677160" y="114624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94320" y="2608200"/>
            <a:ext cx="52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香草名，秋季生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85160" y="2611440"/>
            <a:ext cx="12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放眼远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99000" y="3328920"/>
            <a:ext cx="23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约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61240" y="334332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张设罗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19640" y="4567320"/>
            <a:ext cx="74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踩着白薠纵目远望，与佳人相约在今天晚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09520" y="1090440"/>
            <a:ext cx="83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微软雅黑"/>
              </a:rPr>
              <a:t>鸟何萃 兮蘋 中，罾 何为兮木上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23960" y="124452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 rot="10680000">
            <a:off x="3601440" y="122184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05240" y="1238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15880" y="2538360"/>
            <a:ext cx="447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微软雅黑"/>
              </a:rPr>
              <a:t>］聚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2509920"/>
            <a:ext cx="23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微软雅黑"/>
              </a:rPr>
              <a:t>］水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17680" y="312264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微软雅黑"/>
              </a:rPr>
              <a:t>］鱼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83920" y="4048200"/>
            <a:ext cx="45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鸟儿啊为何聚集在水草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鱼网啊为何挂到树枝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1160" y="4824360"/>
            <a:ext cx="811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微软雅黑"/>
                <a:ea typeface="微软雅黑"/>
              </a:rPr>
              <a:t>运用比兴的手法，鸟儿本应在树梢上，渔网本应在水草里，而这里用不合乎逻辑的现象来比喻所愿不得，失其应处之所。用事物的错位，暗示湘君内心的焦虑，与美人的期约恐怕不能实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1260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832120" y="942840"/>
            <a:ext cx="46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沅有芷  兮澧有兰，思公子  兮未敢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27880" y="82872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33040" y="809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24000" y="20383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香草名。即白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56120" y="2011320"/>
            <a:ext cx="33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指湘夫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79440" y="2936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沅水有白芷澧水有幽兰，眷念湘夫人却不敢明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66080" y="1285920"/>
            <a:ext cx="38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荒忽  兮远望，观流水兮潺湲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67800" y="118440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26520" y="1208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9360" y="2647800"/>
            <a:ext cx="39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迷迷糊糊的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43240" y="3270240"/>
            <a:ext cx="30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水慢慢流动的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32000" y="4170240"/>
            <a:ext cx="835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思恍惚望向远方一片空阔苍茫，只见清澈的流水缓缓流淌。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06480" y="4970520"/>
            <a:ext cx="875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段讲湘君把思念的感情埋在心中，急切地等待恋人而不见来到，神思恍惚地向远方张望，迷惘地看着缓缓不断的流水出神。男水神没有直白自己的情感</a:t>
            </a:r>
            <a:r>
              <a:rPr b="1" lang="en-US" sz="20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c0000"/>
                </a:solidFill>
                <a:latin typeface="微软雅黑"/>
                <a:ea typeface="微软雅黑"/>
              </a:rPr>
              <a:t>而是用流水来寄托自己的愁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1440" y="-39600"/>
            <a:ext cx="121870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867760" y="115416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微软雅黑"/>
              </a:rPr>
              <a:t>麋何食兮庭中，蛟何为兮水裔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81360" y="2971800"/>
            <a:ext cx="391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麋鹿为何在庭院觅食，蛟龙为何到水边游荡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03480" y="103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08040" y="2117880"/>
            <a:ext cx="46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］水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28880" y="3809880"/>
            <a:ext cx="94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是湘君在等不到湘夫人、心情越来越懊丧的情况下，对自身尴尬处境的自我比况。而反过来，这种反常景象在头脑中的出现，这种自我比况心理的发生，也充分体现出当时湘君的心情懊丧到何种程度。这样的景物描写，不是将情感融入现实景物，不是以景染情，而是通过象征、隐喻、暗示的途径来达到表现目的，特点鲜明，很有表现力，但一般只能用在某些特定情况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39440" y="2065320"/>
            <a:ext cx="4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因情造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67280" y="809640"/>
            <a:ext cx="362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朝驰余马兮江皋 ，夕济  兮西澨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闻佳人兮召予，将腾驾兮偕  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04640" y="709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65800" y="69516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16640" y="73188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27880" y="12812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3400" y="275436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水泽。一说水边高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35560" y="2700360"/>
            <a:ext cx="31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渡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1320" y="329580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水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38800" y="32958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一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0680" y="4332240"/>
            <a:ext cx="889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早晨我骑马在江边奔驰，傍晚渡水到了西岸。好像听到湘夫人把我召唤，多想立刻驾车与她同往。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1680" y="320760"/>
            <a:ext cx="41529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筑室兮水中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葺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兮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荷盖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荪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壁兮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紫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坛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播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芳椒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兮成堂。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桂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栋兮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兰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橑，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辛夷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楣兮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药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房  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薜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兮为帷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擗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蕙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櫋兮既张。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白玉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兮为镇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疏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石兰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兮为芳。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芷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葺兮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荷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屋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缭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兮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杜衡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百草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兮实庭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芳馨兮庑  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3680" y="34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57760" y="103824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1280" y="231156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7280" y="230508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59160" y="29703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44200" y="358776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5720" y="4923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6840" y="48974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09280" y="55087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24560" y="94788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编草盖房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49840" y="1406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散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19880" y="1873080"/>
            <a:ext cx="30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用白芷修饰卧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6360" y="2371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编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3400" y="2838600"/>
            <a:ext cx="20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剖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02240" y="3324240"/>
            <a:ext cx="22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散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15200" y="3801960"/>
            <a:ext cx="15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缠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08720" y="42670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汇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29240" y="473400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厢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38760" y="74124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34080" y="2266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849920" y="37861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46840" y="895320"/>
            <a:ext cx="176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92560" y="2468520"/>
            <a:ext cx="8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67360" y="393228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635880" y="432576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7160" y="4424400"/>
            <a:ext cx="5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635880" y="533700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05720" y="5396040"/>
            <a:ext cx="3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350800" y="2604960"/>
            <a:ext cx="53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为何如此详细地介绍了湘君建筑水屋的过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25520" y="3236760"/>
            <a:ext cx="909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力地装饰爱巢，极力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渲染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湘君对湘夫人炽热的爱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流光溢彩的外部环境来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侧面烘托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充溢于人物内心的欢乐和幸福，为迎而未得的失落作铺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香草代表美人，用来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侧面烘托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慕对象—— 湘夫人的美丽高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25240" y="1101600"/>
            <a:ext cx="54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描写湘君建筑水屋的过程用了什么写作手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57200" y="1862280"/>
            <a:ext cx="28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铺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4" dur="2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2600" y="144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431240" y="71280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嶷缤兮并迎，灵之来兮如云。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18440" y="182880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嶷山的众神都来欢迎湘夫人，他们簇簇拥拥就像云一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97080" y="1758960"/>
            <a:ext cx="9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86120" y="3309840"/>
            <a:ext cx="80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湘君想象当自己同湘夫人一起来到新居时，九嶷山诸神都来祝贺。以上</a:t>
            </a:r>
            <a:r>
              <a:rPr b="0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16</a:t>
            </a:r>
            <a:r>
              <a:rPr b="0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句是追述他怎样向往和湘夫人共同生活，然而因为两人没有会着，所以一切设想都落空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269" name=""/>
          <p:cNvSpPr/>
          <p:nvPr/>
        </p:nvSpPr>
        <p:spPr>
          <a:xfrm>
            <a:off x="5868360" y="3246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460760" y="274680"/>
            <a:ext cx="688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捐  余袂兮江中，遗  余褋兮澧浦。搴  汀洲兮杜若，将以遗  兮远者。时不可兮骤  得，聊逍遥兮容与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26720" y="190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96440" y="17136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48120" y="673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87240" y="11905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611640" y="118908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13320" y="270180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抛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09280" y="26956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赠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10080" y="32068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采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89760" y="3218040"/>
            <a:ext cx="21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轻易，一下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06840" y="374976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］从容自在的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7360" y="2859120"/>
            <a:ext cx="45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ebdings"/>
                <a:ea typeface="Webdings"/>
              </a:rPr>
              <a:t>美好的时光啊不可多得，我姑且悠闲自得地徘徊游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7760" y="4110120"/>
            <a:ext cx="10566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衣袖、单衣本不是湘君自己的，而是湘夫人送给湘君的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信物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因此，湘君把他它珍爱的穿在身上来赴约，但想不到湘夫人没有来赴约。因而湘君心里对湘夫人有些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抱怨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一气之下就把这些信物抛弃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那为什么他又要拔取杜若送给湘夫人呢？这是因为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抱怨是一时的，挚爱才是根深蒂固的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所以他很快就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回心转意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。 表达了对爱情的坚贞不渝，对理想的执着追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868360" y="3246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816280" y="446040"/>
            <a:ext cx="717480" cy="719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2079720" y="447840"/>
            <a:ext cx="717480" cy="718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335240" y="4525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598320" y="4507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47640" y="485640"/>
            <a:ext cx="6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03280" y="4968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Webdings"/>
                <a:ea typeface="Webdings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48420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7560" y="4842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54240" y="1549440"/>
            <a:ext cx="56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本诗以男女水神等候对方为线索，表现了他们因思不见而在不断彷徨迷惘中产生深长的幽思之情。但仍对爱情坚贞不渝的主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诗歌反映了当时人民的真实感情和美好愿望，也渗透了诗人屈原执着追求理想的情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sp>
        <p:nvSpPr>
          <p:cNvPr id="297" name=""/>
          <p:cNvSpPr/>
          <p:nvPr/>
        </p:nvSpPr>
        <p:spPr>
          <a:xfrm>
            <a:off x="5868360" y="3246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440" y="1260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0571040" y="293364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0582200" y="4449600"/>
            <a:ext cx="71748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10572840" y="369108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10580760" y="218448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261280" y="3111480"/>
            <a:ext cx="7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31520" y="2251080"/>
            <a:ext cx="4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Webdings"/>
                <a:ea typeface="Webdings"/>
              </a:rPr>
              <a:t>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636200" y="44974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95240" y="3006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722960" y="374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99120" y="2894040"/>
            <a:ext cx="46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融情入景，以景染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84720" y="3711600"/>
            <a:ext cx="45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情造景，象征寓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75000" y="4587840"/>
            <a:ext cx="46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香草美人，寄托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8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6120" y="993600"/>
            <a:ext cx="719280" cy="717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12800" y="98424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935440" y="993600"/>
            <a:ext cx="718920" cy="71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195640" y="98748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77960" y="1035000"/>
            <a:ext cx="36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知  人  论  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74840" y="2206800"/>
            <a:ext cx="7535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屈原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（约前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40-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8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战国末期楚国人，杰出的政治家和爱国诗人。名平，字原。楚武王熊通之子屈瑕的后代。丹阳（进湖北秭归）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46400" y="4159080"/>
            <a:ext cx="7400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屈原是我国第一位伟大的爱国主义诗人，他开创了诗歌从集体歌唱转变为个人独立创作的新纪元，是我国浪漫主义诗歌传统的奠基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43000" y="2270160"/>
            <a:ext cx="26240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" y="-2700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82960" y="2570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屈原一生经历了楚威王、楚怀王、顷襄王三个时期，而主要活动于楚怀王时期。这个时期正是中国即将实现大一统的前夕，“横则秦帝，纵则楚王。”屈原因出身贵族，又明于治乱，娴于辞令，故而早年深受楚怀王的宠信，位至左徒，三闾大夫。屈原为实现楚国的统一大业，对内积极辅佐怀王变法图强，对外坚决主张联齐抗秦，使楚国一度出现国富兵强、威震诸侯的局面。但是由于在内政外交上屈原与楚国腐朽贵族集团发生了尖锐的矛盾，由于上官大夫等人的嫉妒，屈原后来遭到了群小的诬陷和楚怀王的疏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2600" y="0"/>
            <a:ext cx="12190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25720" y="558720"/>
            <a:ext cx="6645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怀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张仪由秦至楚，以重金收买靳尚、子兰、郑袖等人充当内奸，同时以“献商於之地六百里”诱骗怀王，致使齐楚断交。怀王受骗后恼羞成怒，两度向秦出兵，均遭惨败。于是屈原奉命出使齐国重修齐楚旧好。此间张仪又一次由秦至楚，进行瓦解齐楚联盟的活动，使齐楚联盟未能成功。怀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秦楚黄棘之盟，楚国彻底投入秦的怀抱。屈原亦被逐出郢都，到了汉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63880" y="3908520"/>
            <a:ext cx="6599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怀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屈原回到郢都。同年，秦约怀王武关相会，怀王遂被秦扣押，最终客死秦国，顷襄王即位后继续实施投降政策，屈原再次被逐出郢都，流放江南，辗转流离于沅湘之间。顷襄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秦破郢都，屈原悲愤难捱，遂自沉汨罗江，以身殉了自己的政治理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0" y="1440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11080" y="55260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558800" y="5619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292480" y="561960"/>
            <a:ext cx="718920" cy="717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044880" y="552600"/>
            <a:ext cx="718920" cy="717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88840" y="612720"/>
            <a:ext cx="5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87520" y="598320"/>
            <a:ext cx="4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81040" y="185436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离骚》、《天问》、《九歌》（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）、《九章》（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）、《招魂》、凡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。其中《离骚》是屈原的代表作，也是中国古代文学史上最长的一首浪漫主义的政治抒情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619200"/>
            <a:ext cx="9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12920" y="603360"/>
            <a:ext cx="5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2400" y="1401840"/>
            <a:ext cx="61387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诗中抒发了炽热的爱国主义思想感情，表达了对楚国的热爱，体现了他对理想的不懈追求和为此九死不悔的精神。他创造的“楚辞”文体在中国文学史上独树一帜，与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经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称“风骚”二体，对后世诗歌创作产生积极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0" y="-11160"/>
            <a:ext cx="1219068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123640" y="1962000"/>
            <a:ext cx="719280" cy="717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117160" y="120816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115720" y="345744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122200" y="270972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60000" y="125748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5040" y="19861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0" y="277344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1800" y="3495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76760" y="425520"/>
            <a:ext cx="18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《楚辞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73720" y="1536840"/>
            <a:ext cx="62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汉刘向搜集屈原、宋玉以及汉代仿效屈原辞赋的作家的作品共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编辑而成。其中屈原的作品最多，价值最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2160" y="3278160"/>
            <a:ext cx="59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楚辞》是我国继《诗经》之后的又一部诗歌总集。是我国浪漫主义诗歌创作的源头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楚辞》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后世文学影响深远。我国诗歌史上“风”“骚”并称，“风”指《国风》，“骚”指《离骚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行楷_G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粗倩_GB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57280" y="2397240"/>
            <a:ext cx="19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楚辞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28840" y="2986200"/>
            <a:ext cx="81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战国时期屈原在楚歌的基础上创新的一种新诗体。因《离骚》是楚辞中最伟大的作品，所以楚辞也称“骚体诗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9160" y="44085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35200" y="4884840"/>
            <a:ext cx="38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幅较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句式参差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用“兮”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00:15:00Z</dcterms:created>
  <dc:creator>Administrator</dc:creator>
  <dc:description/>
  <dc:language>en-US</dc:language>
  <cp:lastModifiedBy>雨林木风</cp:lastModifiedBy>
  <dcterms:modified xsi:type="dcterms:W3CDTF">2015-11-20T01:02:14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