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4A73-F017-4A7F-88F0-8463B28B5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F7E8-5FBD-4CC3-A8A8-A5F86190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3DB8-B78A-4471-8EA0-6C7AE2EE5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9F41-5C3A-4F24-94F3-86EEE5866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3536-9CDC-40D3-BBDD-C56DC06A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DA1D-BAA4-4CBE-B39D-9AD42306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2AA3-17FD-45AE-BD71-40CFB6D7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6A82-DA4A-4060-AB56-A1A421F1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FC67-441A-47B7-9DF8-1DFCB415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271F-3E6C-4F81-96A3-6C50B916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B754-2D9E-47A7-B032-A5302DCC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C515-04A3-47D8-9C44-C02EEA24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2EBD-0A8D-46B7-BD44-E4B0936E36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447920" y="1981080"/>
            <a:ext cx="61722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284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c3c3fe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隶书"/>
              </a:rPr>
              <a:t>乡愁</a:t>
            </a:r>
            <a:endParaRPr b="1" lang="en-US" sz="2400" spc="1" strike="noStrike">
              <a:ln w="284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c3c3fe"/>
                  </a:gs>
                  <a:gs pos="100000">
                    <a:srgbClr val="0000ff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686800" y="64008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44956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余光中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台湾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0" t="0" r="38" b="0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268080" y="2133720"/>
            <a:ext cx="27410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每个人心中都有一首最美的诗歌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试着任选以下一个话题来写一首短小的诗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表达你心中的那份情感吧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43640" y="480060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话题：乡愁  母亲  祖国  故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2" action="ppaction://hlinksldjump"/>
          </p:cNvPr>
          <p:cNvSpPr/>
          <p:nvPr/>
        </p:nvSpPr>
        <p:spPr>
          <a:xfrm>
            <a:off x="0" y="5562720"/>
            <a:ext cx="9144000" cy="1295280"/>
          </a:xfrm>
          <a:custGeom>
            <a:avLst/>
            <a:gdLst>
              <a:gd name="textAreaLeft" fmla="*/ 83880 w 9144000"/>
              <a:gd name="textAreaRight" fmla="*/ 9060120 w 914400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152448" h="21600">
                <a:moveTo>
                  <a:pt x="0" y="0"/>
                </a:moveTo>
                <a:lnTo>
                  <a:pt x="152448" y="0"/>
                </a:lnTo>
                <a:lnTo>
                  <a:pt x="152448" y="21600"/>
                </a:lnTo>
                <a:lnTo>
                  <a:pt x="0" y="21600"/>
                </a:lnTo>
                <a:close/>
              </a:path>
              <a:path fill="lightenLess" w="152448" h="21600">
                <a:moveTo>
                  <a:pt x="0" y="0"/>
                </a:moveTo>
                <a:lnTo>
                  <a:pt x="152448" y="0"/>
                </a:lnTo>
                <a:lnTo>
                  <a:pt x="151048" y="1400"/>
                </a:lnTo>
                <a:lnTo>
                  <a:pt x="1400" y="1400"/>
                </a:lnTo>
                <a:close/>
              </a:path>
              <a:path fill="darken" w="152448" h="21600">
                <a:moveTo>
                  <a:pt x="152448" y="0"/>
                </a:moveTo>
                <a:lnTo>
                  <a:pt x="152448" y="21600"/>
                </a:lnTo>
                <a:lnTo>
                  <a:pt x="151048" y="20200"/>
                </a:lnTo>
                <a:lnTo>
                  <a:pt x="151048" y="1400"/>
                </a:lnTo>
                <a:close/>
              </a:path>
              <a:path fill="darkenLess" w="152448" h="21600">
                <a:moveTo>
                  <a:pt x="1524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1048" y="20200"/>
                </a:lnTo>
                <a:close/>
              </a:path>
              <a:path fill="lighten" w="1524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136368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14400" y="609588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话题：乡愁  母亲  祖国  故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457200"/>
            <a:ext cx="388620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母亲的爱像块糖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  </a:t>
            </a:r>
            <a:r>
              <a:rPr b="1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母亲的爱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  </a:t>
            </a:r>
            <a:r>
              <a:rPr b="1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就像块糖，</a:t>
            </a:r>
            <a:br>
              <a:rPr sz="3600"/>
            </a:br>
            <a:r>
              <a:rPr b="1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  包在唠叨里 ，</a:t>
            </a:r>
            <a:br>
              <a:rPr sz="3600"/>
            </a:br>
            <a:r>
              <a:rPr b="1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  藏在责骂里，</a:t>
            </a:r>
            <a:br>
              <a:rPr sz="3600"/>
            </a:br>
            <a:r>
              <a:rPr b="1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  让我东找西找，</a:t>
            </a:r>
            <a:br>
              <a:rPr sz="3600"/>
            </a:br>
            <a:r>
              <a:rPr b="1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  直到我懂事，</a:t>
            </a:r>
            <a:br>
              <a:rPr sz="3600"/>
            </a:br>
            <a:r>
              <a:rPr b="1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  才找到。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304920"/>
            <a:ext cx="380988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乡色酒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舒兰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台湾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隶书"/>
                <a:ea typeface="隶书"/>
              </a:rPr>
              <a:t>三十年前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隶书"/>
                <a:ea typeface="隶书"/>
              </a:rPr>
              <a:t>你从柳树梢头望我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隶书"/>
                <a:ea typeface="隶书"/>
              </a:rPr>
              <a:t>我还年少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隶书"/>
                <a:ea typeface="隶书"/>
              </a:rPr>
              <a:t>你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隶书"/>
                <a:ea typeface="隶书"/>
              </a:rPr>
              <a:t>人也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隶书"/>
                <a:ea typeface="隶书"/>
              </a:rPr>
              <a:t>三十年后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隶书"/>
                <a:ea typeface="隶书"/>
              </a:rPr>
              <a:t>我从椰树梢头望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隶书"/>
                <a:ea typeface="隶书"/>
              </a:rPr>
              <a:t>你是一杯乡色酒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隶书"/>
                <a:ea typeface="隶书"/>
              </a:rPr>
              <a:t>你满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隶书"/>
                <a:ea typeface="隶书"/>
              </a:rPr>
              <a:t>乡愁也满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638680"/>
            <a:ext cx="9144000" cy="1219320"/>
          </a:xfrm>
          <a:custGeom>
            <a:avLst/>
            <a:gdLst>
              <a:gd name="textAreaLeft" fmla="*/ 78840 w 9144000"/>
              <a:gd name="textAreaRight" fmla="*/ 9065160 w 91440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161943" h="21600">
                <a:moveTo>
                  <a:pt x="0" y="0"/>
                </a:moveTo>
                <a:lnTo>
                  <a:pt x="161943" y="0"/>
                </a:lnTo>
                <a:lnTo>
                  <a:pt x="161943" y="21600"/>
                </a:lnTo>
                <a:lnTo>
                  <a:pt x="0" y="21600"/>
                </a:lnTo>
                <a:close/>
              </a:path>
              <a:path fill="lightenLess" w="161943" h="21600">
                <a:moveTo>
                  <a:pt x="0" y="0"/>
                </a:moveTo>
                <a:lnTo>
                  <a:pt x="161943" y="0"/>
                </a:lnTo>
                <a:lnTo>
                  <a:pt x="160543" y="1400"/>
                </a:lnTo>
                <a:lnTo>
                  <a:pt x="1400" y="1400"/>
                </a:lnTo>
                <a:close/>
              </a:path>
              <a:path fill="darken" w="161943" h="21600">
                <a:moveTo>
                  <a:pt x="161943" y="0"/>
                </a:moveTo>
                <a:lnTo>
                  <a:pt x="161943" y="21600"/>
                </a:lnTo>
                <a:lnTo>
                  <a:pt x="160543" y="20200"/>
                </a:lnTo>
                <a:lnTo>
                  <a:pt x="160543" y="1400"/>
                </a:lnTo>
                <a:close/>
              </a:path>
              <a:path fill="darkenLess" w="161943" h="21600">
                <a:moveTo>
                  <a:pt x="1619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0543" y="20200"/>
                </a:lnTo>
                <a:close/>
              </a:path>
              <a:path fill="lighten" w="1619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a5b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0" t="0" r="47" b="-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1600200" y="1447920"/>
            <a:ext cx="617220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11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华文行楷"/>
              </a:rPr>
              <a:t>再见！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1096358" blurRad="0" rotWithShape="0">
                  <a:srgbClr val="80808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486400"/>
            <a:ext cx="9144000" cy="1371600"/>
          </a:xfrm>
          <a:custGeom>
            <a:avLst/>
            <a:gdLst>
              <a:gd name="textAreaLeft" fmla="*/ 88560 w 9144000"/>
              <a:gd name="textAreaRight" fmla="*/ 9055440 w 914400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143968" h="21600">
                <a:moveTo>
                  <a:pt x="0" y="0"/>
                </a:moveTo>
                <a:lnTo>
                  <a:pt x="143968" y="0"/>
                </a:lnTo>
                <a:lnTo>
                  <a:pt x="143968" y="21600"/>
                </a:lnTo>
                <a:lnTo>
                  <a:pt x="0" y="21600"/>
                </a:lnTo>
                <a:close/>
              </a:path>
              <a:path fill="lightenLess" w="143968" h="21600">
                <a:moveTo>
                  <a:pt x="0" y="0"/>
                </a:moveTo>
                <a:lnTo>
                  <a:pt x="143968" y="0"/>
                </a:lnTo>
                <a:lnTo>
                  <a:pt x="142568" y="1400"/>
                </a:lnTo>
                <a:lnTo>
                  <a:pt x="1400" y="1400"/>
                </a:lnTo>
                <a:close/>
              </a:path>
              <a:path fill="darken" w="143968" h="21600">
                <a:moveTo>
                  <a:pt x="143968" y="0"/>
                </a:moveTo>
                <a:lnTo>
                  <a:pt x="143968" y="21600"/>
                </a:lnTo>
                <a:lnTo>
                  <a:pt x="142568" y="20200"/>
                </a:lnTo>
                <a:lnTo>
                  <a:pt x="142568" y="1400"/>
                </a:lnTo>
                <a:close/>
              </a:path>
              <a:path fill="darkenLess" w="143968" h="21600">
                <a:moveTo>
                  <a:pt x="1439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2568" y="20200"/>
                </a:lnTo>
                <a:close/>
              </a:path>
              <a:path fill="lighten" w="1439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438280"/>
            <a:ext cx="914400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隶书"/>
                <a:ea typeface="隶书"/>
              </a:rPr>
              <a:t>余光中祖籍福建永春，</a:t>
            </a:r>
            <a:r>
              <a:rPr b="0" lang="zh-CN" sz="3600" spc="-1" strike="noStrike">
                <a:solidFill>
                  <a:srgbClr val="6600ff"/>
                </a:solidFill>
                <a:latin typeface="隶书"/>
                <a:ea typeface="隶书"/>
              </a:rPr>
              <a:t>1928</a:t>
            </a:r>
            <a:r>
              <a:rPr b="0" lang="zh-CN" sz="3600" spc="-1" strike="noStrike">
                <a:solidFill>
                  <a:srgbClr val="6600ff"/>
                </a:solidFill>
                <a:latin typeface="隶书"/>
                <a:ea typeface="隶书"/>
              </a:rPr>
              <a:t>年生于南京。抗战时于四川求学，其后就读于南京大学及厦门大学，</a:t>
            </a:r>
            <a:r>
              <a:rPr b="0" lang="zh-CN" sz="3600" spc="-1" strike="noStrike">
                <a:solidFill>
                  <a:srgbClr val="6600ff"/>
                </a:solidFill>
                <a:latin typeface="隶书"/>
                <a:ea typeface="隶书"/>
              </a:rPr>
              <a:t>1950</a:t>
            </a:r>
            <a:r>
              <a:rPr b="0" lang="zh-CN" sz="3600" spc="-1" strike="noStrike">
                <a:solidFill>
                  <a:srgbClr val="6600ff"/>
                </a:solidFill>
                <a:latin typeface="隶书"/>
                <a:ea typeface="隶书"/>
              </a:rPr>
              <a:t>年迁台，</a:t>
            </a:r>
            <a:r>
              <a:rPr b="0" lang="zh-CN" sz="3600" spc="-1" strike="noStrike">
                <a:solidFill>
                  <a:srgbClr val="6600ff"/>
                </a:solidFill>
                <a:latin typeface="隶书"/>
                <a:ea typeface="隶书"/>
              </a:rPr>
              <a:t>1972</a:t>
            </a:r>
            <a:r>
              <a:rPr b="0" lang="zh-CN" sz="3600" spc="-1" strike="noStrike">
                <a:solidFill>
                  <a:srgbClr val="6600ff"/>
                </a:solidFill>
                <a:latin typeface="隶书"/>
                <a:ea typeface="隶书"/>
              </a:rPr>
              <a:t>年创作代表作《乡愁》。写了一系列抒发乡愁的诗文，被称作“乡愁诗人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809880"/>
            <a:ext cx="4419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隶书"/>
                <a:ea typeface="隶书"/>
              </a:rPr>
              <a:t>长大后</a:t>
            </a:r>
            <a:br>
              <a:rPr sz="3200"/>
            </a:br>
            <a:r>
              <a:rPr b="1" lang="zh-CN" sz="3200" spc="-1" strike="noStrike">
                <a:solidFill>
                  <a:srgbClr val="00ffff"/>
                </a:solidFill>
                <a:latin typeface="隶书"/>
                <a:ea typeface="隶书"/>
              </a:rPr>
              <a:t>乡愁是一张窄窄的船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隶书"/>
                <a:ea typeface="隶书"/>
              </a:rPr>
              <a:t>我在这头 </a:t>
            </a:r>
            <a:br>
              <a:rPr sz="3200"/>
            </a:br>
            <a:r>
              <a:rPr b="1" lang="zh-CN" sz="3200" spc="-1" strike="noStrike">
                <a:solidFill>
                  <a:srgbClr val="00ffff"/>
                </a:solidFill>
                <a:latin typeface="隶书"/>
                <a:ea typeface="隶书"/>
              </a:rPr>
              <a:t>新娘在那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2080" y="1447920"/>
            <a:ext cx="1400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隶书"/>
                <a:ea typeface="隶书"/>
              </a:rPr>
              <a:t>小时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隶书"/>
                <a:ea typeface="隶书"/>
              </a:rPr>
              <a:t>乡愁是一枚小小的邮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隶书"/>
                <a:ea typeface="隶书"/>
              </a:rPr>
              <a:t>我在这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隶书"/>
                <a:ea typeface="隶书"/>
              </a:rPr>
              <a:t>母亲在那头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11880" y="1447920"/>
            <a:ext cx="1400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隶书"/>
                <a:ea typeface="隶书"/>
              </a:rPr>
              <a:t>后来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隶书"/>
                <a:ea typeface="隶书"/>
              </a:rPr>
              <a:t>乡愁是一方矮矮的坟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隶书"/>
                <a:ea typeface="隶书"/>
              </a:rPr>
              <a:t>我在外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隶书"/>
                <a:ea typeface="隶书"/>
              </a:rPr>
              <a:t>母亲在里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311880" y="3809880"/>
            <a:ext cx="1400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隶书"/>
                <a:ea typeface="隶书"/>
              </a:rPr>
              <a:t>而现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隶书"/>
                <a:ea typeface="隶书"/>
              </a:rPr>
              <a:t>乡愁是一湾浅浅的海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隶书"/>
                <a:ea typeface="隶书"/>
              </a:rPr>
              <a:t>我在这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隶书"/>
                <a:ea typeface="隶书"/>
              </a:rPr>
              <a:t>大陆在那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905120" y="380880"/>
            <a:ext cx="525780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乡愁 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3" name=""/>
          <p:cNvSpPr/>
          <p:nvPr/>
        </p:nvSpPr>
        <p:spPr>
          <a:xfrm>
            <a:off x="5952600" y="1143000"/>
            <a:ext cx="174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余光中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台湾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56200" y="1981080"/>
            <a:ext cx="3181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小时候</a:t>
            </a:r>
            <a:br>
              <a:rPr sz="2800"/>
            </a:br>
            <a:r>
              <a:rPr b="1" i="1" lang="zh-CN" sz="2800" spc="-1" strike="noStrike">
                <a:solidFill>
                  <a:srgbClr val="00ffff"/>
                </a:solidFill>
                <a:latin typeface="隶书"/>
                <a:ea typeface="隶书"/>
              </a:rPr>
              <a:t>乡愁</a:t>
            </a:r>
            <a:r>
              <a:rPr b="1" lang="zh-CN" sz="2800" spc="-1" strike="noStrike">
                <a:solidFill>
                  <a:srgbClr val="00ffff"/>
                </a:solidFill>
                <a:latin typeface="隶书"/>
                <a:ea typeface="隶书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是一枚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/</a:t>
            </a:r>
            <a:r>
              <a:rPr b="1" i="1" lang="zh-CN" sz="2800" spc="-1" strike="noStrike">
                <a:solidFill>
                  <a:srgbClr val="00ffff"/>
                </a:solidFill>
                <a:latin typeface="隶书"/>
                <a:ea typeface="隶书"/>
              </a:rPr>
              <a:t>小小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的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/</a:t>
            </a:r>
            <a:r>
              <a:rPr b="1" i="1" lang="zh-CN" sz="2800" spc="-1" strike="noStrike">
                <a:solidFill>
                  <a:srgbClr val="00ffff"/>
                </a:solidFill>
                <a:latin typeface="隶书"/>
                <a:ea typeface="隶书"/>
              </a:rPr>
              <a:t>邮票</a:t>
            </a:r>
            <a:br>
              <a:rPr sz="2800"/>
            </a:b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我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在</a:t>
            </a:r>
            <a:r>
              <a:rPr b="1" i="1" lang="zh-CN" sz="2800" spc="-1" strike="noStrike">
                <a:solidFill>
                  <a:srgbClr val="00ffff"/>
                </a:solidFill>
                <a:latin typeface="隶书"/>
                <a:ea typeface="隶书"/>
              </a:rPr>
              <a:t>这头</a:t>
            </a:r>
            <a:br>
              <a:rPr sz="2800"/>
            </a:b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母亲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在</a:t>
            </a:r>
            <a:r>
              <a:rPr b="1" i="1" lang="zh-CN" sz="2800" spc="-1" strike="noStrike">
                <a:solidFill>
                  <a:srgbClr val="00ffff"/>
                </a:solidFill>
                <a:latin typeface="隶书"/>
                <a:ea typeface="隶书"/>
              </a:rPr>
              <a:t>那头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长大后</a:t>
            </a:r>
            <a:br>
              <a:rPr sz="2800"/>
            </a:br>
            <a:r>
              <a:rPr b="1" i="1" lang="zh-CN" sz="2800" spc="-1" strike="noStrike">
                <a:solidFill>
                  <a:srgbClr val="00ffff"/>
                </a:solidFill>
                <a:latin typeface="隶书"/>
                <a:ea typeface="隶书"/>
              </a:rPr>
              <a:t>乡愁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是一张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/</a:t>
            </a:r>
            <a:r>
              <a:rPr b="1" i="1" lang="zh-CN" sz="2800" spc="-1" strike="noStrike">
                <a:solidFill>
                  <a:srgbClr val="00ffff"/>
                </a:solidFill>
                <a:latin typeface="隶书"/>
                <a:ea typeface="隶书"/>
              </a:rPr>
              <a:t>窄窄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的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/</a:t>
            </a:r>
            <a:r>
              <a:rPr b="1" i="1" lang="zh-CN" sz="2800" spc="-1" strike="noStrike">
                <a:solidFill>
                  <a:srgbClr val="00ffff"/>
                </a:solidFill>
                <a:latin typeface="隶书"/>
                <a:ea typeface="隶书"/>
              </a:rPr>
              <a:t>船票</a:t>
            </a:r>
            <a:br>
              <a:rPr sz="2800"/>
            </a:b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我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在</a:t>
            </a:r>
            <a:r>
              <a:rPr b="1" i="1" lang="zh-CN" sz="2800" spc="-1" strike="noStrike">
                <a:solidFill>
                  <a:srgbClr val="00ffff"/>
                </a:solidFill>
                <a:latin typeface="隶书"/>
                <a:ea typeface="隶书"/>
              </a:rPr>
              <a:t>这头</a:t>
            </a:r>
            <a:br>
              <a:rPr sz="2800"/>
            </a:b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新娘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在</a:t>
            </a:r>
            <a:r>
              <a:rPr b="1" i="1" lang="zh-CN" sz="2800" spc="-1" strike="noStrike">
                <a:solidFill>
                  <a:srgbClr val="00ffff"/>
                </a:solidFill>
                <a:latin typeface="隶书"/>
                <a:ea typeface="隶书"/>
              </a:rPr>
              <a:t>那头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1981080"/>
            <a:ext cx="457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后来呵</a:t>
            </a:r>
            <a:br>
              <a:rPr sz="2800"/>
            </a:br>
            <a:r>
              <a:rPr b="1" i="1" lang="zh-CN" sz="2800" spc="-1" strike="noStrike">
                <a:solidFill>
                  <a:srgbClr val="00ffff"/>
                </a:solidFill>
                <a:latin typeface="隶书"/>
                <a:ea typeface="隶书"/>
              </a:rPr>
              <a:t>乡愁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是一方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/</a:t>
            </a:r>
            <a:r>
              <a:rPr b="1" i="1" lang="zh-CN" sz="2800" spc="-1" strike="noStrike">
                <a:solidFill>
                  <a:srgbClr val="00ffff"/>
                </a:solidFill>
                <a:latin typeface="隶书"/>
                <a:ea typeface="隶书"/>
              </a:rPr>
              <a:t>矮矮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的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/</a:t>
            </a:r>
            <a:r>
              <a:rPr b="1" i="1" lang="zh-CN" sz="2800" spc="-1" strike="noStrike">
                <a:solidFill>
                  <a:srgbClr val="00ffff"/>
                </a:solidFill>
                <a:latin typeface="隶书"/>
                <a:ea typeface="隶书"/>
              </a:rPr>
              <a:t>坟墓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我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在</a:t>
            </a:r>
            <a:r>
              <a:rPr b="1" i="1" lang="zh-CN" sz="2800" spc="-1" strike="noStrike">
                <a:solidFill>
                  <a:srgbClr val="00ffff"/>
                </a:solidFill>
                <a:latin typeface="隶书"/>
                <a:ea typeface="隶书"/>
              </a:rPr>
              <a:t>外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母亲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在</a:t>
            </a:r>
            <a:r>
              <a:rPr b="1" i="1" lang="zh-CN" sz="2800" spc="-1" strike="noStrike">
                <a:solidFill>
                  <a:srgbClr val="00ffff"/>
                </a:solidFill>
                <a:latin typeface="隶书"/>
                <a:ea typeface="隶书"/>
              </a:rPr>
              <a:t>里头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而现在</a:t>
            </a:r>
            <a:br>
              <a:rPr sz="2800"/>
            </a:br>
            <a:r>
              <a:rPr b="1" i="1" lang="zh-CN" sz="2800" spc="-1" strike="noStrike">
                <a:solidFill>
                  <a:srgbClr val="00ffff"/>
                </a:solidFill>
                <a:latin typeface="隶书"/>
                <a:ea typeface="隶书"/>
              </a:rPr>
              <a:t>乡愁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是一湾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/</a:t>
            </a:r>
            <a:r>
              <a:rPr b="1" i="1" lang="zh-CN" sz="2800" spc="-1" strike="noStrike">
                <a:solidFill>
                  <a:srgbClr val="00ffff"/>
                </a:solidFill>
                <a:latin typeface="隶书"/>
                <a:ea typeface="隶书"/>
              </a:rPr>
              <a:t>浅浅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的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/</a:t>
            </a:r>
            <a:r>
              <a:rPr b="1" i="1" lang="zh-CN" sz="2800" spc="-1" strike="noStrike">
                <a:solidFill>
                  <a:srgbClr val="00ffff"/>
                </a:solidFill>
                <a:latin typeface="隶书"/>
                <a:ea typeface="隶书"/>
              </a:rPr>
              <a:t>海峡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我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在</a:t>
            </a:r>
            <a:r>
              <a:rPr b="1" i="1" lang="zh-CN" sz="2800" spc="-1" strike="noStrike">
                <a:solidFill>
                  <a:srgbClr val="00ffff"/>
                </a:solidFill>
                <a:latin typeface="隶书"/>
                <a:ea typeface="隶书"/>
              </a:rPr>
              <a:t>这头</a:t>
            </a:r>
            <a:br>
              <a:rPr sz="2800"/>
            </a:b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大陆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在</a:t>
            </a:r>
            <a:r>
              <a:rPr b="1" i="1" lang="zh-CN" sz="2800" spc="-1" strike="noStrike">
                <a:solidFill>
                  <a:srgbClr val="00ffff"/>
                </a:solidFill>
                <a:latin typeface="隶书"/>
                <a:ea typeface="隶书"/>
              </a:rPr>
              <a:t>那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133720" y="380880"/>
            <a:ext cx="525780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乡愁 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7" name=""/>
          <p:cNvSpPr/>
          <p:nvPr/>
        </p:nvSpPr>
        <p:spPr>
          <a:xfrm>
            <a:off x="5603400" y="1295280"/>
            <a:ext cx="19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余光中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台湾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43120" y="29718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隶书"/>
                <a:ea typeface="隶书"/>
              </a:rPr>
              <a:t>邮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6480" y="29718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隶书"/>
                <a:ea typeface="隶书"/>
              </a:rPr>
              <a:t>船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262480" y="29718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隶书"/>
                <a:ea typeface="隶书"/>
              </a:rPr>
              <a:t>坟墓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96200" y="29718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隶书"/>
                <a:ea typeface="隶书"/>
              </a:rPr>
              <a:t>海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219320" y="1981080"/>
            <a:ext cx="678168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9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7c80"/>
                    </a:gs>
                    <a:gs pos="100000">
                      <a:srgbClr val="ff0066"/>
                    </a:gs>
                  </a:gsLst>
                  <a:lin ang="5400000"/>
                </a:gradFill>
                <a:latin typeface="华文新魏"/>
              </a:rPr>
              <a:t>意象</a:t>
            </a:r>
            <a:endParaRPr b="1" lang="en-US" sz="24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7c80"/>
                  </a:gs>
                  <a:gs pos="100000">
                    <a:srgbClr val="ff0066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p:transition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543800" y="5410080"/>
            <a:ext cx="1600200" cy="1447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8600" y="4267080"/>
            <a:ext cx="4419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长大后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乡愁是一张窄窄的船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我在这头 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新娘在那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36640" y="1676520"/>
            <a:ext cx="1400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小时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乡愁是一枚小小的邮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我在这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母亲在那头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11880" y="1676520"/>
            <a:ext cx="1400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后来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乡愁是一方矮矮的坟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我在外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母亲在里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11880" y="4451400"/>
            <a:ext cx="1400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而现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乡愁是一湾浅浅的海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我在这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大陆在那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828800" y="228600"/>
            <a:ext cx="5029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43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乡愁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543800" y="5410080"/>
            <a:ext cx="1600200" cy="1447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80880" y="4267080"/>
            <a:ext cx="4419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长大后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乡愁是船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我在这头 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新娘在那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12800" y="1828800"/>
            <a:ext cx="1400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小时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乡愁是邮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我在这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母亲在那头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84800" y="1828800"/>
            <a:ext cx="1400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后来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乡愁是坟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我在外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母亲在里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37080" y="4267080"/>
            <a:ext cx="1400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而现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乡愁是海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我在这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大陆在那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828800" y="228600"/>
            <a:ext cx="5029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43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乡愁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7315200" y="5181480"/>
            <a:ext cx="1600200" cy="1447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718000" y="1827360"/>
            <a:ext cx="34725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诗歌的表达艺术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ff"/>
                </a:solidFill>
                <a:latin typeface="隶书"/>
                <a:ea typeface="隶书"/>
              </a:rPr>
              <a:t>1</a:t>
            </a:r>
            <a:r>
              <a:rPr b="1" lang="zh-CN" sz="4800" spc="-1" strike="noStrike">
                <a:solidFill>
                  <a:srgbClr val="6600ff"/>
                </a:solidFill>
                <a:latin typeface="隶书"/>
                <a:ea typeface="隶书"/>
              </a:rPr>
              <a:t>、表达的情感要真挚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ff"/>
                </a:solidFill>
                <a:latin typeface="隶书"/>
                <a:ea typeface="隶书"/>
              </a:rPr>
              <a:t>2</a:t>
            </a:r>
            <a:r>
              <a:rPr b="1" lang="zh-CN" sz="4800" spc="-1" strike="noStrike">
                <a:solidFill>
                  <a:srgbClr val="6600ff"/>
                </a:solidFill>
                <a:latin typeface="隶书"/>
                <a:ea typeface="隶书"/>
              </a:rPr>
              <a:t>、选择的意象要合适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ff"/>
                </a:solidFill>
                <a:latin typeface="隶书"/>
                <a:ea typeface="隶书"/>
              </a:rPr>
              <a:t>3</a:t>
            </a:r>
            <a:r>
              <a:rPr b="1" lang="zh-CN" sz="4800" spc="-1" strike="noStrike">
                <a:solidFill>
                  <a:srgbClr val="6600ff"/>
                </a:solidFill>
                <a:latin typeface="隶书"/>
                <a:ea typeface="隶书"/>
              </a:rPr>
              <a:t>、注意诗歌语言的运用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4" action="ppaction://hlinksldjump"/>
          </p:cNvPr>
          <p:cNvSpPr/>
          <p:nvPr/>
        </p:nvSpPr>
        <p:spPr>
          <a:xfrm>
            <a:off x="0" y="5410080"/>
            <a:ext cx="9144000" cy="1447920"/>
          </a:xfrm>
          <a:custGeom>
            <a:avLst/>
            <a:gdLst>
              <a:gd name="textAreaLeft" fmla="*/ 93600 w 9144000"/>
              <a:gd name="textAreaRight" fmla="*/ 9050400 w 914400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136381" h="21600">
                <a:moveTo>
                  <a:pt x="0" y="0"/>
                </a:moveTo>
                <a:lnTo>
                  <a:pt x="136381" y="0"/>
                </a:lnTo>
                <a:lnTo>
                  <a:pt x="136381" y="21600"/>
                </a:lnTo>
                <a:lnTo>
                  <a:pt x="0" y="21600"/>
                </a:lnTo>
                <a:close/>
              </a:path>
              <a:path fill="lightenLess" w="136381" h="21600">
                <a:moveTo>
                  <a:pt x="0" y="0"/>
                </a:moveTo>
                <a:lnTo>
                  <a:pt x="136381" y="0"/>
                </a:lnTo>
                <a:lnTo>
                  <a:pt x="134981" y="1400"/>
                </a:lnTo>
                <a:lnTo>
                  <a:pt x="1400" y="1400"/>
                </a:lnTo>
                <a:close/>
              </a:path>
              <a:path fill="darken" w="136381" h="21600">
                <a:moveTo>
                  <a:pt x="136381" y="0"/>
                </a:moveTo>
                <a:lnTo>
                  <a:pt x="136381" y="21600"/>
                </a:lnTo>
                <a:lnTo>
                  <a:pt x="134981" y="20200"/>
                </a:lnTo>
                <a:lnTo>
                  <a:pt x="134981" y="1400"/>
                </a:lnTo>
                <a:close/>
              </a:path>
              <a:path fill="darkenLess" w="136381" h="21600">
                <a:moveTo>
                  <a:pt x="13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4981" y="20200"/>
                </a:lnTo>
                <a:close/>
              </a:path>
              <a:path fill="lighten" w="13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56200" y="1981080"/>
            <a:ext cx="3181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小时候</a:t>
            </a:r>
            <a:br>
              <a:rPr sz="2800"/>
            </a:br>
            <a:r>
              <a:rPr b="1" i="1" lang="zh-CN" sz="2800" spc="-1" strike="noStrike">
                <a:solidFill>
                  <a:srgbClr val="00ffff"/>
                </a:solidFill>
                <a:latin typeface="隶书"/>
                <a:ea typeface="隶书"/>
              </a:rPr>
              <a:t>乡愁</a:t>
            </a:r>
            <a:r>
              <a:rPr b="1" lang="zh-CN" sz="2800" spc="-1" strike="noStrike">
                <a:solidFill>
                  <a:srgbClr val="00ffff"/>
                </a:solidFill>
                <a:latin typeface="隶书"/>
                <a:ea typeface="隶书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是一枚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/</a:t>
            </a:r>
            <a:r>
              <a:rPr b="1" i="1" lang="zh-CN" sz="2800" spc="-1" strike="noStrike">
                <a:solidFill>
                  <a:srgbClr val="00ffff"/>
                </a:solidFill>
                <a:latin typeface="隶书"/>
                <a:ea typeface="隶书"/>
              </a:rPr>
              <a:t>小小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的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/</a:t>
            </a:r>
            <a:r>
              <a:rPr b="1" i="1" lang="zh-CN" sz="2800" spc="-1" strike="noStrike">
                <a:solidFill>
                  <a:srgbClr val="00ffff"/>
                </a:solidFill>
                <a:latin typeface="隶书"/>
                <a:ea typeface="隶书"/>
              </a:rPr>
              <a:t>邮票</a:t>
            </a:r>
            <a:br>
              <a:rPr sz="2800"/>
            </a:b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我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在</a:t>
            </a:r>
            <a:r>
              <a:rPr b="1" i="1" lang="zh-CN" sz="2800" spc="-1" strike="noStrike">
                <a:solidFill>
                  <a:srgbClr val="00ffff"/>
                </a:solidFill>
                <a:latin typeface="隶书"/>
                <a:ea typeface="隶书"/>
              </a:rPr>
              <a:t>这头</a:t>
            </a:r>
            <a:br>
              <a:rPr sz="2800"/>
            </a:b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母亲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在</a:t>
            </a:r>
            <a:r>
              <a:rPr b="1" i="1" lang="zh-CN" sz="2800" spc="-1" strike="noStrike">
                <a:solidFill>
                  <a:srgbClr val="00ffff"/>
                </a:solidFill>
                <a:latin typeface="隶书"/>
                <a:ea typeface="隶书"/>
              </a:rPr>
              <a:t>那头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长大后</a:t>
            </a:r>
            <a:br>
              <a:rPr sz="2800"/>
            </a:br>
            <a:r>
              <a:rPr b="1" i="1" lang="zh-CN" sz="2800" spc="-1" strike="noStrike">
                <a:solidFill>
                  <a:srgbClr val="00ffff"/>
                </a:solidFill>
                <a:latin typeface="隶书"/>
                <a:ea typeface="隶书"/>
              </a:rPr>
              <a:t>乡愁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是一张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/</a:t>
            </a:r>
            <a:r>
              <a:rPr b="1" i="1" lang="zh-CN" sz="2800" spc="-1" strike="noStrike">
                <a:solidFill>
                  <a:srgbClr val="00ffff"/>
                </a:solidFill>
                <a:latin typeface="隶书"/>
                <a:ea typeface="隶书"/>
              </a:rPr>
              <a:t>窄窄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的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/</a:t>
            </a:r>
            <a:r>
              <a:rPr b="1" i="1" lang="zh-CN" sz="2800" spc="-1" strike="noStrike">
                <a:solidFill>
                  <a:srgbClr val="00ffff"/>
                </a:solidFill>
                <a:latin typeface="隶书"/>
                <a:ea typeface="隶书"/>
              </a:rPr>
              <a:t>船票</a:t>
            </a:r>
            <a:br>
              <a:rPr sz="2800"/>
            </a:b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我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在</a:t>
            </a:r>
            <a:r>
              <a:rPr b="1" i="1" lang="zh-CN" sz="2800" spc="-1" strike="noStrike">
                <a:solidFill>
                  <a:srgbClr val="00ffff"/>
                </a:solidFill>
                <a:latin typeface="隶书"/>
                <a:ea typeface="隶书"/>
              </a:rPr>
              <a:t>这头</a:t>
            </a:r>
            <a:br>
              <a:rPr sz="2800"/>
            </a:b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新娘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在</a:t>
            </a:r>
            <a:r>
              <a:rPr b="1" i="1" lang="zh-CN" sz="2800" spc="-1" strike="noStrike">
                <a:solidFill>
                  <a:srgbClr val="00ffff"/>
                </a:solidFill>
                <a:latin typeface="隶书"/>
                <a:ea typeface="隶书"/>
              </a:rPr>
              <a:t>那头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1981080"/>
            <a:ext cx="457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后来呵</a:t>
            </a:r>
            <a:br>
              <a:rPr sz="2800"/>
            </a:br>
            <a:r>
              <a:rPr b="1" i="1" lang="zh-CN" sz="2800" spc="-1" strike="noStrike">
                <a:solidFill>
                  <a:srgbClr val="00ffff"/>
                </a:solidFill>
                <a:latin typeface="隶书"/>
                <a:ea typeface="隶书"/>
              </a:rPr>
              <a:t>乡愁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是一方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/</a:t>
            </a:r>
            <a:r>
              <a:rPr b="1" i="1" lang="zh-CN" sz="2800" spc="-1" strike="noStrike">
                <a:solidFill>
                  <a:srgbClr val="00ffff"/>
                </a:solidFill>
                <a:latin typeface="隶书"/>
                <a:ea typeface="隶书"/>
              </a:rPr>
              <a:t>矮矮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的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/</a:t>
            </a:r>
            <a:r>
              <a:rPr b="1" i="1" lang="zh-CN" sz="2800" spc="-1" strike="noStrike">
                <a:solidFill>
                  <a:srgbClr val="00ffff"/>
                </a:solidFill>
                <a:latin typeface="隶书"/>
                <a:ea typeface="隶书"/>
              </a:rPr>
              <a:t>坟墓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我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在</a:t>
            </a:r>
            <a:r>
              <a:rPr b="1" i="1" lang="zh-CN" sz="2800" spc="-1" strike="noStrike">
                <a:solidFill>
                  <a:srgbClr val="00ffff"/>
                </a:solidFill>
                <a:latin typeface="隶书"/>
                <a:ea typeface="隶书"/>
              </a:rPr>
              <a:t>外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母亲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在</a:t>
            </a:r>
            <a:r>
              <a:rPr b="1" i="1" lang="zh-CN" sz="2800" spc="-1" strike="noStrike">
                <a:solidFill>
                  <a:srgbClr val="00ffff"/>
                </a:solidFill>
                <a:latin typeface="隶书"/>
                <a:ea typeface="隶书"/>
              </a:rPr>
              <a:t>里头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而现在</a:t>
            </a:r>
            <a:br>
              <a:rPr sz="2800"/>
            </a:br>
            <a:r>
              <a:rPr b="1" i="1" lang="zh-CN" sz="2800" spc="-1" strike="noStrike">
                <a:solidFill>
                  <a:srgbClr val="00ffff"/>
                </a:solidFill>
                <a:latin typeface="隶书"/>
                <a:ea typeface="隶书"/>
              </a:rPr>
              <a:t>乡愁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是一湾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/</a:t>
            </a:r>
            <a:r>
              <a:rPr b="1" i="1" lang="zh-CN" sz="2800" spc="-1" strike="noStrike">
                <a:solidFill>
                  <a:srgbClr val="00ffff"/>
                </a:solidFill>
                <a:latin typeface="隶书"/>
                <a:ea typeface="隶书"/>
              </a:rPr>
              <a:t>浅浅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的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/</a:t>
            </a:r>
            <a:r>
              <a:rPr b="1" i="1" lang="zh-CN" sz="2800" spc="-1" strike="noStrike">
                <a:solidFill>
                  <a:srgbClr val="00ffff"/>
                </a:solidFill>
                <a:latin typeface="隶书"/>
                <a:ea typeface="隶书"/>
              </a:rPr>
              <a:t>海峡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我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在</a:t>
            </a:r>
            <a:r>
              <a:rPr b="1" i="1" lang="zh-CN" sz="2800" spc="-1" strike="noStrike">
                <a:solidFill>
                  <a:srgbClr val="00ffff"/>
                </a:solidFill>
                <a:latin typeface="隶书"/>
                <a:ea typeface="隶书"/>
              </a:rPr>
              <a:t>这头</a:t>
            </a:r>
            <a:br>
              <a:rPr sz="2800"/>
            </a:b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大陆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在</a:t>
            </a:r>
            <a:r>
              <a:rPr b="1" i="1" lang="zh-CN" sz="2800" spc="-1" strike="noStrike">
                <a:solidFill>
                  <a:srgbClr val="00ffff"/>
                </a:solidFill>
                <a:latin typeface="隶书"/>
                <a:ea typeface="隶书"/>
              </a:rPr>
              <a:t>那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133720" y="380880"/>
            <a:ext cx="525780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乡愁 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5" name=""/>
          <p:cNvSpPr/>
          <p:nvPr/>
        </p:nvSpPr>
        <p:spPr>
          <a:xfrm>
            <a:off x="5755680" y="1371600"/>
            <a:ext cx="19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余光中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台湾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05:20:01Z</dcterms:created>
  <dc:creator>KMN</dc:creator>
  <dc:description/>
  <dc:language>en-US</dc:language>
  <cp:lastModifiedBy>qyz</cp:lastModifiedBy>
  <dcterms:modified xsi:type="dcterms:W3CDTF">2004-05-12T07:41:40Z</dcterms:modified>
  <cp:revision>43</cp:revision>
  <dc:subject/>
  <dc:title>PowerPoint 演示文稿</dc:title>
</cp:coreProperties>
</file>