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8E19-84E8-4044-971B-CF143B0E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99CE-83D6-40DF-9F7F-DDDC0732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90C57-C79F-404F-A923-5BAC0C3F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0E25-4200-497A-BC09-0DC806C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79D8D-DF05-4D83-B771-A05F3F9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170B1-D756-4806-A616-104108F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8B191-D70E-470E-B4FE-967F8BFC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19CBF-9D53-4669-AAA3-CB892627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979D8-B1AF-453F-A208-B1ED211E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D8807-19DC-4F4F-A155-CC078F75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2314C-2859-45C0-9303-B64E735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6C5BB-0CA8-494C-B687-7336642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36D69-57A0-4765-A2BD-66202AF7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4E9A-8898-4012-98CF-44309AB0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04A1-80A3-43D2-B974-A2B4B81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CF315-A18D-4861-A6B4-631E615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3B3E4-E1A3-4F9E-8D52-4590FB0D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353D-6AD9-47FE-B47D-B3B9E461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9191-883E-4197-8D44-3769E7D2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47E8-B64E-44DE-93C1-20DF8C70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4EAF0-646E-4308-B2BF-D58436B3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BB11B-70C7-41DB-BAA2-8A40FE2E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5223-3663-42F7-8AC2-2D940284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2B95-B448-41CF-8BA0-5921CF1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A4C79-D04B-4E0D-8D04-2498DB3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3FE9-A6F7-4BCB-9EEC-8FB51A2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3A5B-B44A-4403-B26C-B0F7459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5629-1199-4A8B-86F1-F53E78D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C2FAA-952B-4BEE-AF70-40A60B6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27D2-FB2B-4955-BE3E-055D0A1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0171-B3E6-457F-88FD-0E9782F7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54BEB-D14A-4F80-B317-82379575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A2999-2345-4D38-8B87-AE4F56B7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AFC6C-B21F-44B9-BDF3-76701B1E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D4455-F0E1-4426-93A6-35C70E7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8B3A3-BED3-47DE-A37A-86DF7CAC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49FB2-1AE2-400E-AB93-AD9BC616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F04F3-6AE6-448F-A4E9-246331BC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0138B-CDF5-46F5-8686-38F6703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3B0E-6D27-4B57-8C9D-54F80B44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35740-43F8-4074-BEFD-ADBBBBB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DB2A8-41A4-4043-B355-47625AE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83497-08D2-473E-ABC8-E3841CA2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F46BB-2C7D-4428-AB84-FDAB6B39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7F93-A358-4D23-BAA7-68530F1B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C75ED-9B99-44C8-B00A-46CEF580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378BD-C7AD-4BF8-82F3-34959D6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8157-19B4-4FCB-8A26-D7A70F7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C9A4E-27C8-474B-B756-65CCD3CF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554DD-7241-4CFC-AB35-910CC8B4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5AFE9-8904-4730-8A59-2D309C81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01498-8766-4DBF-99EE-C5E086C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BC19F-28D5-441F-8512-25CD45B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F1211-382B-4CC3-AC25-63855207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E8E38-7A5D-44FB-9B99-ED091A8A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DDF6D-536E-4DBC-ADFC-0F9C7668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2DAD2-337F-4834-9467-3C9DD3FE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CD94F-BD15-4B76-939F-A333D5C7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7B764-DB82-4EF5-AE1C-036839E9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44F64-C926-4815-95C8-FC33003B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A8A89-FC01-45B4-AC16-BD2A396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29296-EC1D-468B-87A8-A33579A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57146-2C63-4C01-9E33-9BCF5D8A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4592-046B-42E5-9F8A-D8E07D6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34EA1-32B4-42AD-BC27-9166504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9D5A2-C77B-4BD9-94D4-F1F3973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5C128-A8C6-4B69-A3D5-3BA081B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84577-48A7-499A-BE99-9FF59C72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32362-1537-441C-A968-1CBA169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9470A-D8CD-44A6-984F-A3A4372A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C8BFA-3C59-4BF7-BA8F-75A622E6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C65DA-62D8-4D41-8F83-37DE392B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AB78A-C333-4AC0-897E-0EC1654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DA206-D01F-4BF5-8D4A-73777BB1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5E89C-2309-41C3-A870-0A059AF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3FE6B-D167-4EE9-A947-88B7D9D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86765-916F-4EE9-8C07-EA79C9B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82B73-49B8-4695-BD3C-3240CCB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ED007-2B0D-4226-BAC5-DC8CC57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505AF-B8ED-4DFF-BBB0-0C95F147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18252-F3C3-4283-B303-B7D23AC6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0747C-221E-4CC9-BF50-E3634D94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E1A5F-E810-4474-9258-E9246802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F3DCD-9971-497E-B5E5-0147782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03EF0-DFCC-4345-BB70-B8BCF1A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E7764-15E7-4D99-ADEB-42CB7B1F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F8CE8-14D2-49AE-80DF-8E27FE61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B1C93-F24F-425D-A76C-056BC88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1A61D-AB17-4244-8E5A-2F063E4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CBD0C-24C7-44B9-8861-2C4A5CD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8B324-448A-4898-B323-6534CB0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4059F-153C-480C-BE20-4ADC6E8A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C68DB-AD51-42AF-8B80-A3842328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4FA66-0CD3-4128-8B64-0ABBF5AB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D9D50-98B3-41D5-928E-D570C5F2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BCE70-7058-4EAA-BBCC-D77483B0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28377-0ABD-4CB6-A236-B0AEB5FF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2FDAD-6666-4205-B3AF-4A16EC4D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ECF89-059A-412A-9EFF-4D974FBA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8CC20-A096-4064-AD49-E2FB3F7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D3002-A7D5-4294-A5FD-FD14B48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3E4FA-0E3F-47F5-B467-66AE73B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88FE9-937A-4003-A5F9-C21B745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06AA1-D118-47CF-A7E6-EE2E8302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89ACB-4999-4D43-A144-5D47A685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5376F-25DD-4F2D-AF75-83045846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CAB06-1EC2-498D-8242-F89E7DD1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90FAC-0D1F-4329-BFB8-71C6806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B32EE-BE21-432D-8446-24C1D22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B08A2-BC70-445C-94AC-32788590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2598A-E8C9-493F-A6C5-11C5FFCD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D63B0-E706-4C9D-BD9E-C96E19B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F2A26-1907-4EAC-A079-8735C7A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9FCAB-CDC8-4D85-9DF2-7947802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D37F5-0BBD-422E-9FFD-C27ADCD0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722F1-7AA8-4089-B7A0-46D8AB68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7C1D6-74B0-4296-A428-0280E9E1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C13CE-D2AF-4130-850E-7A462BF1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7C40B-B87D-461F-94A0-6A659965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44E42-06B0-444F-AEF1-FA1C0AEC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C1103-762C-4302-A992-2441F11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21284-8D86-46E5-A2DD-54CD036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46B5E-CA2F-4684-A6F0-161CF817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5A078-829C-44B6-BC45-FFF0827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799E4-CBA8-4DDD-90B8-E200CFA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65A5A-CB8D-4081-BDCA-BF990DC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1BE46-BC04-4121-BD52-EEF9F75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53B37-0A2E-412D-B654-3C4054D0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28584-FF09-4998-823E-188076B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95CE5-5C4B-4D4E-8BBD-3A53693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8B21C-67A4-4996-A0AA-93A79FA9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BCDB3-CDDE-4532-8C49-AAEAB24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22530-6D0E-4B87-90F1-DCDF665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E1BA2-6885-436F-A78C-6796EC24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EA76D-AD94-4A11-8FA3-0A129884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4BE07-841D-4A80-8FB5-06281E7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78D91-99F8-46A3-AE76-2CD97B9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72088-B382-4596-8E4E-02C59C3E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8002F-EFB9-45E7-BD5B-73CFC474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E36FD-ADB8-45BF-9BD4-34D13943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086B3-DB3B-486E-AA08-942D3118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5A302-A502-4DDD-802D-6AD150F4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74C87-1A90-4DF6-ADC3-AA8D7DE5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10652-E2E7-46FA-9D29-0C9B6AF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6741F-2B76-420F-9ED1-5ACE7E82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15351-B821-429C-B0A8-094AFE4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E7321-3199-4001-B493-51F53C2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CBECB-540E-4944-A698-F32062E3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671A5-1393-4A94-858C-650351E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B7FB4-D0CC-4E93-900D-AE5520C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61F-9EAB-4EB4-9A2A-3D9C43E3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675A3-A9E3-4E3C-901D-DD6CBBFA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5560F-71CF-4D31-BF2B-7F24AA5F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3A818-3D49-4F93-85E3-4AFA692A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6A0-3A31-492B-AA83-94829398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793C3-DF03-4E4A-89B7-71DC8D3C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F3ED4-9DDE-4E0D-A492-6B15349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22F45-BF78-42CA-88E4-98588C0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A0323-6C61-49A2-8BBD-20277E6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FA32A-C2A2-49AB-8C1E-3FC8C5B9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27E-CF07-442B-8BC4-FD9B414D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BBEFB-4ACF-43D2-8E7A-5C289F9D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BE506-448F-4518-8852-553F269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5DA59-1CA2-440D-B40A-3C85459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FFE94-920E-4CE6-92DC-15EB8AE2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C4FD4-2354-4399-A2A6-2301BCE1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DE277-EBCA-4B4A-AA73-EA05ACFE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0780A-A8BF-4597-8257-549F0794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A649E-B7D1-45D2-9DD0-14383555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4FA90-2BB7-482F-A7D8-4D8DC37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A487D-4C0A-404E-B963-19BDFDDF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9D2-33A4-48B4-9D85-8723F748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ECEE4-1863-49B2-82D7-77A94CD2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B8236-DEA6-44DB-8FDE-F30A1342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114E63-EF29-491D-BF92-BFFCC0D3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64724-380F-422B-8852-59D0469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EFD61-07F3-4A48-88DE-618D82D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05ACF-ACE1-4B68-BDAE-FE56D62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4F8D0-CA7C-4B01-B278-8009534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0DC00-D382-4E7A-AD9E-478486C2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12DD0-C6C8-4913-B8D8-74C6A42A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08003-73B6-4AF1-83CD-8086ADF9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540-89DF-49AF-AC34-BC5FE857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814E0-2626-4750-8B03-73FA186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3EC7D-B774-4221-8755-FF59FCDC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78BA0-25AE-4333-9D0F-BE2D1BEB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B8766-468D-44A3-9A80-E7F2F9B7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B3DBA-A93F-47B7-A66C-73BDD0BC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B51C9-BCDF-4484-A064-99074CD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89B678-E226-4ECA-A158-2192CB2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60620-DE22-4FFF-A605-4C5F0C7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8570A-7C5C-47AE-9C7A-8DE375A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2A330-28D8-463C-A3E4-9A357136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3C1-7FCC-47A3-B0D9-93B1360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C652B-373B-4E07-AB0E-0E51F4F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4027C2-BECC-410D-BD02-A5A79451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33939-437E-42E7-A810-6FBBB7D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FDA85-29A2-49FE-9F9B-1EA04EAB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7A16DC-6CA6-4F4C-A691-C95A39A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3EBF1-366C-42B3-9134-ABDDA29E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70003-5C90-4997-82EB-B78FA10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C6E902-10E4-46C7-8863-CABB50C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26AE41-F462-4651-8EED-626BC00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6DAF68-711C-4C61-8837-8A53BD0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64C-07E6-4B3F-AE3C-CAFDED1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10B4F3-188E-4ACE-A6F7-53131C74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A03D0-1019-463D-9CBD-F4C9445C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94B98-9897-4210-A2BB-909D9B77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9FF02-3C48-43F7-9736-28244326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87E95-526B-4092-9E86-043A90D1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C0F161-3006-4B3C-A0A7-79A327A1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A1605E-5F93-4650-AD2A-000E1D61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E945C-AC4F-44A1-B7A1-6191710A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5C6A16-967B-4243-9472-7FB881F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C3A4C2-AB2D-4C52-A689-3125152C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FFA-12C1-4CA8-BD67-E94E57E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9FDA6-3563-420F-9D93-472C34F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E06CC-9A31-4C23-9246-A88A0B0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C363B2-AB41-4661-92C9-1CCE5A2E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C19866-14FC-41B9-9B7D-D0D0788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97B11-06F3-420B-9BBB-8D093696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44BE46-6881-4EA5-A3B1-C8A88ADF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ED3511-1D7B-4749-96F3-33E37040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CAEDD7-6B09-4D41-8FBB-3C5DA9F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78CFA2-CAF4-4200-87D1-5707B5B0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CCFF81-26E7-4944-A648-A11764A8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5D7-B33E-42E8-9243-66CB798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0E26AB-32DF-4D0D-A686-AA73E90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56714-476B-435D-8C3A-7D3A2AA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2F6808-1013-4DC5-B783-EDEDFE62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D35153-1707-46FD-A515-A6B9371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8D6074-C03C-487E-8D7A-ACF40B9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FBB076-F93D-405B-B799-1DA8F968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0DD8B5-174B-4B51-82EE-98F72447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5723D2-3480-409B-93DD-D448893C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6416AD-751A-4A56-8057-B2B525A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5F4DFE-D477-4F48-A17E-2A5678D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70B-7F4A-4059-B536-82EAD74B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E2F31F-CC9F-4B3E-B091-A73C734D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C877BE-161F-4675-9DBB-65E1744C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01B2CB-C71F-4137-8588-AD5D9BC9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010137-0ADE-44F0-92F1-FEE6E315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7B5E81-1009-40BA-B9A8-1973968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D1E664-B3F3-43E9-95C1-26E6CBCB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14C79-8BB5-4473-AD6F-B643F0B9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16F19A-3C53-4A3F-8EBA-1B54F152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1947E1-63BB-4F77-AA10-7018E72F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49BF28-FA66-4879-B5DF-D335EA28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FFD-8E41-4106-B20C-23151530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EBB23D-F95C-43E4-9D34-678224BD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CEA962-788D-4495-9FCE-C8AB732B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B85742-AB63-4D03-8BC7-7F58E72D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42CACB-2018-489F-B434-D0EC0DCF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5654D6-E5C2-42F2-B910-AC5B5C9F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BC9B50-7ED4-4405-9266-B2B4D79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2AEFAE-A604-42A4-B588-89A84B5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906C9B-9D4D-421C-96DE-838662D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B496F0-B847-4A43-B290-A56D4B4C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43CE41-CE17-4A71-91C5-2544AF9D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1E5-57F6-4C52-B4D8-AEE63FDF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9671AB-961A-4B15-800D-11CD6639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A8661F-CE4C-49D1-B335-C5D34920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0EC997-37B6-46C8-9C74-3EE1F9D6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2114D5-A22A-4667-AB33-2E89EDEA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7DBD5C-CA67-48C5-9078-17ADFB4C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887FB6-61EF-419F-952B-81C0EB1A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D3F776-8C1C-450D-BC7C-F31FC2E6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DFCFF6-8719-41CF-B5FC-2CDB5B7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41A7CD-AA10-458A-8C88-8177B3B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C07249-15E1-4E19-8AD3-D8ADB80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9841-2580-4A23-AC8C-5124A4AB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BE79B4-66A9-4381-9AD7-D5673DD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E50383-CBEE-4124-A9D1-48337EDD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62BA99-B6B5-4ED4-BBBE-876CCABE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874528-E808-409D-99AD-689E42D5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68E83A-CCF9-4159-808B-A8973624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62500C-8525-430D-A4E4-A95F71D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DF90C1-9E3B-4DEF-929A-3B45B7C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67EB89-8A63-4507-B092-01126D8D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4D6065-BD56-4418-84FF-B20CF67D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E96F8C-1DCF-4B99-B438-680279D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5031-0F37-4D72-BF34-B1132A7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76A567-BF10-4DBD-B998-EAB7BE0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25F97C-702A-40AA-8638-C1C6C5B5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00AA76-68FE-4B2A-91D7-3342602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B6B907-4DFD-4197-952B-C3088DAB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D78C75-B1DB-4DC6-A113-BD0964ED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9EA546-8903-4FA6-BDD0-9FD4A835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2A75BA-C795-40E6-BDC3-ACCE96B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93202-AF5E-45DA-884C-3B9EAAA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8D1DB9-76E6-4F12-9406-2776B8F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A67042-1F64-4102-8D85-8465D51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109F-7453-4F06-8E5C-7481B66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A30D0A-7C26-47F0-BAB5-0960D45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7E642F-BDF5-4224-AA36-7A336B88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C56B77-D66F-406D-81DC-09A6FD77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FD8B19-A4E7-4BAF-900A-6F69D91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A3CD69-A12B-4D0E-9DCB-1C6F8CE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9528AC-C0C0-4AB6-9611-7B0221C0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E9C89C-76A8-4899-8123-250C0187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BC475C-7939-4608-8ACB-5496F4FF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1FA835-0882-4398-96D0-4F9EE86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77724A-5B47-4AF7-8894-45AAD2E4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BE62-6D6C-4422-BC8B-B110B877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860C6B-DF20-490A-8B14-35AC052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297742-6150-4110-9FF5-C2C8FD83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74ECD7-F392-47CE-A2FF-E150C5C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23DC1E-E793-49E4-AA1E-19EE6746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3439C3-5236-487B-8D75-178B479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47B516-1482-4DE7-917D-79F3244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9E23DD-B6D1-4EA3-840C-6D69230A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DD2797-B53B-480D-B34D-5082200A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1952F5-C1E2-415E-9CDE-9536DC88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FEFD08-6D17-4989-93E0-96F98946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057-4B68-445E-9A6C-B273CE5B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FEB877-4FBE-4168-B2CC-B85B4350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4C8A44-7F69-4103-B945-7AF0C5D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DB418B-EF14-4F3F-8E2C-BAACA789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0CEDDB-8685-4F02-9705-43A3DB54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E5930C-0AAE-48EB-B473-7215EDAC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903D7E-8106-4132-A6CF-5AD26A9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57E18A-F835-4DD0-9DB0-D5E4421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1B57B9-AC85-47D7-8FC3-EBD9EE0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376A21-4C07-4FDE-97A8-A86FD2C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4CF7FE-357C-46EF-B5E7-93EB2428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B55-D623-474B-9458-6A7F624A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E86806-C63A-43C5-A5B0-2DFF80DA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4A4-4401-48E4-86E9-9614E8B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3BDD83-8C34-49FA-9EBD-424B1F0A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E21BF2-D8B2-4638-8F77-9B4A8749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2681D0-ADF7-4376-9CC1-C016F51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8BCC7F-0543-4B9F-8757-099A9EF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AAD67C-3A19-43B2-832B-A0D95D8E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E5DC88-5F80-46A8-816D-04D6426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90C8C7-A837-4865-AF76-026F5321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F41-8084-4CC3-A03A-07BF76B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54BBC5-CCC1-41E4-8D2C-39901AE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498869-0693-4899-8CAB-5268017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8A879A-6632-41A4-BF5F-4F412FEE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DFB112-682D-40D1-83CB-B1956E66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BE28D7-7E9C-4373-A65F-7FE451D6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0CA55C-E9C5-49D6-BCA3-E46A02C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4F5B44-9516-4B17-B8D1-402988E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BE8126-25EB-4667-9479-D14813C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B21AFC-A362-4A18-B061-30D4DBC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8B1AB8-FE8E-4CFF-A583-BDCABE5D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7A2-5381-46D0-B1A2-A2A6BC7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15B8F0-5FE3-4774-92BD-AE6553AC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F5307A-76B2-417F-B9C1-5139E61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17E70B-208C-49EF-940B-6E3BC17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9004F0-08A1-44F9-94F2-0186BEC2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8305EA-8E0F-466B-9AC6-2ABF70A8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E1E783-E65E-4B3B-A079-D680C170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E40558-390A-41D0-B31C-FD44708D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90C879-3048-48A0-8FB7-81F0CA49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AF3240-592C-4D45-8263-B6CF914E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22EFA6-6FCC-4511-9E09-3DC2089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82DB-184B-4897-88CE-02DDA66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E0E5DA-ECCC-4D0D-9766-B2B71EA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15C613-83F2-4858-85B7-5F2E788F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7B0B6C-5419-4DE6-8AA8-BAF657B7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66BB87-C94D-4817-850D-9E5462B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D03F66-3B8C-46AC-A600-EC6F3D8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CC8BEA-87BE-41D8-AB3E-E052723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000938-5896-416E-B03C-EFCDE106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1E216C-5005-4351-B898-88EF8045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B05312-A08C-46C4-9A60-E6C91A5F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384FFA-8DE3-4347-8CAB-3592EF07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7CB2-0F57-4216-B7C4-B3A3B642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E65B71-58D2-44CA-838D-E87D2B52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624CF4-335F-456B-8570-6901CE40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83E59B-10D8-4605-A178-17D007F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04D49C-A5BA-437E-BB3F-E7A37A35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6BBE6C-8D5D-4D25-AAB7-722E0D5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4E23B0-C63D-45E1-909B-F380A80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599188-D823-4212-B738-D96E519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62B39E-1702-41CC-BF75-3A0D64A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3CF678-9FD0-48F6-8488-C8E2EA32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6F7F46-42AC-4990-A6E3-27D8F273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62A6-A4F0-428A-8F8D-20FB3DF4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4DB0F1-C8B4-4206-872B-575BAE9E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3BA2D3-9223-4560-A0D1-1B6A384F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D35A2D-9E75-48E7-AA95-8933B6AB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2AFAC2-514B-4665-B46E-2CE6C70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47A0E7-8297-482A-9702-93CC6B46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FE9D34-9EF8-4B4C-9247-6994E52C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14A434-FF49-47F4-9AF2-0CE5D79B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2980C1-6D61-471A-B817-4408C2B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92D880-DBE6-4B0C-82F9-2678E18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364636-1EDB-4A7F-A360-DEE7D88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204A-A0D5-4D3F-942A-4CA26360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FFEE19-C62C-42E4-B16E-0033983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C1E7C1-0597-4A59-AEFA-B5B3ACCB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5B0226-861E-4150-AB25-0726FCE8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EC933E-0178-49EB-9780-3663DDD0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EA3F22-9043-453C-A645-30CE116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544045-C2EA-4BB6-B885-93AD71D5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955AC7-C624-48F7-8C98-5C0A1962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99A030-F0F8-44A6-A7B6-DA443E0F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8CF601-240D-4136-A0A0-0C913674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E99801-1B3C-4A4B-8364-31DE3ECF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1150-0E05-4B7C-8019-A1D3C9DB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CC969B-AA66-4CAD-ADFE-D2EC36D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251A20-A90A-4862-89AE-A38AB96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4BA590-6DEC-479F-BB1E-1AF1A11B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04C13E-6CA9-4B00-AECA-9EA3DCF7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F7037D-30D2-4DE2-BE4F-63167BBF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14AD00-DAA2-47CE-9306-CC82C79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75416C-0956-48E0-AE6F-7CF7766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0609C6-264F-4A59-8151-658B0F8E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D4B0FC-3404-485A-9AEA-68E94F89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AF90F8-D736-40DE-B91B-D9EADD9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CF78-021C-4678-ACC4-00E87B67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953DD2-1C09-4D78-908E-AF8D2D4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D9F2D8-53E6-4621-B514-1DD553B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052CDB-04AB-4C3F-A04D-0334D74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71E9EA-F1FF-49F6-88CE-D85A4C35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B08528-F65F-412D-A563-E8E78C6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400471-8566-4DF1-90C1-525BEE75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C286EE-E38F-4F34-A93A-6B8AFA16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8F2211-3EE1-4258-9433-E4FFD139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61BAA2-482B-4749-99BD-C615F26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E6C6F4-F467-44A1-B9AA-553BA7E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3A2A-29D5-4D53-879F-17D03D4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22C9EB-4950-475A-8BD9-7B2649A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73735F-2E2D-43F6-8593-740B5AE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263224-FE21-4570-A81D-FED8D44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15FCA4-A41F-4717-92A9-2F6412B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D9A7DF-BCCB-45DE-8FB0-0192AA47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A41A4A-C962-4139-A59F-F324C53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BD8217-2A35-4C1E-A586-F63A023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FFE0EB-038D-43B1-B473-BE139C2C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932C53-7C45-4597-88C4-64C9A56E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53226D-BF4B-4C3D-BECE-7EC7055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1916-D158-4471-81E0-7EE4A00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1F8DFB-E093-4536-B661-414540B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AC1232-B369-435E-BCBC-45C8E86E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CE5EFF-B0AA-44CF-814B-87FC0EEA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73678E-571D-406F-844C-371C7E1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1B5029-BF80-465C-9137-1DF293F0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BC1702-3B49-4E8C-82C5-D6DC4719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6CBEF0-8DAE-432A-A180-7DA7152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B77858-B708-45F4-9D79-7BFCD1F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A32417-207A-466F-8DAC-F975ABF2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F29869-1C99-4AA7-B989-8EEA50BF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4218-7C78-45E1-A3B6-6976DC9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B51F4F-E65A-463B-8CAF-4FE9C9D7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0B1529-B296-4A76-B878-60494DC1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8CAA48-751C-44CB-8524-4277345D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3EB998-687A-4E6F-AFD8-7F903C06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A771EE-F5BC-48C9-AC25-03135537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D00A33-94E6-459D-AAEF-5C6FEBC6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610201-504D-40A2-8C7B-98F06DDF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B1BEF9-0667-4468-89E2-667CB75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CDBD3A-30A0-472F-84FD-E22D3A7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EE90D0-0802-4679-84FF-89BFA57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B9E4-BBED-4EA1-B38F-1AB8A10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53FAE2-2FAA-453F-8F36-93937887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67B7D3-EA6C-4FA4-A996-ED77AB66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7C91CF-05F9-4342-86F9-5192EC6F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434CFB-713F-4DAE-A63E-7BD2C419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FFC368-A560-4D13-9B80-331987CF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9FF5DA-2BCE-44E7-9001-ED78E63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FC370D-061E-4832-9EAA-13CE6C6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99408B-BA33-401D-9DF1-46C7759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4F43BC-B2C8-400C-B00B-058C9FBB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1064ED-EDB6-4C0A-8DBF-FBC3E2B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5452-22FC-46E2-ABF8-2AF0EBD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8F2322-BA63-4D63-9F36-1E2CB78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13645E-4994-40F2-8173-659FEA12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D7D32E-1C2A-45CA-8808-EFC37FE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861201-0651-4137-A32D-644D9107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A5761B-F713-47A0-9F4D-C59AC48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E6BEBE-454D-4483-B157-BF0CAFF8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4F2811-1452-4B6F-A63A-A591D787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9C5655-C7E3-42F1-BBCC-2220F0D8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59E61A-76D5-4678-816D-12CD58B7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017C82-85D4-46F4-BE68-35CAD5F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683D-E078-4908-B2FB-FE8C51E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A60897-572F-4F8D-B7E5-F10C640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9776F5-AD36-4E56-8880-BF2CB81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ED3D377-AAA8-44A2-B78B-E84534E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B72CD7-CCE2-4BDE-A201-65D80D3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FD7D71-0670-4182-BC57-70A6987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AB395AD-76CE-4116-9093-BB09E02B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91AA68-8152-4656-B7FB-64D30B63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DA1787-ABD5-458C-8D33-44F494AE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3C4001-180D-4FED-92D7-E5DDBB38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90F2A6-0B5F-4EC0-986B-AB75D5A6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98FF-0F5E-484F-8FFB-5B334FA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127C77-0A51-411C-B0E2-100E77EE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4107A6-AAFD-413B-A076-859305A5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ABFC8A-3B20-4F0A-A94B-2B69FFF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E7B360-4C51-4AD5-B945-C5F6000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747C40-A772-4BE5-BC83-BC8A597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E74D6F-F700-4C57-99DF-DA36BF2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1DED80-D03F-48F9-B122-DD61DC6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EAD671-AA40-44FB-B5C4-444BCFDA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23111F-3589-49E3-8E25-2541AD8F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2749-8645-443D-827C-C3A94AB9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07BE-BA9D-4234-9519-5757AF49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1F125C7-3D9D-4E3F-AD3B-AE374BFF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A204AB-FAA3-4B96-9E66-DEF28924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176A89-14E5-4BF9-A021-4C113357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8BFB7C-A488-4E25-950A-34A672B3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3A0224-9BAA-428D-A361-3825802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62D470-F7B2-40D5-A2A8-F3EF20A9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D2FD4B-B5CC-4E8A-B116-569C5D8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52F7FCA-7A4C-427A-BA5D-B79417E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B9377D-A908-4D07-B19B-DE11FD6A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EF79-7D20-45E1-8CEA-D15B522E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DE536D-57F3-4AE0-B54C-A01118F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10E33A-A096-4522-8F5C-43381697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211650-5F80-4A7A-A6DC-EC9F71F3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DAB6F2-F5F4-4C64-A831-3BC01CD7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282680-20E3-4F76-BD04-089F0A0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9960A96-379D-4D30-85E8-72BA179E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351E31-7A23-485B-83CE-73659CD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6F5CD1-B0BE-40D4-91E0-0D5E5B96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5AEA9C-D30E-4336-8693-184F30E6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E24B3B-6354-4244-9660-9D1E839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5F3D-92CD-488F-AB2F-2790B468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3A99AE-9CAB-453A-9D92-0E29F2F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FB8005-C3FE-4951-9208-15A6AD8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21926F-3E88-4B0C-8C77-B478BC72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A21EB8-66F6-4BAD-AD5D-67087B10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7BC9FA-6365-4E66-B39A-72AA00D8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F8B56A-749A-490A-BD6F-9F33EA88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2F71A6-FF78-4C9C-B80A-46D1EE31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4CA960-2F4F-456B-8E67-90EEF21D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E1061B-2B89-431C-AD1C-BA66F114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7BDB48-3B2C-4A52-B3BA-AE9B3D1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3E54F-92B2-4E18-B81D-0CB1F825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B9CF99-0D74-4860-8E29-2B4DB691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45EE063-9B15-4002-A63A-11F355A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036B92-B547-4B63-9F7B-B9F8B00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5F6D53-4628-4449-AF6B-D8C33BB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985926-9DCB-49FB-B754-9EE89B38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9C9B57-15D6-4D19-BD99-1DA83614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2A2123-28B4-421F-9843-3FC97ED0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23EA79-DAEF-4F02-BF05-395A405D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1C0848-09D2-41EE-A9BF-D56AB04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6C4940-A00E-47AE-8BF9-65F9F28E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CE2C-DB9C-4C07-A040-39F353A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BDA9AEB-1EC4-43FA-B575-5CDFB524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913860-C5D7-4426-AB54-0933CE91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0170E8-7718-48F2-B20D-9FA30E44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34F2F4E-E94A-4167-B452-EDCAFFE7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478656-1149-4045-BA5D-B1A82BE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B014D9-BCB9-4B04-BE5C-2105251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08D9FF-D53A-474F-9D1D-A14E28E1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703572-8E66-440B-BB63-2D039132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923730-B788-4C44-BB50-291401AD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8858EF-0B4C-48AC-9388-010A41A3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AEA5-26A8-49D7-A199-501881A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A031A2-DF5A-4B42-B323-FB76E0E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22FA6DE-8210-46C2-B2D0-D3251EB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025472-1F69-46C4-85F6-2F5A2AC5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7E1329-3830-4744-A9DD-6E93B052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7273F1D-F4B9-4426-9D82-9EF32FA9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5010C4-74EB-4B0C-8971-0E79DCC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91DD1C0-DE6E-410A-9123-5EBB010C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05C327-CDFF-48FA-AE4B-00224E8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BA9F232-7D2D-47B8-9D4A-AF98F943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0BB943-6710-418C-BEC9-A66EF75E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D26C-73F1-4EDB-ACC9-7055715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B1CC2F-C1D1-464F-9116-1732BE37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D2FD0D-A79E-4DE3-83B2-13F0C902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B3B9D0-6202-4A29-B952-43BA9115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C6915A-BAD2-463A-8345-E8A7A77A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1DCEE7-7428-4FF7-9067-FE354B45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37580D-7C3F-4411-817A-FDE0BD18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858F07B-4FA2-4604-ADF7-7676BCD5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0DA5CE-300E-484A-BE11-9B0E8BB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F51433-DE4B-4C29-806A-150804D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0FC61EA-41A5-4DEC-A5DA-5076C7D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D703-7208-43DB-832E-677FCD4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679632D-39F7-489E-B3A4-0D46E6D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B6B505-E35B-4EBE-B7B2-BF6AA13D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1FD89D-807C-4BBB-83F8-84507968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B29EA2-E9F4-493E-BB27-06586A4E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345D5D3-278F-450B-A263-7A1EAE7A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7857D3-6858-49EB-A673-04397C89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417D1C0-503E-448D-81A3-E173E44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192097-C463-4DD9-A0A9-70B07D4D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C33669-8F97-48F5-A94D-F1E8DE0D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07D4DFB-4D33-4D43-8805-44D0328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D07F-A530-4738-8BAA-677D791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1696E04-40EE-4E7A-823D-2674A15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097CB9-E989-4EEB-9A2D-DA3884C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86BF913-3BD8-4530-9E77-157F2BFD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AE54DA6-6E1C-4336-8896-2F043D20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6348E7-E357-4EEE-91B6-AED01AAC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644F2E-1E3F-4B9F-9FA3-B7CB2850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05F3E6-B393-45EE-8C2C-AEA741B7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F138C1-0D8E-4E4B-88C4-B5B22032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AB198DC-6E41-465A-9C00-56953DC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ECA599F-E6F0-4E28-A135-4037E7C8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D9A6-3F26-4C28-9212-7A982F00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FBF374-28B1-4DC7-A9C0-B1518395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4E199E-1BBB-491F-BC27-4E8C037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76AC39-F3B2-4463-8ED1-A965D89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036F17F-CF9C-4A57-BFB1-03BDEC1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11A9F97-C3DA-40C2-9C2E-B687D972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6235CE-7608-4994-A845-9B29284A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4A6B9CE-12E6-4832-AB92-A315898C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040E6FC-F5D9-47A8-A9DF-108BC37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6D43E1-1631-49A4-AD2B-18BD72C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696E46-8FE7-4121-AB42-1479780F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23F5-DAE9-464D-AEFD-84991C2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E7DF1B-3651-4BE2-8563-EEE91FFA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6D5B899-1E37-484A-881B-6627055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B8BF2E8-2695-4DFD-A75F-77349FD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C62937F-9181-4910-9C51-BC751D3E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568DD8-37F4-4AC0-8D6C-18650DF6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0C991A-3D47-4FF7-98E4-08CE4F6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A1BD4A-4C8A-415E-A809-DE606C8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E19711-4DE6-4022-B851-A6EE7A9A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498DF6-C83B-4C36-BF89-DCB275F8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69FCE7-4C97-4F45-9A96-DEE8EF8D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4862-F0BE-4E37-8686-57B01141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5A3CF1B-69A1-4730-9250-0314A63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D6D09E-2D1E-434E-8AE0-B4217D1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04DBD9-113C-4CB0-BB2D-3AC429F8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5F0828-C991-47D6-A733-69F4CBD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E744D63-FF2C-48ED-B5A2-90CE945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D97CF8-F06B-498A-9C33-6FBD25A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3F0677-1FC6-4B20-BD3C-F8ABAE6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4D24D8-C294-442E-9C05-85A4E72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DE7805-9404-4D0F-971A-4AF4CC9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C55EFE0-B422-485D-9025-1D09E1A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B4DD-DC60-4445-AB22-1D798941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F80658-5A3D-4325-A670-EA132D55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E38F886-543A-4BCD-904C-FA7A5A8A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5F5EE90-5C44-4798-B595-4CD4EBF2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E2106B-7C66-4DE1-8904-0AD5572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837712-B22C-41C1-8288-05616074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DDB7F4-AF67-4D94-A1E4-D29C0F2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DE9119-B3DA-4332-9987-59BC3EE4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FFEC3E-D963-442E-888E-852DA6A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8D2E55-B195-4CD3-9FED-F1D9AC0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CF7B5CE-EE9F-4335-BD52-DCC8E14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929D-5760-48E9-A40F-6C8B6FA3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B15E702-07FE-4369-BE73-04F68F51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11AEDE-20CB-4A30-9C9E-F3B82019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CAC4CDA-8D7A-432D-A480-B11975AC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F2660D-E680-4A50-9A56-81D70659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9FDD1C-F945-4A7F-B7C8-BA90F090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C17755-3FB0-410D-A734-D7F979A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9C8DAE-DA4F-4E62-A905-9AAE1D43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17BECF9-162B-47C2-8BA4-7BF8A54D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033B3F0-110F-4636-9D6F-549892F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4EC425B-F738-4F41-A607-915C5F1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00F4-F139-4837-9625-D03F3B80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BEAAB5F-8D87-4DD9-914D-854D6FC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94D3F1-965F-4AE5-9B67-4748D82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EFBEFE-3EE3-49CC-B863-09367015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548E65-860A-4500-ABF5-30E1C3D5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F75C05-5BE8-44C7-8B84-FA15889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A90B-974E-42E8-B53B-689FBC7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1D61-6F8E-4BAD-9F6A-C7AB4F2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18D2-FB77-4BCB-9F76-4A25BDC8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6CB0-75BF-48A6-8703-4D8190D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DE21-6383-4362-8278-560A911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07A6-B0E5-4D5C-9334-B4784B1E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B17F-EC76-41AB-B620-6A39467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4A06E-0ACA-4AD6-B045-E81C916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1013-CC38-4FB1-8908-C103E25C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F191-6AEB-448E-99B7-2C322312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8C24-F74E-4AA1-8615-12FFEA13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A79FB-EEF7-4ECC-902A-52899AA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4E05-E0CF-49FB-B607-97BEFA8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92C-A6FF-40D5-9A5D-07CEFF7F71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77F-6109-47C2-8614-0056839EBF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DED5-E584-4EAD-943A-C2A5DE03B1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30D-9710-4C31-AACF-9901507035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BD97-A71B-4E93-9033-A2B9663BE0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C7E-8A20-4B1D-8E03-09586C3F3C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9568-4A15-47BF-BE9F-CB4713D86B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0FA7-2934-450E-BF49-CFE8625A5B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9E32-2D4C-4838-8960-574C70BB60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6E3-72D4-47E8-A81F-215A72C89E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BF56-7891-4361-A1CA-E9DF9BDD20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FF3-527F-438E-B4BF-694CE21142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69D2-EBC1-4AC9-9047-763CCDDFCE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E24-3BD8-447C-92FA-8585C3D19A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8273-8BAF-4266-99CD-4C42841E77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2146-56FB-4335-8BAC-5B808B8FD8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961B-A0BE-4220-ACA5-55C4CF7CD3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7E2C-4C01-4B90-91B1-10CE7C2E50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550-109E-4885-8F73-F2747AAEF3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FB6-FDA9-48B7-A93A-E35EDED18F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E728-38C6-4DC0-94E8-BC8A7A7332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7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8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433A-4EC1-4C71-9731-FBEAC38C8C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8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8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CAE7-C83D-45FE-8188-A5F7BF36CE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8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8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7DA8-AB06-48EF-8690-0F9B358710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8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9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5A4D-B301-41A3-962F-6B6D671AC1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71A-C68C-494C-82F3-AD5A57A723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dt" idx="9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sldNum" idx="9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B0A-004B-461E-8822-31D57D66DB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9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 type="sldNum" idx="9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C04-845E-422D-91E9-E8DCA8F4D7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DCE9-C9F8-4B7F-BE82-87945E1DBE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59CA-1389-44E9-ABBD-5E6A6294B0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dt" idx="10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 type="sldNum" idx="10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4AC9-24DE-44B0-8D6C-084365F200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0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416-6CD0-41C4-865D-B3D2246905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10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1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11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FE11-B4A0-4C53-A1B3-DFF2B577E1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11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11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E187-AEE2-40E5-B988-ED7D67AE69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 type="dt" idx="11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 type="sldNum" idx="11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C9AB-F893-4CBD-BEA3-64EAAD8949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99B8-947A-46CC-B5B5-4A8FC78F8F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 type="dt" idx="12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 type="sldNum" idx="12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A77-09CF-4FF2-ABED-C3A8301F7E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 type="dt" idx="1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 type="sldNum" idx="12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48C-830C-4CEC-BB04-B6B9920566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 type="dt" idx="1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 type="sldNum" idx="12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4218-FAE6-4757-BCEA-8FC8CE6754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8C0F-AEBE-4178-8A6F-DECED7DC18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31E7-1189-409E-B8D2-83FD2A9E6C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 type="dt" idx="13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 type="sldNum" idx="1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5BC-E6AA-4A0C-88F4-BAF14E3A8C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dt" idx="13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 type="sldNum" idx="1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A18C-2ED0-45CA-9112-C728B86633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 type="dt" idx="13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 type="sldNum" idx="1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7AC0-52DF-449E-878C-E80E2B4C71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dt" idx="14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 type="sldNum" idx="14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D5A-2554-4FF7-9258-0B84831313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 type="dt" idx="14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 type="ftr" idx="14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 type="sldNum" idx="14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C08D-1567-4941-B641-D1F42325B8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 type="dt" idx="14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 type="ftr" idx="14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 type="sldNum" idx="15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B143-C75A-4E16-95B2-154165CAE5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 type="dt" idx="15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 type="ftr" idx="15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 type="sldNum" idx="15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4C7-D765-42E9-AB74-C9A314A06E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 type="dt" idx="15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 type="ftr" idx="15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 type="sldNum" idx="15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071-C110-4165-AE82-2137F493A0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 type="dt" idx="15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 type="ftr" idx="15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 type="sldNum" idx="15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E393-186E-4D73-9996-3A89510A3B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CFB9-1DEF-46AE-B67D-74EBE53F21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 type="dt" idx="16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 type="ftr" idx="16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 type="sldNum" idx="16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423-7A25-46C1-A860-C93798B9B3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 type="dt" idx="16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 type="ftr" idx="16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 type="sldNum" idx="16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A702-5557-4385-8B38-873C793992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 type="dt" idx="16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 type="ftr" idx="16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 type="sldNum" idx="16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9CFC-83C4-4C63-8C82-BA975C99F4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90D3-473E-40BE-80CD-339768FCA3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ABF6-901F-4195-B119-C8F25D0935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8" name="矩形 4" descr=""/>
          <p:cNvPicPr/>
          <p:nvPr/>
        </p:nvPicPr>
        <p:blipFill>
          <a:blip r:embed="rId2"/>
          <a:stretch/>
        </p:blipFill>
        <p:spPr>
          <a:xfrm>
            <a:off x="1474920" y="444600"/>
            <a:ext cx="4005000" cy="1596960"/>
          </a:xfrm>
          <a:prstGeom prst="rect">
            <a:avLst/>
          </a:prstGeom>
          <a:ln w="0">
            <a:noFill/>
          </a:ln>
        </p:spPr>
      </p:pic>
      <p:pic>
        <p:nvPicPr>
          <p:cNvPr id="2529" name="矩形 9" descr=""/>
          <p:cNvPicPr/>
          <p:nvPr/>
        </p:nvPicPr>
        <p:blipFill>
          <a:blip r:embed="rId3"/>
          <a:stretch/>
        </p:blipFill>
        <p:spPr>
          <a:xfrm>
            <a:off x="5619600" y="1200240"/>
            <a:ext cx="2951280" cy="19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Rectangle 5"/>
          <p:cNvSpPr/>
          <p:nvPr/>
        </p:nvSpPr>
        <p:spPr>
          <a:xfrm>
            <a:off x="501480" y="50148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者从哪些方面证明“无言”也能产生美？主要运用了什么论证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文本框 1"/>
          <p:cNvSpPr/>
          <p:nvPr/>
        </p:nvSpPr>
        <p:spPr>
          <a:xfrm>
            <a:off x="530280" y="2870280"/>
            <a:ext cx="802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者一共从三种艺术入手，运用举例论证的方法证明了“无言”也能产生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文本框 2"/>
          <p:cNvSpPr/>
          <p:nvPr/>
        </p:nvSpPr>
        <p:spPr>
          <a:xfrm>
            <a:off x="173160" y="1114560"/>
            <a:ext cx="8970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文学作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含蓄之美凸显无言之美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音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的“无声胜有声”论证无言之美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雕刻艺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低眉含蓄不流露来论述无言之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5"/>
          <p:cNvSpPr/>
          <p:nvPr/>
        </p:nvSpPr>
        <p:spPr>
          <a:xfrm>
            <a:off x="490680" y="1903320"/>
            <a:ext cx="81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请你结合作者的任意一则论据，说说你对“无言之美”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3" name="矩形 7" descr=""/>
          <p:cNvPicPr/>
          <p:nvPr/>
        </p:nvPicPr>
        <p:blipFill>
          <a:blip r:embed="rId1"/>
          <a:stretch/>
        </p:blipFill>
        <p:spPr>
          <a:xfrm>
            <a:off x="1457280" y="-201600"/>
            <a:ext cx="6394320" cy="2773440"/>
          </a:xfrm>
          <a:prstGeom prst="rect">
            <a:avLst/>
          </a:prstGeom>
          <a:ln w="0">
            <a:noFill/>
          </a:ln>
        </p:spPr>
      </p:pic>
      <p:sp>
        <p:nvSpPr>
          <p:cNvPr id="2554" name="文本框 1"/>
          <p:cNvSpPr/>
          <p:nvPr/>
        </p:nvSpPr>
        <p:spPr>
          <a:xfrm>
            <a:off x="450720" y="3892680"/>
            <a:ext cx="81234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正如作者探讨文学作品时的数个例子，诗歌本是极其简短的几句话，但是其包含的意境却是极其宽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文本框 6147"/>
          <p:cNvSpPr/>
          <p:nvPr/>
        </p:nvSpPr>
        <p:spPr>
          <a:xfrm>
            <a:off x="541440" y="0"/>
            <a:ext cx="814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“大漠孤烟直，长河落日圆”，言语只有短短的十个字，但是读来却似看见大漠的一切宽阔宏伟之景，一切悲凉之意，给人以悲凉雄壮的美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图片 2" descr=""/>
          <p:cNvPicPr/>
          <p:nvPr/>
        </p:nvPicPr>
        <p:blipFill>
          <a:blip r:embed="rId1"/>
          <a:stretch/>
        </p:blipFill>
        <p:spPr>
          <a:xfrm>
            <a:off x="1663560" y="3548160"/>
            <a:ext cx="6546960" cy="331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文本框 6147"/>
          <p:cNvSpPr/>
          <p:nvPr/>
        </p:nvSpPr>
        <p:spPr>
          <a:xfrm>
            <a:off x="528480" y="973080"/>
            <a:ext cx="80074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然而，作者要描写出这宽阔宏伟之景，悲凉之意，恐怕数万言都是难以说尽的，这不是意味着作者将它们寓于无言之中了吗？这就是古典文学中深蕴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言之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8" name="图片 2" descr="4"/>
          <p:cNvPicPr/>
          <p:nvPr/>
        </p:nvPicPr>
        <p:blipFill>
          <a:blip r:embed="rId1"/>
          <a:stretch/>
        </p:blipFill>
        <p:spPr>
          <a:xfrm>
            <a:off x="7750080" y="5985000"/>
            <a:ext cx="755640" cy="54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文本框 6147"/>
          <p:cNvSpPr/>
          <p:nvPr/>
        </p:nvSpPr>
        <p:spPr>
          <a:xfrm>
            <a:off x="668160" y="2855880"/>
            <a:ext cx="8071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拿美术来表现思想和情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为在欣赏者的头脑里所生的印象和美感，有含蓄比较尽量流露的还要更加深刻。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5"/>
          <p:cNvSpPr/>
          <p:nvPr/>
        </p:nvSpPr>
        <p:spPr>
          <a:xfrm>
            <a:off x="517680" y="1311120"/>
            <a:ext cx="812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品味下面一段话，说说你品味到“无言之美”的例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1" name="矩形 3" descr=""/>
          <p:cNvPicPr/>
          <p:nvPr/>
        </p:nvPicPr>
        <p:blipFill>
          <a:blip r:embed="rId1"/>
          <a:stretch/>
        </p:blipFill>
        <p:spPr>
          <a:xfrm>
            <a:off x="652320" y="60480"/>
            <a:ext cx="7083720" cy="19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文本框 2"/>
          <p:cNvSpPr/>
          <p:nvPr/>
        </p:nvSpPr>
        <p:spPr>
          <a:xfrm>
            <a:off x="633240" y="450720"/>
            <a:ext cx="80359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《孤独之旅》，文章结尾仅以鸭子下蛋结尾，这就给读者留下了足够大的想象空间，鸭下蛋了杜小康可能就要回去了；杜小康也许要抒发自己长大的感慨了。作者不出一言，而像是以千言万言促使着我们在脑中构造图景，这就是一种“无言之美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文本框 6"/>
          <p:cNvSpPr/>
          <p:nvPr/>
        </p:nvSpPr>
        <p:spPr>
          <a:xfrm>
            <a:off x="5934240" y="2014560"/>
            <a:ext cx="188424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文本框 10"/>
          <p:cNvSpPr/>
          <p:nvPr/>
        </p:nvSpPr>
        <p:spPr>
          <a:xfrm>
            <a:off x="1335240" y="1878120"/>
            <a:ext cx="4065480" cy="37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学的意蕴之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音乐的无声之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雕刻的含蓄不露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右大括号 1"/>
          <p:cNvSpPr/>
          <p:nvPr/>
        </p:nvSpPr>
        <p:spPr>
          <a:xfrm>
            <a:off x="5102280" y="1828800"/>
            <a:ext cx="603360" cy="3922560"/>
          </a:xfrm>
          <a:custGeom>
            <a:avLst/>
            <a:gdLst>
              <a:gd name="textAreaLeft" fmla="*/ 0 w 603360"/>
              <a:gd name="textAreaRight" fmla="*/ 217800 w 603360"/>
              <a:gd name="textAreaTop" fmla="*/ 15480 h 3922560"/>
              <a:gd name="textAreaBottom" fmla="*/ 3907080 h 39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6" name="矩形 7" descr=""/>
          <p:cNvPicPr/>
          <p:nvPr/>
        </p:nvPicPr>
        <p:blipFill>
          <a:blip r:embed="rId1"/>
          <a:stretch/>
        </p:blipFill>
        <p:spPr>
          <a:xfrm>
            <a:off x="195120" y="324000"/>
            <a:ext cx="3638520" cy="19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7" name="Picture 1" descr="C:\Users\Administrator\Desktop\22.jpg"/>
          <p:cNvPicPr/>
          <p:nvPr/>
        </p:nvPicPr>
        <p:blipFill>
          <a:blip r:embed="rId1"/>
          <a:stretch/>
        </p:blipFill>
        <p:spPr>
          <a:xfrm>
            <a:off x="444600" y="450720"/>
            <a:ext cx="8208720" cy="5712120"/>
          </a:xfrm>
          <a:prstGeom prst="rect">
            <a:avLst/>
          </a:prstGeom>
          <a:ln w="0">
            <a:noFill/>
          </a:ln>
        </p:spPr>
      </p:pic>
      <p:pic>
        <p:nvPicPr>
          <p:cNvPr id="2568" name="矩形 2" descr=""/>
          <p:cNvPicPr/>
          <p:nvPr/>
        </p:nvPicPr>
        <p:blipFill>
          <a:blip r:embed="rId2"/>
          <a:stretch/>
        </p:blipFill>
        <p:spPr>
          <a:xfrm>
            <a:off x="2219400" y="2389320"/>
            <a:ext cx="4200480" cy="332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文本框 4"/>
          <p:cNvSpPr/>
          <p:nvPr/>
        </p:nvSpPr>
        <p:spPr>
          <a:xfrm>
            <a:off x="690480" y="1384200"/>
            <a:ext cx="781056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阅读文章，把握作者行文思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习举例论证的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认识艺术中的无言之美，培养良好的审美素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2" name="矩形 6" descr=""/>
          <p:cNvPicPr/>
          <p:nvPr/>
        </p:nvPicPr>
        <p:blipFill>
          <a:blip r:embed="rId1"/>
          <a:stretch/>
        </p:blipFill>
        <p:spPr>
          <a:xfrm>
            <a:off x="2352600" y="-55440"/>
            <a:ext cx="4048200" cy="12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文本框 2"/>
          <p:cNvSpPr/>
          <p:nvPr/>
        </p:nvSpPr>
        <p:spPr>
          <a:xfrm>
            <a:off x="611280" y="270000"/>
            <a:ext cx="297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Rectangle 5"/>
          <p:cNvSpPr/>
          <p:nvPr/>
        </p:nvSpPr>
        <p:spPr>
          <a:xfrm>
            <a:off x="198360" y="1203480"/>
            <a:ext cx="583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朱光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—198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现代美学家、翻译家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安徽桐城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朱光潜是我国现代美学的开拓者和奠基者之一，也是第一个在中国广泛介绍西方美学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5" name="图片 1" descr=""/>
          <p:cNvPicPr/>
          <p:nvPr/>
        </p:nvPicPr>
        <p:blipFill>
          <a:blip r:embed="rId1"/>
          <a:stretch/>
        </p:blipFill>
        <p:spPr>
          <a:xfrm>
            <a:off x="6051600" y="1365120"/>
            <a:ext cx="2894040" cy="378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Rectangle 5"/>
          <p:cNvSpPr/>
          <p:nvPr/>
        </p:nvSpPr>
        <p:spPr>
          <a:xfrm>
            <a:off x="552600" y="971640"/>
            <a:ext cx="8038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朱光潜以自己深湛的研究沟通了西方美学和中国传统美学，沟通了旧的唯心主义美学和马克思主义美学，沟通了“五四”以来中国现代美学和当代美学。他是中国美学史上一座横跨古今、沟通中外的“桥梁”，是我国现当代最负盛名并赢得崇高国际声誉的美学大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Rectangle 5"/>
          <p:cNvSpPr/>
          <p:nvPr/>
        </p:nvSpPr>
        <p:spPr>
          <a:xfrm>
            <a:off x="490680" y="113040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作者是如何引出“无言”这一话题的？作者认为“无言”的意蕴应该从哪方面着手研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8" name="矩形 6" descr=""/>
          <p:cNvPicPr/>
          <p:nvPr/>
        </p:nvPicPr>
        <p:blipFill>
          <a:blip r:embed="rId1"/>
          <a:stretch/>
        </p:blipFill>
        <p:spPr>
          <a:xfrm>
            <a:off x="476280" y="-36360"/>
            <a:ext cx="3778200" cy="1218960"/>
          </a:xfrm>
          <a:prstGeom prst="rect">
            <a:avLst/>
          </a:prstGeom>
          <a:ln w="0">
            <a:noFill/>
          </a:ln>
        </p:spPr>
      </p:pic>
      <p:sp>
        <p:nvSpPr>
          <p:cNvPr id="2539" name="矩形 3"/>
          <p:cNvSpPr/>
          <p:nvPr/>
        </p:nvSpPr>
        <p:spPr>
          <a:xfrm>
            <a:off x="185760" y="3662280"/>
            <a:ext cx="895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者首先从孔子与子贡的对话引出“无言”的话题；作者认为要探究“无言”的意蕴应该从美术的观点去研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Rectangle 5"/>
          <p:cNvSpPr/>
          <p:nvPr/>
        </p:nvSpPr>
        <p:spPr>
          <a:xfrm>
            <a:off x="488880" y="450720"/>
            <a:ext cx="81406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阅读表现言意关系的语段，用一句话概括言和意之间的关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矩形 2"/>
          <p:cNvSpPr/>
          <p:nvPr/>
        </p:nvSpPr>
        <p:spPr>
          <a:xfrm>
            <a:off x="3014280" y="4251240"/>
            <a:ext cx="33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黑体"/>
                <a:ea typeface="黑体"/>
              </a:rPr>
              <a:t>一句话概括言与意的关系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黑体"/>
                <a:ea typeface="黑体"/>
              </a:rPr>
              <a:t>即“言不尽意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Rectangle 5"/>
          <p:cNvSpPr/>
          <p:nvPr/>
        </p:nvSpPr>
        <p:spPr>
          <a:xfrm>
            <a:off x="1098720" y="2097000"/>
            <a:ext cx="371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作者对文学的定义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3" name="图片 1" descr=""/>
          <p:cNvPicPr/>
          <p:nvPr/>
        </p:nvPicPr>
        <p:blipFill>
          <a:blip r:embed="rId1"/>
          <a:stretch/>
        </p:blipFill>
        <p:spPr>
          <a:xfrm>
            <a:off x="5818320" y="2465280"/>
            <a:ext cx="2781000" cy="4230720"/>
          </a:xfrm>
          <a:prstGeom prst="rect">
            <a:avLst/>
          </a:prstGeom>
          <a:ln w="0">
            <a:noFill/>
          </a:ln>
        </p:spPr>
      </p:pic>
      <p:sp>
        <p:nvSpPr>
          <p:cNvPr id="2544" name="文本框 2"/>
          <p:cNvSpPr/>
          <p:nvPr/>
        </p:nvSpPr>
        <p:spPr>
          <a:xfrm>
            <a:off x="237960" y="230040"/>
            <a:ext cx="824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黑体"/>
                <a:ea typeface="黑体"/>
              </a:rPr>
              <a:t>细读感悟</a:t>
            </a:r>
            <a:r>
              <a:rPr b="1" lang="en-US" sz="4800" spc="-1" strike="noStrike">
                <a:solidFill>
                  <a:srgbClr val="1f497d"/>
                </a:solidFill>
                <a:latin typeface="黑体"/>
                <a:ea typeface="黑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黑体"/>
                <a:ea typeface="黑体"/>
              </a:rPr>
              <a:t>品味“无言之美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矩形 4"/>
          <p:cNvSpPr/>
          <p:nvPr/>
        </p:nvSpPr>
        <p:spPr>
          <a:xfrm>
            <a:off x="1584360" y="442440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谓文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就是以言达意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种美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Rectangle 5"/>
          <p:cNvSpPr/>
          <p:nvPr/>
        </p:nvSpPr>
        <p:spPr>
          <a:xfrm>
            <a:off x="614520" y="984240"/>
            <a:ext cx="82026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作者在文中提到了一个尽善尽美的条件，作为以言达意的文学，能否满足这个条件？不能达到这个条件，文学还能达到美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7" name="图片 2" descr="3"/>
          <p:cNvPicPr/>
          <p:nvPr/>
        </p:nvPicPr>
        <p:blipFill>
          <a:blip r:embed="rId1"/>
          <a:stretch/>
        </p:blipFill>
        <p:spPr>
          <a:xfrm>
            <a:off x="484200" y="403200"/>
            <a:ext cx="1084320" cy="94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文本框 2"/>
          <p:cNvSpPr/>
          <p:nvPr/>
        </p:nvSpPr>
        <p:spPr>
          <a:xfrm>
            <a:off x="731880" y="270000"/>
            <a:ext cx="7972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字语言固然不能全部传达情绪意旨”，因此难以满足“尽善尽美”的条件。但文学依然有“美”的境界，因为作者认为对于表达全部意旨，不仅是文学，“一切美术作品也都是这样，尽量表现，非唯不能，而也不必”，就算言语不能表现所有意旨也能达到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cp:keywords/>
  <dc:language>en-US</dc:language>
  <cp:lastModifiedBy>Administrator</cp:lastModifiedBy>
  <dcterms:modified xsi:type="dcterms:W3CDTF">2018-09-12T03:57:52Z</dcterms:modified>
  <cp:revision>2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