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applause.wav" ContentType="audio/x-wav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1E6E-E67D-46F8-A012-5A768F74C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D093-28E1-419D-86A4-AB3510EB9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63DB-8786-40B7-A3FE-0899C2BA2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AA0F-73E2-4484-B9B0-5E055C1A7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DB6D-F5CE-483E-9FED-8290F9A60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D6C3-F3CD-49B0-9D7C-1E75AEE8E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F3AB-CDC3-401A-9F34-8E7C58125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E8BD-3F5B-48E0-A43A-F2D00C9D3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3C87-BFE8-4494-84D9-0417B1FE4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9F5F-B009-42D1-8A82-2B98A11B4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2D7-79F3-4B2D-84CF-2814CDCC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CBB-1605-4F2C-9841-478B2C0E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0E4E-5675-47C3-A1DB-C4468312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748-FD80-4FA1-93A4-24777BB9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4D01-04BB-4D2F-990E-D2014DE5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A738-F86D-42A2-918C-271599A4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7F42-DEAB-40AA-B7C1-63D059F6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4664-0342-41BE-A5D3-0E98921C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5D1D-B8D2-49F4-BFE6-EA6F87B1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E0A4-5690-45CC-AA48-80599B21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D478-C231-46ED-A439-6834127E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985-D4BE-4ECB-A852-90118855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2C9E-1841-4ADB-9CF2-61E276EE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165F-A0A8-47D5-B7FE-3F8F7A97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D5F9-6E4C-49AA-9ED2-7A866E6F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C10A-B109-4287-BC00-9E830A2C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1965-EA63-4C94-BD95-FB858EBB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2A3E2-72D7-4E8C-8626-5C619BA6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3DE88-CAF6-4797-9FBE-E8FBAE7E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D9B24-68B4-4545-BE95-F635900C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98202-34A6-4FC6-8594-EE4575C6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48EE9-E805-446D-961D-564DAB0D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68C-D162-4211-9E3C-0097BF35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FFD90-C1D8-493B-8B93-46537B4B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E0BFB-6035-4822-8F82-B94B5A13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58D18-8C83-4061-92B5-01DE2215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013B2-7839-4C8E-8E5C-4713562F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2D3DA-7EF3-44B6-9A78-1EBE2B06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B1C10-CB39-4D72-AB5C-E4F0EBA3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68C67-DEA7-4BAE-A23D-1A72A298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41EC1-3D3C-4E1E-87F1-0D68122E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FFDCD-48D7-4D18-9B6E-8DFDE12E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DE183-8138-4E8E-BDE3-8585B4D1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F05-85ED-4BA4-9957-5733D009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FE84E-A239-4BF4-BA20-FF7FF349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A08FB-5D0E-49CB-8AD5-102B485E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6DD05-E356-4F31-84CF-1C666766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C3756-65A2-49BD-B125-77237ED6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F7ED1-CD3F-406A-ABC0-3E7912D2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4B79E-90CE-4037-87BB-593DAF5A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3A0DE-FE9B-4FB8-AE6C-363C85A7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FC45A-39D2-466C-A8BB-8EEAB30B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A4E1E-1080-40B4-9761-357CFCB7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FCE37-5105-4397-8A5F-4F6E4C23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C57-889F-416C-8788-4A550DB1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3C219-66D9-4943-8E45-82269985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A51B3-DF2D-4949-8667-E69EA02D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371C1-EBA0-4A75-8D7F-0577B899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2117C-16F0-4DD3-92C7-706CCA3B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50F92-358B-4B62-AB63-82926C0C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F579B-A8F0-44A3-9231-4B88DC83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2E011-EF8C-48BB-805E-4BFBD25D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0E58A-4F00-4861-87D1-94E537C0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52823-4284-4E7B-B399-91F1299F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BA50F-12EF-44D9-8A9F-6660A1EF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D58-B7D4-4CBE-AE87-A6AEF550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BD1FE-CC41-4CE7-ABA2-01511443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83284-39A0-48DF-AF02-C89ACCD9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60AA4-B0AF-4A4A-A461-5F4D33EE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866AA-53B4-4347-B932-38F73268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F0426-D86C-41AA-8967-EC23187C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E1D32-A9DC-4C7D-8D25-549E5516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42B9E-F812-4E3F-B7C8-029B7DCB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B5229-6595-4D78-A148-9F6D7FE1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2A062-3794-4E9A-B65F-D1CB7E22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BB092-7A11-4CB4-A6A6-09EC38C9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9E6-320D-4139-9278-933694D0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DD592-067E-40B1-80ED-6E9185EC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5D831-0FF5-4599-B3E9-1691B8F5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296CC-E383-4318-B49A-BD4A706F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093D-A9E2-46FD-8F94-C4C22E6C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B744-6992-4866-B742-7DD57972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7C75-649F-4F72-ABFD-449FA4D11458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5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4"/>
              <p:cNvSpPr/>
              <p:nvPr/>
            </p:nvSpPr>
            <p:spPr>
              <a:xfrm>
                <a:off x="11880" y="0"/>
                <a:ext cx="1823760" cy="4941720"/>
              </a:xfrm>
              <a:prstGeom prst="rect">
                <a:avLst/>
              </a:prstGeom>
              <a:solidFill>
                <a:srgbClr val="d4e3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0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9800"/>
                <a:ext cx="9144000" cy="287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2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20DB-8AB1-4EA2-850E-A920E57E6288}" type="slidenum"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6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0" y="2514600"/>
              <a:ext cx="182628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Rectangle 8" descr=""/>
            <p:cNvPicPr/>
            <p:nvPr/>
          </p:nvPicPr>
          <p:blipFill>
            <a:blip r:embed="rId2"/>
            <a:stretch/>
          </p:blipFill>
          <p:spPr>
            <a:xfrm>
              <a:off x="1814040" y="2517480"/>
              <a:ext cx="7329960" cy="371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35B9-09FB-40D6-A182-F7912165B679}" type="slidenum"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39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8"/>
            <p:cNvSpPr/>
            <p:nvPr/>
          </p:nvSpPr>
          <p:spPr>
            <a:xfrm>
              <a:off x="11880" y="0"/>
              <a:ext cx="1823760" cy="8233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>
              <a:off x="506160" y="205560"/>
              <a:ext cx="835920" cy="41148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8367-EDF4-400F-90CF-AB22497727C8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84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8"/>
            <p:cNvSpPr/>
            <p:nvPr/>
          </p:nvSpPr>
          <p:spPr>
            <a:xfrm>
              <a:off x="500760" y="205560"/>
              <a:ext cx="827280" cy="41148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2A4E-A053-4F69-8018-C32E8B1E4A6A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8" name="Rectangle 1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18"/>
            <p:cNvSpPr/>
            <p:nvPr/>
          </p:nvSpPr>
          <p:spPr>
            <a:xfrm>
              <a:off x="7317720" y="0"/>
              <a:ext cx="1826280" cy="685800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7317720" y="0"/>
              <a:ext cx="1826280" cy="167616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20"/>
            <p:cNvSpPr/>
            <p:nvPr/>
          </p:nvSpPr>
          <p:spPr>
            <a:xfrm>
              <a:off x="7812360" y="419040"/>
              <a:ext cx="837000" cy="83808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512E-B5DB-480A-ACC0-F5BFC10C029B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WordArt 4"/>
          <p:cNvSpPr txBox="1"/>
          <p:nvPr/>
        </p:nvSpPr>
        <p:spPr>
          <a:xfrm rot="20508600">
            <a:off x="7010280" y="42667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7572000"/>
                </a:gradFill>
                <a:latin typeface="宋体"/>
              </a:rPr>
              <a:t>泰戈尔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7572000"/>
              </a:gradFill>
              <a:latin typeface="宋体"/>
              <a:ea typeface="宋体"/>
            </a:endParaRPr>
          </a:p>
        </p:txBody>
      </p:sp>
      <p:sp>
        <p:nvSpPr>
          <p:cNvPr id="281" name="WordArt 3"/>
          <p:cNvSpPr txBox="1"/>
          <p:nvPr/>
        </p:nvSpPr>
        <p:spPr>
          <a:xfrm>
            <a:off x="1295280" y="2666880"/>
            <a:ext cx="6096240" cy="14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我一无所求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324000" y="49417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泰戈尔早期的诗以写“爱”为主题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——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人与自然、人与人、自然与自然的和谐相处的景观，他的诗歌善于选择小景小物去体现一种纯真、和谐的乡间爱情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059280" y="0"/>
            <a:ext cx="554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泰戈尔，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R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，（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1861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～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1941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）印度著名诗人、作家、艺术家和社会活动家。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1913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年获诺贝尔文学奖。生于加尔各答市的一个富有哲学和文学艺术 修养家庭，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13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岁即能创作长诗和颂歌体诗集。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1878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年赴英国留学，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1880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年回国专门从事文学活动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泰戈尔是具有巨大世界影响的作家。他共写了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50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多部诗集，被称为“诗圣”。写了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部中长篇小说，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100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多篇短篇小 说，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多部剧本及大量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250920" y="328464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学、哲学、政治论著，并创作了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1500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多幅画，诸写了难以统计的众多歌曲。他的作品充满了鲜明的爱国主义和民主主义精神，同时又富有民族风格和民族特色， 具有很高艺术价值，深受人民群众喜爱。其重要诗作有诗集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故事诗集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1900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）、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吉檀迦利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1910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）、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新月集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》 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1913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）、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飞鸟集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8fcb17"/>
                </a:solidFill>
                <a:latin typeface="Times New Roman"/>
              </a:rPr>
              <a:t>1916)</a:t>
            </a:r>
            <a:r>
              <a:rPr b="0" lang="zh-CN" sz="2000" spc="-1" strike="noStrike">
                <a:solidFill>
                  <a:srgbClr val="8fcb17"/>
                </a:solidFill>
                <a:latin typeface="Times New Roman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7" descr="泰戈尔"/>
          <p:cNvPicPr/>
          <p:nvPr/>
        </p:nvPicPr>
        <p:blipFill>
          <a:blip r:embed="rId1"/>
          <a:stretch/>
        </p:blipFill>
        <p:spPr>
          <a:xfrm>
            <a:off x="0" y="0"/>
            <a:ext cx="284328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2755080" y="193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我一无所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3"/>
          <p:cNvSpPr/>
          <p:nvPr/>
        </p:nvSpPr>
        <p:spPr>
          <a:xfrm rot="21115800">
            <a:off x="484200" y="1020240"/>
            <a:ext cx="410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汉鼎简行书"/>
                <a:ea typeface="汉鼎简行书"/>
              </a:rPr>
              <a:t> </a:t>
            </a: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我一无所求，只站在林边树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 </a:t>
            </a: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倦意还逗留在黎明的眼上，露润在空气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　湿草的懒味悬垂在地面的薄雾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　在榕树下你用乳油般柔嫩的手挤着牛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　我沉静地站立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　我没有说出一个字。那是藏起的鸟儿在密叶中歌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　芒果树在村径上撒着繁花，蜜蜂一只一只地嗡嗡飞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汉鼎简行书"/>
                <a:ea typeface="汉鼎简行书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4859280" y="193680"/>
            <a:ext cx="387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　池塘边湿婆天的庙门开了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        </a:t>
            </a: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朝拜者开始诵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    </a:t>
            </a: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你把罐儿放在膝上挤着牛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　我提着空桶站立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     </a:t>
            </a: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我没有走近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     </a:t>
            </a: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天空和庙里的锣声一同醒           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　 街尘在驱走的牛蹄下飞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　把汩汩发响的水瓶搂在腰上，女人们从河边走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　你的钏镯叮当，乳沫溢出罐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汉鼎简行书"/>
                <a:ea typeface="汉鼎简行书"/>
              </a:rPr>
              <a:t>　晨光渐逝而我没有走近你</a:t>
            </a:r>
            <a:r>
              <a:rPr b="0" lang="zh-CN" sz="2400" spc="-1" strike="noStrike">
                <a:solidFill>
                  <a:srgbClr val="000000"/>
                </a:solidFill>
                <a:latin typeface="汉鼎简行书"/>
                <a:ea typeface="汉鼎简行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835280" y="1862640"/>
            <a:ext cx="676908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汉鼎简行书"/>
              </a:rPr>
              <a:t>基本解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一无所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园丁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13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现题目为课文编者所加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园丁集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人的是泰戈尔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3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前后的诗作，诚如诗人在自序中所言：这些诗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爱情和人生的抒情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风格上与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吉檀迪利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近，带有某种宗教的神秘主义色彩。 诗集的名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吉檀迦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意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献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意思。这些诗到底是献给谁的呢？出生在佛国的泰戈尔自然是把它献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而且他认为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处不在，无所不包，存在于一切自然中，存在于最贫贱的人们之间。基于这样的泛爱观，即使最普通最平凡的生活，在他的诗中都被赋与了牧歌式的迷梦色彩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一无所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集中反映了他的这一创作思想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2430360" y="54936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769f11"/>
                </a:solidFill>
                <a:uFillTx/>
                <a:latin typeface="Times New Roman"/>
              </a:rPr>
              <a:t>思考</a:t>
            </a:r>
            <a:r>
              <a:rPr b="0" lang="zh-CN" sz="4400" spc="-1" strike="noStrike" u="sng">
                <a:solidFill>
                  <a:srgbClr val="769f11"/>
                </a:solidFill>
                <a:uFillTx/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059280" y="1652760"/>
            <a:ext cx="5760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我一无所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诗歌为我们描摹了怎样的景象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有什么寓意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5">
            <a:hlinkClick r:id="rId1" action="ppaction://hlinksldjump"/>
          </p:cNvPr>
          <p:cNvSpPr/>
          <p:nvPr/>
        </p:nvSpPr>
        <p:spPr>
          <a:xfrm>
            <a:off x="7164360" y="234936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3794"/>
                </a:moveTo>
                <a:lnTo>
                  <a:pt x="23193" y="10800"/>
                </a:lnTo>
                <a:lnTo>
                  <a:pt x="9180" y="17806"/>
                </a:lnTo>
                <a:close/>
              </a:path>
            </a:pathLst>
          </a:custGeom>
          <a:solidFill>
            <a:srgbClr val="8fc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6">
            <a:hlinkClick r:id="rId2" action="ppaction://hlinksldjump"/>
          </p:cNvPr>
          <p:cNvSpPr/>
          <p:nvPr/>
        </p:nvSpPr>
        <p:spPr>
          <a:xfrm>
            <a:off x="7559640" y="407664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3794"/>
                </a:moveTo>
                <a:lnTo>
                  <a:pt x="22425" y="10800"/>
                </a:lnTo>
                <a:lnTo>
                  <a:pt x="8412" y="17806"/>
                </a:lnTo>
                <a:close/>
              </a:path>
            </a:pathLst>
          </a:custGeom>
          <a:solidFill>
            <a:srgbClr val="8fc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1079640" y="5745240"/>
            <a:ext cx="26654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a6a21"/>
                </a:solidFill>
                <a:uFillTx/>
                <a:latin typeface="Times New Roman"/>
                <a:ea typeface="仿宋_GB2312"/>
                <a:hlinkClick r:id="rId3" action="ppaction://hlinksldjump"/>
              </a:rPr>
              <a:t>详细赏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835280" y="115920"/>
            <a:ext cx="626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景观的动与静的角度看，这里有静的自然景观和动的人的景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中的有两个人物：一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这一幕生活小景，发生于乡间恬静的榕树下。清晨，乡村的一切仍带着黎明时分的倦意，湿润的空气，薄雾中的嫩草，芒果树在村径上飘洒着繁花，蜜蜂在四周嗡嗡飞着。就在这样的情景中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着空桶子，看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女人挤牛奶。这是一幅近乎静态的美丽的图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处，湿婆天的庙门开了，朝拜者开始诵经；汲水的女人从河边走来，水瓶里发出泪泊的声响。这是动态的景观。动态也罢，静态也罢，这里只有客观的描摹而没有主观的诉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4">
            <a:hlinkClick r:id="rId1" action="ppaction://hlinksldjump"/>
          </p:cNvPr>
          <p:cNvSpPr/>
          <p:nvPr/>
        </p:nvSpPr>
        <p:spPr>
          <a:xfrm>
            <a:off x="7419960" y="585144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10800"/>
                </a:moveTo>
                <a:lnTo>
                  <a:pt x="19973" y="3794"/>
                </a:lnTo>
                <a:lnTo>
                  <a:pt x="19973" y="17806"/>
                </a:lnTo>
                <a:close/>
              </a:path>
            </a:pathLst>
          </a:custGeom>
          <a:solidFill>
            <a:srgbClr val="8fc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2124000" y="404640"/>
            <a:ext cx="48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69f11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769f11"/>
                </a:solidFill>
                <a:latin typeface="楷体_GB2312"/>
                <a:ea typeface="楷体_GB2312"/>
              </a:rPr>
              <a:t>人与人，人与自然的交流是无需用言语的，一切自有一种和谐的空气流溢于四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诗人所要表达的爱，正融化于这幅乡间美景之中，爱成为大自然的一部分。</a:t>
            </a:r>
            <a:r>
              <a:rPr b="1" lang="zh-CN" sz="2400" spc="-1" strike="noStrike">
                <a:solidFill>
                  <a:srgbClr val="769f11"/>
                </a:solidFill>
                <a:latin typeface="楷体_GB2312"/>
                <a:ea typeface="楷体_GB2312"/>
              </a:rPr>
              <a:t>当诗人的感情移位于大自然的时候，周围的一切就莫不充溢着爱意。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这就是泰戈尔早期的诗，写爱也写自然，爱与自然融为一体，人成为自然的一种景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富有画面感和色彩感是泰戈尔抒情诗的一大特点。</a:t>
            </a:r>
            <a:r>
              <a:rPr b="1" lang="en-US" sz="2400" spc="-1" strike="noStrike">
                <a:solidFill>
                  <a:srgbClr val="769f11"/>
                </a:solidFill>
                <a:latin typeface="楷体_GB2312"/>
                <a:ea typeface="楷体_GB2312"/>
              </a:rPr>
              <a:t>《 </a:t>
            </a:r>
            <a:r>
              <a:rPr b="1" lang="zh-CN" sz="2400" spc="-1" strike="noStrike">
                <a:solidFill>
                  <a:srgbClr val="769f11"/>
                </a:solidFill>
                <a:latin typeface="楷体_GB2312"/>
                <a:ea typeface="楷体_GB2312"/>
              </a:rPr>
              <a:t>我一无所求 </a:t>
            </a:r>
            <a:r>
              <a:rPr b="1" lang="en-US" sz="2400" spc="-1" strike="noStrike">
                <a:solidFill>
                  <a:srgbClr val="769f11"/>
                </a:solidFill>
                <a:latin typeface="楷体_GB2312"/>
                <a:ea typeface="楷体_GB2312"/>
              </a:rPr>
              <a:t>》 </a:t>
            </a:r>
            <a:r>
              <a:rPr b="1" lang="zh-CN" sz="2400" spc="-1" strike="noStrike">
                <a:solidFill>
                  <a:srgbClr val="769f11"/>
                </a:solidFill>
                <a:latin typeface="楷体_GB2312"/>
                <a:ea typeface="楷体_GB2312"/>
              </a:rPr>
              <a:t>用优美的文笔写乡间的生活小景，诗中呈现着各种美丽而恬静的画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蕴涵诗人对生命的满足，表达了超然的恬静和淡然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3">
            <a:hlinkClick r:id="rId1" action="ppaction://hlinksldjump"/>
          </p:cNvPr>
          <p:cNvSpPr/>
          <p:nvPr/>
        </p:nvSpPr>
        <p:spPr>
          <a:xfrm>
            <a:off x="7596360" y="590724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8fc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943280" y="480960"/>
            <a:ext cx="69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汉鼎简行书"/>
              </a:rPr>
              <a:t>详细赏析：为何“我一无所求”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050920" y="21337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诗人一开篇就吟出心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———“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一无所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为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一无所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呢？因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已经拥有，拥有了最凡俗也是最宝贵的生活。高大的榕树，开满繁花的芒果树，曲折的村径，清澈的池塘，多么原始而又美丽的乡村风光！汩汩的流水声，女人钏镯的叮当声，蜜蜂的嗡嗡声，鸟儿的歌唱声，朝拜者的颂经声，庙里的锣声，构成了一曲最质朴最自然的天籁之音。挤奶，汲水，赶牛群，颂经文，多么勤劳的邻里乡亲！多么简单却悠闲自在的生活方式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 rot="20802600">
            <a:off x="1332360" y="2205000"/>
            <a:ext cx="59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多谢捧场！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 rot="642000">
            <a:off x="5651280" y="364464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第二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5:53:47Z</dcterms:created>
  <dc:creator/>
  <dc:description/>
  <cp:keywords/>
  <dc:language>en-US</dc:language>
  <cp:lastModifiedBy>ABC</cp:lastModifiedBy>
  <dcterms:modified xsi:type="dcterms:W3CDTF">2015-12-23T06:32:35Z</dcterms:modified>
  <cp:revision>13</cp:revision>
  <dc:subject/>
  <dc:title>PowerPoint 演示文稿</dc:title>
</cp:coreProperties>
</file>