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png" ContentType="image/png"/>
  <Override PartName="/ppt/media/image25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38FC-5D07-4E77-BB24-A5D391DEC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6A14-FC61-4D51-9F23-59A0CE77D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6E0A-DD77-4BFE-A12F-CDDA64E5D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57E9-1409-4987-8992-189B85657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1E6B-07B4-4B59-B821-0FE952EFF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0FFF-7958-4B53-93DA-6CBCE31AA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0247-BD9A-45D8-B29A-62C574A09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8241-4D4C-470A-85EE-01232C544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6668-12AC-4502-B997-CDD2F3D76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0D45-A8F8-4A98-9EC6-529519F80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4686-FBD2-42C4-9479-1BAE1F525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EED2-90E0-440B-9371-3C9F39584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05A9A-B037-405C-BD6E-CD69691FF1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slide" Target="slide11.xml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9144000" cy="450864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8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541008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4"/>
          <p:cNvSpPr/>
          <p:nvPr/>
        </p:nvSpPr>
        <p:spPr>
          <a:xfrm>
            <a:off x="-228600" y="5410080"/>
            <a:ext cx="9372600" cy="76320"/>
          </a:xfrm>
          <a:prstGeom prst="rect">
            <a:avLst/>
          </a:prstGeom>
          <a:solidFill>
            <a:srgbClr val="009999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5"/>
          <p:cNvSpPr/>
          <p:nvPr/>
        </p:nvSpPr>
        <p:spPr>
          <a:xfrm>
            <a:off x="1371600" y="6505560"/>
            <a:ext cx="1219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4" descr="7"/>
          <p:cNvPicPr/>
          <p:nvPr/>
        </p:nvPicPr>
        <p:blipFill>
          <a:blip r:embed="rId2"/>
          <a:stretch/>
        </p:blipFill>
        <p:spPr>
          <a:xfrm>
            <a:off x="0" y="0"/>
            <a:ext cx="2990880" cy="2428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7" descr="4"/>
          <p:cNvPicPr/>
          <p:nvPr/>
        </p:nvPicPr>
        <p:blipFill>
          <a:blip r:embed="rId3"/>
          <a:srcRect l="23305" t="0" r="0" b="32943"/>
          <a:stretch/>
        </p:blipFill>
        <p:spPr>
          <a:xfrm>
            <a:off x="2268360" y="0"/>
            <a:ext cx="6875640" cy="4508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11"/>
          <p:cNvPicPr/>
          <p:nvPr/>
        </p:nvPicPr>
        <p:blipFill>
          <a:blip r:embed="rId4"/>
          <a:stretch/>
        </p:blipFill>
        <p:spPr>
          <a:xfrm>
            <a:off x="0" y="5410080"/>
            <a:ext cx="9144000" cy="1447920"/>
          </a:xfrm>
          <a:prstGeom prst="rect">
            <a:avLst/>
          </a:prstGeom>
          <a:ln w="0">
            <a:noFill/>
          </a:ln>
        </p:spPr>
      </p:pic>
      <p:grpSp>
        <p:nvGrpSpPr>
          <p:cNvPr id="48" name="Group 20"/>
          <p:cNvGrpSpPr/>
          <p:nvPr/>
        </p:nvGrpSpPr>
        <p:grpSpPr>
          <a:xfrm>
            <a:off x="-1098720" y="2456640"/>
            <a:ext cx="5702040" cy="3393720"/>
            <a:chOff x="-1098720" y="2456640"/>
            <a:chExt cx="5702040" cy="3393720"/>
          </a:xfrm>
        </p:grpSpPr>
        <p:pic>
          <p:nvPicPr>
            <p:cNvPr id="49" name="Picture 21" descr="2"/>
            <p:cNvPicPr/>
            <p:nvPr/>
          </p:nvPicPr>
          <p:blipFill>
            <a:blip r:embed="rId5"/>
            <a:stretch/>
          </p:blipFill>
          <p:spPr>
            <a:xfrm rot="21330600">
              <a:off x="-990720" y="2666520"/>
              <a:ext cx="5486040" cy="297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22" descr="5"/>
            <p:cNvPicPr/>
            <p:nvPr/>
          </p:nvPicPr>
          <p:blipFill>
            <a:blip r:embed="rId6"/>
            <a:stretch/>
          </p:blipFill>
          <p:spPr>
            <a:xfrm rot="21330600">
              <a:off x="-1098360" y="2679480"/>
              <a:ext cx="5268240" cy="209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1" name="Picture 7" descr="11"/>
          <p:cNvPicPr/>
          <p:nvPr/>
        </p:nvPicPr>
        <p:blipFill>
          <a:blip r:embed="rId7"/>
          <a:srcRect l="0" t="0" r="0" b="16535"/>
          <a:stretch/>
        </p:blipFill>
        <p:spPr>
          <a:xfrm>
            <a:off x="7620120" y="5873760"/>
            <a:ext cx="850680" cy="685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6" descr="标题"/>
          <p:cNvPicPr/>
          <p:nvPr/>
        </p:nvPicPr>
        <p:blipFill>
          <a:blip r:embed="rId8"/>
          <a:stretch/>
        </p:blipFill>
        <p:spPr>
          <a:xfrm>
            <a:off x="2286000" y="5208480"/>
            <a:ext cx="4761000" cy="1192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9" descr="11"/>
          <p:cNvPicPr/>
          <p:nvPr/>
        </p:nvPicPr>
        <p:blipFill>
          <a:blip r:embed="rId9"/>
          <a:srcRect l="0" t="0" r="0" b="16529"/>
          <a:stretch/>
        </p:blipFill>
        <p:spPr>
          <a:xfrm>
            <a:off x="7467480" y="5722920"/>
            <a:ext cx="1219320" cy="982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5" descr="11"/>
          <p:cNvPicPr/>
          <p:nvPr/>
        </p:nvPicPr>
        <p:blipFill>
          <a:blip r:embed="rId10"/>
          <a:srcRect l="0" t="0" r="0" b="16507"/>
          <a:stretch/>
        </p:blipFill>
        <p:spPr>
          <a:xfrm>
            <a:off x="7238880" y="5460840"/>
            <a:ext cx="1828800" cy="1473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6" descr="1"/>
          <p:cNvPicPr/>
          <p:nvPr/>
        </p:nvPicPr>
        <p:blipFill>
          <a:blip r:embed="rId11"/>
          <a:stretch/>
        </p:blipFill>
        <p:spPr>
          <a:xfrm flipH="1" rot="1201200">
            <a:off x="8076600" y="2831760"/>
            <a:ext cx="822240" cy="37209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1" descr="标题2"/>
          <p:cNvPicPr/>
          <p:nvPr/>
        </p:nvPicPr>
        <p:blipFill>
          <a:blip r:embed="rId12"/>
          <a:stretch/>
        </p:blipFill>
        <p:spPr>
          <a:xfrm>
            <a:off x="0" y="533520"/>
            <a:ext cx="245736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380880" y="22860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课堂小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6" descr="Winter%20Mist%20Westerwald%20Germany"/>
          <p:cNvPicPr/>
          <p:nvPr/>
        </p:nvPicPr>
        <p:blipFill>
          <a:blip r:embed="rId2"/>
          <a:stretch/>
        </p:blipFill>
        <p:spPr>
          <a:xfrm>
            <a:off x="1447920" y="914400"/>
            <a:ext cx="6476760" cy="2685960"/>
          </a:xfrm>
          <a:prstGeom prst="rect">
            <a:avLst/>
          </a:prstGeom>
          <a:ln w="76320">
            <a:solidFill>
              <a:srgbClr val="993300"/>
            </a:solidFill>
            <a:miter/>
          </a:ln>
        </p:spPr>
      </p:pic>
      <p:sp>
        <p:nvSpPr>
          <p:cNvPr id="151" name="Rectangle 7"/>
          <p:cNvSpPr/>
          <p:nvPr/>
        </p:nvSpPr>
        <p:spPr>
          <a:xfrm>
            <a:off x="1066680" y="3962520"/>
            <a:ext cx="71629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将文章中各处由景物描写所引发的思想情感进行归纳整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在全班面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配乐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朗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引发学生心灵的震撼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引导学生开始思考生命的意义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11"/>
          <p:cNvSpPr/>
          <p:nvPr/>
        </p:nvSpPr>
        <p:spPr>
          <a:xfrm>
            <a:off x="8459640" y="6488280"/>
            <a:ext cx="540000" cy="287280"/>
          </a:xfrm>
          <a:custGeom>
            <a:avLst/>
            <a:gdLst>
              <a:gd name="textAreaLeft" fmla="*/ 18360 w 540000"/>
              <a:gd name="textAreaRight" fmla="*/ 521640 w 540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0578" h="21600">
                <a:moveTo>
                  <a:pt x="0" y="0"/>
                </a:moveTo>
                <a:lnTo>
                  <a:pt x="40578" y="0"/>
                </a:lnTo>
                <a:lnTo>
                  <a:pt x="40578" y="21600"/>
                </a:lnTo>
                <a:lnTo>
                  <a:pt x="0" y="21600"/>
                </a:lnTo>
                <a:close/>
              </a:path>
              <a:path fill="lightenLess" w="40578" h="21600">
                <a:moveTo>
                  <a:pt x="0" y="0"/>
                </a:moveTo>
                <a:lnTo>
                  <a:pt x="40578" y="0"/>
                </a:lnTo>
                <a:lnTo>
                  <a:pt x="39178" y="1400"/>
                </a:lnTo>
                <a:lnTo>
                  <a:pt x="1400" y="1400"/>
                </a:lnTo>
                <a:close/>
              </a:path>
              <a:path fill="darken" w="40578" h="21600">
                <a:moveTo>
                  <a:pt x="40578" y="0"/>
                </a:moveTo>
                <a:lnTo>
                  <a:pt x="40578" y="21600"/>
                </a:lnTo>
                <a:lnTo>
                  <a:pt x="39178" y="20200"/>
                </a:lnTo>
                <a:lnTo>
                  <a:pt x="39178" y="1400"/>
                </a:lnTo>
                <a:close/>
              </a:path>
              <a:path fill="darkenLess" w="40578" h="21600">
                <a:moveTo>
                  <a:pt x="405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178" y="20200"/>
                </a:lnTo>
                <a:close/>
              </a:path>
              <a:path fill="lighten" w="405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578" h="21600">
                <a:moveTo>
                  <a:pt x="16790" y="10800"/>
                </a:moveTo>
                <a:lnTo>
                  <a:pt x="27295" y="3794"/>
                </a:lnTo>
                <a:lnTo>
                  <a:pt x="27295" y="17806"/>
                </a:lnTo>
                <a:close/>
              </a:path>
              <a:path fill="darken" w="40578" h="21600">
                <a:moveTo>
                  <a:pt x="13282" y="3794"/>
                </a:moveTo>
                <a:lnTo>
                  <a:pt x="14945" y="3794"/>
                </a:lnTo>
                <a:lnTo>
                  <a:pt x="14945" y="17806"/>
                </a:lnTo>
                <a:lnTo>
                  <a:pt x="13282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5"/>
          <p:cNvSpPr/>
          <p:nvPr/>
        </p:nvSpPr>
        <p:spPr>
          <a:xfrm>
            <a:off x="380880" y="22860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课后作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1828800" y="2057400"/>
            <a:ext cx="56386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完成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练习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中的本课练习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阅读课后“拓展训练”中的短文，以“假如我只剩三天光明”为题，写一篇杂感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7"/>
          <p:cNvSpPr/>
          <p:nvPr/>
        </p:nvSpPr>
        <p:spPr>
          <a:xfrm>
            <a:off x="8459640" y="6488280"/>
            <a:ext cx="540000" cy="287280"/>
          </a:xfrm>
          <a:custGeom>
            <a:avLst/>
            <a:gdLst>
              <a:gd name="textAreaLeft" fmla="*/ 18360 w 540000"/>
              <a:gd name="textAreaRight" fmla="*/ 521640 w 540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0578" h="21600">
                <a:moveTo>
                  <a:pt x="0" y="0"/>
                </a:moveTo>
                <a:lnTo>
                  <a:pt x="40578" y="0"/>
                </a:lnTo>
                <a:lnTo>
                  <a:pt x="40578" y="21600"/>
                </a:lnTo>
                <a:lnTo>
                  <a:pt x="0" y="21600"/>
                </a:lnTo>
                <a:close/>
              </a:path>
              <a:path fill="lightenLess" w="40578" h="21600">
                <a:moveTo>
                  <a:pt x="0" y="0"/>
                </a:moveTo>
                <a:lnTo>
                  <a:pt x="40578" y="0"/>
                </a:lnTo>
                <a:lnTo>
                  <a:pt x="39178" y="1400"/>
                </a:lnTo>
                <a:lnTo>
                  <a:pt x="1400" y="1400"/>
                </a:lnTo>
                <a:close/>
              </a:path>
              <a:path fill="darken" w="40578" h="21600">
                <a:moveTo>
                  <a:pt x="40578" y="0"/>
                </a:moveTo>
                <a:lnTo>
                  <a:pt x="40578" y="21600"/>
                </a:lnTo>
                <a:lnTo>
                  <a:pt x="39178" y="20200"/>
                </a:lnTo>
                <a:lnTo>
                  <a:pt x="39178" y="1400"/>
                </a:lnTo>
                <a:close/>
              </a:path>
              <a:path fill="darkenLess" w="40578" h="21600">
                <a:moveTo>
                  <a:pt x="405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178" y="20200"/>
                </a:lnTo>
                <a:close/>
              </a:path>
              <a:path fill="lighten" w="405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578" h="21600">
                <a:moveTo>
                  <a:pt x="16790" y="10800"/>
                </a:moveTo>
                <a:lnTo>
                  <a:pt x="27295" y="3794"/>
                </a:lnTo>
                <a:lnTo>
                  <a:pt x="27295" y="17806"/>
                </a:lnTo>
                <a:close/>
              </a:path>
              <a:path fill="darken" w="40578" h="21600">
                <a:moveTo>
                  <a:pt x="13282" y="3794"/>
                </a:moveTo>
                <a:lnTo>
                  <a:pt x="14945" y="3794"/>
                </a:lnTo>
                <a:lnTo>
                  <a:pt x="14945" y="17806"/>
                </a:lnTo>
                <a:lnTo>
                  <a:pt x="13282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9" descr="背景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7"/>
          <p:cNvSpPr/>
          <p:nvPr/>
        </p:nvSpPr>
        <p:spPr>
          <a:xfrm>
            <a:off x="826920" y="1197000"/>
            <a:ext cx="74581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  <a:hlinkClick r:id="rId2" action="ppaction://hlinksldjump"/>
              </a:rPr>
              <a:t>●  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宋体"/>
                <a:hlinkClick r:id="rId3" action="ppaction://hlinksldjump"/>
              </a:rPr>
              <a:t>教学目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宋体"/>
                <a:hlinkClick r:id="rId4" action="ppaction://hlinksldjump"/>
              </a:rPr>
              <a:t>●  课文导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00"/>
                </a:solidFill>
                <a:uFillTx/>
                <a:latin typeface="宋体"/>
                <a:hlinkClick r:id="rId5" action="ppaction://hlinksldjump"/>
              </a:rPr>
              <a:t>● 阅读理解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宋体"/>
                <a:hlinkClick r:id="rId6" action="ppaction://hlinksldjump"/>
              </a:rPr>
              <a:t>●  课堂讨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00"/>
                </a:solidFill>
                <a:uFillTx/>
                <a:latin typeface="宋体"/>
                <a:hlinkClick r:id="rId7" action="ppaction://hlinksldjump"/>
              </a:rPr>
              <a:t>● 课堂小结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宋体"/>
                <a:hlinkClick r:id="rId8" action="ppaction://hlinksldjump"/>
              </a:rPr>
              <a:t>●  课后作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2556000" y="260280"/>
            <a:ext cx="367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本课教学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755640" y="981000"/>
            <a:ext cx="745812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7"/>
          <p:cNvSpPr/>
          <p:nvPr/>
        </p:nvSpPr>
        <p:spPr>
          <a:xfrm>
            <a:off x="250920" y="18900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教学目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1143000" y="1219320"/>
            <a:ext cx="7238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理解、体味作者对生命及其苦难的感悟；引导学生正确认识和理解自己的生命价值与意义，学会思索人生，敢于直面苦难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 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归纳课文内容，理清作者的写作思路；理解文中对地坛的描写与抒情之间的关系；品味文章沉静、绵密、抒情的语言特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能借助必要的修辞手法袒露自己的心迹、抒发自己的情感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9"/>
          <p:cNvSpPr/>
          <p:nvPr/>
        </p:nvSpPr>
        <p:spPr>
          <a:xfrm>
            <a:off x="8459640" y="6488280"/>
            <a:ext cx="540000" cy="287280"/>
          </a:xfrm>
          <a:custGeom>
            <a:avLst/>
            <a:gdLst>
              <a:gd name="textAreaLeft" fmla="*/ 18360 w 540000"/>
              <a:gd name="textAreaRight" fmla="*/ 521640 w 540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0578" h="21600">
                <a:moveTo>
                  <a:pt x="0" y="0"/>
                </a:moveTo>
                <a:lnTo>
                  <a:pt x="40578" y="0"/>
                </a:lnTo>
                <a:lnTo>
                  <a:pt x="40578" y="21600"/>
                </a:lnTo>
                <a:lnTo>
                  <a:pt x="0" y="21600"/>
                </a:lnTo>
                <a:close/>
              </a:path>
              <a:path fill="lightenLess" w="40578" h="21600">
                <a:moveTo>
                  <a:pt x="0" y="0"/>
                </a:moveTo>
                <a:lnTo>
                  <a:pt x="40578" y="0"/>
                </a:lnTo>
                <a:lnTo>
                  <a:pt x="39178" y="1400"/>
                </a:lnTo>
                <a:lnTo>
                  <a:pt x="1400" y="1400"/>
                </a:lnTo>
                <a:close/>
              </a:path>
              <a:path fill="darken" w="40578" h="21600">
                <a:moveTo>
                  <a:pt x="40578" y="0"/>
                </a:moveTo>
                <a:lnTo>
                  <a:pt x="40578" y="21600"/>
                </a:lnTo>
                <a:lnTo>
                  <a:pt x="39178" y="20200"/>
                </a:lnTo>
                <a:lnTo>
                  <a:pt x="39178" y="1400"/>
                </a:lnTo>
                <a:close/>
              </a:path>
              <a:path fill="darkenLess" w="40578" h="21600">
                <a:moveTo>
                  <a:pt x="405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178" y="20200"/>
                </a:lnTo>
                <a:close/>
              </a:path>
              <a:path fill="lighten" w="405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578" h="21600">
                <a:moveTo>
                  <a:pt x="16790" y="10800"/>
                </a:moveTo>
                <a:lnTo>
                  <a:pt x="27295" y="3794"/>
                </a:lnTo>
                <a:lnTo>
                  <a:pt x="27295" y="17806"/>
                </a:lnTo>
                <a:close/>
              </a:path>
              <a:path fill="darken" w="40578" h="21600">
                <a:moveTo>
                  <a:pt x="13282" y="3794"/>
                </a:moveTo>
                <a:lnTo>
                  <a:pt x="14945" y="3794"/>
                </a:lnTo>
                <a:lnTo>
                  <a:pt x="14945" y="17806"/>
                </a:lnTo>
                <a:lnTo>
                  <a:pt x="13282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250920" y="18900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课文导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1219320" y="1860840"/>
            <a:ext cx="6629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以提问的方式引发学生的学习兴趣，导入新课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问题一：我的身体残疾了，我的生命是不是就此结束了，是不是就一死了之算了？也就是说，我该不该去死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问题二：我为什么要出生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问题三：我应该怎样活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1"/>
          <p:cNvSpPr/>
          <p:nvPr/>
        </p:nvSpPr>
        <p:spPr>
          <a:xfrm>
            <a:off x="8459640" y="6488280"/>
            <a:ext cx="540000" cy="287280"/>
          </a:xfrm>
          <a:custGeom>
            <a:avLst/>
            <a:gdLst>
              <a:gd name="textAreaLeft" fmla="*/ 18360 w 540000"/>
              <a:gd name="textAreaRight" fmla="*/ 521640 w 540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0578" h="21600">
                <a:moveTo>
                  <a:pt x="0" y="0"/>
                </a:moveTo>
                <a:lnTo>
                  <a:pt x="40578" y="0"/>
                </a:lnTo>
                <a:lnTo>
                  <a:pt x="40578" y="21600"/>
                </a:lnTo>
                <a:lnTo>
                  <a:pt x="0" y="21600"/>
                </a:lnTo>
                <a:close/>
              </a:path>
              <a:path fill="lightenLess" w="40578" h="21600">
                <a:moveTo>
                  <a:pt x="0" y="0"/>
                </a:moveTo>
                <a:lnTo>
                  <a:pt x="40578" y="0"/>
                </a:lnTo>
                <a:lnTo>
                  <a:pt x="39178" y="1400"/>
                </a:lnTo>
                <a:lnTo>
                  <a:pt x="1400" y="1400"/>
                </a:lnTo>
                <a:close/>
              </a:path>
              <a:path fill="darken" w="40578" h="21600">
                <a:moveTo>
                  <a:pt x="40578" y="0"/>
                </a:moveTo>
                <a:lnTo>
                  <a:pt x="40578" y="21600"/>
                </a:lnTo>
                <a:lnTo>
                  <a:pt x="39178" y="20200"/>
                </a:lnTo>
                <a:lnTo>
                  <a:pt x="39178" y="1400"/>
                </a:lnTo>
                <a:close/>
              </a:path>
              <a:path fill="darkenLess" w="40578" h="21600">
                <a:moveTo>
                  <a:pt x="405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178" y="20200"/>
                </a:lnTo>
                <a:close/>
              </a:path>
              <a:path fill="lighten" w="405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578" h="21600">
                <a:moveTo>
                  <a:pt x="16790" y="10800"/>
                </a:moveTo>
                <a:lnTo>
                  <a:pt x="27295" y="3794"/>
                </a:lnTo>
                <a:lnTo>
                  <a:pt x="27295" y="17806"/>
                </a:lnTo>
                <a:close/>
              </a:path>
              <a:path fill="darken" w="40578" h="21600">
                <a:moveTo>
                  <a:pt x="13282" y="3794"/>
                </a:moveTo>
                <a:lnTo>
                  <a:pt x="14945" y="3794"/>
                </a:lnTo>
                <a:lnTo>
                  <a:pt x="14945" y="17806"/>
                </a:lnTo>
                <a:lnTo>
                  <a:pt x="13282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250920" y="189000"/>
            <a:ext cx="3024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380880" y="22860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阅读理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5"/>
          <p:cNvSpPr/>
          <p:nvPr/>
        </p:nvSpPr>
        <p:spPr>
          <a:xfrm>
            <a:off x="1219320" y="1828800"/>
            <a:ext cx="601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找出并诵读文中三处景物描写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体会其意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力求读出一份对生命的感悟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并用关键词将作者对生命的感悟过程记录下来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6"/>
          <p:cNvSpPr/>
          <p:nvPr/>
        </p:nvSpPr>
        <p:spPr>
          <a:xfrm>
            <a:off x="8459640" y="6488280"/>
            <a:ext cx="540000" cy="287280"/>
          </a:xfrm>
          <a:custGeom>
            <a:avLst/>
            <a:gdLst>
              <a:gd name="textAreaLeft" fmla="*/ 18360 w 540000"/>
              <a:gd name="textAreaRight" fmla="*/ 521640 w 540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0578" h="21600">
                <a:moveTo>
                  <a:pt x="0" y="0"/>
                </a:moveTo>
                <a:lnTo>
                  <a:pt x="40578" y="0"/>
                </a:lnTo>
                <a:lnTo>
                  <a:pt x="40578" y="21600"/>
                </a:lnTo>
                <a:lnTo>
                  <a:pt x="0" y="21600"/>
                </a:lnTo>
                <a:close/>
              </a:path>
              <a:path fill="lightenLess" w="40578" h="21600">
                <a:moveTo>
                  <a:pt x="0" y="0"/>
                </a:moveTo>
                <a:lnTo>
                  <a:pt x="40578" y="0"/>
                </a:lnTo>
                <a:lnTo>
                  <a:pt x="39178" y="1400"/>
                </a:lnTo>
                <a:lnTo>
                  <a:pt x="1400" y="1400"/>
                </a:lnTo>
                <a:close/>
              </a:path>
              <a:path fill="darken" w="40578" h="21600">
                <a:moveTo>
                  <a:pt x="40578" y="0"/>
                </a:moveTo>
                <a:lnTo>
                  <a:pt x="40578" y="21600"/>
                </a:lnTo>
                <a:lnTo>
                  <a:pt x="39178" y="20200"/>
                </a:lnTo>
                <a:lnTo>
                  <a:pt x="39178" y="1400"/>
                </a:lnTo>
                <a:close/>
              </a:path>
              <a:path fill="darkenLess" w="40578" h="21600">
                <a:moveTo>
                  <a:pt x="405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178" y="20200"/>
                </a:lnTo>
                <a:close/>
              </a:path>
              <a:path fill="lighten" w="405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578" h="21600">
                <a:moveTo>
                  <a:pt x="16790" y="10800"/>
                </a:moveTo>
                <a:lnTo>
                  <a:pt x="27295" y="3794"/>
                </a:lnTo>
                <a:lnTo>
                  <a:pt x="27295" y="17806"/>
                </a:lnTo>
                <a:close/>
              </a:path>
              <a:path fill="darken" w="40578" h="21600">
                <a:moveTo>
                  <a:pt x="13282" y="3794"/>
                </a:moveTo>
                <a:lnTo>
                  <a:pt x="14945" y="3794"/>
                </a:lnTo>
                <a:lnTo>
                  <a:pt x="14945" y="17806"/>
                </a:lnTo>
                <a:lnTo>
                  <a:pt x="13282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380880" y="22860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阅读理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分析领会6"/>
          <p:cNvPicPr/>
          <p:nvPr/>
        </p:nvPicPr>
        <p:blipFill>
          <a:blip r:embed="rId2"/>
          <a:stretch/>
        </p:blipFill>
        <p:spPr>
          <a:xfrm>
            <a:off x="3200400" y="380880"/>
            <a:ext cx="2514600" cy="40176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14"/>
          <p:cNvSpPr/>
          <p:nvPr/>
        </p:nvSpPr>
        <p:spPr>
          <a:xfrm>
            <a:off x="304920" y="1143000"/>
            <a:ext cx="3809880" cy="609480"/>
          </a:xfrm>
          <a:prstGeom prst="roundRect">
            <a:avLst>
              <a:gd name="adj" fmla="val 16667"/>
            </a:avLst>
          </a:prstGeom>
          <a:solidFill>
            <a:srgbClr val="33ccff"/>
          </a:soli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分析领会7"/>
          <p:cNvPicPr/>
          <p:nvPr/>
        </p:nvPicPr>
        <p:blipFill>
          <a:blip r:embed="rId3"/>
          <a:srcRect l="0" t="4109" r="30092" b="67129"/>
          <a:stretch/>
        </p:blipFill>
        <p:spPr>
          <a:xfrm>
            <a:off x="609480" y="1143000"/>
            <a:ext cx="3364200" cy="533520"/>
          </a:xfrm>
          <a:prstGeom prst="rect">
            <a:avLst/>
          </a:prstGeom>
          <a:ln w="0">
            <a:noFill/>
          </a:ln>
        </p:spPr>
      </p:pic>
      <p:sp>
        <p:nvSpPr>
          <p:cNvPr id="87" name="AutoShape 15"/>
          <p:cNvSpPr/>
          <p:nvPr/>
        </p:nvSpPr>
        <p:spPr>
          <a:xfrm>
            <a:off x="1752480" y="1981080"/>
            <a:ext cx="3886200" cy="533520"/>
          </a:xfrm>
          <a:prstGeom prst="roundRect">
            <a:avLst>
              <a:gd name="adj" fmla="val 16667"/>
            </a:avLst>
          </a:prstGeom>
          <a:solidFill>
            <a:srgbClr val="33ccff"/>
          </a:soli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8" descr="分析领会7"/>
          <p:cNvPicPr/>
          <p:nvPr/>
        </p:nvPicPr>
        <p:blipFill>
          <a:blip r:embed="rId4"/>
          <a:srcRect l="76020" t="0" r="6565" b="67129"/>
          <a:stretch/>
        </p:blipFill>
        <p:spPr>
          <a:xfrm>
            <a:off x="2362320" y="1828800"/>
            <a:ext cx="990360" cy="720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分析领会7"/>
          <p:cNvPicPr/>
          <p:nvPr/>
        </p:nvPicPr>
        <p:blipFill>
          <a:blip r:embed="rId5"/>
          <a:srcRect l="0" t="32884" r="77835" b="38366"/>
          <a:stretch/>
        </p:blipFill>
        <p:spPr>
          <a:xfrm>
            <a:off x="4191120" y="1981080"/>
            <a:ext cx="1066680" cy="533520"/>
          </a:xfrm>
          <a:prstGeom prst="rect">
            <a:avLst/>
          </a:prstGeom>
          <a:ln w="0">
            <a:noFill/>
          </a:ln>
        </p:spPr>
      </p:pic>
      <p:sp>
        <p:nvSpPr>
          <p:cNvPr id="90" name="AutoShape 16"/>
          <p:cNvSpPr/>
          <p:nvPr/>
        </p:nvSpPr>
        <p:spPr>
          <a:xfrm>
            <a:off x="3962520" y="2666880"/>
            <a:ext cx="4419360" cy="609840"/>
          </a:xfrm>
          <a:prstGeom prst="roundRect">
            <a:avLst>
              <a:gd name="adj" fmla="val 16667"/>
            </a:avLst>
          </a:prstGeom>
          <a:solidFill>
            <a:srgbClr val="33ccff"/>
          </a:soli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0" descr="分析领会7"/>
          <p:cNvPicPr/>
          <p:nvPr/>
        </p:nvPicPr>
        <p:blipFill>
          <a:blip r:embed="rId6"/>
          <a:srcRect l="23758" t="36993" r="0" b="30136"/>
          <a:stretch/>
        </p:blipFill>
        <p:spPr>
          <a:xfrm>
            <a:off x="4191120" y="2743200"/>
            <a:ext cx="3668760" cy="60948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17"/>
          <p:cNvSpPr/>
          <p:nvPr/>
        </p:nvSpPr>
        <p:spPr>
          <a:xfrm>
            <a:off x="228600" y="3429000"/>
            <a:ext cx="3962520" cy="685800"/>
          </a:xfrm>
          <a:prstGeom prst="roundRect">
            <a:avLst>
              <a:gd name="adj" fmla="val 16667"/>
            </a:avLst>
          </a:prstGeom>
          <a:solidFill>
            <a:srgbClr val="33ccff"/>
          </a:soli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1" descr="分析领会7"/>
          <p:cNvPicPr/>
          <p:nvPr/>
        </p:nvPicPr>
        <p:blipFill>
          <a:blip r:embed="rId7"/>
          <a:srcRect l="0" t="65767" r="20817" b="1374"/>
          <a:stretch/>
        </p:blipFill>
        <p:spPr>
          <a:xfrm>
            <a:off x="380880" y="3505320"/>
            <a:ext cx="3810240" cy="6094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" descr="分析领会5"/>
          <p:cNvPicPr/>
          <p:nvPr/>
        </p:nvPicPr>
        <p:blipFill>
          <a:blip r:embed="rId8"/>
          <a:stretch/>
        </p:blipFill>
        <p:spPr>
          <a:xfrm>
            <a:off x="2438280" y="4267080"/>
            <a:ext cx="5791320" cy="1257480"/>
          </a:xfrm>
          <a:prstGeom prst="rect">
            <a:avLst/>
          </a:prstGeom>
          <a:ln w="57240">
            <a:solidFill>
              <a:srgbClr val="0000cc"/>
            </a:solidFill>
            <a:miter/>
          </a:ln>
        </p:spPr>
      </p:pic>
      <p:pic>
        <p:nvPicPr>
          <p:cNvPr id="95" name="Picture 13" descr="分析领会4"/>
          <p:cNvPicPr/>
          <p:nvPr/>
        </p:nvPicPr>
        <p:blipFill>
          <a:blip r:embed="rId9"/>
          <a:stretch/>
        </p:blipFill>
        <p:spPr>
          <a:xfrm>
            <a:off x="2514600" y="5943600"/>
            <a:ext cx="5638680" cy="615960"/>
          </a:xfrm>
          <a:prstGeom prst="rect">
            <a:avLst/>
          </a:prstGeom>
          <a:ln w="0">
            <a:noFill/>
          </a:ln>
        </p:spPr>
      </p:pic>
      <p:sp>
        <p:nvSpPr>
          <p:cNvPr id="96" name="Line 19"/>
          <p:cNvSpPr/>
          <p:nvPr/>
        </p:nvSpPr>
        <p:spPr>
          <a:xfrm>
            <a:off x="4114800" y="1447920"/>
            <a:ext cx="76212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20"/>
          <p:cNvSpPr/>
          <p:nvPr/>
        </p:nvSpPr>
        <p:spPr>
          <a:xfrm>
            <a:off x="4876920" y="1447920"/>
            <a:ext cx="0" cy="45720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1"/>
          <p:cNvSpPr/>
          <p:nvPr/>
        </p:nvSpPr>
        <p:spPr>
          <a:xfrm>
            <a:off x="5638680" y="2286000"/>
            <a:ext cx="60984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2"/>
          <p:cNvSpPr/>
          <p:nvPr/>
        </p:nvSpPr>
        <p:spPr>
          <a:xfrm>
            <a:off x="6248520" y="2286000"/>
            <a:ext cx="0" cy="38088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23"/>
          <p:cNvSpPr/>
          <p:nvPr/>
        </p:nvSpPr>
        <p:spPr>
          <a:xfrm flipH="1">
            <a:off x="2590920" y="2971800"/>
            <a:ext cx="137160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24"/>
          <p:cNvSpPr/>
          <p:nvPr/>
        </p:nvSpPr>
        <p:spPr>
          <a:xfrm>
            <a:off x="2590920" y="2971800"/>
            <a:ext cx="0" cy="45720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5"/>
          <p:cNvSpPr/>
          <p:nvPr/>
        </p:nvSpPr>
        <p:spPr>
          <a:xfrm>
            <a:off x="4191120" y="3809880"/>
            <a:ext cx="129528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26"/>
          <p:cNvSpPr/>
          <p:nvPr/>
        </p:nvSpPr>
        <p:spPr>
          <a:xfrm>
            <a:off x="5486400" y="3809880"/>
            <a:ext cx="0" cy="38124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7"/>
          <p:cNvSpPr/>
          <p:nvPr/>
        </p:nvSpPr>
        <p:spPr>
          <a:xfrm>
            <a:off x="3733920" y="5562720"/>
            <a:ext cx="0" cy="30456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8"/>
          <p:cNvSpPr/>
          <p:nvPr/>
        </p:nvSpPr>
        <p:spPr>
          <a:xfrm>
            <a:off x="6248520" y="5562720"/>
            <a:ext cx="0" cy="30456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30"/>
          <p:cNvSpPr/>
          <p:nvPr/>
        </p:nvSpPr>
        <p:spPr>
          <a:xfrm>
            <a:off x="8459640" y="6488280"/>
            <a:ext cx="540000" cy="287280"/>
          </a:xfrm>
          <a:custGeom>
            <a:avLst/>
            <a:gdLst>
              <a:gd name="textAreaLeft" fmla="*/ 18360 w 540000"/>
              <a:gd name="textAreaRight" fmla="*/ 521640 w 540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0578" h="21600">
                <a:moveTo>
                  <a:pt x="0" y="0"/>
                </a:moveTo>
                <a:lnTo>
                  <a:pt x="40578" y="0"/>
                </a:lnTo>
                <a:lnTo>
                  <a:pt x="40578" y="21600"/>
                </a:lnTo>
                <a:lnTo>
                  <a:pt x="0" y="21600"/>
                </a:lnTo>
                <a:close/>
              </a:path>
              <a:path fill="lightenLess" w="40578" h="21600">
                <a:moveTo>
                  <a:pt x="0" y="0"/>
                </a:moveTo>
                <a:lnTo>
                  <a:pt x="40578" y="0"/>
                </a:lnTo>
                <a:lnTo>
                  <a:pt x="39178" y="1400"/>
                </a:lnTo>
                <a:lnTo>
                  <a:pt x="1400" y="1400"/>
                </a:lnTo>
                <a:close/>
              </a:path>
              <a:path fill="darken" w="40578" h="21600">
                <a:moveTo>
                  <a:pt x="40578" y="0"/>
                </a:moveTo>
                <a:lnTo>
                  <a:pt x="40578" y="21600"/>
                </a:lnTo>
                <a:lnTo>
                  <a:pt x="39178" y="20200"/>
                </a:lnTo>
                <a:lnTo>
                  <a:pt x="39178" y="1400"/>
                </a:lnTo>
                <a:close/>
              </a:path>
              <a:path fill="darkenLess" w="40578" h="21600">
                <a:moveTo>
                  <a:pt x="405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178" y="20200"/>
                </a:lnTo>
                <a:close/>
              </a:path>
              <a:path fill="lighten" w="405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578" h="21600">
                <a:moveTo>
                  <a:pt x="16790" y="10800"/>
                </a:moveTo>
                <a:lnTo>
                  <a:pt x="27295" y="3794"/>
                </a:lnTo>
                <a:lnTo>
                  <a:pt x="27295" y="17806"/>
                </a:lnTo>
                <a:close/>
              </a:path>
              <a:path fill="darken" w="40578" h="21600">
                <a:moveTo>
                  <a:pt x="13282" y="3794"/>
                </a:moveTo>
                <a:lnTo>
                  <a:pt x="14945" y="3794"/>
                </a:lnTo>
                <a:lnTo>
                  <a:pt x="14945" y="17806"/>
                </a:lnTo>
                <a:lnTo>
                  <a:pt x="13282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第二处"/>
          <p:cNvPicPr/>
          <p:nvPr/>
        </p:nvPicPr>
        <p:blipFill>
          <a:blip r:embed="rId2"/>
          <a:stretch/>
        </p:blipFill>
        <p:spPr>
          <a:xfrm>
            <a:off x="3733920" y="685800"/>
            <a:ext cx="2412720" cy="38592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6"/>
          <p:cNvSpPr/>
          <p:nvPr/>
        </p:nvSpPr>
        <p:spPr>
          <a:xfrm>
            <a:off x="380880" y="22860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阅读理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0"/>
          <p:cNvSpPr/>
          <p:nvPr/>
        </p:nvSpPr>
        <p:spPr>
          <a:xfrm>
            <a:off x="762120" y="1523880"/>
            <a:ext cx="4114800" cy="609840"/>
          </a:xfrm>
          <a:prstGeom prst="roundRect">
            <a:avLst>
              <a:gd name="adj" fmla="val 16667"/>
            </a:avLst>
          </a:prstGeom>
          <a:solidFill>
            <a:srgbClr val="33ccff"/>
          </a:soli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7" descr="第二处3"/>
          <p:cNvPicPr/>
          <p:nvPr/>
        </p:nvPicPr>
        <p:blipFill>
          <a:blip r:embed="rId3"/>
          <a:srcRect l="0" t="0" r="52880" b="33356"/>
          <a:stretch/>
        </p:blipFill>
        <p:spPr>
          <a:xfrm>
            <a:off x="1066680" y="1600200"/>
            <a:ext cx="3429000" cy="533520"/>
          </a:xfrm>
          <a:prstGeom prst="rect">
            <a:avLst/>
          </a:prstGeom>
          <a:ln w="0">
            <a:noFill/>
          </a:ln>
        </p:spPr>
      </p:pic>
      <p:sp>
        <p:nvSpPr>
          <p:cNvPr id="114" name="AutoShape 11"/>
          <p:cNvSpPr/>
          <p:nvPr/>
        </p:nvSpPr>
        <p:spPr>
          <a:xfrm>
            <a:off x="3352680" y="2362320"/>
            <a:ext cx="4191120" cy="685800"/>
          </a:xfrm>
          <a:prstGeom prst="roundRect">
            <a:avLst>
              <a:gd name="adj" fmla="val 16667"/>
            </a:avLst>
          </a:prstGeom>
          <a:solidFill>
            <a:srgbClr val="33ccff"/>
          </a:soli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8" descr="第二处3"/>
          <p:cNvPicPr/>
          <p:nvPr/>
        </p:nvPicPr>
        <p:blipFill>
          <a:blip r:embed="rId4"/>
          <a:srcRect l="50263" t="0" r="0" b="42876"/>
          <a:stretch/>
        </p:blipFill>
        <p:spPr>
          <a:xfrm>
            <a:off x="3657600" y="2438280"/>
            <a:ext cx="3619440" cy="4572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第二处2"/>
          <p:cNvPicPr/>
          <p:nvPr/>
        </p:nvPicPr>
        <p:blipFill>
          <a:blip r:embed="rId5"/>
          <a:stretch/>
        </p:blipFill>
        <p:spPr>
          <a:xfrm>
            <a:off x="2133720" y="3505320"/>
            <a:ext cx="6476760" cy="2576520"/>
          </a:xfrm>
          <a:prstGeom prst="rect">
            <a:avLst/>
          </a:prstGeom>
          <a:ln w="0">
            <a:noFill/>
          </a:ln>
        </p:spPr>
      </p:pic>
      <p:sp>
        <p:nvSpPr>
          <p:cNvPr id="117" name="Line 12"/>
          <p:cNvSpPr/>
          <p:nvPr/>
        </p:nvSpPr>
        <p:spPr>
          <a:xfrm>
            <a:off x="4876920" y="1752480"/>
            <a:ext cx="114300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3"/>
          <p:cNvSpPr/>
          <p:nvPr/>
        </p:nvSpPr>
        <p:spPr>
          <a:xfrm>
            <a:off x="6019920" y="1752480"/>
            <a:ext cx="0" cy="53352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5"/>
          <p:cNvSpPr/>
          <p:nvPr/>
        </p:nvSpPr>
        <p:spPr>
          <a:xfrm>
            <a:off x="4495680" y="3048120"/>
            <a:ext cx="0" cy="30456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6"/>
          <p:cNvSpPr/>
          <p:nvPr/>
        </p:nvSpPr>
        <p:spPr>
          <a:xfrm>
            <a:off x="6172200" y="3048120"/>
            <a:ext cx="0" cy="30456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8" descr="11"/>
          <p:cNvPicPr/>
          <p:nvPr/>
        </p:nvPicPr>
        <p:blipFill>
          <a:blip r:embed="rId6"/>
          <a:srcRect l="0" t="0" r="0" b="16514"/>
          <a:stretch/>
        </p:blipFill>
        <p:spPr>
          <a:xfrm rot="10395000">
            <a:off x="761760" y="4342680"/>
            <a:ext cx="1143000" cy="5382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7" descr="1"/>
          <p:cNvPicPr/>
          <p:nvPr/>
        </p:nvPicPr>
        <p:blipFill>
          <a:blip r:embed="rId7"/>
          <a:stretch/>
        </p:blipFill>
        <p:spPr>
          <a:xfrm rot="20733000">
            <a:off x="838080" y="2438280"/>
            <a:ext cx="582840" cy="220500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19"/>
          <p:cNvSpPr/>
          <p:nvPr/>
        </p:nvSpPr>
        <p:spPr>
          <a:xfrm>
            <a:off x="8459640" y="6488280"/>
            <a:ext cx="540000" cy="287280"/>
          </a:xfrm>
          <a:custGeom>
            <a:avLst/>
            <a:gdLst>
              <a:gd name="textAreaLeft" fmla="*/ 18360 w 540000"/>
              <a:gd name="textAreaRight" fmla="*/ 521640 w 540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0578" h="21600">
                <a:moveTo>
                  <a:pt x="0" y="0"/>
                </a:moveTo>
                <a:lnTo>
                  <a:pt x="40578" y="0"/>
                </a:lnTo>
                <a:lnTo>
                  <a:pt x="40578" y="21600"/>
                </a:lnTo>
                <a:lnTo>
                  <a:pt x="0" y="21600"/>
                </a:lnTo>
                <a:close/>
              </a:path>
              <a:path fill="lightenLess" w="40578" h="21600">
                <a:moveTo>
                  <a:pt x="0" y="0"/>
                </a:moveTo>
                <a:lnTo>
                  <a:pt x="40578" y="0"/>
                </a:lnTo>
                <a:lnTo>
                  <a:pt x="39178" y="1400"/>
                </a:lnTo>
                <a:lnTo>
                  <a:pt x="1400" y="1400"/>
                </a:lnTo>
                <a:close/>
              </a:path>
              <a:path fill="darken" w="40578" h="21600">
                <a:moveTo>
                  <a:pt x="40578" y="0"/>
                </a:moveTo>
                <a:lnTo>
                  <a:pt x="40578" y="21600"/>
                </a:lnTo>
                <a:lnTo>
                  <a:pt x="39178" y="20200"/>
                </a:lnTo>
                <a:lnTo>
                  <a:pt x="39178" y="1400"/>
                </a:lnTo>
                <a:close/>
              </a:path>
              <a:path fill="darkenLess" w="40578" h="21600">
                <a:moveTo>
                  <a:pt x="405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178" y="20200"/>
                </a:lnTo>
                <a:close/>
              </a:path>
              <a:path fill="lighten" w="405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578" h="21600">
                <a:moveTo>
                  <a:pt x="16790" y="10800"/>
                </a:moveTo>
                <a:lnTo>
                  <a:pt x="27295" y="3794"/>
                </a:lnTo>
                <a:lnTo>
                  <a:pt x="27295" y="17806"/>
                </a:lnTo>
                <a:close/>
              </a:path>
              <a:path fill="darken" w="40578" h="21600">
                <a:moveTo>
                  <a:pt x="13282" y="3794"/>
                </a:moveTo>
                <a:lnTo>
                  <a:pt x="14945" y="3794"/>
                </a:lnTo>
                <a:lnTo>
                  <a:pt x="14945" y="17806"/>
                </a:lnTo>
                <a:lnTo>
                  <a:pt x="13282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380880" y="22860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阅读理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4"/>
          <p:cNvSpPr/>
          <p:nvPr/>
        </p:nvSpPr>
        <p:spPr>
          <a:xfrm>
            <a:off x="3048120" y="304920"/>
            <a:ext cx="30477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0000"/>
                </a:solidFill>
                <a:latin typeface="Arial"/>
                <a:ea typeface="隶书"/>
              </a:rPr>
              <a:t>第三处景物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9" descr="四季"/>
          <p:cNvPicPr/>
          <p:nvPr/>
        </p:nvPicPr>
        <p:blipFill>
          <a:blip r:embed="rId2"/>
          <a:srcRect l="87438" t="-18127" r="0" b="-18127"/>
          <a:stretch/>
        </p:blipFill>
        <p:spPr>
          <a:xfrm rot="299400">
            <a:off x="1905120" y="4800240"/>
            <a:ext cx="1226880" cy="16002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0" descr="四季"/>
          <p:cNvPicPr/>
          <p:nvPr/>
        </p:nvPicPr>
        <p:blipFill>
          <a:blip r:embed="rId3"/>
          <a:srcRect l="56836" t="0" r="25682" b="0"/>
          <a:stretch/>
        </p:blipFill>
        <p:spPr>
          <a:xfrm rot="21183600">
            <a:off x="6705720" y="5333760"/>
            <a:ext cx="1218960" cy="8380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3" descr="四季"/>
          <p:cNvPicPr/>
          <p:nvPr/>
        </p:nvPicPr>
        <p:blipFill>
          <a:blip r:embed="rId4"/>
          <a:srcRect l="30602" t="0" r="53010" b="0"/>
          <a:stretch/>
        </p:blipFill>
        <p:spPr>
          <a:xfrm rot="813600">
            <a:off x="1599840" y="1523520"/>
            <a:ext cx="1143000" cy="838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6" descr="四季"/>
          <p:cNvPicPr/>
          <p:nvPr/>
        </p:nvPicPr>
        <p:blipFill>
          <a:blip r:embed="rId5"/>
          <a:srcRect l="0" t="0" r="86070" b="0"/>
          <a:stretch/>
        </p:blipFill>
        <p:spPr>
          <a:xfrm rot="21286800">
            <a:off x="6400800" y="1371600"/>
            <a:ext cx="971640" cy="838080"/>
          </a:xfrm>
          <a:prstGeom prst="rect">
            <a:avLst/>
          </a:prstGeom>
          <a:ln w="0">
            <a:noFill/>
          </a:ln>
        </p:spPr>
      </p:pic>
      <p:grpSp>
        <p:nvGrpSpPr>
          <p:cNvPr id="133" name="Group 27"/>
          <p:cNvGrpSpPr/>
          <p:nvPr/>
        </p:nvGrpSpPr>
        <p:grpSpPr>
          <a:xfrm>
            <a:off x="1752480" y="2666880"/>
            <a:ext cx="5695920" cy="914040"/>
            <a:chOff x="1752480" y="2666880"/>
            <a:chExt cx="5695920" cy="914040"/>
          </a:xfrm>
        </p:grpSpPr>
        <p:pic>
          <p:nvPicPr>
            <p:cNvPr id="134" name="Picture 28" descr="第三处景物2"/>
            <p:cNvPicPr/>
            <p:nvPr/>
          </p:nvPicPr>
          <p:blipFill>
            <a:blip r:embed="rId6"/>
            <a:srcRect l="30628" t="47843" r="0" b="22107"/>
            <a:stretch/>
          </p:blipFill>
          <p:spPr>
            <a:xfrm>
              <a:off x="1752480" y="2666880"/>
              <a:ext cx="5695920" cy="48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Picture 29" descr="第三处景物2"/>
            <p:cNvPicPr/>
            <p:nvPr/>
          </p:nvPicPr>
          <p:blipFill>
            <a:blip r:embed="rId7"/>
            <a:srcRect l="0" t="75151" r="31325" b="-2174"/>
            <a:stretch/>
          </p:blipFill>
          <p:spPr>
            <a:xfrm>
              <a:off x="1752480" y="3147840"/>
              <a:ext cx="5638680" cy="43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6" name="Picture 30" descr="第三处景物2"/>
          <p:cNvPicPr/>
          <p:nvPr/>
        </p:nvPicPr>
        <p:blipFill>
          <a:blip r:embed="rId8"/>
          <a:srcRect l="0" t="0" r="0" b="47207"/>
          <a:stretch/>
        </p:blipFill>
        <p:spPr>
          <a:xfrm>
            <a:off x="2057400" y="3809880"/>
            <a:ext cx="6076800" cy="990720"/>
          </a:xfrm>
          <a:prstGeom prst="rect">
            <a:avLst/>
          </a:prstGeom>
          <a:ln w="0">
            <a:noFill/>
          </a:ln>
        </p:spPr>
      </p:pic>
      <p:sp>
        <p:nvSpPr>
          <p:cNvPr id="137" name="AutoShape 31"/>
          <p:cNvSpPr/>
          <p:nvPr/>
        </p:nvSpPr>
        <p:spPr>
          <a:xfrm>
            <a:off x="8459640" y="6488280"/>
            <a:ext cx="540000" cy="287280"/>
          </a:xfrm>
          <a:custGeom>
            <a:avLst/>
            <a:gdLst>
              <a:gd name="textAreaLeft" fmla="*/ 18360 w 540000"/>
              <a:gd name="textAreaRight" fmla="*/ 521640 w 540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0578" h="21600">
                <a:moveTo>
                  <a:pt x="0" y="0"/>
                </a:moveTo>
                <a:lnTo>
                  <a:pt x="40578" y="0"/>
                </a:lnTo>
                <a:lnTo>
                  <a:pt x="40578" y="21600"/>
                </a:lnTo>
                <a:lnTo>
                  <a:pt x="0" y="21600"/>
                </a:lnTo>
                <a:close/>
              </a:path>
              <a:path fill="lightenLess" w="40578" h="21600">
                <a:moveTo>
                  <a:pt x="0" y="0"/>
                </a:moveTo>
                <a:lnTo>
                  <a:pt x="40578" y="0"/>
                </a:lnTo>
                <a:lnTo>
                  <a:pt x="39178" y="1400"/>
                </a:lnTo>
                <a:lnTo>
                  <a:pt x="1400" y="1400"/>
                </a:lnTo>
                <a:close/>
              </a:path>
              <a:path fill="darken" w="40578" h="21600">
                <a:moveTo>
                  <a:pt x="40578" y="0"/>
                </a:moveTo>
                <a:lnTo>
                  <a:pt x="40578" y="21600"/>
                </a:lnTo>
                <a:lnTo>
                  <a:pt x="39178" y="20200"/>
                </a:lnTo>
                <a:lnTo>
                  <a:pt x="39178" y="1400"/>
                </a:lnTo>
                <a:close/>
              </a:path>
              <a:path fill="darkenLess" w="40578" h="21600">
                <a:moveTo>
                  <a:pt x="405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178" y="20200"/>
                </a:lnTo>
                <a:close/>
              </a:path>
              <a:path fill="lighten" w="405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578" h="21600">
                <a:moveTo>
                  <a:pt x="16790" y="10800"/>
                </a:moveTo>
                <a:lnTo>
                  <a:pt x="27295" y="3794"/>
                </a:lnTo>
                <a:lnTo>
                  <a:pt x="27295" y="17806"/>
                </a:lnTo>
                <a:close/>
              </a:path>
              <a:path fill="darken" w="40578" h="21600">
                <a:moveTo>
                  <a:pt x="13282" y="3794"/>
                </a:moveTo>
                <a:lnTo>
                  <a:pt x="14945" y="3794"/>
                </a:lnTo>
                <a:lnTo>
                  <a:pt x="14945" y="17806"/>
                </a:lnTo>
                <a:lnTo>
                  <a:pt x="13282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380880" y="22860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课堂讨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WordArt 6"/>
          <p:cNvSpPr txBox="1"/>
          <p:nvPr/>
        </p:nvSpPr>
        <p:spPr>
          <a:xfrm>
            <a:off x="2895480" y="914400"/>
            <a:ext cx="31402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黑体"/>
              </a:rPr>
              <a:t>生命的思考</a:t>
            </a:r>
            <a:endParaRPr b="1" lang="en-US" sz="5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1295280" y="23623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1143000" y="2743200"/>
            <a:ext cx="65530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摘抄出自己所喜欢的一些句子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并简要说明理由。要求以“面对生命”为主题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9"/>
          <p:cNvSpPr/>
          <p:nvPr/>
        </p:nvSpPr>
        <p:spPr>
          <a:xfrm>
            <a:off x="8459640" y="6488280"/>
            <a:ext cx="540000" cy="287280"/>
          </a:xfrm>
          <a:custGeom>
            <a:avLst/>
            <a:gdLst>
              <a:gd name="textAreaLeft" fmla="*/ 18360 w 540000"/>
              <a:gd name="textAreaRight" fmla="*/ 521640 w 540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0578" h="21600">
                <a:moveTo>
                  <a:pt x="0" y="0"/>
                </a:moveTo>
                <a:lnTo>
                  <a:pt x="40578" y="0"/>
                </a:lnTo>
                <a:lnTo>
                  <a:pt x="40578" y="21600"/>
                </a:lnTo>
                <a:lnTo>
                  <a:pt x="0" y="21600"/>
                </a:lnTo>
                <a:close/>
              </a:path>
              <a:path fill="lightenLess" w="40578" h="21600">
                <a:moveTo>
                  <a:pt x="0" y="0"/>
                </a:moveTo>
                <a:lnTo>
                  <a:pt x="40578" y="0"/>
                </a:lnTo>
                <a:lnTo>
                  <a:pt x="39178" y="1400"/>
                </a:lnTo>
                <a:lnTo>
                  <a:pt x="1400" y="1400"/>
                </a:lnTo>
                <a:close/>
              </a:path>
              <a:path fill="darken" w="40578" h="21600">
                <a:moveTo>
                  <a:pt x="40578" y="0"/>
                </a:moveTo>
                <a:lnTo>
                  <a:pt x="40578" y="21600"/>
                </a:lnTo>
                <a:lnTo>
                  <a:pt x="39178" y="20200"/>
                </a:lnTo>
                <a:lnTo>
                  <a:pt x="39178" y="1400"/>
                </a:lnTo>
                <a:close/>
              </a:path>
              <a:path fill="darkenLess" w="40578" h="21600">
                <a:moveTo>
                  <a:pt x="405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178" y="20200"/>
                </a:lnTo>
                <a:close/>
              </a:path>
              <a:path fill="lighten" w="405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578" h="21600">
                <a:moveTo>
                  <a:pt x="16790" y="10800"/>
                </a:moveTo>
                <a:lnTo>
                  <a:pt x="27295" y="3794"/>
                </a:lnTo>
                <a:lnTo>
                  <a:pt x="27295" y="17806"/>
                </a:lnTo>
                <a:close/>
              </a:path>
              <a:path fill="darken" w="40578" h="21600">
                <a:moveTo>
                  <a:pt x="13282" y="3794"/>
                </a:moveTo>
                <a:lnTo>
                  <a:pt x="14945" y="3794"/>
                </a:lnTo>
                <a:lnTo>
                  <a:pt x="14945" y="17806"/>
                </a:lnTo>
                <a:lnTo>
                  <a:pt x="13282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ABC</cp:lastModifiedBy>
  <dcterms:modified xsi:type="dcterms:W3CDTF">2015-12-23T04:34:32Z</dcterms:modified>
  <cp:revision>20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