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5A5-C339-408F-8D73-1C6DB654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45C-432F-4C42-AB2F-72A6AE8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E0E-58F1-4A76-B114-A87CB6F7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E69-650D-4718-8102-1FC8E264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A06-E443-42D8-B003-72DC480C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B6F-3D1A-412B-8B59-4987223C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457-E113-49DE-B5E4-2E7E47C0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3E57-1B6E-4160-A0BA-268D01E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486D-F2F3-4C36-A734-CE3D544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CCA-4AFE-4913-BDF0-234B502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EBF1-45EB-48F1-AD4C-6C57BC0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A29-E62A-4732-B5E3-11014D8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CECD-E240-4FB1-A4AE-9E3E4B5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38E4-82EE-46D9-BE51-A57BBD7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456-D2D9-42D0-8AC3-9C1B6C5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2AC2-F726-4953-BD82-A9E23440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B69-20E5-4507-B3E1-C4AC0F4E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B75-0D1C-49FA-A95D-EB1FE79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7FE-2D51-4497-8457-765E3199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C05-CFFF-4C7F-87E6-1F87D08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41E-AF69-4DDA-9A81-72F5E6B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462-F411-4DDA-A00C-C0096C64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971-17EF-4422-AB92-F75C657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993-CFCE-4F1A-95A7-C15D8BD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B80-9A57-46A1-8DDC-6C9AB69B99A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5FE-53AB-4A46-B0BC-84958FC8DF5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8546600">
            <a:off x="6869880" y="1146600"/>
            <a:ext cx="45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08000" y="2492280"/>
            <a:ext cx="525636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4</a:t>
            </a: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我要的是葫芦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5229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雁九年一贯制学校      郑乐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4751280" cy="1484280"/>
          </a:xfrm>
          <a:prstGeom prst="cloudCallout">
            <a:avLst>
              <a:gd name="adj1" fmla="val 88824"/>
              <a:gd name="adj2" fmla="val 267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你别光盯着葫芦了，叶子上生了蚜虫，快治一治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292640"/>
            <a:ext cx="4716360" cy="1800360"/>
          </a:xfrm>
          <a:prstGeom prst="cloudCallout">
            <a:avLst>
              <a:gd name="adj1" fmla="val 55925"/>
              <a:gd name="adj2" fmla="val -19329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什么？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叶子上的虫还用治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？我要的是葫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4581360"/>
            <a:ext cx="3097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叶子上的虫不用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995640" y="4724280"/>
            <a:ext cx="576360" cy="217440"/>
            <a:chOff x="3995640" y="4724280"/>
            <a:chExt cx="576360" cy="217440"/>
          </a:xfrm>
        </p:grpSpPr>
        <p:sp>
          <p:nvSpPr>
            <p:cNvPr id="184" name=""/>
            <p:cNvSpPr/>
            <p:nvPr/>
          </p:nvSpPr>
          <p:spPr>
            <a:xfrm>
              <a:off x="399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5640" y="4941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64000" y="458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根（营养和水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851280" y="299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2492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851280" y="1916280"/>
            <a:ext cx="1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184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叶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21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333360"/>
            <a:ext cx="7613640" cy="5814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又到了种葫芦的季节，这回他会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omic Sans MS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341360"/>
            <a:ext cx="7056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好哇    盯着     邻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藤叶      治一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自言自语       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067280" y="40766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多么可爱的小葫芦哇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65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细长的葫芦藤上长满了绿叶，开出了几朵雪白的小花。花谢以后，藤上挂了几个小葫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740720" y="595008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21643" y="10800"/>
                </a:moveTo>
                <a:lnTo>
                  <a:pt x="11138" y="17806"/>
                </a:lnTo>
                <a:lnTo>
                  <a:pt x="11138" y="3794"/>
                </a:lnTo>
                <a:close/>
              </a:path>
              <a:path fill="darken" w="36288" h="21600">
                <a:moveTo>
                  <a:pt x="23488" y="3794"/>
                </a:moveTo>
                <a:lnTo>
                  <a:pt x="23488" y="17806"/>
                </a:lnTo>
                <a:lnTo>
                  <a:pt x="25150" y="17806"/>
                </a:lnTo>
                <a:lnTo>
                  <a:pt x="25150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390920" cy="28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1280" y="3573360"/>
            <a:ext cx="90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那个人每天都要去看几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4989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508640"/>
            <a:ext cx="115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4437000"/>
            <a:ext cx="1297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24360" y="226692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33360"/>
            <a:ext cx="7201080" cy="1871640"/>
          </a:xfrm>
          <a:prstGeom prst="cloudCallout">
            <a:avLst>
              <a:gd name="adj1" fmla="val 22421"/>
              <a:gd name="adj2" fmla="val 1399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他盯着小葫芦自言自语地说：“我的小葫芦，快长啊，快长啊！长得赛得过大南瓜才好呢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3360"/>
            <a:ext cx="7201080" cy="1871640"/>
          </a:xfrm>
          <a:prstGeom prst="cloudCallout">
            <a:avLst>
              <a:gd name="adj1" fmla="val 22421"/>
              <a:gd name="adj2" fmla="val 1399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他盯着小葫芦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自言自语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地说：“我的小葫芦，快长啊，快长啊！长得赛得过大南瓜才好呢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333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没过几天，叶子上的蚜虫更多了。小葫芦慢慢地变黄了，一个一个都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38862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为什么小葫芦都落了？请小朋友当当侦察员，在课文的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2——3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自然段中找找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3052800" cy="4190760"/>
          </a:xfrm>
          <a:prstGeom prst="rect">
            <a:avLst/>
          </a:prstGeom>
          <a:ln w="0">
            <a:noFill/>
          </a:ln>
        </p:spPr>
      </p:pic>
      <p:pic>
        <p:nvPicPr>
          <p:cNvPr id="174" name="6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095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80200" y="450864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一天，他看见叶子上爬着一些蚜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心里想：有几个虫子怕什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419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411280" y="1773360"/>
            <a:ext cx="3695760" cy="239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84360" y="566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Comic Sans MS"/>
              </a:rPr>
              <a:t>有几个虫子不可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00:45Z</dcterms:created>
  <dc:creator>MC SYSTEM</dc:creator>
  <dc:description/>
  <dc:language>en-US</dc:language>
  <cp:lastModifiedBy>XIAOCHUN</cp:lastModifiedBy>
  <dcterms:modified xsi:type="dcterms:W3CDTF">2005-12-04T12:30:55Z</dcterms:modified>
  <cp:revision>8</cp:revision>
  <dc:subject/>
  <dc:title>幻灯片 1</dc:title>
</cp:coreProperties>
</file>