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ABB-5077-4F3A-8007-9F07B91D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C83-EF6D-4901-92C6-C725C744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DDB-3830-478E-8538-66A36DED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11A-6802-4AED-BD4D-B3196CD3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F39-252C-4849-947C-99825843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6FD-186C-4F1E-A232-AEE429A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84B-2EBF-4C20-A4E6-A059B154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956-A470-4BEC-AF01-4186F9C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798-8AA0-433D-84B1-017D934F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68EA-CC51-4ECB-A419-16C859A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0FF9-3553-4F31-95CE-50709B4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CC5-EBA6-469F-8C4B-2F87772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0C95-A443-4C5D-BF30-B9CA28446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75348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3124080"/>
            <a:ext cx="60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未选择的路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0" y="-304920"/>
            <a:ext cx="4572000" cy="6934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4572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弗罗斯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Robert Frost)(187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6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美国诗人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87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生于美国西部的旧金山。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岁丧父，后随母亲迁居东北部的新英格兰。此后，他就与那块土地结下了不解之缘。弗罗斯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岁开始写诗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岁时正式发表第一首诗歌。他勤奋笔耕，一生中共出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本诗集，其中主要的有《波士顿以北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14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《山间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1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《新罕布什尔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23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《西流的小溪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28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《见证树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4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及《林间空地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96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对人类的恩惠，另一方面也写了其破坏力以及给人类带来的不幸和。弗罗斯特诗歌风格上的一个最大特点是朴素无华，含义隽永，寓深刻的思考和哲理于平淡无奇的内容和简洁朴实的诗句之中。这既是弗罗斯特的艺术追求，也是他事业成功的秘密所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71520"/>
            <a:ext cx="9372600" cy="7751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生活需要选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304920"/>
            <a:ext cx="81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结合情境拓展：           看图你品悟到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138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315432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前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3078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惆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560" y="5684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未选择的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7680" y="4800600"/>
            <a:ext cx="34290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人      生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55" name=""/>
          <p:cNvSpPr/>
          <p:nvPr/>
        </p:nvSpPr>
        <p:spPr>
          <a:xfrm>
            <a:off x="2663280" y="3124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舍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3148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3148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31488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3049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结合人生谈感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05740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未选择的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038480"/>
            <a:ext cx="1143000" cy="486000"/>
          </a:xfrm>
          <a:prstGeom prst="rightArrow">
            <a:avLst>
              <a:gd name="adj1" fmla="val 50000"/>
              <a:gd name="adj2" fmla="val 587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3733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舍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962520"/>
            <a:ext cx="1066680" cy="485640"/>
          </a:xfrm>
          <a:prstGeom prst="rightArrow">
            <a:avLst>
              <a:gd name="adj1" fmla="val 50000"/>
              <a:gd name="adj2" fmla="val 549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133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放弃也是一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391520" y="3809880"/>
            <a:ext cx="838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美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962520"/>
            <a:ext cx="1066680" cy="485640"/>
          </a:xfrm>
          <a:prstGeom prst="rightArrow">
            <a:avLst>
              <a:gd name="adj1" fmla="val 50000"/>
              <a:gd name="adj2" fmla="val 549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1:31:20Z</dcterms:created>
  <dc:creator/>
  <dc:description>绗竴璇句欢缃�</dc:description>
  <dc:language>en-US</dc:language>
  <cp:lastModifiedBy>微软用户</cp:lastModifiedBy>
  <dcterms:modified xsi:type="dcterms:W3CDTF">2014-05-26T02:51:27Z</dcterms:modified>
  <cp:revision>7</cp:revision>
  <dc:subject>www.1kejian.com</dc:subject>
  <dc:title/>
</cp:coreProperties>
</file>