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02BD-403B-4817-BF48-07C00ADDC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130-02A9-4B2B-9772-2475A9EC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588F-9FC1-4F60-B6A4-2E9FC763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3F8-6511-48E8-AC25-303CFC77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D853-F8B3-4A7E-84EA-BB92B38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296-3479-477B-8D14-93E028D0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21F-8FAF-4742-8E84-8FEF8FDE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546-EFE4-47AD-8CBC-0F81A37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0220-263A-49A5-A41F-5A285597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4E8-5682-4AE7-BBBC-BD676BE8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DDD-A911-4994-9C5A-C108A9E3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855-63AA-443D-8251-EAF1D87D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E220-F4AB-4CE1-A867-4602E8C89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35280" y="1916280"/>
            <a:ext cx="403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卫星比武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619280" y="69228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语文</a:t>
            </a: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996633"/>
                </a:solidFill>
                <a:latin typeface="宋体"/>
              </a:rPr>
              <a:t>版四年级语文下册第三单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由朗读你喜欢的部分，想想：作者用了哪些说明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流。小组成员互相讲述在自己喜欢的这部分知识中，作者用了哪些说明方法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通过学习，你知道了几种卫星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哪个同学来说一说课文如何介绍卫星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6697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垂直上升的火箭开始拐弯，宛如一条白龙在长空飞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宛如这个词是什么意思，它能换成什么词？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（好像、仿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个句子运用什么修辞手法？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比喻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把什么比作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6626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２）它十分得意地说：“我能看到士兵在营房里走动，人们在树荫下歇息；还能从汽车的轮迹、战马的蹄印上、推算出部队转移的情况和指挥部所在的位置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指谁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说话的语气是怎样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十分得意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有几种功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66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３）它像一只悬挂在天上的宫灯，有节奏地摆来摆去，还不断地发出银铃般的叫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一句采用什么说明方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打比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了说明这种导航卫星的导航功能，作者采用了打比方的说明方法来说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6337440" cy="41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４）它身上贴满了太阳能电池，头上有一个喇叭形的天线装置，在三万六千米的高空，跟地球同步运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找出这一句话中的数词。说明性的文章经常用到举例子、列数字等方法来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51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华文楷体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62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后同学们自己去收集有关卫星的资料和图片，下节课大家一起交流学习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424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83664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识本课“拐、循、培、训”等生字，正确、流利、有感情地朗读课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内容，了解课文介绍的几种人造地球卫星，以及它们的特点和功能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58920" y="1052640"/>
            <a:ext cx="5421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培  训  营  侦  察  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资  矿  藏  豪  拐  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轨  鹏  摄  敏  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33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习生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752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朗读感知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26828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轻声自由朗读课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找出你最感兴趣的句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在句子旁加上自己的感受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向大家介绍了什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181080" y="76500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这篇课文向大家介绍了侦察卫星、气象卫星、导航卫星、通信卫星、资源卫星等各式各样卫星的特点与作用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告诉我们在今天科学技术革命的浪潮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各种卫星各显神通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为人类做出了巨大的贡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655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学习课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思考：你从文中知道了哪几种卫星？卫星哪方面的知识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流汇报：你最感兴趣的是介绍卫星的什么知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种类、用途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4:10:25Z</dcterms:created>
  <dc:creator/>
  <dc:description/>
  <dc:language>en-US</dc:language>
  <cp:lastModifiedBy>gaoren</cp:lastModifiedBy>
  <dcterms:modified xsi:type="dcterms:W3CDTF">2009-03-26T11:26:28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5000000000001024120</vt:lpwstr>
  </property>
</Properties>
</file>