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E17-DBFF-4FD5-AB47-66DC4940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1E3-EA07-49BF-B487-DB7C3422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0FA-D825-4BA8-B738-F87ED035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B81-395C-4E1E-92A9-D508A328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9416-9BD4-46C5-A19C-8A2C3818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9BEE-90E9-4046-97A4-F9DC0547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787A-3C13-4326-A728-4DB38F24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8515-16E6-4739-879D-C4B1E85D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36CE-1B13-4E61-A508-0D135BCF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F25F-4ECB-443D-A9EC-A877BAD9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D741-B7DB-43F5-B213-BA09EFE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E14-F71E-4788-ABA6-9132333D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5DDF-737B-47E4-8423-6CCBD0F3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6A45-BC5B-4577-9DE8-A36A724B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33B5-162C-4229-B6E3-2D2FA137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C97E-57C8-47FD-A437-28F9D415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5E65-249D-4DE2-8D9B-308C80BA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7C7D-386C-4DC1-A390-9AB524D6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B02E-BB79-443A-B7AA-F518E3EC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A3141-03C0-4193-A2BE-E2A7293A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D848-BE9B-4276-807D-86599AE0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2CB0-D16D-4AF5-ACCD-BC71B5DE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10A-A419-474E-ADBC-DE325C96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A160-2CF8-47C2-943A-7C4CD3D6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136C-FD93-4365-86DF-6CACE9CC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63D8-02EA-496D-9ABB-24D11B26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F3797-311B-4B22-9B47-F6A8D478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9A94-1906-4DE2-836E-37CC6BE2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DC5F-F104-4EC2-9BC9-3D94F5FA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F671-F8AA-4464-8A27-036BDFE3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37C-1874-4FC0-BF46-662B8ABB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979-C9D8-475B-AF9B-A0EA4958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BBF-8310-4B34-A46D-0C00808C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B81-12A3-4C1B-A51E-E83F741E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D61-9204-4D3E-B9A1-DB613292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6BD-5F59-4ACE-A5C3-D2BAFCC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47A8-DE5D-4066-B32E-2BA9D51DE71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FD91-74F6-454A-8432-F492D88425F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5E54-E34E-4A5C-A163-5D0D8D61C1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13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25.xml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601200" cy="7315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352680" y="53020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是唯一追寻自身存在意义的动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456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99072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楷体"/>
              </a:rPr>
              <a:t>裴多菲：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“生命诚宝贵，爱情价更高。”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楷体"/>
              </a:rPr>
              <a:t>维斯冠：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“爱情是生命的火把。”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楷体"/>
              </a:rPr>
              <a:t>苏霍姆林斯基：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“闪电照耀一瞬间，而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爱情却照耀一生。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7308720" y="5805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者追求知识和同情苦难的具体内涵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追求知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1295280"/>
            <a:ext cx="216000" cy="180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12193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了解人类的心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190512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知道星星为何发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3573360"/>
            <a:ext cx="36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266688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理解毕达哥拉斯的力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486900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同情苦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4114800"/>
            <a:ext cx="216000" cy="22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3640" y="3933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饥饿中的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50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被压迫被折磨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51814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孤苦无依的老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586728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全球性的孤独、贫穷和痛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8076960" cy="538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28600" y="6197760"/>
            <a:ext cx="571680" cy="507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848720" y="299880"/>
            <a:ext cx="129528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304920"/>
            <a:ext cx="807732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8600" y="4648320"/>
            <a:ext cx="8610480" cy="204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冰心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“爱在左，同情在右，走在生命的两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随时撒种，随时开花，将这一径长途点缀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香花弥漫，使穿枝拂叶的行人，踏着荆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觉得痛苦，有泪可落，却不是悲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8686800" y="6477120"/>
            <a:ext cx="2286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52280" y="1522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Comic Sans MS"/>
              </a:rPr>
              <a:t>名人的人生追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762120"/>
            <a:ext cx="83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3300"/>
                </a:solidFill>
                <a:latin typeface="Comic Sans MS"/>
              </a:rPr>
              <a:t>奥斯特洛夫斯基</a:t>
            </a:r>
            <a:r>
              <a:rPr b="1" lang="zh-CN" sz="2600" spc="-1" strike="noStrike">
                <a:solidFill>
                  <a:srgbClr val="bc0000"/>
                </a:solidFill>
                <a:latin typeface="Comic Sans MS"/>
              </a:rPr>
              <a:t>：</a:t>
            </a:r>
            <a:r>
              <a:rPr b="1" lang="zh-CN" sz="2600" spc="-1" strike="noStrike">
                <a:solidFill>
                  <a:srgbClr val="9900cc"/>
                </a:solidFill>
                <a:latin typeface="Comic Sans MS"/>
              </a:rPr>
              <a:t>人最宝贵的是生命。生命属于人只有一次。人的一生应当这样度过：当他回忆往事的时候，他不会因为虚度年华而悔恨，也不会因为碌碌无为而羞愧；在临死的时候，他能够说：“我的整个生命和全部精力，都已经献给了世界上最壮丽的事业——为人类的解放而斗争。”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32767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3300"/>
                </a:solidFill>
                <a:latin typeface="Comic Sans MS"/>
              </a:rPr>
              <a:t>爱因斯坦</a:t>
            </a:r>
            <a:r>
              <a:rPr b="1" lang="zh-CN" sz="2600" spc="-1" strike="noStrike">
                <a:solidFill>
                  <a:srgbClr val="bc0000"/>
                </a:solidFill>
                <a:latin typeface="Comic Sans MS"/>
              </a:rPr>
              <a:t>：</a:t>
            </a:r>
            <a:r>
              <a:rPr b="1" lang="zh-CN" sz="2600" spc="-1" strike="noStrike">
                <a:solidFill>
                  <a:srgbClr val="7f7ffd"/>
                </a:solidFill>
                <a:latin typeface="Comic Sans MS"/>
              </a:rPr>
              <a:t>我从来不把安逸和享乐看作是生活目的本身——这种伦理基础，我叫它猪栏的理想。照亮我的道路，并且不断给我新的勇气去愉快地正视生活的理想，是善、美和真。”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5105520"/>
            <a:ext cx="8305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3300"/>
                </a:solidFill>
                <a:latin typeface="Comic Sans MS"/>
              </a:rPr>
              <a:t>亚里斯多德</a:t>
            </a:r>
            <a:r>
              <a:rPr b="1" lang="zh-CN" sz="2600" spc="-1" strike="noStrike">
                <a:solidFill>
                  <a:srgbClr val="bc0000"/>
                </a:solidFill>
                <a:latin typeface="Comic Sans MS"/>
              </a:rPr>
              <a:t>：</a:t>
            </a:r>
            <a:r>
              <a:rPr b="1" lang="zh-CN" sz="2600" spc="-1" strike="noStrike">
                <a:solidFill>
                  <a:srgbClr val="9900cc"/>
                </a:solidFill>
                <a:latin typeface="Comic Sans MS"/>
              </a:rPr>
              <a:t>吾爱吾师，吾更爱真理。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5943600"/>
            <a:ext cx="76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3300"/>
                </a:solidFill>
                <a:latin typeface="Comic Sans MS"/>
              </a:rPr>
              <a:t>陶行知</a:t>
            </a:r>
            <a:r>
              <a:rPr b="1" lang="zh-CN" sz="2600" spc="-1" strike="noStrike">
                <a:solidFill>
                  <a:srgbClr val="ffff66"/>
                </a:solidFill>
                <a:latin typeface="Comic Sans MS"/>
              </a:rPr>
              <a:t>：</a:t>
            </a:r>
            <a:r>
              <a:rPr b="1" lang="zh-CN" sz="2600" spc="-1" strike="noStrike">
                <a:solidFill>
                  <a:srgbClr val="7f7ffd"/>
                </a:solidFill>
                <a:latin typeface="Comic Sans MS"/>
              </a:rPr>
              <a:t>捧着一颗心来，不带半根草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819760" y="441360"/>
            <a:ext cx="11905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52120" y="-264600"/>
            <a:ext cx="1094760" cy="73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404ee"/>
                </a:solidFill>
                <a:latin typeface="Comic Sans MS"/>
                <a:ea typeface="华文行楷"/>
              </a:rPr>
              <a:t>我为什么而活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6360" y="3276720"/>
            <a:ext cx="45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85080" y="3124080"/>
            <a:ext cx="850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303ad"/>
                </a:solidFill>
                <a:latin typeface="华文楷体"/>
                <a:ea typeface="华文楷体"/>
              </a:rPr>
              <a:t>罗   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罗素2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-228600" y="-1827360"/>
            <a:ext cx="9372600" cy="12954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227664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00"/>
                </a:solidFill>
                <a:latin typeface="华文行楷"/>
                <a:ea typeface="华文行楷"/>
              </a:rPr>
              <a:t>高山仰止   景行行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57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76212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cc99"/>
                </a:solidFill>
                <a:latin typeface="Times New Roman"/>
                <a:ea typeface="隶书"/>
              </a:rPr>
              <a:t>高山仰止，景行行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2438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99cc00"/>
                </a:solidFill>
                <a:latin typeface="Times New Roman"/>
                <a:ea typeface="黑体"/>
              </a:rPr>
              <a:t>语出《诗经•小雅•车辖》。意思是道德高尚的人，就会有人敬仰他；行为光明正大的人，就会有人效法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62320" y="29718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228600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404ee"/>
                </a:solidFill>
                <a:latin typeface="Times New Roman"/>
                <a:ea typeface="华文楷体"/>
              </a:rPr>
              <a:t>支配作者一生的三种激情中，哪一种最能引起你的共鸣？讨论：我们应该为什么而活着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7772400" y="62485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781680" y="5867280"/>
            <a:ext cx="343080" cy="2286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409760" y="5867280"/>
            <a:ext cx="342720" cy="2286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7467480" cy="6324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924680" y="1066680"/>
            <a:ext cx="679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Comic Sans MS"/>
                <a:ea typeface="华文楷体"/>
              </a:rPr>
              <a:t>对自己的人生负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5" action="ppaction://hlinksldjump"/>
          </p:cNvPr>
          <p:cNvSpPr/>
          <p:nvPr/>
        </p:nvSpPr>
        <p:spPr>
          <a:xfrm>
            <a:off x="8153280" y="6324480"/>
            <a:ext cx="45720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362320" y="29718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2514600"/>
            <a:ext cx="55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4ee"/>
                </a:solidFill>
                <a:latin typeface="楷体_GB2312"/>
                <a:ea typeface="楷体_GB2312"/>
              </a:rPr>
              <a:t>如果一个社会是由这样对自己的人生负责的成员组成的，这个社会就必定是高质量的、有效率的社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2800" spc="-1" strike="noStrike">
                <a:solidFill>
                  <a:srgbClr val="bc0000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bc0000"/>
                </a:solidFill>
                <a:latin typeface="楷体_GB2312"/>
                <a:ea typeface="楷体_GB2312"/>
              </a:rPr>
              <a:t>周国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19040" y="6121440"/>
            <a:ext cx="57168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219320"/>
            <a:ext cx="80769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4ee"/>
                </a:solidFill>
                <a:latin typeface="Comic Sans MS"/>
              </a:rPr>
              <a:t>希望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04ee"/>
                </a:solidFill>
                <a:latin typeface="Comic Sans MS"/>
              </a:rPr>
              <a:t>      </a:t>
            </a:r>
            <a:r>
              <a:rPr b="1" lang="zh-CN" sz="4800" spc="-1" strike="noStrike">
                <a:solidFill>
                  <a:srgbClr val="0404ee"/>
                </a:solidFill>
                <a:latin typeface="Comic Sans MS"/>
              </a:rPr>
              <a:t>同学们都能对自己的人生负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eaeaea"/>
              </a:gs>
              <a:gs pos="100000">
                <a:srgbClr val="cbcbc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03ad"/>
                </a:solidFill>
                <a:latin typeface="Comic Sans MS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eaeaea"/>
              </a:gs>
              <a:gs pos="100000">
                <a:srgbClr val="cbcbc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905120" y="304920"/>
            <a:ext cx="5184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057400" y="3352680"/>
            <a:ext cx="6048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欢迎指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楷体"/>
              </a:rPr>
              <a:t>简介罗素</a:t>
            </a: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华文楷体"/>
              </a:rPr>
              <a:t>1872---1970</a:t>
            </a: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华文楷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世纪著名的思想家和社会活动家，现当代思想文化巨人，诺贝尔文学奖获得者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303ad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ad"/>
                </a:solidFill>
                <a:latin typeface="华文楷体"/>
                <a:ea typeface="华文楷体"/>
              </a:rPr>
              <a:t>一生都在热诚地为公众的良知辩护。“对人类苦难的同情”使得他坚决反对导致人类灾难的战争。</a:t>
            </a:r>
            <a:r>
              <a:rPr b="1" lang="zh-CN" sz="2800" spc="-1" strike="noStrike">
                <a:solidFill>
                  <a:srgbClr val="0303ad"/>
                </a:solidFill>
                <a:latin typeface="华文楷体"/>
                <a:ea typeface="华文楷体"/>
              </a:rPr>
              <a:t>1961</a:t>
            </a:r>
            <a:r>
              <a:rPr b="1" lang="zh-CN" sz="2800" spc="-1" strike="noStrike">
                <a:solidFill>
                  <a:srgbClr val="0303ad"/>
                </a:solidFill>
                <a:latin typeface="华文楷体"/>
                <a:ea typeface="华文楷体"/>
              </a:rPr>
              <a:t>年，因反战静坐示威，</a:t>
            </a:r>
            <a:r>
              <a:rPr b="1" lang="zh-CN" sz="2800" spc="-1" strike="noStrike">
                <a:solidFill>
                  <a:srgbClr val="0303ad"/>
                </a:solidFill>
                <a:latin typeface="华文楷体"/>
                <a:ea typeface="华文楷体"/>
              </a:rPr>
              <a:t>89</a:t>
            </a:r>
            <a:r>
              <a:rPr b="1" lang="zh-CN" sz="2800" spc="-1" strike="noStrike">
                <a:solidFill>
                  <a:srgbClr val="0303ad"/>
                </a:solidFill>
                <a:latin typeface="华文楷体"/>
                <a:ea typeface="华文楷体"/>
              </a:rPr>
              <a:t>岁的罗素与他的妻子被判两个月监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生经历过几次婚姻变故，但他始终是真诚的，一直在努力追求爱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303ad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ad"/>
                </a:solidFill>
                <a:latin typeface="华文楷体"/>
                <a:ea typeface="华文楷体"/>
              </a:rPr>
              <a:t>一生著书</a:t>
            </a:r>
            <a:r>
              <a:rPr b="1" lang="zh-CN" sz="2800" spc="-1" strike="noStrike">
                <a:solidFill>
                  <a:srgbClr val="0303ad"/>
                </a:solidFill>
                <a:latin typeface="华文楷体"/>
                <a:ea typeface="华文楷体"/>
              </a:rPr>
              <a:t>71</a:t>
            </a:r>
            <a:r>
              <a:rPr b="1" lang="zh-CN" sz="2800" spc="-1" strike="noStrike">
                <a:solidFill>
                  <a:srgbClr val="0303ad"/>
                </a:solidFill>
                <a:latin typeface="华文楷体"/>
                <a:ea typeface="华文楷体"/>
              </a:rPr>
              <a:t>种，论文几千篇，涉及哲学、数学、科学、政治、宗教等诸方面，享有“百科全书式的作家”之称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280" y="5791320"/>
            <a:ext cx="571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28800" y="9907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914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4ee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404ee"/>
                </a:solidFill>
                <a:latin typeface="Comic Sans MS"/>
              </a:rPr>
              <a:t>、二十世纪初提出了震惊数学界的“罗素悖论”和解决这一悖论的”类型论”——</a:t>
            </a:r>
            <a:r>
              <a:rPr b="1" lang="zh-CN" sz="2800" spc="-1" strike="noStrike">
                <a:solidFill>
                  <a:srgbClr val="ff3399"/>
                </a:solidFill>
                <a:latin typeface="Comic Sans MS"/>
              </a:rPr>
              <a:t>数学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146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20574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4ee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404ee"/>
                </a:solidFill>
                <a:latin typeface="Comic Sans MS"/>
              </a:rPr>
              <a:t>、阐释逻辑原子主义、中立一元论，为西方哲学某些流派开一代先河——</a:t>
            </a:r>
            <a:r>
              <a:rPr b="1" lang="zh-CN" sz="2800" spc="-1" strike="noStrike">
                <a:solidFill>
                  <a:srgbClr val="ff3399"/>
                </a:solidFill>
                <a:latin typeface="Comic Sans MS"/>
              </a:rPr>
              <a:t>哲学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32004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4ee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404ee"/>
                </a:solidFill>
                <a:latin typeface="Comic Sans MS"/>
              </a:rPr>
              <a:t>、</a:t>
            </a:r>
            <a:r>
              <a:rPr b="1" lang="zh-CN" sz="2800" spc="-1" strike="noStrike">
                <a:solidFill>
                  <a:srgbClr val="0404ee"/>
                </a:solidFill>
                <a:latin typeface="Comic Sans MS"/>
              </a:rPr>
              <a:t>1950</a:t>
            </a:r>
            <a:r>
              <a:rPr b="1" lang="zh-CN" sz="2800" spc="-1" strike="noStrike">
                <a:solidFill>
                  <a:srgbClr val="0404ee"/>
                </a:solidFill>
                <a:latin typeface="Comic Sans MS"/>
              </a:rPr>
              <a:t>年，瑞典文学院授予他该年的诺贝尔文学奖，以表彰他捍卫“人道主义理想和思想自由”的多种多样、意义重大的作品——</a:t>
            </a:r>
            <a:r>
              <a:rPr b="1" lang="zh-CN" sz="2800" spc="-1" strike="noStrike">
                <a:solidFill>
                  <a:srgbClr val="ff3399"/>
                </a:solidFill>
                <a:latin typeface="Comic Sans MS"/>
              </a:rPr>
              <a:t>文学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487692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4ee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404ee"/>
                </a:solidFill>
                <a:latin typeface="Comic Sans MS"/>
              </a:rPr>
              <a:t>、起草著名的“诺贝尔奖获得者罗素——爱因斯坦的禁核声明”，成为保卫世界和平的坚强战士——</a:t>
            </a:r>
            <a:r>
              <a:rPr b="1" lang="zh-CN" sz="2800" spc="-1" strike="noStrike">
                <a:solidFill>
                  <a:srgbClr val="ff3399"/>
                </a:solidFill>
                <a:latin typeface="Comic Sans MS"/>
              </a:rPr>
              <a:t>国际和平战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28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主要成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3808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楷体_GB2312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143000"/>
            <a:ext cx="792504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作者一生有</a:t>
            </a:r>
            <a:r>
              <a:rPr b="0" lang="zh-CN" sz="3600" spc="-1" strike="noStrike" u="sng">
                <a:solidFill>
                  <a:srgbClr val="00b200"/>
                </a:solidFill>
                <a:uFillTx/>
                <a:latin typeface="华文楷体"/>
                <a:ea typeface="华文楷体"/>
                <a:hlinkClick r:id="rId2" action="ppaction://hlinksldjump"/>
              </a:rPr>
              <a:t>哪几种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追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概括说出作者</a:t>
            </a:r>
            <a:r>
              <a:rPr b="0" lang="zh-CN" sz="3600" spc="-1" strike="noStrike" u="sng">
                <a:solidFill>
                  <a:srgbClr val="00b200"/>
                </a:solidFill>
                <a:uFillTx/>
                <a:latin typeface="华文楷体"/>
                <a:ea typeface="华文楷体"/>
                <a:hlinkClick r:id="rId3" action="ppaction://hlinksldjump"/>
              </a:rPr>
              <a:t>渴望爱情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指出作者</a:t>
            </a:r>
            <a:r>
              <a:rPr b="0" lang="zh-CN" sz="3600" spc="-1" strike="noStrike" u="sng">
                <a:solidFill>
                  <a:srgbClr val="00b200"/>
                </a:solidFill>
                <a:uFillTx/>
                <a:latin typeface="华文楷体"/>
                <a:ea typeface="华文楷体"/>
                <a:hlinkClick r:id="rId4" action="ppaction://hlinksldjump"/>
              </a:rPr>
              <a:t>追求知识和同情人类苦难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具体内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36640" y="2846520"/>
            <a:ext cx="211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6840" y="3159000"/>
            <a:ext cx="2111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12193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爱情的渴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28195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知识的追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4419720"/>
            <a:ext cx="490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人类苦难不可遏制的同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1371600"/>
            <a:ext cx="301680" cy="3697200"/>
          </a:xfrm>
          <a:custGeom>
            <a:avLst/>
            <a:gdLst>
              <a:gd name="textAreaLeft" fmla="*/ 192960 w 301680"/>
              <a:gd name="textAreaRight" fmla="*/ 302040 w 301680"/>
              <a:gd name="textAreaTop" fmla="*/ 96120 h 3697200"/>
              <a:gd name="textAreaBottom" fmla="*/ 3601080 h 369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44880" y="1085760"/>
            <a:ext cx="2373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为什么而活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308720" y="5805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03dff"/>
                </a:solidFill>
                <a:latin typeface="华文新魏"/>
                <a:ea typeface="华文新魏"/>
              </a:rPr>
              <a:t>作者渴望爱情的原因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335772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03dff"/>
                </a:solidFill>
                <a:latin typeface="Times New Roman"/>
                <a:ea typeface="华文新魏"/>
              </a:rPr>
              <a:t>渴望爱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3280" y="2205000"/>
            <a:ext cx="647640" cy="3168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1700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03dff"/>
                </a:solidFill>
                <a:latin typeface="Times New Roman"/>
                <a:ea typeface="华文新魏"/>
              </a:rPr>
              <a:t>爱情带来狂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48000" y="314172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03dff"/>
                </a:solidFill>
                <a:latin typeface="Times New Roman"/>
                <a:ea typeface="华文新魏"/>
              </a:rPr>
              <a:t>爱情摆脱孤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724280"/>
            <a:ext cx="55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03dff"/>
                </a:solidFill>
                <a:latin typeface="Times New Roman"/>
                <a:ea typeface="华文新魏"/>
              </a:rPr>
              <a:t>爱的结合见到天堂的缩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nike" descr=""/>
          <p:cNvPicPr/>
          <p:nvPr/>
        </p:nvPicPr>
        <p:blipFill>
          <a:blip r:embed="rId3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85080" y="6477120"/>
            <a:ext cx="358920" cy="38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wei</cp:lastModifiedBy>
  <dcterms:modified xsi:type="dcterms:W3CDTF">2005-12-11T10:56:41Z</dcterms:modified>
  <cp:revision>5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