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applause.wav" ContentType="audio/x-wav"/>
  <Override PartName="/ppt/media/image10.png" ContentType="image/png"/>
  <Override PartName="/ppt/media/drumroll.wav" ContentType="audio/x-wav"/>
  <Override PartName="/ppt/media/image3.jpeg" ContentType="image/jpeg"/>
  <Override PartName="/ppt/media/chimes.wav" ContentType="audio/x-wav"/>
  <Override PartName="/ppt/media/image14.png" ContentType="image/png"/>
  <Override PartName="/ppt/media/image9.png" ContentType="image/png"/>
  <Override PartName="/ppt/media/image13.jpeg" ContentType="image/jpeg"/>
  <Override PartName="/ppt/media/image11.png" ContentType="image/png"/>
  <Override PartName="/ppt/media/camera.wav" ContentType="audio/x-wav"/>
  <Override PartName="/ppt/media/image6.png" ContentType="image/png"/>
  <Override PartName="/ppt/media/image8.wmf" ContentType="image/x-wmf"/>
  <Override PartName="/ppt/media/cashreg.wav" ContentType="audio/x-wav"/>
  <Override PartName="/ppt/media/image12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type.wav" ContentType="audio/x-wav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C7A-2074-42C9-A988-CECD7EB1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AA6-8058-4253-8C1A-DADB8EB5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262-ED82-4511-9111-824CC29E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7D7-50E8-4908-8F05-9AB437FD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BC7-43C0-411A-B98C-9AF10BF5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2DD-4ED6-4B62-A07C-1F17D14B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A44-93CB-47FF-9C3A-C68FA557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9B2-03FB-4815-B6EF-E305EBD1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3EC-A417-4C6C-9839-E6204C4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042-D36A-4583-85CE-4F4EAFBD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B7C-EAE4-4482-9CBD-7E36C13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380-E4EE-48BB-89A3-D03C29E4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1FD2-79A0-4EEB-B0D9-E17FE43D6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9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男生贾里3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2.jpeg"/><Relationship Id="rId19" Type="http://schemas.openxmlformats.org/officeDocument/2006/relationships/image" Target="../media/image13.jpeg"/><Relationship Id="rId20" Type="http://schemas.openxmlformats.org/officeDocument/2006/relationships/image" Target="../media/image12.jpeg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033"/>
          <p:cNvSpPr/>
          <p:nvPr/>
        </p:nvSpPr>
        <p:spPr>
          <a:xfrm>
            <a:off x="2169360" y="620640"/>
            <a:ext cx="4707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00"/>
                </a:solidFill>
                <a:latin typeface="Times New Roman"/>
                <a:ea typeface="隶书"/>
              </a:rPr>
              <a:t>《</a:t>
            </a:r>
            <a:r>
              <a:rPr b="0" lang="zh-CN" sz="11500" spc="-1" strike="noStrike">
                <a:solidFill>
                  <a:srgbClr val="990000"/>
                </a:solidFill>
                <a:latin typeface="Times New Roman"/>
                <a:ea typeface="隶书"/>
              </a:rPr>
              <a:t>伟人细胞</a:t>
            </a:r>
            <a:r>
              <a:rPr b="0" lang="en-US" sz="8800" spc="-1" strike="noStrike">
                <a:solidFill>
                  <a:srgbClr val="990000"/>
                </a:solidFill>
                <a:latin typeface="Times New Roman"/>
                <a:ea typeface="隶书"/>
              </a:rPr>
              <a:t>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明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次：他认为伟人必须有一个鲜明的爱憎态度，邱士力则是他表现“恨”的最佳对象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次：他认为具有矮个风度也是伟人的标准之一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次：他认为伟人必须出手不凡，走在潮流前头，所以“要去大工厂打工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、三次失败的根本原因是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明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次失败是因为他把同学定为恨的对象，注定要失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次失败是因为想要通过改变形体以成为公众注目的人物，这个想法本身是很可笑的，这和他日记中“才智不凡，爱憎分明”“勇往直前”的标准一点也对不上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次失败是因为他只想凭借打工一鸣惊人，出发点错误，注定要失败。总的说来，失败主要是因为他“伟人计划”动机不当，不切实际，充满个人主义色彩，加上年龄小，缺乏人生阅历，便注定了他“伟人计划”的失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95720" y="533520"/>
            <a:ext cx="7621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贾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男生贾里ren4"/>
          <p:cNvPicPr/>
          <p:nvPr/>
        </p:nvPicPr>
        <p:blipFill>
          <a:blip r:embed="rId1"/>
          <a:stretch/>
        </p:blipFill>
        <p:spPr>
          <a:xfrm>
            <a:off x="2898720" y="1676520"/>
            <a:ext cx="3670200" cy="5181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762120" y="53352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同学们给本课内容写一篇内容提要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字左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95720" y="533520"/>
            <a:ext cx="7621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贾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男生贾里ren4"/>
          <p:cNvPicPr/>
          <p:nvPr/>
        </p:nvPicPr>
        <p:blipFill>
          <a:blip r:embed="rId1"/>
          <a:stretch/>
        </p:blipFill>
        <p:spPr>
          <a:xfrm>
            <a:off x="2898720" y="1676520"/>
            <a:ext cx="3670200" cy="5181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609480" y="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了贾里的伟人计划后，请大家用自己喜欢的方式自读课文，要求读出人物性格，思考几个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贾里意外成功的原因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：因为他有不怕吃亏的正确动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当贾里经过几次失败之后，通过“看来，我是普通人，只配做些鸡毛蒜皮的小事。”对于他的这个看法，你是如何看的？说说你的想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：贾里认为“看来，我是个普通人，只配做些鸡毛蒜皮的小事”，这个看法也不对。因为他所认为的“鸡毛蒜皮”的小事实际上本身就包含着伟大的一面，能做好“鸡毛蒜皮的小事”，发展下去也可能做好惊天动地的大事，这样的人，既是普通人，也是伟大的人，做小事与成就伟人并不矛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文章最后，爸爸说贾里长大了，是真的吗？你如何理解爸爸的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：贾里的话和他争要破书的做法，表明他已无形中放弃了现阶段不切实际的追求，所以爸爸说他长大了。必须从小事做起，方能成就大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143000" y="1447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自读课文，圈出不会读或读不准的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BS00975_"/>
          <p:cNvPicPr/>
          <p:nvPr/>
        </p:nvPicPr>
        <p:blipFill>
          <a:blip r:embed="rId1"/>
          <a:stretch/>
        </p:blipFill>
        <p:spPr>
          <a:xfrm>
            <a:off x="4800600" y="3886200"/>
            <a:ext cx="4051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95720" y="533520"/>
            <a:ext cx="7621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贾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051" descr="男生贾里ren4"/>
          <p:cNvPicPr/>
          <p:nvPr/>
        </p:nvPicPr>
        <p:blipFill>
          <a:blip r:embed="rId1"/>
          <a:stretch/>
        </p:blipFill>
        <p:spPr>
          <a:xfrm>
            <a:off x="2898720" y="1676520"/>
            <a:ext cx="367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3" descr="xibao3"/>
          <p:cNvPicPr/>
          <p:nvPr/>
        </p:nvPicPr>
        <p:blipFill>
          <a:blip r:embed="rId1"/>
          <a:stretch/>
        </p:blipFill>
        <p:spPr>
          <a:xfrm>
            <a:off x="838080" y="304920"/>
            <a:ext cx="4486320" cy="55656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95720" y="380880"/>
            <a:ext cx="762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贾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813320" y="1066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才智不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1965600" y="2743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爱憎分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1889280" y="441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勇往直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2" descr="男生贾里ren4"/>
          <p:cNvPicPr/>
          <p:nvPr/>
        </p:nvPicPr>
        <p:blipFill>
          <a:blip r:embed="rId2"/>
          <a:stretch/>
        </p:blipFill>
        <p:spPr>
          <a:xfrm>
            <a:off x="5105520" y="1676520"/>
            <a:ext cx="367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填写下列表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1600200"/>
          <a:ext cx="7848720" cy="4572000"/>
        </p:xfrm>
        <a:graphic>
          <a:graphicData uri="http://schemas.openxmlformats.org/drawingml/2006/table">
            <a:tbl>
              <a:tblPr/>
              <a:tblGrid>
                <a:gridCol w="2243160"/>
                <a:gridCol w="1281240"/>
                <a:gridCol w="1280880"/>
                <a:gridCol w="1841760"/>
                <a:gridCol w="1201680"/>
              </a:tblGrid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babab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目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babab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babab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自我感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babab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原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bababa"/>
                        </a:gs>
                      </a:gsLst>
                      <a:lin ang="5400000"/>
                    </a:gradFill>
                  </a:tcPr>
                </a:tc>
              </a:tr>
              <a:tr h="919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982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982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838080" y="16765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为什么贾里的“伟人计划”前三次都没有成功而不经意间使他的“伟人计划”得以实现原因何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60948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小组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PE01561_"/>
          <p:cNvPicPr/>
          <p:nvPr/>
        </p:nvPicPr>
        <p:blipFill>
          <a:blip r:embed="rId1"/>
          <a:stretch/>
        </p:blipFill>
        <p:spPr>
          <a:xfrm>
            <a:off x="4255920" y="351144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/>
          <p:cNvSpPr/>
          <p:nvPr/>
        </p:nvSpPr>
        <p:spPr>
          <a:xfrm>
            <a:off x="1355760" y="1973160"/>
            <a:ext cx="283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355760" y="1363680"/>
            <a:ext cx="275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1143000" y="22096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在人生道路上要有远大的理想，但要从小事做起。认识了贾里，有哪些同学想和他交朋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贾里现在心里正充满着酸甜苦辣的滋味，作为朋友，你会对他说句什么话呢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57200" y="609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探究与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2895480" y="2286000"/>
            <a:ext cx="2819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再见！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给下列红色的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5"/>
          <p:cNvSpPr/>
          <p:nvPr/>
        </p:nvSpPr>
        <p:spPr>
          <a:xfrm>
            <a:off x="457200" y="1736640"/>
            <a:ext cx="8915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达　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诩　 　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睡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铆　    荟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飕飕　  　 骷髅　　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师　　 茅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顿开　　  咬文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0"/>
          <p:cNvSpPr/>
          <p:nvPr/>
        </p:nvSpPr>
        <p:spPr>
          <a:xfrm>
            <a:off x="381960" y="13716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1"/>
          <p:cNvSpPr/>
          <p:nvPr/>
        </p:nvSpPr>
        <p:spPr>
          <a:xfrm>
            <a:off x="2828520" y="13716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2"/>
          <p:cNvSpPr/>
          <p:nvPr/>
        </p:nvSpPr>
        <p:spPr>
          <a:xfrm>
            <a:off x="4509720" y="1371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3"/>
          <p:cNvSpPr/>
          <p:nvPr/>
        </p:nvSpPr>
        <p:spPr>
          <a:xfrm>
            <a:off x="5945760" y="137160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ǎ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4"/>
          <p:cNvSpPr/>
          <p:nvPr/>
        </p:nvSpPr>
        <p:spPr>
          <a:xfrm>
            <a:off x="7395480" y="137160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uì c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5"/>
          <p:cNvSpPr/>
          <p:nvPr/>
        </p:nvSpPr>
        <p:spPr>
          <a:xfrm>
            <a:off x="918000" y="259092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ōu sō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6"/>
          <p:cNvSpPr/>
          <p:nvPr/>
        </p:nvSpPr>
        <p:spPr>
          <a:xfrm>
            <a:off x="3380760" y="259092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ū ló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7"/>
          <p:cNvSpPr/>
          <p:nvPr/>
        </p:nvSpPr>
        <p:spPr>
          <a:xfrm>
            <a:off x="7643880" y="25909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8"/>
          <p:cNvSpPr/>
          <p:nvPr/>
        </p:nvSpPr>
        <p:spPr>
          <a:xfrm>
            <a:off x="383400" y="3809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zh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9"/>
          <p:cNvSpPr/>
          <p:nvPr/>
        </p:nvSpPr>
        <p:spPr>
          <a:xfrm>
            <a:off x="3735360" y="38098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0"/>
          <p:cNvSpPr/>
          <p:nvPr/>
        </p:nvSpPr>
        <p:spPr>
          <a:xfrm>
            <a:off x="7467840" y="38098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jiá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1"/>
          <p:cNvSpPr/>
          <p:nvPr/>
        </p:nvSpPr>
        <p:spPr>
          <a:xfrm>
            <a:off x="457200" y="42670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ject 89" descr=""/>
          <p:cNvPicPr/>
          <p:nvPr/>
        </p:nvPicPr>
        <p:blipFill>
          <a:blip r:embed="rId1"/>
          <a:stretch/>
        </p:blipFill>
        <p:spPr>
          <a:xfrm>
            <a:off x="7848720" y="5896080"/>
            <a:ext cx="1066680" cy="657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86"/>
          <p:cNvSpPr/>
          <p:nvPr/>
        </p:nvSpPr>
        <p:spPr>
          <a:xfrm>
            <a:off x="7543800" y="42670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90"/>
          <p:cNvSpPr/>
          <p:nvPr/>
        </p:nvSpPr>
        <p:spPr>
          <a:xfrm>
            <a:off x="7948440" y="56624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2"/>
          <p:cNvSpPr/>
          <p:nvPr/>
        </p:nvSpPr>
        <p:spPr>
          <a:xfrm>
            <a:off x="5487840" y="2590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ì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95"/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6"/>
          <p:cNvSpPr/>
          <p:nvPr/>
        </p:nvSpPr>
        <p:spPr>
          <a:xfrm>
            <a:off x="3657600" y="42670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768840" y="2263680"/>
            <a:ext cx="282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hā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用作姓氏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604680" y="3483000"/>
            <a:ext cx="18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á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48120" y="27432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3048120" y="27432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743200" y="33480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>
            <a:off x="3048120" y="39625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2971440"/>
            <a:ext cx="457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3048120" y="33526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2" descr="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79000" y="5965920"/>
            <a:ext cx="765000" cy="89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366720" y="1523880"/>
            <a:ext cx="7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ā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430800" y="3886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94080" y="1511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塞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398840" y="3873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茅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塞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顿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971800" y="31240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971800" y="19810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2666880" y="31240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971800" y="434484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905120" y="2743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354120" y="2743200"/>
            <a:ext cx="7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577760" y="2751120"/>
            <a:ext cx="240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塞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翁失马   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2971800" y="31240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79000" y="5965920"/>
            <a:ext cx="765000" cy="892080"/>
          </a:xfrm>
          <a:prstGeom prst="rect">
            <a:avLst/>
          </a:prstGeom>
          <a:ln w="0">
            <a:noFill/>
          </a:ln>
        </p:spPr>
      </p:pic>
      <p:sp>
        <p:nvSpPr>
          <p:cNvPr id="88" name="Line 19"/>
          <p:cNvSpPr/>
          <p:nvPr/>
        </p:nvSpPr>
        <p:spPr>
          <a:xfrm flipV="1">
            <a:off x="2971800" y="19807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026"/>
          <p:cNvSpPr/>
          <p:nvPr/>
        </p:nvSpPr>
        <p:spPr>
          <a:xfrm>
            <a:off x="2429640" y="138420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iá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7"/>
          <p:cNvSpPr/>
          <p:nvPr/>
        </p:nvSpPr>
        <p:spPr>
          <a:xfrm>
            <a:off x="2417040" y="26035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ià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8"/>
          <p:cNvSpPr/>
          <p:nvPr/>
        </p:nvSpPr>
        <p:spPr>
          <a:xfrm>
            <a:off x="4200120" y="137160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咬文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嚼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字　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嚼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慢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3633840" y="2577960"/>
            <a:ext cx="7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倒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3"/>
          <p:cNvSpPr/>
          <p:nvPr/>
        </p:nvSpPr>
        <p:spPr>
          <a:xfrm>
            <a:off x="914400" y="25909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36"/>
          <p:cNvSpPr/>
          <p:nvPr/>
        </p:nvSpPr>
        <p:spPr>
          <a:xfrm>
            <a:off x="2493360" y="3746520"/>
            <a:ext cx="80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37"/>
          <p:cNvSpPr/>
          <p:nvPr/>
        </p:nvSpPr>
        <p:spPr>
          <a:xfrm>
            <a:off x="3633840" y="3733920"/>
            <a:ext cx="7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40" descr="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79000" y="5965920"/>
            <a:ext cx="765000" cy="892080"/>
          </a:xfrm>
          <a:prstGeom prst="rect">
            <a:avLst/>
          </a:prstGeom>
          <a:ln w="0">
            <a:noFill/>
          </a:ln>
        </p:spPr>
      </p:pic>
      <p:sp>
        <p:nvSpPr>
          <p:cNvPr id="97" name="Line 1047"/>
          <p:cNvSpPr/>
          <p:nvPr/>
        </p:nvSpPr>
        <p:spPr>
          <a:xfrm>
            <a:off x="2057400" y="297180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48"/>
          <p:cNvSpPr/>
          <p:nvPr/>
        </p:nvSpPr>
        <p:spPr>
          <a:xfrm>
            <a:off x="2057400" y="1828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49"/>
          <p:cNvSpPr/>
          <p:nvPr/>
        </p:nvSpPr>
        <p:spPr>
          <a:xfrm>
            <a:off x="1752480" y="2971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50"/>
          <p:cNvSpPr/>
          <p:nvPr/>
        </p:nvSpPr>
        <p:spPr>
          <a:xfrm>
            <a:off x="2057400" y="419256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51"/>
          <p:cNvSpPr/>
          <p:nvPr/>
        </p:nvSpPr>
        <p:spPr>
          <a:xfrm>
            <a:off x="2057400" y="2971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52"/>
          <p:cNvSpPr/>
          <p:nvPr/>
        </p:nvSpPr>
        <p:spPr>
          <a:xfrm flipV="1">
            <a:off x="2057400" y="182844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PE01561_"/>
          <p:cNvPicPr/>
          <p:nvPr/>
        </p:nvPicPr>
        <p:blipFill>
          <a:blip r:embed="rId1"/>
          <a:stretch/>
        </p:blipFill>
        <p:spPr>
          <a:xfrm>
            <a:off x="4255920" y="351144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304920" y="68580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　　读课文，用简洁的语言概括贾里做了几件事？给每个故事拟一个小标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166840" y="32004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形式：小组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概括事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75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明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计划一失败，敌人变成朋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计划二失败，没练成“矮个风度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计划三失败，打工计划破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获得意外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、三次实施计划的具体原因是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6:26:01Z</dcterms:created>
  <dc:creator/>
  <dc:description>第一PPT模板网-WWW.1PPT.COM
</dc:description>
  <dc:language>en-US</dc:language>
  <cp:lastModifiedBy>Administrator</cp:lastModifiedBy>
  <dcterms:modified xsi:type="dcterms:W3CDTF">2017-08-03T05:50:18Z</dcterms:modified>
  <cp:revision>53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