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1D0-AE11-4976-BD97-59114884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85A-2012-4680-A809-F99DD8A4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3BE-0111-4C73-9D2E-C523FAA6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E93-808A-41CC-9D6E-2D066474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0B4A-34BD-4964-81E7-A36D109B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43BF-B6E7-47AD-A046-A7D26C39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94EA-BC28-4BE7-8CF9-F91984D3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7D3D-7C66-4059-A298-0D5217B3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413E-2481-4800-8801-022691C2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2D22-FAA7-4509-8A0C-AAA28852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75CA-77FA-4B86-B157-629350F0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B6E-F0CC-481E-913F-7BD47EFB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4E73-A2B5-4C16-B1C3-6995C547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CAA8-1873-4733-BB83-52104987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8A15-F3F5-4935-B4CF-62F63173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9034-6684-412C-999E-BA409039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BC2C-12AE-4A7F-BC52-F8EF9749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942-8029-4E8D-8738-E8679055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E47-5E6A-48C3-9AAF-92C79B58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31E-8AEA-4A00-9A8A-792B576C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315-D38D-4D89-9A84-5965A95A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5AC-9649-4661-87CE-65AB070E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D87-13C7-4F45-8DCD-A788B6D1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E68-04DE-4DC1-9443-4D5BDB8A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8C06-26F5-4A1C-8B85-1B602416C7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0EDE-5082-4EAD-89DD-E767DA27FE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5,10,&#20316;&#32773;&#20171;&#32461;" TargetMode="External"/><Relationship Id="rId2" Type="http://schemas.openxmlformats.org/officeDocument/2006/relationships/hyperlink" Target="258,3,&#36158;&#37324;&#26085;&#35760;" TargetMode="External"/><Relationship Id="rId3" Type="http://schemas.openxmlformats.org/officeDocument/2006/relationships/hyperlink" Target="262,4,&#35838;&#25991;&#35299;&#26512;" TargetMode="External"/><Relationship Id="rId4" Type="http://schemas.openxmlformats.org/officeDocument/2006/relationships/hyperlink" Target="261,9,&#24187;&#28783;&#29255; 9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9,5,&#36158;&#37324;&#30340;&#20255;&#20154;&#35266;&#65306;                            &#25165;&#26234;&#19981;&#20961;             &#29233;&#24974;&#20998;&#26126;             &#21191;&#24448;&#30452;&#21069;" TargetMode="External"/><Relationship Id="rId2" Type="http://schemas.openxmlformats.org/officeDocument/2006/relationships/hyperlink" Target="259,5,&#36158;&#37324;&#30340;&#20255;&#20154;&#35266;&#65306;                            &#25165;&#26234;&#19981;&#20961;             &#29233;&#24974;&#20998;&#26126;             &#21191;&#24448;&#30452;&#21069;" TargetMode="External"/><Relationship Id="rId3" Type="http://schemas.openxmlformats.org/officeDocument/2006/relationships/hyperlink" Target="260,6,  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263,7,&#22833;&#36133;&#21407;&#22240;          &#36807;&#38169;&#19981;&#22312;&#20110;&#8220;&#20255;&#20154;&#36861;&#27714;&#8221;&#65292;&#32780;&#22312;&#20110;&#8220;&#20255;&#20154;&#35745;&#21010;&#8221;&#19982;&#36861;&#27714;&#21160;&#26426;&#26377;&#38382;&#39064;&#12290;  " TargetMode="External"/><Relationship Id="rId3" Type="http://schemas.openxmlformats.org/officeDocument/2006/relationships/hyperlink" Target="263,7,&#22833;&#36133;&#21407;&#22240;          &#36807;&#38169;&#19981;&#22312;&#20110;&#8220;&#20255;&#20154;&#36861;&#27714;&#8221;&#65292;&#32780;&#22312;&#20110;&#8220;&#20255;&#20154;&#35745;&#21010;&#8221;&#19982;&#36861;&#27714;&#21160;&#26426;&#26377;&#38382;&#39064;&#12290;  " TargetMode="External"/><Relationship Id="rId4" Type="http://schemas.openxmlformats.org/officeDocument/2006/relationships/hyperlink" Target="264,8,&#25104;&#21151;&#21407;&#22240;          &#30475;&#20284;&#20598;&#28982;&#65292;&#23454;&#21017;&#21160;&#26426;&#27491;&#30830;&#65292;&#31526;&#21512;&#33050;&#36367;&#23454;&#22320;&#22320;&#20570;&#19968;&#20010;&#26222;&#36890;&#20154;&#30340;&#35266;&#28857;&#12290;         &#29240;&#29240;&#30340;&#35805;&#19968;&#38024;&#35265;&#34880;&#65306;&#19981;&#20570;&#23567;&#20107;&#23601;&#24178;&#19981;&#25104;&#22823;&#20107;&#12290;" TargetMode="External"/><Relationship Id="rId5" Type="http://schemas.openxmlformats.org/officeDocument/2006/relationships/hyperlink" Target="266,11,&#20307;&#29616;&#22312;&#65306; 1&#12289;&#40065;&#26234;&#32988;&#25552;&#35758;&#25343;&#23567;&#20992;&#21010;&#37041;&#22763;&#21147;&#30340;&#36710;&#32974;&#65292;&#36825;&#34429;&#35299;&#27668;&#65292;&#20294;&#32570;&#20047;&#22823;&#24072;&#39118;&#33539;&#65292;&#36158;&#37324;&#25042;&#24471;&#21435;&#20570;&#12290; 2&#12289;&#33258;&#24895;&#39046;&#30772;&#20070;&#65292;&#26377;&#19981;&#24597;&#21507;&#20111;&#30340;&#21697;&#36136;&#12290; 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59280" y="220320"/>
            <a:ext cx="2057400" cy="579132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221304"/>
                </a:solidFill>
                <a:latin typeface="Times New Roman"/>
                <a:ea typeface="楷体_GB2312"/>
              </a:rPr>
              <a:t>伟人细胞</a:t>
            </a:r>
            <a:endParaRPr b="0" lang="en-US" sz="9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1" name="Picture 3" descr="贾里"/>
          <p:cNvPicPr/>
          <p:nvPr/>
        </p:nvPicPr>
        <p:blipFill>
          <a:blip r:embed="rId1"/>
          <a:srcRect l="0" t="0" r="5418" b="3060"/>
          <a:stretch/>
        </p:blipFill>
        <p:spPr>
          <a:xfrm>
            <a:off x="700200" y="189000"/>
            <a:ext cx="580392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68d6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8d616"/>
                </a:solidFill>
                <a:latin typeface="Times New Roman"/>
                <a:ea typeface="楷体_GB2312"/>
              </a:rPr>
              <a:t>作者介绍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66ff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秦文君 ，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1982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年开始创作，已出版作品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400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万字，代表作品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男生贾里新传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女生贾梅新传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小鬼鲁智胜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小妖林晓梅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，先后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余次获各种文学奖。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开心女孩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男生贾里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等作品出版了日文版、英文版、中文繁体版、德文版发行海外，并畅销新加坡。马来西亚等地。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小鬼鲁智胜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男生贾里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家有小丑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等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余部被改为电影，电视连续剧先后播映。作者先为中国作家协会全委会委员，上海少儿出版社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中国儿童文学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主编。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845820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21304"/>
                </a:solidFill>
                <a:latin typeface="楷体_GB2312"/>
                <a:ea typeface="楷体_GB2312"/>
              </a:rPr>
              <a:t>体现在：</a:t>
            </a:r>
            <a:br>
              <a:rPr sz="6000"/>
            </a:b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143000" y="17524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智胜提议拿小刀划邱士力的车胎，这虽然解气，但缺乏大师风范，贾里懒得去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143000" y="4114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愿领破书，有不怕吃亏的品质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7620120" y="594360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bbd8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627280" y="17733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1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2"/>
              </a:rPr>
              <a:t>贾里日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3"/>
              </a:rPr>
              <a:t>课文解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4"/>
              </a:rPr>
              <a:t>思考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后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~PP270.WAV" descr=""/>
          <p:cNvPicPr/>
          <p:nvPr/>
        </p:nvPicPr>
        <p:blipFill>
          <a:blip r:embed="rId5"/>
          <a:stretch/>
        </p:blipFill>
        <p:spPr>
          <a:xfrm>
            <a:off x="8772480" y="6486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efde3"/>
                </a:solidFill>
                <a:latin typeface="Times New Roman"/>
                <a:ea typeface="楷体_GB2312"/>
              </a:rPr>
              <a:t>  </a:t>
            </a: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341000"/>
            <a:ext cx="889308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3600" spc="-1" strike="noStrike">
                <a:solidFill>
                  <a:srgbClr val="f4ef30"/>
                </a:solidFill>
                <a:latin typeface="Times New Roman"/>
                <a:ea typeface="楷体_GB2312"/>
              </a:rPr>
              <a:t>我敢说自己很有伟人素质：才智不凡、爱憎分明、勇往直前。总之，可以同每个褒义的成语都拐弯抹角地挂上钩。痛苦的是，外人对此毫不察觉，连我最要好的朋友鲁智胜也说：“你既不是伟人，也不是庸人。”唉，这种不负责任的评价何时能停止呢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4ef30"/>
                </a:solidFill>
                <a:latin typeface="Times New Roman"/>
                <a:ea typeface="楷体_GB2312"/>
              </a:rPr>
              <a:t>                                   ——</a:t>
            </a:r>
            <a:r>
              <a:rPr b="0" lang="zh-CN" sz="3600" spc="-1" strike="noStrike">
                <a:solidFill>
                  <a:srgbClr val="f4ef30"/>
                </a:solidFill>
                <a:latin typeface="Times New Roman"/>
                <a:ea typeface="楷体_GB2312"/>
              </a:rPr>
              <a:t>摘自《贾里日记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b8d5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21304"/>
                </a:solidFill>
                <a:latin typeface="Times New Roman"/>
                <a:ea typeface="楷体_GB2312"/>
              </a:rPr>
              <a:t>课文解析</a:t>
            </a: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18960" y="20570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1"/>
              </a:rPr>
              <a:t>贾里的伟人观是什么</a:t>
            </a:r>
            <a:r>
              <a:rPr b="0" lang="zh-CN" sz="54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2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219320" y="3124080"/>
            <a:ext cx="770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3"/>
              </a:rPr>
              <a:t>为追求伟人的梦想，小说写了他经历的那四件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7848720" y="5791320"/>
            <a:ext cx="685800" cy="457200"/>
          </a:xfrm>
          <a:custGeom>
            <a:avLst/>
            <a:gdLst>
              <a:gd name="textAreaLeft" fmla="*/ 91800 w 685800"/>
              <a:gd name="textAreaRight" fmla="*/ 594000 w 6858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b8d5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30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efde3"/>
                </a:solidFill>
                <a:latin typeface="Times New Roman"/>
              </a:rPr>
              <a:t>贾里的伟人观</a:t>
            </a:r>
            <a:r>
              <a:rPr b="1" lang="zh-CN" sz="4400" spc="-1" strike="noStrike">
                <a:solidFill>
                  <a:srgbClr val="fefde3"/>
                </a:solidFill>
                <a:latin typeface="Times New Roman"/>
              </a:rPr>
              <a:t>：</a:t>
            </a:r>
            <a:br>
              <a:rPr sz="4400"/>
            </a:br>
            <a:r>
              <a:rPr b="1" lang="zh-CN" sz="4400" spc="-1" strike="noStrike">
                <a:solidFill>
                  <a:srgbClr val="fefde3"/>
                </a:solidFill>
                <a:latin typeface="Times New Roman"/>
              </a:rPr>
              <a:t>                           </a:t>
            </a:r>
            <a:r>
              <a:rPr b="1" lang="zh-CN" sz="4800" spc="-1" strike="noStrike">
                <a:solidFill>
                  <a:srgbClr val="fefde3"/>
                </a:solidFill>
                <a:latin typeface="楷体_GB2312"/>
                <a:ea typeface="楷体_GB2312"/>
              </a:rPr>
              <a:t>才智不凡</a:t>
            </a:r>
            <a:br>
              <a:rPr sz="4800"/>
            </a:br>
            <a:r>
              <a:rPr b="1" lang="zh-CN" sz="4800" spc="-1" strike="noStrike">
                <a:solidFill>
                  <a:srgbClr val="fefde3"/>
                </a:solidFill>
                <a:latin typeface="楷体_GB2312"/>
                <a:ea typeface="楷体_GB2312"/>
              </a:rPr>
              <a:t>            爱憎分明</a:t>
            </a:r>
            <a:br>
              <a:rPr sz="4800"/>
            </a:br>
            <a:r>
              <a:rPr b="1" lang="zh-CN" sz="4800" spc="-1" strike="noStrike">
                <a:solidFill>
                  <a:srgbClr val="fefde3"/>
                </a:solidFill>
                <a:latin typeface="楷体_GB2312"/>
                <a:ea typeface="楷体_GB2312"/>
              </a:rPr>
              <a:t>            勇往直前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Picture 4" descr="1"/>
          <p:cNvPicPr/>
          <p:nvPr/>
        </p:nvPicPr>
        <p:blipFill>
          <a:blip r:embed="rId1"/>
          <a:stretch/>
        </p:blipFill>
        <p:spPr>
          <a:xfrm>
            <a:off x="0" y="320040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4419720" y="1371600"/>
            <a:ext cx="4114800" cy="2819520"/>
          </a:xfrm>
          <a:prstGeom prst="wedgeEllipseCallout">
            <a:avLst>
              <a:gd name="adj1" fmla="val -47453"/>
              <a:gd name="adj2" fmla="val 72689"/>
            </a:avLst>
          </a:prstGeom>
          <a:noFill/>
          <a:ln cap="sq" w="1260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7848720" y="6095880"/>
            <a:ext cx="761760" cy="457200"/>
          </a:xfrm>
          <a:custGeom>
            <a:avLst/>
            <a:gdLst>
              <a:gd name="textAreaLeft" fmla="*/ 101880 w 761760"/>
              <a:gd name="textAreaRight" fmla="*/ 659880 w 76176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efd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8800"/>
            </a:br>
            <a:endParaRPr b="0" lang="en-US" sz="8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00200" y="685440"/>
            <a:ext cx="2819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敌为友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419720" y="114300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191120" y="541008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8077320" y="5943600"/>
            <a:ext cx="380880" cy="38088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541922"/>
                <a:lnTo>
                  <a:pt x="7739" y="21098"/>
                </a:lnTo>
                <a:lnTo>
                  <a:pt x="0" y="17280"/>
                </a:lnTo>
                <a:lnTo>
                  <a:pt x="7739" y="12458"/>
                </a:lnTo>
                <a:lnTo>
                  <a:pt x="7739" y="14618"/>
                </a:lnTo>
                <a:arcTo wR="21600" hR="7560" stAng="2541922" swAng="-218448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bbd8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828800" y="22860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矮个风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828800" y="35812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打工风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828800" y="5029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领书成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800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失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02920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21304"/>
                </a:solidFill>
                <a:latin typeface="Times New Roman"/>
              </a:rPr>
              <a:t>失败原因</a:t>
            </a:r>
            <a:br>
              <a:rPr sz="6000"/>
            </a:br>
            <a:br>
              <a:rPr sz="6000"/>
            </a:b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       过错不在于“伟人追求”，而在于“伟人计划”与追求动机有问题。</a:t>
            </a:r>
            <a:br>
              <a:rPr sz="4400"/>
            </a:b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7848720" y="5791320"/>
            <a:ext cx="457200" cy="457200"/>
          </a:xfrm>
          <a:custGeom>
            <a:avLst/>
            <a:gdLst>
              <a:gd name="textAreaLeft" fmla="*/ 61200 w 457200"/>
              <a:gd name="textAreaRight" fmla="*/ 396000 w 4572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bbd8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成功原因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       看似偶然，实则动机正确，符合脚踏实地地做一个普通人的观点。</a:t>
            </a:r>
            <a:br>
              <a:rPr sz="4400"/>
            </a:b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       爸爸的话一针见血：不做小事就干不成大事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7467480" y="5715000"/>
            <a:ext cx="457200" cy="457200"/>
          </a:xfrm>
          <a:custGeom>
            <a:avLst/>
            <a:gdLst>
              <a:gd name="textAreaLeft" fmla="*/ 61200 w 457200"/>
              <a:gd name="textAreaRight" fmla="*/ 396000 w 4572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bbd8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4book5"/>
          <p:cNvPicPr/>
          <p:nvPr/>
        </p:nvPicPr>
        <p:blipFill>
          <a:blip r:embed="rId1"/>
          <a:stretch/>
        </p:blipFill>
        <p:spPr>
          <a:xfrm>
            <a:off x="0" y="4648320"/>
            <a:ext cx="2590920" cy="2209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efde3"/>
                </a:solidFill>
                <a:latin typeface="Times New Roman"/>
                <a:ea typeface="华文琥珀"/>
              </a:rPr>
              <a:t>思考探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447920" y="1905120"/>
            <a:ext cx="7414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为什么实现“伟人”理想三次都失败呢？</a:t>
            </a:r>
            <a:r>
              <a:rPr b="0" lang="en-US" sz="40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他意外成功的原因是什么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贾里身上“伟人细胞”体现在哪儿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8153280" y="5867280"/>
            <a:ext cx="381240" cy="304920"/>
          </a:xfrm>
          <a:custGeom>
            <a:avLst/>
            <a:gdLst>
              <a:gd name="textAreaLeft" fmla="*/ 51120 w 381240"/>
              <a:gd name="textAreaRight" fmla="*/ 330120 w 38124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efd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05:47:20Z</dcterms:created>
  <dc:creator/>
  <dc:description>第一PPT模板网-WWW.1PPT.COM
</dc:description>
  <dc:language>en-US</dc:language>
  <cp:lastModifiedBy>Administrator</cp:lastModifiedBy>
  <dcterms:modified xsi:type="dcterms:W3CDTF">2017-08-03T05:47:35Z</dcterms:modified>
  <cp:revision>7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