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555-C42D-4361-80E9-E6E36D63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65F9-8372-41CF-9C3C-F0FB400A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6F5-78D4-44B3-8F9E-090601EE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CF9-FFE8-4E10-8A5D-D97AD021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87E1-108F-4E5C-A16D-03D651D3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0DB-F4D5-4FA0-B136-3504687C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C6B-61EE-47C2-81C5-33C95E98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FAAE-1809-4522-81F8-ADFD8C0F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9FE-6A8F-4C1D-998D-A97F8D5F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EDF-C021-4839-B2CC-85DA467B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FE5-E509-4450-A7F2-6C023CE7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C65-E5AB-478B-8BDF-C9AA98B0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98F6-69B0-448C-9565-D2A62AE0CA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明朝末年，宦官魏忠贤专权，他排斥异己，杀戮大臣，暴虐无道，形成了“钩党之捕遍于天下 ”的局面。天启六年，魏忠贤派爪牙到苏州逮捕周顺昌，苏州市民群情激愤，奋起反抗，发生暴动。事后，阉党大范围搜捕暴动群众，市民颜佩韦等五人为了保护群众，挺身投案，英勇就义。次年，崇祯帝即位，罢黜魏忠贤，魏畏罪自缢，阉党失败，周顺昌得以昭雪。为了纪念死去的五位烈士，苏州市民把他们合葬在虎丘前的大堤之上，称为“五人之墓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8120" y="457200"/>
            <a:ext cx="2209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其为时止十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月耳    夫十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月之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敛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财以送其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15840" y="5335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通假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81952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有”同“又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403848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赀”同“资”，资财，钱财。读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z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971800" y="609480"/>
            <a:ext cx="220968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人皆得以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隶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养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去今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而葬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其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疾病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而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1447920"/>
            <a:ext cx="402912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为之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声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缇骑按剑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是时大中丞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抚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吴者为魏之私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27280" y="53640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词类活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63520" y="1981080"/>
            <a:ext cx="23144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隶，名词作状语，当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奴隶那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886200"/>
            <a:ext cx="337176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墓：名词用作动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修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22760" y="5410080"/>
            <a:ext cx="2100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疾病：名词用作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981080"/>
            <a:ext cx="49528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声：名词用作动词，伸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3124080"/>
            <a:ext cx="44956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前：名词作动词，走上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5029200"/>
            <a:ext cx="464832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抚：用作动词，出任巡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哀斯墓之徒有其石也而为之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不能容于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远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抶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安能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豪杰之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3372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远近：形容词用于名词，远近的人；远近的百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962520"/>
            <a:ext cx="6705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仆：动词使动用法，使……倒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5257800"/>
            <a:ext cx="8076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屈：动词使动用法，使……屈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219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记：名词用作动词，作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107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0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斯墓之徒有其石也而为之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3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7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复敢有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诛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7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7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2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激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7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760" indent="-410760">
              <a:lnSpc>
                <a:spcPct val="90000"/>
              </a:lnSpc>
              <a:spcBef>
                <a:spcPts val="1749"/>
              </a:spcBef>
              <a:buClr>
                <a:srgbClr val="ff0066"/>
              </a:buClr>
              <a:buFont typeface="Times New Roman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身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7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760" indent="-410760">
              <a:lnSpc>
                <a:spcPct val="90000"/>
              </a:lnSpc>
              <a:spcBef>
                <a:spcPts val="1749"/>
              </a:spcBef>
              <a:buClr>
                <a:srgbClr val="ff0066"/>
              </a:buClr>
              <a:buFont typeface="Times New Roman"/>
              <a:buAutoNum type="arabicPlain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天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哀，形容词意动用法，以……为哀，哀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286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诛治：动词用作名词，株连治罪的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657600"/>
            <a:ext cx="777240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昂：形容词用作动词，激动振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724280"/>
            <a:ext cx="79250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荣：名词使动用法，使……得到荣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964120"/>
            <a:ext cx="43434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尽：副词用作动词，享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971800" y="609480"/>
            <a:ext cx="18288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激于义而死焉者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为之声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忠义暴于朝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2720" y="685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一词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666880"/>
            <a:ext cx="8076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义愤，形容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733920"/>
            <a:ext cx="777240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宜的道德，行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道理，正义，名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1447920"/>
            <a:ext cx="396252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其为时止十有一月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为之声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谁为哀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……看来，介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4648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替，给，介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吾社之行为士先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敛赀财以送其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3333cc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其辱人贱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81360" y="838080"/>
            <a:ext cx="456264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轻重固何如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斯固百世之遇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905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9051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品行，名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895480"/>
            <a:ext cx="3429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走，动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3434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行为，名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981080"/>
            <a:ext cx="434340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来，引申为“究竟”“到底”，副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733920"/>
            <a:ext cx="373392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在，真是，副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66880" y="685800"/>
            <a:ext cx="251460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即今傫然在墓者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斯固百世之遇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五人者，盖当蓼洲周公之被逮，激于义而死焉者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是时以大中丞抚吴者为魏之私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故今墓中全乎为五人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不可谓非五人之力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83808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式判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2819520"/>
            <a:ext cx="5331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327672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0" y="373392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4114800"/>
            <a:ext cx="6094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4572000"/>
            <a:ext cx="38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5029200"/>
            <a:ext cx="38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5486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752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判断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激于义而死焉者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  谁为哀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党之捕遍于天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124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疑问句，代词作宾语，宾语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809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之”字提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1295280"/>
            <a:ext cx="2057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被动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590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宾语前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  列其姓名于大堤之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  且立石于其墓之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  忠义暴于朝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  荣于身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  不能容于远近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而五人生于编伍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  忠丞匿于溷藩以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  令五人保其首领以老于户牖之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  匹夫之有重于社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762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介词结构后置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省略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断头置城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投缳道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激昂大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扼腕墓道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209680" y="2133720"/>
            <a:ext cx="22860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2057400"/>
            <a:ext cx="762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828800" y="2590560"/>
            <a:ext cx="152280" cy="6094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743200"/>
            <a:ext cx="762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752480" y="3200400"/>
            <a:ext cx="152640" cy="533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33526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828800" y="3809880"/>
            <a:ext cx="152280" cy="6098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962520"/>
            <a:ext cx="914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19320" y="137160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五人墓碑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2743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张   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87280" y="990720"/>
            <a:ext cx="5107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有的人死了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他却活着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有的人活着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他却死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臧克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华文中宋"/>
              </a:rPr>
              <a:t>布置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  完成课后练习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  翻译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教学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在把握文意的基础上，分析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、就文意理解和理清思路质疑解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  讨论第一段要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首句笼罩全篇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蓼洲周公之被逮”伏下文苏州市民反抗阉党斗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“激于义”是五人之死事的本质，“死”伏下文五人当刑，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重在“激于义”三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“义”是全文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叙建墓经过仅用一个长句。“魏阉废祠”暗示地方缙绅屈身事魏（伏第五段“缙绅而不能易其志者，……有几人欤”），“立石与其墓之门”（伏结尾“哀斯墓之徒有其石也”）与之形成鲜明对比，抑扬分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⑶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盛”伏下段“独五人之皎皎”，表明作者将有所议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朗读第二段，回答以下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本段为什么不接叙五人之死的经过，却就建墓事发表议论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809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讨论明确：以常人与五人对比，已暗含“死生之大”四字，实为结尾张本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段中两个“夫”字作用有何不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17920" y="2870280"/>
            <a:ext cx="369972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讨论明确：第一个引出事实作为立论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发点，第二个引出议论的内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6212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明确：可分两层。前一层叙述苏州市民反阉斗争经过，用事实印证上文“激于义”三个字；后一层写五人被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7720" y="762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分析结构入手，理解第三段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90520" y="1752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本段可分为几层？试概括层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讨论明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一层的描写，感情真挚，写吴民，则“哭声震动天地”“抶而仆之”，其义勇可见；写缇骑，则“按剑而前，问‘谁为哀者’”，凶横之态毕见；写狗官，则“匿于溷藩以免”，惶急之状可知。可见作者憎爱分明的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67200" y="716040"/>
            <a:ext cx="2619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前一层叙述反阉斗争的经过，所表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出的作者的感情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明确：反映五人浩气长存，虽死犹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文中述贤士大夫发金买五人之脰，有何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明确：既有称颂贤士大夫之意，又有从侧面烘托五人形象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80880"/>
            <a:ext cx="3808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组讨论第四段要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51680" y="838080"/>
            <a:ext cx="35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 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何选材来突出五人事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90840" y="1371600"/>
            <a:ext cx="44478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五人之事迹不可尽书，故只写其当刑之从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说明作者选材之精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31840" y="2286000"/>
            <a:ext cx="481356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断头置城上，颜色不少变”反映五人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精神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以上方法，学生互相讨论，自学第五至第七段，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① 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各段要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② 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出表明思路的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③  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理解作者思想情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：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五段论述五人之死在当时政治斗争中的意义。用一反问极言在魏阉统治时期不附逆者极少。又用一提示性的问句揭示出五人之死确实于“激于义”。第六段论述五人之死的重大意义。连用四个长句，运用强烈对比，提出死的轻重问题，突出五人之死重于泰山，点明“匹夫之有重与社稷”这个重大主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 algn="ctr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137160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教学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362320"/>
            <a:ext cx="6172200" cy="57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1" action="ppaction://hlinksldjump"/>
              </a:rPr>
              <a:t>一、了解碑记类文体常识及作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895480"/>
            <a:ext cx="6172200" cy="57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2" action="ppaction://hlinksldjump"/>
              </a:rPr>
              <a:t>二、整体感知，把握思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429000"/>
            <a:ext cx="8915400" cy="57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三、积累一些古代汉语知识，如重点实词、虚词，常见的特殊句式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343400"/>
            <a:ext cx="8915400" cy="577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4" action="ppaction://hlinksldjump"/>
              </a:rPr>
              <a:t>四、体会文中所阐述的生死价值观，了解文章写作特点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华文行楷"/>
                <a:hlinkClick r:id="rId5" action="ppaction://hlinksldjump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文两次提到贤士大夫，都没交代姓名，为什么要放在最后写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既可使行文简洁，又有评功的作用，对贤士大夫不称名，表示一种敬意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找记叙、议论的句子后，分析特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  夹叙夹议，叙议结合。从全文看，前两部分侧重记叙，第三部分侧重议论。两部分之中，记叙和议论又互有穿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  巧妙使用对比。文章多处使用对比，突出五人慷慨就义的英勇事迹和重大意义。如第二段把富贵之子、慷慨之徒与五人对比，突出五人之伟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  用简练传神的笔墨刻画人物形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柳子厚的《墓志铭》比较，体会此种文章的语言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布置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  练习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  练习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布置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熟读课文，进一步体会作者的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找出文中记叙、议论的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张广祥中学语文在线欢迎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ttp://dzzgx.126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            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碑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又称“碑志”，刻在墓碑上，用于叙述死者生前的事迹，评价、歌颂死者功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505320"/>
            <a:ext cx="61722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有关作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本文选自《七录斋集》，张溥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）幼年勤奋好学，所读之书都要亲手抄写，抄好朗读之后烧掉，再抄，一直要抄到六七遍，因此，他的书斋起名为“七录斋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91120" y="6095880"/>
            <a:ext cx="83808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整体感知，把握思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133720"/>
            <a:ext cx="381240" cy="3886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057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第一部分：交代建五人墓碑的由来，并提出            问题，发人深省，引出下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32004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第二部分：记述苏州市民的反暴斗争以及五人死难经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343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第三部分：高度评价，进而揭示中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54100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第四部分：补叙四位贤士大夫的姓名，照应开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120" y="3886200"/>
            <a:ext cx="60948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752480" y="2209680"/>
            <a:ext cx="56390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熟读课文  疏通字词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 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自读课文，在熟悉课文的基础上来推断不明白的词语的含义和用法，学习依靠语脉、语感来推断重点词义的方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吾社之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行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士先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是时以大中丞抚吴者为魏之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私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诛五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0400" y="838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3623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“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行为”是“行”和“为”两个词的连用。行：品行，名词；为，成为，动词。今义为：受思想支配而表现在外面的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411480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私人：党羽；今指与公家相对的个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33412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按：考查，查究。今常用义为：压住，依靠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90720" y="1142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4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颜色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不少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ff0066"/>
              </a:buClr>
              <a:buFont typeface="Times New Roman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五人之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6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令五人者保其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首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以老于户牖之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676520"/>
            <a:ext cx="80010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颜色：面貌、容貌、脸色。今常指由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发射、反射或透过的光波通过视觉所产生的印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350532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视：比较。今无此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724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首领：头颅，脑袋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9T14:35:22Z</dcterms:created>
  <dc:creator>ftf</dc:creator>
  <dc:description/>
  <dc:language>en-US</dc:language>
  <cp:lastModifiedBy>kh</cp:lastModifiedBy>
  <dcterms:modified xsi:type="dcterms:W3CDTF">2003-04-21T05:37:30Z</dcterms:modified>
  <cp:revision>25</cp:revision>
  <dc:subject/>
  <dc:title>PowerPoint 演示文稿</dc:title>
</cp:coreProperties>
</file>