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6EE-EA9F-40D8-BA0C-35739341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BE7-02B1-41AC-A46E-8A0EE9D5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60D-3C5A-4A04-954B-36E43743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73F-159E-49C9-A1EA-4E8321EE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D81-4A7F-40CA-A718-DA81B094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23E-57D5-47D5-BA66-9CB22F6A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D40-FC19-4B63-B2DC-CF5D9969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7DC-5A65-4228-9EAE-D59FB343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2D2-F0CC-46A8-91A9-0CD2B32C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FE0-66F5-4493-A9C3-6700FB2B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FFD-02F9-4D8E-A556-E646BC04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B75-71F3-4A07-B516-BD0C0706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FCDD-8D05-4EFE-833F-55F58406C4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4T13:02:08Z</dcterms:created>
  <dc:creator/>
  <dc:description/>
  <dc:language>en-US</dc:language>
  <cp:lastModifiedBy/>
  <dcterms:modified xsi:type="dcterms:W3CDTF">2016-11-22T07:12:1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