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B63-E35D-4E11-8588-AE06E03C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61DA-023A-4C98-BD4B-AFA82CAE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F19-08AF-4627-852F-9479BCAE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882-39B5-46B9-A315-FB46BF1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CB2-6B3D-4621-83DA-F2988EC5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7CF-A02F-4F02-A6E9-5DD97E41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76F-A555-45A0-8979-E0E22AD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BCF-1DDC-4336-94A9-854B9196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253-F8D1-470D-A849-D70FD18F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3D8-2B78-4A91-9DDA-60260278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3CA-20BF-49C0-A136-DB3AE90B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FC4-11F3-4BCB-992B-7BB4430C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91A-BF48-494C-AD6D-13B1F4E7CE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&#22806;&#23110;&#30340;&#25163;&#32441;2.ppt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" descr=""/>
          <p:cNvPicPr/>
          <p:nvPr/>
        </p:nvPicPr>
        <p:blipFill>
          <a:blip r:embed="rId2"/>
          <a:stretch/>
        </p:blipFill>
        <p:spPr>
          <a:xfrm>
            <a:off x="8172360" y="566100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858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6589800" cy="530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332000" y="1916280"/>
            <a:ext cx="66960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”为何要保存和复制外婆的针线活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4221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用一个表示递进关系的句子来表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0000" y="620640"/>
            <a:ext cx="244800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45720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上世纪二、三十年代的庭院里，院落寂静而幽深，一个老人坐在椅子上，手拿针线，把她心里对于美的理解，全部沿着她的手纹绣进、缝进布里，衣服上。在这里我们看到了一个与众不同的老人，能够让自己最普通的劳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线活变得如艺术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个时代过去了，但是在这个时代结束后，一个身影又走来了，而且带来了我们无尽的遐思。这不是单纯的在做衣、缝补，而是在缝补着生活，在缝补着生命，缝补着一个人对于生命的向上的追求。这样一个最质朴的、最普通的老人，她的积极、向上，是难能可贵的。有了向上的态度，才有了一颗追求美的心灵。这样的一个老人他对美的理解诠释追求都落进她的针线活中。对于这样的老人，作为作者，是最想怀念的！他怀念外婆的手，怀念外婆带给他的最美好的值得纪念的鞋垫和枕套。这是一个真正让人尊敬怀念的老人，她手里拿着针线，穿越时空，继续绣着我们人类最需要的“美”！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u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647640" cy="52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2385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981000"/>
            <a:ext cx="889308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看见天空上，永不会失传的云朵和月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看见水里的鱼游过来，水仙欲开未开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隐隐触到外婆的手。那永不失传的手上的温度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600120" y="0"/>
            <a:ext cx="9744120" cy="7315200"/>
          </a:xfrm>
          <a:prstGeom prst="rect">
            <a:avLst/>
          </a:prstGeom>
          <a:ln w="0">
            <a:noFill/>
          </a:ln>
        </p:spPr>
      </p:pic>
      <p:pic>
        <p:nvPicPr>
          <p:cNvPr id="92" name="mu" descr=""/>
          <p:cNvPicPr/>
          <p:nvPr/>
        </p:nvPicPr>
        <p:blipFill>
          <a:blip r:embed="rId3"/>
          <a:stretch/>
        </p:blipFill>
        <p:spPr>
          <a:xfrm>
            <a:off x="84614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2385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79640" y="907920"/>
            <a:ext cx="48006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外婆的手纹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3141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汉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5077080" cy="380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692360" y="692280"/>
            <a:ext cx="2303280" cy="9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206208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简单的讲，作者回忆了外婆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3429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令作者最难忘的又是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1631880" cy="1773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700360" y="836640"/>
            <a:ext cx="3200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我的私人文物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89000"/>
            <a:ext cx="504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鞋垫上绣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泉水，泉边生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仙，泉水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条鱼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泉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涌出来。鱼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过来。水仙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着，含着永远地期待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198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2492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一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242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游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407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淙淙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393372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5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轻轻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欲开未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476280"/>
            <a:ext cx="165564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填一填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743440" y="213372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2857320" cy="214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56360" y="320040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556000" y="3645000"/>
            <a:ext cx="281916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981000"/>
            <a:ext cx="7486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）鞋垫上绣着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一汪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泉水，泉边生着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一丛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水仙，泉水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游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两条鱼儿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）枕套上绣着月宫，桂花树下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蹲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一只兔子，它在月宫里，在云端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望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人间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望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我，到夜晚，它就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守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我的梦境。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）泉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淙淙地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涌出来。鱼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轻轻地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游过来。水仙，</a:t>
            </a:r>
            <a:r>
              <a:rPr b="0" lang="zh-CN" sz="3000" spc="-1" strike="noStrike">
                <a:solidFill>
                  <a:srgbClr val="008000"/>
                </a:solidFill>
                <a:latin typeface="隶书"/>
                <a:ea typeface="隶书"/>
              </a:rPr>
              <a:t>欲开未开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着，含着永远地期待。</a:t>
            </a:r>
            <a:r>
              <a:rPr b="0" lang="zh-CN" sz="3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59280" y="333360"/>
            <a:ext cx="287964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外婆的针线活</a:t>
            </a:r>
            <a:endParaRPr b="0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63640" y="1341360"/>
            <a:ext cx="7113600" cy="5334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79280" y="189000"/>
            <a:ext cx="1835280" cy="147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5640" y="765000"/>
            <a:ext cx="7416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外婆的艺术灵感来自于哪呢？</a:t>
            </a:r>
            <a:endParaRPr b="0" lang="en-US" sz="24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56360" y="320040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2857320" cy="214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03640" y="3718080"/>
            <a:ext cx="2819160" cy="256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79640" y="145728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87280" y="1054080"/>
            <a:ext cx="685800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ff0000">
                    <a:alpha val="99000"/>
                  </a:srgbClr>
                </a:solidFill>
                <a:latin typeface="宋体"/>
              </a:rPr>
              <a:t>外婆为什么要绣这些东西给我呢？</a:t>
            </a:r>
            <a:endParaRPr b="0" lang="en-US" sz="2400" spc="-1" strike="noStrike">
              <a:ln w="0">
                <a:noFill/>
              </a:ln>
              <a:solidFill>
                <a:srgbClr val="ff0000">
                  <a:alpha val="99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332000" y="1916280"/>
            <a:ext cx="66960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是如何对待外婆的手纹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00000" y="620640"/>
            <a:ext cx="244800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6589800" cy="5300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900000" y="620640"/>
            <a:ext cx="244800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8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写一写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4720" y="5013360"/>
            <a:ext cx="1305000" cy="1395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234936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外婆能做出如此精美，如艺术品般的针线活，不仅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 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093080" y="333360"/>
            <a:ext cx="1658880" cy="21351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17:06Z</dcterms:created>
  <dc:creator>张丹</dc:creator>
  <dc:description/>
  <cp:keywords/>
  <dc:language>en-US</dc:language>
  <cp:lastModifiedBy>zmj</cp:lastModifiedBy>
  <cp:lastPrinted>1899-12-30T00:00:00Z</cp:lastPrinted>
  <dcterms:modified xsi:type="dcterms:W3CDTF">2009-05-18T02:59:21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  <property fmtid="{D5CDD505-2E9C-101B-9397-08002B2CF9AE}" pid="3" name="NXTAG2">
    <vt:lpwstr>000800a809000000000001024120</vt:lpwstr>
  </property>
</Properties>
</file>