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EC0-406E-4B10-8D48-F4B3DA01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E8F-A76A-4AF9-94A7-6F23947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B7C-FFA6-47B1-9D6B-3D720B9C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F21-0A72-4747-8674-3358BF45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F4A6-D1E8-4341-B03C-941AFC97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2AE-F739-4A9A-A66F-0E0643B2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B6F-E73B-4F7A-8E38-9D86797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DD10-52F3-46F8-9183-C9E7F187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7174-6A94-488B-BC6A-E97B637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FDB-54E2-4378-B548-7FC9A84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E9E-4DEC-4CAB-9441-4430A87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83E-2993-476F-921F-75C2D024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09E6-07D7-4E87-B1E3-00478CF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5E51-EE19-41C2-8BF4-AAC88933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B5B-6353-463E-8468-4BF1F54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AEE9-06A0-43DE-8D9B-606557B9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9E85-0671-4C5F-BBBA-3B1E56B1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9B6-A5BF-4B88-A244-EF0E719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443-502D-4903-A0B9-8617369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C09-6DA1-4895-AD53-4BBC42BE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403-A602-4AE8-B91D-C89A45F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70B-ACF5-4CA2-BC58-D0241F9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94A-DDFA-40C4-8A1C-FB06C75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0E3-2B60-48BE-8049-DD4900C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4D5D-BA25-4751-97D6-941CF5C9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933-B78C-4108-9798-6C07E6B3165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书卷式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-186840" y="609480"/>
            <a:ext cx="16426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我们的知识是有限的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724760" y="2286000"/>
            <a:ext cx="1399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f7ff"/>
                </a:solidFill>
                <a:latin typeface="Times New Roman"/>
                <a:ea typeface="楷体_GB2312"/>
              </a:rPr>
              <a:t>伽利略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0312311802193114a3"/>
          <p:cNvPicPr/>
          <p:nvPr/>
        </p:nvPicPr>
        <p:blipFill>
          <a:blip r:embed="rId2"/>
          <a:stretch/>
        </p:blipFill>
        <p:spPr>
          <a:xfrm>
            <a:off x="5148360" y="749160"/>
            <a:ext cx="36734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26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既然我们的知识总是有限的，面对无限丰富的未知世界，我们该采取一种怎样的态度呢？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是停步不前还是执着追求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请谈谈你的看法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 rot="21319200">
            <a:off x="611280" y="2641320"/>
            <a:ext cx="2590560" cy="1218960"/>
          </a:xfrm>
          <a:prstGeom prst="cloudCallout">
            <a:avLst>
              <a:gd name="adj1" fmla="val -31398"/>
              <a:gd name="adj2" fmla="val 125199"/>
            </a:avLst>
          </a:prstGeom>
          <a:solidFill>
            <a:srgbClr val="cc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已知越多，未知也越多啊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5" descr="PE01496_"/>
          <p:cNvPicPr/>
          <p:nvPr/>
        </p:nvPicPr>
        <p:blipFill>
          <a:blip r:embed="rId1"/>
          <a:stretch/>
        </p:blipFill>
        <p:spPr>
          <a:xfrm>
            <a:off x="468360" y="4365720"/>
            <a:ext cx="1798560" cy="2133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3059280" y="4508640"/>
            <a:ext cx="55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Verdana"/>
                <a:ea typeface="华文行楷"/>
              </a:rPr>
              <a:t>只有认识到自己的无知才能倍加努力去探索未知的世界，所以</a:t>
            </a: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华文行楷"/>
              </a:rPr>
              <a:t>未知的知识应成为我们前进的动力而不是桎梏</a:t>
            </a:r>
            <a:r>
              <a:rPr b="1" i="1" lang="zh-CN" sz="3200" spc="-1" strike="noStrike">
                <a:solidFill>
                  <a:srgbClr val="0000ff"/>
                </a:solidFill>
                <a:latin typeface="Verdana"/>
                <a:ea typeface="华文行楷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635280" y="234936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华文行楷"/>
              </a:rPr>
              <a:t>我们不能因此停步不前，只有努力探索才能让我们的已知越来越多，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行楷"/>
              </a:rPr>
              <a:t>自己乃至人类社会才会进步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华文行楷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1"/>
                            </p:stCondLst>
                            <p:childTnLst>
                              <p:par>
                                <p:cTn id="18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04920" y="2057400"/>
            <a:ext cx="8534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zh-CN" sz="3400" spc="-1" strike="noStrike">
                <a:solidFill>
                  <a:srgbClr val="0000cc"/>
                </a:solidFill>
                <a:latin typeface="Tahoma"/>
              </a:rPr>
              <a:t>本文以人类对声音和乐音的知识愈益增多而又愈感无知的情况为据，说明了人类的知识是有限的，勉励人们不断探索未知的世界，揭开事物愈来愈多的隐秘。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Verdana"/>
              </a:rPr>
              <a:t>概括文章主旨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6"/>
          <p:cNvSpPr/>
          <p:nvPr/>
        </p:nvSpPr>
        <p:spPr>
          <a:xfrm>
            <a:off x="324000" y="1279440"/>
            <a:ext cx="864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文章是如何把一个深刻的哲学问题解说的这样通俗易懂？在写作手法上有什么特点呢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24000" y="3070080"/>
            <a:ext cx="8569080" cy="25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990099"/>
                </a:solidFill>
                <a:latin typeface="Tahoma"/>
              </a:rPr>
              <a:t>、事例通俗易懂、</a:t>
            </a:r>
            <a:r>
              <a:rPr b="1" lang="zh-CN" sz="3200" spc="-1" strike="noStrike">
                <a:solidFill>
                  <a:srgbClr val="990099"/>
                </a:solidFill>
                <a:latin typeface="Verdana"/>
              </a:rPr>
              <a:t>贴近生活，</a:t>
            </a:r>
            <a:r>
              <a:rPr b="1" lang="zh-CN" sz="3200" spc="-1" strike="noStrike">
                <a:solidFill>
                  <a:srgbClr val="990099"/>
                </a:solidFill>
                <a:latin typeface="Tahoma"/>
              </a:rPr>
              <a:t>具有典型性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Tahoma"/>
              </a:rPr>
              <a:t>、语言生动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990099"/>
                </a:solidFill>
                <a:latin typeface="Verdana"/>
              </a:rPr>
              <a:t>、构思巧妙，文章把人类千百年来的认识史浓缩为一个人的故事，集中紧凑，生动形象，富有趣味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68360" y="18900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华文行楷"/>
              </a:rPr>
              <a:t>写法探究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gej06"/>
          <p:cNvPicPr/>
          <p:nvPr/>
        </p:nvPicPr>
        <p:blipFill>
          <a:blip r:embed="rId1"/>
          <a:stretch/>
        </p:blipFill>
        <p:spPr>
          <a:xfrm>
            <a:off x="2268360" y="260280"/>
            <a:ext cx="4098960" cy="568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astlfsj02"/>
          <p:cNvPicPr/>
          <p:nvPr/>
        </p:nvPicPr>
        <p:blipFill>
          <a:blip r:embed="rId2"/>
          <a:stretch/>
        </p:blipFill>
        <p:spPr>
          <a:xfrm>
            <a:off x="2268360" y="333360"/>
            <a:ext cx="6336000" cy="575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pg4"/>
          <p:cNvPicPr/>
          <p:nvPr/>
        </p:nvPicPr>
        <p:blipFill>
          <a:blip r:embed="rId3"/>
          <a:stretch/>
        </p:blipFill>
        <p:spPr>
          <a:xfrm>
            <a:off x="2268360" y="260280"/>
            <a:ext cx="6551640" cy="626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wyz"/>
          <p:cNvPicPr/>
          <p:nvPr/>
        </p:nvPicPr>
        <p:blipFill>
          <a:blip r:embed="rId4"/>
          <a:stretch/>
        </p:blipFill>
        <p:spPr>
          <a:xfrm>
            <a:off x="2340000" y="260280"/>
            <a:ext cx="633564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341360"/>
            <a:ext cx="7772400" cy="197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华文新魏"/>
              </a:rPr>
              <a:t>一切都是谜，一个谜是另一个谜的答案</a:t>
            </a:r>
            <a:r>
              <a:rPr b="0" lang="zh-CN" sz="4800" spc="-1" strike="noStrike">
                <a:solidFill>
                  <a:srgbClr val="006666"/>
                </a:solidFill>
                <a:latin typeface="Verdana"/>
              </a:rPr>
              <a:t>              </a:t>
            </a:r>
            <a:br>
              <a:rPr sz="4800"/>
            </a:br>
            <a:r>
              <a:rPr b="0" lang="zh-CN" sz="48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cc"/>
                </a:solidFill>
                <a:latin typeface="Verdana"/>
              </a:rPr>
              <a:t>爱默生</a:t>
            </a:r>
            <a:r>
              <a:rPr b="1" lang="zh-CN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79640" y="366876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ahoma"/>
                <a:ea typeface="华文行楷"/>
              </a:rPr>
              <a:t>让我们努力探索那未知的世界吧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5235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04920" y="2057400"/>
            <a:ext cx="8534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zh-CN" sz="3400" spc="-1" strike="noStrike">
                <a:solidFill>
                  <a:srgbClr val="0000cc"/>
                </a:solidFill>
                <a:latin typeface="Tahoma"/>
              </a:rPr>
              <a:t>在这个世界上，还有各种各样的谜团等着我们去探索、寻找答案。破译这些谜团，人类智慧将全面突破现有的极限。让我们大家铭记伽利略的箴言：我们的知识是有限的。让我们不断地学习，去寻找一个又一个的答案。 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1" lang="zh-CN" sz="3400" spc="-1" strike="noStrike">
                <a:solidFill>
                  <a:srgbClr val="0000cc"/>
                </a:solidFill>
                <a:latin typeface="Tahoma"/>
              </a:rPr>
              <a:t>请你写一篇随笔，谈谈你学完这篇课文的感受。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Verdana"/>
              </a:rPr>
              <a:t>课外扩展、布置作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Verdana"/>
              </a:rPr>
              <a:t>教学目标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理解课文内容，体会本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例典型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，叙说生动形象的语言特色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培养语言能力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及对其所运用的生动语言进行正确说明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体会文章表达的中心思想及作者勉励人们不断探索未知的世界，揭示事物隐秘的愿望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Verdana"/>
              </a:rPr>
              <a:t>新课导入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46200" y="2924280"/>
            <a:ext cx="802944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3400" spc="-1" strike="noStrike">
                <a:solidFill>
                  <a:srgbClr val="006699"/>
                </a:solidFill>
                <a:latin typeface="Verdana"/>
              </a:rPr>
              <a:t>一位世界级的科学家说出了一句具有吸引力、说服力和震撼力的话</a:t>
            </a:r>
            <a:r>
              <a:rPr b="1" lang="en-US" sz="3400" spc="-1" strike="noStrike">
                <a:solidFill>
                  <a:srgbClr val="006699"/>
                </a:solidFill>
                <a:latin typeface="Arial"/>
              </a:rPr>
              <a:t>——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838080" y="50292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我们的知识是有限的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042920" y="161460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请同学谈谈你最佩服的知识丰富的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900000" y="2492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如果说他们的知识也是有限的你们同意吗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6"/>
          <p:cNvSpPr/>
          <p:nvPr/>
        </p:nvSpPr>
        <p:spPr>
          <a:xfrm>
            <a:off x="7093080" y="2781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62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99"/>
                </a:solidFill>
                <a:latin typeface="Verdana"/>
              </a:rPr>
              <a:t>回顾</a:t>
            </a:r>
            <a:r>
              <a:rPr b="1" lang="en-US" sz="3400" spc="-1" strike="noStrike">
                <a:solidFill>
                  <a:srgbClr val="006699"/>
                </a:solidFill>
                <a:latin typeface="Verdana"/>
              </a:rPr>
              <a:t>《</a:t>
            </a:r>
            <a:r>
              <a:rPr b="1" lang="zh-CN" sz="3400" spc="-1" strike="noStrike">
                <a:solidFill>
                  <a:srgbClr val="006699"/>
                </a:solidFill>
                <a:latin typeface="Verdana"/>
              </a:rPr>
              <a:t>斜塔上的实验</a:t>
            </a:r>
            <a:r>
              <a:rPr b="1" lang="en-US" sz="3400" spc="-1" strike="noStrike">
                <a:solidFill>
                  <a:srgbClr val="006699"/>
                </a:solidFill>
                <a:latin typeface="Verdana"/>
              </a:rPr>
              <a:t>》</a:t>
            </a:r>
            <a:r>
              <a:rPr b="1" lang="zh-CN" sz="3400" spc="-1" strike="noStrike">
                <a:solidFill>
                  <a:srgbClr val="006699"/>
                </a:solidFill>
                <a:latin typeface="Verdana"/>
              </a:rPr>
              <a:t>，请学生谈谈伽利略对科学的贡献，在他身上有哪些可贵的科学精神。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Galile3"/>
          <p:cNvPicPr/>
          <p:nvPr/>
        </p:nvPicPr>
        <p:blipFill>
          <a:blip r:embed="rId1"/>
          <a:stretch/>
        </p:blipFill>
        <p:spPr>
          <a:xfrm>
            <a:off x="6804000" y="2060640"/>
            <a:ext cx="1992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50920" y="1776240"/>
            <a:ext cx="5759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夸夸其谈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优柔寡断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天资颖慧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人迹罕至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饶有兴味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聊以自娱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信步而入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迥然不同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兴致勃勃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无所不晓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411280" y="1776240"/>
            <a:ext cx="67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说话或写文章浮夸，不切实际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办事迟疑，没有决断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形容人生性聪明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形容人很少到达的地方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迹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足迹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形容人的兴致很高。饶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丰富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姑且用来自我娱乐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随意走进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差异很大，完全不一样。迥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远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兴趣较浓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没有不知道的事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260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华文行楷"/>
              </a:rPr>
              <a:t>阅读课文，整体感知，利用工具书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掌握下列词语的意思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5960" y="307656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第一段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写作者的一个重要发现：知识浅薄者夸夸其谈，面知识丰富者优柔寡断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第二段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以</a:t>
            </a:r>
            <a:r>
              <a:rPr b="1" lang="zh-CN" sz="3200" spc="-1" strike="noStrike">
                <a:solidFill>
                  <a:srgbClr val="0000cc"/>
                </a:solidFill>
                <a:latin typeface="Courier New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从前有一人</a:t>
            </a:r>
            <a:r>
              <a:rPr b="1" lang="zh-CN" sz="3200" spc="-1" strike="noStrike">
                <a:solidFill>
                  <a:srgbClr val="0000cc"/>
                </a:solidFill>
                <a:latin typeface="Courier New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对声音的认识为例，表明知识愈多愈感自己无知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第三段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以不知蝉发声原理作类比，表明自己不知彗星形成之因毫不足怪。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16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66"/>
                </a:solidFill>
                <a:latin typeface="Verdana"/>
              </a:rPr>
              <a:t>细读课文，概括各段大意，理清思路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79280" y="26028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66"/>
                </a:solidFill>
                <a:latin typeface="Verdana"/>
              </a:rPr>
              <a:t>思考：作者作为一位大科学家却说</a:t>
            </a: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Verdana"/>
              </a:rPr>
              <a:t>我们的知识是有限的</a:t>
            </a: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1" i="1" lang="zh-CN" sz="3600" spc="-1" strike="noStrike">
                <a:solidFill>
                  <a:srgbClr val="006666"/>
                </a:solidFill>
                <a:latin typeface="Verdana"/>
              </a:rPr>
              <a:t>，这是为什么，他是怎样向我们解说这个观点的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5160" y="1125360"/>
            <a:ext cx="6126120" cy="4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66"/>
                </a:solidFill>
                <a:latin typeface="Verdana"/>
              </a:rPr>
              <a:t>研读第二段，思考：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87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 ①</a:t>
            </a:r>
            <a:r>
              <a:rPr b="1" lang="zh-CN" sz="2800" spc="-1" strike="noStrike">
                <a:solidFill>
                  <a:srgbClr val="660066"/>
                </a:solidFill>
                <a:latin typeface="Verdana"/>
              </a:rPr>
              <a:t>本段中写了哪些声音</a:t>
            </a: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660066"/>
                </a:solidFill>
                <a:latin typeface="Verdana"/>
              </a:rPr>
              <a:t>你能介绍一下他们的发声原理吗</a:t>
            </a:r>
            <a:r>
              <a:rPr b="1" lang="en-US" sz="2800" spc="-1" strike="noStrike">
                <a:solidFill>
                  <a:srgbClr val="66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2565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鸟儿的叫声、牧童的笛声、小提琴演奏声、门枢和铰链的摩擦声、指尖敲杯子的杯口、黄蜂、蚊子、苍蝇靠翅膀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快速振动发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蟋蟀用振翅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非气息发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风琴、喇叭、笛子、弦乐器、含在嘴里吹奏的铁簧片。靠气息发声，靠翅膀快速振动发声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口腔作为共鸣体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以气息作为声音媒介物的奇特方式。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333360"/>
            <a:ext cx="99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为什么文中人知道越多发声原理却越困惑呢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2599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②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文中的</a:t>
            </a:r>
            <a:r>
              <a:rPr b="1" lang="zh-CN" sz="3200" spc="-1" strike="noStrike">
                <a:solidFill>
                  <a:srgbClr val="006699"/>
                </a:solidFill>
                <a:latin typeface="Courier New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这个人</a:t>
            </a:r>
            <a:r>
              <a:rPr b="1" lang="zh-CN" sz="3200" spc="-1" strike="noStrike">
                <a:solidFill>
                  <a:srgbClr val="006699"/>
                </a:solidFill>
                <a:latin typeface="Courier New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知道的发声方法越多，他对声音的认识程度就越高，但他为什么遇见新问题时，会感到前所未有的无知和愕然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③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现实生活中你还知道哪些发声方法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85800" y="1773360"/>
            <a:ext cx="6019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Times New Roman"/>
              </a:rPr>
              <a:t>人们的知识是有限的。 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32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</a:rPr>
              <a:t>吹口哨、吹树叶等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52280" y="971640"/>
            <a:ext cx="85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古希腊哲学家芝诺的一个学生曾问他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老师，您的学问那么渊博，为什么还那么谦虚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芝诺答道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知识就好象一个圆，已知的在圆内，未知的在圆外。知道的越多，这个圆就越大；圆越大，未知的就越多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143000" y="3573360"/>
            <a:ext cx="12193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已知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4191120" y="3716280"/>
            <a:ext cx="99036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已知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33520" y="4419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未            知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429000" y="45259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未            知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4920" y="18900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你能结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探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练习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说说为什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我们的知识是有限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吗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50920" y="53006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随着个人知识的增多，他所意识到的未知世界的问题也增多了，知识愈多愈发现自己无知。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7:39:32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9:18:5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