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2EA-B9BA-46E2-BA23-D0019605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120-53E0-44DC-B242-6679DCBD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E7E3-23EF-4B5E-9232-00A760E0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9F45-1E1F-41E1-8DD3-9DE00373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8081-632C-4FD7-BB10-BFD6B26F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0795-9C94-4F57-BEE6-4764C4C7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00F4-A109-48B3-B6B1-62BCD84D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C3B2-1084-46F1-BB14-E521F09B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CF01-0BD9-4824-A1B5-E05F3D25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3128-106B-4F0E-A0D3-9216DB3D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5F06-5937-412B-8F19-765D060E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8BF1-AA6B-4898-9563-B403363D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BB4D-2D16-408A-BC16-3949EAE9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1713-0782-42C9-B2D9-890EF7A4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F546-2F7F-4373-AA72-C6941AD3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8676-98BA-40B8-B404-4CC581B2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455F-1453-40CE-BE75-5B241A4A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2CD12-1E9D-4EC2-9DAB-F796B9EB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DE1A5-A9C6-4C44-A7E1-0537395C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DD617-369B-4215-879F-B7D2573B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5BAE3-5B11-4C21-9E0F-53DE0AE9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3D1B6-92A2-4C59-8BD8-99D67507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226-8705-40CC-9CBE-DE0AE654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EA198-F2C3-49ED-9C19-E134317E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C2130-5075-4327-9AC4-4716BD2D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C6303-0F95-4713-8CE5-F47ECD93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3150A-6B17-453A-8D43-FC54A611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49FCF-4580-4475-B0B5-DF46B30A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BAAF6-0EB9-4C8A-94EB-EBE70F09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17F14-794B-4013-8741-9A4095CA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D29FC3-1A8E-466F-A651-2552B15A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64A2D9-A4E2-422E-A37E-BEFBB7CC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3193D3-2EC0-47A4-A2F1-EDEA6BC9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4E0-2C8B-45CC-915E-62D9CAEF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7E32D2-0111-43B6-ABC6-82F8F58E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04B1F7-AA9A-4BD6-BBE4-C09AA1F3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085741-A840-481C-BB72-BB5E2634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DBFB1C-50BA-4753-95F2-B3960711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65AA74-5397-4874-8381-15E274E4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61346A-8576-46F8-BB85-97319F21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B3BC8D-B386-45C9-9245-951B2413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E8AD3E-1475-45BE-B014-DD441A30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64FDD9-4D8D-4D44-8717-9895F058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2EB1-6379-43C4-8D2C-460AFAD7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1070-F2DB-4280-99D3-75AC5828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C321-1A0F-4385-B351-132B3272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F0F-7C60-4010-9BC1-285372C1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807A-F89D-42D9-9C6E-0F68C69A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13F8-5EBF-4214-9DE3-1CEC794AF1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6104-074F-453C-BE4B-55263E416D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236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238" name="Freeform 7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240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97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309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71D5-F001-4DDD-BB20-DB5122FE52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reeform 2052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1C76-1730-4791-A997-333588FD8601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WordArt 4"/>
          <p:cNvSpPr txBox="1"/>
          <p:nvPr/>
        </p:nvSpPr>
        <p:spPr>
          <a:xfrm>
            <a:off x="1403280" y="700200"/>
            <a:ext cx="6523200" cy="20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新魏"/>
              </a:rPr>
              <a:t>我们的知识是有限的</a:t>
            </a:r>
            <a:endParaRPr b="1" lang="en-US" sz="4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409" name="WordArt 5"/>
          <p:cNvSpPr txBox="1"/>
          <p:nvPr/>
        </p:nvSpPr>
        <p:spPr>
          <a:xfrm>
            <a:off x="3598920" y="3274920"/>
            <a:ext cx="213372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新魏"/>
              </a:rPr>
              <a:t>伽利略</a:t>
            </a:r>
            <a:endParaRPr b="1" lang="en-US" sz="4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pic>
        <p:nvPicPr>
          <p:cNvPr id="410" name="Picture 11" descr="0312311802193114a3"/>
          <p:cNvPicPr/>
          <p:nvPr/>
        </p:nvPicPr>
        <p:blipFill>
          <a:blip r:embed="rId3"/>
          <a:stretch/>
        </p:blipFill>
        <p:spPr>
          <a:xfrm>
            <a:off x="6905520" y="3274920"/>
            <a:ext cx="2227320" cy="2873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Times New Roman"/>
              </a:rPr>
              <a:t>三、探究学习</a:t>
            </a: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1" name="Text Box 228"/>
          <p:cNvSpPr/>
          <p:nvPr/>
        </p:nvSpPr>
        <p:spPr>
          <a:xfrm>
            <a:off x="2183040" y="981000"/>
            <a:ext cx="43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339933"/>
                </a:solidFill>
                <a:latin typeface="Times New Roman"/>
              </a:rPr>
              <a:t>文中第二段以“从前一个人”对声音的认识为例来说明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33"/>
                </a:solidFill>
                <a:latin typeface="Times New Roman"/>
              </a:rPr>
              <a:t>。下面请同学们精读第二段，完成下列表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229"/>
          <p:cNvSpPr/>
          <p:nvPr/>
        </p:nvSpPr>
        <p:spPr>
          <a:xfrm>
            <a:off x="539640" y="206064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916280"/>
          <a:ext cx="9109080" cy="4684680"/>
        </p:xfrm>
        <a:graphic>
          <a:graphicData uri="http://schemas.openxmlformats.org/drawingml/2006/table">
            <a:tbl>
              <a:tblPr/>
              <a:tblGrid>
                <a:gridCol w="1368360"/>
                <a:gridCol w="2951280"/>
                <a:gridCol w="2665440"/>
                <a:gridCol w="212400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发现的乐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发声的原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反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 rowSpan="8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4" name="Text Box 301"/>
          <p:cNvSpPr/>
          <p:nvPr/>
        </p:nvSpPr>
        <p:spPr>
          <a:xfrm>
            <a:off x="1763640" y="2492280"/>
            <a:ext cx="2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02"/>
          <p:cNvSpPr/>
          <p:nvPr/>
        </p:nvSpPr>
        <p:spPr>
          <a:xfrm>
            <a:off x="1763640" y="2421000"/>
            <a:ext cx="2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303"/>
          <p:cNvSpPr/>
          <p:nvPr/>
        </p:nvSpPr>
        <p:spPr>
          <a:xfrm>
            <a:off x="1908000" y="2492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鸟儿的叫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304"/>
          <p:cNvSpPr/>
          <p:nvPr/>
        </p:nvSpPr>
        <p:spPr>
          <a:xfrm>
            <a:off x="4427640" y="2565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借 气 发 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305"/>
          <p:cNvSpPr/>
          <p:nvPr/>
        </p:nvSpPr>
        <p:spPr>
          <a:xfrm>
            <a:off x="7093080" y="3187800"/>
            <a:ext cx="16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306"/>
          <p:cNvSpPr/>
          <p:nvPr/>
        </p:nvSpPr>
        <p:spPr>
          <a:xfrm>
            <a:off x="7164360" y="24210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惊　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07"/>
          <p:cNvSpPr/>
          <p:nvPr/>
        </p:nvSpPr>
        <p:spPr>
          <a:xfrm>
            <a:off x="1979640" y="299736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牧童的笛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8"/>
          <p:cNvSpPr/>
          <p:nvPr/>
        </p:nvSpPr>
        <p:spPr>
          <a:xfrm>
            <a:off x="7086600" y="29973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惊诧不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0"/>
          <p:cNvSpPr/>
          <p:nvPr/>
        </p:nvSpPr>
        <p:spPr>
          <a:xfrm>
            <a:off x="1676520" y="350028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提琴演奏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11"/>
          <p:cNvSpPr/>
          <p:nvPr/>
        </p:nvSpPr>
        <p:spPr>
          <a:xfrm>
            <a:off x="7091280" y="3573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惊  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12"/>
          <p:cNvSpPr/>
          <p:nvPr/>
        </p:nvSpPr>
        <p:spPr>
          <a:xfrm>
            <a:off x="1371600" y="407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门枢和铰链的摩擦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14"/>
          <p:cNvSpPr/>
          <p:nvPr/>
        </p:nvSpPr>
        <p:spPr>
          <a:xfrm>
            <a:off x="6985080" y="407664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感到奇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15"/>
          <p:cNvSpPr/>
          <p:nvPr/>
        </p:nvSpPr>
        <p:spPr>
          <a:xfrm>
            <a:off x="1371600" y="45813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尖敲杯子的清脆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316"/>
          <p:cNvSpPr/>
          <p:nvPr/>
        </p:nvSpPr>
        <p:spPr>
          <a:xfrm>
            <a:off x="1752480" y="515772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昆虫的嗡嗡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317"/>
          <p:cNvSpPr/>
          <p:nvPr/>
        </p:nvSpPr>
        <p:spPr>
          <a:xfrm>
            <a:off x="4343400" y="51577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靠翅膀的快速振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319"/>
          <p:cNvSpPr/>
          <p:nvPr/>
        </p:nvSpPr>
        <p:spPr>
          <a:xfrm>
            <a:off x="7162920" y="508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得茫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320"/>
          <p:cNvSpPr/>
          <p:nvPr/>
        </p:nvSpPr>
        <p:spPr>
          <a:xfrm>
            <a:off x="1692360" y="5589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吹奏的弹簧片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334"/>
          <p:cNvSpPr/>
          <p:nvPr/>
        </p:nvSpPr>
        <p:spPr>
          <a:xfrm>
            <a:off x="4572000" y="55897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口腔，以气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35"/>
          <p:cNvSpPr/>
          <p:nvPr/>
        </p:nvSpPr>
        <p:spPr>
          <a:xfrm>
            <a:off x="6934320" y="55897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为无所不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343"/>
          <p:cNvSpPr/>
          <p:nvPr/>
        </p:nvSpPr>
        <p:spPr>
          <a:xfrm>
            <a:off x="1908000" y="616572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蝉的鸣叫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344"/>
          <p:cNvSpPr/>
          <p:nvPr/>
        </p:nvSpPr>
        <p:spPr>
          <a:xfrm>
            <a:off x="6948360" y="6165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陷入无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345"/>
          <p:cNvSpPr/>
          <p:nvPr/>
        </p:nvSpPr>
        <p:spPr>
          <a:xfrm>
            <a:off x="0" y="1916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明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48"/>
          <p:cNvSpPr/>
          <p:nvPr/>
        </p:nvSpPr>
        <p:spPr>
          <a:xfrm>
            <a:off x="79200" y="2852640"/>
            <a:ext cx="136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们的认识是有限的，应不断探索未知世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揭开事物的奥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0" y="1267920"/>
            <a:ext cx="91440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②</a:t>
            </a:r>
            <a:r>
              <a:rPr b="1" lang="zh-CN" sz="3200" spc="-1" strike="noStrike">
                <a:solidFill>
                  <a:srgbClr val="663300"/>
                </a:solidFill>
                <a:latin typeface="Tahoma"/>
              </a:rPr>
              <a:t>文中的</a:t>
            </a:r>
            <a:r>
              <a:rPr b="1" lang="zh-CN" sz="3200" spc="-1" strike="noStrike">
                <a:solidFill>
                  <a:srgbClr val="663300"/>
                </a:solidFill>
                <a:latin typeface="Courier New"/>
              </a:rPr>
              <a:t>“</a:t>
            </a:r>
            <a:r>
              <a:rPr b="1" lang="zh-CN" sz="3200" spc="-1" strike="noStrike">
                <a:solidFill>
                  <a:srgbClr val="663300"/>
                </a:solidFill>
                <a:latin typeface="Tahoma"/>
              </a:rPr>
              <a:t>这个人</a:t>
            </a:r>
            <a:r>
              <a:rPr b="1" lang="zh-CN" sz="3200" spc="-1" strike="noStrike">
                <a:solidFill>
                  <a:srgbClr val="663300"/>
                </a:solidFill>
                <a:latin typeface="Courier New"/>
              </a:rPr>
              <a:t>”</a:t>
            </a:r>
            <a:r>
              <a:rPr b="1" lang="zh-CN" sz="3200" spc="-1" strike="noStrike">
                <a:solidFill>
                  <a:srgbClr val="663300"/>
                </a:solidFill>
                <a:latin typeface="Tahoma"/>
              </a:rPr>
              <a:t>知道的发声方法越多，他对声音的认识高度就越高，但他为什么遇见新问题时，会感到前所未有的无知和愕然</a:t>
            </a:r>
            <a:r>
              <a:rPr b="1" lang="zh-CN" sz="3200" spc="-1" strike="noStrike">
                <a:solidFill>
                  <a:srgbClr val="6633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③</a:t>
            </a:r>
            <a:r>
              <a:rPr b="1" lang="zh-CN" sz="3200" spc="-1" strike="noStrike">
                <a:solidFill>
                  <a:srgbClr val="663300"/>
                </a:solidFill>
                <a:latin typeface="Tahoma"/>
              </a:rPr>
              <a:t>本文运用这个事例有什么好处</a:t>
            </a:r>
            <a:r>
              <a:rPr b="1" lang="zh-CN" sz="3200" spc="-1" strike="noStrike">
                <a:solidFill>
                  <a:srgbClr val="6633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685800" y="2924280"/>
            <a:ext cx="6019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293ce"/>
                </a:solidFill>
                <a:latin typeface="Times New Roman"/>
              </a:rPr>
              <a:t>人们的知识是有限的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e010f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609480" y="46195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293ce"/>
                </a:solidFill>
                <a:latin typeface="Times New Roman"/>
              </a:rPr>
              <a:t>使文章通俗生动而又寓意深刻。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71640" y="-766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Times New Roman"/>
              </a:rPr>
              <a:t>探究学习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228600" y="6094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、找出文中表现“这个人”自我感觉与客观实际相矛盾的句子，体会它在文中对表达中心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228600" y="1981080"/>
            <a:ext cx="8915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293ce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3293ce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3293ce"/>
                </a:solidFill>
                <a:latin typeface="Times New Roman"/>
              </a:rPr>
              <a:t>）另外一次，他兴致勃勃地走进一家酒店，</a:t>
            </a:r>
            <a:r>
              <a:rPr b="0" lang="zh-CN" sz="2400" spc="-1" strike="noStrike" u="sng">
                <a:solidFill>
                  <a:srgbClr val="ff00ff"/>
                </a:solidFill>
                <a:uFillTx/>
                <a:latin typeface="Times New Roman"/>
              </a:rPr>
              <a:t>以为</a:t>
            </a:r>
            <a:r>
              <a:rPr b="0" lang="zh-CN" sz="2400" spc="-1" strike="noStrike">
                <a:solidFill>
                  <a:srgbClr val="3293ce"/>
                </a:solidFill>
                <a:latin typeface="Times New Roman"/>
              </a:rPr>
              <a:t>能看到某人在用弓轻轻触动小提琴的弦，但看见的却是有个人正用一只手指的指尖，敲着一只杯子的杯口，使它发出清脆的响声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293ce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3293ce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3293ce"/>
                </a:solidFill>
                <a:latin typeface="Times New Roman"/>
              </a:rPr>
              <a:t>）这时他</a:t>
            </a:r>
            <a:r>
              <a:rPr b="0" lang="zh-CN" sz="2400" spc="-1" strike="noStrike" u="sng">
                <a:solidFill>
                  <a:srgbClr val="ff00ff"/>
                </a:solidFill>
                <a:uFillTx/>
                <a:latin typeface="Times New Roman"/>
              </a:rPr>
              <a:t>以为</a:t>
            </a:r>
            <a:r>
              <a:rPr b="0" lang="zh-CN" sz="2400" spc="-1" strike="noStrike">
                <a:solidFill>
                  <a:srgbClr val="3293ce"/>
                </a:solidFill>
                <a:latin typeface="Times New Roman"/>
              </a:rPr>
              <a:t>自己已无所不晓，可他捉到一只蝉后，却又陷入了前所未有的无知和愕然之中</a:t>
            </a:r>
            <a:r>
              <a:rPr b="0" lang="zh-CN" sz="2400" spc="-1" strike="noStrike">
                <a:solidFill>
                  <a:srgbClr val="3293ce"/>
                </a:solidFill>
                <a:latin typeface="Times New Roman"/>
                <a:ea typeface="Times New Roman"/>
              </a:rPr>
              <a:t>•••••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293ce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3293ce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3293ce"/>
                </a:solidFill>
                <a:latin typeface="Times New Roman"/>
              </a:rPr>
              <a:t>）他把蝉体翻转过来，看见胸部下方有几片硬而薄的软骨，</a:t>
            </a:r>
            <a:r>
              <a:rPr b="0" lang="zh-CN" sz="2400" spc="-1" strike="noStrike" u="sng">
                <a:solidFill>
                  <a:srgbClr val="ff00ff"/>
                </a:solidFill>
                <a:uFillTx/>
                <a:latin typeface="Times New Roman"/>
              </a:rPr>
              <a:t>以为</a:t>
            </a:r>
            <a:r>
              <a:rPr b="0" lang="zh-CN" sz="2400" spc="-1" strike="noStrike">
                <a:solidFill>
                  <a:srgbClr val="3293ce"/>
                </a:solidFill>
                <a:latin typeface="Times New Roman"/>
              </a:rPr>
              <a:t>响声发自软骨的振动，便将它折段，要止住蝉鸣。但是一切终归徒然</a:t>
            </a:r>
            <a:r>
              <a:rPr b="0" lang="zh-CN" sz="2400" spc="-1" strike="noStrike">
                <a:solidFill>
                  <a:srgbClr val="3293ce"/>
                </a:solidFill>
                <a:latin typeface="Times New Roman"/>
                <a:ea typeface="Times New Roman"/>
              </a:rPr>
              <a:t>•••••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380880" y="5334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2028600" y="5562720"/>
            <a:ext cx="51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作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突出地表明个人的知识极为有限，越觉得自己无所不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越显得无知，失望之情也就越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WordArt 3"/>
          <p:cNvSpPr txBox="1"/>
          <p:nvPr/>
        </p:nvSpPr>
        <p:spPr>
          <a:xfrm rot="20535000">
            <a:off x="304920" y="533520"/>
            <a:ext cx="339084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66"/>
                    </a:gs>
                  </a:gsLst>
                  <a:lin ang="6468000"/>
                </a:gradFill>
                <a:latin typeface="华文新魏"/>
              </a:rPr>
              <a:t>迁移训练</a:t>
            </a:r>
            <a:endParaRPr b="1" lang="en-US" sz="66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0000ff"/>
                  </a:gs>
                  <a:gs pos="100000">
                    <a:srgbClr val="000066"/>
                  </a:gs>
                </a:gsLst>
                <a:lin ang="6468000"/>
              </a:gradFill>
              <a:latin typeface="华文新魏"/>
              <a:ea typeface="华文新魏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533520" y="2133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cc66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十几年的生活经历中，你是否也有文中“这个人”的感受，请结合生活实际，谈谈你对“我们的知识是有限的”的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"/>
          <p:cNvSpPr/>
          <p:nvPr/>
        </p:nvSpPr>
        <p:spPr>
          <a:xfrm>
            <a:off x="250920" y="2133720"/>
            <a:ext cx="85341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0" lang="zh-CN" sz="34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0" lang="zh-CN" sz="3400" spc="-1" strike="noStrike">
                <a:solidFill>
                  <a:srgbClr val="0000cc"/>
                </a:solidFill>
                <a:latin typeface="Tahoma"/>
              </a:rPr>
              <a:t>、</a:t>
            </a:r>
            <a:r>
              <a:rPr b="0" lang="zh-CN" sz="3400" spc="-1" strike="noStrike">
                <a:solidFill>
                  <a:srgbClr val="0f65f1"/>
                </a:solidFill>
                <a:latin typeface="Tahoma"/>
              </a:rPr>
              <a:t>完成课后作业优化设计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f65f1"/>
                </a:solidFill>
                <a:latin typeface="Tahoma"/>
              </a:rPr>
              <a:t>     </a:t>
            </a:r>
            <a:r>
              <a:rPr b="0" lang="zh-CN" sz="3400" spc="-1" strike="noStrike">
                <a:solidFill>
                  <a:srgbClr val="0f65f1"/>
                </a:solidFill>
                <a:latin typeface="Tahoma"/>
              </a:rPr>
              <a:t>2</a:t>
            </a:r>
            <a:r>
              <a:rPr b="0" lang="zh-CN" sz="3400" spc="-1" strike="noStrike">
                <a:solidFill>
                  <a:srgbClr val="0f65f1"/>
                </a:solidFill>
                <a:latin typeface="Tahoma"/>
              </a:rPr>
              <a:t>、课外收集资料，解释文中遗留的科学问题，看看他的答案是什么，与同学交流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2600" y="99036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Times New Roman"/>
              </a:rPr>
              <a:t>布置作业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6"/>
          <p:cNvSpPr/>
          <p:nvPr/>
        </p:nvSpPr>
        <p:spPr>
          <a:xfrm>
            <a:off x="1332000" y="486900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3814920" y="148428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伽利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6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4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出生于意大利西北部比萨，意大利的数学家、物理学家和天文学家，他成功地改变了科学的进程，使物理学在许多方面都取得了很大进展，他支持用实验来检验科学理论，用数学的办法来验证成果的观点，他是第一个用望远镜来观测夜空的人，在行星和恒星方面他也有很多发现，在与传统思想决裂的精神鼓舞之下，伽利略为科学进步铺平了道路，他的主要著作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论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3" descr="u=283331200,960438932&amp;gp=3"/>
          <p:cNvPicPr/>
          <p:nvPr/>
        </p:nvPicPr>
        <p:blipFill>
          <a:blip r:embed="rId1"/>
          <a:stretch/>
        </p:blipFill>
        <p:spPr>
          <a:xfrm>
            <a:off x="395280" y="1557360"/>
            <a:ext cx="2736720" cy="4176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Times New Roman"/>
              </a:rPr>
              <a:t>教学目标：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知识与技能：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学习文章用典型事例以生动形象的叙述说明事理的方法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过程与方法：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运用学过的阅读方法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培养独立阅读说明文的能力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情感、态度与价值观：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体会文章表达的中心思想及作者勉励人们不断探索未知的世界，揭示事物隐秘的愿望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6600"/>
                </a:solidFill>
                <a:latin typeface="Times New Roman"/>
              </a:rPr>
              <a:t>一、自主学习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24000" y="1844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有感情地朗读课文，找出文中难理解的字词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思考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探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•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练习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为了说明中心文章举了一个例子，你能用自己的话概括一下吗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第二自然段与第三自然段的语言表达方式有什么不同？它们都是为了说明什么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2411280" y="22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2411280" y="22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7"/>
          <p:cNvSpPr/>
          <p:nvPr/>
        </p:nvSpPr>
        <p:spPr>
          <a:xfrm>
            <a:off x="2484360" y="2492280"/>
            <a:ext cx="358920" cy="289080"/>
          </a:xfrm>
          <a:custGeom>
            <a:avLst/>
            <a:gdLst>
              <a:gd name="textAreaLeft" fmla="*/ 18720 w 358920"/>
              <a:gd name="textAreaRight" fmla="*/ 340200 w 3589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812" h="21600">
                <a:moveTo>
                  <a:pt x="0" y="0"/>
                </a:moveTo>
                <a:lnTo>
                  <a:pt x="26812" y="0"/>
                </a:lnTo>
                <a:lnTo>
                  <a:pt x="26812" y="21600"/>
                </a:lnTo>
                <a:lnTo>
                  <a:pt x="0" y="21600"/>
                </a:lnTo>
                <a:close/>
              </a:path>
              <a:path fill="lightenLess" w="26812" h="21600">
                <a:moveTo>
                  <a:pt x="0" y="0"/>
                </a:moveTo>
                <a:lnTo>
                  <a:pt x="26812" y="0"/>
                </a:lnTo>
                <a:lnTo>
                  <a:pt x="25412" y="1400"/>
                </a:lnTo>
                <a:lnTo>
                  <a:pt x="1400" y="1400"/>
                </a:lnTo>
                <a:close/>
              </a:path>
              <a:path fill="darken" w="26812" h="21600">
                <a:moveTo>
                  <a:pt x="26812" y="0"/>
                </a:moveTo>
                <a:lnTo>
                  <a:pt x="26812" y="21600"/>
                </a:lnTo>
                <a:lnTo>
                  <a:pt x="25412" y="20200"/>
                </a:lnTo>
                <a:lnTo>
                  <a:pt x="25412" y="1400"/>
                </a:lnTo>
                <a:close/>
              </a:path>
              <a:path fill="darkenLess" w="26812" h="21600">
                <a:moveTo>
                  <a:pt x="26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12" y="20200"/>
                </a:lnTo>
                <a:close/>
              </a:path>
              <a:path fill="lighten" w="26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12" h="21600">
                <a:moveTo>
                  <a:pt x="6399" y="3794"/>
                </a:moveTo>
                <a:lnTo>
                  <a:pt x="20412" y="10800"/>
                </a:lnTo>
                <a:lnTo>
                  <a:pt x="6399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3348000" y="4076640"/>
            <a:ext cx="5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10"/>
          <p:cNvSpPr/>
          <p:nvPr/>
        </p:nvSpPr>
        <p:spPr>
          <a:xfrm>
            <a:off x="5486400" y="419112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79" h="21600">
                <a:moveTo>
                  <a:pt x="9133" y="3794"/>
                </a:moveTo>
                <a:lnTo>
                  <a:pt x="23146" y="10800"/>
                </a:lnTo>
                <a:lnTo>
                  <a:pt x="9133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3"/>
          <p:cNvSpPr/>
          <p:nvPr/>
        </p:nvSpPr>
        <p:spPr>
          <a:xfrm>
            <a:off x="1527120" y="566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14"/>
          <p:cNvSpPr/>
          <p:nvPr/>
        </p:nvSpPr>
        <p:spPr>
          <a:xfrm>
            <a:off x="1905120" y="563868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3794"/>
                </a:moveTo>
                <a:lnTo>
                  <a:pt x="23126" y="10800"/>
                </a:lnTo>
                <a:lnTo>
                  <a:pt x="9113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20"/>
          <p:cNvSpPr/>
          <p:nvPr/>
        </p:nvSpPr>
        <p:spPr>
          <a:xfrm>
            <a:off x="600408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21"/>
          <p:cNvSpPr/>
          <p:nvPr/>
        </p:nvSpPr>
        <p:spPr>
          <a:xfrm>
            <a:off x="6095880" y="2971800"/>
            <a:ext cx="381240" cy="228600"/>
          </a:xfrm>
          <a:custGeom>
            <a:avLst/>
            <a:gdLst>
              <a:gd name="textAreaLeft" fmla="*/ 14760 w 381240"/>
              <a:gd name="textAreaRight" fmla="*/ 366480 w 381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25006" y="10800"/>
                </a:lnTo>
                <a:lnTo>
                  <a:pt x="10994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6600"/>
                </a:solidFill>
                <a:latin typeface="Times New Roman"/>
              </a:rPr>
              <a:t>二、合作学习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、以小组为单位相互解答疑难问题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、在班上讨论并分析小组解决不了的问题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6840" y="2147400"/>
            <a:ext cx="8381880" cy="35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600" spc="-1" strike="noStrike">
                <a:solidFill>
                  <a:srgbClr val="000000"/>
                </a:solidFill>
                <a:latin typeface="Tahoma"/>
              </a:rPr>
              <a:t>啁啾</a:t>
            </a:r>
            <a:r>
              <a:rPr b="0" lang="zh-CN" sz="4600" spc="-1" strike="noStrike">
                <a:solidFill>
                  <a:srgbClr val="000000"/>
                </a:solidFill>
                <a:latin typeface="Tahoma"/>
              </a:rPr>
              <a:t>(           </a:t>
            </a: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)      </a:t>
            </a:r>
            <a:r>
              <a:rPr b="1" lang="zh-CN" sz="4600" spc="-1" strike="noStrike">
                <a:solidFill>
                  <a:srgbClr val="000000"/>
                </a:solidFill>
                <a:latin typeface="Tahoma"/>
              </a:rPr>
              <a:t>喈喈</a:t>
            </a:r>
            <a:r>
              <a:rPr b="0" lang="zh-CN" sz="4600" spc="-1" strike="noStrike">
                <a:solidFill>
                  <a:srgbClr val="000000"/>
                </a:solidFill>
                <a:latin typeface="Tahoma"/>
              </a:rPr>
              <a:t>(    </a:t>
            </a: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)    </a:t>
            </a:r>
            <a:r>
              <a:rPr b="1" lang="zh-CN" sz="4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Tahoma"/>
              </a:rPr>
              <a:t>翌</a:t>
            </a:r>
            <a:r>
              <a:rPr b="0" lang="zh-CN" sz="4600" spc="-1" strike="noStrike">
                <a:solidFill>
                  <a:srgbClr val="000000"/>
                </a:solidFill>
                <a:latin typeface="Tahoma"/>
              </a:rPr>
              <a:t>(    </a:t>
            </a: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4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600" spc="-1" strike="noStrike">
                <a:solidFill>
                  <a:srgbClr val="000000"/>
                </a:solidFill>
                <a:latin typeface="Tahoma"/>
              </a:rPr>
              <a:t>日             彗 </a:t>
            </a:r>
            <a:r>
              <a:rPr b="0" lang="zh-CN" sz="4600" spc="-1" strike="noStrike">
                <a:solidFill>
                  <a:srgbClr val="000000"/>
                </a:solidFill>
                <a:latin typeface="Tahoma"/>
              </a:rPr>
              <a:t>(     </a:t>
            </a: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4600" spc="-1" strike="noStrike">
                <a:solidFill>
                  <a:srgbClr val="000000"/>
                </a:solidFill>
                <a:latin typeface="Tahoma"/>
              </a:rPr>
              <a:t>星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Tahoma"/>
              </a:rPr>
              <a:t>宽宥</a:t>
            </a:r>
            <a:r>
              <a:rPr b="0" lang="zh-CN" sz="4600" spc="-1" strike="noStrike">
                <a:solidFill>
                  <a:srgbClr val="000000"/>
                </a:solidFill>
                <a:latin typeface="Tahoma"/>
              </a:rPr>
              <a:t>(     </a:t>
            </a: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)             </a:t>
            </a:r>
            <a:r>
              <a:rPr b="1" lang="zh-CN" sz="4600" spc="-1" strike="noStrike">
                <a:solidFill>
                  <a:srgbClr val="000000"/>
                </a:solidFill>
                <a:latin typeface="Tahoma"/>
              </a:rPr>
              <a:t>弥 </a:t>
            </a:r>
            <a:r>
              <a:rPr b="0" lang="zh-CN" sz="4600" spc="-1" strike="noStrike">
                <a:solidFill>
                  <a:srgbClr val="000000"/>
                </a:solidFill>
                <a:latin typeface="Tahoma"/>
              </a:rPr>
              <a:t>(    </a:t>
            </a: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4600" spc="-1" strike="noStrike">
                <a:solidFill>
                  <a:srgbClr val="000000"/>
                </a:solidFill>
                <a:latin typeface="Tahoma"/>
              </a:rPr>
              <a:t>补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臆 </a:t>
            </a:r>
            <a:r>
              <a:rPr b="0" lang="zh-CN" sz="4600" spc="-1" strike="noStrike">
                <a:solidFill>
                  <a:srgbClr val="000000"/>
                </a:solidFill>
                <a:latin typeface="Tahoma"/>
              </a:rPr>
              <a:t>(    </a:t>
            </a: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度               窒 </a:t>
            </a:r>
            <a:r>
              <a:rPr b="0" lang="zh-CN" sz="4600" spc="-1" strike="noStrike">
                <a:solidFill>
                  <a:srgbClr val="000000"/>
                </a:solidFill>
                <a:latin typeface="Tahoma"/>
              </a:rPr>
              <a:t>(     </a:t>
            </a: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息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1600200" y="4876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1523880" y="2101680"/>
            <a:ext cx="3505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zh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ō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u ji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1764000" y="2935440"/>
            <a:ext cx="639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ì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7138800" y="2133720"/>
            <a:ext cx="8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6552720" y="3011400"/>
            <a:ext cx="1064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Tahoma"/>
              </a:rPr>
              <a:t>hu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ì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0"/>
          <p:cNvSpPr/>
          <p:nvPr/>
        </p:nvSpPr>
        <p:spPr>
          <a:xfrm>
            <a:off x="2342520" y="3809880"/>
            <a:ext cx="11318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ò</a:t>
            </a:r>
            <a:r>
              <a:rPr b="0" lang="en-US" sz="4600" spc="-1" strike="noStrike">
                <a:solidFill>
                  <a:srgbClr val="ff0000"/>
                </a:solidFill>
                <a:latin typeface="Tahoma"/>
              </a:rPr>
              <a:t>u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1"/>
          <p:cNvSpPr/>
          <p:nvPr/>
        </p:nvSpPr>
        <p:spPr>
          <a:xfrm>
            <a:off x="6681600" y="3854520"/>
            <a:ext cx="888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í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1979640" y="4648320"/>
            <a:ext cx="639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ì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"/>
          <p:cNvSpPr/>
          <p:nvPr/>
        </p:nvSpPr>
        <p:spPr>
          <a:xfrm>
            <a:off x="6636600" y="4724280"/>
            <a:ext cx="9777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Tahoma"/>
              </a:rPr>
              <a:t>zh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ì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5"/>
          <p:cNvSpPr/>
          <p:nvPr/>
        </p:nvSpPr>
        <p:spPr>
          <a:xfrm>
            <a:off x="684360" y="112536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读准下列子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3"/>
          <p:cNvSpPr/>
          <p:nvPr/>
        </p:nvSpPr>
        <p:spPr>
          <a:xfrm>
            <a:off x="0" y="83664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　　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曾经有一个人，用一小一大两个圆表示自己的知识由少到多的情况，圆外则是未知的世界，由此他得出了一个结论．试看看下面的图形，请你结合本文的论述，说说他得出了什么结论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1258920" y="2781360"/>
            <a:ext cx="1655640" cy="1655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5003640" y="2565360"/>
            <a:ext cx="2232360" cy="2232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1908000" y="2349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7"/>
          <p:cNvSpPr/>
          <p:nvPr/>
        </p:nvSpPr>
        <p:spPr>
          <a:xfrm flipV="1" rot="10684200">
            <a:off x="3131280" y="342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 flipV="1" rot="10684200">
            <a:off x="1834920" y="4436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9"/>
          <p:cNvSpPr/>
          <p:nvPr/>
        </p:nvSpPr>
        <p:spPr>
          <a:xfrm flipV="1" rot="10684200">
            <a:off x="610920" y="34999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0"/>
          <p:cNvSpPr/>
          <p:nvPr/>
        </p:nvSpPr>
        <p:spPr>
          <a:xfrm flipV="1" rot="10684200">
            <a:off x="5939640" y="4797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1"/>
          <p:cNvSpPr/>
          <p:nvPr/>
        </p:nvSpPr>
        <p:spPr>
          <a:xfrm flipV="1" rot="10684200">
            <a:off x="4355280" y="342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2"/>
          <p:cNvSpPr/>
          <p:nvPr/>
        </p:nvSpPr>
        <p:spPr>
          <a:xfrm flipV="1" rot="10684200">
            <a:off x="5866560" y="220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3"/>
          <p:cNvSpPr/>
          <p:nvPr/>
        </p:nvSpPr>
        <p:spPr>
          <a:xfrm flipV="1" rot="10684200">
            <a:off x="7308000" y="335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1564920" y="3068640"/>
            <a:ext cx="729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个人知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5566320" y="3141720"/>
            <a:ext cx="7902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个人知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0" y="586728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3399"/>
                </a:solidFill>
                <a:latin typeface="Arial"/>
              </a:rPr>
              <a:t>由此可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547640" y="537372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知识就好像一个圆，已知的在圆内，未知的在圆外。知道的越多，这个圆就越大；圆越大，未知的就越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152280" y="21333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Tahoma"/>
              </a:rPr>
              <a:t>各段大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6600"/>
                </a:solidFill>
                <a:latin typeface="Tahoma"/>
              </a:rPr>
              <a:t>第一段：</a:t>
            </a:r>
            <a:r>
              <a:rPr b="1" lang="zh-CN" sz="2800" spc="-1" strike="noStrike">
                <a:solidFill>
                  <a:srgbClr val="cc6600"/>
                </a:solidFill>
                <a:latin typeface="Tahoma"/>
              </a:rPr>
              <a:t>写作者的一个重要发现：知识浅薄者夸夸其谈，而知识丰富者优柔寡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6600"/>
                </a:solidFill>
                <a:latin typeface="Tahoma"/>
              </a:rPr>
              <a:t>第二段：</a:t>
            </a:r>
            <a:r>
              <a:rPr b="1" lang="zh-CN" sz="2800" spc="-1" strike="noStrike">
                <a:solidFill>
                  <a:srgbClr val="cc6600"/>
                </a:solidFill>
                <a:latin typeface="Tahoma"/>
              </a:rPr>
              <a:t>以</a:t>
            </a:r>
            <a:r>
              <a:rPr b="1" lang="zh-CN" sz="2800" spc="-1" strike="noStrike">
                <a:solidFill>
                  <a:srgbClr val="cc6600"/>
                </a:solidFill>
                <a:latin typeface="Courier New"/>
              </a:rPr>
              <a:t>“</a:t>
            </a:r>
            <a:r>
              <a:rPr b="1" lang="zh-CN" sz="2800" spc="-1" strike="noStrike">
                <a:solidFill>
                  <a:srgbClr val="cc6600"/>
                </a:solidFill>
                <a:latin typeface="Tahoma"/>
              </a:rPr>
              <a:t>从前有一人</a:t>
            </a:r>
            <a:r>
              <a:rPr b="1" lang="zh-CN" sz="2800" spc="-1" strike="noStrike">
                <a:solidFill>
                  <a:srgbClr val="cc6600"/>
                </a:solidFill>
                <a:latin typeface="Courier New"/>
              </a:rPr>
              <a:t>”</a:t>
            </a:r>
            <a:r>
              <a:rPr b="1" lang="zh-CN" sz="2800" spc="-1" strike="noStrike">
                <a:solidFill>
                  <a:srgbClr val="cc6600"/>
                </a:solidFill>
                <a:latin typeface="Tahoma"/>
              </a:rPr>
              <a:t>对声音的认识为例，表明知识愈多愈感自己无知。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举例子说明中心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第三段：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以不知蝉发声原理作类比，表明自己不知彗星形成之因毫不足怪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合自己实际说明中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66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我们的知识是有限的，应该不断探索未知世界，揭开事物的隐秘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893880" y="63324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说明中心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-360" y="98064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第二自然段与第三自然段的语言表达方式有什么不同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它们都是为了说明一个什么道理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304920" y="34290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ff"/>
                </a:solidFill>
                <a:latin typeface="Times New Roman"/>
              </a:rPr>
              <a:t>第二段是叙述和描写，第三段是议论，都是为了说明：我们的知识是有限的。</a:t>
            </a:r>
            <a:r>
              <a:rPr b="1" lang="zh-CN" sz="4000" spc="-1" strike="noStrike">
                <a:solidFill>
                  <a:srgbClr val="0099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3:43:38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8T09:21:37Z</dcterms:modified>
  <cp:revision>6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