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2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gif" ContentType="image/gi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A36-C5BE-4865-8CEA-E7CCBE1B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081-4AA9-47E0-8C62-EA6E3CC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1D20-3F0C-43C7-B164-9A26DD5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73349-939F-4A79-BB5A-0107686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3CC8A-10D6-441C-BAB6-65A9A52C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C9CA7-0E3F-4465-902B-09653850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2D766-8525-4C4C-9476-751B1CA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3F64-7758-4C75-9B4A-808C8D8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614FF-81CA-4F92-B5F8-D306FD5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260CF-DF15-4932-BC2A-76D6ACDC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0832A-354B-4354-A216-6413775A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E47807-DC1C-4BD9-8F2A-4D6ACA64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573-B0D7-41AB-8A9A-7C88FC5E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82762-8E37-4C98-9C1C-C411E9C8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9B86B-8CA1-4E5C-B068-1E7133A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A39F0-93D3-4A7A-A576-30BFE187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B72C6-31DD-4E49-8836-0A6FBE7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010398-D5E3-4260-981D-4E5C74F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38F1B-2B26-4A4E-9B8C-FB1BEA7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D9AD2-76E2-4FFF-BB53-33F59F2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84624-4A1D-4024-856A-114EFC6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4F4905-F6E6-4377-A738-0CE1354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2A5FC-79D7-44A9-917D-65D6AD68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7A4-37BA-4518-AE3E-26629EC0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39A6D0-9243-4929-81C0-91BB487C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073A-D711-4BE5-8799-D3272275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65FB6-A7F5-4D67-B6AC-85688E2D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B49B-39F9-4D64-BAF8-FD0192DA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3F938-60C4-45CB-839A-28EC202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4A7C7-375E-4F79-8E75-F643F2A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C40F-84D2-477B-949E-42161A4A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4D658-0710-448C-8196-35F5490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8DC25-C221-44B6-8FE7-98C9A28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09FB-AC80-4C88-ACFE-D306D24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BB7E-DF5F-49FC-B9BE-6C592D2C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E4330-D9C6-4A2D-BD2E-4680F39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6182-3151-4796-AB54-ED63094C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8220-0E69-40F1-A982-F1A4A8A3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C4E55-A764-4AAA-B918-4F444BF0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44E58-0E98-4D37-9C58-1D27965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D7D9E-ED96-487C-9988-8373699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A14C4-3646-4594-8A66-98F8576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CC52-D0E3-40A9-9F01-E1B6A52D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0FC5D-FE8C-4B26-A3B7-A12761C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A5705-4213-478A-AD6A-B4C7078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E885-4D96-4A65-8CED-4E54DD6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6D931-2EB7-4C7C-A66C-DD42E44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0B0F8-783F-4D88-9264-2D9D5D9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9BC5D-1333-4A6B-B735-F913A66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F6160-9F7B-4823-B66B-A1221B30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435C4-5E4A-4718-AB4B-5B9069F2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29CA1-4AE7-4FC4-AC68-69A8B43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D3E2F2-738D-4F30-AE18-C1ADF2FF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1F40CE-F018-46D2-A7A8-8213E44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4E1D4-A99D-47B6-B6CC-880FD34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BC31A-CAAE-4A2D-857D-76CD3C5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0965-2BB4-47AC-9FA0-57E0550F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4449B-C6CB-46B9-A9EF-D134DE7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B1756-CDFE-4E6A-B59E-8ABE703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0016F-2938-4DAE-9677-D70C2D2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5495F-A2A5-416F-9789-D56FA0D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D6E9FD-3726-468E-AD33-CA311632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E9A63B-C3E3-494D-8D70-3C7B5C6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8D9505-7B4E-40BB-9899-32AE4265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F821-106C-4C8B-9C3D-01F2164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BC1-9B1A-4C2A-A81A-3BA190B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38CE-082C-4E8D-A464-60B2B0FD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FB3F-2CA0-4A6C-867E-87CAD6D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DDA-9FF1-48CD-8FB3-1741E53D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170-CB56-427A-BAB5-6527686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8D64-E0C9-4483-B6EB-E1F5C54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9D9-381F-485F-81E1-139527A5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E5A5-B9FF-4D80-BD3A-2D81EBB4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B06-05F2-4F53-8801-E3158355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C32F-A22F-413D-8954-F63B6C10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64FE-B0C2-4AE6-B970-81EB5F12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3DEC-2495-409C-8B51-24185A8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B75F-7513-4565-8041-704B6F73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D656-9451-4393-A9E5-C1D01CF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2D6-BE54-4356-A602-6F6A5994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627C-D2A5-48D6-8E25-A4427AEF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BF2C-E35D-4F19-BDCF-B378D71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493-1991-4B1D-A674-B59936E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3193-648E-4483-8A3A-F8E0A21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C98A-66E2-429F-A454-9B5902DD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42EA-1FDC-43CE-89E8-55D88D77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169C-3455-4D97-865F-815082C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3943-61A8-4992-B79E-86F0D45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7A0A-D93B-4C3E-818A-EED7BE7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D426-EA84-4E07-9384-638F954C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847-CE86-4819-AF4B-DD1C07C4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C45F-CB46-46D0-B107-8F6A8BF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E659B-E536-427B-9B92-12BFD0C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D634-391A-4250-AB2D-FAD3E977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2FF9-D66D-4DFC-8D3F-12CBA88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5E29-9938-4EBD-AB1A-0502574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DE2F-9E64-45E1-A223-131B2F2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FE70-C4AD-48A2-8533-4A21EFA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33F1-0228-4093-940C-172F4ADE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A881-61EF-4099-A51D-E17E3F6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145F-2738-4C93-AE01-5AD204D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0A2-0414-4A18-BDDD-0490774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A69C-8D2F-4667-BED7-1AADF5D4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40605-7088-44A5-91B7-A2F35B42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18F0-F6C1-44D0-AA75-FE3D60C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0A07-554F-4676-8388-88CC353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2144-8479-4FFD-BDAD-8D98CF9C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7D57-CF7E-4A3A-99DA-040442C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9071-D91A-411E-A321-EAA51DD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8B0F-012B-4843-A494-5C5D13F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F3AE-EBC9-4449-B28F-8917166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D28F-5EBB-40E0-B1CD-98B15C7E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28A-5628-4ED4-ABF1-024DF38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5BBA-754C-43F6-8F6A-C498A61D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715F-21D0-4151-A266-AC2A3871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40B1-0831-49AC-8ADA-4476BE0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C807-D819-44A6-A012-48867AA8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8C6D-D402-4C32-856E-8955E90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DC62-8EE9-4639-833C-23E1EC1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C608-7990-422B-AD06-546CB6A5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D00F-5709-441E-A425-66D7C93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A18A4-01CC-418C-B187-22B2E650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502A-CF16-44BF-912D-ED6C085D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83C-CF5B-4C3F-A0CB-794B0AD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9A3A-12C5-4A3C-8576-A1E643A8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3673-68FE-42E3-B0EB-ADAD7880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7CFD-5742-44C7-86DF-06FC3D8F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ADE5-8511-4717-AE3F-DB8CFAF1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D9C0-18CB-4170-8E7C-FC3A117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BF2B-4E83-4821-B293-D8335829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E245-07A0-4D2A-9836-EF878A4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4A63-6C69-499E-8372-FB465711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6F722-0110-45D8-BF96-8EAD66B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0770-5870-4960-A1AC-90FCD15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74F-BE85-4826-BCC1-12460BB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5E94-F044-4728-A7AB-81197EF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157A-A342-4DB8-8FAC-E642370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E096-731D-46DF-AB3A-B28DBC4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AC20-BB33-4E1C-998F-ED622B8F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6CF0-B62C-4ACD-B4C0-6CEF00D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408D-E935-4186-8072-7865E760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5DA6-9F69-44F9-8849-6045CF5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9315D-F005-4B34-8AE3-C7EAF12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829E-B69D-452E-B1B9-70F495E4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3802-C037-4A07-B332-641A815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EE2-2351-4202-B1A9-6852D10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9887-A65C-4008-A314-4B9A3CE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4AE24-EF31-49EF-B3F1-D6D61AE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5B5EE-CAE9-421B-8C2D-4A94BB4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F884-5E85-49F3-9159-50C309C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11078-3984-4601-A613-781AF93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30AC-E2E8-4D57-AE9F-EA2AC2A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A7A9-EACD-47BC-B83D-39A5303A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5032B-F6A5-4010-997E-8EAF3D1D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E8102-D25A-4A7F-BD7A-CB21C26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F2203-D09D-4F6F-94E2-7A1F454D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7564-BB55-4423-8BB4-DD0D1FE34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D8FF-312C-46DF-863F-6D4FC82F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91F-3CED-4AC4-BA36-646AB0F822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62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63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3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3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638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5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33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659" name="Freeform 34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Freeform 35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8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689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Group 77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703" name="Freeform 78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706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709" name="Freeform 84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85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71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88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5" name="Freeform 90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91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Group 92"/>
                  <p:cNvGrpSpPr/>
                  <p:nvPr/>
                </p:nvGrpSpPr>
                <p:grpSpPr>
                  <a:xfrm>
                    <a:off x="4508280" y="2703600"/>
                    <a:ext cx="875160" cy="2926800"/>
                    <a:chOff x="4508280" y="2703600"/>
                    <a:chExt cx="875160" cy="2926800"/>
                  </a:xfrm>
                </p:grpSpPr>
                <p:sp>
                  <p:nvSpPr>
                    <p:cNvPr id="718" name="Freeform 93"/>
                    <p:cNvSpPr/>
                    <p:nvPr/>
                  </p:nvSpPr>
                  <p:spPr>
                    <a:xfrm flipH="1" rot="16870800">
                      <a:off x="4086720" y="3489840"/>
                      <a:ext cx="188748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94"/>
                    <p:cNvSpPr/>
                    <p:nvPr/>
                  </p:nvSpPr>
                  <p:spPr>
                    <a:xfrm flipH="1" rot="16870800">
                      <a:off x="4365720" y="4809240"/>
                      <a:ext cx="101268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721" name="Freeform 96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Group 98"/>
                  <p:cNvGrpSpPr/>
                  <p:nvPr/>
                </p:nvGrpSpPr>
                <p:grpSpPr>
                  <a:xfrm>
                    <a:off x="5648400" y="2593440"/>
                    <a:ext cx="1757880" cy="3032640"/>
                    <a:chOff x="5648400" y="2593440"/>
                    <a:chExt cx="1757880" cy="3032640"/>
                  </a:xfrm>
                </p:grpSpPr>
                <p:sp>
                  <p:nvSpPr>
                    <p:cNvPr id="724" name="Freeform 99"/>
                    <p:cNvSpPr/>
                    <p:nvPr/>
                  </p:nvSpPr>
                  <p:spPr>
                    <a:xfrm rot="3745200">
                      <a:off x="5265360" y="3395520"/>
                      <a:ext cx="203328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72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104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730" name="Freeform 105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Freeform 106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Group 107"/>
                  <p:cNvGrpSpPr/>
                  <p:nvPr/>
                </p:nvGrpSpPr>
                <p:grpSpPr>
                  <a:xfrm>
                    <a:off x="4961160" y="2887200"/>
                    <a:ext cx="663480" cy="2717640"/>
                    <a:chOff x="4961160" y="2887200"/>
                    <a:chExt cx="663480" cy="2717640"/>
                  </a:xfrm>
                </p:grpSpPr>
                <p:sp>
                  <p:nvSpPr>
                    <p:cNvPr id="733" name="Freeform 108"/>
                    <p:cNvSpPr/>
                    <p:nvPr/>
                  </p:nvSpPr>
                  <p:spPr>
                    <a:xfrm rot="5755200">
                      <a:off x="4532400" y="3663720"/>
                      <a:ext cx="1770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Freeform 109"/>
                    <p:cNvSpPr/>
                    <p:nvPr/>
                  </p:nvSpPr>
                  <p:spPr>
                    <a:xfrm rot="5755200">
                      <a:off x="4716360" y="4931280"/>
                      <a:ext cx="95004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3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3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4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7267-4885-4CFA-9D82-9AC9C9A26B3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18D-BFB1-4FD8-A1CF-AF9DEE654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3B7-9150-4949-B4F4-821015AD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E13-B7A5-4112-A872-EA0821BA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F0F-6A71-4CF0-8226-966917CCBF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8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6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90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91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38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212" name="Freeform 39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68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242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70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5" name="Group 82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256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259" name="Freeform 86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262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91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265" name="Freeform 92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94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268" name="Freeform 95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96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97"/>
                <p:cNvGrpSpPr/>
                <p:nvPr/>
              </p:nvGrpSpPr>
              <p:grpSpPr>
                <a:xfrm>
                  <a:off x="7312680" y="1001160"/>
                  <a:ext cx="363240" cy="1217880"/>
                  <a:chOff x="7312680" y="1001160"/>
                  <a:chExt cx="363240" cy="1217880"/>
                </a:xfrm>
              </p:grpSpPr>
              <p:sp>
                <p:nvSpPr>
                  <p:cNvPr id="271" name="Freeform 98"/>
                  <p:cNvSpPr/>
                  <p:nvPr/>
                </p:nvSpPr>
                <p:spPr>
                  <a:xfrm flipH="1" rot="16870800">
                    <a:off x="7136280" y="1328400"/>
                    <a:ext cx="7855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99"/>
                  <p:cNvSpPr/>
                  <p:nvPr/>
                </p:nvSpPr>
                <p:spPr>
                  <a:xfrm flipH="1" rot="16870800">
                    <a:off x="7253280" y="187704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00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27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102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277" name="Freeform 104"/>
                  <p:cNvSpPr/>
                  <p:nvPr/>
                </p:nvSpPr>
                <p:spPr>
                  <a:xfrm rot="3745200">
                    <a:off x="7627320" y="1289880"/>
                    <a:ext cx="8463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05"/>
                  <p:cNvSpPr/>
                  <p:nvPr/>
                </p:nvSpPr>
                <p:spPr>
                  <a:xfrm rot="3745200">
                    <a:off x="8079840" y="1841040"/>
                    <a:ext cx="4539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28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3" name="Freeform 110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112"/>
                <p:cNvGrpSpPr/>
                <p:nvPr/>
              </p:nvGrpSpPr>
              <p:grpSpPr>
                <a:xfrm>
                  <a:off x="7500600" y="1077480"/>
                  <a:ext cx="276120" cy="1131840"/>
                  <a:chOff x="7500600" y="1077480"/>
                  <a:chExt cx="276120" cy="1131840"/>
                </a:xfrm>
              </p:grpSpPr>
              <p:sp>
                <p:nvSpPr>
                  <p:cNvPr id="286" name="Freeform 113"/>
                  <p:cNvSpPr/>
                  <p:nvPr/>
                </p:nvSpPr>
                <p:spPr>
                  <a:xfrm rot="5755200">
                    <a:off x="7322040" y="1400760"/>
                    <a:ext cx="737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14"/>
                  <p:cNvSpPr/>
                  <p:nvPr/>
                </p:nvSpPr>
                <p:spPr>
                  <a:xfrm rot="5755200">
                    <a:off x="7398360" y="1928880"/>
                    <a:ext cx="3956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1B5D-08DD-4269-ACA5-6F07668EADF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931-46C8-48DC-BDE2-80D52385A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0A73-97B1-402A-83B4-5E873415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7944-D5F6-432E-BEAD-B149734AA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BA37-982E-4A9E-9AA2-ACADBD08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2.WAV"/><Relationship Id="rId7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65,7,&#12288;&#30740;&#35835;&#25991;&#31456;" TargetMode="External"/><Relationship Id="rId3" Type="http://schemas.openxmlformats.org/officeDocument/2006/relationships/hyperlink" Target="272,8,&#24187;&#28783;&#29255; 8" TargetMode="External"/><Relationship Id="rId4" Type="http://schemas.openxmlformats.org/officeDocument/2006/relationships/hyperlink" Target="272,8,&#24187;&#28783;&#29255; 8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矩形 1" descr=""/>
          <p:cNvPicPr/>
          <p:nvPr/>
        </p:nvPicPr>
        <p:blipFill>
          <a:blip r:embed="rId2"/>
          <a:stretch/>
        </p:blipFill>
        <p:spPr>
          <a:xfrm>
            <a:off x="973080" y="1628640"/>
            <a:ext cx="74278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WordArt 6"/>
          <p:cNvSpPr txBox="1"/>
          <p:nvPr/>
        </p:nvSpPr>
        <p:spPr>
          <a:xfrm>
            <a:off x="1763640" y="33336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与拓展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5" name="Text Box 7"/>
          <p:cNvSpPr/>
          <p:nvPr/>
        </p:nvSpPr>
        <p:spPr>
          <a:xfrm>
            <a:off x="250920" y="148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　　曾经有一个人，用一小一大两个圆表示自己的知识由少到多的情况，圆外则是未知的世界，由此他得出了一个结论．试看看下面的图形，请你结合本文的论述，说说他得出了什么结论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1547640" y="3284640"/>
            <a:ext cx="1656000" cy="1655640"/>
          </a:xfrm>
          <a:prstGeom prst="ellipse">
            <a:avLst/>
          </a:prstGeom>
          <a:solidFill>
            <a:srgbClr val="879cc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Oval 9"/>
          <p:cNvSpPr/>
          <p:nvPr/>
        </p:nvSpPr>
        <p:spPr>
          <a:xfrm>
            <a:off x="5076720" y="3068640"/>
            <a:ext cx="2232000" cy="2232000"/>
          </a:xfrm>
          <a:prstGeom prst="ellipse">
            <a:avLst/>
          </a:prstGeom>
          <a:solidFill>
            <a:srgbClr val="879cc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219564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1"/>
          <p:cNvSpPr/>
          <p:nvPr/>
        </p:nvSpPr>
        <p:spPr>
          <a:xfrm flipV="1" rot="10684200">
            <a:off x="3347280" y="393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12"/>
          <p:cNvSpPr/>
          <p:nvPr/>
        </p:nvSpPr>
        <p:spPr>
          <a:xfrm flipV="1" rot="10684200">
            <a:off x="2050200" y="50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 flipV="1" rot="10684200">
            <a:off x="826200" y="40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 flipV="1" rot="10684200">
            <a:off x="5939640" y="53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15"/>
          <p:cNvSpPr/>
          <p:nvPr/>
        </p:nvSpPr>
        <p:spPr>
          <a:xfrm flipV="1" rot="10684200">
            <a:off x="4642560" y="393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16"/>
          <p:cNvSpPr/>
          <p:nvPr/>
        </p:nvSpPr>
        <p:spPr>
          <a:xfrm flipV="1" rot="10684200">
            <a:off x="5939640" y="27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7"/>
          <p:cNvSpPr/>
          <p:nvPr/>
        </p:nvSpPr>
        <p:spPr>
          <a:xfrm flipV="1" rot="10684200">
            <a:off x="7379640" y="40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8"/>
          <p:cNvSpPr/>
          <p:nvPr/>
        </p:nvSpPr>
        <p:spPr>
          <a:xfrm>
            <a:off x="1854000" y="3645000"/>
            <a:ext cx="729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个人知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5609160" y="3645000"/>
            <a:ext cx="790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个人知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0" y="5950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99"/>
                </a:solidFill>
                <a:latin typeface="Arial"/>
              </a:rPr>
              <a:t>由此可见</a:t>
            </a:r>
            <a:r>
              <a:rPr b="0" lang="zh-CN" sz="2400" spc="-1" strike="noStrike">
                <a:solidFill>
                  <a:srgbClr val="99ff33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21"/>
          <p:cNvSpPr/>
          <p:nvPr/>
        </p:nvSpPr>
        <p:spPr>
          <a:xfrm>
            <a:off x="1547640" y="59119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知识越多，圆就越大；圆越大，未知的就越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755640" y="234936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现实生活中你还知道哪些发声方法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WordArt 5"/>
          <p:cNvSpPr txBox="1"/>
          <p:nvPr/>
        </p:nvSpPr>
        <p:spPr>
          <a:xfrm rot="20404200">
            <a:off x="395280" y="907560"/>
            <a:ext cx="3390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66"/>
                    </a:gs>
                  </a:gsLst>
                  <a:lin ang="6594000"/>
                </a:gradFill>
                <a:latin typeface="华文新魏"/>
              </a:rPr>
              <a:t>课外延伸</a:t>
            </a:r>
            <a:endParaRPr b="1" lang="en-US" sz="66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0000ff"/>
                  </a:gs>
                  <a:gs pos="100000">
                    <a:srgbClr val="000066"/>
                  </a:gs>
                </a:gsLst>
                <a:lin ang="6594000"/>
              </a:gradFill>
              <a:latin typeface="华文新魏"/>
              <a:ea typeface="华文新魏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2195640" y="429264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吹口哨、吹树叶等。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AutoShape 4"/>
          <p:cNvSpPr/>
          <p:nvPr/>
        </p:nvSpPr>
        <p:spPr>
          <a:xfrm>
            <a:off x="0" y="0"/>
            <a:ext cx="2843280" cy="114300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华文行楷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539640" y="184464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　　本文以人类对声音和乐音的知识愈益增多而又愈感无知的情况为据，说明了人类的知识是有限的，勉励人们不断探索未知的世界，揭开事物愈来愈多的隐秘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4"/>
          <p:cNvSpPr/>
          <p:nvPr/>
        </p:nvSpPr>
        <p:spPr>
          <a:xfrm>
            <a:off x="611280" y="765000"/>
            <a:ext cx="8064360" cy="3080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读下面的材料，结合“我们的知识是有限的”说说你的认识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国青年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月：目前，很多国家使用的计算机芯片都是因特尔公司提供的，有人发现他们在向国外推出的奔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芯片中秘密设置了用以识别用户身分的序列码，这就使得用户使用这些设备时，一旦进入因特网，一举一动都可能受到外国情报机构的监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这对国家安全极为不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   你觉得我们应该怎样面对这样的事实？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WordArt 5"/>
          <p:cNvSpPr txBox="1"/>
          <p:nvPr/>
        </p:nvSpPr>
        <p:spPr>
          <a:xfrm>
            <a:off x="108000" y="442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月光（贝多芬）.mp3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3" descr="BJ30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" descr="WY_011"/>
          <p:cNvPicPr/>
          <p:nvPr/>
        </p:nvPicPr>
        <p:blipFill>
          <a:blip r:embed="rId3"/>
          <a:stretch/>
        </p:blipFill>
        <p:spPr>
          <a:xfrm>
            <a:off x="74674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0" name="WordArt 5"/>
          <p:cNvSpPr txBox="1"/>
          <p:nvPr/>
        </p:nvSpPr>
        <p:spPr>
          <a:xfrm>
            <a:off x="1981080" y="1676520"/>
            <a:ext cx="5257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谢谢！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15063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250920" y="928800"/>
            <a:ext cx="8642160" cy="48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ial"/>
                <a:ea typeface="隶书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学会运用典型事例来证明自己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观点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培养学生谦虚好学的好品质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AutoShape 3"/>
          <p:cNvSpPr/>
          <p:nvPr/>
        </p:nvSpPr>
        <p:spPr>
          <a:xfrm>
            <a:off x="468360" y="357120"/>
            <a:ext cx="2521080" cy="1143000"/>
          </a:xfrm>
          <a:prstGeom prst="horizontalScroll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学 习 目 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矩形 8"/>
          <p:cNvSpPr/>
          <p:nvPr/>
        </p:nvSpPr>
        <p:spPr>
          <a:xfrm>
            <a:off x="1224000" y="4797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368280" y="396720"/>
            <a:ext cx="2438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444600" y="457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者简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3635280" y="148428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伽利略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6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4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，出生于意大利西北部比萨，意大利的数学家、物理学家和天文学家，他成功地改变了科学的进程，使物理学在许多方面都取得了很大进展，他支持用实验来检验科学理论，用数学的办法来验证成果的观点，他是第一个用望远镜来观测夜空的人，在行星和恒星方面他也有很多发现，在与传统思想决裂的精神鼓舞之下，伽利略为科学进步铺平了道路，他的主要著作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对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论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7" descr="u=283331200,960438932&amp;gp=3"/>
          <p:cNvPicPr/>
          <p:nvPr/>
        </p:nvPicPr>
        <p:blipFill>
          <a:blip r:embed="rId1"/>
          <a:stretch/>
        </p:blipFill>
        <p:spPr>
          <a:xfrm>
            <a:off x="395280" y="1557360"/>
            <a:ext cx="2736720" cy="4176720"/>
          </a:xfrm>
          <a:prstGeom prst="rect">
            <a:avLst/>
          </a:prstGeom>
          <a:ln w="0">
            <a:noFill/>
          </a:ln>
        </p:spPr>
      </p:pic>
    </p:spTree>
  </p:cSld>
  <p:transition advTm="8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838080" y="2286000"/>
            <a:ext cx="7550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啁啾        喈喈     臆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毋宁        门枢     翌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嗣后        窒息     宽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1805760" y="234936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zhōujiū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5332680" y="234936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jiē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2124000" y="364500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wúnì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5239440" y="37162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shū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2412360" y="48690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sì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8"/>
          <p:cNvSpPr/>
          <p:nvPr/>
        </p:nvSpPr>
        <p:spPr>
          <a:xfrm>
            <a:off x="5148720" y="486900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zhì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7452000" y="2421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yì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7596360" y="48690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yò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762120" y="68580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预习检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12"/>
          <p:cNvSpPr/>
          <p:nvPr/>
        </p:nvSpPr>
        <p:spPr>
          <a:xfrm>
            <a:off x="99072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读准下列词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13"/>
          <p:cNvSpPr/>
          <p:nvPr/>
        </p:nvSpPr>
        <p:spPr>
          <a:xfrm>
            <a:off x="7668000" y="3645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yì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-268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ff33"/>
                </a:solidFill>
                <a:latin typeface="Tahoma"/>
                <a:ea typeface="隶书"/>
              </a:rPr>
              <a:t>整体感知全文结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11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一、（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段）提出自己的发现：知识浅薄者夸夸其谈，学识丰富者优柔寡断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二、（２段）以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从前有一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对声音的认识为例，表明知识愈多愈感自己无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三、（３段）以不知蝉发声原理作类比，表明自己不知彗星形成之因毫不足怪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研读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文第二段，合作探究以下问题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这个人是怎样一步步感到自己无知的？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经验可靠吗？从文中举一例说明。你有过类似的经验吗？ 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文中写到的发声种类有哪些？发声原因有何变化？ _x000b_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4</a:t>
            </a: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对蝉的认识探究最终以无知告终，这说明了什么道理？ _x000b_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WordArt 5"/>
          <p:cNvSpPr txBox="1"/>
          <p:nvPr/>
        </p:nvSpPr>
        <p:spPr>
          <a:xfrm>
            <a:off x="324000" y="0"/>
            <a:ext cx="208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合作探究</a:t>
            </a:r>
            <a:endParaRPr b="0" lang="en-US" sz="1800" spc="1" strike="noStrike">
              <a:ln w="9360">
                <a:solidFill>
                  <a:srgbClr val="ffff66"/>
                </a:solidFill>
                <a:round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3"/>
          <p:cNvSpPr/>
          <p:nvPr/>
        </p:nvSpPr>
        <p:spPr>
          <a:xfrm>
            <a:off x="755640" y="2492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395280" y="765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鸟儿的叫声。牧童的笛声。小提琴演奏声。门枢和铰链的摩擦声。指尖敲杯子的杯口。黄蜂、蚊子、苍蝇靠翅膀的快速振动发声，蟋蟀用振翅而非气息发声，风琴、喇叭、笛子、弦乐器、含在嘴里吹奏的铁簧片。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539640" y="37162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　　靠气息发声，靠翅膀快速振动发声到以口腔作为共鸣体，以气息作为声音媒介物的奇特方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AutoShape 7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这个人在认识世界的过程中并不是穷尽了世上所有的事理，作者这样写是很有用意的，显然在告诉我们：我们的知识的确是有限的，人们探索世界奥秘的脚步才刚刚开始，所有妄自尊大的所谓权威意识都是极其愚蠢的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4"/>
          <p:cNvSpPr/>
          <p:nvPr/>
        </p:nvSpPr>
        <p:spPr>
          <a:xfrm>
            <a:off x="0" y="1836360"/>
            <a:ext cx="63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  <a:ea typeface="宋体"/>
              </a:rPr>
              <a:t>文中的“这个人”知道的发声方法越多，他对声音的认识高度就越高，但他为什么遇见新问题时，会感到前所未有的无知和愕然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WordArt 5"/>
          <p:cNvSpPr txBox="1"/>
          <p:nvPr/>
        </p:nvSpPr>
        <p:spPr>
          <a:xfrm rot="824400">
            <a:off x="178920" y="188640"/>
            <a:ext cx="37339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38000"/>
                </a:gradFill>
                <a:latin typeface="华文行楷"/>
              </a:rPr>
              <a:t>课堂讨论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38000"/>
              </a:gradFill>
              <a:latin typeface="华文行楷"/>
              <a:ea typeface="华文行楷"/>
            </a:endParaRPr>
          </a:p>
        </p:txBody>
      </p:sp>
      <p:sp>
        <p:nvSpPr>
          <p:cNvPr id="893" name="Text Box 6"/>
          <p:cNvSpPr/>
          <p:nvPr/>
        </p:nvSpPr>
        <p:spPr>
          <a:xfrm>
            <a:off x="1042920" y="4869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人们的知识是有限的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7:23:11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9:24:5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