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10.jpeg" ContentType="image/jpeg"/>
  <Override PartName="/ppt/media/image8.jpeg" ContentType="image/jpeg"/>
  <Override PartName="/ppt/media/image30.png" ContentType="image/png"/>
  <Override PartName="/ppt/media/image25.gif" ContentType="image/gif"/>
  <Override PartName="/ppt/media/image6.jpeg" ContentType="image/jpeg"/>
  <Override PartName="/ppt/media/image27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9.wmf" ContentType="image/x-wmf"/>
  <Override PartName="/ppt/media/image24.jpeg" ContentType="image/jpeg"/>
  <Override PartName="/ppt/media/image29.gif" ContentType="image/gif"/>
  <Override PartName="/ppt/media/image31.png" ContentType="image/png"/>
  <Override PartName="/ppt/media/image16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1.jpeg" ContentType="image/jpeg"/>
  <Override PartName="/ppt/media/image13.jpeg" ContentType="image/jpeg"/>
  <Override PartName="/ppt/media/image14.jpeg" ContentType="image/jpeg"/>
  <Override PartName="/ppt/media/image28.gif" ContentType="image/gif"/>
  <Override PartName="/ppt/media/image15.png" ContentType="image/pn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F5D-E80B-4625-8EAA-D3EC070E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3A9-1051-446A-B96E-F91EBB2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EAD-43AE-48D3-B51E-F9C433E3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368-5DF1-4682-8416-2A0B15FA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48C3-BD16-43F1-B613-E3CEB42D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CA53-EC5F-4471-AE47-0AD84A6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6028-3A63-4C3B-B4C0-6C406C87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0778-E305-4A1B-8EA9-02F44BD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BCAB-9047-484C-B0C1-9DB7E674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04B1-75EF-40D3-9442-66FFEE3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1651-314D-484D-86EE-77BC6BB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CC4-8F02-4F59-9485-2BFF1B9F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9951-B8B6-47F4-84E1-1808A4D9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F17-C05C-4612-8E80-3FE285C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DECF-E723-4DC5-9A7A-7F31E45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1990-92FA-4A7E-AC2C-E104D814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8F3-33A4-4077-BA25-2905B2C3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951-98C9-4526-BEDA-8BE77A6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718-CC07-4320-8A32-52B4A5E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804-0516-4A3E-98C3-ACA979C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483-3216-4DE6-B552-52D35577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A73-8EDB-41A9-A343-09E96FF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B26-9055-4F4C-A25E-4841EA3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458-422A-4A0E-A7F2-921DB0A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0F8E-7A89-479C-87E2-019089DC6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ED0-CE54-4D8E-B066-67827F5C2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3lian.com/DetailView.htm?Detail=http://img2.3lian.com/img2009/09/3lian03/3lian089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3lian.com/DetailView.htm?Detail=http://img2.3lian.com/img2009/09/3lian03/3lian089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2128680"/>
            <a:ext cx="9144000" cy="375444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059280" y="836640"/>
            <a:ext cx="5329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蔚蓝的王国</a:t>
            </a:r>
            <a:endParaRPr b="1" lang="en-US" sz="24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755640" y="1444680"/>
            <a:ext cx="18716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屠格涅夫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Picture 3" descr="h0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鹰4"/>
            <p:cNvPicPr/>
            <p:nvPr/>
          </p:nvPicPr>
          <p:blipFill>
            <a:blip r:embed="rId2"/>
            <a:stretch/>
          </p:blipFill>
          <p:spPr>
            <a:xfrm>
              <a:off x="6400800" y="762120"/>
              <a:ext cx="14065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鹰4"/>
            <p:cNvPicPr/>
            <p:nvPr/>
          </p:nvPicPr>
          <p:blipFill>
            <a:blip r:embed="rId3"/>
            <a:stretch/>
          </p:blipFill>
          <p:spPr>
            <a:xfrm>
              <a:off x="7315200" y="914400"/>
              <a:ext cx="140652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6"/>
          <p:cNvSpPr/>
          <p:nvPr/>
        </p:nvSpPr>
        <p:spPr>
          <a:xfrm>
            <a:off x="4356000" y="4437000"/>
            <a:ext cx="46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白色的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华文新魏"/>
              </a:rPr>
              <a:t>风帆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鼓了起来，宛似天鹅的胸膛，帆的上面挂着几面随风轻扬的小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0880" y="533520"/>
            <a:ext cx="46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新魏"/>
              </a:rPr>
              <a:t>我们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几个人坐在一条精美华丽的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新魏"/>
              </a:rPr>
              <a:t>小船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066817223200351210742152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52280" y="228600"/>
            <a:ext cx="63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新魏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不知道我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新魏"/>
              </a:rPr>
              <a:t>伙伴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是些什么人；然而我的整个身心感觉到，他们像我一样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新魏"/>
              </a:rPr>
              <a:t>年轻、快乐、幸福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4117954563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771640" y="304920"/>
            <a:ext cx="6220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66ff66"/>
                </a:solidFill>
                <a:latin typeface="Tahoma"/>
                <a:ea typeface="华文新魏"/>
              </a:rPr>
              <a:t>况且我也没有对他们多加注意。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66ff66"/>
                </a:solidFill>
                <a:latin typeface="Tahoma"/>
                <a:ea typeface="华文新魏"/>
              </a:rPr>
              <a:t>我只看到四周是一片无边无际的蔚蓝的海，海面上闪烁着金鳞似的细浪，头顶上是同样无边无际的、同样蔚蓝的海</a:t>
            </a:r>
            <a:r>
              <a:rPr b="1" lang="en-US" sz="3200" spc="-1" strike="noStrike">
                <a:solidFill>
                  <a:srgbClr val="66ff66"/>
                </a:solidFill>
                <a:latin typeface="Tahoma"/>
                <a:ea typeface="华文新魏"/>
              </a:rPr>
              <a:t>—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66"/>
                </a:solidFill>
                <a:latin typeface="Tahoma"/>
                <a:ea typeface="华文新魏"/>
              </a:rPr>
              <a:t>在那儿，和煦的太阳愉悦地露着笑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28600" y="3809880"/>
            <a:ext cx="5334120" cy="2667240"/>
          </a:xfrm>
          <a:prstGeom prst="cloudCallout">
            <a:avLst>
              <a:gd name="adj1" fmla="val -48930"/>
              <a:gd name="adj2" fmla="val 54583"/>
            </a:avLst>
          </a:prstGeom>
          <a:noFill/>
          <a:ln cap="rnd" w="19080">
            <a:solidFill>
              <a:srgbClr val="cc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u15p112t3d34776f48dt20040102113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52280" y="196920"/>
            <a:ext cx="49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我们看到一些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岛屿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，晶莹明澈的仙岛，岛上的璧玉宝石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光艳夺目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211560" y="4508640"/>
            <a:ext cx="59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一些岛上像下雨似的朝我们身上飘洒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白玫瑰花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铃兰花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；另一些岛上忽然飞起一群五彩缤纷的长翼的</a:t>
            </a: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楷体_GB2312"/>
              </a:rPr>
              <a:t>鸟儿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0031022231455998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476360" y="1197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864214"/>
                </a:solidFill>
                <a:latin typeface="Tahoma"/>
                <a:ea typeface="楷体_GB2312"/>
              </a:rPr>
              <a:t>周围的一切：天空、海洋、微微飘动的风帆、船尾潺潺的水流</a:t>
            </a:r>
            <a:r>
              <a:rPr b="1" lang="en-US" sz="3200" spc="-1" strike="noStrike">
                <a:solidFill>
                  <a:srgbClr val="864214"/>
                </a:solidFill>
                <a:latin typeface="Tahom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64214"/>
                </a:solidFill>
                <a:latin typeface="Tahoma"/>
                <a:ea typeface="楷体_GB2312"/>
              </a:rPr>
              <a:t>一切都在倾诉着</a:t>
            </a:r>
            <a:r>
              <a:rPr b="1" lang="zh-CN" sz="3200" spc="-1" strike="noStrike">
                <a:solidFill>
                  <a:srgbClr val="864214"/>
                </a:solidFill>
                <a:latin typeface="Tahoma"/>
                <a:ea typeface="华文新魏"/>
              </a:rPr>
              <a:t>爱情</a:t>
            </a:r>
            <a:r>
              <a:rPr b="1" lang="zh-CN" sz="3200" spc="-1" strike="noStrike">
                <a:solidFill>
                  <a:srgbClr val="864214"/>
                </a:solidFill>
                <a:latin typeface="Tahoma"/>
                <a:ea typeface="楷体_GB2312"/>
              </a:rPr>
              <a:t>，倾诉着无比幸福的</a:t>
            </a:r>
            <a:r>
              <a:rPr b="1" lang="zh-CN" sz="3200" spc="-1" strike="noStrike">
                <a:solidFill>
                  <a:srgbClr val="864214"/>
                </a:solidFill>
                <a:latin typeface="Tahoma"/>
                <a:ea typeface="华文新魏"/>
              </a:rPr>
              <a:t>爱情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39_700_93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1447920" y="4267080"/>
            <a:ext cx="5181480" cy="1067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2280" y="3809880"/>
            <a:ext cx="6019920" cy="2362320"/>
          </a:xfrm>
          <a:prstGeom prst="cloudCallout">
            <a:avLst>
              <a:gd name="adj1" fmla="val -38791"/>
              <a:gd name="adj2" fmla="val 72782"/>
            </a:avLst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62120" y="386064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她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我们每一个人都爱着的那个人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她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就在这儿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虽然看不见，但近在咫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066817223200359686888373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1692360" y="76500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新魏"/>
              </a:rPr>
              <a:t>不消片刻，她的眼睛就会闪出亮光，她的脸上就会现出笑容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华文新魏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187280" y="620640"/>
            <a:ext cx="3962520" cy="2667240"/>
          </a:xfrm>
          <a:prstGeom prst="cloudCallout">
            <a:avLst>
              <a:gd name="adj1" fmla="val -12097"/>
              <a:gd name="adj2" fmla="val -24523"/>
            </a:avLst>
          </a:prstGeom>
          <a:solidFill>
            <a:srgbClr val="ccffff">
              <a:alpha val="50000"/>
            </a:srgbClr>
          </a:solidFill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580000" y="4292640"/>
            <a:ext cx="34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她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的手就会拉着你的手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拉着你一起进入永不衰败的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天堂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20049242063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04920" y="469800"/>
            <a:ext cx="527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蔚蓝的王国呀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我看见过你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在梦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64214"/>
                </a:solidFill>
                <a:latin typeface="Arial"/>
                <a:ea typeface="隶书"/>
              </a:rPr>
              <a:t>认读字词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煦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ù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酬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唱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ó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颤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栗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hàn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明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澈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璧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玉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ì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船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舷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潺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潺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án                 </a:t>
            </a:r>
            <a:r>
              <a:rPr b="1" i="1" lang="zh-CN" sz="4400" spc="-1" strike="noStrike">
                <a:solidFill>
                  <a:srgbClr val="ff0033"/>
                </a:solidFill>
                <a:latin typeface="Times New Roman"/>
              </a:rPr>
              <a:t>咫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尺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h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蔚蓝的王国是怎样一个世界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蔚蓝、光明、青春、幸福、快乐、自由自在。。。。。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68360" y="3860640"/>
            <a:ext cx="84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找出相关的句子，并且有感情朗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屠格涅夫照片"/>
          <p:cNvPicPr/>
          <p:nvPr/>
        </p:nvPicPr>
        <p:blipFill>
          <a:blip r:embed="rId1"/>
          <a:stretch/>
        </p:blipFill>
        <p:spPr>
          <a:xfrm>
            <a:off x="1066680" y="457200"/>
            <a:ext cx="4584960" cy="579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6781680" y="1066680"/>
            <a:ext cx="125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屠格涅夫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xin_380303241031531056125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14716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、依靠想象，文中叙写了哪些人，哪些景？文中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我们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又有着什么样的情怀？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   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372119215092101"/>
          <p:cNvPicPr/>
          <p:nvPr/>
        </p:nvPicPr>
        <p:blipFill>
          <a:blip r:embed="rId1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00000" y="1125360"/>
            <a:ext cx="770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ffcc66"/>
                </a:solidFill>
                <a:latin typeface="华文彩云"/>
                <a:ea typeface="华文彩云"/>
              </a:rPr>
              <a:t>蔚蓝的王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梦中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3724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4212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伙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34248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女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00000" y="299736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梦中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843280" y="2997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大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352000" y="105264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21164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小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83596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仙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948360" y="314172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花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1270440" y="371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梦中情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3029400" y="378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青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46904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快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580000" y="38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爱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948360" y="3860640"/>
            <a:ext cx="12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幸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215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9"/>
          <p:cNvSpPr txBox="1"/>
          <p:nvPr/>
        </p:nvSpPr>
        <p:spPr>
          <a:xfrm>
            <a:off x="838080" y="2133720"/>
            <a:ext cx="7543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我来说说美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点击查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1557000"/>
            <a:ext cx="78487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弗洛伊德说过：“梦是愿望的达成。”  你认为文中“蔚蓝的王国”为什么是“蔚蓝”的？可能象征什么？第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节中“女人的声音”和第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节中的“她”又是指什么呢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点击查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这个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王国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没有烦恼、痛苦、忧患、灾难，有的只是快乐、幸福、自由、美丽和温馨，象征作者理想中的生活世界。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8360" y="256536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66ff99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66ff99"/>
                </a:solidFill>
                <a:latin typeface="Tahoma"/>
              </a:rPr>
              <a:t>女人”意味着爱情、幸福、美好</a:t>
            </a:r>
            <a:r>
              <a:rPr b="1" lang="en-US" sz="3200" spc="-1" strike="noStrike">
                <a:solidFill>
                  <a:srgbClr val="66ff99"/>
                </a:solidFill>
                <a:latin typeface="Tahoma"/>
              </a:rPr>
              <a:t>……</a:t>
            </a:r>
            <a:r>
              <a:rPr b="1" lang="en-US" sz="3200" spc="-1" strike="noStrike">
                <a:solidFill>
                  <a:srgbClr val="66ff99"/>
                </a:solidFill>
                <a:latin typeface="Tahoma"/>
              </a:rPr>
              <a:t>, “</a:t>
            </a:r>
            <a:r>
              <a:rPr b="1" lang="zh-CN" sz="3200" spc="-1" strike="noStrike">
                <a:solidFill>
                  <a:srgbClr val="66ff99"/>
                </a:solidFill>
                <a:latin typeface="Tahoma"/>
              </a:rPr>
              <a:t>女人的声音”象征着爱情的召唤，象征着对幸福、美好生活的渴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11280" y="436572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她”可以理解为“母亲”、“妻子”、“天使”，可能是海之神、爱之神，也可能指作者心中的爱人，也可以理解为美好的青春、生活、爱情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……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一切美好的化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89240" y="57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华文彩云"/>
              </a:rPr>
              <a:t>我的理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8000" y="126828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不是风在推动它前进；驾驶它的是我们自己无忧无虑的心灵－－我们心中稍一动念，想到哪里去，小船就飘到哪里去，它像是有生命的东西，完全听从我们的使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835280" y="4365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驾驶小船的不是风而是心灵，这可能吗？你是怎样理解这种现象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908000" y="544500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船随着人的心意前行，人们的心灵在大海上已经完全融合在一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348000" y="26028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、读一读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6" name="Picture 6" descr="020"/>
          <p:cNvPicPr/>
          <p:nvPr/>
        </p:nvPicPr>
        <p:blipFill>
          <a:blip r:embed="rId1"/>
          <a:stretch/>
        </p:blipFill>
        <p:spPr>
          <a:xfrm>
            <a:off x="7675560" y="404640"/>
            <a:ext cx="822240" cy="8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3716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段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周围的一切：天空、海洋、微微飘动的风帆，船尾潺潺的流水－－所有的一切都在倾诉着爱情，倾诉着无比幸福的爱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619280" y="2565360"/>
            <a:ext cx="72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续写天空、海洋、风帆、水流等没有生命的物来倾诉爱情，而且要连续倾诉两遍，这样写有什么作用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332000" y="40053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续写天空、海洋、风帆、潺潺流水等一些没有生命的东西在倾诉爱情，作者是运用拟人的手法表现大海的可爱，充满了青春的魅力，带给人们无限的快乐和幸福，也表现了作者对大海的热爱和陶醉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914400" y="533520"/>
            <a:ext cx="80773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参考句式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我特别欣赏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（词、句、段），因为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读了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后，我仿佛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5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浪花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4"/>
          <p:cNvSpPr txBox="1"/>
          <p:nvPr/>
        </p:nvSpPr>
        <p:spPr>
          <a:xfrm>
            <a:off x="900000" y="3429000"/>
            <a:ext cx="619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插上想像的翅膀</a:t>
            </a:r>
            <a:endParaRPr b="1" lang="en-US" sz="8000" spc="1" strike="noStrike">
              <a:ln w="12600">
                <a:solidFill>
                  <a:srgbClr val="000099"/>
                </a:solidFill>
                <a:round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94" name="Picture 15" descr="天使"/>
          <p:cNvPicPr/>
          <p:nvPr/>
        </p:nvPicPr>
        <p:blipFill>
          <a:blip r:embed="rId2"/>
          <a:stretch/>
        </p:blipFill>
        <p:spPr>
          <a:xfrm>
            <a:off x="7667640" y="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1267"/>
          <p:cNvSpPr/>
          <p:nvPr/>
        </p:nvSpPr>
        <p:spPr>
          <a:xfrm>
            <a:off x="5029200" y="5105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屠格涅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1271"/>
          <p:cNvSpPr/>
          <p:nvPr/>
        </p:nvSpPr>
        <p:spPr>
          <a:xfrm>
            <a:off x="1219320" y="21337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他的代表作有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猎人笔记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、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父与子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等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1272"/>
          <p:cNvSpPr/>
          <p:nvPr/>
        </p:nvSpPr>
        <p:spPr>
          <a:xfrm>
            <a:off x="1219320" y="763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有人说他是欧洲俄罗斯的第一位小说家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273"/>
          <p:cNvSpPr/>
          <p:nvPr/>
        </p:nvSpPr>
        <p:spPr>
          <a:xfrm>
            <a:off x="1219320" y="39625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托尔斯泰说：在他之后没有人再敢下笔写大自然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1274"/>
          <p:cNvSpPr/>
          <p:nvPr/>
        </p:nvSpPr>
        <p:spPr>
          <a:xfrm>
            <a:off x="533520" y="304920"/>
            <a:ext cx="457200" cy="609480"/>
          </a:xfrm>
          <a:custGeom>
            <a:avLst/>
            <a:gdLst>
              <a:gd name="textAreaLeft" fmla="*/ 188280 w 457200"/>
              <a:gd name="textAreaRight" fmla="*/ 268920 w 4572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1275"/>
          <p:cNvSpPr/>
          <p:nvPr/>
        </p:nvSpPr>
        <p:spPr>
          <a:xfrm>
            <a:off x="457200" y="2286000"/>
            <a:ext cx="457200" cy="609480"/>
          </a:xfrm>
          <a:custGeom>
            <a:avLst/>
            <a:gdLst>
              <a:gd name="textAreaLeft" fmla="*/ 188280 w 457200"/>
              <a:gd name="textAreaRight" fmla="*/ 268920 w 4572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1276"/>
          <p:cNvSpPr/>
          <p:nvPr/>
        </p:nvSpPr>
        <p:spPr>
          <a:xfrm>
            <a:off x="457200" y="41911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4343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l0660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619280" y="136440"/>
            <a:ext cx="115221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ahoma"/>
                <a:ea typeface="华文新魏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  <a:ea typeface="华文新魏"/>
              </a:rPr>
              <a:t>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0" y="1628640"/>
            <a:ext cx="9144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达对美好事物和美好生活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追求热爱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赞美美好的青春生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歌颂美好的爱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表达岁月已逝的人生感叹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0" y="2602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华文新魏"/>
              </a:rPr>
              <a:t>主题</a:t>
            </a:r>
            <a:r>
              <a:rPr b="1" lang="en-US" sz="4800" spc="-1" strike="noStrike">
                <a:solidFill>
                  <a:srgbClr val="ff3300"/>
                </a:solidFill>
                <a:latin typeface="Tahoma"/>
                <a:ea typeface="华文新魏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50920" y="28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htD36(1)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304920" y="609480"/>
            <a:ext cx="3581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3366ff"/>
                  </a:solidFill>
                  <a:round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绘出憧憬</a:t>
            </a:r>
            <a:endParaRPr b="1" lang="en-US" sz="6600" spc="1" strike="noStrike">
              <a:ln w="9360">
                <a:solidFill>
                  <a:srgbClr val="3366ff"/>
                </a:solidFill>
                <a:round/>
              </a:ln>
              <a:solidFill>
                <a:srgbClr val="cce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5410080" y="1600200"/>
            <a:ext cx="3505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3366ff"/>
                  </a:solidFill>
                  <a:round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写出梦想</a:t>
            </a:r>
            <a:endParaRPr b="1" lang="en-US" sz="6600" spc="1" strike="noStrike">
              <a:ln w="9360">
                <a:solidFill>
                  <a:srgbClr val="3366ff"/>
                </a:solidFill>
                <a:round/>
              </a:ln>
              <a:solidFill>
                <a:srgbClr val="cce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3-415"/>
          <p:cNvPicPr/>
          <p:nvPr/>
        </p:nvPicPr>
        <p:blipFill>
          <a:blip r:embed="rId1"/>
          <a:stretch/>
        </p:blipFill>
        <p:spPr>
          <a:xfrm>
            <a:off x="228600" y="12193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9-423"/>
          <p:cNvPicPr/>
          <p:nvPr/>
        </p:nvPicPr>
        <p:blipFill>
          <a:blip r:embed="rId2"/>
          <a:stretch/>
        </p:blipFill>
        <p:spPr>
          <a:xfrm>
            <a:off x="304920" y="3733920"/>
            <a:ext cx="8458200" cy="1447560"/>
          </a:xfrm>
          <a:prstGeom prst="rect">
            <a:avLst/>
          </a:prstGeom>
          <a:ln w="0">
            <a:noFill/>
          </a:ln>
        </p:spPr>
      </p:pic>
      <p:pic>
        <p:nvPicPr>
          <p:cNvPr id="206" name="asthedeer.mid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5"/>
          <p:cNvSpPr txBox="1"/>
          <p:nvPr/>
        </p:nvSpPr>
        <p:spPr>
          <a:xfrm>
            <a:off x="1523880" y="2133720"/>
            <a:ext cx="66294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指导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08" name="Picture 16" descr="3-415"/>
          <p:cNvPicPr/>
          <p:nvPr/>
        </p:nvPicPr>
        <p:blipFill>
          <a:blip r:embed="rId6"/>
          <a:stretch/>
        </p:blipFill>
        <p:spPr>
          <a:xfrm>
            <a:off x="2057400" y="5335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3-415"/>
          <p:cNvPicPr/>
          <p:nvPr/>
        </p:nvPicPr>
        <p:blipFill>
          <a:blip r:embed="rId7"/>
          <a:stretch/>
        </p:blipFill>
        <p:spPr>
          <a:xfrm>
            <a:off x="-228600" y="26668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xin_2303032410310781589022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395280" y="907920"/>
            <a:ext cx="820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4214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19</a:t>
            </a:r>
            <a:r>
              <a:rPr b="1" lang="zh-CN" sz="4000" spc="-1" strike="noStrike">
                <a:solidFill>
                  <a:srgbClr val="ff0033"/>
                </a:solidFill>
                <a:latin typeface="Tahoma"/>
              </a:rPr>
              <a:t>世纪的俄国文学空前繁荣，成为世界文学的代表，诞生了一大批世界级的作家。最著名的有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普希金、莱蒙托夫、果戈理、列夫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托尔斯泰、陀思妥耶夫斯基、契诃夫</a:t>
            </a:r>
            <a:r>
              <a:rPr b="1" lang="zh-CN" sz="4000" spc="-1" strike="noStrike">
                <a:solidFill>
                  <a:srgbClr val="ff0033"/>
                </a:solidFill>
                <a:latin typeface="Tahoma"/>
              </a:rPr>
              <a:t>等等，其中自然还有擅长细腻心理描写和抒情的</a:t>
            </a:r>
            <a:r>
              <a:rPr b="1" lang="zh-CN" sz="4000" spc="-1" strike="noStrike">
                <a:solidFill>
                  <a:srgbClr val="864214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864214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7360" y="4076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ahoma"/>
                <a:ea typeface="华文彩云"/>
              </a:rPr>
              <a:t>屠格涅夫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851280" y="2380320"/>
            <a:ext cx="52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屠格涅夫，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俄国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十九世纪批判现实主义作家。代表作有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父与子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罗亭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贵族之家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前夜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猎人笔记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他的小说结构严整，情节紧凑，人物形象生动，尤其善于细致雕琢女性艺术形象，对旖旎大自然的描写充满诗情画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屠格涅夫"/>
          <p:cNvPicPr/>
          <p:nvPr/>
        </p:nvPicPr>
        <p:blipFill>
          <a:blip r:embed="rId1"/>
          <a:stretch/>
        </p:blipFill>
        <p:spPr>
          <a:xfrm>
            <a:off x="324000" y="620640"/>
            <a:ext cx="3348000" cy="540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Rectangle 4"/>
          <p:cNvSpPr/>
          <p:nvPr/>
        </p:nvSpPr>
        <p:spPr>
          <a:xfrm>
            <a:off x="698760" y="6093000"/>
            <a:ext cx="25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18-188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"/>
              <a:ea typeface="楷体_GB2312"/>
            </a:endParaRPr>
          </a:p>
        </p:txBody>
      </p:sp>
      <p:pic>
        <p:nvPicPr>
          <p:cNvPr id="107" name="Picture 3" descr="猎人笔记"/>
          <p:cNvPicPr/>
          <p:nvPr/>
        </p:nvPicPr>
        <p:blipFill>
          <a:blip r:embed="rId1"/>
          <a:stretch/>
        </p:blipFill>
        <p:spPr>
          <a:xfrm>
            <a:off x="539640" y="333360"/>
            <a:ext cx="3673440" cy="482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Picture 4" descr="罗亭"/>
          <p:cNvPicPr/>
          <p:nvPr/>
        </p:nvPicPr>
        <p:blipFill>
          <a:blip r:embed="rId2"/>
          <a:stretch/>
        </p:blipFill>
        <p:spPr>
          <a:xfrm>
            <a:off x="4859280" y="333360"/>
            <a:ext cx="3816360" cy="48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" name="Text Box 5"/>
          <p:cNvSpPr/>
          <p:nvPr/>
        </p:nvSpPr>
        <p:spPr>
          <a:xfrm>
            <a:off x="519120" y="5494320"/>
            <a:ext cx="23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68360" y="5300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成名作，揭露了地主表面仁慈、实际残暴的本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427640" y="5229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第一部长篇小说，塑造了脱离群众，得不到群众支持的人物形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tu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560" y="1000080"/>
            <a:ext cx="340056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ff"/>
                </a:solidFill>
                <a:latin typeface="Arial"/>
                <a:ea typeface="楷体_GB2312"/>
              </a:rPr>
              <a:t>知识积累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360" y="1267920"/>
            <a:ext cx="77752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、本文体裁：散文诗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、散文诗：介于诗与散文之间的一个独立的文学样式，具有诗的形式和神韵，又有散文的轻灵和自由，本质上属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诗歌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0e0fa"/>
            </a:gs>
            <a:gs pos="100000">
              <a:srgbClr val="74ab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5"/>
          <p:cNvSpPr/>
          <p:nvPr/>
        </p:nvSpPr>
        <p:spPr>
          <a:xfrm>
            <a:off x="3352680" y="152280"/>
            <a:ext cx="5105520" cy="2971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981080" y="3352680"/>
            <a:ext cx="53352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352680" y="7621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静听朗诵，感受 大自然芬芳的气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2666880" y="2666880"/>
            <a:ext cx="12193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2" descr="PE00014_"/>
          <p:cNvPicPr/>
          <p:nvPr/>
        </p:nvPicPr>
        <p:blipFill>
          <a:blip r:embed="rId1"/>
          <a:stretch/>
        </p:blipFill>
        <p:spPr>
          <a:xfrm>
            <a:off x="755640" y="4221000"/>
            <a:ext cx="2664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0049242063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11280" y="1773360"/>
            <a:ext cx="597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蔚蓝的王国呀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ahoma"/>
                <a:ea typeface="楷体_GB2312"/>
              </a:rPr>
              <a:t>充满着蔚蓝、光明、青春、幸福的王国呀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我看见过你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在梦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0" y="333360"/>
            <a:ext cx="66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ahoma"/>
                <a:ea typeface="隶书"/>
              </a:rPr>
              <a:t>有感情地朗读课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2:22:59Z</dcterms:created>
  <dc:creator/>
  <dc:description>第一PPT模板网-WWW.1PPT.COM
</dc:description>
  <dc:language>en-US</dc:language>
  <cp:lastModifiedBy>Administrator</cp:lastModifiedBy>
  <dcterms:modified xsi:type="dcterms:W3CDTF">2017-08-03T01:34:45Z</dcterms:modified>
  <cp:revision>130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