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click.wav" ContentType="audio/x-wav"/>
  <Override PartName="/ppt/media/image9.png" ContentType="image/png"/>
  <Override PartName="/ppt/media/wind.wav" ContentType="audio/x-wav"/>
  <Override PartName="/ppt/media/chimes.wav" ContentType="audio/x-wav"/>
  <Override PartName="/ppt/media/image7.jpeg" ContentType="image/jpeg"/>
  <Override PartName="/ppt/media/image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3.jpeg" ContentType="image/jpeg"/>
  <Override PartName="/ppt/media/image12.jpeg" ContentType="image/jpeg"/>
  <Override PartName="/ppt/media/image11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E40-0FD0-4D6B-AEB8-1B633D68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97-14E8-429E-8BBC-24AB2235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FB1-43FB-49B4-8AB1-427F2C38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320-9991-4AA4-967C-7B70AB03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EABC-9460-4FD1-90EA-159CBB2E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24B63-5BA8-4982-9630-27D57FA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4A27-A3A0-4AB5-83CC-C76DC486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D467-9382-4919-9F9B-5D75DD4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68D7F-391A-469E-AA94-689167D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43354-64F6-4B66-A4F0-DAD0ADAB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5FDFE-6A19-40E5-9420-8DC2346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A51-4389-4568-9D5F-3695543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CB13-AEFB-40E6-92CC-0C4214D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98EF-1860-45A5-9E07-7930B13E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DBEB-5655-4057-86FE-BF53636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DE963-C05C-4757-BE54-4BAA63AC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D664-7835-412F-98BA-32808E3B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486-484F-40AC-A7FA-77655085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A19-F62D-435E-BA61-5E38226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BFE-1295-4423-BB5E-8DE2110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A50-BCDB-45DA-A3DD-951E819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B88-53DE-46A8-8654-8C72832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146-0DAD-483F-8AEC-D53BF80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243-05B5-4134-BBD3-B33245A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6AA-8E31-4F7C-B43F-EAEBC8E5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C565-BF43-4975-A1B3-516D49493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5240" y="4797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  <a:ea typeface="华文行楷"/>
              </a:rPr>
              <a:t>屠格涅夫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619280" y="134136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蔚蓝的王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80880" y="1773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10199"/>
                </a:solidFill>
                <a:latin typeface="Times New Roman"/>
              </a:rPr>
              <a:t>描写这些景色的词语特点：</a:t>
            </a:r>
            <a:r>
              <a:rPr b="0" lang="zh-CN" sz="2400" spc="-1" strike="noStrike" u="sng">
                <a:solidFill>
                  <a:srgbClr val="010199"/>
                </a:solidFill>
                <a:uFillTx/>
                <a:latin typeface="Times New Roman"/>
              </a:rPr>
              <a:t>                                            </a:t>
            </a:r>
            <a:r>
              <a:rPr b="0" lang="zh-CN" sz="2400" spc="-1" strike="noStrike">
                <a:solidFill>
                  <a:srgbClr val="010199"/>
                </a:solidFill>
                <a:latin typeface="Times New Roman"/>
              </a:rPr>
              <a:t>给人以欢乐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788000" y="1700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色彩鲜艳，音韵优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2637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展示了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的大海，传递着作者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的感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268360" y="2565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神奇美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116000" y="364500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表达了自己对美好事物和美好生活的追求和热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赞美美好的青春生活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歌颂爱情的美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对蔚蓝的大海的热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755640" y="692280"/>
            <a:ext cx="0" cy="1008000"/>
          </a:xfrm>
          <a:prstGeom prst="line">
            <a:avLst/>
          </a:prstGeom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95280" y="1341360"/>
            <a:ext cx="7848720" cy="0"/>
          </a:xfrm>
          <a:prstGeom prst="line">
            <a:avLst/>
          </a:prstGeom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1187280" y="2602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u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46760" y="265572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蔚蓝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王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47640" y="141300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29200" y="981000"/>
            <a:ext cx="9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一、开篇点题：概述蔚蓝王国的特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853000" y="2924280"/>
            <a:ext cx="10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二、写梦中所见蔚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王国的美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932360" y="1844640"/>
            <a:ext cx="287280" cy="302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404320" y="1700280"/>
            <a:ext cx="7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人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海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太阳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岛屿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鸟儿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445640" y="5241960"/>
            <a:ext cx="19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三、呼应开头，回归主题。（再次抒发作者对“蔚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ahoma"/>
              </a:rPr>
              <a:t>的王国”的喜爱之情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842160" y="1700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0199"/>
                </a:solidFill>
                <a:latin typeface="Tahoma"/>
              </a:rPr>
              <a:t>年轻、快乐、幸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913800" y="24210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0199"/>
                </a:solidFill>
                <a:latin typeface="Tahoma"/>
              </a:rPr>
              <a:t>蔚蓝、无边、无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442200" y="3141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0199"/>
                </a:solidFill>
                <a:latin typeface="Tahoma"/>
              </a:rPr>
              <a:t>愉悦地露着笑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340680" y="39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0199"/>
                </a:solidFill>
                <a:latin typeface="Tahoma"/>
              </a:rPr>
              <a:t>晶莹明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361200" y="4581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0199"/>
                </a:solidFill>
                <a:latin typeface="Tahoma"/>
              </a:rPr>
              <a:t>五彩缤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16"/>
          <p:cNvSpPr txBox="1"/>
          <p:nvPr/>
        </p:nvSpPr>
        <p:spPr>
          <a:xfrm rot="342600">
            <a:off x="-468360" y="115920"/>
            <a:ext cx="7772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98000"/>
                </a:gradFill>
                <a:latin typeface="宋体"/>
              </a:rPr>
              <a:t>理清文章思路，体会作者的思想感情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98000"/>
              </a:gradFill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002"/>
          <p:cNvPicPr/>
          <p:nvPr/>
        </p:nvPicPr>
        <p:blipFill>
          <a:blip r:embed="rId2"/>
          <a:stretch/>
        </p:blipFill>
        <p:spPr>
          <a:xfrm rot="866400">
            <a:off x="5018040" y="3590640"/>
            <a:ext cx="3865680" cy="289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3"/>
          <p:cNvPicPr/>
          <p:nvPr/>
        </p:nvPicPr>
        <p:blipFill>
          <a:blip r:embed="rId3"/>
          <a:stretch/>
        </p:blipFill>
        <p:spPr>
          <a:xfrm>
            <a:off x="2627280" y="404640"/>
            <a:ext cx="4032360" cy="27370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6"/>
          <p:cNvSpPr txBox="1"/>
          <p:nvPr/>
        </p:nvSpPr>
        <p:spPr>
          <a:xfrm>
            <a:off x="324000" y="549360"/>
            <a:ext cx="2727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奇思妙想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31" name="Picture 10" descr="云海"/>
          <p:cNvPicPr/>
          <p:nvPr/>
        </p:nvPicPr>
        <p:blipFill>
          <a:blip r:embed="rId4"/>
          <a:stretch/>
        </p:blipFill>
        <p:spPr>
          <a:xfrm rot="20775000">
            <a:off x="371520" y="35301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1"/>
          <p:cNvSpPr txBox="1"/>
          <p:nvPr/>
        </p:nvSpPr>
        <p:spPr>
          <a:xfrm>
            <a:off x="3429000" y="620640"/>
            <a:ext cx="22860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迷人的大海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WordArt 13"/>
          <p:cNvSpPr txBox="1"/>
          <p:nvPr/>
        </p:nvSpPr>
        <p:spPr>
          <a:xfrm rot="20589600">
            <a:off x="971280" y="4076280"/>
            <a:ext cx="2160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沉默的大海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WordArt 14"/>
          <p:cNvSpPr txBox="1"/>
          <p:nvPr/>
        </p:nvSpPr>
        <p:spPr>
          <a:xfrm rot="1204200">
            <a:off x="5802480" y="3789360"/>
            <a:ext cx="2514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2934000"/>
                </a:gradFill>
                <a:latin typeface="宋体"/>
              </a:rPr>
              <a:t>愤怒的大海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2934000"/>
              </a:gradFill>
              <a:latin typeface="宋体"/>
              <a:ea typeface="宋体"/>
            </a:endParaRPr>
          </a:p>
        </p:txBody>
      </p:sp>
      <p:pic>
        <p:nvPicPr>
          <p:cNvPr id="135" name="Picture 15" descr="W_037"/>
          <p:cNvPicPr/>
          <p:nvPr/>
        </p:nvPicPr>
        <p:blipFill>
          <a:blip r:embed="rId9"/>
          <a:stretch/>
        </p:blipFill>
        <p:spPr>
          <a:xfrm>
            <a:off x="8667720" y="623736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10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902600" y="1052640"/>
            <a:ext cx="5362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大 海上一片静寂。在我们的脚下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波浪轻轻吻着岩石，像蒙眬欲睡似的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在平静的深黯的海面上，月光辟开了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款狭长的明亮的云汀，闪闪地颤动着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银鳞一般。远处灯塔上的红光镶在黑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的空间，像是一颗红玉。它和那海面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银光在我们面前揭开海的神秘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W_037"/>
          <p:cNvPicPr/>
          <p:nvPr/>
        </p:nvPicPr>
        <p:blipFill>
          <a:blip r:embed="rId1"/>
          <a:stretch/>
        </p:blipFill>
        <p:spPr>
          <a:xfrm>
            <a:off x="8172360" y="595008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149200" y="1576440"/>
            <a:ext cx="5392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海终于愤怒了。它咆哮着，猛烈地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向岸边袭击过来，冲进了岩石的罅隙里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又拨剌着岩石的壁垒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音响就越大了。战鼓声，金锣声，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喊声，叫号声，啼哭声，马蹄声，车轮声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机翼声，掺杂在一起 ，像千军万马混战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W_037"/>
          <p:cNvPicPr/>
          <p:nvPr/>
        </p:nvPicPr>
        <p:blipFill>
          <a:blip r:embed="rId2"/>
          <a:stretch/>
        </p:blipFill>
        <p:spPr>
          <a:xfrm>
            <a:off x="8172360" y="595008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0" y="0"/>
            <a:ext cx="28432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试一试</a:t>
            </a:r>
            <a:endParaRPr b="0" lang="en-US" sz="48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9640" y="134136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220968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838080" y="3505320"/>
            <a:ext cx="662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38080" y="43434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116000" y="54450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916360" y="54936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11f5"/>
                </a:solidFill>
                <a:latin typeface="Arial"/>
              </a:rPr>
              <a:t>请发挥你的奇思妙想，完成下列练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8360" y="177336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24000" y="1628640"/>
            <a:ext cx="82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50920" y="2492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老师、爸爸或妈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眼睛（生气、思考或高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）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95280" y="386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充分发挥你想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提供的情景，编一则小故事．　　　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4724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豹　　　高原　　　啤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1476360" y="2997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835280" y="328464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799128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、以“我梦中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____”</a:t>
            </a:r>
            <a:r>
              <a:rPr b="0" lang="zh-CN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为题，仿照课文写一篇散文诗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99"/>
                </a:solidFill>
                <a:latin typeface="Tahoma"/>
                <a:ea typeface="华文行楷"/>
              </a:rPr>
              <a:t>、收集关于海的成语或故事，讲给你的同学听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WordArt 10"/>
          <p:cNvSpPr txBox="1"/>
          <p:nvPr/>
        </p:nvSpPr>
        <p:spPr>
          <a:xfrm>
            <a:off x="485640" y="98100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后拓展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95640" y="404640"/>
            <a:ext cx="67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都说梦是可望而不可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都说梦是可想而不可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但如果心中有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何不做个追梦少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不管路途如何漫漫修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不管有怎样的狂风暴雨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暗礁险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请继续扬帆起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ahoma"/>
                <a:ea typeface="华文行楷"/>
              </a:rPr>
              <a:t>美梦一定成真！</a:t>
            </a:r>
            <a:r>
              <a:rPr b="0" lang="zh-CN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WordArt 9"/>
          <p:cNvSpPr txBox="1"/>
          <p:nvPr/>
        </p:nvSpPr>
        <p:spPr>
          <a:xfrm rot="1008000">
            <a:off x="428400" y="326880"/>
            <a:ext cx="1641240" cy="14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结 语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58" name="大海呀，.mp3" descr=""/>
          <p:cNvPicPr/>
          <p:nvPr/>
        </p:nvPicPr>
        <p:blipFill>
          <a:blip r:embed="rId2"/>
          <a:stretch/>
        </p:blipFill>
        <p:spPr>
          <a:xfrm>
            <a:off x="5275440" y="69404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4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有感情地朗读课文，（注意节奏、速度等），       欣赏散文诗优美的语言，感受梦幻的意境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体会作者美好的情怀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插上想象的翅膀，体味想像的魅力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539640" y="1104840"/>
            <a:ext cx="223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01"/>
          <p:cNvPicPr/>
          <p:nvPr/>
        </p:nvPicPr>
        <p:blipFill>
          <a:blip r:embed="rId2"/>
          <a:stretch/>
        </p:blipFill>
        <p:spPr>
          <a:xfrm>
            <a:off x="250920" y="1266840"/>
            <a:ext cx="3281400" cy="4538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08000" y="59245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屠格涅夫（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818--1883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564000" y="2003400"/>
            <a:ext cx="55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俄国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9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世纪批判现实主义作家，是位卓越的、才华横溢的艺术大师，被 誉为“欧洲俄罗斯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第一位小说家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代表作有：小说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猎人笔记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》《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父与子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》《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罗亭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468360" y="620640"/>
            <a:ext cx="273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作者简介：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9080" y="1484280"/>
            <a:ext cx="9448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散文诗，是兼有诗歌与散文特点的一种现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抒情文学样式。它融合了诗歌的表现性和散文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描写性的某些特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从本质上看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它属于诗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有诗的情绪和幻想，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199"/>
                </a:solidFill>
                <a:latin typeface="Tahoma"/>
              </a:rPr>
              <a:t>读者美感和想像，但内容上保留了诗意的散文性细节；从形式上看，它有散文的外观，不像诗歌那样分行和押韵，但不乏内在的音乐美和节奏感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270000" y="40464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点滴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伴读.mp3" descr=""/>
          <p:cNvPicPr/>
          <p:nvPr/>
        </p:nvPicPr>
        <p:blipFill>
          <a:blip r:embed="rId1"/>
          <a:stretch/>
        </p:blipFill>
        <p:spPr>
          <a:xfrm>
            <a:off x="851544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>
            <a:off x="1547640" y="1989000"/>
            <a:ext cx="6842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听朗诵，整体感知语言美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2447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539640" y="1270080"/>
            <a:ext cx="338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自主学习 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037240" y="2917800"/>
            <a:ext cx="534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用你喜欢的方式朗读课文，挑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出自己喜欢的句子来试读，注意读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感情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伴读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himes.wav"/>
      </p:stSnd>
    </p:sndAc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2447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071440" y="263700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小组合作，把自己挑选出来的精美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句或段落朗读一下，相互说说喜欢的理由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84200" y="777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235160" y="10875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合作学习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7"/>
          <p:cNvSpPr txBox="1"/>
          <p:nvPr/>
        </p:nvSpPr>
        <p:spPr>
          <a:xfrm>
            <a:off x="395280" y="76500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探究阅读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59840" y="2276640"/>
            <a:ext cx="555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文中哪些语句描绘了作者“梦”中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见蔚蓝王国的美好？从中流露出作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怎样的思想感情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92360" y="1125360"/>
            <a:ext cx="7386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白色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帆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鼓了起来，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宛似天鹅的胸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海面上闪烁着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金鳞似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细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头顶上是同样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无边无际的、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同样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蔚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珍珠似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浪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晶莹明澈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仙岛，岛上的璧玉宝石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光艳夺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轻快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小船在微波中飘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船尾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潺潺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流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切都在倾诉着爱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飘来一阵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甜滋滋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 声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00000" y="5084640"/>
            <a:ext cx="745200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不同的色彩（视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天籁之音（听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运用多种修辞（拟人、比喻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539640" y="4724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妙处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250920" y="260280"/>
            <a:ext cx="3200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揣摩语言特色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lu"/>
    <p:sndAc>
      <p:stSnd>
        <p:snd r:embed="rId1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6:23:06Z</dcterms:created>
  <dc:creator/>
  <dc:description>第一PPT模板网-WWW.1PPT.COM
</dc:description>
  <dc:language>en-US</dc:language>
  <cp:lastModifiedBy>Administrator</cp:lastModifiedBy>
  <dcterms:modified xsi:type="dcterms:W3CDTF">2017-08-03T01:29:17Z</dcterms:modified>
  <cp:revision>3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