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gif" ContentType="image/gif"/>
  <Override PartName="/ppt/media/image14.jpeg" ContentType="image/jpeg"/>
  <Override PartName="/ppt/media/image31.jpeg" ContentType="image/jpeg"/>
  <Override PartName="/ppt/media/image32.jpeg" ContentType="image/jpeg"/>
  <Override PartName="/ppt/media/image16.png" ContentType="image/png"/>
  <Override PartName="/ppt/media/image6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27.jpeg" ContentType="image/jpeg"/>
  <Override PartName="/ppt/media/image17.gif" ContentType="image/gif"/>
  <Override PartName="/ppt/media/chimes.wav" ContentType="audio/x-wav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  <p:custShowLst>
    <p:custShow name="自定义放映 1" id="0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DE5-FA7B-4983-90CE-ABEC1FA4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2CE-02E7-43BA-BC3C-BC560B9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6DC-32FD-4BBF-950E-160878AB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9AA-9080-4E46-96EF-317DDB5F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AE979-FE24-440E-A0B9-AC53788F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2CF24-DC02-4649-8E9D-8B6F528A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F770-83B3-40BB-BBB9-E88F724E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C1984-61CB-4540-8FC3-472DE3AA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79833-2CF1-41D2-A0B2-4419D56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7DCF-D3F4-4BC4-9763-01D38108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9A2A6-11D6-4CAE-9758-8BC7CD8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7DA-1559-489C-8F85-1FBEE36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CE26-48EE-4D0C-B366-3DD07A5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CD496-FA36-4E19-B1F7-AFA2BDA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379A-007F-4592-9E2E-5AFB5127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F9C0-DF3C-41A3-B8C5-0170E6C2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99A2F-F295-49EE-9127-5E36108F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495-207A-40D2-A339-A4A5749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0D4-9142-4168-99DA-886AFB1C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DE2-6EF5-449F-8EF6-448CE4C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507-C371-4AEE-B46E-4F6CB00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450-5326-413B-82C6-8D7B793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7A4-1287-43EB-9E63-613779B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2E0-9FCA-4145-9327-66BA42C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4FA5-CB77-4361-B187-304BF4EE7A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168-616F-444D-9C0B-8CA4EEBD35B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365,24,&#24187;&#28783;&#29255; 24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373,7,&#32838;&#21548;&#26391;&#35835;&#65292;&#20877;&#27425;&#24863;&#30693;" TargetMode="External"/><Relationship Id="rId3" Type="http://schemas.openxmlformats.org/officeDocument/2006/relationships/hyperlink" Target="374,8,&#24187;&#28783;&#29255; 8" TargetMode="External"/><Relationship Id="rId4" Type="http://schemas.openxmlformats.org/officeDocument/2006/relationships/hyperlink" Target="343,22,&#24187;&#28783;&#29255; 22" TargetMode="External"/><Relationship Id="rId5" Type="http://schemas.openxmlformats.org/officeDocument/2006/relationships/hyperlink" Target="275,32,&#24187;&#28783;&#29255; 32" TargetMode="External"/><Relationship Id="rId6" Type="http://schemas.openxmlformats.org/officeDocument/2006/relationships/hyperlink" Target="348,33,&#24187;&#28783;&#29255; 33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4160" y="1484280"/>
            <a:ext cx="8650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00000"/>
                </a:solidFill>
                <a:latin typeface="华文隶书"/>
                <a:ea typeface="华文隶书"/>
              </a:rPr>
              <a:t>蔚蓝的王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AH02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542360" y="692280"/>
            <a:ext cx="1277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cc00"/>
                </a:solidFill>
                <a:uFillTx/>
                <a:latin typeface="Times New Roman"/>
                <a:ea typeface="黑体"/>
              </a:rPr>
              <a:t>读   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909600" y="2349360"/>
            <a:ext cx="3758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海风习习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海浪声声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驾着梦之舟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我们看海去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ailing2"/>
          <p:cNvPicPr/>
          <p:nvPr/>
        </p:nvPicPr>
        <p:blipFill>
          <a:blip r:embed="rId2"/>
          <a:stretch/>
        </p:blipFill>
        <p:spPr>
          <a:xfrm>
            <a:off x="8136000" y="4221000"/>
            <a:ext cx="1008000" cy="792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聆听朗读，再次感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要求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边听边圈画出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蔚蓝的王国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中所描绘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人物、景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68360" y="1341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欢迎大家搭载</a:t>
            </a: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华文行楷"/>
              </a:rPr>
              <a:t>“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蔚蓝号</a:t>
            </a: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华文行楷"/>
              </a:rPr>
              <a:t>”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开始我们今天的梦幻之旅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  <a:ea typeface="华文行楷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bird15"/>
          <p:cNvPicPr/>
          <p:nvPr/>
        </p:nvPicPr>
        <p:blipFill>
          <a:blip r:embed="rId2"/>
          <a:stretch/>
        </p:blipFill>
        <p:spPr>
          <a:xfrm>
            <a:off x="6659640" y="189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049242063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04920" y="4698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蔚蓝的王国呀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ahoma"/>
                <a:ea typeface="楷体_GB2312"/>
              </a:rPr>
              <a:t>充满着蔚蓝、光明、青春、幸福的王国呀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我看见过你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在梦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课文朗读完整版.wav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7000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"/>
                            </p:stCondLst>
                            <p:childTnLst>
                              <p:par>
                                <p:cTn id="1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4788000" y="5157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白色的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</a:rPr>
              <a:t>风帆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鼓了起来，宛似天鹅的胸膛，帆的上面挂着几面随风轻扬的小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80880" y="533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我们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几个人坐在一条精美华丽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小船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上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066817223200351210742152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228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我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楷体_GB2312"/>
              </a:rPr>
              <a:t>不知道我的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伙伴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楷体_GB2312"/>
              </a:rPr>
              <a:t>是些什么人；然而我的整个身心感觉到，他们像我一样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年轻、快乐、幸福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楷体_GB2312"/>
              </a:rPr>
              <a:t>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4117954563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11280" y="4365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楷体_GB2312"/>
              </a:rPr>
              <a:t>况且我也没有对他们多加注意。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楷体_GB2312"/>
              </a:rPr>
              <a:t>我只看到四周是一片无边无际的蔚蓝的</a:t>
            </a:r>
            <a:r>
              <a:rPr b="1" lang="zh-CN" sz="2800" spc="-1" strike="noStrike">
                <a:solidFill>
                  <a:srgbClr val="006666"/>
                </a:solidFill>
                <a:latin typeface="Tahoma"/>
              </a:rPr>
              <a:t>海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楷体_GB2312"/>
              </a:rPr>
              <a:t>，海面上闪烁着金鳞似的</a:t>
            </a:r>
            <a:r>
              <a:rPr b="1" lang="zh-CN" sz="2800" spc="-1" strike="noStrike">
                <a:solidFill>
                  <a:srgbClr val="006666"/>
                </a:solidFill>
                <a:latin typeface="Tahoma"/>
              </a:rPr>
              <a:t>细浪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64000" y="476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头顶上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是同样无边无际的、同样蔚蓝的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在那儿，和煦的太阳愉悦的露着笑脸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28600" y="3809880"/>
            <a:ext cx="5334120" cy="2667240"/>
          </a:xfrm>
          <a:prstGeom prst="cloudCallout">
            <a:avLst>
              <a:gd name="adj1" fmla="val -48930"/>
              <a:gd name="adj2" fmla="val 54583"/>
            </a:avLst>
          </a:prstGeom>
          <a:noFill/>
          <a:ln cap="rnd" w="19080">
            <a:solidFill>
              <a:srgbClr val="cc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404640"/>
            <a:ext cx="77169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有时发出爽朗、愉快的笑声，仿佛天堂里神仙的笑声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者，突然会有人吟诵精美绝伦、感人肺腑的诗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....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似乎天空本身也在和我们酬唱，四周的海洋也情不自禁地颤栗起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....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着又是一片宁静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华文新魏"/>
                <a:ea typeface="华文新魏"/>
              </a:rPr>
              <a:t>我们轻快的小船在微波中荡漾，时起时伏。并不是风在推动它前进；驾驶它的是我们自己无忧无虑的心灵</a:t>
            </a:r>
            <a:r>
              <a:rPr b="0" lang="en-US" sz="2800" spc="-1" strike="noStrike">
                <a:solidFill>
                  <a:srgbClr val="010199"/>
                </a:solidFill>
                <a:latin typeface="华文新魏"/>
                <a:ea typeface="华文新魏"/>
              </a:rPr>
              <a:t>--</a:t>
            </a:r>
            <a:r>
              <a:rPr b="0" lang="zh-CN" sz="2800" spc="-1" strike="noStrike">
                <a:solidFill>
                  <a:srgbClr val="010199"/>
                </a:solidFill>
                <a:latin typeface="华文新魏"/>
                <a:ea typeface="华文新魏"/>
              </a:rPr>
              <a:t>我们心中稍一动念，想到哪里去，小船就飘到哪里去，它像是有生命的东西，完全听从我们使唤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1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52280" y="196920"/>
            <a:ext cx="403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我们看到一些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岛屿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，晶莹明澈的仙岛，岛上的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楷体_GB2312"/>
              </a:rPr>
              <a:t>璧玉宝石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光艳夺目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284720" y="476280"/>
            <a:ext cx="460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仙岛隆起的岸上飘来醉人的芳香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；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一些岛上像下雨似的朝我们身上飘洒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白玫瑰花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铃兰花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；另一些岛上忽然飞起一群五彩缤纷的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长翼的鸟儿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611280" y="155736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Tahoma"/>
                <a:ea typeface="华文新魏"/>
              </a:rPr>
              <a:t>多少爱，昨夜梦魂中。还似旧时游大海，岛如花朵舟如风，心海正交融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天使"/>
          <p:cNvPicPr/>
          <p:nvPr/>
        </p:nvPicPr>
        <p:blipFill>
          <a:blip r:embed="rId2"/>
          <a:stretch/>
        </p:blipFill>
        <p:spPr>
          <a:xfrm>
            <a:off x="7093080" y="5493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荷韵.mid" descr=""/>
          <p:cNvPicPr/>
          <p:nvPr/>
        </p:nvPicPr>
        <p:blipFill>
          <a:blip r:embed="rId3"/>
          <a:stretch/>
        </p:blipFill>
        <p:spPr>
          <a:xfrm>
            <a:off x="8244000" y="6076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3102223145599854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050920" y="112536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鸟儿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我们头顶上回翔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铃兰花和玫瑰花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同沿着平滑的船舷翻滚的珍珠似的浪花融合在一起，分辨不清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916360" y="4149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随同花儿和鸟儿一起飘来一阵甜滋滋的声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....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其中仿佛有女人的声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....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周围的一切：天空、海洋、微微飘动的风帆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船尾潺潺的水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一切都在倾诉着爱情，倾诉着无比幸福的爱情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39_700_93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1447920" y="4267080"/>
            <a:ext cx="5181480" cy="1067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52280" y="3809880"/>
            <a:ext cx="6019920" cy="2362320"/>
          </a:xfrm>
          <a:prstGeom prst="cloudCallout">
            <a:avLst>
              <a:gd name="adj1" fmla="val -38791"/>
              <a:gd name="adj2" fmla="val 72782"/>
            </a:avLst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62120" y="41911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她，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我们每一个人都爱着的那个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她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就在这儿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虽然看不见，但近在咫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4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066817223200359686888373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003640" y="4762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不消片刻，她的眼睛就会闪出亮光，她的脸上就会现出笑容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187280" y="2133720"/>
            <a:ext cx="3962520" cy="2666880"/>
          </a:xfrm>
          <a:prstGeom prst="cloudCallout">
            <a:avLst>
              <a:gd name="adj1" fmla="val -19351"/>
              <a:gd name="adj2" fmla="val 70000"/>
            </a:avLst>
          </a:prstGeom>
          <a:solidFill>
            <a:srgbClr val="ccffff">
              <a:alpha val="50000"/>
            </a:srgbClr>
          </a:solidFill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763640" y="2492280"/>
            <a:ext cx="297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她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手就会拉着你的手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拉着你一起进入永不衰败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天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049242063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04920" y="46980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蔚蓝的王国</a:t>
            </a:r>
            <a:r>
              <a:rPr b="1" lang="zh-CN" sz="2400" spc="-1" strike="noStrike">
                <a:solidFill>
                  <a:srgbClr val="010199"/>
                </a:solidFill>
                <a:latin typeface="Tahoma"/>
                <a:ea typeface="楷体_GB2312"/>
              </a:rPr>
              <a:t>呀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199"/>
                </a:solidFill>
                <a:latin typeface="Tahoma"/>
                <a:ea typeface="楷体_GB2312"/>
              </a:rPr>
              <a:t>我看见过你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在梦中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885080" y="5734080"/>
            <a:ext cx="43200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684360" y="1341360"/>
            <a:ext cx="6192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  <a:hlinkClick r:id="rId2"/>
              </a:rPr>
              <a:t>品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9640" y="32130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找出文中你最欣赏的句子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说出喜欢的理由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24000" y="5516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白色的风帆鼓了起来，宛似天鹅的胸膛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行楷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风帆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gif001112"/>
          <p:cNvPicPr/>
          <p:nvPr/>
        </p:nvPicPr>
        <p:blipFill>
          <a:blip r:embed="rId2"/>
          <a:stretch/>
        </p:blipFill>
        <p:spPr>
          <a:xfrm>
            <a:off x="8496360" y="56610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006907_2b3ecf0d06fccdcffb82370521202a36"/>
          <p:cNvPicPr/>
          <p:nvPr/>
        </p:nvPicPr>
        <p:blipFill>
          <a:blip r:embed="rId3"/>
          <a:stretch/>
        </p:blipFill>
        <p:spPr>
          <a:xfrm>
            <a:off x="5419800" y="0"/>
            <a:ext cx="3724200" cy="3860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69840" y="333360"/>
            <a:ext cx="9074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10199"/>
                </a:solidFill>
                <a:latin typeface="Times New Roman"/>
                <a:ea typeface="华文行楷"/>
              </a:rPr>
              <a:t>白色的风帆鼓起来，宛似天鹅的胸膛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148360" y="4076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435640" y="4292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24360" y="4221000"/>
            <a:ext cx="4319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  <a:ea typeface="宋体"/>
              </a:rPr>
              <a:t>品味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：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  <a:ea typeface="宋体"/>
              </a:rPr>
              <a:t>此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ahoma"/>
                <a:ea typeface="宋体"/>
              </a:rPr>
              <a:t>运用比喻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ahoma"/>
                <a:ea typeface="宋体"/>
              </a:rPr>
              <a:t>的修辞，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  <a:ea typeface="宋体"/>
              </a:rPr>
              <a:t>写出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ahoma"/>
                <a:ea typeface="宋体"/>
              </a:rPr>
              <a:t>船帆涨满风的形状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  <a:ea typeface="宋体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ahoma"/>
                <a:ea typeface="宋体"/>
              </a:rPr>
              <a:t>赋予风帆以生命动态的美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Tahoma"/>
                <a:ea typeface="宋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684360" y="5589720"/>
            <a:ext cx="718920" cy="431640"/>
          </a:xfrm>
          <a:prstGeom prst="leftArrow">
            <a:avLst>
              <a:gd name="adj1" fmla="val 50000"/>
              <a:gd name="adj2" fmla="val 4163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j0145012"/>
          <p:cNvPicPr/>
          <p:nvPr/>
        </p:nvPicPr>
        <p:blipFill>
          <a:blip r:embed="rId1"/>
          <a:stretch/>
        </p:blipFill>
        <p:spPr>
          <a:xfrm>
            <a:off x="4719600" y="0"/>
            <a:ext cx="4424400" cy="6856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57200" y="291960"/>
            <a:ext cx="3827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梦中的仙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709040" y="341640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视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67640" y="508464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嗅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2840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静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11280" y="46404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动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876320" y="4640400"/>
            <a:ext cx="39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五彩缤纷的长翼的鸟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876320" y="5143680"/>
            <a:ext cx="3200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醉人的芳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599080" y="3919680"/>
            <a:ext cx="9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599080" y="4640400"/>
            <a:ext cx="16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忽然飞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876320" y="3919680"/>
            <a:ext cx="31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白玫瑰花和铃兰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876320" y="2263680"/>
            <a:ext cx="104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岛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589040" y="420840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876320" y="3056040"/>
            <a:ext cx="1111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宝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1589040" y="269568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5599080" y="5288040"/>
            <a:ext cx="9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7421400" y="2335320"/>
            <a:ext cx="142920" cy="2736720"/>
          </a:xfrm>
          <a:custGeom>
            <a:avLst/>
            <a:gdLst>
              <a:gd name="textAreaLeft" fmla="*/ 0 w 142920"/>
              <a:gd name="textAreaRight" fmla="*/ 51480 w 1429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771640" y="2263680"/>
            <a:ext cx="172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晶莹明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2771640" y="32274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光艳夺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250920" y="6165720"/>
            <a:ext cx="576000" cy="505080"/>
          </a:xfrm>
          <a:prstGeom prst="leftArrow">
            <a:avLst>
              <a:gd name="adj1" fmla="val 50000"/>
              <a:gd name="adj2" fmla="val 2850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908000" y="6093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楷体_GB2312"/>
              </a:rPr>
              <a:t>声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631280" y="609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听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2120" y="4343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17600" y="620640"/>
            <a:ext cx="84582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一切景语皆情语也，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作者描写蔚蓝的王国是想赞美、讴歌、倾诉些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50920" y="3860640"/>
            <a:ext cx="85690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观点：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、表达自己对美好事物的追求与热爱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、赞美美好的青春生活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、歌颂美好的爱情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  <a:ea typeface="宋体"/>
              </a:rPr>
              <a:t>你更倾向于哪点呢？回归课文找依据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0000"/>
                </a:solidFill>
                <a:latin typeface="宋体"/>
                <a:ea typeface="宋体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095480" y="12240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84360" y="26028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3333ff"/>
                </a:solidFill>
                <a:uFillTx/>
                <a:latin typeface="Tahoma"/>
              </a:rPr>
              <a:t>悟梦：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7667640" y="5950080"/>
            <a:ext cx="720720" cy="358560"/>
          </a:xfrm>
          <a:prstGeom prst="leftArrow">
            <a:avLst>
              <a:gd name="adj1" fmla="val 50000"/>
              <a:gd name="adj2" fmla="val 5024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826920" y="620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追 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95280" y="1700280"/>
            <a:ext cx="8748720" cy="86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用你的海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    </a:t>
            </a: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你的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       </a:t>
            </a: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造就你的梦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5" descr="bird15"/>
          <p:cNvPicPr/>
          <p:nvPr/>
        </p:nvPicPr>
        <p:blipFill>
          <a:blip r:embed="rId2"/>
          <a:stretch/>
        </p:blipFill>
        <p:spPr>
          <a:xfrm>
            <a:off x="6300720" y="26028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  <a:ea typeface="华文行楷"/>
              </a:rPr>
              <a:t>    </a:t>
            </a: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华文行楷"/>
              </a:rPr>
              <a:t>用诗意的语言描绘   一下你的梦境吧！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aerdaf43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379520" y="0"/>
            <a:ext cx="63849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一位老人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旅居国外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病魔缠身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95680" y="51055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Tahoma"/>
                <a:ea typeface="隶书"/>
              </a:rPr>
              <a:t>一个王国</a:t>
            </a:r>
            <a:r>
              <a:rPr b="0" lang="en-US" sz="4000" spc="-1" strike="noStrike">
                <a:solidFill>
                  <a:srgbClr val="99ccff"/>
                </a:solidFill>
                <a:latin typeface="Tahoma"/>
                <a:ea typeface="隶书"/>
              </a:rPr>
              <a:t>, </a:t>
            </a:r>
            <a:r>
              <a:rPr b="0" lang="zh-CN" sz="4000" spc="-1" strike="noStrike">
                <a:solidFill>
                  <a:srgbClr val="99ccff"/>
                </a:solidFill>
                <a:latin typeface="Tahoma"/>
                <a:ea typeface="隶书"/>
              </a:rPr>
              <a:t>青春美好</a:t>
            </a:r>
            <a:r>
              <a:rPr b="0" lang="en-US" sz="4000" spc="-1" strike="noStrike">
                <a:solidFill>
                  <a:srgbClr val="99ccff"/>
                </a:solidFill>
                <a:latin typeface="Tahoma"/>
                <a:ea typeface="隶书"/>
              </a:rPr>
              <a:t>,</a:t>
            </a:r>
            <a:r>
              <a:rPr b="0" lang="zh-CN" sz="4000" spc="-1" strike="noStrike">
                <a:solidFill>
                  <a:srgbClr val="99ccff"/>
                </a:solidFill>
                <a:latin typeface="Tahoma"/>
                <a:ea typeface="隶书"/>
              </a:rPr>
              <a:t>光明幸福</a:t>
            </a:r>
            <a:r>
              <a:rPr b="0" lang="en-US" sz="4000" spc="-1" strike="noStrike">
                <a:solidFill>
                  <a:srgbClr val="99ccff"/>
                </a:solidFill>
                <a:latin typeface="Tahoma"/>
                <a:ea typeface="隶书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0" y="620280"/>
            <a:ext cx="550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说梦是可望而不可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都说梦是可想而不可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但如果都心中有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何不做个追梦少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不管路途如何漫漫修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不管有怎样的狂风暴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暗礁险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请继续扬帆起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行楷"/>
              </a:rPr>
              <a:t>美梦一定成真！ 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266840" y="5097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ahoma"/>
                <a:ea typeface="宋体"/>
              </a:rPr>
              <a:t>追梦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我的未来不是梦片段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9401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tu2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400" spc="-1" strike="noStrike">
                <a:solidFill>
                  <a:srgbClr val="ff5151"/>
                </a:solidFill>
                <a:latin typeface="Tahoma"/>
              </a:rPr>
              <a:t>抢答竞猜</a:t>
            </a:r>
            <a:r>
              <a:rPr b="1" lang="en-US" sz="4400" spc="-1" strike="noStrike">
                <a:solidFill>
                  <a:srgbClr val="ff5151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ff5151"/>
                </a:solidFill>
                <a:latin typeface="Tahoma"/>
              </a:rPr>
              <a:t>他是谁 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76640"/>
            <a:ext cx="849780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他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欧洲俄罗斯的第一位小说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之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" y="3048120"/>
            <a:ext cx="86868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二、他的成名作是长篇小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宋体"/>
              </a:rPr>
              <a:t>猎人笔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，代表作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宋体"/>
              </a:rPr>
              <a:t>父与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7200" y="350028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托尔斯泰盛赞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他的风景描写，说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这是他的拿手本领，以致在他之后，没有人敢下手碰这样的对象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大自然。他两三笔一勾，大自然就发出芬芳的气息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tu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  <a:ea typeface="楷体_GB2312"/>
              </a:rPr>
              <a:t>你知道吗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  <a:ea typeface="楷体_GB2312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2209680"/>
            <a:ext cx="777528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</a:rPr>
              <a:t>散文诗：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是介于诗与散文之间的一个独立的文学样式，它有点像诗，具有诗的特质和神韵；又有散文的灵便和自由，是诗歌与散文相互渗透，巧妙结合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自由朗读课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要求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、读准字音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、感知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蔚蓝的王国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是怎样的一个世界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预习检测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9640" y="1916280"/>
            <a:ext cx="2592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  <a:ea typeface="楷体_GB2312"/>
              </a:rPr>
              <a:t>和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  <a:ea typeface="楷体_GB2312"/>
              </a:rPr>
              <a:t>酬唱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  <a:ea typeface="楷体_GB2312"/>
              </a:rPr>
              <a:t>潺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ahoma"/>
                <a:ea typeface="楷体_GB2312"/>
              </a:rPr>
              <a:t>咫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771640" y="177336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hé  xù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71640" y="2708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óu chàng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71640" y="3645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án chán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843280" y="4581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Z hǐ c hǐ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 rot="5400000">
            <a:off x="228240" y="-973080"/>
            <a:ext cx="86155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         </a:t>
            </a:r>
            <a:r>
              <a:rPr b="0" lang="zh-CN" sz="96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梦</a:t>
            </a:r>
            <a:endParaRPr b="0" lang="en-US" sz="96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蔚蓝的王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700280"/>
            <a:ext cx="8291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  <a:ea typeface="华文行楷"/>
              </a:rPr>
              <a:t>     </a:t>
            </a:r>
            <a:r>
              <a:rPr b="0" lang="en-US" sz="5400" spc="-1" strike="noStrike" u="sng">
                <a:solidFill>
                  <a:srgbClr val="ff9900"/>
                </a:solidFill>
                <a:uFillTx/>
                <a:latin typeface="Tahoma"/>
                <a:ea typeface="华文行楷"/>
                <a:hlinkClick r:id="rId2"/>
              </a:rPr>
              <a:t> </a:t>
            </a:r>
            <a:r>
              <a:rPr b="0" lang="zh-CN" sz="6000" spc="-1" strike="noStrike" u="sng">
                <a:solidFill>
                  <a:srgbClr val="ff9900"/>
                </a:solidFill>
                <a:uFillTx/>
                <a:latin typeface="Tahoma"/>
                <a:ea typeface="华文行楷"/>
                <a:hlinkClick r:id="rId3"/>
              </a:rPr>
              <a:t>读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行楷"/>
              </a:rPr>
              <a:t>           </a:t>
            </a:r>
            <a:r>
              <a:rPr b="0" lang="zh-CN" sz="6000" spc="-1" strike="noStrike" u="sng">
                <a:solidFill>
                  <a:srgbClr val="ff9900"/>
                </a:solidFill>
                <a:uFillTx/>
                <a:latin typeface="Tahoma"/>
                <a:ea typeface="华文行楷"/>
                <a:hlinkClick r:id="rId4"/>
              </a:rPr>
              <a:t>品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行楷"/>
              </a:rPr>
              <a:t>                 </a:t>
            </a:r>
            <a:r>
              <a:rPr b="0" lang="zh-CN" sz="6000" spc="-1" strike="noStrike" u="sng">
                <a:solidFill>
                  <a:srgbClr val="ff9900"/>
                </a:solidFill>
                <a:uFillTx/>
                <a:latin typeface="Tahoma"/>
                <a:ea typeface="华文行楷"/>
                <a:hlinkClick r:id="rId5"/>
              </a:rPr>
              <a:t>悟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行楷"/>
              </a:rPr>
              <a:t>                      </a:t>
            </a:r>
            <a:r>
              <a:rPr b="0" lang="zh-CN" sz="6000" spc="-1" strike="noStrike" u="sng">
                <a:solidFill>
                  <a:srgbClr val="ff9900"/>
                </a:solidFill>
                <a:uFillTx/>
                <a:latin typeface="Tahoma"/>
                <a:ea typeface="华文行楷"/>
                <a:hlinkClick r:id="rId6"/>
              </a:rPr>
              <a:t>追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行楷"/>
              </a:rPr>
              <a:t>         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5:24:28Z</dcterms:created>
  <dc:creator/>
  <dc:description>第一PPT模板网-WWW.1PPT.COM
</dc:description>
  <dc:language>en-US</dc:language>
  <cp:lastModifiedBy>Administrator</cp:lastModifiedBy>
  <dcterms:modified xsi:type="dcterms:W3CDTF">2017-08-03T01:36:10Z</dcterms:modified>
  <cp:revision>22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