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8.jpeg" ContentType="image/jpeg"/>
  <Override PartName="/ppt/media/image7.gif" ContentType="image/gif"/>
  <Override PartName="/ppt/media/image5.jpeg" ContentType="image/jpeg"/>
  <Override PartName="/ppt/media/image6.gif" ContentType="image/gif"/>
  <Override PartName="/ppt/media/image4.jpeg" ContentType="image/jpeg"/>
  <Override PartName="/ppt/media/image16.gif" ContentType="image/gif"/>
  <Override PartName="/ppt/media/image15.gif" ContentType="image/gif"/>
  <Override PartName="/ppt/media/image11.jpeg" ContentType="image/jpeg"/>
  <Override PartName="/ppt/media/chimes.wav" ContentType="audio/x-wav"/>
  <Override PartName="/ppt/media/image13.gif" ContentType="image/gif"/>
  <Override PartName="/ppt/media/image9.gif" ContentType="image/gif"/>
  <Override PartName="/ppt/media/image14.gif" ContentType="image/gif"/>
  <Override PartName="/ppt/media/type.wav" ContentType="audio/x-wav"/>
  <Override PartName="/ppt/media/image1.jpeg" ContentType="image/jpeg"/>
  <Override PartName="/ppt/media/push.wav" ContentType="audio/x-wav"/>
  <Override PartName="/ppt/media/image2.jpeg" ContentType="image/jpeg"/>
  <Override PartName="/ppt/media/image3.jpeg" ContentType="image/jpeg"/>
  <Override PartName="/ppt/media/image12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CAB-C098-43F7-9C43-8AC6F457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A21D-3C05-4983-9E13-84BBC55B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F50-F4D7-4F7C-B875-6482DD0E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3E6-FC68-4036-AE9F-7DA4B646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4BBCF-23D7-442B-B590-7F7C08BD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91FEE-7E7E-4A06-985E-C8A61296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9E818-B65D-4051-A1FE-738D5855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18D5F-BDED-47F9-A3FF-6EC9B1F8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4A76E-1159-415A-AB93-B87CD501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16775-2AD7-46BE-8463-0499F305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10B67-BF01-4597-83E7-C6F098CE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ECCA-FC41-4857-B028-ACDB2107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CFBE2-AB20-4D3A-A562-12B47F2D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996F8-9071-4C00-AB26-CD3FBC25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3A2E7-18B8-47B5-9DEC-6BB1017B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E50F0-06F0-4772-83E3-6492756A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DE94A-57AF-4BD3-B40C-9D4A389E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726-C271-47B7-9BC0-8304FDF5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600-3A58-41BF-B4C7-B9F45157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6BF-94AE-470E-BBD6-D1774A01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06B-B077-4D36-9869-984F5C1D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D389-18DB-41B2-81CE-6FECE6A9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21D-18E9-4383-8042-0733837E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0FCA-F89C-4EC4-ADF1-A071E516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5b5b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2f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529ab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f5f87"/>
                </a:gs>
                <a:gs pos="100000">
                  <a:srgbClr val="1010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494977"/>
                </a:gs>
                <a:gs pos="100000">
                  <a:srgbClr val="1010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E841-7F36-4AE1-8333-A6E50B5DE58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5b5b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2f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529ab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f5f87"/>
                </a:gs>
                <a:gs pos="100000">
                  <a:srgbClr val="1010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494977"/>
                </a:gs>
                <a:gs pos="100000">
                  <a:srgbClr val="1010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6ccd4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7E42-30EE-43B2-8A4C-08C9DA07041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6ccd4"/>
                </a:solidFill>
                <a:latin typeface="华文琥珀"/>
                <a:ea typeface="华文琥珀"/>
              </a:rPr>
              <a:t>说说看</a:t>
            </a:r>
            <a:r>
              <a:rPr b="0" lang="zh-CN" sz="7200" spc="-1" strike="noStrike">
                <a:solidFill>
                  <a:srgbClr val="c6ccd4"/>
                </a:solidFill>
                <a:latin typeface="华文琥珀"/>
                <a:ea typeface="华文琥珀"/>
              </a:rPr>
              <a:t>:</a:t>
            </a:r>
            <a:endParaRPr b="0" lang="en-US" sz="72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6ccd4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ff33"/>
                </a:solidFill>
                <a:latin typeface="华文隶书"/>
                <a:ea typeface="华文隶书"/>
              </a:rPr>
              <a:t>你心目中的男子汉是什么样子的</a:t>
            </a:r>
            <a:r>
              <a:rPr b="0" lang="zh-CN" sz="6000" spc="-1" strike="noStrike">
                <a:solidFill>
                  <a:srgbClr val="66ff33"/>
                </a:solidFill>
                <a:latin typeface="华文隶书"/>
                <a:ea typeface="华文隶书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71640" y="836640"/>
            <a:ext cx="30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开头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2924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515772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结束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90792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529ab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4529ab"/>
                </a:solidFill>
                <a:latin typeface="Arial"/>
              </a:rPr>
              <a:t>交代写作对象（姐姐的孩子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2133720"/>
            <a:ext cx="215640" cy="2663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01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87640" y="184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529ab"/>
                </a:solidFill>
                <a:latin typeface="Arial"/>
              </a:rPr>
              <a:t>他对食物的兴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87640" y="249228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529ab"/>
                </a:solidFill>
                <a:latin typeface="Arial"/>
              </a:rPr>
              <a:t>他对父亲的崇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31417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529ab"/>
                </a:solidFill>
                <a:latin typeface="Arial"/>
              </a:rPr>
              <a:t>他对独立的要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3789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529ab"/>
                </a:solidFill>
                <a:latin typeface="Arial"/>
              </a:rPr>
              <a:t>他的眼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87640" y="4437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529ab"/>
                </a:solidFill>
                <a:latin typeface="Arial"/>
              </a:rPr>
              <a:t>他面对生活挑战的沉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16360" y="52293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529ab"/>
                </a:solidFill>
                <a:latin typeface="Arial"/>
              </a:rPr>
              <a:t>抒发感受（点题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236000" y="3716280"/>
            <a:ext cx="1566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隶书"/>
              </a:rPr>
              <a:t>积累感悟</a:t>
            </a:r>
            <a:endParaRPr b="0" lang="en-US" sz="5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6ccd4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小男孩性格如此鲜明</a:t>
            </a:r>
            <a:r>
              <a:rPr b="0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,</a:t>
            </a:r>
            <a:r>
              <a:rPr b="0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得益于作者生动的描写</a:t>
            </a:r>
            <a:r>
              <a:rPr b="0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,</a:t>
            </a:r>
            <a:r>
              <a:rPr b="0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你认为文章最生动、最感人的地方在那里？在书上划出你认为幽默、生动、风趣、含蓄的语言，做简单的赏析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延伸拓展</a:t>
            </a:r>
            <a:endParaRPr b="0" lang="en-US" sz="60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文中的小男孩很容易勾起我们对童年的回忆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回忆一下你小时候堪称男子汉或女强人的事情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说出来跟我们一起分享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4191120"/>
            <a:ext cx="1301760" cy="2666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916760" y="4343400"/>
            <a:ext cx="122724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 flipH="1" rot="10800000">
            <a:off x="826920" y="1269720"/>
            <a:ext cx="4321440" cy="69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76360" y="40464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合作  探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1484280"/>
            <a:ext cx="889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29ab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4529ab"/>
                </a:solidFill>
                <a:latin typeface="Arial"/>
              </a:rPr>
              <a:t>大家看下列人物的行为是否属于男子汉的行为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29ab"/>
                </a:solidFill>
                <a:latin typeface="Arial"/>
              </a:rPr>
              <a:t>你是否对男子汉的内涵有了新的认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29ab"/>
                </a:solidFill>
                <a:latin typeface="Arial"/>
              </a:rPr>
              <a:t>     ★</a:t>
            </a:r>
            <a:r>
              <a:rPr b="1" lang="zh-CN" sz="2800" spc="-1" strike="noStrike">
                <a:solidFill>
                  <a:srgbClr val="4529ab"/>
                </a:solidFill>
                <a:latin typeface="Arial"/>
              </a:rPr>
              <a:t>南京有一位叫汪侠的老人七十多岁了还连续两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29ab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4529ab"/>
                </a:solidFill>
                <a:latin typeface="Arial"/>
              </a:rPr>
              <a:t>年参加高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29ab"/>
                </a:solidFill>
                <a:latin typeface="Arial"/>
              </a:rPr>
              <a:t>     ★</a:t>
            </a:r>
            <a:r>
              <a:rPr b="1" lang="zh-CN" sz="2800" spc="-1" strike="noStrike">
                <a:solidFill>
                  <a:srgbClr val="4529ab"/>
                </a:solidFill>
                <a:latin typeface="Arial"/>
              </a:rPr>
              <a:t>少年英雄赖宁为了公共财产不惜牺牲年轻的生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29ab"/>
                </a:solidFill>
                <a:latin typeface="Arial"/>
              </a:rPr>
              <a:t>     ★</a:t>
            </a:r>
            <a:r>
              <a:rPr b="1" lang="zh-CN" sz="2800" spc="-1" strike="noStrike">
                <a:solidFill>
                  <a:srgbClr val="4529ab"/>
                </a:solidFill>
                <a:latin typeface="Arial"/>
              </a:rPr>
              <a:t>航天英雄杨利伟成为中国第一位太空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29ab"/>
                </a:solidFill>
                <a:latin typeface="Arial"/>
              </a:rPr>
              <a:t>     ★</a:t>
            </a:r>
            <a:r>
              <a:rPr b="1" lang="zh-CN" sz="2800" spc="-1" strike="noStrike">
                <a:solidFill>
                  <a:srgbClr val="4529ab"/>
                </a:solidFill>
                <a:latin typeface="Arial"/>
              </a:rPr>
              <a:t>掏粪工人时传祥曾接受过刘少奇的接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29ab"/>
                </a:solidFill>
                <a:latin typeface="Arial"/>
              </a:rPr>
              <a:t>     ★</a:t>
            </a:r>
            <a:r>
              <a:rPr b="1" lang="zh-CN" sz="2800" spc="-1" strike="noStrike">
                <a:solidFill>
                  <a:srgbClr val="4529ab"/>
                </a:solidFill>
                <a:latin typeface="Arial"/>
              </a:rPr>
              <a:t>清洁工人每天起早摸黑维护我们这个城市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29ab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4529ab"/>
                </a:solidFill>
                <a:latin typeface="Arial"/>
              </a:rPr>
              <a:t>卫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29ab"/>
                </a:solidFill>
                <a:latin typeface="Arial"/>
              </a:rPr>
              <a:t>　           …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92360" y="47628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</a:rPr>
              <a:t>布置作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220500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．把你小时候称得上是男子汉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的壮举用生动、幽默的话写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出来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．用生动幽默的语言写写班里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男子汉和非男子汉的行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4734000" cy="1238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443640" y="333360"/>
            <a:ext cx="1944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333360"/>
            <a:ext cx="762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Times New Roman"/>
              </a:rPr>
              <a:t>健壮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8360" y="549360"/>
            <a:ext cx="38862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ff66"/>
                </a:solidFill>
                <a:latin typeface="Times New Roman"/>
              </a:rPr>
              <a:t>积极进取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836640"/>
            <a:ext cx="12193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cc33"/>
                </a:solidFill>
                <a:latin typeface="Times New Roman"/>
              </a:rPr>
              <a:t>刚强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457200"/>
            <a:ext cx="9144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200" spc="-1" strike="noStrike">
                <a:solidFill>
                  <a:srgbClr val="8b74de"/>
                </a:solidFill>
                <a:latin typeface="Times New Roman"/>
              </a:rPr>
              <a:t>勇</a:t>
            </a:r>
            <a:r>
              <a:rPr b="1" lang="zh-CN" sz="6200" spc="-1" strike="noStrike">
                <a:solidFill>
                  <a:srgbClr val="9580e0"/>
                </a:solidFill>
                <a:latin typeface="Times New Roman"/>
              </a:rPr>
              <a:t>敢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3500280"/>
            <a:ext cx="99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ff33"/>
                </a:solidFill>
                <a:latin typeface="Times New Roman"/>
              </a:rPr>
              <a:t>成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2060640"/>
            <a:ext cx="1143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66ff"/>
                </a:solidFill>
                <a:latin typeface="Times New Roman"/>
              </a:rPr>
              <a:t>自信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08360" y="1773360"/>
            <a:ext cx="9144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3300"/>
                </a:solidFill>
                <a:latin typeface="Times New Roman"/>
              </a:rPr>
              <a:t>乐观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16360" y="2565360"/>
            <a:ext cx="2195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c6ccd4"/>
                </a:solidFill>
                <a:latin typeface="Times New Roman"/>
              </a:rPr>
              <a:t>事业心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4000" y="4005360"/>
            <a:ext cx="16761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ffff99"/>
                </a:solidFill>
                <a:latin typeface="Times New Roman"/>
              </a:rPr>
              <a:t>沉着</a:t>
            </a:r>
            <a:endParaRPr b="0" lang="en-US" sz="5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3657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ff"/>
                </a:solidFill>
                <a:latin typeface="Times New Roman"/>
              </a:rPr>
              <a:t>高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37162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诚实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20000" y="2852640"/>
            <a:ext cx="212400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6600"/>
                </a:solidFill>
                <a:latin typeface="Times New Roman"/>
              </a:rPr>
              <a:t>自由</a:t>
            </a:r>
            <a:endParaRPr b="0" lang="en-US" sz="6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01320" y="4221000"/>
            <a:ext cx="16426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ff"/>
                </a:solidFill>
                <a:latin typeface="Arial"/>
              </a:rPr>
              <a:t>英俊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34936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99"/>
                </a:solidFill>
                <a:latin typeface="Arial"/>
              </a:rPr>
              <a:t>自主自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76360" y="549360"/>
            <a:ext cx="6408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我们家的男子汉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300720" y="23493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29ab"/>
                </a:solidFill>
                <a:latin typeface="Arial"/>
                <a:ea typeface="华文行楷"/>
              </a:rPr>
              <a:t>王安忆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908000" y="5734080"/>
            <a:ext cx="5257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19080">
                  <a:solidFill>
                    <a:srgbClr val="33ccff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江苏省响水中学   朱建海</a:t>
            </a:r>
            <a:endParaRPr b="0" lang="en-US" sz="1800" spc="1" strike="noStrike">
              <a:ln cap="rnd" w="19080">
                <a:solidFill>
                  <a:srgbClr val="33ccff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150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1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6ccd4"/>
                </a:solidFill>
                <a:latin typeface="Bernard MT Condensed"/>
                <a:ea typeface="黑体"/>
              </a:rPr>
              <a:t>走近作者</a:t>
            </a:r>
            <a:endParaRPr b="0" lang="en-US" sz="72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356000" y="1628640"/>
            <a:ext cx="4788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王安忆  上海人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发表处女作短篇小说《平原上》主要著作有《雨，沙沙沙》《王安忆短篇小说集》《流逝》……长篇小说《长恨歌》获茅盾文学奖。她的小说多以平凡的小人物为主人公，理解与爱是她的创作宗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692360" y="1773360"/>
            <a:ext cx="655308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0104c"/>
                </a:solidFill>
                <a:latin typeface="华文新魏"/>
                <a:ea typeface="华文新魏"/>
              </a:rPr>
              <a:t>学习目标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4c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10104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10104c"/>
                </a:solidFill>
                <a:latin typeface="华文新魏"/>
                <a:ea typeface="华文新魏"/>
              </a:rPr>
              <a:t>、分析文中“男子汉”的形象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4c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10104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10104c"/>
                </a:solidFill>
                <a:latin typeface="华文新魏"/>
                <a:ea typeface="华文新魏"/>
              </a:rPr>
              <a:t>、学习文章以人物特点分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4c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10104c"/>
                </a:solidFill>
                <a:latin typeface="华文新魏"/>
                <a:ea typeface="华文新魏"/>
              </a:rPr>
              <a:t>组织安排材料的方法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440" y="3729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华文琥珀"/>
              </a:rPr>
              <a:t>走近文本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1325520"/>
            <a:ext cx="3960720" cy="222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619280" y="476280"/>
            <a:ext cx="37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529ab"/>
                </a:solidFill>
                <a:latin typeface="Arial"/>
              </a:rPr>
              <a:t>预习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184464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你能读准下列字词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971640" y="2997360"/>
            <a:ext cx="7777080" cy="2010960"/>
            <a:chOff x="971640" y="2997360"/>
            <a:chExt cx="7777080" cy="2010960"/>
          </a:xfrm>
        </p:grpSpPr>
        <p:sp>
          <p:nvSpPr>
            <p:cNvPr id="151" name=""/>
            <p:cNvSpPr/>
            <p:nvPr/>
          </p:nvSpPr>
          <p:spPr>
            <a:xfrm>
              <a:off x="971640" y="2997360"/>
              <a:ext cx="24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3366"/>
                  </a:solidFill>
                  <a:latin typeface="Arial"/>
                </a:rPr>
                <a:t>风</a:t>
              </a:r>
              <a:r>
                <a:rPr b="0" lang="zh-CN" sz="3600" spc="-1" strike="noStrike">
                  <a:solidFill>
                    <a:srgbClr val="ff0000"/>
                  </a:solidFill>
                  <a:latin typeface="Arial"/>
                </a:rPr>
                <a:t>靡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00360" y="2997360"/>
              <a:ext cx="208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</a:rPr>
                <a:t>恍惚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27640" y="299736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</a:rPr>
                <a:t>嗫嚅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72360" y="2997360"/>
              <a:ext cx="172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</a:rPr>
                <a:t>倔强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71640" y="4365720"/>
              <a:ext cx="129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10104c"/>
                  </a:solidFill>
                  <a:latin typeface="Arial"/>
                </a:rPr>
                <a:t>胆</a:t>
              </a:r>
              <a:r>
                <a:rPr b="0" lang="zh-CN" sz="3600" spc="-1" strike="noStrike">
                  <a:solidFill>
                    <a:srgbClr val="ff0000"/>
                  </a:solidFill>
                  <a:latin typeface="Arial"/>
                </a:rPr>
                <a:t>怯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27640" y="3860640"/>
              <a:ext cx="194472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              </a:t>
              </a:r>
              <a:r>
                <a:rPr b="0" lang="zh-CN" sz="3600" spc="-1" strike="noStrike">
                  <a:solidFill>
                    <a:srgbClr val="ff0000"/>
                  </a:solidFill>
                  <a:latin typeface="Arial"/>
                </a:rPr>
                <a:t>沮</a:t>
              </a:r>
              <a:r>
                <a:rPr b="0" lang="zh-CN" sz="3600" spc="-1" strike="noStrike">
                  <a:solidFill>
                    <a:srgbClr val="10104c"/>
                  </a:solidFill>
                  <a:latin typeface="Arial"/>
                </a:rPr>
                <a:t>丧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00360" y="43657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</a:rPr>
                <a:t>嘱咐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72360" y="4365720"/>
              <a:ext cx="23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10104c"/>
                  </a:solidFill>
                  <a:latin typeface="Arial"/>
                </a:rPr>
                <a:t>轮</a:t>
              </a:r>
              <a:r>
                <a:rPr b="0" lang="zh-CN" sz="3600" spc="-1" strike="noStrike">
                  <a:solidFill>
                    <a:srgbClr val="ff0000"/>
                  </a:solidFill>
                  <a:latin typeface="Arial"/>
                </a:rPr>
                <a:t>廓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877080" y="112536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7020000" y="404640"/>
            <a:ext cx="122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加油啊！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6ccd4"/>
                </a:solidFill>
                <a:latin typeface="Arial"/>
                <a:ea typeface="华文隶书"/>
              </a:rPr>
              <a:t>整体感知</a:t>
            </a:r>
            <a:endParaRPr b="0" lang="en-US" sz="72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选择自己喜欢的方式朗读课文。思考文中那些地方可以看出一个几岁的小男孩是一个男子汉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116000" y="126828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隶书"/>
              </a:rPr>
              <a:t>逐渐成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95640" y="1268280"/>
            <a:ext cx="20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华文细黑"/>
              </a:rPr>
              <a:t>自主自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43640" y="1197000"/>
            <a:ext cx="24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刚强勇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07400" y="2624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0104c"/>
                </a:solidFill>
                <a:latin typeface="Arial"/>
              </a:rPr>
              <a:t>直面现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263700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挑战自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27147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天真幼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78680" y="4064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可爱沉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3672000" cy="216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4000" y="1844640"/>
            <a:ext cx="86040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请同学们在浏览课文的基础上</a:t>
            </a: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独立思考讨论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、你认为本文的</a:t>
            </a:r>
            <a:r>
              <a:rPr b="1" lang="zh-CN" sz="3600" spc="-1" strike="noStrike" u="sng">
                <a:solidFill>
                  <a:srgbClr val="10104c"/>
                </a:solidFill>
                <a:uFillTx/>
                <a:latin typeface="Arial"/>
              </a:rPr>
              <a:t>结构层次</a:t>
            </a: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是怎样的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、本文的</a:t>
            </a:r>
            <a:r>
              <a:rPr b="1" lang="zh-CN" sz="3600" spc="-1" strike="noStrike" u="sng">
                <a:solidFill>
                  <a:srgbClr val="10104c"/>
                </a:solidFill>
                <a:uFillTx/>
                <a:latin typeface="Arial"/>
              </a:rPr>
              <a:t>写作对象</a:t>
            </a: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是谁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、课文是从</a:t>
            </a:r>
            <a:r>
              <a:rPr b="1" lang="zh-CN" sz="3600" spc="-1" strike="noStrike" u="sng">
                <a:solidFill>
                  <a:srgbClr val="10104c"/>
                </a:solidFill>
                <a:uFillTx/>
                <a:latin typeface="Arial"/>
              </a:rPr>
              <a:t>哪几个方面</a:t>
            </a: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10104c"/>
                </a:solidFill>
                <a:latin typeface="Arial"/>
              </a:rPr>
              <a:t>描写他的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948360" y="4437000"/>
            <a:ext cx="1695600" cy="1905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6659640" y="3573360"/>
            <a:ext cx="1008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开动脑筋噢！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/>
          <p:nvPr/>
        </p:nvSpPr>
        <p:spPr>
          <a:xfrm>
            <a:off x="2270160" y="-442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华文隶书"/>
              </a:rPr>
              <a:t>文本探究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7T05:28:09Z</dcterms:created>
  <dc:creator>dww</dc:creator>
  <dc:description/>
  <dc:language>en-US</dc:language>
  <cp:lastModifiedBy>Name</cp:lastModifiedBy>
  <dcterms:modified xsi:type="dcterms:W3CDTF">2006-03-03T01:39:05Z</dcterms:modified>
  <cp:revision>5</cp:revision>
  <dc:subject/>
  <dc:title>幻灯片 1</dc:title>
</cp:coreProperties>
</file>