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E4E-50CC-4C87-BEF9-003B8C21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CD6-49D4-4E9D-ACC6-95C5304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2E0-55B0-4152-80A5-A95431E7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89A-20D7-428B-8556-3E8141B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09E1-27A7-4AF7-A0F9-9B481B2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F0B8-5B17-4326-9C14-3763FBE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CBDE-77B6-47A6-BD1A-8173332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FC9-28FF-466C-8860-716CDD80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F896-919E-49E0-8D92-032F658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A3BA-C539-45DE-9ABC-998C8D71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E57-F634-4FDF-B549-758A3D2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7FB-8859-460F-A856-F890554B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CCC0-4A0F-4AC6-9D79-4B77450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05C2-7819-46A4-8DDA-63EA20C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AFC6-3D44-42B9-804E-262938A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56AE-FC22-4053-84D2-26B4249F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533-0F4D-46EA-AAE7-A8BFBBD0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33F-22AE-4CE5-98E3-A21C44BC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241-6CD9-4D4D-9EB9-A07065F6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477-7D84-4A4B-886E-40C2A159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30B-A0B1-49ED-8342-817A1A6E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2CF-C48D-414F-B752-C8D2C77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AED-17F5-45B9-9AB5-AB81DEC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369-3D2F-4F84-A580-6855B4A2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9F3-9A88-4D8F-9765-8C8B17B55F8E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910-E8AA-4B6B-A837-8B2C5505C065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0" y="251424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 Narrow"/>
              </a:rPr>
              <a:t>                 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048120" y="4478400"/>
            <a:ext cx="2438280" cy="2379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621320" y="304920"/>
            <a:ext cx="3746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Times New Roman"/>
                <a:ea typeface="隶书"/>
              </a:rPr>
              <a:t>我很重要</a:t>
            </a:r>
            <a:endParaRPr b="0" lang="en-US" sz="1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97800" y="2057400"/>
            <a:ext cx="1642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毕淑敏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05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3760" y="-2971800"/>
            <a:ext cx="9096480" cy="12801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-533520" y="-23760"/>
            <a:ext cx="1013472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-331920"/>
            <a:ext cx="8839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毕淑敏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1952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年生于新疆，当代女作家，内科主治医师，北师大文学硕士。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1969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年入伍，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1980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年转业后回北京从事医学工作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20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年后 ，开始专业写作。共发表作品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200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多万字。曾获文学奖、百花奖等。著有《红处方》等作品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36504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关注自我、关爱他人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创造了人类的进步、和谐与幸福，奏响了一曲让世界充满爱的人性美之歌！                           年轻的朋友们，让我们重视自我 吧！因为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“我很重要”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！ 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-3049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一、</a:t>
            </a: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隶书"/>
              </a:rPr>
              <a:t>小小资料库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2076480"/>
            <a:ext cx="883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菽粟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shū  sù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回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溯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s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怅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然 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chàng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骤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zhò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寰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宇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huán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粗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糙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cā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濡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养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rú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                 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肋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骨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lè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一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沓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dá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杂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沓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tà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揿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qì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4920"/>
            <a:ext cx="2438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Times New Roman"/>
                <a:ea typeface="隶书"/>
              </a:rPr>
              <a:t>音</a:t>
            </a:r>
            <a:endParaRPr b="0" lang="en-US" sz="117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词语 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523880"/>
            <a:ext cx="87631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鬼斧神工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隶书"/>
              </a:rPr>
              <a:t>形容建筑雕塑等技艺的精巧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万劫不复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表示永远不能恢复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隶书"/>
              </a:rPr>
              <a:t>生死攸关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关系到人的生存和死亡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相濡以沫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喻在困境中用极其微弱的力量相互救助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920" y="1371600"/>
            <a:ext cx="883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隶书"/>
              </a:rPr>
              <a:t>二、</a:t>
            </a:r>
            <a:r>
              <a:rPr b="1" lang="zh-CN" sz="11700" spc="-1" strike="noStrike">
                <a:solidFill>
                  <a:srgbClr val="ff6600"/>
                </a:solidFill>
                <a:latin typeface="Times New Roman"/>
                <a:ea typeface="隶书"/>
              </a:rPr>
              <a:t>课文解析</a:t>
            </a:r>
            <a:endParaRPr b="0" lang="en-US" sz="117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905120" y="30492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304920"/>
            <a:ext cx="4800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生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人类进化中重要的一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生命诞生的偶然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关注自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25146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43828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父母的孤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伴侣的依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孩子的唯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朋友的相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事业的主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关爱他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04920"/>
            <a:ext cx="380880" cy="5638680"/>
          </a:xfrm>
          <a:custGeom>
            <a:avLst/>
            <a:gdLst>
              <a:gd name="textAreaLeft" fmla="*/ 0 w 380880"/>
              <a:gd name="textAreaRight" fmla="*/ 137520 w 38088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5560" y="1066680"/>
            <a:ext cx="15634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努力、奋斗、生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心灵对生命的允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1219320"/>
            <a:ext cx="152280" cy="3124080"/>
          </a:xfrm>
          <a:custGeom>
            <a:avLst/>
            <a:gdLst>
              <a:gd name="textAreaLeft" fmla="*/ 44640 w 152280"/>
              <a:gd name="textAreaRight" fmla="*/ 152640 w 152280"/>
              <a:gd name="textAreaTop" fmla="*/ 129960 h 3124080"/>
              <a:gd name="textAreaBottom" fmla="*/ 29941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0" y="1676520"/>
            <a:ext cx="729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很重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572000"/>
            <a:ext cx="0" cy="1981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553080"/>
            <a:ext cx="7772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229600" y="4724280"/>
            <a:ext cx="0" cy="1828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我发现、自我肯定、自我奉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8534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讨论</a:t>
            </a:r>
            <a:endParaRPr b="0" lang="en-US" sz="1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362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8800" spc="-1" strike="noStrike">
                <a:solidFill>
                  <a:srgbClr val="ff00ff"/>
                </a:solidFill>
                <a:latin typeface="隶书"/>
                <a:ea typeface="隶书"/>
              </a:rPr>
              <a:t>、读完本文你认为自己很重要吗？为什么？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0880" y="304920"/>
            <a:ext cx="8763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、在生活中有一些人喜欢以“自我为中心”为所欲为，一切从“我”出发。这种观点和课文“我很重要”一样吗？你是如何看待的？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6600"/>
                </a:solidFill>
                <a:latin typeface="Times New Roman"/>
                <a:ea typeface="隶书"/>
              </a:rPr>
              <a:t>四、让我们从画片中去感受每一个“我的重要”所绽放出的爱的旋律吧！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h1</cp:lastModifiedBy>
  <dcterms:modified xsi:type="dcterms:W3CDTF">2005-03-06T12:46:45Z</dcterms:modified>
  <cp:revision>5</cp:revision>
  <dc:subject/>
  <dc:title>                  </dc:title>
</cp:coreProperties>
</file>