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FF8B73-83B5-4089-933B-8634C2EB64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983EAE-7846-4BCC-9B13-D71026602E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D4747B-6E62-4282-8D04-459CB926B4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26E3FB-B13D-4F94-BB8E-CF871C7C11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E68AA5-9E96-4D59-9AC3-64070DD8B8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FF177F-7261-417A-981F-8F77F98573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B23FA4-DA32-4EBD-8192-31710499AA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864440-C700-4584-A53F-7B74E12E55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1B1618-9811-447A-8D2C-38825A2C02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A44364-BDB2-40E4-8998-4A3564F902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6F137B-7518-48FD-8D78-8703D174D9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2DC867-F7E0-41A9-A093-1755820FC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3DF2F4-2FCA-472C-9CAC-0C3514CB7F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13DF0D-B5E0-44CC-8A1A-70316CEFCD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61B6BE-C3D2-4507-AEEB-936A1FBA86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0D176E-727C-4557-ACCC-F0307E3108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A468FD-D926-4C55-9594-A0D51E2005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B6D196-0704-40F2-9C79-A6575D5D9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E88A98-3A60-4878-9425-A8A50EB29F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81CDC5-CD74-4A60-8FD2-FCA95941D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3B16BF-1282-45AA-B6B7-9955C7888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A9E2F-E39A-4E47-BDF8-FCA17490C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3ABC8-2C04-45AB-A584-D5290B65F2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CE7D3-ACB0-446C-AB8B-FD9EDC043A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35EA3-CF4F-4B17-A0CF-4281FE09F46A}"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43F26-1906-42D3-B850-A2F9BA45BA55}"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b7"/>
                </a:solidFill>
                <a:latin typeface="Arial Black"/>
              </a:rPr>
              <a:t>第</a:t>
            </a:r>
            <a:r>
              <a:rPr b="1" lang="zh-CN" sz="5400" spc="-1" strike="noStrike">
                <a:solidFill>
                  <a:srgbClr val="ffffb7"/>
                </a:solidFill>
                <a:latin typeface="Arial Black"/>
              </a:rPr>
              <a:t>1</a:t>
            </a:r>
            <a:r>
              <a:rPr b="1" lang="zh-CN" sz="5400" spc="-1" strike="noStrike">
                <a:solidFill>
                  <a:srgbClr val="ffffb7"/>
                </a:solidFill>
                <a:latin typeface="Arial Black"/>
              </a:rPr>
              <a:t>课   文化眼光</a:t>
            </a:r>
            <a:endParaRPr b="1" lang="en-US" sz="5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a:rPr>
              <a:t>教学目标</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1. </a:t>
            </a:r>
            <a:r>
              <a:rPr b="0" lang="zh-CN" sz="3200" spc="-1" strike="noStrike">
                <a:solidFill>
                  <a:srgbClr val="ffffff"/>
                </a:solidFill>
                <a:latin typeface="Arial"/>
              </a:rPr>
              <a:t>研读文本，抓住关键词句，理解“文化眼光”的含义。</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2. </a:t>
            </a:r>
            <a:r>
              <a:rPr b="0" lang="zh-CN" sz="3200" spc="-1" strike="noStrike">
                <a:solidFill>
                  <a:srgbClr val="ffffff"/>
                </a:solidFill>
                <a:latin typeface="Arial"/>
              </a:rPr>
              <a:t>体会散文“形散神聚”的特点，把握作者写此文的意图——我们需要文化眼光。</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66"/>
                </a:solidFill>
                <a:latin typeface="Arial"/>
              </a:rPr>
              <a:t>说明：</a:t>
            </a:r>
            <a:endParaRPr b="0" lang="en-US" sz="32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冯骥才的作品扎根于民间，来自于乡土，有浓浓的乡土味。１０余年前，冯骥才就开始关注现代化冲击下的都市个性的存亡，文化的市场化、文化的传媒化、文化的趋同化以及纯文化的命运。现在的他，深深地意识到构成中华文化半壁江山的博大精深的民间文化，不但未能得到系统整理，反而在现代化进程中还面临着消亡的危险。于是，他毫不犹豫地投入到保护文化遗产与抢救民间艺术的事业之中。冯骥才的《文化眼光》，作者对什么是文化、什么是文化眼光，做出了自己的解释，文章中未提“拯救传统文化、拯救民间文化”，教师应该引导学生去品味、揣摩作者的写该文的目的。</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a:rPr>
              <a:t>教学重点与难点</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1.  </a:t>
            </a:r>
            <a:r>
              <a:rPr b="0" lang="zh-CN" sz="3200" spc="-1" strike="noStrike">
                <a:solidFill>
                  <a:srgbClr val="ffffff"/>
                </a:solidFill>
                <a:latin typeface="Arial"/>
              </a:rPr>
              <a:t>重点：思考、探究拥有文化眼光的价值。</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2.  </a:t>
            </a:r>
            <a:r>
              <a:rPr b="0" lang="zh-CN" sz="3200" spc="-1" strike="noStrike">
                <a:solidFill>
                  <a:srgbClr val="ffffff"/>
                </a:solidFill>
                <a:latin typeface="Arial"/>
              </a:rPr>
              <a:t>难点：用自己所发现的事例来谈谈拥有文化眼光的好处。</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66"/>
                </a:solidFill>
                <a:latin typeface="Arial"/>
              </a:rPr>
              <a:t>说明：</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深入地沉浸到文本，分析文本，理解文化眼光的价值，但“纸上得来终觉浅”，初三的学生应该有以此及彼的能力，从生活中找找事例去体会拥有文化眼光的好处，从而更深入地理解本文的写作意义。</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837720" y="1905120"/>
            <a:ext cx="8007480" cy="4572000"/>
          </a:xfrm>
          <a:prstGeom prst="rect">
            <a:avLst/>
          </a:prstGeom>
          <a:noFill/>
          <a:ln w="0">
            <a:noFill/>
          </a:ln>
        </p:spPr>
        <p:txBody>
          <a:bodyPr lIns="90000" rIns="90000" tIns="46800" bIns="46800" anchor="t">
            <a:normAutofit/>
          </a:bodyPr>
          <a:p>
            <a:pPr marL="343080" indent="-343080">
              <a:lnSpc>
                <a:spcPct val="8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66"/>
                </a:solidFill>
                <a:latin typeface="Arial"/>
              </a:rPr>
              <a:t>教学过程</a:t>
            </a:r>
            <a:endParaRPr b="0" lang="en-US" sz="32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一、导入新课激发兴趣 </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1. </a:t>
            </a:r>
            <a:r>
              <a:rPr b="0" lang="zh-CN" sz="2000" spc="-1" strike="noStrike">
                <a:solidFill>
                  <a:srgbClr val="ffffff"/>
                </a:solidFill>
                <a:latin typeface="Arial"/>
              </a:rPr>
              <a:t>请同学们谈谈读余秋雨《文化苦旅</a:t>
            </a:r>
            <a:r>
              <a:rPr b="0" lang="zh-CN" sz="2000" spc="-1" strike="noStrike">
                <a:solidFill>
                  <a:srgbClr val="ffffff"/>
                </a:solidFill>
                <a:latin typeface="Arial"/>
              </a:rPr>
              <a:t>·</a:t>
            </a:r>
            <a:r>
              <a:rPr b="0" lang="zh-CN" sz="2000" spc="-1" strike="noStrike">
                <a:solidFill>
                  <a:srgbClr val="ffffff"/>
                </a:solidFill>
                <a:latin typeface="Arial"/>
              </a:rPr>
              <a:t>道士塔》的感受。（敦煌的莫高窟，曾经由一个没有文化的道士当家。当年，他对洞窟里的壁画有点不满，暗乎乎的，看着有点眼花，他想亮堂一点多好呢，他就用石灰细细刷墙，今天我们只能对他的无知表示痛恨、对那逝去的艺术深深惋惜。当年，他从外国冒险家手里接过极少的钱财，让他们把难以计数的敦煌文物一箱箱运走。今天，敦煌研究院的专家们只得一次次屈辱地从外国博物馆买取敦煌文献的微缩胶卷，叹息一声，走到放大机前。） </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2. </a:t>
            </a:r>
            <a:r>
              <a:rPr b="0" lang="zh-CN" sz="2000" spc="-1" strike="noStrike">
                <a:solidFill>
                  <a:srgbClr val="ffffff"/>
                </a:solidFill>
                <a:latin typeface="Arial"/>
              </a:rPr>
              <a:t>引导学生思考：为什么会发生这样的事？——  缺乏文化素养，缺乏文化眼光。</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今天我们学习当代作家冯骥才的散文《文化眼光》。</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默读圈划初步感知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阅读全文思考：</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1.  </a:t>
            </a:r>
            <a:r>
              <a:rPr b="0" lang="zh-CN" sz="3200" spc="-1" strike="noStrike">
                <a:solidFill>
                  <a:srgbClr val="ffffff"/>
                </a:solidFill>
                <a:latin typeface="Arial"/>
              </a:rPr>
              <a:t>什么是文化？</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2.  </a:t>
            </a:r>
            <a:r>
              <a:rPr b="0" lang="zh-CN" sz="3200" spc="-1" strike="noStrike">
                <a:solidFill>
                  <a:srgbClr val="ffffff"/>
                </a:solidFill>
                <a:latin typeface="Arial"/>
              </a:rPr>
              <a:t>什么是文化眼光？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思考探究揣摩意图 </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1. </a:t>
            </a:r>
            <a:r>
              <a:rPr b="0" lang="zh-CN" sz="2800" spc="-1" strike="noStrike">
                <a:solidFill>
                  <a:srgbClr val="ffffff"/>
                </a:solidFill>
                <a:latin typeface="Arial"/>
              </a:rPr>
              <a:t>探究文化眼光的价值</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2. </a:t>
            </a:r>
            <a:r>
              <a:rPr b="0" lang="zh-CN" sz="2800" spc="-1" strike="noStrike">
                <a:solidFill>
                  <a:srgbClr val="ffffff"/>
                </a:solidFill>
                <a:latin typeface="Arial"/>
              </a:rPr>
              <a:t>教师引导：文章为什么要提及柏林墙？除了告诉我们文化眼光要有一种文化远见和历史远见外，你还得到了什么启示？</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3. </a:t>
            </a:r>
            <a:r>
              <a:rPr b="0" lang="zh-CN" sz="2800" spc="-1" strike="noStrike">
                <a:solidFill>
                  <a:srgbClr val="ffffff"/>
                </a:solidFill>
                <a:latin typeface="Arial"/>
              </a:rPr>
              <a:t>教师展示一些急需拯救文化的照片，如：昆剧、京剧、石库门民居……</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请学生结合照片内容说说拥有了文化眼光的好处。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vy</cp:lastModifiedBy>
  <dcterms:modified xsi:type="dcterms:W3CDTF">2011-08-15T05:16:34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