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B6BEC-BC18-431E-87E3-E07A9E1DC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C2E8D-4738-429B-8997-14B6E3AEF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42535-408C-40C8-B937-4AA93F976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7CF8E-73A6-492C-812F-3C6FD2A6D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E0533-7D15-430E-8E83-D913DF882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788D8-0CB2-49FF-9419-6B9A8D3AF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CD028-1C7D-498B-8BC8-79E1783FE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A9866-BBC1-4E40-9864-B3E059885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31CA4-2BF1-45E0-AC77-8A43BD93B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E681A-2E44-4F3B-9F37-07FA687C9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836CA-CDF2-4194-A13C-BD579794A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124BA-D25A-4697-BE86-C57E0ED50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317F8-73A8-40C5-9814-ED3F02B0D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3C666-E678-4913-A577-333F84346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238DE-D38D-410E-9F9F-1C07026D3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B5F87-7511-407F-AEE8-A83F829E2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B2618-B4C8-445A-A796-FEFE29FB2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FB0D4-BC27-48BD-9B1C-D4E057015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7E44E-3DE5-42C9-835D-1DE6FF242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78658-3822-46D8-AE4C-959BEC89B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F87FE-E2B9-472A-A938-ED0FF279B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A6414-62EE-4486-8CD9-655AC85B4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27BA2-AE09-4F2D-980E-8EBC8EE2A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34FDE-F228-4E32-8E34-CC1C37C90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3C570-0EDE-4B5C-8D27-94DDB0535530}" type="slidenum"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072CF-236E-4070-9176-8E9E9D2E48FF}" type="slidenum"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baike.baidu.com/view/68644.htm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962160" y="1066320"/>
            <a:ext cx="4647960" cy="40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5796000" y="4005360"/>
            <a:ext cx="1728720" cy="124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米芾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00720" y="1341360"/>
            <a:ext cx="381636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望海楼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1680" y="549000"/>
            <a:ext cx="854064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66"/>
                </a:solidFill>
                <a:latin typeface="Arial"/>
              </a:rPr>
              <a:t>（</a:t>
            </a:r>
            <a:r>
              <a:rPr b="0" lang="zh-CN" sz="3200" spc="-1" strike="noStrike">
                <a:solidFill>
                  <a:srgbClr val="cc0066"/>
                </a:solidFill>
                <a:latin typeface="Arial"/>
              </a:rPr>
              <a:t>4</a:t>
            </a:r>
            <a:r>
              <a:rPr b="0" lang="zh-CN" sz="3200" spc="-1" strike="noStrike">
                <a:solidFill>
                  <a:srgbClr val="cc0066"/>
                </a:solidFill>
                <a:latin typeface="Arial"/>
              </a:rPr>
              <a:t>）这首诗的颈联多角度写景，请具体说明其中的两点。</a:t>
            </a:r>
            <a:br>
              <a:rPr sz="3200"/>
            </a:br>
            <a:r>
              <a:rPr b="0" lang="zh-CN" sz="3200" spc="-1" strike="noStrike">
                <a:solidFill>
                  <a:srgbClr val="cc0066"/>
                </a:solidFill>
                <a:latin typeface="Arial"/>
              </a:rPr>
              <a:t>①———————————————————</a:t>
            </a:r>
            <a:br>
              <a:rPr sz="3200"/>
            </a:br>
            <a:r>
              <a:rPr b="0" lang="zh-CN" sz="3200" spc="-1" strike="noStrike">
                <a:solidFill>
                  <a:srgbClr val="cc0066"/>
                </a:solidFill>
                <a:latin typeface="Arial"/>
              </a:rPr>
              <a:t>②——————————————————</a:t>
            </a:r>
            <a:endParaRPr b="0" lang="en-US" sz="32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24000" y="263664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【解答】 答案要点：①色彩 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( 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红、白 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)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， ②声音 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( 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画角 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)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， ③动态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( 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催、起 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) 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。</a:t>
            </a:r>
            <a:br>
              <a:rPr sz="2800"/>
            </a:b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【剖析】 本题考查学生分析鉴赏诗歌表达技巧的能力。颈联写登 高望远所见的景色，写到红日、白烟（色彩），写到画角的声响（声音），还写到了红日西 沉、白烟升腾时的动态（动态），构成了一幅隽美淡远的美丽图景。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304560" y="549360"/>
            <a:ext cx="5562360" cy="59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米芾，中国北宋</a:t>
            </a:r>
            <a:r>
              <a:rPr b="0" lang="zh-CN" sz="3200" spc="-1" strike="noStrike" u="sng">
                <a:solidFill>
                  <a:srgbClr val="cc0066"/>
                </a:solidFill>
                <a:uFillTx/>
                <a:latin typeface="Arial"/>
                <a:hlinkClick r:id="rId2"/>
              </a:rPr>
              <a:t>书法家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，画家，书画理论家。祖籍太原，迁居襄阳。天资高迈、人物萧散，好洁成癖。被服效唐人，多蓄奇石。世号米颠。书画自成一家。精于鉴别。曾任校书郎、书画博士、礼部员外郎。善诗，工书法，擅篆、隶、楷、行、草等书体，长于临摹古人书法，达到乱真程度。宋四家之一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5940360" y="549360"/>
            <a:ext cx="2879640" cy="59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6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304920" y="836280"/>
            <a:ext cx="854064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                            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望 海 楼①</a:t>
            </a:r>
            <a:br>
              <a:rPr sz="3200"/>
            </a:b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                                              米 芾</a:t>
            </a:r>
            <a:br>
              <a:rPr sz="3200"/>
            </a:b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云间铁瓮②近青天，缥缈飞楼百尺连。</a:t>
            </a:r>
            <a:br>
              <a:rPr sz="3200"/>
            </a:b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三峡江声流笔底， 六朝帆影落樽前。</a:t>
            </a:r>
            <a:br>
              <a:rPr sz="3200"/>
            </a:b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几番画角催红日，无事沧洲③起白烟。</a:t>
            </a:r>
            <a:br>
              <a:rPr sz="3200"/>
            </a:b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忽忆赏心何处是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? 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春风秋月两茫然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〔注〕 ①望海楼：宋时在镇江城内。②铁瓮：镇江古有“铁瓮城”之 称。③沧 洲：滨水的地方。</a:t>
            </a:r>
            <a:br>
              <a:rPr sz="3200"/>
            </a:b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71640" y="685800"/>
            <a:ext cx="324000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翻译：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4000" y="1530000"/>
            <a:ext cx="854064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铁瓮城高耸入云，邻近青天，白尺高的望海楼好像飞上了铁瓮城与青天相连。挥毫赋诗时江水携带着涛声流到了笔下，不禁想起了三峡，举杯豪饮时点点帆影映入了酒杯，令人思念六朝。一阵阵号角声好像催促太阳落山，江面上无缘无故升腾起白色雾气。坎坷的往事忽然涌上心头，哪里的景色能让我赏心悦目呢？不论面对春风还是面对秋月，我的心头却感到茫然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304920" y="764640"/>
            <a:ext cx="854064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首联是主画面——望海楼。为了衬托望海楼之高，先写镇江城，“云间”和“近青天”极写其高峻，这就为百尺望海危楼打下坚实的基础。楼而能飞，是因为屋檐翘起，如五色雉飞翔，“缥缈”则有仙境的意味。 颔联写近景——长江，是这首诗中最精彩的一联。诗人好象是一边喝酒，一边画画，一边吟诗，长江夹着三峡的涛声从笔底流过，杯中六朝的帆影连同酒一起喝下，不禁诗画之兴大作，一边画出片片白帆，一边吟出这句诗。 颈联写远景——红日、白烟。夕阳在呜呜的画角的催促下渐渐下沉，远处幽静的江边弥漫着白烟。这里不乏有“长河落日圆”和“烟波江上使人愁”的意境。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680" y="-360"/>
            <a:ext cx="8540640" cy="24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0066"/>
                </a:solidFill>
                <a:latin typeface="Arial"/>
              </a:rPr>
              <a:t>1</a:t>
            </a:r>
            <a:r>
              <a:rPr b="0" lang="zh-CN" sz="3600" spc="-1" strike="noStrike">
                <a:solidFill>
                  <a:srgbClr val="cc0066"/>
                </a:solidFill>
                <a:latin typeface="Arial"/>
              </a:rPr>
              <a:t>）本诗所咏的是望海楼，却先写铁瓮矗立云间，邻近青天，作用是</a:t>
            </a:r>
            <a:r>
              <a:rPr b="0" lang="zh-CN" sz="3600" spc="-1" strike="noStrike">
                <a:solidFill>
                  <a:srgbClr val="cc0066"/>
                </a:solidFill>
                <a:latin typeface="Arial"/>
              </a:rPr>
              <a:t>_____________________________</a:t>
            </a:r>
            <a:endParaRPr b="0" lang="en-US" sz="36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4000" y="256500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【解答】 烘托望海楼的高峻。</a:t>
            </a:r>
            <a:br>
              <a:rPr sz="2800"/>
            </a:b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【剖析】 这是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2003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年上海高考试题。本题重在考查学生分析鉴赏诗歌表达技巧 的能力。由注解可知，“铁瓮” 即望海楼的所在地镇江的古称。诗歌以“望海楼”为题， 开篇却不直接写楼，而是先写楼所踞的城池，写铁瓮城高耸云间，临近青天；再写百尺高楼 盘踞其上，前后勾连，飘飘欲飞。这样可以进一步突出望海楼的高峻挺拔。</a:t>
            </a:r>
            <a:br>
              <a:rPr sz="2800"/>
            </a:b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24000" y="333360"/>
            <a:ext cx="854064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66"/>
                </a:solidFill>
                <a:latin typeface="Arial"/>
              </a:rPr>
              <a:t>（</a:t>
            </a:r>
            <a:r>
              <a:rPr b="0" lang="zh-CN" sz="3200" spc="-1" strike="noStrike">
                <a:solidFill>
                  <a:srgbClr val="cc0066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cc0066"/>
                </a:solidFill>
                <a:latin typeface="Arial"/>
              </a:rPr>
              <a:t>）本诗领联在两句之首分别冠以“三峡”、“六朝”，从</a:t>
            </a:r>
            <a:r>
              <a:rPr b="0" lang="zh-CN" sz="3200" spc="-1" strike="noStrike">
                <a:solidFill>
                  <a:srgbClr val="cc0066"/>
                </a:solidFill>
                <a:latin typeface="Arial"/>
              </a:rPr>
              <a:t>______________________</a:t>
            </a:r>
            <a:r>
              <a:rPr b="0" lang="zh-CN" sz="3200" spc="-1" strike="noStrike">
                <a:solidFill>
                  <a:srgbClr val="cc0066"/>
                </a:solidFill>
                <a:latin typeface="Arial"/>
              </a:rPr>
              <a:t>和</a:t>
            </a:r>
            <a:r>
              <a:rPr b="0" lang="zh-CN" sz="3200" spc="-1" strike="noStrike">
                <a:solidFill>
                  <a:srgbClr val="cc0066"/>
                </a:solidFill>
                <a:latin typeface="Arial"/>
              </a:rPr>
              <a:t>_______________________</a:t>
            </a:r>
            <a:r>
              <a:rPr b="0" lang="zh-CN" sz="3200" spc="-1" strike="noStrike">
                <a:solidFill>
                  <a:srgbClr val="cc0066"/>
                </a:solidFill>
                <a:latin typeface="Arial"/>
              </a:rPr>
              <a:t>两个方面拓展了诗歌的境界，增强了诗歌的气势。</a:t>
            </a:r>
            <a:r>
              <a:rPr b="0" lang="zh-CN" sz="3200" spc="-1" strike="noStrike">
                <a:solidFill>
                  <a:srgbClr val="007572"/>
                </a:solidFill>
                <a:latin typeface="Arial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24000" y="278100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【解答】 空间，时间。</a:t>
            </a:r>
            <a:br>
              <a:rPr sz="2800"/>
            </a:b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【剖析】 本题考查学生理解诗句中词语的能力。颔联两句写昼夜奔涌着的江水 发出的响声、穿行在江水之上的片片征帆，以及由此而引发的诗人独特的感想，都是诗人的 亲闻、亲见、亲感。加上“三峡”、“六朝”，使江声带着三峡的崔巍，帆影映着六朝的繁 荣，景和情就一下子就脱开了眼前的实境，空间和时间大大扩展。</a:t>
            </a:r>
            <a:br>
              <a:rPr sz="2800"/>
            </a:b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c0066"/>
                </a:solidFill>
                <a:latin typeface="Arial"/>
              </a:rPr>
              <a:t>（</a:t>
            </a:r>
            <a:r>
              <a:rPr b="0" lang="zh-CN" sz="3200" spc="-1" strike="noStrike">
                <a:solidFill>
                  <a:srgbClr val="cc0066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cc0066"/>
                </a:solidFill>
                <a:latin typeface="Arial"/>
              </a:rPr>
              <a:t>）对“三峡江声流笔底，六朝帆影落樽前” 的理解不确切的一项是 </a:t>
            </a:r>
            <a:r>
              <a:rPr b="0" lang="zh-CN" sz="3200" spc="-1" strike="noStrike">
                <a:solidFill>
                  <a:srgbClr val="cc0066"/>
                </a:solidFill>
                <a:latin typeface="Arial"/>
              </a:rPr>
              <a:t>( )</a:t>
            </a:r>
            <a:endParaRPr b="0" lang="en-US" sz="32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24000" y="24919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A. 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登楼望江，联想到了三峡的险峻。</a:t>
            </a:r>
            <a:br>
              <a:rPr sz="2400"/>
            </a:b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B. 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片片帆影，倒映在诗人的酒樽里。</a:t>
            </a:r>
            <a:br>
              <a:rPr sz="2400"/>
            </a:b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C. 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征帆流舸，激起诗人饮酒的豪情。</a:t>
            </a:r>
            <a:br>
              <a:rPr sz="2400"/>
            </a:b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D. 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涛声阵阵，引发诗人作诗的雅兴。</a:t>
            </a:r>
            <a:br>
              <a:rPr sz="2400"/>
            </a:b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【解答】 本题正确答案为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B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项。</a:t>
            </a:r>
            <a:br>
              <a:rPr sz="2400"/>
            </a:b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【剖析】 本题考查学生理解诗句的能力。望海楼下临大江，昼夜奔涌的江水发出的声音，传到诗人的 耳际，触发了诗人挥笔作诗的雅兴，但诗人却说江声流到了笔底；江上片片征帆映入眼帘， 又引起了举樽饮酒的豪情，但诗人却说帆影落到樽前，可谓妙趣横生。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B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项完全是望文生义 。</a:t>
            </a:r>
            <a:br>
              <a:rPr sz="2400"/>
            </a:b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5T02:55:24Z</dcterms:created>
  <dc:creator>www.1kejian.com</dc:creator>
  <dc:description>www.1kejian.com</dc:description>
  <dc:language>en-US</dc:language>
  <cp:lastModifiedBy>User</cp:lastModifiedBy>
  <dcterms:modified xsi:type="dcterms:W3CDTF">2012-12-12T04:37:01Z</dcterms:modified>
  <cp:revision>9</cp:revision>
  <dc:subject>www.1kejian.com第一课件网</dc:subject>
  <dc:title>www.1kejian.com第一课件网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4002000000000001024120</vt:lpwstr>
  </property>
</Properties>
</file>