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38.wmf" ContentType="image/x-wmf"/>
  <Override PartName="/ppt/media/image34.wmf" ContentType="image/x-wmf"/>
  <Override PartName="/ppt/media/image11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36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4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presProps" Target="presProps.xml"/><Relationship Id="rId72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2-03-28T09:30:40.726000000" idx="1">
    <p:pos x="2760" y="895"/>
    <p:text/>
  </p:cm>
</p:cmLst>
</file>

<file path=ppt/comments/comment8.xml><?xml version="1.0" encoding="utf-8"?>
<p:cmLst xmlns:p="http://schemas.openxmlformats.org/presentationml/2006/main">
  <p:cm authorId="0" dt="2012-03-28T09:31:06.942000000" idx="2">
    <p:pos x="2630" y="88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1760" y="647064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5520" y="654516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12760" y="6475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647532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64753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3880" y="1546200"/>
            <a:ext cx="664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望海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560" y="1557360"/>
            <a:ext cx="4381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560" y="1557360"/>
            <a:ext cx="4381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560" y="1557360"/>
            <a:ext cx="43815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560" y="1557360"/>
            <a:ext cx="43815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552680"/>
            <a:ext cx="22226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派太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富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安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祥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市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3440" y="1824120"/>
            <a:ext cx="401760" cy="3465360"/>
          </a:xfrm>
          <a:custGeom>
            <a:avLst/>
            <a:gdLst>
              <a:gd name="textAreaLeft" fmla="*/ 256680 w 401760"/>
              <a:gd name="textAreaRight" fmla="*/ 402120 w 401760"/>
              <a:gd name="textAreaTop" fmla="*/ 90360 h 3465360"/>
              <a:gd name="textAreaBottom" fmla="*/ 3375000 h 34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442280" y="2262240"/>
            <a:ext cx="1216080" cy="2670120"/>
          </a:xfrm>
          <a:prstGeom prst="rect">
            <a:avLst/>
          </a:prstGeom>
          <a:solidFill>
            <a:srgbClr val="99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552680"/>
            <a:ext cx="22226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派太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富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安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祥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市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97720" y="2409840"/>
            <a:ext cx="1451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惊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赞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艳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3440" y="1824120"/>
            <a:ext cx="401760" cy="3465360"/>
          </a:xfrm>
          <a:custGeom>
            <a:avLst/>
            <a:gdLst>
              <a:gd name="textAreaLeft" fmla="*/ 256680 w 401760"/>
              <a:gd name="textAreaRight" fmla="*/ 402120 w 401760"/>
              <a:gd name="textAreaTop" fmla="*/ 90360 h 3465360"/>
              <a:gd name="textAreaBottom" fmla="*/ 3375000 h 34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51160" y="1509840"/>
            <a:ext cx="3960720" cy="93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51160" y="1509840"/>
            <a:ext cx="3960720" cy="93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58920" y="2708280"/>
            <a:ext cx="70610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351160" y="1509840"/>
            <a:ext cx="3960720" cy="93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2708280"/>
            <a:ext cx="70610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抽象的评点（总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507000" y="1989000"/>
            <a:ext cx="2346480" cy="4135680"/>
          </a:xfrm>
          <a:prstGeom prst="rect">
            <a:avLst/>
          </a:prstGeom>
          <a:ln w="28440">
            <a:solidFill>
              <a:srgbClr val="3cb1c8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755640" y="9079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9760" y="319248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城市风光宁静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9760" y="4718160"/>
            <a:ext cx="39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楼阁错落人烟稠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9760" y="3954600"/>
            <a:ext cx="42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家家户户安居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2680" y="938160"/>
            <a:ext cx="84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烟柳画桥，风帘翠幕，参差十万人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3080" y="1638360"/>
            <a:ext cx="434880" cy="1439640"/>
          </a:xfrm>
          <a:prstGeom prst="downArrow">
            <a:avLst>
              <a:gd name="adj1" fmla="val 50000"/>
              <a:gd name="adj2" fmla="val 82761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27400" y="4051440"/>
            <a:ext cx="831960" cy="433080"/>
          </a:xfrm>
          <a:prstGeom prst="rightArrow">
            <a:avLst>
              <a:gd name="adj1" fmla="val 50000"/>
              <a:gd name="adj2" fmla="val 48026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0440" y="3684600"/>
            <a:ext cx="121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都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51160" y="1509840"/>
            <a:ext cx="3960720" cy="93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2708280"/>
            <a:ext cx="706104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抽象的评点（总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具体的描述（分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16680" y="54756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2637000"/>
            <a:ext cx="3954600" cy="2558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1311120" cy="1096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116680" y="54756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2637000"/>
            <a:ext cx="3954600" cy="2558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1225800" cy="1096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1311120" cy="1096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116680" y="54756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3560" y="544680"/>
            <a:ext cx="290340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2920" y="2343240"/>
            <a:ext cx="4098960" cy="29908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867280" y="3484440"/>
            <a:ext cx="1311480" cy="1096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713560" y="544680"/>
            <a:ext cx="290340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343240"/>
            <a:ext cx="4098960" cy="29908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867280" y="4995720"/>
            <a:ext cx="1225800" cy="109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867280" y="3484440"/>
            <a:ext cx="131148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713560" y="544680"/>
            <a:ext cx="290340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347184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23720" y="4435560"/>
            <a:ext cx="259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钱塘江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汹涌壮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0600" y="8431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云树绕堤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600" y="14778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怒涛卷霜雪，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天堑无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00240" y="288144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4653000"/>
            <a:ext cx="431640" cy="1490760"/>
          </a:xfrm>
          <a:custGeom>
            <a:avLst/>
            <a:gdLst>
              <a:gd name="textAreaLeft" fmla="*/ 0 w 431640"/>
              <a:gd name="textAreaRight" fmla="*/ 155880 w 431640"/>
              <a:gd name="textAreaTop" fmla="*/ 38880 h 1490760"/>
              <a:gd name="textAreaBottom" fmla="*/ 1451880 h 14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1440" y="4832280"/>
            <a:ext cx="728640" cy="459000"/>
          </a:xfrm>
          <a:prstGeom prst="rightArrow">
            <a:avLst>
              <a:gd name="adj1" fmla="val 50000"/>
              <a:gd name="adj2" fmla="val 39686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52840" y="333360"/>
            <a:ext cx="4418280" cy="5689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65520" y="380880"/>
            <a:ext cx="4464360" cy="5518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492800" y="333360"/>
            <a:ext cx="4606920" cy="6121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06880" y="4506840"/>
            <a:ext cx="98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形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4040280"/>
            <a:ext cx="7932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具体对西湖的描写。居民区繁华，钱塘壮丽，国富民安，西湖繁华，长官威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347184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0120" y="2419200"/>
            <a:ext cx="783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铺排，铺陈和排比的简称。多见于古体诗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运用叠句的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使句式反复、对称而又富于变化，在诗歌中主要起渲染烘托气氛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40000" y="1197000"/>
            <a:ext cx="396072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41800" y="1168560"/>
            <a:ext cx="2663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27008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十三能织素，十四学裁衣。十五弹箜篌，十六诵诗书。十七为君妇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心中常苦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9160" y="3887640"/>
            <a:ext cx="7656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妾有绣腰襦，葳蕤自生光；红罗复斗帐，四角垂香囊；箱帘六七十，绿碧青丝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物物各自异，种种在其中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127008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十三能织素，十四学裁衣。十五弹箜篌，十六诵诗书。十七为君妇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心中常苦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6520" y="1222200"/>
            <a:ext cx="8086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烟柳画桥，风帘翠幕，参差十万人家。云树绕堤沙。怒涛卷霜雪，天堑无涯。市列珠玑，户盈罗绮，竞豪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6520" y="1222200"/>
            <a:ext cx="8086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烟柳画桥，风帘翠幕，参差十万人家。云树绕堤沙。怒涛卷霜雪，天堑无涯。市列珠玑，户盈罗绮，竞豪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2760" y="4005360"/>
            <a:ext cx="768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弄晴，菱歌泛夜，嬉嬉钓叟莲娃。千骑拥高牙。乘醉听萧鼓，吟赏烟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8029440" y="5979960"/>
            <a:ext cx="866880" cy="598680"/>
          </a:xfrm>
          <a:custGeom>
            <a:avLst/>
            <a:gdLst>
              <a:gd name="textAreaLeft" fmla="*/ 38520 w 866880"/>
              <a:gd name="textAreaRight" fmla="*/ 828360 w 866880"/>
              <a:gd name="textAreaTop" fmla="*/ 38520 h 598680"/>
              <a:gd name="textAreaBottom" fmla="*/ 560160 h 598680"/>
            </a:gdLst>
            <a:ahLst/>
            <a:rect l="textAreaLeft" t="textAreaTop" r="textAreaRight" b="textAreaBottom"/>
            <a:pathLst>
              <a:path w="31271" h="21600">
                <a:moveTo>
                  <a:pt x="0" y="0"/>
                </a:moveTo>
                <a:lnTo>
                  <a:pt x="31271" y="0"/>
                </a:lnTo>
                <a:lnTo>
                  <a:pt x="31271" y="21600"/>
                </a:lnTo>
                <a:lnTo>
                  <a:pt x="0" y="21600"/>
                </a:lnTo>
                <a:close/>
              </a:path>
              <a:path fill="lightenLess" w="31271" h="21600">
                <a:moveTo>
                  <a:pt x="0" y="0"/>
                </a:moveTo>
                <a:lnTo>
                  <a:pt x="31271" y="0"/>
                </a:lnTo>
                <a:lnTo>
                  <a:pt x="29871" y="1400"/>
                </a:lnTo>
                <a:lnTo>
                  <a:pt x="1400" y="1400"/>
                </a:lnTo>
                <a:close/>
              </a:path>
              <a:path fill="darken" w="31271" h="21600">
                <a:moveTo>
                  <a:pt x="31271" y="0"/>
                </a:moveTo>
                <a:lnTo>
                  <a:pt x="31271" y="21600"/>
                </a:lnTo>
                <a:lnTo>
                  <a:pt x="29871" y="20200"/>
                </a:lnTo>
                <a:lnTo>
                  <a:pt x="29871" y="1400"/>
                </a:lnTo>
                <a:close/>
              </a:path>
              <a:path fill="darkenLess" w="31271" h="21600">
                <a:moveTo>
                  <a:pt x="31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71" y="20200"/>
                </a:lnTo>
                <a:close/>
              </a:path>
              <a:path fill="lighten" w="31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71" h="21600">
                <a:moveTo>
                  <a:pt x="8629" y="8406"/>
                </a:moveTo>
                <a:lnTo>
                  <a:pt x="13059" y="8406"/>
                </a:lnTo>
                <a:lnTo>
                  <a:pt x="17481" y="3794"/>
                </a:lnTo>
                <a:lnTo>
                  <a:pt x="17481" y="17806"/>
                </a:lnTo>
                <a:lnTo>
                  <a:pt x="13059" y="13194"/>
                </a:lnTo>
                <a:lnTo>
                  <a:pt x="8629" y="13194"/>
                </a:lnTo>
                <a:close/>
              </a:path>
              <a:path fill="darken" w="31271" h="21600">
                <a:moveTo>
                  <a:pt x="19134" y="10800"/>
                </a:moveTo>
                <a:lnTo>
                  <a:pt x="22642" y="10800"/>
                </a:lnTo>
              </a:path>
              <a:path fill="darken" w="31271" h="21600">
                <a:moveTo>
                  <a:pt x="19134" y="8406"/>
                </a:moveTo>
                <a:lnTo>
                  <a:pt x="22642" y="5639"/>
                </a:lnTo>
              </a:path>
              <a:path fill="darken" w="31271" h="21600">
                <a:moveTo>
                  <a:pt x="19134" y="13194"/>
                </a:moveTo>
                <a:lnTo>
                  <a:pt x="22642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74960" y="0"/>
            <a:ext cx="4976640" cy="6858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3233880" y="5516640"/>
            <a:ext cx="865080" cy="1125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553080" y="181080"/>
            <a:ext cx="1071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976640" y="1720800"/>
            <a:ext cx="3856320" cy="4473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302" name=""/>
          <p:cNvSpPr/>
          <p:nvPr/>
        </p:nvSpPr>
        <p:spPr>
          <a:xfrm>
            <a:off x="366840" y="574560"/>
            <a:ext cx="85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雨霖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原于唐玄宗与杨贵妃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9840" y="1666800"/>
            <a:ext cx="4365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马嵬兵变后，杨贵妃缢死，在平定叛乱之后，玄宗北还，一路戚雨沥沥，风雨吹打皇鸾的金铃上。玄宗触景生情，甚是思念贵妃，遂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雨霖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一曲，以寄恨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520" y="1674720"/>
            <a:ext cx="4514760" cy="452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97080" y="0"/>
            <a:ext cx="4977000" cy="6858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306" name=""/>
          <p:cNvSpPr/>
          <p:nvPr/>
        </p:nvSpPr>
        <p:spPr>
          <a:xfrm>
            <a:off x="3456000" y="5516640"/>
            <a:ext cx="865080" cy="1125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隶书"/>
              </a:rPr>
              <a:t>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26720" y="18082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25480" y="1957320"/>
            <a:ext cx="0" cy="2851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5480" y="1957320"/>
            <a:ext cx="0" cy="2851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553080" y="181080"/>
            <a:ext cx="1071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54120" y="89532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市列珠玑，户盈罗绮，竞豪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95640" y="134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8520" y="3213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商品丰富商业繁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8520" y="414972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家家披罗着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市民生活殷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1706400"/>
            <a:ext cx="485640" cy="1208160"/>
          </a:xfrm>
          <a:prstGeom prst="downArrow">
            <a:avLst>
              <a:gd name="adj1" fmla="val 50000"/>
              <a:gd name="adj2" fmla="val 62194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07000" y="4213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3200" y="3179880"/>
            <a:ext cx="106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民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殷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财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08760" y="3179880"/>
            <a:ext cx="11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繁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华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之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52440" y="0"/>
            <a:ext cx="439272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7402680" y="177840"/>
            <a:ext cx="86652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者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已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矣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28240" y="3019320"/>
            <a:ext cx="667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江淹《别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63400" y="2100240"/>
            <a:ext cx="3962520" cy="1027080"/>
          </a:xfrm>
          <a:prstGeom prst="rect">
            <a:avLst/>
          </a:prstGeom>
          <a:solidFill>
            <a:srgbClr val="ffe161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14560" y="3722760"/>
            <a:ext cx="903240" cy="576360"/>
          </a:xfrm>
          <a:custGeom>
            <a:avLst/>
            <a:gdLst>
              <a:gd name="textAreaLeft" fmla="*/ 37080 w 903240"/>
              <a:gd name="textAreaRight" fmla="*/ 866160 w 9032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843" h="21600">
                <a:moveTo>
                  <a:pt x="0" y="0"/>
                </a:moveTo>
                <a:lnTo>
                  <a:pt x="33843" y="0"/>
                </a:lnTo>
                <a:lnTo>
                  <a:pt x="33843" y="21600"/>
                </a:lnTo>
                <a:lnTo>
                  <a:pt x="0" y="21600"/>
                </a:lnTo>
                <a:close/>
              </a:path>
              <a:path fill="lightenLess" w="33843" h="21600">
                <a:moveTo>
                  <a:pt x="0" y="0"/>
                </a:moveTo>
                <a:lnTo>
                  <a:pt x="33843" y="0"/>
                </a:lnTo>
                <a:lnTo>
                  <a:pt x="32443" y="1400"/>
                </a:lnTo>
                <a:lnTo>
                  <a:pt x="1400" y="1400"/>
                </a:lnTo>
                <a:close/>
              </a:path>
              <a:path fill="darken" w="33843" h="21600">
                <a:moveTo>
                  <a:pt x="33843" y="0"/>
                </a:moveTo>
                <a:lnTo>
                  <a:pt x="33843" y="21600"/>
                </a:lnTo>
                <a:lnTo>
                  <a:pt x="32443" y="20200"/>
                </a:lnTo>
                <a:lnTo>
                  <a:pt x="32443" y="1400"/>
                </a:lnTo>
                <a:close/>
              </a:path>
              <a:path fill="darkenLess" w="33843" h="21600">
                <a:moveTo>
                  <a:pt x="33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43" y="20200"/>
                </a:lnTo>
                <a:close/>
              </a:path>
              <a:path fill="lighten" w="33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43" h="21600">
                <a:moveTo>
                  <a:pt x="9915" y="8406"/>
                </a:moveTo>
                <a:lnTo>
                  <a:pt x="14345" y="8406"/>
                </a:lnTo>
                <a:lnTo>
                  <a:pt x="18767" y="3794"/>
                </a:lnTo>
                <a:lnTo>
                  <a:pt x="18767" y="17806"/>
                </a:lnTo>
                <a:lnTo>
                  <a:pt x="14345" y="13194"/>
                </a:lnTo>
                <a:lnTo>
                  <a:pt x="9915" y="13194"/>
                </a:lnTo>
                <a:close/>
              </a:path>
              <a:path fill="darken" w="33843" h="21600">
                <a:moveTo>
                  <a:pt x="20420" y="10800"/>
                </a:moveTo>
                <a:lnTo>
                  <a:pt x="23928" y="10800"/>
                </a:lnTo>
              </a:path>
              <a:path fill="darken" w="33843" h="21600">
                <a:moveTo>
                  <a:pt x="20420" y="8406"/>
                </a:moveTo>
                <a:lnTo>
                  <a:pt x="23928" y="5639"/>
                </a:lnTo>
              </a:path>
              <a:path fill="darken" w="33843" h="21600">
                <a:moveTo>
                  <a:pt x="20420" y="13194"/>
                </a:moveTo>
                <a:lnTo>
                  <a:pt x="23928" y="15961"/>
                </a:lnTo>
              </a:path>
            </a:pathLst>
          </a:custGeom>
          <a:solidFill>
            <a:srgbClr val="ffffff"/>
          </a:solidFill>
          <a:ln w="25560">
            <a:solidFill>
              <a:srgbClr val="9a7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0" t="6794" r="0" b="6215"/>
          <a:stretch/>
        </p:blipFill>
        <p:spPr>
          <a:xfrm>
            <a:off x="5303880" y="631800"/>
            <a:ext cx="3419280" cy="5753160"/>
          </a:xfrm>
          <a:prstGeom prst="rect">
            <a:avLst/>
          </a:prstGeom>
          <a:ln w="57240">
            <a:solidFill>
              <a:srgbClr val="9a7200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914400" y="2154240"/>
            <a:ext cx="46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聆听诵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00280" y="50760"/>
            <a:ext cx="55735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慕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962440"/>
            <a:ext cx="2431800" cy="355896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00280" y="50760"/>
            <a:ext cx="55735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慕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962440"/>
            <a:ext cx="2431800" cy="355896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00280" y="50760"/>
            <a:ext cx="55735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渡 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席慕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地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知道思念从此生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浮云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山川庄严温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与你握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轻轻抽出我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华年从此停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热泪在心中汇成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那样万般无奈的凝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口旁找不到一朵可相送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就把祝福别在襟上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而明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明日又隔天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rcRect l="11433" t="9287" r="14447" b="9410"/>
          <a:stretch/>
        </p:blipFill>
        <p:spPr>
          <a:xfrm>
            <a:off x="6299280" y="2962440"/>
            <a:ext cx="2431800" cy="3558960"/>
          </a:xfrm>
          <a:prstGeom prst="rect">
            <a:avLst/>
          </a:prstGeom>
          <a:ln w="28440">
            <a:solidFill>
              <a:srgbClr val="d1fda9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4516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434280" y="581040"/>
            <a:ext cx="25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寒蝉凄切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4516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434280" y="581040"/>
            <a:ext cx="25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寒蝉凄切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613560" y="1847880"/>
            <a:ext cx="184608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" y="4278240"/>
            <a:ext cx="8342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十里五里，长亭短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庾信《哀江南赋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542880"/>
            <a:ext cx="1600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长亭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8" name=""/>
          <p:cNvSpPr/>
          <p:nvPr/>
        </p:nvSpPr>
        <p:spPr>
          <a:xfrm>
            <a:off x="824040" y="5392800"/>
            <a:ext cx="8134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长亭更短亭，何处是归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李白《菩萨蛮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4040" y="4278240"/>
            <a:ext cx="8342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十里五里，长亭短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——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庾信《哀江南赋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32480" y="1481040"/>
            <a:ext cx="3263760" cy="4464000"/>
          </a:xfrm>
          <a:prstGeom prst="rect">
            <a:avLst/>
          </a:prstGeom>
          <a:ln w="28440">
            <a:solidFill>
              <a:srgbClr val="3cb1c8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930240" y="6555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重湖叠巘清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有三秋桂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十里荷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8120" y="2517840"/>
            <a:ext cx="485640" cy="973080"/>
          </a:xfrm>
          <a:prstGeom prst="downArrow">
            <a:avLst>
              <a:gd name="adj1" fmla="val 50000"/>
              <a:gd name="adj2" fmla="val 50093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1760" y="3594240"/>
            <a:ext cx="24876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碧山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秀美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湖山胜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色香一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7760" cy="685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705800" y="216000"/>
            <a:ext cx="71424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39040" cy="6870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900920" y="1486080"/>
            <a:ext cx="7146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都门帐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192240" y="101520"/>
            <a:ext cx="3948120" cy="3845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245120" y="179532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留恋处，兰舟催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192240" y="101520"/>
            <a:ext cx="3948120" cy="3845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245120" y="179532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留恋处，兰舟催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7560" y="4068720"/>
            <a:ext cx="83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君泪盈，妾泪盈，罗带同心结未成，江头潮欲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2623" r="0" b="0"/>
          <a:stretch/>
        </p:blipFill>
        <p:spPr>
          <a:xfrm>
            <a:off x="192240" y="101520"/>
            <a:ext cx="3948120" cy="3845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245120" y="179532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留恋处，兰舟催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7560" y="4068720"/>
            <a:ext cx="83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君泪盈，妾泪盈，罗带同心结未成，江头潮欲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7560" y="5227560"/>
            <a:ext cx="80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烟迢迢，水迢迢，准拟江边驻画桡，舟人频报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rcRect l="0" t="0" r="0" b="-29"/>
          <a:stretch/>
        </p:blipFill>
        <p:spPr>
          <a:xfrm>
            <a:off x="0" y="38412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462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6040" y="674640"/>
            <a:ext cx="41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执手相看泪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9612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886880" y="0"/>
            <a:ext cx="68400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48520" cy="68500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7902720" y="171360"/>
            <a:ext cx="684000" cy="719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7543800" y="372960"/>
            <a:ext cx="1233360" cy="613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0" r="0" b="5"/>
          <a:stretch/>
        </p:blipFill>
        <p:spPr>
          <a:xfrm>
            <a:off x="0" y="0"/>
            <a:ext cx="671976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389720" y="246240"/>
            <a:ext cx="1233720" cy="66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76200" y="819000"/>
            <a:ext cx="4533840" cy="3772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5743440" y="165096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秋桂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85800" y="4983120"/>
            <a:ext cx="31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十里荷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08640" y="2395440"/>
            <a:ext cx="4389120" cy="3786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00160" y="285840"/>
            <a:ext cx="417024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11120" y="4602240"/>
            <a:ext cx="81025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昔我往矣，杨柳依依；今我来思，雨雪霏霏</a:t>
            </a:r>
            <a:r>
              <a:rPr b="1" lang="en-US" sz="34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　　——《诗经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9680" y="3651120"/>
            <a:ext cx="761688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黑体"/>
              </a:rPr>
              <a:t>1.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谐音为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留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”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暗写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3680" y="298440"/>
            <a:ext cx="30603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9400" y="1558800"/>
            <a:ext cx="4584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rcRect l="12961" t="5161" r="6589" b="639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51400" y="43668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28880" y="2390760"/>
            <a:ext cx="46562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2.</a:t>
            </a:r>
            <a:r>
              <a:rPr b="1" lang="zh-CN" sz="3400" spc="-1" strike="noStrike">
                <a:solidFill>
                  <a:srgbClr val="ffff66"/>
                </a:solidFill>
                <a:latin typeface="Times New Roman"/>
                <a:ea typeface="黑体"/>
              </a:rPr>
              <a:t>把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杨柳、晓风、残</a:t>
            </a:r>
            <a:r>
              <a:rPr b="1" lang="zh-CN" sz="3400" spc="-1" strike="noStrike">
                <a:solidFill>
                  <a:srgbClr val="ffff66"/>
                </a:solidFill>
                <a:latin typeface="Times New Roman"/>
                <a:ea typeface="黑体"/>
              </a:rPr>
              <a:t>月这三件最能触动离愁的事物集中成为一幅鲜明的画面，构成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凄清</a:t>
            </a:r>
            <a:r>
              <a:rPr b="1" lang="zh-CN" sz="3400" spc="-1" strike="noStrike">
                <a:solidFill>
                  <a:srgbClr val="ffff66"/>
                </a:solidFill>
                <a:latin typeface="Times New Roman"/>
                <a:ea typeface="黑体"/>
              </a:rPr>
              <a:t>的意境，引起离人的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孤独寂寞之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8328" t="0" r="1163" b="880"/>
          <a:stretch/>
        </p:blipFill>
        <p:spPr>
          <a:xfrm>
            <a:off x="184320" y="1133640"/>
            <a:ext cx="312408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3394080" y="1832040"/>
            <a:ext cx="5332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惆怅晓莺残月   ——</a:t>
            </a:r>
            <a:r>
              <a:rPr b="1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韦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94080" y="2795760"/>
            <a:ext cx="370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此夜曲中闻折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何人不起故园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61080" y="3103560"/>
            <a:ext cx="22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94080" y="4195800"/>
            <a:ext cx="272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原为西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逝人君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61080" y="443700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曹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435480" y="1901880"/>
            <a:ext cx="539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此画面出现在特定的时刻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酒醒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之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08200" y="3405240"/>
            <a:ext cx="53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醉不成欢惨将别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08200" y="428292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举杯消愁愁更愁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8200" y="5162400"/>
            <a:ext cx="56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扶头酒醒，别是闲滋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rcRect l="12961" t="5161" r="6589" b="639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51400" y="425520"/>
            <a:ext cx="55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611520" y="2543040"/>
            <a:ext cx="53308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以可见的景象推想酒醒后的凄凉，将虚景实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黑体"/>
              </a:rPr>
              <a:t>半虚半实、虚实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12961" t="5161" r="6589" b="6396"/>
          <a:stretch/>
        </p:blipFill>
        <p:spPr>
          <a:xfrm>
            <a:off x="195120" y="1506600"/>
            <a:ext cx="3124440" cy="487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344520" y="433440"/>
            <a:ext cx="30607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名句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89160" y="4366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今宵酒醒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杨柳岸晓风残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17600" y="2170080"/>
            <a:ext cx="8178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寒蝉凄切，对长亭晚，骤雨初歇。都门帐饮无绪，留恋处，兰舟催发。执手相看泪眼，竟无语凝噎。念去去，千里烟波，暮霭沉沉楚天阔。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情自古伤离别。更那堪冷落清秋节！今宵酒醒何处？杨柳岸晓风残月。此去经年，应是良辰好景虚设。便纵有千种风情，更与何人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1"/>
          </p:cNvPr>
          <p:cNvSpPr/>
          <p:nvPr/>
        </p:nvSpPr>
        <p:spPr>
          <a:xfrm>
            <a:off x="7004160" y="615960"/>
            <a:ext cx="1042920" cy="601560"/>
          </a:xfrm>
          <a:custGeom>
            <a:avLst/>
            <a:gdLst>
              <a:gd name="textAreaLeft" fmla="*/ 38880 w 1042920"/>
              <a:gd name="textAreaRight" fmla="*/ 1004040 w 104292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37438" h="21600">
                <a:moveTo>
                  <a:pt x="0" y="0"/>
                </a:moveTo>
                <a:lnTo>
                  <a:pt x="37438" y="0"/>
                </a:lnTo>
                <a:lnTo>
                  <a:pt x="37438" y="21600"/>
                </a:lnTo>
                <a:lnTo>
                  <a:pt x="0" y="21600"/>
                </a:lnTo>
                <a:close/>
              </a:path>
              <a:path fill="lightenLess" w="37438" h="21600">
                <a:moveTo>
                  <a:pt x="0" y="0"/>
                </a:moveTo>
                <a:lnTo>
                  <a:pt x="37438" y="0"/>
                </a:lnTo>
                <a:lnTo>
                  <a:pt x="36038" y="1400"/>
                </a:lnTo>
                <a:lnTo>
                  <a:pt x="1400" y="1400"/>
                </a:lnTo>
                <a:close/>
              </a:path>
              <a:path fill="darken" w="37438" h="21600">
                <a:moveTo>
                  <a:pt x="37438" y="0"/>
                </a:moveTo>
                <a:lnTo>
                  <a:pt x="37438" y="21600"/>
                </a:lnTo>
                <a:lnTo>
                  <a:pt x="36038" y="20200"/>
                </a:lnTo>
                <a:lnTo>
                  <a:pt x="36038" y="1400"/>
                </a:lnTo>
                <a:close/>
              </a:path>
              <a:path fill="darkenLess" w="37438" h="21600">
                <a:moveTo>
                  <a:pt x="37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38" y="20200"/>
                </a:lnTo>
                <a:close/>
              </a:path>
              <a:path fill="lighten" w="37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38" h="21600">
                <a:moveTo>
                  <a:pt x="11713" y="8406"/>
                </a:moveTo>
                <a:lnTo>
                  <a:pt x="16143" y="8406"/>
                </a:lnTo>
                <a:lnTo>
                  <a:pt x="20564" y="3794"/>
                </a:lnTo>
                <a:lnTo>
                  <a:pt x="20564" y="17806"/>
                </a:lnTo>
                <a:lnTo>
                  <a:pt x="16143" y="13194"/>
                </a:lnTo>
                <a:lnTo>
                  <a:pt x="11713" y="13194"/>
                </a:lnTo>
                <a:close/>
              </a:path>
              <a:path fill="darken" w="37438" h="21600">
                <a:moveTo>
                  <a:pt x="22218" y="10800"/>
                </a:moveTo>
                <a:lnTo>
                  <a:pt x="25726" y="10800"/>
                </a:lnTo>
              </a:path>
              <a:path fill="darken" w="37438" h="21600">
                <a:moveTo>
                  <a:pt x="22218" y="8406"/>
                </a:moveTo>
                <a:lnTo>
                  <a:pt x="25726" y="5639"/>
                </a:lnTo>
              </a:path>
              <a:path fill="darken" w="37438" h="21600">
                <a:moveTo>
                  <a:pt x="22218" y="13194"/>
                </a:moveTo>
                <a:lnTo>
                  <a:pt x="257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760" y="506520"/>
            <a:ext cx="348120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行楷"/>
              </a:rPr>
              <a:t>歌曲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35400" y="419040"/>
            <a:ext cx="26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雨霖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52920" y="139392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柳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4695840"/>
            <a:ext cx="9144000" cy="103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60400" y="1374840"/>
            <a:ext cx="446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羌管弄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菱歌泛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嬉嬉钓叟莲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46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1960" y="2211480"/>
            <a:ext cx="1276200" cy="485640"/>
          </a:xfrm>
          <a:prstGeom prst="rightArrow">
            <a:avLst>
              <a:gd name="adj1" fmla="val 50000"/>
              <a:gd name="adj2" fmla="val 65697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0160" y="1681200"/>
            <a:ext cx="29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昼夜笙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6880" y="2406600"/>
            <a:ext cx="30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湖中人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2760" y="4892760"/>
            <a:ext cx="82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黎民百姓安居乐业，一派升平气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82720" y="1365120"/>
            <a:ext cx="3384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千骑拥高牙，乘醉听箫鼓，吟赏烟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7080" y="961920"/>
            <a:ext cx="255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仪仗威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执政有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儒雅风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乐胸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71960" y="2311560"/>
            <a:ext cx="1276200" cy="485640"/>
          </a:xfrm>
          <a:prstGeom prst="rightArrow">
            <a:avLst>
              <a:gd name="adj1" fmla="val 50000"/>
              <a:gd name="adj2" fmla="val 65697"/>
            </a:avLst>
          </a:prstGeom>
          <a:solidFill>
            <a:srgbClr val="3cb1c8"/>
          </a:solidFill>
          <a:ln w="25560">
            <a:solidFill>
              <a:srgbClr val="184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560" y="1557360"/>
            <a:ext cx="4381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58:40Z</dcterms:created>
  <dc:creator>www.xkb1.com; changjun</dc:creator>
  <dc:description>www.xkb1.com</dc:description>
  <cp:keywords>www.xkb1.com</cp:keywords>
  <dc:language>en-US</dc:language>
  <cp:lastModifiedBy>新课标第一网</cp:lastModifiedBy>
  <dcterms:modified xsi:type="dcterms:W3CDTF">2012-03-28T01:31:09Z</dcterms:modified>
  <cp:revision>27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8000000000001023600</vt:lpwstr>
  </property>
</Properties>
</file>