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3.jpeg" ContentType="image/jpeg"/>
  <Override PartName="/ppt/media/image27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comments/comment7.xml" ContentType="application/vnd.openxmlformats-officedocument.presentationml.comments+xml"/>
  <Override PartName="/ppt/comments/comment4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<Relationship Id="rId73" Type="http://schemas.openxmlformats.org/officeDocument/2006/relationships/commentAuthors" Target="commentAuthors.xml"/>
</Relationships>
</file>

<file path=ppt/comments/comment42.xml><?xml version="1.0" encoding="utf-8"?>
<p:cmLst xmlns:p="http://schemas.openxmlformats.org/presentationml/2006/main">
  <p:cm authorId="0" dt="2012-03-28T09:30:31.798000000" idx="2">
    <p:pos x="4819" y="1735"/>
    <p:text/>
  </p:cm>
</p:cmLst>
</file>

<file path=ppt/comments/comment7.xml><?xml version="1.0" encoding="utf-8"?>
<p:cmLst xmlns:p="http://schemas.openxmlformats.org/presentationml/2006/main">
  <p:cm authorId="0" dt="2012-03-28T09:30:27.687000000" idx="1">
    <p:pos x="3443" y="139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58880" y="2201760"/>
            <a:ext cx="64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望海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78520" y="269064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78520" y="269064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97240" y="326232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8520" y="269064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7240" y="326232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26040" y="325296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8520" y="269064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97240" y="326232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26040" y="325296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33680" y="379080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78520" y="269064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97240" y="326232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26040" y="325296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33680" y="379080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00840" y="38275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52560" y="4584600"/>
            <a:ext cx="566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出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词语的抑扬顿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文句的舒缓轻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78520" y="269064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97240" y="326232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325296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33680" y="379080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38275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42920" y="1495440"/>
            <a:ext cx="3048120" cy="822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2943360"/>
            <a:ext cx="129564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299736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087280" cy="3068640"/>
          </a:xfrm>
          <a:prstGeom prst="rect">
            <a:avLst/>
          </a:prstGeom>
          <a:ln w="76320">
            <a:solidFill>
              <a:srgbClr val="969696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560" y="1557360"/>
            <a:ext cx="43815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560" y="1557360"/>
            <a:ext cx="43815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560" y="1557360"/>
            <a:ext cx="4381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24000" y="620640"/>
            <a:ext cx="396072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700280"/>
            <a:ext cx="8209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宋真宗咸丰末年，柳永从家乡前往京城开封应试，途径钱塘（今浙江杭州）。柳永与孙何是布衣之交，此时孙何正好任两浙转运使，柳永想拜访他，但当时官府之家门禁极严，柳永一个平民是很难到孙何家去拜访的，柳永就写下了这首词，并使其在青楼被广泛歌唱以使孙何知道，第二天孙何就亲自前往见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74960" y="727200"/>
            <a:ext cx="263376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560" y="1557360"/>
            <a:ext cx="438156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560" y="1557360"/>
            <a:ext cx="43815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560" y="1557360"/>
            <a:ext cx="4381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钱塘长官生活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560" y="1557360"/>
            <a:ext cx="4381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钱塘长官生活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552680"/>
            <a:ext cx="22226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派太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富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安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祥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市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3440" y="1824120"/>
            <a:ext cx="401760" cy="3465360"/>
          </a:xfrm>
          <a:custGeom>
            <a:avLst/>
            <a:gdLst>
              <a:gd name="textAreaLeft" fmla="*/ 256680 w 401760"/>
              <a:gd name="textAreaRight" fmla="*/ 402120 w 401760"/>
              <a:gd name="textAreaTop" fmla="*/ 90360 h 3465360"/>
              <a:gd name="textAreaBottom" fmla="*/ 3375000 h 34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560" y="1557360"/>
            <a:ext cx="4381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地理位置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历史传统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自然景观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市井面貌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从百姓生活上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钱塘长官生活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552680"/>
            <a:ext cx="22226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派太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富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安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祥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市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42280" y="2387520"/>
            <a:ext cx="1450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惊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艳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3440" y="1824120"/>
            <a:ext cx="401760" cy="3465360"/>
          </a:xfrm>
          <a:custGeom>
            <a:avLst/>
            <a:gdLst>
              <a:gd name="textAreaLeft" fmla="*/ 256680 w 401760"/>
              <a:gd name="textAreaRight" fmla="*/ 402120 w 401760"/>
              <a:gd name="textAreaTop" fmla="*/ 90360 h 3465360"/>
              <a:gd name="textAreaBottom" fmla="*/ 3375000 h 34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8200" y="115920"/>
            <a:ext cx="4235400" cy="3176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0" t="0" r="82" b="0"/>
          <a:stretch/>
        </p:blipFill>
        <p:spPr>
          <a:xfrm>
            <a:off x="4354560" y="1306440"/>
            <a:ext cx="4105080" cy="2766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700200" y="3711600"/>
            <a:ext cx="75438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8240" y="814320"/>
            <a:ext cx="89708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171440" y="515880"/>
            <a:ext cx="693432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547640"/>
            <a:ext cx="8783640" cy="3249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12840" y="1795320"/>
            <a:ext cx="312084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551640" cy="6410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343160" y="3367080"/>
            <a:ext cx="9302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66920" y="692280"/>
            <a:ext cx="3960720" cy="93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960" y="1762200"/>
            <a:ext cx="80424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完颜亮读罢柳永的《望海潮》一词，称赞杭州之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东南形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吴都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钱塘自古繁华……有三秋桂子，十里荷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遂起投鞭渡江、立马吴山之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隔年以六十万大军南下攻宋。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大经《鹤林玉露》卷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13942" b="8679"/>
          <a:stretch/>
        </p:blipFill>
        <p:spPr>
          <a:xfrm>
            <a:off x="2987640" y="836640"/>
            <a:ext cx="266544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01600" y="393840"/>
            <a:ext cx="8820000" cy="5895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3680" y="4938840"/>
            <a:ext cx="331632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7360" y="560520"/>
            <a:ext cx="6705720" cy="5337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67640" y="1806480"/>
            <a:ext cx="96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柳浪闻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0960" y="1822320"/>
            <a:ext cx="91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南屏晚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32000" y="747720"/>
            <a:ext cx="7696080" cy="56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92360" y="33336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双峰插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7160" y="200160"/>
            <a:ext cx="8604000" cy="6346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25800" y="560520"/>
            <a:ext cx="29257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89200" y="260280"/>
            <a:ext cx="5392800" cy="6308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71640" y="1849320"/>
            <a:ext cx="116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花港观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8000" y="457200"/>
            <a:ext cx="7467480" cy="5611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812000" y="1704960"/>
            <a:ext cx="11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三潭印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1033560"/>
            <a:ext cx="6553080" cy="4411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596360" y="1700280"/>
            <a:ext cx="105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宝石流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5440" y="512640"/>
            <a:ext cx="8153280" cy="471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537372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阮墩环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38120" y="765000"/>
            <a:ext cx="7086600" cy="4961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67640" y="170496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云栖竹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87560" y="1670040"/>
            <a:ext cx="4132080" cy="822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492360" y="2943360"/>
            <a:ext cx="129564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99736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8000" y="2708280"/>
            <a:ext cx="129564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276228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434960"/>
            <a:ext cx="3962160" cy="91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406872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7961400" y="5923080"/>
            <a:ext cx="1030320" cy="711000"/>
          </a:xfrm>
          <a:custGeom>
            <a:avLst/>
            <a:gdLst>
              <a:gd name="textAreaLeft" fmla="*/ 46080 w 1030320"/>
              <a:gd name="textAreaRight" fmla="*/ 984240 w 1030320"/>
              <a:gd name="textAreaTop" fmla="*/ 46080 h 711000"/>
              <a:gd name="textAreaBottom" fmla="*/ 664920 h 711000"/>
            </a:gdLst>
            <a:ahLst/>
            <a:rect l="textAreaLeft" t="textAreaTop" r="textAreaRight" b="textAreaBottom"/>
            <a:pathLst>
              <a:path w="31296" h="21600">
                <a:moveTo>
                  <a:pt x="0" y="0"/>
                </a:moveTo>
                <a:lnTo>
                  <a:pt x="31296" y="0"/>
                </a:lnTo>
                <a:lnTo>
                  <a:pt x="31296" y="21600"/>
                </a:lnTo>
                <a:lnTo>
                  <a:pt x="0" y="21600"/>
                </a:lnTo>
                <a:close/>
              </a:path>
              <a:path fill="lightenLess" w="31296" h="21600">
                <a:moveTo>
                  <a:pt x="0" y="0"/>
                </a:moveTo>
                <a:lnTo>
                  <a:pt x="31296" y="0"/>
                </a:lnTo>
                <a:lnTo>
                  <a:pt x="29896" y="1400"/>
                </a:lnTo>
                <a:lnTo>
                  <a:pt x="1400" y="1400"/>
                </a:lnTo>
                <a:close/>
              </a:path>
              <a:path fill="darken" w="31296" h="21600">
                <a:moveTo>
                  <a:pt x="31296" y="0"/>
                </a:moveTo>
                <a:lnTo>
                  <a:pt x="31296" y="21600"/>
                </a:lnTo>
                <a:lnTo>
                  <a:pt x="29896" y="20200"/>
                </a:lnTo>
                <a:lnTo>
                  <a:pt x="29896" y="1400"/>
                </a:lnTo>
                <a:close/>
              </a:path>
              <a:path fill="darkenLess" w="31296" h="21600">
                <a:moveTo>
                  <a:pt x="31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96" y="20200"/>
                </a:lnTo>
                <a:close/>
              </a:path>
              <a:path fill="lighten" w="31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96" h="21600">
                <a:moveTo>
                  <a:pt x="8641" y="8406"/>
                </a:moveTo>
                <a:lnTo>
                  <a:pt x="13072" y="8406"/>
                </a:lnTo>
                <a:lnTo>
                  <a:pt x="17493" y="3794"/>
                </a:lnTo>
                <a:lnTo>
                  <a:pt x="17493" y="17806"/>
                </a:lnTo>
                <a:lnTo>
                  <a:pt x="13072" y="13194"/>
                </a:lnTo>
                <a:lnTo>
                  <a:pt x="8641" y="13194"/>
                </a:lnTo>
                <a:close/>
              </a:path>
              <a:path fill="darken" w="31296" h="21600">
                <a:moveTo>
                  <a:pt x="19147" y="10800"/>
                </a:moveTo>
                <a:lnTo>
                  <a:pt x="22654" y="10800"/>
                </a:lnTo>
              </a:path>
              <a:path fill="darken" w="31296" h="21600">
                <a:moveTo>
                  <a:pt x="19147" y="8406"/>
                </a:moveTo>
                <a:lnTo>
                  <a:pt x="22654" y="5639"/>
                </a:lnTo>
              </a:path>
              <a:path fill="darken" w="31296" h="21600">
                <a:moveTo>
                  <a:pt x="19147" y="13194"/>
                </a:moveTo>
                <a:lnTo>
                  <a:pt x="22654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58920" y="2708280"/>
            <a:ext cx="70610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诗词的一种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58920" y="2708280"/>
            <a:ext cx="70610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诗词的一种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抽象的评点（总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58920" y="2708280"/>
            <a:ext cx="706104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诗词的一种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抽象的评点（总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具体的描述（分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6981" b="0"/>
          <a:stretch/>
        </p:blipFill>
        <p:spPr>
          <a:xfrm>
            <a:off x="3349800" y="1468440"/>
            <a:ext cx="20858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68360" y="2124000"/>
            <a:ext cx="8163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多情自古伤离别，更那堪冷落清秋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今宵酒醒何处，杨柳岸晓风残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2124000"/>
            <a:ext cx="8163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多情自古伤离别，更那堪冷落清秋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今宵酒醒何处，杨柳岸晓风残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234200" y="2708280"/>
            <a:ext cx="122544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8360" y="2124000"/>
            <a:ext cx="8163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多情自古伤离别，更那堪冷落清秋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今宵酒醒何处，杨柳岸晓风残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34200" y="2708280"/>
            <a:ext cx="1225440" cy="109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16880" y="4149720"/>
            <a:ext cx="131112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28600" y="2470320"/>
            <a:ext cx="45957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碧云天，黄花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风紧，北雁南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晓来谁染霜林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是离人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11253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亭送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138640" y="189000"/>
            <a:ext cx="3754440" cy="2770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28600" y="2470320"/>
            <a:ext cx="45957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碧云天，黄花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风紧，北雁南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晓来谁染霜林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是离人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11253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亭送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2637000"/>
            <a:ext cx="3954600" cy="2558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1311120" cy="1096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38640" y="189000"/>
            <a:ext cx="3754440" cy="2770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28600" y="2470320"/>
            <a:ext cx="45957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碧云天，黄花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西风紧，北雁南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晓来谁染霜林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总是离人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11253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亭送别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2637000"/>
            <a:ext cx="3954600" cy="25588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867280" y="5013360"/>
            <a:ext cx="1225800" cy="1096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796000" y="3429000"/>
            <a:ext cx="1311120" cy="1096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138640" y="189000"/>
            <a:ext cx="3754440" cy="2770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20840" y="2270160"/>
            <a:ext cx="497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道西风瘦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582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净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724360" y="115920"/>
            <a:ext cx="2903760" cy="2879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20840" y="2270160"/>
            <a:ext cx="497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道西风瘦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32000" y="582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净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2343240"/>
            <a:ext cx="4098960" cy="29908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3484440"/>
            <a:ext cx="1311480" cy="109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724360" y="115920"/>
            <a:ext cx="2903760" cy="2879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20840" y="2270160"/>
            <a:ext cx="497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枯藤老树昏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桥流水人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古道西风瘦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夕阳西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32000" y="5824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净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2343240"/>
            <a:ext cx="4098960" cy="29908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4995720"/>
            <a:ext cx="1225800" cy="1097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867280" y="3484440"/>
            <a:ext cx="1311480" cy="1096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115920"/>
            <a:ext cx="2903760" cy="2879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223668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东南形胜，三吴都会，钱塘自古繁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347184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223668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东南形胜，三吴都会，钱塘自古繁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9640" y="15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4040280"/>
            <a:ext cx="7932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具体对西湖的描写。居民区繁华，钱塘壮丽，国富民安，西湖繁华，长官威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347184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23668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东南形胜，三吴都会，钱塘自古繁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09840" y="256536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山色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5200" y="26319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三秋桂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09840" y="256536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山色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09840" y="33498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湖荷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5200" y="26319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三秋桂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09840" y="256536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山色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09840" y="33498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湖荷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5200" y="26319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三秋桂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90800" y="3346560"/>
            <a:ext cx="23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十里荷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09840" y="256536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山色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09840" y="33498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湖荷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5200" y="26319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三秋桂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90800" y="3346560"/>
            <a:ext cx="23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十里荷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5840" y="4027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人文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09840" y="256536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山色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60240" y="4653000"/>
            <a:ext cx="79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　　羌管弄晴，菱歌泛夜，嬉嬉钓叟莲娃。千骑拥高牙，乘醉听萧鼓，吟赏烟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8800" y="90792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点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21240" y="94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重湖叠巘清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58800" y="17226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09840" y="256536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山色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09840" y="334980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湖荷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5200" y="26319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三秋桂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90800" y="3346560"/>
            <a:ext cx="23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十里荷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5840" y="4027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人文之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00120" y="2419200"/>
            <a:ext cx="783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铺排，铺陈和排比的简称。多见于古体诗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运用叠句的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使句式反复、对称而又富于变化，在诗歌中主要起渲染烘托气氛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1197000"/>
            <a:ext cx="396072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1840" y="1197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铺  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393372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9160" y="3887640"/>
            <a:ext cx="7656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妾有绣腰襦，葳蕤自生光；红罗复斗帐，四角垂香囊；箱帘六七十，绿碧青丝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物物各自异，种种在其中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127008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十三能织素，十四学裁衣。十五弹箜篌，十六诵诗书。十七为君妇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心中常苦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93372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197000"/>
            <a:ext cx="9144000" cy="18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520" y="1222200"/>
            <a:ext cx="80866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烟柳画桥，风帘翠幕，参差十万人家。云树绕堤沙。怒涛卷霜雪，天堑无涯。市列珠玑，户盈罗绮，竞豪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2760" y="4005360"/>
            <a:ext cx="768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弄晴，菱歌泛夜，嬉嬉钓叟莲娃。千骑拥高牙。乘醉听萧鼓，吟赏烟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2165400"/>
            <a:ext cx="4753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参差                   天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珠玑                   罗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羌管                   叠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千骑                   钓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3080" y="140184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2440" y="220356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ēn  c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62680" y="213372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q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06760" y="274644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668680" cy="842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49800" y="135000"/>
            <a:ext cx="1295280" cy="1295280"/>
          </a:xfrm>
          <a:prstGeom prst="ellipse">
            <a:avLst/>
          </a:prstGeom>
          <a:solidFill>
            <a:srgbClr val="cc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2826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58:40Z</dcterms:created>
  <dc:creator>www.xkb1.com; changjun</dc:creator>
  <dc:description>www.xkb1.com</dc:description>
  <cp:keywords>www.xkb1.com</cp:keywords>
  <dc:language>en-US</dc:language>
  <cp:lastModifiedBy>新课标第一网</cp:lastModifiedBy>
  <dcterms:modified xsi:type="dcterms:W3CDTF">2012-03-28T01:30:33Z</dcterms:modified>
  <cp:revision>173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8000000000001023600</vt:lpwstr>
  </property>
</Properties>
</file>