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A42-9AF5-4511-9CF5-FF1CBB53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8AE-1B30-4416-A55C-F48B1547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D24-AD56-4658-BFAD-9BC9CEDB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ABF-63A3-44A8-94B7-2236877D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D57E-AB24-4A32-9093-177FF9DC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038F-48CF-40BB-9D8B-F9315D76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6B05-5EC3-4347-A073-2DA1FA7E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BB9E-B262-45C8-B489-05AAB6FE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42A1-5FC5-44FB-96A3-F3822BC1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4120" y="63360"/>
            <a:ext cx="73911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C03F-F76A-4D6F-8FAE-55F35A5F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8229-A08D-4FA2-927F-D3ED2C3A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A6C-3119-4820-A830-85B19772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542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5EE3-D513-45EF-8C78-8CC6301F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CBFD-399C-47AC-8CE5-09A57566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2BF3-72C2-445B-94F7-D711628A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542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E92B-B5C3-41AF-9461-B8C6330B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996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2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996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2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3C1C-6914-48B3-9265-0ADE7B9F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EE8-B009-4D3F-8607-0E020CFE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406-3A8C-4483-9730-4A35963F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CC6-6C09-4BF5-A952-731EC34E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120" y="63360"/>
            <a:ext cx="73911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467-8391-496C-88D2-80D3E127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5D9-B45F-4869-B09A-E9EBE62B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CBE-82FC-49A6-9F6A-EF7B356F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A64-C204-4EA6-A12A-4770C1E8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9144000" cy="5257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63220d"/>
              </a:gs>
              <a:gs pos="50000">
                <a:srgbClr val="b23d18"/>
              </a:gs>
              <a:gs pos="100000">
                <a:srgbClr val="6322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6709-48AF-454D-8084-FA501EC102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3073" t="1380" r="31250" b="2054"/>
          <a:stretch/>
        </p:blipFill>
        <p:spPr>
          <a:xfrm>
            <a:off x="0" y="3701880"/>
            <a:ext cx="130500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886200"/>
            <a:ext cx="9144000" cy="2971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371600"/>
            <a:ext cx="9144000" cy="2514600"/>
          </a:xfrm>
          <a:prstGeom prst="rect">
            <a:avLst/>
          </a:prstGeom>
          <a:gradFill rotWithShape="0">
            <a:gsLst>
              <a:gs pos="0">
                <a:srgbClr val="521c0b"/>
              </a:gs>
              <a:gs pos="50000">
                <a:srgbClr val="b23d18"/>
              </a:gs>
              <a:gs pos="100000">
                <a:srgbClr val="521c0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5721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2AA1-4716-408F-9D0C-01E881A899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46406" r="0" b="18965"/>
          <a:stretch/>
        </p:blipFill>
        <p:spPr>
          <a:xfrm>
            <a:off x="380880" y="4191120"/>
            <a:ext cx="83822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魏公子列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《史记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341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他歌颂侯生的“士为知己者死”，正是为了嘲讽汉代官僚社会的人情冷暖、世态炎凉。在这里，司马迁是有切肤之痛的。当他犯了法，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006600"/>
                </a:solidFill>
                <a:uFillTx/>
                <a:latin typeface="Arial"/>
                <a:ea typeface="宋体"/>
              </a:rPr>
              <a:t>家贫，财赂不足以自赎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时候，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006600"/>
                </a:solidFill>
                <a:uFillTx/>
                <a:latin typeface="Arial"/>
                <a:ea typeface="宋体"/>
              </a:rPr>
              <a:t>交游莫救，左右亲近不为一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只有到了这种时刻，他才深切地体会到那种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忠于知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，那种能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急人之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能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脱人于困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的侠义行为是多么的可贵；而那种朝秦暮楚，翻手为云，覆手为雨的势利小人是多么的可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死一生，乃知交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贫一贵，乃知交态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贵一贱，交情乃见。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8172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公子留赵十年不归。秦闻公子在赵，日夜出兵东伐魏。魏王患之，使使往请公子。公子恐其怒之，乃诫门下：“有敢为魏王使通者，死。”宾客皆背魏之赵，莫敢劝公子归。毛公﹑薛公两人往见公子曰：“公子所以重于赵，名闻诸侯者，徒以有魏也。今秦攻魏，魏急而公子不恤，使秦破大梁而夷先王之宗庙，公子当何面目立天下乎？”语未及卒，公子立变色，告车趣驾归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魏王见公子，相与泣，而以上将军印授公子，公子遂将。魏安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王三十年，公子使使遍告诸侯。诸侯闻公子将，各遣将将兵救魏。公子率五国之兵破秦军于河外，走蒙骜。遂乘胜逐秦军至函谷关，抑秦兵，秦兵不敢出。当是时，公子威振天下，诸侯之客进兵法，公子皆名之，故世俗称魏公子兵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秦王患之，乃行金万斤于魏，求晋鄙客，令毁公子于魏王曰：“公子亡在外十年矣，今为魏将，诸侯将皆属，诸侯徒闻魏公子，不闻魏王。公子亦欲因此时定南面而王，诸侯畏公子之威，方欲共立之。”秦数使反闲，伪贺公子得立为魏王未也。魏王日闻其毁，不能不信，后果使人代公子将。公子自知再以毁废，乃谢病不朝，与宾客为长夜饮，饮醇酒，多近妇女。日夜为乐饮者四岁，竟病酒而卒。其岁，魏安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王亦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秦闻公子死，使蒙骜攻魏，拔二十城，初置东郡。其后秦稍蚕食魏，十八岁而虏魏王，屠大梁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明 唐顺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以魏亡系《信陵传》，见信陵系国之存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明 王世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公之好士也，以自张也；信陵君好士也，以存魏也，乌乎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明 茅坤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752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信陵君是太史公胸中得意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故本传亦太史公得意文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2590920" y="5715000"/>
            <a:ext cx="304560" cy="152280"/>
          </a:xfrm>
          <a:custGeom>
            <a:avLst/>
            <a:gdLst>
              <a:gd name="textAreaLeft" fmla="*/ 9720 w 304560"/>
              <a:gd name="textAreaRight" fmla="*/ 294840 w 3045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8076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16230" y="3794"/>
                </a:lnTo>
                <a:lnTo>
                  <a:pt x="16230" y="17806"/>
                </a:lnTo>
                <a:lnTo>
                  <a:pt x="14568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676520"/>
            <a:ext cx="7278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信陵君窃符救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侯嬴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聪明智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老谋深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料事如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探讨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献计之前有个小插曲，你如何看待信陵君与他辞别时为何他只是冷冷地说了那么一句：“公子勉之矣，老臣不能从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探讨：关于侯生“自刭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陈懿《读史漫笔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侯生自刭固侠烈之慨，亦料魏王知公子谋皆夷门擘画，势必收而诛之，故宁自杀以为名，正是高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徐中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侯生度公子窃符，计必杀晋鄙，鄙何辜哉？心必有不忍而不自安者，乃以死谢耳。不然，诚报公子，即死耳，何必数公子至晋鄙军日而后自刭也？故侯生之死，世谓报公子，余谓谢晋鄙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今人 韩兆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侯生自刭乃是为了坚定信陵君夺晋鄙的决心，是企图以此来强化信陵君的信念，叫他到时候不要手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73911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95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侯生也是司马迁倾心歌颂的人之一，在侯嬴身上寄托着司马迁为人处世的一种什么样的道德观念？为什么他特别要歌颂这样的一种道德观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士为知己者死”</a:t>
            </a:r>
            <a:r>
              <a:rPr b="1" i="1" lang="zh-CN" sz="5400" spc="-1" strike="noStrike">
                <a:solidFill>
                  <a:srgbClr val="993300"/>
                </a:solidFill>
                <a:latin typeface="Arial"/>
                <a:ea typeface="宋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3:40:45Z</dcterms:created>
  <dc:creator>Celeron</dc:creator>
  <dc:description/>
  <dc:language>en-US</dc:language>
  <cp:lastModifiedBy>hp</cp:lastModifiedBy>
  <dcterms:modified xsi:type="dcterms:W3CDTF">2007-02-27T23:21:57Z</dcterms:modified>
  <cp:revision>78</cp:revision>
  <dc:subject/>
  <dc:title>PowerPoint 演示文稿</dc:title>
</cp:coreProperties>
</file>