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2EA-43C3-4BEE-A0F7-9A8BFC70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313-A7C0-47F7-B4D2-32BE9F5C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019-594D-4EAD-9A79-987A8BE6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D26-4D8A-4D9C-9989-54C23FDF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B8B-69B0-4E61-A7E3-0B4B2797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C9E-3711-4F5B-9380-85C9F178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592-8580-424B-B875-AF017F74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9F3-028A-41CB-94AF-D1B3E1E9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C92-511B-4768-962E-2B436A9F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E1A-4B5B-4ECA-BDF2-1A9CEC54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623-9B90-4B0B-A606-A0C4159C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F08-84C1-4B0C-8A82-E67C78EB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7E83-21C7-41FB-A80C-85D36A05FF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197000"/>
            <a:ext cx="7991280" cy="26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我的信念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465300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Arial"/>
                <a:ea typeface="华文行楷"/>
              </a:rPr>
              <a:t>玛丽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  <a:ea typeface="华文行楷"/>
              </a:rPr>
              <a:t>·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  <a:ea typeface="华文行楷"/>
              </a:rPr>
              <a:t>居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　　居里夫人是一位杰出的科学家，她的长女伊伦娜也是一位杰出的核物理学家，并曾与丈夫约里奥因发现人工放射性物质共同获得诺贝尔化学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积累词语，了解文学常   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自读课文，体会居里夫人的人格魅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品味平实而富于哲理的语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查预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文作者（　　　　　），（　　）人，曾获（　）次诺贝尔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       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（　  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蹂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　　 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呵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责（　  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鞭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　　 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然（　　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3284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ch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Arial"/>
              </a:rPr>
              <a:t>ó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27640" y="3284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sh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4076640"/>
            <a:ext cx="192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Arial"/>
              </a:rPr>
              <a:t>ó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ul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Arial"/>
              </a:rPr>
              <a:t>ì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72360" y="41497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h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4869000"/>
            <a:ext cx="12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  <a:ea typeface="Arial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16720" y="4941720"/>
            <a:ext cx="11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c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112536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玛丽•居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177336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波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184464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1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　　　　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解释下列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固执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获益匪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猝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报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奢望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呵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蹂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问心无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125360"/>
            <a:ext cx="46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坚持己见，不肯改变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1700280"/>
            <a:ext cx="33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得到很多益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23493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突然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5640" y="2924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由于使用别人的劳动、物件等而付给的钱或实物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7280" y="4149720"/>
            <a:ext cx="34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过高的希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72428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呵斥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5373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践踏，比喻用暴力欺压、侮辱、侵害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5950080"/>
            <a:ext cx="44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自己觉得没有愧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文学常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5111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玛丽•居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1867—193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），即居里夫人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波兰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，著名科学家，曾两次获得诺贝尔奖。以毕生精力研究放射性元素，并发现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钋（ </a:t>
            </a:r>
            <a:r>
              <a:rPr b="1" lang="zh-CN" sz="3600" spc="-1" strike="noStrike">
                <a:solidFill>
                  <a:srgbClr val="000000"/>
                </a:solidFill>
                <a:latin typeface="ˎ̥"/>
                <a:ea typeface="华文中宋"/>
              </a:rPr>
              <a:t>pō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、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两种放射性元素，并无偿地放弃了镭的专利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24360" y="134136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思考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仿宋"/>
                <a:ea typeface="华文中宋"/>
              </a:rPr>
              <a:t>１、</a:t>
            </a:r>
            <a:r>
              <a:rPr b="0" lang="zh-CN" sz="4000" spc="-1" strike="noStrike">
                <a:solidFill>
                  <a:srgbClr val="ff0000"/>
                </a:solidFill>
                <a:latin typeface="宋体-方正超大字符集"/>
                <a:ea typeface="华文中宋"/>
              </a:rPr>
              <a:t>用文中的话回答</a:t>
            </a:r>
            <a:r>
              <a:rPr b="0" lang="zh-CN" sz="4000" spc="-1" strike="noStrike">
                <a:solidFill>
                  <a:srgbClr val="ff0000"/>
                </a:solidFill>
                <a:latin typeface="宋体-方正超大字符集"/>
                <a:ea typeface="华文中宋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宋体-方正超大字符集"/>
                <a:ea typeface="华文中宋"/>
              </a:rPr>
              <a:t>作者追求怎样的工作和生活环境</a:t>
            </a:r>
            <a:r>
              <a:rPr b="0" lang="zh-CN" sz="4000" spc="-1" strike="noStrike">
                <a:solidFill>
                  <a:srgbClr val="ff0000"/>
                </a:solidFill>
                <a:latin typeface="宋体-方正超大字符集"/>
                <a:ea typeface="华文中宋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宋体-方正超大字符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-方正超大字符集"/>
                <a:ea typeface="华文中宋"/>
              </a:rPr>
              <a:t>２、居里夫人所说的“讲究现实”与“梦想家”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宋体-方正超大字符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-方正超大字符集"/>
                <a:ea typeface="华文中宋"/>
              </a:rPr>
              <a:t>３、如何理解“我的惟一的奢望，是在一个自由的国家中，以一个自由学者的身份从事研究工作？”奢望改为希望行不行</a:t>
            </a:r>
            <a:r>
              <a:rPr b="0" lang="zh-CN" sz="4000" spc="-1" strike="noStrike">
                <a:solidFill>
                  <a:srgbClr val="ff0000"/>
                </a:solidFill>
                <a:latin typeface="宋体-方正超大字符集"/>
                <a:ea typeface="华文中宋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４、“我一直居住在被占领和蹂躏的波兰。我估量过法国自由的代价”中的“占领”和“蹂躏”能否互换？把“估量”换成“估算”行不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５、自学课文最后一个自然段，段中“迷醉”和“沉醉”能否互换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合作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　　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试结合以上讨论及课文内容概括居里夫人的人格魅力有哪些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拓展与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ˎ̥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ˎ̥"/>
              </a:rPr>
              <a:t>一次，一位客人吃惊地发现她将英国皇家学会奖给她的金质奖章给女儿玩，而她若无其事地说</a:t>
            </a:r>
            <a:r>
              <a:rPr b="1" i="1" lang="zh-CN" sz="4400" spc="-1" strike="noStrike">
                <a:solidFill>
                  <a:srgbClr val="ff0000"/>
                </a:solidFill>
                <a:latin typeface="ˎ̥"/>
              </a:rPr>
              <a:t>“  </a:t>
            </a:r>
            <a:r>
              <a:rPr b="1" lang="zh-CN" sz="4400" spc="-1" strike="noStrike">
                <a:solidFill>
                  <a:srgbClr val="ff0000"/>
                </a:solidFill>
                <a:latin typeface="ˎ̥"/>
              </a:rPr>
              <a:t>我是想让孩子知道，荣誉就像玩具一样，只能玩玩而已。</a:t>
            </a:r>
            <a:r>
              <a:rPr b="1" i="1" lang="zh-CN" sz="4400" spc="-1" strike="noStrike">
                <a:solidFill>
                  <a:srgbClr val="ff0000"/>
                </a:solidFill>
                <a:latin typeface="ˎ̥"/>
              </a:rPr>
              <a:t>” </a:t>
            </a:r>
            <a:r>
              <a:rPr b="1" lang="zh-CN" sz="4400" spc="-1" strike="noStrike">
                <a:solidFill>
                  <a:srgbClr val="ff0000"/>
                </a:solidFill>
                <a:latin typeface="ˎ̥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8:09:11Z</dcterms:created>
  <dc:creator>aaa</dc:creator>
  <dc:description/>
  <dc:language>en-US</dc:language>
  <cp:lastModifiedBy>aaa</cp:lastModifiedBy>
  <dcterms:modified xsi:type="dcterms:W3CDTF">2005-09-23T00:10:23Z</dcterms:modified>
  <cp:revision>9</cp:revision>
  <dc:subject/>
  <dc:title>幻灯片 1</dc:title>
</cp:coreProperties>
</file>