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0B7-B1B9-4683-9598-993135F3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4FD-F5EF-432A-9BDC-5176CCD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7D0-6307-4E3E-863F-F1C00A42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592-122E-48A5-8DD9-BBB53950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3BE-53B2-49B2-A176-84DCDFF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99C-ED39-4DD3-BCC3-E3458EC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C99-6379-441F-AD60-47BD042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5E9-1742-46B8-8A99-1CDBF5C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B5D-2663-4AF2-9BE4-7F004C0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F1-8563-420D-B50C-DFBB7C8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6A0-03F3-417F-9933-387491B1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CF7-83A3-4623-A549-5ABBB02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64E-8510-4DE4-9A63-A396A5200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ike.baidu.com/view/17592.htm" TargetMode="External"/><Relationship Id="rId2" Type="http://schemas.openxmlformats.org/officeDocument/2006/relationships/hyperlink" Target="http://baike.baidu.com/view/15168.htm" TargetMode="External"/><Relationship Id="rId3" Type="http://schemas.openxmlformats.org/officeDocument/2006/relationships/hyperlink" Target="http://baike.baidu.com/view/2717.htm" TargetMode="External"/><Relationship Id="rId4" Type="http://schemas.openxmlformats.org/officeDocument/2006/relationships/hyperlink" Target="http://baike.baidu.com/view/2012412.htm" TargetMode="External"/><Relationship Id="rId5" Type="http://schemas.openxmlformats.org/officeDocument/2006/relationships/hyperlink" Target="http://baike.baidu.com/view/5325.htm" TargetMode="External"/><Relationship Id="rId6" Type="http://schemas.openxmlformats.org/officeDocument/2006/relationships/hyperlink" Target="http://baike.baidu.com/view/5584.htm" TargetMode="External"/><Relationship Id="rId7" Type="http://schemas.openxmlformats.org/officeDocument/2006/relationships/hyperlink" Target="http://baike.baidu.com/view/582430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孟浩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浩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8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0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唐代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诗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汉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本名浩，字浩然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襄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襄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湖北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襄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与另一位山水田园诗人王维和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以写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田园山水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主。因他未曾入仕，又称之为孟山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望洞庭湖赠张丞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2514600" y="1828440"/>
            <a:ext cx="9677520" cy="75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八月湖水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涵虚混太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气蒸云梦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波撼岳阳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欲济无舟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端居耻圣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坐观垂钓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徒有羡鱼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124"/>
          <p:cNvSpPr/>
          <p:nvPr/>
        </p:nvSpPr>
        <p:spPr>
          <a:xfrm>
            <a:off x="3138840" y="32457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望洞庭湖赠张丞相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716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复朗读首联颔联，想像一下，这几句描绘了一幅什么样的画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八月洞庭湖水盛涨浩渺无边，水天含混迷迷接连太空。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  </a:t>
            </a:r>
            <a:br>
              <a:rPr sz="3200"/>
            </a:b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云梦二泽水气蒸腾白白茫茫，波涛汹涌似乎把岳阳城撼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0243"/>
          <p:cNvSpPr/>
          <p:nvPr/>
        </p:nvSpPr>
        <p:spPr>
          <a:xfrm>
            <a:off x="380880" y="3808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诗歌后两联，看看这几句表达了作者什么样的思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0244"/>
          <p:cNvSpPr/>
          <p:nvPr/>
        </p:nvSpPr>
        <p:spPr>
          <a:xfrm>
            <a:off x="9144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希望得到张丞相的举荐，入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06:04:40Z</dcterms:created>
  <dc:creator/>
  <dc:description/>
  <dc:language>en-US</dc:language>
  <cp:lastModifiedBy>admin</cp:lastModifiedBy>
  <dcterms:modified xsi:type="dcterms:W3CDTF">2019-03-27T06:04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NXTAG2">
    <vt:lpwstr>000800a202000000000001024120</vt:lpwstr>
  </property>
  <property fmtid="{D5CDD505-2E9C-101B-9397-08002B2CF9AE}" pid="4" name="Version">
    <vt:r8>1</vt:r8>
  </property>
</Properties>
</file>