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Untitled7.wav" ContentType="audio/x-wav"/>
  <Override PartName="/ppt/media/image2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5.jpeg" ContentType="image/jpeg"/>
  <Override PartName="/ppt/media/image7.wmf" ContentType="image/x-wmf"/>
  <Override PartName="/ppt/media/image20.jpeg" ContentType="image/jpeg"/>
  <Override PartName="/ppt/media/image4.gif" ContentType="image/gif"/>
  <Override PartName="/ppt/media/laser.wav" ContentType="audio/x-wav"/>
  <Override PartName="/ppt/media/image3.png" ContentType="image/png"/>
  <Override PartName="/ppt/media/image17.jpeg" ContentType="image/jpeg"/>
  <Override PartName="/ppt/media/image23.gif" ContentType="image/gif"/>
  <Override PartName="/ppt/media/image2.jpeg" ContentType="image/jpeg"/>
  <Override PartName="/ppt/media/image25.jpeg" ContentType="image/jpeg"/>
  <Override PartName="/ppt/media/image19.jpeg" ContentType="image/jpeg"/>
  <Override PartName="/ppt/media/image18.gif" ContentType="image/gif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1.jpeg" ContentType="image/jpeg"/>
  <Override PartName="/ppt/media/image13.png" ContentType="image/png"/>
  <Override PartName="/ppt/media/image12.jpeg" ContentType="image/jpeg"/>
  <Override PartName="/ppt/media/cashreg.wav" ContentType="audio/x-wav"/>
  <Override PartName="/ppt/media/image21.gif" ContentType="image/gif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comments/comment1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<Relationship Id="rId36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11-09-28T15:06:36.936000000" idx="1">
    <p:pos x="5238" y="1463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45D-532C-4D92-AF28-B9AF0719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F7E-4C14-4033-BCA6-EE16D16A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5BF-A919-4BFE-B069-E317273A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E86-2A1B-4582-B7B9-22ACAF3E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6F7-5094-4CF4-9DD6-3E86E015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1A3-9CFC-4AA7-AFAA-5EFCC8D9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53A-CD55-43D2-B909-860C8FEB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966-A58C-475C-8603-917E6D49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38D-A1CD-4E4E-B9CE-8E277581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232-E8DA-465A-AA1C-3C021891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A18-3B8F-43BB-B4AD-B237D129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908-1039-4C4D-9CE9-C79E9972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4457-DFAE-42BD-93A1-F4BEB73A2C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Untitled7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laser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slide" Target="slide14.xml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slide" Target="slide14.xml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slide" Target="slide14.xml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5640" y="259920"/>
            <a:ext cx="45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有钱你会爱我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195560"/>
            <a:ext cx="91440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深夜里我想说爱你  不知道该从哪说起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屏幕的那头是熟悉的你   而现在出现了距离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好像认识你从上辈子起  每天晚上有我陪着你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爱你在心里我从未提起   而此刻出现了距离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没有钱你会爱我吗   简单的一句话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没有钱你会爱我吗   我愿做个傻瓜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没有钱你会爱我吗   真心的一句话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没有钱你会爱我吗   我想听听你的回答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172360" y="595008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931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11430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请用简洁的语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按故事的开端、发展、高潮、结局来概述情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5146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例：《故乡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深冬，我乘船回故乡，看到故乡萧索景象，心情悲凉起来。在故乡时我见到了闰土和杨二嫂。卖掉老屋后，我带着母亲和宏儿离开了故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Untitled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1066680"/>
            <a:ext cx="25146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990720"/>
            <a:ext cx="7353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精要归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如《故乡》一文可归纳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回故乡——在故乡——离故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56600" y="304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你来试一试吧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680" y="4059360"/>
            <a:ext cx="204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盼于勒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82760" y="4648320"/>
            <a:ext cx="61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开端）    （发展）   （高潮）    （结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44197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44197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44197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77760" y="40384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赞于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87440" y="40384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见于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73440" y="40384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躲于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68360" y="2060640"/>
            <a:ext cx="63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找出文中菲利普夫妇对于勒不同称呼的词语及其态度的变化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8229600" y="5943600"/>
            <a:ext cx="914400" cy="91440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27160" y="396252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79440" y="383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22640" y="4191120"/>
            <a:ext cx="5493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549360"/>
            <a:ext cx="58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圈点勾画出菲利普夫妇对于于勒称呼的词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2276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坏蛋、流氓、无赖、分文不值、正直、有良心、好心的、有办法的，救星、小子、家伙、流氓、贼、讨饭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404640"/>
            <a:ext cx="80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小说的题目是《我的叔叔于勒》，但是从行文看，对于勒仅有几笔直接描写，多是侧面着墨，而对菲利普夫妇的刻画却用了很多篇幅。那么，本文的主人公到底是谁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0920" y="3357720"/>
            <a:ext cx="39621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6194"/>
                <a:gd name="adj2" fmla="val -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幼圆"/>
              </a:rPr>
              <a:t>我的叔叔于勒？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443640" y="3645000"/>
            <a:ext cx="162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楷体"/>
              </a:rPr>
              <a:t>“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楷体"/>
              </a:rPr>
              <a:t>我”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楷体"/>
              <a:ea typeface="华文楷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56000" y="5229360"/>
            <a:ext cx="373356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菲利普夫妇？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990720"/>
            <a:ext cx="685800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 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隶书"/>
              </a:rPr>
              <a:t>小说的</a:t>
            </a:r>
            <a:r>
              <a:rPr b="0" lang="zh-CN" sz="4000" spc="-1" strike="noStrike" u="sng">
                <a:solidFill>
                  <a:srgbClr val="cc3300"/>
                </a:solidFill>
                <a:uFillTx/>
                <a:latin typeface="Times New Roman"/>
                <a:ea typeface="隶书"/>
              </a:rPr>
              <a:t>重要人物，线索人物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隶书"/>
              </a:rPr>
              <a:t>。围饶于勒的命运，小说的故事情节得以展开，作者设置他是为了组织材料，结构故事，推动情节发展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90720" y="1741320"/>
            <a:ext cx="6553080" cy="103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90720" y="8380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  <a:ea typeface="隶书"/>
              </a:rPr>
              <a:t>于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0" y="4799160"/>
          <a:ext cx="1676520" cy="16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4799160"/>
                    <a:ext cx="1676520" cy="16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106668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  <a:ea typeface="华文隶书"/>
              </a:rPr>
              <a:t>“</a:t>
            </a:r>
            <a:r>
              <a:rPr b="0" lang="zh-CN" sz="6000" spc="-1" strike="noStrike">
                <a:solidFill>
                  <a:srgbClr val="008000"/>
                </a:solidFill>
                <a:latin typeface="Times New Roman"/>
                <a:ea typeface="华文隶书"/>
              </a:rPr>
              <a:t>我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95280" y="2001960"/>
            <a:ext cx="6019920" cy="207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47920" y="228600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336600"/>
                </a:solidFill>
                <a:latin typeface="Times New Roman"/>
                <a:ea typeface="华文隶书"/>
              </a:rPr>
              <a:t>故事的见证人，叙述者。“我”从头到尾出现，整个故事由“我”的所见、所闻、所做、所思而构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0" y="4799160"/>
          <a:ext cx="1676520" cy="16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4799160"/>
                    <a:ext cx="1676520" cy="16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66680" y="68580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菲利普夫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858000" cy="114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1280" y="1916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作者把笔墨凝聚在“我”一家在船上遇于勒这一情节上，集中体现菲利普夫妇对于勒态度的骤然变化上，从而刻画菲利普夫妇的性格特征，揭示主题思想。因此，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本文的主人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21560" y="4797360"/>
            <a:ext cx="20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是菲利普夫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812000" y="5635800"/>
          <a:ext cx="1100160" cy="105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0" y="5635800"/>
                    <a:ext cx="11001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685800"/>
            <a:ext cx="7543800" cy="48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可供选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自私 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贪婪 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冷酷 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爱慕虚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E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动作 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F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语言 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G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神态 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H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心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　　毫无疑义，父亲是被这种高贵的吃法打动了，走到我母亲和两个姐姐身边问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;“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你们要不要我请你们吃牡蛎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　　　　　　　人物性格：（　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　　　　　　　描写方法：（　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4724280"/>
            <a:ext cx="1066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Ｅ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685800"/>
          <a:ext cx="7772400" cy="19051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2120" y="838080"/>
            <a:ext cx="7848360" cy="40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可供选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自私 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贪婪 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冷酷 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爱慕虚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E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动作 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F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语言 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G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神态 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H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心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对于叔叔回国这件十拿九稳的事，大家还拟定了上千种计划，甚至计划要用这位叔叔的钱置一所别墅。我不敢肯定父亲对于这个计划是不是进行了商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人物性格：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38080" y="762120"/>
          <a:ext cx="7696080" cy="1752480"/>
        </p:xfrm>
        <a:graphic>
          <a:graphicData uri="http://schemas.openxmlformats.org/drawingml/2006/table">
            <a:tbl>
              <a:tblPr/>
              <a:tblGrid>
                <a:gridCol w="7696080"/>
              </a:tblGrid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6934320" y="4952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A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447920"/>
            <a:ext cx="8610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罗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凡事若在金钱利益上着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难免在人情道义上有几分刻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世上的喜剧不需要金钱就能产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世上的悲剧大半和金钱脱不了关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028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对于金钱，名人这样说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156200"/>
            <a:ext cx="8001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贫居闹市无人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富在深山有远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钱能使鬼推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2120" y="304920"/>
            <a:ext cx="7848360" cy="87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可供选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自私 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贪婪 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冷酷 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爱慕虚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E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动作 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F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语言 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G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神态 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H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、心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我父亲早已脸色煞白，两眼呆直，哑着嗓子说：“啊！啊！原来如此……如此……我早就看出来了！……谢谢您，船长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我母亲吓了一跳，直望着我说：“你简直是疯了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!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拿十个铜子给这个人，给这个流氓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人物性格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描写方法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62120" y="380880"/>
          <a:ext cx="7619760" cy="1752840"/>
        </p:xfrm>
        <a:graphic>
          <a:graphicData uri="http://schemas.openxmlformats.org/drawingml/2006/table">
            <a:tbl>
              <a:tblPr/>
              <a:tblGrid>
                <a:gridCol w="7619760"/>
              </a:tblGrid>
              <a:tr h="17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5943600" y="5181480"/>
            <a:ext cx="762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685800" y="609480"/>
            <a:ext cx="8153280" cy="3835800"/>
            <a:chOff x="685800" y="609480"/>
            <a:chExt cx="8153280" cy="3835800"/>
          </a:xfrm>
        </p:grpSpPr>
        <p:sp>
          <p:nvSpPr>
            <p:cNvPr id="152" name=""/>
            <p:cNvSpPr/>
            <p:nvPr/>
          </p:nvSpPr>
          <p:spPr>
            <a:xfrm>
              <a:off x="1086480" y="6094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菲利普：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3960" y="1600200"/>
              <a:ext cx="70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、永不变更的话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96960" y="2541600"/>
              <a:ext cx="290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、上千种计划——甚至要置买别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" y="337644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、脸色早已煞白，两眼呆直，哑着嗓子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神色狼狈，低声嘟哝：——出大乱子了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816920" y="5029200"/>
            <a:ext cx="515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    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急切的心态，贪婪的本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希望破灭后的失落与惶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1108800" y="533520"/>
            <a:ext cx="6820200" cy="4196160"/>
            <a:chOff x="1108800" y="533520"/>
            <a:chExt cx="6820200" cy="4196160"/>
          </a:xfrm>
        </p:grpSpPr>
        <p:sp>
          <p:nvSpPr>
            <p:cNvPr id="158" name=""/>
            <p:cNvSpPr/>
            <p:nvPr/>
          </p:nvSpPr>
          <p:spPr>
            <a:xfrm>
              <a:off x="1108800" y="533520"/>
              <a:ext cx="170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克拉丽丝：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05560" y="1447920"/>
              <a:ext cx="49107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、夸于勒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       “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只要这个好心的于勒一回来…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他真是个有办法的人……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98920" y="3173400"/>
              <a:ext cx="6130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、骂于勒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       “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我就知道这个贼是不会有出息的…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早晚会重新……”“讨饭的”“流氓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295280" y="504504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刻薄、势利表露无余，但比丈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更有心计，马上沉着地指挥着一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620440" y="1600200"/>
            <a:ext cx="363348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打发丈夫向船长打听，证实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让儿子若瑟夫去付款，夫妇俩回避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叮嘱丈夫千万别让女婿看出来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撤离现场——是非之地，不可久留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8280" y="51814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指挥若定，大将风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981080" y="457200"/>
            <a:ext cx="54864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物形象小结</a:t>
            </a:r>
            <a:endParaRPr b="1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5" name=""/>
          <p:cNvSpPr/>
          <p:nvPr/>
        </p:nvSpPr>
        <p:spPr>
          <a:xfrm>
            <a:off x="1042920" y="1628640"/>
            <a:ext cx="727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菲利普夫妇、于勒、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43828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丈夫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2438280"/>
            <a:ext cx="58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自私、冷酷、虚伪、贪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3200400"/>
            <a:ext cx="140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懦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4005360"/>
            <a:ext cx="18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华文行楷"/>
                <a:ea typeface="华文行楷"/>
              </a:rPr>
              <a:t>妻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4076640"/>
            <a:ext cx="540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吝啬、尖刻、有心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31480" y="508464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唯利是图、金钱至上、爱慕虚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295280" y="198108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你认为菲利普夫妇的做法合乎情理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304920"/>
            <a:ext cx="364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</a:rPr>
              <a:t>理解主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5473800"/>
            <a:ext cx="167652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924360" y="260280"/>
            <a:ext cx="432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资产阶级撕下了罩在家庭关系上的温情脉脉的面纱，把这种关系变成了纯粹的金钱关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375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33cc"/>
                </a:solidFill>
                <a:latin typeface="Times New Roman"/>
                <a:ea typeface="黑体"/>
              </a:rPr>
              <a:t>货币能使各种冰炭难容的人亲密起来，迫使势不两立的人互相亲吻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mks"/>
          <p:cNvPicPr/>
          <p:nvPr/>
        </p:nvPicPr>
        <p:blipFill>
          <a:blip r:embed="rId1"/>
          <a:stretch/>
        </p:blipFill>
        <p:spPr>
          <a:xfrm>
            <a:off x="826920" y="260280"/>
            <a:ext cx="1905120" cy="2667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egs"/>
          <p:cNvPicPr/>
          <p:nvPr/>
        </p:nvPicPr>
        <p:blipFill>
          <a:blip r:embed="rId2"/>
          <a:stretch/>
        </p:blipFill>
        <p:spPr>
          <a:xfrm>
            <a:off x="826920" y="3357720"/>
            <a:ext cx="18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GIF-26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987640" y="333360"/>
            <a:ext cx="685800" cy="6429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272680" y="513360"/>
            <a:ext cx="139932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马克思          恩格斯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666880" y="0"/>
            <a:ext cx="4191120" cy="764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方正隶书简体"/>
                <a:ea typeface="方正隶书简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世 态 炎 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7470720" y="0"/>
            <a:ext cx="10638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993300"/>
                </a:solidFill>
                <a:latin typeface="Times New Roman"/>
                <a:ea typeface="黑体"/>
              </a:rPr>
              <a:t>十年思盼，天涯咫尺，同胞好似摇钱树；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13080" y="0"/>
            <a:ext cx="622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993300"/>
                </a:solidFill>
                <a:latin typeface="Times New Roman"/>
                <a:ea typeface="黑体"/>
              </a:rPr>
              <a:t>一朝相逢，咫尺天涯，骨肉恰如陌路人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5932800" y="1676520"/>
            <a:ext cx="1277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贫居闹市无人问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38040" y="1676520"/>
            <a:ext cx="729000" cy="39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富在深山有远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874880" y="33336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主题思想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11280" y="1773360"/>
            <a:ext cx="79246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通过描述菲利普夫妇对亲兄弟于勒前后截然不同的态度，艺术地揭示了资本主义国家人与人之间的关系是赤裸裸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金钱关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无情鞭挞了小市民的势利贪鄙，冷酷自私的丑陋灵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box05"/>
          <p:cNvPicPr/>
          <p:nvPr/>
        </p:nvPicPr>
        <p:blipFill>
          <a:blip r:embed="rId1"/>
          <a:stretch/>
        </p:blipFill>
        <p:spPr>
          <a:xfrm>
            <a:off x="0" y="0"/>
            <a:ext cx="5486400" cy="1905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179280" y="333360"/>
            <a:ext cx="4648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质疑探究  体验金钱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732720" y="0"/>
            <a:ext cx="2232000" cy="3141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68360" y="1695600"/>
            <a:ext cx="6724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钱可以买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别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，金钱买不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亲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钱可以买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＿ ＿ 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，金钱买不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钱可以买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＿ ＿ 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，金钱买不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钱可以买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＿ ＿ 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，金钱买不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钱可以买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＿ ＿ 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，金钱买不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35280" y="189000"/>
            <a:ext cx="68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方正黄草简体"/>
              </a:rPr>
              <a:t>我的叔叔于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1413000"/>
            <a:ext cx="33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莫  泊  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306864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把人物置于情节对比之中塑造；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3" descr="box05"/>
          <p:cNvPicPr/>
          <p:nvPr/>
        </p:nvPicPr>
        <p:blipFill>
          <a:blip r:embed="rId1"/>
          <a:stretch/>
        </p:blipFill>
        <p:spPr>
          <a:xfrm>
            <a:off x="0" y="0"/>
            <a:ext cx="4572000" cy="17524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539640" y="33336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黑体"/>
              </a:rPr>
              <a:t>一课 一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250920" y="1844640"/>
            <a:ext cx="633708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小说怎样才能写得精彩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0" y="495288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3300"/>
                </a:solidFill>
                <a:latin typeface="Times New Roman"/>
                <a:ea typeface="黑体"/>
              </a:rPr>
              <a:t>三、塑造人物形象运用了语言、动作、神态等人物描写方法</a:t>
            </a:r>
            <a:r>
              <a:rPr b="1" lang="zh-CN" sz="3800" spc="-1" strike="noStrike">
                <a:solidFill>
                  <a:srgbClr val="cc3300"/>
                </a:solidFill>
                <a:latin typeface="Times New Roman"/>
                <a:ea typeface="黑体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0" y="3962520"/>
            <a:ext cx="7667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66"/>
                </a:solidFill>
                <a:latin typeface="Times New Roman"/>
                <a:ea typeface="黑体"/>
              </a:rPr>
              <a:t>二、在矛盾冲突中展示人物形象；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1403280" y="189000"/>
            <a:ext cx="3168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拓展思维合理想象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990720"/>
            <a:ext cx="723924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展开想象翅膀，续写一个片段，力求通过动作、神态、语言等描写方法展示人物内心世界。如果故事情节发展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菲利普夫妇在游轮上巧遇的是发了大财的于勒，他们会怎样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我们全家在船上没能避开于勒，大家都明明白白认出了对方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于勒没有穷困潦倒，而是衣锦还乡，我们在栈桥边等到了他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学反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在合作讨论与交流表达中结束了，回顾这篇文章的教学。我觉得两种构想的实施是成功的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  一、给学生充分的时间和自由读好文本。这是对话的基础。通读文本，并读出自己的感受。这样的阅读才是自由的阅读，有效的阅读。而我们平时的教学，学生自己读书的时间少，自己读出感受的更少。上课伊始，学生还未开口读书，学生未及进入作品之中体验，教师就已经强加给了学生，表现出教师对学生阅读能力和阅读体验的充分不相信。我在教学中，给学生一节课自由读书（自习除外），并要求在读完后能谈自己对作品、人物的认识。事实证明，这个目标实现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  二、为学生创设主问题有层次地探究文本。这是对话的关键。作为世界文学的精典名篇，既有内容的广度，又有思想的深度。这篇小说怎样教学才能实现耗时少、效果好，我设计了四个主问题和四个亮点探究活动：寻读，解决主要人物和线索人物的问题，这是打开文本的钥匙；理读，解决作品的思路，这是学生最易获得的感性认识，并通过理性探究体会构思精美；品读，通过品读细节认识人物形象，并进而学习人物塑造的方法，这是小说阅读的中心任务；说读，表达自己对文章主题、美点、人物的认识和理解，这是阅读的更高层次。这样，由浅入深、层层推进。让学生逐步感受到探究文本的意义和阅读活动的乐趣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47640" y="152280"/>
            <a:ext cx="7062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28195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0" y="563868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48520" y="563868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743200" y="571500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772400" y="563868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71600" y="38088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522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学教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762120"/>
            <a:ext cx="6629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知识目标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：学习通过语言、动作、神态等描写刻画人物性格的手法；学习运用对比手法刻画人物形象；理解小说表现的主题思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能力目标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：抓住菲利普夫妇态度变化，通过对人物形象和主题的分析，培养学生的分析概括能力和想象的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情感目标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：通过对本文主题的理解，树立正确的金钱观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价值观和人生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50920" y="1197000"/>
            <a:ext cx="2438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作者介绍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"/>
          <p:cNvSpPr/>
          <p:nvPr/>
        </p:nvSpPr>
        <p:spPr>
          <a:xfrm>
            <a:off x="2627280" y="549360"/>
            <a:ext cx="61214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莫泊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850-1893)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批判现实主义作家。 生于没落贵族家庭。自幼酷爱文学，七十年代刻苦学习写作，大作家福楼拜是他的文学导师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短篇小说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世，轰动法国文坛，是作者的最佳作。长篇小说中最出色的是《一生》和《俊友》。短篇小说《家人》、《两个朋友》、《项链》等，都是脍炙人口的名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2365200" cy="345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473240" y="54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51160" y="3357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《羊脂球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26028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习展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08360" y="4489920"/>
            <a:ext cx="451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459680"/>
            <a:ext cx="63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方正启体简体"/>
                <a:ea typeface="方正启体简体"/>
              </a:rPr>
              <a:t>法国的</a:t>
            </a:r>
            <a:r>
              <a:rPr b="1" lang="zh-CN" sz="3200" spc="-1" strike="noStrike">
                <a:solidFill>
                  <a:srgbClr val="0000cc"/>
                </a:solidFill>
                <a:latin typeface="方正启体简体"/>
                <a:ea typeface="方正启体简体"/>
              </a:rPr>
              <a:t>莫泊桑</a:t>
            </a:r>
            <a:r>
              <a:rPr b="1" lang="zh-CN" sz="3200" spc="-1" strike="noStrike">
                <a:solidFill>
                  <a:srgbClr val="ff0066"/>
                </a:solidFill>
                <a:latin typeface="方正启体简体"/>
                <a:ea typeface="方正启体简体"/>
              </a:rPr>
              <a:t>—《羊脂球》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方正启体简体"/>
                <a:ea typeface="方正启体简体"/>
              </a:rPr>
              <a:t>俄国的</a:t>
            </a:r>
            <a:r>
              <a:rPr b="1" lang="zh-CN" sz="3200" spc="-1" strike="noStrike">
                <a:solidFill>
                  <a:srgbClr val="0000cc"/>
                </a:solidFill>
                <a:latin typeface="方正启体简体"/>
                <a:ea typeface="方正启体简体"/>
              </a:rPr>
              <a:t>契诃夫</a:t>
            </a:r>
            <a:r>
              <a:rPr b="1" lang="zh-CN" sz="3200" spc="-1" strike="noStrike">
                <a:solidFill>
                  <a:srgbClr val="ff0066"/>
                </a:solidFill>
                <a:latin typeface="方正启体简体"/>
                <a:ea typeface="方正启体简体"/>
              </a:rPr>
              <a:t>—《变色龙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方正启体简体"/>
                <a:ea typeface="方正启体简体"/>
              </a:rPr>
              <a:t>美国的</a:t>
            </a:r>
            <a:r>
              <a:rPr b="1" lang="zh-CN" sz="3200" spc="-1" strike="noStrike">
                <a:solidFill>
                  <a:srgbClr val="0000cc"/>
                </a:solidFill>
                <a:latin typeface="方正启体简体"/>
                <a:ea typeface="方正启体简体"/>
              </a:rPr>
              <a:t>欧</a:t>
            </a:r>
            <a:r>
              <a:rPr b="1" lang="zh-CN" sz="3200" spc="-1" strike="noStrike">
                <a:solidFill>
                  <a:srgbClr val="0000cc"/>
                </a:solidFill>
                <a:latin typeface="方正启体简体"/>
                <a:ea typeface="方正启体简体"/>
              </a:rPr>
              <a:t>·</a:t>
            </a:r>
            <a:r>
              <a:rPr b="1" lang="zh-CN" sz="3200" spc="-1" strike="noStrike">
                <a:solidFill>
                  <a:srgbClr val="0000cc"/>
                </a:solidFill>
                <a:latin typeface="方正启体简体"/>
                <a:ea typeface="方正启体简体"/>
              </a:rPr>
              <a:t>亨利</a:t>
            </a:r>
            <a:r>
              <a:rPr b="1" lang="zh-CN" sz="3200" spc="-1" strike="noStrike">
                <a:solidFill>
                  <a:srgbClr val="ff0066"/>
                </a:solidFill>
                <a:latin typeface="方正启体简体"/>
                <a:ea typeface="方正启体简体"/>
              </a:rPr>
              <a:t>—《麦琪的礼物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方正启体简体"/>
                <a:ea typeface="方正启体简体"/>
              </a:rPr>
              <a:t>美国的</a:t>
            </a:r>
            <a:r>
              <a:rPr b="1" lang="zh-CN" sz="3200" spc="-1" strike="noStrike">
                <a:solidFill>
                  <a:srgbClr val="0000cc"/>
                </a:solidFill>
                <a:latin typeface="方正启体简体"/>
                <a:ea typeface="方正启体简体"/>
              </a:rPr>
              <a:t>马克</a:t>
            </a:r>
            <a:r>
              <a:rPr b="1" lang="zh-CN" sz="3200" spc="-1" strike="noStrike">
                <a:solidFill>
                  <a:srgbClr val="0000cc"/>
                </a:solidFill>
                <a:latin typeface="方正启体简体"/>
                <a:ea typeface="方正启体简体"/>
              </a:rPr>
              <a:t>·</a:t>
            </a:r>
            <a:r>
              <a:rPr b="1" lang="zh-CN" sz="3200" spc="-1" strike="noStrike">
                <a:solidFill>
                  <a:srgbClr val="0000cc"/>
                </a:solidFill>
                <a:latin typeface="方正启体简体"/>
                <a:ea typeface="方正启体简体"/>
              </a:rPr>
              <a:t>吐温</a:t>
            </a:r>
            <a:r>
              <a:rPr b="1" lang="zh-CN" sz="3200" spc="-1" strike="noStrike">
                <a:solidFill>
                  <a:srgbClr val="ff0066"/>
                </a:solidFill>
                <a:latin typeface="方正启体简体"/>
                <a:ea typeface="方正启体简体"/>
              </a:rPr>
              <a:t>—《竞选州长 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0"/>
            <a:ext cx="87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他擅长从平凡琐屑的事物中截取富有典型意义的片断，以小见大地概括出生活的真实。他的短篇小说侧重摹写人情世态，构思布局别具匠心，细节描写、人物语言和故事结尾均有独到之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屠格涅夫认为他是</a:t>
            </a: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世纪末法国文坛上“最卓越的天才”。左拉：他的作品“无限地丰富多彩，无不精彩绝妙，令人叹为观止”。恩格斯：“应该向莫泊桑脱帽致敬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6240" y="37004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方正硬笔楷书简体"/>
              </a:rPr>
              <a:t>世界四大短篇小说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372360" y="3500280"/>
            <a:ext cx="2771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9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下列画线字的读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拮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   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桥（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煞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（       ）   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（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（       ）   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牡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   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纹（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褴褛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   阔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婿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   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嘟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14300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zhà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209680"/>
            <a:ext cx="12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sh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2209680"/>
            <a:ext cx="13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qià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12193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jié   j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314172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ch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20040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mǔ   l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419112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sh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4191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zhò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525780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lán   l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5181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ch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621648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x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6216480"/>
            <a:ext cx="22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dū no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27640" y="18900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习展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360" y="333360"/>
            <a:ext cx="395892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释下列词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拮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煞白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呆直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拿九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褴褛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1219320"/>
            <a:ext cx="569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缺少钱，经济境况不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1916280"/>
            <a:ext cx="6168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由于恐惧、愤怒或某种疾病等原因，面色极白，没有血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343548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脸上表情死板；发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4267080"/>
            <a:ext cx="38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惊慌。皇用“惶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3280" y="494172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比喻很有把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566748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衣服破烂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0" y="4799160"/>
          <a:ext cx="1676520" cy="16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799160"/>
                    <a:ext cx="1676520" cy="16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flipH="1" rot="10800000">
            <a:off x="2133720" y="4343400"/>
            <a:ext cx="75960" cy="76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5280" y="26028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方正瘦金书简体"/>
                <a:ea typeface="方正瘦金书简体"/>
              </a:rPr>
              <a:t>朗读课文</a:t>
            </a:r>
            <a:r>
              <a:rPr b="1" lang="zh-CN" sz="4800" spc="-1" strike="noStrike">
                <a:solidFill>
                  <a:srgbClr val="ff0066"/>
                </a:solidFill>
                <a:latin typeface="方正瘦金书简体"/>
                <a:ea typeface="方正瘦金书简体"/>
              </a:rPr>
              <a:t>,</a:t>
            </a:r>
            <a:r>
              <a:rPr b="1" lang="zh-CN" sz="4800" spc="-1" strike="noStrike">
                <a:solidFill>
                  <a:srgbClr val="ff0066"/>
                </a:solidFill>
                <a:latin typeface="方正瘦金书简体"/>
                <a:ea typeface="方正瘦金书简体"/>
              </a:rPr>
              <a:t>思考问题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206064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文中写了一个怎样的故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小说塑造了哪些人物形象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3092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找出课文中的人物是怎么评价于勒的</a:t>
            </a: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包括怎么称呼他的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885080" y="5805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04701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4:08:56Z</dcterms:created>
  <dc:creator>新课标第一网xkb1.com; zzy</dc:creator>
  <dc:description>新课标第一网xkb1.com</dc:description>
  <cp:keywords>新课标第一网xkb1.com</cp:keywords>
  <dc:language>en-US</dc:language>
  <cp:lastModifiedBy>新课标第一网</cp:lastModifiedBy>
  <dcterms:modified xsi:type="dcterms:W3CDTF">2011-09-28T07:06:38Z</dcterms:modified>
  <cp:revision>50</cp:revision>
  <dc:subject>新课标第一网xkb1.com</dc:subject>
  <dc:title>新课标第一网xkb1.com</dc:title>
</cp:coreProperties>
</file>