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1BD-6120-4BD4-8684-A503E112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BE5-C0AC-41BE-801A-C82520A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667-7173-416C-B9CB-7CA8F32B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3A8-84F9-4C93-905C-D23FD24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D25-53CA-478A-820D-88462CA1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F4E5-0AAE-4C76-8666-1CBC6F30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7F2-4CBE-4E83-8A43-F1EBBEB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AEF-498B-4644-ADD8-E8B30878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ACE5-F3D9-4264-BCE2-8975AB6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C0B8-0753-457A-AEFC-6DEE42DB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CB8A-E5B0-4103-BA83-DD6BBB5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947-6CE5-4C2E-8277-79F5C2D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8BBC-B250-4C16-B0F2-65D4EA8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E22-4018-4B38-8197-BA73ED5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F387-4885-4DF4-8E81-C964AB6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986D-9B06-4E5A-8D3D-D83D7E95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017-7F26-4FEF-BE73-8E398D53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1B1-A417-4C3E-912F-3B0D03F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B26-005B-4DCC-8727-51BEAC4F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CBF-07A8-4092-A719-1F0198F3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DDF-F755-4F33-8F77-6608A0A1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BAA-4C9C-4BCE-9CBC-A711085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CA9-D424-44F4-9FFB-1A9F89A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981-67D1-4BC6-94AB-04E093D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9080" cy="5328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0760"/>
              <a:ext cx="1609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4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76bc71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5796000" y="6165360"/>
            <a:ext cx="29368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向青春举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体悟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272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7" name="Rectangle 54"/>
          <p:cNvSpPr/>
          <p:nvPr/>
        </p:nvSpPr>
        <p:spPr>
          <a:xfrm>
            <a:off x="900000" y="3718080"/>
            <a:ext cx="743040" cy="742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0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6681600" y="6085080"/>
              <a:ext cx="2367000" cy="13968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74" name="Freeform 8"/>
            <p:cNvSpPr/>
            <p:nvPr/>
          </p:nvSpPr>
          <p:spPr>
            <a:xfrm rot="10800000">
              <a:off x="8081640" y="1780200"/>
              <a:ext cx="72000" cy="221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 rot="10800000">
              <a:off x="7346880" y="1778040"/>
              <a:ext cx="85320" cy="2545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 rot="10800000">
              <a:off x="8115840" y="1780200"/>
              <a:ext cx="277920" cy="386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 rot="10800000">
              <a:off x="6168240" y="1780200"/>
              <a:ext cx="272160" cy="386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 rot="10800000">
              <a:off x="6579360" y="1780200"/>
              <a:ext cx="167400" cy="241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rot="10800000">
              <a:off x="6960240" y="1778400"/>
              <a:ext cx="167400" cy="340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10800000">
              <a:off x="7794360" y="1778040"/>
              <a:ext cx="315720" cy="652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 rot="10800000">
              <a:off x="6790680" y="1778040"/>
              <a:ext cx="176760" cy="3848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 rot="10800000">
              <a:off x="8528760" y="1778040"/>
              <a:ext cx="243720" cy="535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 rot="10800000">
              <a:off x="6682320" y="1778040"/>
              <a:ext cx="129240" cy="471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 rot="10800000">
              <a:off x="8359560" y="1778040"/>
              <a:ext cx="210960" cy="779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 rot="10800000">
              <a:off x="7634520" y="1778040"/>
              <a:ext cx="190080" cy="417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 rot="10800000">
              <a:off x="6004800" y="1778040"/>
              <a:ext cx="190080" cy="417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 rot="10800000">
              <a:off x="7095600" y="1780200"/>
              <a:ext cx="332640" cy="736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 rot="10800000">
              <a:off x="7456680" y="1778040"/>
              <a:ext cx="184680" cy="683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 rot="10800000">
              <a:off x="6415560" y="1778040"/>
              <a:ext cx="184680" cy="683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0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3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3" name="Freeform 30"/>
            <p:cNvSpPr/>
            <p:nvPr/>
          </p:nvSpPr>
          <p:spPr>
            <a:xfrm>
              <a:off x="85680" y="1168200"/>
              <a:ext cx="8982000" cy="81756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31"/>
            <p:cNvSpPr/>
            <p:nvPr/>
          </p:nvSpPr>
          <p:spPr>
            <a:xfrm>
              <a:off x="85680" y="853920"/>
              <a:ext cx="8982000" cy="103968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32"/>
            <p:cNvSpPr/>
            <p:nvPr/>
          </p:nvSpPr>
          <p:spPr>
            <a:xfrm>
              <a:off x="85680" y="1685880"/>
              <a:ext cx="2374920" cy="155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38"/>
          <p:cNvSpPr/>
          <p:nvPr/>
        </p:nvSpPr>
        <p:spPr>
          <a:xfrm>
            <a:off x="3276720" y="5300640"/>
            <a:ext cx="741240" cy="743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8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778E-BD59-4168-9F9F-EE31AAEA34B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79280" y="4581360"/>
            <a:ext cx="2952720" cy="163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0"/>
          <p:cNvSpPr/>
          <p:nvPr/>
        </p:nvSpPr>
        <p:spPr>
          <a:xfrm>
            <a:off x="108000" y="3718080"/>
            <a:ext cx="741240" cy="74268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字词积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70000"/>
              </a:lnSpc>
              <a:spcBef>
                <a:spcPts val="7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汗流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jiā (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浃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背       痴心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wàng (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妄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想     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入不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fū (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敷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出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   命运不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jì (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济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7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è (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厄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运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焦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zhuó(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灼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biě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（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瘪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 ）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锈钝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怨天尤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7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多音字：颤抖  载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挣脱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7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祈望——企望——期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对比阅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197000"/>
            <a:ext cx="374472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天，我迎来了收获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想着酸甜苦乐的日子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获虽然不多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有一个真实的自我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细想来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知晴日多于阴雨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获多于劳作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我认真地活了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愧于我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8160" y="1270080"/>
            <a:ext cx="4390920" cy="61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日，暖阳照到我的脸上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漫天雪花飘落的田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反思自己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是否做错了什么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生命不可能有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个四季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来的四季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会属于另一个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那是怎样地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望眼欲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望眼欲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呐！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着、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风吹过来了，但那阵风强了一点，把那片载着雨滴的云朵吹了过去，吹到另一片土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顿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我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懊</a:t>
            </a:r>
            <a:r>
              <a:rPr b="1" lang="zh-CN" sz="2800" spc="-1" strike="noStrike">
                <a:solidFill>
                  <a:srgbClr val="185e25"/>
                </a:solidFill>
                <a:latin typeface="Arial"/>
                <a:ea typeface="宋体"/>
              </a:rPr>
              <a:t>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我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哭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恨不得把自己撕成碎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有什么用呢？再重新开始吧，这样浅显的经验却需要比别人付出加倍的代价来记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眼睁睁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看过，在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无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冰雹下，我那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刚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灌浆、远远没有长成的谷穗，在细弱的稻杆上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摇摇摆摆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挣扎，却无力挣脱生养它，却又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牢牢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锁住它的大地，永远没有尝受过成熟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么一种滋味，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便夭折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我曾张开我的双臂，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愿将我全身的皮肉，碾成一张大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为我的青苗遮挡</a:t>
            </a: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狂风、暴雨、冰雹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望着我那干瘪的谷粒，心里有一种</a:t>
            </a:r>
            <a:r>
              <a:rPr b="1" lang="zh-CN" sz="3200" spc="-1" strike="noStrike">
                <a:solidFill>
                  <a:srgbClr val="185e25"/>
                </a:solidFill>
                <a:latin typeface="Arial"/>
                <a:ea typeface="宋体"/>
              </a:rPr>
              <a:t>又酸又苦的欢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要我</a:t>
            </a:r>
            <a:r>
              <a:rPr b="1" lang="zh-CN" sz="3200" spc="-1" strike="noStrike">
                <a:solidFill>
                  <a:srgbClr val="185e25"/>
                </a:solidFill>
                <a:latin typeface="Arial"/>
                <a:ea typeface="宋体"/>
              </a:rPr>
              <a:t>认真地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，</a:t>
            </a:r>
            <a:r>
              <a:rPr b="1" lang="zh-CN" sz="3200" spc="-1" strike="noStrike">
                <a:solidFill>
                  <a:srgbClr val="185e25"/>
                </a:solidFill>
                <a:latin typeface="Arial"/>
                <a:ea typeface="宋体"/>
              </a:rPr>
              <a:t>无愧地付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。人们将无权耻笑我是入不敷出的傻瓜，也不必用他的尺度来衡量我值得或是不值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86080"/>
            <a:ext cx="81043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在生命的黄昏里，哀叹和寂寞的，将不是我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已经爱过，恨过，欢笑过，哭泣过，体味过，彻悟过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··· ···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细细想来，编织晴日多于阴雨，收获多于劳作。只要我认真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地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活过，无愧地付出过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生命不在于结果怎样，更重要的是在过程中精心耕耘过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1413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185e25"/>
                </a:solidFill>
                <a:latin typeface="宋体"/>
                <a:ea typeface="宋体"/>
              </a:rPr>
              <a:t>落寞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的田野：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落寞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.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落拓，潦倒。《京本通俗小说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·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错斩崔宁》：“你是一时运限不好，如此落寞。”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. 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冷落，寂寞。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王统照</a:t>
            </a:r>
            <a:r>
              <a:rPr b="1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《纪梦》：“她是孤寂的、落寞的，如同远处跑来的一个陌生人。”也可理解成对生命的愧疚和落寞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628640"/>
            <a:ext cx="8012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冷静地检点自己：我为什么失败，我做错过什么，我欠过别人什么……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645000"/>
            <a:ext cx="813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这样浅显的经验却需要比别人付出加倍的代价来记取。不应该怨天尤人，会有一个时辰，留给我检点自己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557360"/>
            <a:ext cx="7777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未来的四季将属于另一个新的生命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852640"/>
            <a:ext cx="79930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一个孕育着生命的母亲，期待着自己将要出生的婴儿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细读品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如四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季播种希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季经受考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季收获感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季回望品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认真活过，无愧的付出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哀叹和寂寞的，终将不会是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谢 谢</a:t>
            </a:r>
            <a:r>
              <a:rPr b="1" lang="en-US" sz="60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0" y="2492280"/>
            <a:ext cx="6124680" cy="17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5e25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我的四季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94400" y="4044960"/>
            <a:ext cx="2254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5e25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185e25"/>
                </a:solidFill>
                <a:latin typeface="Arial"/>
                <a:ea typeface="楷体_GB2312"/>
              </a:rPr>
              <a:t>张洁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整体感知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生命如四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因为生命如四季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荣到枯，由盛到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生命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··· ···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整体感知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4831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分组情况，在这一季节中作者遭遇了什么，你认为是什么让她渡过难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2"/>
          <a:stretch/>
        </p:blipFill>
        <p:spPr>
          <a:xfrm>
            <a:off x="6227640" y="3365640"/>
            <a:ext cx="245916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知人识文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557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我饿啊！我真不记得什么时候，那种饥饿的感觉曾经离开过我，就是现在，每当我回忆起那个时候的情景，留在我记忆里最鲜明的感觉，也还是一片饥饿……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              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645000"/>
            <a:ext cx="78469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冰凉的河水呛得我好难受，我几乎背过气去，而河水却依旧在我身边不停地流着，流着……在由于恐怖而变得混乱的意识里，却出奇清晰地反映出岸上那个追赶我的人的残酷笑声。</a:t>
            </a:r>
            <a:r>
              <a:rPr b="0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——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张洁《挖荠菜》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知人识文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" y="1557360"/>
            <a:ext cx="84963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我只能利用业余时间写作。我只有一间房子，晚上为了不影响母亲、女儿的休息，我在厨房的切菜板上写。在洗衣服时，或是上班的路上进行构思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我自己因为入不敷出，白天忙完办公室里的工作，晚上还要给工厂缝手套，给工程师抄讲义，以补偿工资收入之不足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                                         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张洁《我的第一本书》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知人识文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Rectangle 3" descr=""/>
          <p:cNvPicPr/>
          <p:nvPr/>
        </p:nvPicPr>
        <p:blipFill>
          <a:blip r:embed="rId2"/>
          <a:stretch/>
        </p:blipFill>
        <p:spPr>
          <a:xfrm>
            <a:off x="684360" y="1630440"/>
            <a:ext cx="3938400" cy="2735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932360" y="2205000"/>
            <a:ext cx="388764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张洁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早期主张“爱”与“美”的文学探索和表现，这一时期的散文创作成为“大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列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640" y="4754520"/>
            <a:ext cx="8047080" cy="67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是以</a:t>
            </a:r>
            <a:r>
              <a:rPr b="1" lang="en-US" sz="2400" spc="-1" strike="noStrike">
                <a:solidFill>
                  <a:srgbClr val="185e25"/>
                </a:solidFill>
                <a:latin typeface="宋体"/>
                <a:ea typeface="宋体"/>
              </a:rPr>
              <a:t>轻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185e25"/>
                </a:solidFill>
                <a:latin typeface="宋体"/>
                <a:ea typeface="宋体"/>
              </a:rPr>
              <a:t>自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185e25"/>
                </a:solidFill>
                <a:latin typeface="宋体"/>
                <a:ea typeface="宋体"/>
              </a:rPr>
              <a:t>冷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的笔法写出对于人生的体悟和思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推荐阅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拣麦穗》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畅谈感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善良过分就会变成糊涂和愚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为了保护我的青苗不惜将皮肉碾成大幕，为他挡住成长中可能遇到的狂风暴雨</a:t>
            </a:r>
            <a:r>
              <a:rPr b="1" lang="zh-CN" sz="3200" spc="-1" strike="noStrike">
                <a:solidFill>
                  <a:srgbClr val="185e25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对比阅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1270080"/>
            <a:ext cx="396072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四季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天，我怀着希望播种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泥土里的种子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芽 生长 开花 结果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听一个母亲期待着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要出生的孩子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期待就会有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e89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32440" y="1413000"/>
            <a:ext cx="231444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日，我站在田间 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着南来的风儿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散那片云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祈求一阵雨 一缕风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风来了 雨来了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那么的不尽人意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散了我的梦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用全身为我的青苗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遮挡狂风暴雨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2:03:51Z</dcterms:created>
  <dc:creator>willon</dc:creator>
  <dc:description/>
  <cp:keywords/>
  <dc:language>en-US</dc:language>
  <cp:lastModifiedBy>User</cp:lastModifiedBy>
  <dcterms:modified xsi:type="dcterms:W3CDTF">2012-12-09T12:19:19Z</dcterms:modified>
  <cp:revision>27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  <property fmtid="{D5CDD505-2E9C-101B-9397-08002B2CF9AE}" pid="3" name="NXTAG2">
    <vt:lpwstr>000800b404000000000001024120</vt:lpwstr>
  </property>
</Properties>
</file>