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F8A-63F7-4DC0-8099-9392FAF2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24D-14B2-4BFF-B7C0-7B72B3E4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D01-5570-4BCD-A2C5-8043AED9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84E-0594-4B2F-89D5-A41A6161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50C-4F3D-403D-85AF-F4473173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6BB-42FB-4D12-BA8A-BE5B251E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27C-889F-4B99-8842-0CA17C6A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224-85F7-4C0E-8805-75E4B9CB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066-1234-41FD-A707-EB812BA3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292-ED21-46AA-B31C-04A04E19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3BD-CCD6-445A-8096-6E19BA82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81A3-C98B-4D7C-A892-5DEBDEFC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A78E-94E4-4EC2-A768-CA3C9DF8E8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t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990720"/>
            <a:ext cx="6934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Times New Roman"/>
                <a:ea typeface="隶书"/>
              </a:rPr>
              <a:t>我     的     老     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36576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Times New Roman"/>
              </a:rPr>
              <a:t>魏      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宋体"/>
              </a:rPr>
              <a:t>作   者   简   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6095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魏巍，现代作家，原名鸿杰，曾用笔名红杨树。河南郑州人。１９２０年生于一个城市贫民家庭。１９３７年抗日战争爆发后，走上革命道路，１９３８年四月加入中国共产党。他一直生活在战士中间。解放战争时，在行军作战的间隙写了大量诗歌。全国解放后，主要作品有散文集︽谁是最可爱的人︾，长篇小说︽东方︾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mage011" descr=""/>
          <p:cNvPicPr/>
          <p:nvPr/>
        </p:nvPicPr>
        <p:blipFill>
          <a:blip r:embed="rId2"/>
          <a:stretch/>
        </p:blipFill>
        <p:spPr>
          <a:xfrm>
            <a:off x="7772400" y="5040360"/>
            <a:ext cx="13716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0000"/>
                </a:solidFill>
                <a:latin typeface="Times New Roman"/>
                <a:ea typeface="黑体"/>
              </a:rPr>
              <a:t>明确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识记文学常识及字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能说出并掌握记叙的要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能概括出文中七件事例及其选材角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培养对老师的热爱之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"/>
            <a:ext cx="1981080" cy="1219320"/>
          </a:xfrm>
          <a:custGeom>
            <a:avLst/>
            <a:gdLst>
              <a:gd name="textAreaLeft" fmla="*/ 495360 w 1981080"/>
              <a:gd name="textAreaRight" fmla="*/ 1486080 w 1981080"/>
              <a:gd name="textAreaTop" fmla="*/ 29520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308" stAng="16200000" swAng="5400000"/>
                <a:lnTo>
                  <a:pt x="8100" y="5231"/>
                </a:lnTo>
                <a:lnTo>
                  <a:pt x="13500" y="5231"/>
                </a:lnTo>
                <a:lnTo>
                  <a:pt x="13500" y="1308"/>
                </a:lnTo>
                <a:arcTo wR="675" hR="1308" stAng="10800000" swAng="5400000"/>
                <a:lnTo>
                  <a:pt x="21600" y="0"/>
                </a:lnTo>
                <a:lnTo>
                  <a:pt x="18900" y="8185"/>
                </a:lnTo>
                <a:lnTo>
                  <a:pt x="21600" y="16369"/>
                </a:lnTo>
                <a:lnTo>
                  <a:pt x="16200" y="16369"/>
                </a:lnTo>
                <a:lnTo>
                  <a:pt x="16200" y="20292"/>
                </a:lnTo>
                <a:arcTo wR="675" hR="1308" stAng="0" swAng="5400000"/>
                <a:lnTo>
                  <a:pt x="6075" y="21600"/>
                </a:lnTo>
                <a:arcTo wR="675" hR="1308" stAng="5400000" swAng="5400000"/>
                <a:lnTo>
                  <a:pt x="5400" y="16369"/>
                </a:lnTo>
                <a:lnTo>
                  <a:pt x="0" y="16369"/>
                </a:lnTo>
                <a:lnTo>
                  <a:pt x="2700" y="8185"/>
                </a:lnTo>
                <a:close/>
              </a:path>
              <a:path fill="none" w="21600" h="21600">
                <a:moveTo>
                  <a:pt x="8100" y="1308"/>
                </a:moveTo>
                <a:arcTo wR="675" hR="1308" stAng="0" swAng="5400000"/>
                <a:lnTo>
                  <a:pt x="6075" y="2616"/>
                </a:lnTo>
                <a:arcTo wR="675" hR="1308" stAng="16200000" swAng="-5400000"/>
                <a:arcTo wR="675" hR="1308" stAng="10800000" swAng="-5400000"/>
                <a:lnTo>
                  <a:pt x="8100" y="5231"/>
                </a:lnTo>
              </a:path>
              <a:path fill="none" w="21600" h="21600">
                <a:moveTo>
                  <a:pt x="13500" y="1308"/>
                </a:moveTo>
                <a:arcTo wR="675" hR="1308" stAng="10800000" swAng="-5400000"/>
                <a:lnTo>
                  <a:pt x="15525" y="2616"/>
                </a:lnTo>
                <a:arcTo wR="675" hR="1308" stAng="16200000" swAng="5400000"/>
                <a:arcTo wR="675" hR="1308" stAng="0" swAng="5400000"/>
                <a:lnTo>
                  <a:pt x="13500" y="5231"/>
                </a:lnTo>
              </a:path>
              <a:path fill="none" w="21600" h="21600">
                <a:moveTo>
                  <a:pt x="5400" y="3923"/>
                </a:moveTo>
                <a:lnTo>
                  <a:pt x="5400" y="16369"/>
                </a:lnTo>
              </a:path>
              <a:path fill="none" w="21600" h="21600">
                <a:moveTo>
                  <a:pt x="16200" y="3923"/>
                </a:moveTo>
                <a:lnTo>
                  <a:pt x="16200" y="16369"/>
                </a:lnTo>
              </a:path>
            </a:pathLst>
          </a:cu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33520"/>
            <a:ext cx="99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字 词学 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0" y="457200"/>
            <a:ext cx="2343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8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00cc99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请你练一练</a:t>
            </a:r>
            <a:endParaRPr b="0" lang="en-US" sz="2400" spc="1" strike="noStrike">
              <a:ln w="9360">
                <a:solidFill>
                  <a:srgbClr val="9933ff"/>
                </a:solidFill>
                <a:miter/>
              </a:ln>
              <a:solidFill>
                <a:srgbClr val="00cc99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181480" y="266760"/>
            <a:ext cx="3962520" cy="1371600"/>
            <a:chOff x="5181480" y="266760"/>
            <a:chExt cx="3962520" cy="1371600"/>
          </a:xfrm>
        </p:grpSpPr>
        <p:sp>
          <p:nvSpPr>
            <p:cNvPr id="54" name=""/>
            <p:cNvSpPr txBox="1"/>
            <p:nvPr/>
          </p:nvSpPr>
          <p:spPr>
            <a:xfrm>
              <a:off x="5181480" y="685800"/>
              <a:ext cx="2819520" cy="65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80008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</a:rPr>
                <a:t>祝贺你已基本掌握啦！</a:t>
              </a:r>
              <a:endParaRPr b="0" lang="en-US" sz="24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  <a:ea typeface="宋体"/>
              </a:endParaRPr>
            </a:p>
          </p:txBody>
        </p:sp>
        <p:graphicFrame>
          <p:nvGraphicFramePr>
            <p:cNvPr id="55" name=""/>
            <p:cNvGraphicFramePr/>
            <p:nvPr/>
          </p:nvGraphicFramePr>
          <p:xfrm>
            <a:off x="7543800" y="266760"/>
            <a:ext cx="160020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43800" y="266760"/>
                      <a:ext cx="160020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" name=""/>
          <p:cNvSpPr/>
          <p:nvPr/>
        </p:nvSpPr>
        <p:spPr>
          <a:xfrm>
            <a:off x="457200" y="18288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一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给生字注音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8600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焚香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褪色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22716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磕头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占卜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352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二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解释词语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809880"/>
            <a:ext cx="1905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模仿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纯真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狡猾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纠纷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943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三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用一个字概括本文的内容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286000"/>
            <a:ext cx="914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fé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tu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286000"/>
            <a:ext cx="129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k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376704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照某种现成的样子学着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纯洁真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诡计多端，不可信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争执的事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5943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 rot="20548200">
            <a:off x="838080" y="380880"/>
            <a:ext cx="3652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8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导读思考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2362320"/>
            <a:ext cx="7772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Times New Roman"/>
                <a:ea typeface="隶书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细读全文，说出本文记叙的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人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并指出所表现的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主要人物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；概括写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本文记叙的事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2286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请认真体会</a:t>
            </a:r>
            <a:r>
              <a:rPr b="1" i="1" lang="zh-CN" sz="4000" spc="-1" strike="noStrike" u="sng">
                <a:solidFill>
                  <a:srgbClr val="ff9933"/>
                </a:solidFill>
                <a:uFillTx/>
                <a:latin typeface="Times New Roman"/>
                <a:ea typeface="黑体"/>
              </a:rPr>
              <a:t>主题思想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3200400"/>
            <a:ext cx="1752840" cy="152280"/>
          </a:xfrm>
          <a:prstGeom prst="leftRightArrow">
            <a:avLst>
              <a:gd name="adj1" fmla="val 50000"/>
              <a:gd name="adj2" fmla="val 229147"/>
            </a:avLst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9718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3399"/>
                </a:solidFill>
                <a:latin typeface="Times New Roman"/>
                <a:ea typeface="黑体"/>
              </a:rPr>
              <a:t>老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30160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3399"/>
                </a:solidFill>
                <a:latin typeface="Times New Roman"/>
                <a:ea typeface="黑体"/>
              </a:rPr>
              <a:t>学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00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假装发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31624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教  跳  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048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观察蜜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8098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教  读  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572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排除纠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1905120"/>
            <a:ext cx="685800" cy="137160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2666880"/>
            <a:ext cx="762120" cy="68580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3429000"/>
            <a:ext cx="68580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362320" y="3428640"/>
            <a:ext cx="609480" cy="68580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362320" y="3505320"/>
            <a:ext cx="609480" cy="137160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1828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看老师写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4343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梦 里寻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5909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3321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1828800"/>
            <a:ext cx="609840" cy="29718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1905120"/>
            <a:ext cx="152640" cy="2819160"/>
          </a:xfrm>
          <a:custGeom>
            <a:avLst/>
            <a:gdLst>
              <a:gd name="textAreaLeft" fmla="*/ 97560 w 152640"/>
              <a:gd name="textAreaRight" fmla="*/ 153000 w 15264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6477120" y="685800"/>
            <a:ext cx="2057400" cy="762120"/>
            <a:chOff x="6477120" y="685800"/>
            <a:chExt cx="2057400" cy="762120"/>
          </a:xfrm>
        </p:grpSpPr>
        <p:sp>
          <p:nvSpPr>
            <p:cNvPr id="91" name=""/>
            <p:cNvSpPr/>
            <p:nvPr/>
          </p:nvSpPr>
          <p:spPr>
            <a:xfrm>
              <a:off x="6477120" y="89388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cc99"/>
                  </a:solidFill>
                  <a:latin typeface="Times New Roman"/>
                  <a:ea typeface="隶书"/>
                </a:rPr>
                <a:t>考考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64400" y="685800"/>
              <a:ext cx="870120" cy="762120"/>
            </a:xfrm>
            <a:prstGeom prst="smileyFace">
              <a:avLst>
                <a:gd name="adj" fmla="val 9282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676520" y="1523880"/>
            <a:ext cx="5181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作者为何要写这七件事</a:t>
            </a:r>
            <a:r>
              <a:rPr b="1" i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是如何安排的</a:t>
            </a:r>
            <a:r>
              <a:rPr b="1" i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24382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从课内到课外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从校园到校外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从平时到假期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全面展示了蔡老师爱学生的美好心灵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更表现对老师的爱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48006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这七件事的安排详略得当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前五件略写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后五件详写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使得文章结构疏密相间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更表现出师生感情的步步加深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E01561_" descr=""/>
          <p:cNvPicPr/>
          <p:nvPr/>
        </p:nvPicPr>
        <p:blipFill>
          <a:blip r:embed="rId2"/>
          <a:stretch/>
        </p:blipFill>
        <p:spPr>
          <a:xfrm>
            <a:off x="0" y="92160"/>
            <a:ext cx="20574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7:58:21Z</dcterms:created>
  <dc:creator>d</dc:creator>
  <dc:description/>
  <dc:language>en-US</dc:language>
  <cp:lastModifiedBy>panchengdong</cp:lastModifiedBy>
  <dcterms:modified xsi:type="dcterms:W3CDTF">2006-02-05T04:41:51Z</dcterms:modified>
  <cp:revision>10</cp:revision>
  <dc:subject/>
  <dc:title>PowerPoint 演示文稿</dc:title>
</cp:coreProperties>
</file>