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445-B184-4260-B860-DB53E234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957-CFAB-4BD5-9DC4-4FAA5B5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4D6-6BDD-4D3D-A6CD-DDF3D3AC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F8F-E0BB-4900-88C0-4F1FEC2D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C9E89-E206-4DBC-BE03-85CB0358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36725-FDF3-4D5A-A29F-40D12D56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D9097-FC4B-490C-8A78-1C714FDC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0BE7C-105A-412F-8241-9F013E92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AC94C-8BE1-4E82-B296-A812E269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5E168-091F-4EC3-87B2-55BC46AA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ABCBD-E2D9-49E8-B701-AFC4BC2C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1A7-4946-4BAA-B3B5-4FE09D0D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BC9C2-9871-4780-A48C-D3E6F6A8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E8340-C7BB-4170-B7EA-1AED6BF3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D192A-677B-4B35-BA74-B207F083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B6F36-38EA-46A4-AD7A-F8628D33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A7AF8-416C-4E79-B3A5-90CDAAAA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D6A-78A3-4FDC-9A9F-833E8BD4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EC7-410C-4776-8968-ABC0894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9DD-6703-4764-A0A3-338B35D3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EEF-CFA9-4719-A70B-D0E28805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BB2-BFC3-42D4-8117-15767F7E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A87-9F28-4E30-AF1A-1EC51920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30C-2208-4B01-A405-5DA61AE3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812D-5EA9-417E-A966-B97D9A914C4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73E2-3EDF-41F8-9664-72DA7734322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93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 txBox="1"/>
          <p:nvPr/>
        </p:nvSpPr>
        <p:spPr>
          <a:xfrm>
            <a:off x="900000" y="1125360"/>
            <a:ext cx="7344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46341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伟大的悲剧</a:t>
            </a:r>
            <a:endParaRPr b="0" lang="en-US" sz="1800" spc="1" strike="noStrike">
              <a:ln w="0">
                <a:noFill/>
              </a:ln>
              <a:solidFill>
                <a:srgbClr val="46341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544500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执教者</a:t>
            </a: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华少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54468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斯科特一行“伟大”之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诚信，有令人敬佩的绅士风度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坚毅，执着，为事业而献身的英雄气概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强烈的集体主义精神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无私的爱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54468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  <a:ea typeface="隶书"/>
              </a:rPr>
              <a:t>体验情感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有人说，阿蒙森是个真正的英雄，斯科特只是个失败者。历史上都是为胜利者歌功颂德，为什么作者对斯科特表达了崇高的赞誉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英雄之所以称之为英雄，并不在于我们颂赞的语言，而在于他们始终以高度的事业心、自尊心和锲而不舍地对神奇而美妙的宇宙进行探索的责任感，去实践真正的生活以至献出生命。我们所能尽力做到的就是记住他们的名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3933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斯科特   埃文斯   奥茨   威而逊    鲍而斯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42920" y="2060640"/>
            <a:ext cx="7201080" cy="22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大家</a:t>
            </a:r>
            <a:endParaRPr b="1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95280" y="0"/>
          <a:ext cx="403236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403236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643280" y="1341360"/>
          <a:ext cx="4500720" cy="439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341360"/>
                    <a:ext cx="4500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572000" y="54000"/>
          <a:ext cx="43210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4000"/>
                    <a:ext cx="43210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50920" y="3860640"/>
          <a:ext cx="856908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860640"/>
                    <a:ext cx="8569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0" y="0"/>
          <a:ext cx="4390920" cy="381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43909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5436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0"/>
          <a:ext cx="3419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419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635280" y="4292640"/>
          <a:ext cx="4824360" cy="22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292640"/>
                    <a:ext cx="482436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788000" y="0"/>
          <a:ext cx="3168720" cy="42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0"/>
                    <a:ext cx="31687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55280" y="4076280"/>
            <a:ext cx="7985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奥地利作家    茨威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332000" y="1844640"/>
            <a:ext cx="6408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伟大的悲剧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2413080" y="3330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e6fb"/>
                </a:solidFill>
                <a:latin typeface="Arial"/>
                <a:ea typeface="隶书"/>
              </a:rPr>
              <a:t>感知内容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716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本文讲述了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191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年斯科特一行五人，在从南极点返回的途中不幸遇难的过程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84464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纵览全文，按照叙事的要素，用一句话概括全文内容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3e3ff"/>
                </a:solidFill>
                <a:latin typeface="Arial"/>
              </a:rPr>
              <a:t>伟大的悲剧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191772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悲壮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4800" y="2276640"/>
            <a:ext cx="459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24210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22766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毁灭的是肉体和生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3933720"/>
            <a:ext cx="54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留存的是精神，是有价值的，伟大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3e3ff"/>
                </a:solidFill>
                <a:latin typeface="Arial"/>
                <a:ea typeface="隶书"/>
              </a:rPr>
              <a:t>研读探究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小组讨论：从文中找出斯科特一行的“伟大”之处，并有感情地朗读出来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05:47:48Z</dcterms:created>
  <dc:creator>a</dc:creator>
  <dc:description/>
  <dc:language>en-US</dc:language>
  <cp:lastModifiedBy>a</cp:lastModifiedBy>
  <dcterms:modified xsi:type="dcterms:W3CDTF">2004-05-17T11:00:03Z</dcterms:modified>
  <cp:revision>8</cp:revision>
  <dc:subject/>
  <dc:title>伟大的悲剧</dc:title>
</cp:coreProperties>
</file>