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295-CAF2-4530-96A9-DD4BFE37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CFD-7D6C-40CF-BA9F-39113BC2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ADB7-919C-4161-8214-11D3C34B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7A85-BE8C-41AC-82B4-7F100F3D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D5B-B5DE-49C3-8138-ED53DA18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32F3-4809-4583-A2FD-E0BD3B6B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7F8F-323E-4853-B396-55CBC81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7B60-0BEC-4B54-9E8B-39D23FCD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8E1-3BF4-4602-A75E-34F3D991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4757-E286-4DF4-AA8E-C19C7CC3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7254-872A-434F-80CE-A6A4070E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98F4-A375-4503-B955-83F0E35F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53EF-0BF7-420E-A0CD-F11034CD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E87-2E15-4B2E-BBAE-47F85826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AEE-59D0-4C76-AC0A-8D49F191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84C4-DC83-468E-BAE9-34419AA8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F7EF-B4E3-466D-A7A1-748A1482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5C8-6988-44EA-8ACE-F7F73F3A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781-B1D8-434F-B0F3-DC0F6896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75A-9C7A-4993-8070-85FA231F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C603-E70B-47E2-88C7-C09690EB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7B73-4627-458E-AE4D-24CBFB1A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AC1-8CAB-4372-B4D3-47B6950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B93-EF47-472B-830D-DF2F8A2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5BA-4E60-4098-9EAD-D9CC70B2410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BA42-74CE-46D8-8FE2-2DB56EFF036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baike.baidu.com/view/122990.htm" TargetMode="External"/><Relationship Id="rId5" Type="http://schemas.openxmlformats.org/officeDocument/2006/relationships/hyperlink" Target="http://baike.baidu.com/view/717524.htm" TargetMode="External"/><Relationship Id="rId6" Type="http://schemas.openxmlformats.org/officeDocument/2006/relationships/hyperlink" Target="http://baike.baidu.com/view/84139.htm" TargetMode="External"/><Relationship Id="rId7" Type="http://schemas.openxmlformats.org/officeDocument/2006/relationships/hyperlink" Target="http://baike.baidu.com/view/20009.htm" TargetMode="External"/><Relationship Id="rId8" Type="http://schemas.openxmlformats.org/officeDocument/2006/relationships/hyperlink" Target="http://baike.baidu.com/view/370461.htm" TargetMode="External"/><Relationship Id="rId9" Type="http://schemas.openxmlformats.org/officeDocument/2006/relationships/hyperlink" Target="http://baike.baidu.com/view/1241479.htm" TargetMode="External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baike.baidu.com/view/671280.htm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2280" y="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19000" y="0"/>
            <a:ext cx="191772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我不是最弱小的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97000"/>
            <a:ext cx="1273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28600"/>
            <a:ext cx="891540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人教版小学二年级下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502920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达州职业技术学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师范系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2010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级语文教育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熊晓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朗读感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学习美好的景象和野蔷薇的前后对比，体会野蔷薇的弱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是啊森林里是那么美好，其实这美好的景象课文中有具体的描写。请同学们自己默读第二自然段找一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森林里是那么美好。林中旷地附近长着一丛丛野蔷薇，一朵花刚刚开放，粉红粉红的，芳香扑鼻。母亲和孩子们坐在草地上聊天，父亲在旁边聚精会神地看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呀，多么美好的景象啊，一起读一读。读着这段话，你仿佛看到了怎样的画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▲ 如果说到野蔷薇先不评价。说到一家人时就评价。是啊，多么温馨和谐的画面啊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▲ 而此时，在他们旁边的一丛丛野蔷薇刚刚开放，它们娇艳欲滴，有的含苞待放，有的已经展开了花瓣儿，正和萨沙他们一起享受着这美好的时刻呢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指名读。林中旷地附近长着一丛丛野蔷薇，一朵花刚刚开放，粉红粉红的，芳香扑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你喜欢野蔷薇吗？喜欢她的什么呢？（颜色，香味，形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读好  出示词卡：粉红粉红的 ：万绿丛中一点红，红得那么娇媚，那么赏心悦目，读好他。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芳香扑鼻  ：清新的香气直扑进鼻子，沁人心脾！让香味再浓一些，远一些。刚刚开放：多么娇嫩，多么新鲜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多香啊！写花香的还有哪些词呢？（沁人心脾  花香四溢 花香怡人 香气袭人）读一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把这种感觉放入句子中读一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这野蔷薇多么鲜嫩啊，文中还有一处也是写野蔷薇的，请你快速到课文中找一找，读一读，看看和刚才的有什么不同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▲  滂沱大雨已经冲掉了几片花瓣，花儿低垂着头，因为它娇嫩纤弱，毫无抵抗能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齐读。读着这段话，你觉得现在的野蔷薇怎样了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低垂着头 指读。评价：无精打采的  指读。毫无生气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娇嫩纤弱  指读。非常柔弱  指读。好像在风雨的吹打下就会折断。齐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把这种感觉放进句中，好好读一读这一段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刚刚还娇艳欲滴、芬芳扑鼻的野蔷薇，怎么转眼就毫无生气，完全没有抵抗能力了呢？因为出示词卡：滂沱大雨  滂沱大雨就是？课文中还有一个词也是写雨大的？大雨如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你还知道其他写雨大的词吗？（大雨倾盆  瓢泼大雨  急风暴雨  疾风骤雨）一起读这些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暴雨前和暴雨时的蔷薇是完全不一样的姿态，我们对比着来读读，读完后你有什么感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林中旷地附近长着一丛丛野蔷薇，一朵花刚刚开放，粉红粉红的，芳香扑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课堂讨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妈妈把雨衣给了托利亚，托利亚接过雨衣，把它给了萨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妈妈赶忙把雨衣给了托利亚，托利亚接过雨衣没有穿，却把它给了萨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▲、读读这两句话，你发现了什么？（多了三个词） 　你读得很仔细。可仅仅是多了三个词吗？用心读一读，还多了什么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多了关爱：①妈妈赶忙把雨衣给了托利亚，看妈妈对托利亚是多么体贴入微，这是多么伟大的母爱！②而托利亚把雨衣给了萨沙，这是平凡而又伟大的爱啊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让我们带着这种爱的感觉读读这段话。齐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妈妈赶紧从背包里拿出雨衣递给生身边的托利亚，托利亚又把雨衣递给了萨沙。（板书）一件雨衣就这样你传我，我传你，传递着浓浓的爱意，传递着浓浓的亲情。这一幕深深地打动了我，也打动了你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让我们带着这份感动好好读一读。齐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在暴风雨中，妈妈首先想到的是比自己弱小的人，他们用自己的行动，告诉萨沙要保护弱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、此时无声胜有声。一件雨衣你让给我，我让给你，那是一片片浓浓的亲情，一句句无声的教育。父母的心意你们明白了吗？萨沙明白了吗？让我们一起来聆听这段雨中的对话吧！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“妈妈，你和托利亚都需要雨衣呀，为什么要给我呢？”“这就是说我是最弱小的了？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两个都是问句，该怎么读呢？第一句指名读。你读懂了什么？第二句指名读，你读懂了什么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第一句：疑问、不明白。    第二句：不服气，不愿意；思考，思索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萨沙有满脑子的疑问，满肚子的不服，谁做妈妈回答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每个人都要保护比自己弱小的人。  指名读。你读懂妈妈的意思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这是妈妈在诉说她的心声，也是在教育自己的儿子呀！这句话包含了妈妈多少的慈爱与希望呀！谁来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③面对萨沙的不服气，妈妈又是怎么说的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要是你谁也保护不了，那你不就是最弱小的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妈妈的意思换句说法就是？这是妈妈对萨沙的鼓励也是激励啊！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萨沙在妈妈眼中是弱小的，萨沙同意吗？如果你是萨沙，你心里有什么想法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过渡：萨沙人小心不小，他可不想做弱小者，他要证明自己的能力。他做到了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让我们看这句话，谁来读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现在我该不是最弱小的了吧，妈妈？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此时的萨沙心里充满了什么？（骄傲、自豪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过渡：萨沙那么骄傲，那么自豪，因为他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萨沙朝着蔷薇丛走去。他掀起雨衣，盖在粉红的蔷薇花上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1932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大雨倾盆，蔷薇摇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( yè )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五岁的萨沙照顾着娇嫩的花朵。因为他更要告诉家人：我不是最弱小的！小朋友们，你们愿意像萨沙那样做个勇敢的孩子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505320" y="1371600"/>
            <a:ext cx="5333760" cy="4060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3808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导语设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他真了不起！他找到了比他弱小的蔷薇花。他只是一个五小男孩呀，可他拥有了一双善于发现弱小的眼睛，拥有了一颗勇敢保护弱小的心灵。看着这一幕，我的心里不由地升腾起一股敬佩。你们呢？老师给这句话加进去了一些词，我们再来读一读。萨沙（自豪地）朝着蔷薇丛走去。他（高兴地）掀起雨衣，（小心翼翼地）盖在粉红的蔷薇花上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　　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让我们一齐赞一赞这可敬可爱的小男孩。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教师总结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同学们，学了课文，你有什么想说的吗？保护弱小 不甘弱小（音乐响起 让世界充满爱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是啊，在我们周围有许多弱小的人和事物，也有许多有困难的人，它们都需要我们的帮助，所以请你伸出你的双手，用你的一颗爱心去关心他们，呵护他们，同时也希望你们不甘弱小，做生活的强者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100080"/>
            <a:ext cx="9144000" cy="6757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3962520" y="99036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托利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315200" y="3276360"/>
            <a:ext cx="419400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萨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520" y="3352320"/>
            <a:ext cx="4194360" cy="21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妈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28195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楷体_GB2312"/>
              </a:rPr>
              <a:t>爱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5715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野蔷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扩展阅读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青蛙住在烂泥塘里。他觉得这儿不怎么样，就想把泥塘卖掉，换几个钱，搬到城里去住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于是青蛙在泥塘边竖起了一块牌子，写上：卖泥塘！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“卖泥塘嘞，卖泥塘！”青蛙站在牌子下大声吆喝起来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一头老牛走过来，他看见了泥塘说：“嗯，是这个水坑坑吗，在里面打打滚地倒是挺舒服。不过，要是周围有些草就好了。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老牛不想买泥塘，走了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青蛙想，要是在泥塘周围种些草，就能卖出去了。于是他就去采集草籽，播撒在泥塘周围的地上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到了春天，泥塘周围长出了绿茵茵的小草。青蛙又站在牌子下面，大声吆喝起来：“卖泥塘嘞，卖泥塘！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一只野鸭飞来了。他看了看泥塘说：“嗯，这地方好是挺好，就是塘里的水太少了。”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野鸭没有买泥塘，飞走了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青蛙想，要是往泥塘里引进些水，就能卖出去了。于是他跑到周围的山里找到泉水，又砍倒了竹子，把竹子破开，一根一根地接成水槽，用它们把水引到自己的泥塘里来。</a:t>
            </a:r>
            <a:br>
              <a:rPr sz="2800"/>
            </a:br>
            <a:br>
              <a:rPr sz="28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等泥塘里灌足水以后，青蛙又站在牌子下大声吆喝起来：“卖泥塘嘞，卖泥塘！”可是他的泥塘还是没有卖出去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小鸟飞来说，这里缺点儿树；蝴蝶飞来说，这里缺点花儿；小兔跑来说，这里还缺条路；小猴跑来说，这儿应该盖所房子；小狐狸说……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每次听了小动物们的话，青蛙都想：对！对！要是那样的话，泥塘准能卖出去。于是他就照着他们的话去做，栽了树，种了花，修了路，还在泥塘旁边盖了房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卖泥塘嘞，卖泥塘！”有一天，青蛙又站在牌子下吆喝起来，“多好的地方！有树、有花、有草、有水塘。你可以看蝴蝶在花丛中飞舞，听小鸟在树上歌唱。还可以在水里尽情游泳，躺在草地上晒太阳。这儿还有道路通向城里……”说到这里，青蛙突然愣住了，他想，这么好的地方，自己住挺好的，为什么要卖掉呢？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于是青蛙不再卖泥塘了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你了解蔷薇花吗？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67080" y="38307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19720" y="144792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蔷薇花，泛指蔷薇科，又名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多花蔷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、蔷蘼、刺玫、白残花，属蔷薇科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5"/>
              </a:rPr>
              <a:t>蔷薇属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的落叶或半常绿的匍匐状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6"/>
              </a:rPr>
              <a:t>灌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的花朵，自古就是佳花名蔷薇卉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4648320"/>
            <a:ext cx="381024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7"/>
              </a:rPr>
              <a:t>蔷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花香味很浓，花香诱人，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8"/>
              </a:rPr>
              <a:t>花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中可提取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9"/>
              </a:rPr>
              <a:t>芳香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其价值高于黄金，具有很高的药用、食用价值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962520" y="0"/>
            <a:ext cx="5181480" cy="3581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8600" y="304920"/>
            <a:ext cx="3581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蔷薇花喜生于路旁、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ea typeface="楷体_GB2312"/>
                <a:hlinkClick r:id="rId4"/>
              </a:rPr>
              <a:t>田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或丘陵地的灌木丛中，分布于我国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华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、中南等地。野蔷薇多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自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分布于溪畔、路旁及园边、地角等处，往往密集丛生，满枝灿烂，微雨或朝露后，花瓣红晕湿透，景色颇付佳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14800" y="3733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蔷薇花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花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——蔷薇花花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月份，次第开放，有半年之久，品种较多，名称亦很复杂，《群芳谱》称蔷薇的变种有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　　①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粉团蔷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花粉红色，单瓣，数花或多花簇生为扁平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伞房花序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②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七姊妹，叶较大，重瓣，常六七朵合成扁伞花序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　③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荷花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蔷薇，花重瓣，淡桃红色，状似荷花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　④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黄蔷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，不但颜色鲜艳，且花期特早，为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园艺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界所珍爱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　也有人谓蔷薇有香水蔷薇、红枝蔷薇及光叶蔷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种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14400" y="2362320"/>
            <a:ext cx="7010280" cy="35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作业布置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①相信文章中的萨沙一定给你留下了深刻的印象，请以“萨沙，我想对你说”为题写一段话；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②谁是最弱小的呢？你们有过这样的感受或者是碰到过这样的场景吗？请以“最弱小者的呼唤”为主题写一篇短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73152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苏霍姆林斯基是苏联著名的教育家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的作品有《给老师的一百条建议》《学生的精神世界》《把心灵献给儿童》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960" y="533520"/>
            <a:ext cx="1003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作者简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6172200" cy="3908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6248520" y="4648320"/>
            <a:ext cx="25905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320" y="0"/>
            <a:ext cx="9067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衷心感谢各位领导、专家、同仁莅临指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762360"/>
            <a:ext cx="4648320" cy="30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660920" y="0"/>
            <a:ext cx="448308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505320" y="2995560"/>
            <a:ext cx="5638680" cy="3862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34894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267080" y="60948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Liáo</a:t>
            </a:r>
            <a:r>
              <a:rPr b="0" lang="zh-CN" sz="4000" spc="-1" strike="noStrike">
                <a:solidFill>
                  <a:srgbClr val="003366"/>
                </a:solidFill>
                <a:latin typeface="Arial"/>
              </a:rPr>
              <a:t>聊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1166800">
            <a:off x="5905440" y="383040"/>
            <a:ext cx="11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cù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14800" y="19051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递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05740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S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萨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13372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Qīng</a:t>
            </a:r>
            <a:r>
              <a:rPr b="0" lang="zh-CN" sz="4000" spc="-1" strike="noStrike">
                <a:solidFill>
                  <a:srgbClr val="990000"/>
                </a:solidFill>
                <a:latin typeface="Arial"/>
              </a:rPr>
              <a:t>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58128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iā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15000" y="3733920"/>
            <a:ext cx="129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Jiāo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2920" y="37339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Suí</a:t>
            </a:r>
            <a:r>
              <a:rPr b="0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343400" cy="3003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152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1600200"/>
            <a:ext cx="43434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夏天的一个周末，五岁的萨沙和哥哥托利亚，跟父母一起到森林中去玩。森林里的景色是那么美好，空气是那么清新。他们来到森林的一片空地。那里盛开着美丽的铃兰花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4724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看！这儿还有一朵野蔷薇呢！”大家被萨沙的叫声吸引过来。原来有一丛野蔷薇，被铃兰花拥着，开出了第  一朵粉红色的花。带着露珠的花朵随 风舞动，芬芳扑鼻。一家人坐在野蔷薇旁边，聊起天来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课文欣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2708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3386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114800" y="3371760"/>
            <a:ext cx="5029200" cy="3486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029200" y="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突然，雷声大作，天上飘下几滴雨点，紧接着，下起了倾盆大雨。妈妈赶紧从背包里拿出雨衣递给身边的托利亚，托利亚又把雨衣给了萨沙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65760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不解的问：“妈妈，你和托利亚都需要雨衣呀，为什么要给我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妈妈回答说：“我们应该保护比自己弱小的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又问：“这就是说我是最弱小的了？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67080" cy="3344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419720" y="152280"/>
            <a:ext cx="45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要是你谁也保护不了，那你就是最弱小的。”妈妈说着摸了摸萨沙的脑袋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3657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萨沙朝蔷薇花丛走去。大雨已经打掉了两片蔷薇花瓣，花儿无力的垂这头，显得更加娇嫩。萨沙掀起雨衣，轻轻的遮在蔷薇花上，问道：“妈妈，现在我还是最弱小的吗？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8120" y="5326200"/>
            <a:ext cx="7064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妈妈笑着说：“不，不，你能保护更弱小的，你是勇敢的孩子啦！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1-05-07T09:50:0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