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gif" ContentType="image/gif"/>
  <Override PartName="/ppt/media/image9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9EB0-CD0D-446F-AA18-C2D440006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7064-F0AF-40DE-AF35-521F4910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A272-62D9-4810-9BA6-B956F8ED2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30D7-6606-4CFD-B31E-CA3F133FD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1F71-0C0E-4AEE-99B8-3A70B9CB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6E3C-1EEB-4BA2-871D-5F2B287A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C2A2-6604-4AA9-BA84-A92D364B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C255-253A-4073-B2DF-4D9C2B4E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02A4-2568-40DF-BBE0-F7219461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5907-1DE3-42ED-9E00-AF363E1D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06C5-9998-430B-8304-CF86C71F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0136-D8B7-4312-AC80-34F5B212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53D3-2575-43F2-8609-013E42B128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38320" y="-360"/>
            <a:ext cx="31244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晚春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552720" y="1828800"/>
            <a:ext cx="2590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韩愈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本篇是一首写晚春景物的诗。作品运用拟人的修辞手法，通过描写花草树木得知春天不久就要归去，于是各逞姿色，争芳斗艳，欲将春天留住，就连那本来没有任何姿色的杨花、榆荚也不甘示弱，化作雪花随风飞舞，加入了留春的行列，表达了诗人惜春的思想感情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同时也提示人们应抓住时机，乘时而进，创造美好的未来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Arial"/>
              </a:rPr>
              <a:t>这首诗每两句构成一个完整的意思，开头两句“草树知春不久归，百般红紫斗芳菲”是写花草树木探得消息，得知春天用不了多久就要离去了，为了将春天多留些时日，各自都使出了最大的本事，争芳吐艳，各显美丽姿色。一霎时，万紫千红，春色满园。 诗中一个“知”字，一个“斗”字，将花草树木赋予了人的思维，人的情感和人的动作行为，使那些原本没有生命的花草树木有了留春惜时的生命特征。这一拟人手法的运用，极有效地表达了诗人珍惜春天和时光的美好情怀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-360" y="228600"/>
            <a:ext cx="8991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33ff"/>
                </a:solidFill>
                <a:latin typeface="Arial"/>
              </a:rPr>
              <a:t>而“杨花榆荚”虽然没有任何姿色，无法像其他花草那样呈现娇艳，但是他们也不自卑，不藏匿自己的短处，加入了“百般红紫”的行列中，将没有姿色的杨花榆荚化作了漫天雪花，翩翩起舞纷飞。 这里，“无才思”和“惟解”又一次运用了拟人的修辞手法，赋予了“杨花榆荚”以鲜活的生命力，积极向上的思想激情，进而更好的表达了诗人珍惜春天、珍惜时光的美好愿望。这两句诗从另一角度思考，似乎是在启示读者，“杨花榆荚无才思”尚且能“惟解漫天作雪飞”，我们又有什么理由不能抛弃那点小小的自卑心理，放弃那点微不足道的自尊，抓住时机，利用大好时光投身到为自己、为他人创造美好未来的大环境中呢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0040" y="75960"/>
            <a:ext cx="83059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这首诗的最大特点就是巧妙地运用了拟人的修辞手法，通过赋予花草树木以生命的力量，来告诫人们珍惜时光，珍惜春天，启示人们抛开自我，应时创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内容占位符 15362" descr="2008128102538811_2"/>
          <p:cNvPicPr/>
          <p:nvPr/>
        </p:nvPicPr>
        <p:blipFill>
          <a:blip r:embed="rId1"/>
          <a:stretch/>
        </p:blipFill>
        <p:spPr>
          <a:xfrm>
            <a:off x="2286000" y="3429000"/>
            <a:ext cx="65484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447560" y="76320"/>
            <a:ext cx="75438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Arial"/>
              </a:rPr>
              <a:t>心爱的春天马上就要过去了，我怎能不出去再多望几眼呢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?</a:t>
            </a:r>
            <a:r>
              <a:rPr b="0" lang="zh-CN" sz="2800" spc="-1" strike="noStrike">
                <a:solidFill>
                  <a:srgbClr val="660066"/>
                </a:solidFill>
                <a:latin typeface="Arial"/>
              </a:rPr>
              <a:t>走在通往乡间的小路上，夕阳染红了大树、花儿。忽然我发现，出了夕阳的红色，还有让人喜爱的黄色，代表生命的绿色，向天空一样代表宽广的蓝色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……</a:t>
            </a:r>
            <a:r>
              <a:rPr b="0" lang="zh-CN" sz="2800" spc="-1" strike="noStrike">
                <a:solidFill>
                  <a:srgbClr val="660066"/>
                </a:solidFill>
                <a:latin typeface="Arial"/>
              </a:rPr>
              <a:t>仔细一看原来是争相开放的花朵，似乎他们也知道美丽的春天即将过去。我看到了代表着王者风范的牡丹；高贵傲然的玫瑰；娇小可爱的小蝴蝶花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……</a:t>
            </a:r>
            <a:r>
              <a:rPr b="0" lang="zh-CN" sz="2800" spc="-1" strike="noStrike">
                <a:solidFill>
                  <a:srgbClr val="660066"/>
                </a:solidFill>
                <a:latin typeface="Arial"/>
              </a:rPr>
              <a:t>我看到了生命的精彩，美丽。环顾四周，生命的气息无处不在。但是你会发现杨树和榆树并不喜欢表现他们的才华，只是把它们较小白嫩的花当做雪，随他们在风中摇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-376560" y="-1214640"/>
            <a:ext cx="2050920" cy="58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99"/>
                </a:solidFill>
                <a:latin typeface="Arial"/>
              </a:rPr>
              <a:t>看诗写话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内容占位符 17409" descr="5440910695898150020881f5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0"/>
            <a:ext cx="9220320" cy="6915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06668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微软雅黑"/>
                <a:ea typeface="微软雅黑"/>
              </a:rPr>
              <a:t>制作者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7411"/>
          <p:cNvSpPr txBox="1"/>
          <p:nvPr/>
        </p:nvSpPr>
        <p:spPr>
          <a:xfrm>
            <a:off x="1066680" y="1371600"/>
            <a:ext cx="5715000" cy="201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42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谢谢观赏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华文行楷"/>
              </a:rPr>
              <a:t>时春片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冬去春来</a:t>
            </a:r>
            <a:r>
              <a:rPr b="0" lang="en-US" sz="2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杨柳吐绿</a:t>
            </a:r>
            <a:r>
              <a:rPr b="0" lang="en-US" sz="2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温暖的春风吹绿了一望无际的麦田</a:t>
            </a:r>
            <a:r>
              <a:rPr b="0" lang="en-US" sz="2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吹皱了静静流淌的河水</a:t>
            </a:r>
            <a:r>
              <a:rPr b="0" lang="en-US" sz="2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.</a:t>
            </a:r>
            <a:r>
              <a:rPr b="0" lang="zh-CN" sz="2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甘美的春雨</a:t>
            </a:r>
            <a:r>
              <a:rPr b="0" lang="en-US" sz="2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像蛛丝一样轻</a:t>
            </a:r>
            <a:r>
              <a:rPr b="0" lang="en-US" sz="2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想针见一样细</a:t>
            </a:r>
            <a:r>
              <a:rPr b="0" lang="en-US" sz="2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像线一样长</a:t>
            </a:r>
            <a:r>
              <a:rPr b="0" lang="en-US" sz="2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, </a:t>
            </a:r>
            <a:r>
              <a:rPr b="0" lang="zh-CN" sz="2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冬去春来</a:t>
            </a:r>
            <a:r>
              <a:rPr b="0" lang="en-US" sz="2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杨柳吐绿</a:t>
            </a:r>
            <a:r>
              <a:rPr b="0" lang="en-US" sz="2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温暖的春风吹绿了一望无际的麦田</a:t>
            </a:r>
            <a:r>
              <a:rPr b="0" lang="en-US" sz="2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吹皱了静静流淌的河水</a:t>
            </a:r>
            <a:r>
              <a:rPr b="0" lang="en-US" sz="2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.</a:t>
            </a:r>
            <a:r>
              <a:rPr b="0" lang="zh-CN" sz="2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甘美的春雨</a:t>
            </a:r>
            <a:r>
              <a:rPr b="0" lang="en-US" sz="2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像蛛丝一样轻</a:t>
            </a:r>
            <a:r>
              <a:rPr b="0" lang="en-US" sz="2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想针见一样细</a:t>
            </a:r>
            <a:r>
              <a:rPr b="0" lang="en-US" sz="2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像线一样长</a:t>
            </a:r>
            <a:r>
              <a:rPr b="0" lang="en-US" sz="2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冬去春来</a:t>
            </a:r>
            <a:r>
              <a:rPr b="0" lang="en-US" sz="2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杨柳吐绿</a:t>
            </a:r>
            <a:r>
              <a:rPr b="0" lang="en-US" sz="2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温暖的春风吹绿了一望无际的麦田</a:t>
            </a:r>
            <a:r>
              <a:rPr b="0" lang="en-US" sz="2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吹皱了静静流淌的河水</a:t>
            </a:r>
            <a:r>
              <a:rPr b="0" lang="en-US" sz="2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.</a:t>
            </a:r>
            <a:r>
              <a:rPr b="0" lang="zh-CN" sz="2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甘美的春雨</a:t>
            </a:r>
            <a:r>
              <a:rPr b="0" lang="en-US" sz="2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像蛛丝一样轻</a:t>
            </a:r>
            <a:r>
              <a:rPr b="0" lang="en-US" sz="2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想针见一样细</a:t>
            </a:r>
            <a:r>
              <a:rPr b="0" lang="en-US" sz="2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像线一样长</a:t>
            </a:r>
            <a:r>
              <a:rPr b="0" lang="en-US" sz="2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, </a:t>
            </a:r>
            <a:r>
              <a:rPr b="0" lang="zh-CN" sz="2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像筛子筛过一样密密地向大地飞洒着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美丽的春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4" descr="Forest.jpg"/>
          <p:cNvPicPr/>
          <p:nvPr/>
        </p:nvPicPr>
        <p:blipFill>
          <a:blip r:embed="rId1"/>
          <a:stretch/>
        </p:blipFill>
        <p:spPr>
          <a:xfrm rot="21000000">
            <a:off x="609120" y="2285640"/>
            <a:ext cx="3621240" cy="41148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5" descr="Toco Toucan.jpg"/>
          <p:cNvPicPr/>
          <p:nvPr/>
        </p:nvPicPr>
        <p:blipFill>
          <a:blip r:embed="rId2"/>
          <a:stretch/>
        </p:blipFill>
        <p:spPr>
          <a:xfrm rot="1020000">
            <a:off x="4648320" y="1599840"/>
            <a:ext cx="401796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6145"/>
          <p:cNvSpPr/>
          <p:nvPr/>
        </p:nvSpPr>
        <p:spPr>
          <a:xfrm rot="20640000">
            <a:off x="9360" y="760320"/>
            <a:ext cx="368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美丽的春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6146" descr="b26a4e5128ea9d49853524c3"/>
          <p:cNvPicPr/>
          <p:nvPr/>
        </p:nvPicPr>
        <p:blipFill>
          <a:blip r:embed="rId1"/>
          <a:stretch/>
        </p:blipFill>
        <p:spPr>
          <a:xfrm>
            <a:off x="4267080" y="76212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图片 6147" descr="e6180b1e2253d6fea6866943"/>
          <p:cNvPicPr/>
          <p:nvPr/>
        </p:nvPicPr>
        <p:blipFill>
          <a:blip r:embed="rId2"/>
          <a:stretch/>
        </p:blipFill>
        <p:spPr>
          <a:xfrm rot="20880000">
            <a:off x="609120" y="2666520"/>
            <a:ext cx="33512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76200"/>
            <a:ext cx="2286000" cy="60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美丽的春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内容占位符 3" descr="Forest Flowers.jpg"/>
          <p:cNvPicPr/>
          <p:nvPr/>
        </p:nvPicPr>
        <p:blipFill>
          <a:blip r:embed="rId1"/>
          <a:stretch/>
        </p:blipFill>
        <p:spPr>
          <a:xfrm>
            <a:off x="2362320" y="457200"/>
            <a:ext cx="4343400" cy="2940120"/>
          </a:xfrm>
          <a:prstGeom prst="rect">
            <a:avLst/>
          </a:prstGeom>
          <a:ln w="0">
            <a:noFill/>
          </a:ln>
        </p:spPr>
      </p:pic>
      <p:pic>
        <p:nvPicPr>
          <p:cNvPr id="53" name="图片 6" descr="Creek.jpg"/>
          <p:cNvPicPr/>
          <p:nvPr/>
        </p:nvPicPr>
        <p:blipFill>
          <a:blip r:embed="rId2"/>
          <a:stretch/>
        </p:blipFill>
        <p:spPr>
          <a:xfrm>
            <a:off x="4597560" y="3733920"/>
            <a:ext cx="392904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晚春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5f5f5f"/>
                </a:solidFill>
                <a:latin typeface="Arial"/>
              </a:rPr>
              <a:t>韩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742840" y="1523520"/>
            <a:ext cx="62485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草木知春不久归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百般红紫斗芳菲。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杨花榆荚无才思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惟解漫天作雪飞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内容占位符 8195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28987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223920"/>
            <a:ext cx="182880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cc"/>
                </a:solidFill>
                <a:latin typeface="Arial"/>
              </a:rPr>
              <a:t>作者简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9218"/>
          <p:cNvSpPr/>
          <p:nvPr/>
        </p:nvSpPr>
        <p:spPr>
          <a:xfrm>
            <a:off x="2057400" y="2574000"/>
            <a:ext cx="627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韩愈（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768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～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824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）唐代文学家、哲学家。字退之，河阳（今河南省焦作孟州市）人，汉族。祖籍河北昌黎，世称韩昌黎。晚年任吏部侍郎，又称韩吏部。谥号“文”，又称韩文公。他是唐代古文运动的倡导者，主张学习先秦两汉的散文语言，破骈为散，扩大文言文的表达功能。宋代苏轼称他“文起八代之衰”，明人推他为唐宋八大家之首，与柳宗元并称“韩柳”，有“文章巨公”和“百代文宗”之名。作品都收在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昌黎先生集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里。韩愈还是一个语言巨匠。他善于使用前人词语，又注重当代口语的提炼，得以创造出许多新的语句，其中有不少已成为成语流传至今，如“落井下石”、“动辄得咎”、“杂乱无章”等。在思想上是中国“道统”观念的确立者，是尊儒反佛的里程碑式人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75960" y="457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这是一首写晚春景物的诗。这时，百花盛开，万紫千红，它们像是知道春天不久就要归去，所以特别珍惜这美好的时光，各逞姿色，争芳斗艳，尽情舒展生命的机能。而那些全无才思的杨花榆荚，在春风中纷纷飘落，只晓得如雪花那样，毫无目的地漫天飞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内容占位符 10242" descr="sh2"/>
          <p:cNvPicPr/>
          <p:nvPr/>
        </p:nvPicPr>
        <p:blipFill>
          <a:blip r:embed="rId1"/>
          <a:stretch/>
        </p:blipFill>
        <p:spPr>
          <a:xfrm>
            <a:off x="4419720" y="2133720"/>
            <a:ext cx="46735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【</a:t>
            </a:r>
            <a:r>
              <a:rPr b="0" lang="zh-CN" sz="4400" spc="-1" strike="noStrike">
                <a:solidFill>
                  <a:srgbClr val="3333cc"/>
                </a:solidFill>
                <a:latin typeface="Arial"/>
              </a:rPr>
              <a:t>注释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】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11266"/>
          <p:cNvSpPr/>
          <p:nvPr/>
        </p:nvSpPr>
        <p:spPr>
          <a:xfrm>
            <a:off x="457200" y="990720"/>
            <a:ext cx="8458200" cy="41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晚春：一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游城南晚春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草树：指草本和木本的各类花木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即花草树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久归：意为春天很快将要过去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斗：竞争，比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芳菲：本指花草树木，此指花草的芳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杨花：即杨花柳絮，实际就是杨树、柳树种子承受之后随风飘飞的棉絮一样的东西，如蒲公英的小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榆荚：榆树籽儿，又名榆钱，形状圆而小，象小铜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无才思：原指人没有才华，写不出美好的诗文。此指杨花榆荚不象百花那样鲜艳美丽。才思（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ì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），才气，文思，此指花草姿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惟解：只知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漫天：遍布空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作雪：装作雪，化作雪的模样。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2:55:48Z</dcterms:created>
  <dc:creator>Administrator</dc:creator>
  <dc:description/>
  <dc:language>en-US</dc:language>
  <cp:lastModifiedBy>admin</cp:lastModifiedBy>
  <dcterms:modified xsi:type="dcterms:W3CDTF">2019-05-22T07:31:0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612</vt:lpwstr>
  </property>
  <property fmtid="{D5CDD505-2E9C-101B-9397-08002B2CF9AE}" pid="3" name="Version">
    <vt:r8>1</vt:r8>
  </property>
</Properties>
</file>