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5.gif" ContentType="image/gif"/>
  <Override PartName="/ppt/media/image3.gif" ContentType="image/gif"/>
  <Override PartName="/ppt/media/image4.gif" ContentType="image/gif"/>
  <Override PartName="/ppt/media/image1.jpeg" ContentType="image/jpeg"/>
  <Override PartName="/ppt/media/image28.jpeg" ContentType="image/jpeg"/>
  <Override PartName="/ppt/media/image27.gif" ContentType="image/gif"/>
  <Override PartName="/ppt/media/image11.jpeg" ContentType="image/jpeg"/>
  <Override PartName="/ppt/media/image29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5.gif" ContentType="image/gif"/>
  <Override PartName="/ppt/media/image30.gif" ContentType="image/gif"/>
  <Override PartName="/ppt/media/image10.gif" ContentType="image/gif"/>
  <Override PartName="/ppt/media/image8.gif" ContentType="image/gif"/>
  <Override PartName="/ppt/media/image2.gif" ContentType="image/gif"/>
  <Override PartName="/ppt/media/image25.gif" ContentType="image/gif"/>
  <Override PartName="/ppt/media/image14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18.gif" ContentType="image/gif"/>
  <Override PartName="/ppt/media/image13.png" ContentType="image/png"/>
  <Override PartName="/ppt/media/image20.gif" ContentType="image/gif"/>
  <Override PartName="/ppt/media/image19.gif" ContentType="image/gif"/>
  <Override PartName="/ppt/media/image21.gif" ContentType="image/gif"/>
  <Override PartName="/ppt/media/image22.gif" ContentType="image/gif"/>
  <Override PartName="/ppt/media/image23.jpeg" ContentType="image/jpe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1F3-419E-4A17-8782-47A8A28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B8B-2D69-4812-9D0C-D51F829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20E-B635-48EB-9980-7547756F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A0E-C4E4-4F9F-8378-C4CACC2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A00-557E-47B0-B1DB-894981A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CBA-68C8-4133-A228-9F07E0C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3D9-DE46-4DE8-8082-4D31107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34A-9128-48BF-A8E5-407609B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2AB-7982-4F1F-9111-FC9722E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090-3989-44A5-B1A1-1A62A20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2BE-24EA-4B69-8A6C-02235F1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524-7081-490F-970F-0CD100B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622-C500-4204-93C3-B777374E6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首写晚春景物的诗。这时，百花盛开，万紫千红，它们像是知道春天不久就要归去，所以特别珍惜这美好的时光，各逞姿色，争芳斗艳，尽情舒展生命的机能。而那些全无才思的杨花榆荚，在春风中纷纷飘落，只晓得如雪花那样，毫无目的地漫天飞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5084640"/>
            <a:ext cx="3708360" cy="17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190512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348000" y="5373720"/>
            <a:ext cx="1511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草树木知道春天即将归去， 都想留住春天的脚步，竟相争妍斗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连那没有美丽颜色的杨花和榆钱也不甘寂寞，随风起舞，好像漫天飞雪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头两句是写花草树木探得消息，得知春天用不了多久就要离去了，各自都使出了最大的本事，争芳吐艳，各显美丽姿色。一霎时，万紫千红，春色满园。 诗中一个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，一个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，将花草树木赋予了人的思维，人的情感和人的动作行为。这一拟人手法的运用，极有效地表达了诗人珍惜春天和时光的美好情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19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两句写杨花榆荚“无才思”和“惟解”又一次运用了拟人的修辞手法，赋予了“杨花榆荚”以鲜活的生命力，积极向上的思想激情，进而更好的表达了诗人珍惜春天、珍惜时光的美好愿望。这两句诗从另一角度思考，似乎是在启示读者，“杨花榆荚无才思”尚且能“惟解漫天作雪飞”，我们又有什么理由不能抛弃那点小小的自卑心理，放弃那点微不足道的自尊，抓住时机，利用大好时光投身到为自己、为他人创造美好未来的大环境中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，似乎只是用拟人化的手法描绘了晚春的繁丽景色，其实，它还寄寓着人们应该乘时而进，抓紧时机去创造有价值的东西这一层意思。但这里值得一提的是，杨花榆荚虽缺乏草木的“才思”，但不因此藏拙，而为晚春增添一景，虽然不美，但尽了努力，这种精神是值得赞扬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前两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草树争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珍惜春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两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杨花榆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锦上添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3203640" cy="378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78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952560" cy="1268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140360" y="4724280"/>
            <a:ext cx="952200" cy="126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说出“百般红紫斗芳菲”中的“斗”的修辞手法，并简析其妙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拟人，形象生动地写出了晚春时节花草树木竞相开花、争妍斗艳的美丽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发挥想像，用自己的话描绘“扬花”“漫天作雪飞”的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柳絮朵朵，像白雪一样，又轻又白，漫天飞舞，随风飘荡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“漫天”“作雪”基本意思，语言生动流畅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的最大特点就是巧妙地运用了拟人的修辞手法，通过赋予花草树木以生命的力量，来告诫人们珍惜时光，珍惜春天，启示人们抛开自我，应时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3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86080" cy="13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148608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658280" y="3213000"/>
            <a:ext cx="148572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首写暮春景物的七绝。此诗运用拟人的修辞手法，通过描写花草树木得知春天不久就要归去，于是各呈姿色，争芳斗艳的景象，表达了诗人惜春的思想感情，同时也蕴含应抓住时机，乘时而进，创造美好未来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399564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345280"/>
            <a:ext cx="45720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晚春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252072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与韩愈相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歌强调的应乘时而进，抓紧时机去创造有价值的东西 的道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是《游城南十六首》之一，作于元和十一年。此时诗人已年近半百。他此时在官场上是处于不得志的时期，作者也是想借此诗来表达心中的慨叹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2159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35280" y="0"/>
            <a:ext cx="730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愈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68—8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退之，河南河阳（今河南省孟州市）人，汉族，自称“郡望昌黎”，世称“韩昌黎”、“昌黎先生”。唐代杰出的文学家、思想家、哲学家，政治家。 被尊为“唐宋八大家”之首。与柳宗元并称“韩柳”，有“文章巨公”和“百代文宗”之名。著有《韩昌黎集》四十卷，《外集》十卷，《师说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183528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晚春           韩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草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百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紫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芳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榆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惟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漫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566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647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0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晚春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作《游城南晚春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草树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草本和木本的各类花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花草树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久归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意为春天很快将要过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斗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竞争，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芳菲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指花草树木，此指花草的芳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707080"/>
            <a:ext cx="914400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杨花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杨花柳絮，实际就是杨树、柳树种子承受之后随风飘飞的棉絮一样的东西，如蒲公英的小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榆荚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榆树籽儿，又名榆钱，形状圆而小，象小铜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才思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指人没有才华，写不出美好的诗文。此指杨花榆荚不象百花那样鲜艳美丽。才思，才气，文思，此指花草姿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5805360"/>
            <a:ext cx="399564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惟解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知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漫天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遍布空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雪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装作雪，化作雪的模样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4T11:38:36Z</dcterms:created>
  <dc:creator>未知用户</dc:creator>
  <dc:description/>
  <dc:language>en-US</dc:language>
  <cp:lastModifiedBy>未知用户</cp:lastModifiedBy>
  <dcterms:modified xsi:type="dcterms:W3CDTF">2017-03-04T13:25:49Z</dcterms:modified>
  <cp:revision>5</cp:revision>
  <dc:subject/>
  <dc:title>幻灯片 1</dc:title>
</cp:coreProperties>
</file>