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76B-9BB7-4F91-920A-F4B99B53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C07-6B5C-4E7F-923D-A753A84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ADE-8151-4B6D-B9D8-DAFCB021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1F9-80A7-4FB3-882D-7D5FC1EA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36F-EA62-4741-BF3D-B9173DE2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AA37-D9AF-420E-9F20-2056BD5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784F-29F1-4D67-BC9B-C0374D7F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571D-5764-47DE-8DCA-676EEE56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A4E-DABC-4B79-8644-6663F9F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F954-07A9-47A0-8D38-033789E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6EF-61E3-4649-99BE-79C8A95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86E-9032-4078-AD1D-8DC109E9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437-8C08-4541-AF70-062AE2A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6F0-B43E-4621-8665-8CF52B5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472D-58BD-4329-AFD2-D81C5C40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36A7-BB51-4DA8-978F-53B39281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0AB4-29A9-4EBA-AF4E-9817D7EC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4F7-DDA4-4A55-B706-B2DA268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ECF-11C1-4A97-904E-9F6F757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8AC-6F8F-4987-B441-55E4EEF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B0A-24C8-456B-A1B8-8E23793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BB8-50B7-40AC-AF79-FFA24A0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234-FC1B-4CEF-B66D-498787D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DA8-7AB5-47FD-B02A-1D6527D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D71-83F6-4F4D-BEAC-1C45787AA57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8C6A-A2B7-4644-A3C3-38B73188A8F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5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5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  <a:ea typeface="黑体"/>
              </a:rPr>
              <a:t>提醒幸福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3" name="t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2057400"/>
            <a:ext cx="2208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我们要如何对待幸福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要提高对于幸福的警惕，常常提醒自己注意幸福，享受幸福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标题中“提醒”的含义是什么？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就是发现幸福，感受幸福，珍惜幸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探索结构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一（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～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）借日常生活诸多现象设譬说明我们已习惯了提醒灾祸，终日充满恐惧的期待而忽略了提醒幸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二（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～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）提醒幸福是什么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三（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～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）幸福的征兆（特点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四（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6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～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5</a:t>
            </a:r>
            <a:r>
              <a:rPr b="0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）写如何对待幸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）灾祸似乎成了提醒的专利，把提醒也染得充满了淡淡的贬意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是暗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“灾祸”比喻成“提醒的专利”“专利”原指创造发明者在一定时期内法律保护他独自享有的利益，用在这里比喻“灾祸”与“提醒”二者之间的专有的搭配关系，使“提醒”这个词含有贬意。因为提醒的东西总是与灾祸有关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）人们喜爱回味幸福的标本，却忽略幸福披着露水散发清香的时刻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是借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逝去的幸福比喻成“标本”，“标本”虽然可见，却是没有生命的东西，只能回味而不能享受。把现有的幸福比拟成“披着露水散发着清香”的鲜花，是鲜活的充满生气的，给人以灵魂的快意。这句话的含义是人们喜爱回味已逝去的幸福，却忽略现有的幸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）幸福有梯形的切面，它可以扩大也可以缩小，就看你是否珍惜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是借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幸福比喻成梯形的切面，梯形的切面斜度越大，长度就越大；切面斜度越小，长度就越小。这句话意思是如果你珍惜幸福，激情地享受每一分钟，就会拥有更多的幸福。如果你忽略了幸福，你就会失去它而追悔无限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9804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）常常提醒自己注意幸福，就像在寒冷的日子里经常看看太阳，心就不知不觉暖洋洋、亮光光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这是明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把幸福比喻成寒冷的日子里的太阳。这句话的意思是要常常提醒自己注意幸福，那么就会感受到自己有无限的幸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1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文章比较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同：这两篇文章都谈到“什么是幸福，怎样才会得到幸福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3082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本文与《挖荠菜》在思想内容上的异同是什么？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429000"/>
            <a:ext cx="8534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异：本文借日常生活诸多现象设譬发问，告诉人们什么是幸福，提醒人们怎样享受生活。《挖荠莱》写一位关心儿女成长的母亲，回忆她童年时代的苦难，向孩子们提出殷切的希望。希望通过新旧社会的对比，消除两代人之间的隔膜，与孩子们成为心心相通的朋友，并希望他们珍惜今天的幸福生活。懂得什么是幸福，怎样才会得到幸福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1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4300560" cy="563868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952880" y="533520"/>
            <a:ext cx="381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毕淑敏，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从事医学工作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年后，开始专业写作，共发表作品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0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万字。曾获庄重文文学奖、小说月报第四、五、六届百花奖、当代文学奖、陈伯吹文学大奖、北京文学奖、解放军文艺奖、青年文学奖、台湾第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6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届中国时报文学奖、台湾第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7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届联报文学奖等各种文学奖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余次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课文情景图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400800" cy="47894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3"/>
          </p:cNvPr>
          <p:cNvSpPr/>
          <p:nvPr/>
        </p:nvSpPr>
        <p:spPr>
          <a:xfrm>
            <a:off x="1371600" y="5334120"/>
            <a:ext cx="914400" cy="1523880"/>
          </a:xfrm>
          <a:prstGeom prst="rect">
            <a:avLst/>
          </a:prstGeom>
          <a:blipFill rotWithShape="0">
            <a:blip r:embed="rId4"/>
            <a:srcRect/>
            <a:stretch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成语释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">
            <a:hlinkClick r:id="rId5"/>
          </p:cNvPr>
          <p:cNvSpPr/>
          <p:nvPr/>
        </p:nvSpPr>
        <p:spPr>
          <a:xfrm>
            <a:off x="2743200" y="5334120"/>
            <a:ext cx="914400" cy="1523880"/>
          </a:xfrm>
          <a:prstGeom prst="rect">
            <a:avLst/>
          </a:prstGeom>
          <a:blipFill rotWithShape="0">
            <a:blip r:embed="rId6"/>
            <a:srcRect/>
            <a:stretch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讨论探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">
            <a:hlinkClick r:id="rId7"/>
          </p:cNvPr>
          <p:cNvSpPr/>
          <p:nvPr/>
        </p:nvSpPr>
        <p:spPr>
          <a:xfrm>
            <a:off x="4114800" y="5334120"/>
            <a:ext cx="914400" cy="1523880"/>
          </a:xfrm>
          <a:prstGeom prst="rect">
            <a:avLst/>
          </a:prstGeom>
          <a:blipFill rotWithShape="0">
            <a:blip r:embed="rId8"/>
            <a:srcRect/>
            <a:stretch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探索结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">
            <a:hlinkClick r:id="rId9"/>
          </p:cNvPr>
          <p:cNvSpPr/>
          <p:nvPr/>
        </p:nvSpPr>
        <p:spPr>
          <a:xfrm>
            <a:off x="5486400" y="5334120"/>
            <a:ext cx="914400" cy="1523880"/>
          </a:xfrm>
          <a:prstGeom prst="rect">
            <a:avLst/>
          </a:prstGeom>
          <a:blipFill rotWithShape="0">
            <a:blip r:embed="rId10"/>
            <a:srcRect/>
            <a:stretch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品味比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>
            <a:hlinkClick r:id="rId11"/>
          </p:cNvPr>
          <p:cNvSpPr/>
          <p:nvPr/>
        </p:nvSpPr>
        <p:spPr>
          <a:xfrm>
            <a:off x="6858000" y="5334120"/>
            <a:ext cx="914400" cy="1523880"/>
          </a:xfrm>
          <a:prstGeom prst="rect">
            <a:avLst/>
          </a:prstGeom>
          <a:blipFill rotWithShape="0">
            <a:blip r:embed="rId12"/>
            <a:srcRect/>
            <a:stretch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文章比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中央电教馆资源中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3.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成语释义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枕戈待旦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枕着兵器等待天亮。形容时刻警惕敌人，准备作战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666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惴惴不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形容又发愁又害怕的样子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657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谆谆告诫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形容恳切教导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无足挂齿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没有必要说起、提起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638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南辕北辙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心里想往南去，却驾车往北走。这里比喻心里感受同现实状况是相反的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成语释义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瞻前顾后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看看前面再看看后面，形容做事以前考虑周密谨慎。也形容顾虑过多，犹豫不决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相濡以沫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泉水干涸时，鱼靠在一起以唾沫互相湿润身体。后用以比喻同处困境，互相救助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495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熠熠夺目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形容闪光发亮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袅袅婷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形容女子走路体态轻盈的样子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讨论探究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891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哪些日常生活现象说明我们已经习惯了提醒灾祸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019320"/>
            <a:ext cx="77724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中告诉我们幸福是什么？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809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幸福的征兆（特点）有哪些？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要如何对待幸福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727600"/>
            <a:ext cx="777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中“提醒”的含义是什么？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077320" y="6324480"/>
            <a:ext cx="914400" cy="533520"/>
          </a:xfrm>
          <a:custGeom>
            <a:avLst/>
            <a:gdLst>
              <a:gd name="textAreaLeft" fmla="*/ 1141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从哪些日常生活现象说明我们已经习惯了提醒灾祸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从天气的冷暖、交友、事业、情感风暴等来归纳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7772400" y="609588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文中告诉我们幸福是什么？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是避去苦难之后的时间，幸福是一种心灵的震颤，灵魂的快意。简言之，幸福就是没有痛苦的时刻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rId2"/>
          </p:cNvPr>
          <p:cNvSpPr/>
          <p:nvPr/>
        </p:nvSpPr>
        <p:spPr>
          <a:xfrm>
            <a:off x="7772400" y="609588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幸福的征兆（特点）有哪些？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常常是朦胧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绝大多数是朴素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不喜欢喧嚣浮华，常常在暗淡中降临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有时会同我们开一个玩笑，乔装打扮而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有时会很短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⑥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幸福可以扩大也可以缩小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7772400" y="609588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7:28:22Z</dcterms:created>
  <dc:creator/>
  <dc:description/>
  <dc:language>en-US</dc:language>
  <cp:lastModifiedBy>liuye</cp:lastModifiedBy>
  <dcterms:modified xsi:type="dcterms:W3CDTF">2003-12-25T07:52:16Z</dcterms:modified>
  <cp:revision>27</cp:revision>
  <dc:subject/>
  <dc:title>PowerPoint 演示文稿</dc:title>
</cp:coreProperties>
</file>