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62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01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99.xml" ContentType="application/vnd.openxmlformats-officedocument.theme+xml"/>
  <Override PartName="/ppt/theme/theme110.xml" ContentType="application/vnd.openxmlformats-officedocument.theme+xml"/>
  <Override PartName="/ppt/theme/theme65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</p:sldMasterIdLst>
  <p:sldIdLst>
    <p:sldId id="256" r:id="rId117"/>
    <p:sldId id="257" r:id="rId118"/>
    <p:sldId id="258" r:id="rId119"/>
    <p:sldId id="259" r:id="rId120"/>
    <p:sldId id="260" r:id="rId121"/>
    <p:sldId id="261" r:id="rId122"/>
    <p:sldId id="262" r:id="rId123"/>
    <p:sldId id="263" r:id="rId124"/>
    <p:sldId id="264" r:id="rId125"/>
    <p:sldId id="265" r:id="rId126"/>
    <p:sldId id="266" r:id="rId127"/>
    <p:sldId id="267" r:id="rId128"/>
    <p:sldId id="268" r:id="rId129"/>
    <p:sldId id="269" r:id="rId130"/>
    <p:sldId id="270" r:id="rId131"/>
    <p:sldId id="271" r:id="rId132"/>
    <p:sldId id="272" r:id="rId133"/>
    <p:sldId id="273" r:id="rId134"/>
    <p:sldId id="274" r:id="rId135"/>
    <p:sldId id="275" r:id="rId136"/>
    <p:sldId id="276" r:id="rId137"/>
    <p:sldId id="277" r:id="rId138"/>
    <p:sldId id="278" r:id="rId139"/>
    <p:sldId id="279" r:id="rId140"/>
    <p:sldId id="280" r:id="rId141"/>
    <p:sldId id="281" r:id="rId142"/>
    <p:sldId id="282" r:id="rId143"/>
    <p:sldId id="283" r:id="rId144"/>
    <p:sldId id="284" r:id="rId145"/>
    <p:sldId id="285" r:id="rId146"/>
    <p:sldId id="286" r:id="rId147"/>
    <p:sldId id="287" r:id="rId148"/>
    <p:sldId id="288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" Target="slides/slide1.xml"/><Relationship Id="rId118" Type="http://schemas.openxmlformats.org/officeDocument/2006/relationships/slide" Target="slides/slide2.xml"/><Relationship Id="rId119" Type="http://schemas.openxmlformats.org/officeDocument/2006/relationships/slide" Target="slides/slide3.xml"/><Relationship Id="rId120" Type="http://schemas.openxmlformats.org/officeDocument/2006/relationships/slide" Target="slides/slide4.xml"/><Relationship Id="rId121" Type="http://schemas.openxmlformats.org/officeDocument/2006/relationships/slide" Target="slides/slide5.xml"/><Relationship Id="rId122" Type="http://schemas.openxmlformats.org/officeDocument/2006/relationships/slide" Target="slides/slide6.xml"/><Relationship Id="rId123" Type="http://schemas.openxmlformats.org/officeDocument/2006/relationships/slide" Target="slides/slide7.xml"/><Relationship Id="rId124" Type="http://schemas.openxmlformats.org/officeDocument/2006/relationships/slide" Target="slides/slide8.xml"/><Relationship Id="rId125" Type="http://schemas.openxmlformats.org/officeDocument/2006/relationships/slide" Target="slides/slide9.xml"/><Relationship Id="rId126" Type="http://schemas.openxmlformats.org/officeDocument/2006/relationships/slide" Target="slides/slide10.xml"/><Relationship Id="rId127" Type="http://schemas.openxmlformats.org/officeDocument/2006/relationships/slide" Target="slides/slide11.xml"/><Relationship Id="rId128" Type="http://schemas.openxmlformats.org/officeDocument/2006/relationships/slide" Target="slides/slide12.xml"/><Relationship Id="rId129" Type="http://schemas.openxmlformats.org/officeDocument/2006/relationships/slide" Target="slides/slide13.xml"/><Relationship Id="rId130" Type="http://schemas.openxmlformats.org/officeDocument/2006/relationships/slide" Target="slides/slide14.xml"/><Relationship Id="rId131" Type="http://schemas.openxmlformats.org/officeDocument/2006/relationships/slide" Target="slides/slide15.xml"/><Relationship Id="rId132" Type="http://schemas.openxmlformats.org/officeDocument/2006/relationships/slide" Target="slides/slide16.xml"/><Relationship Id="rId133" Type="http://schemas.openxmlformats.org/officeDocument/2006/relationships/slide" Target="slides/slide17.xml"/><Relationship Id="rId134" Type="http://schemas.openxmlformats.org/officeDocument/2006/relationships/slide" Target="slides/slide18.xml"/><Relationship Id="rId135" Type="http://schemas.openxmlformats.org/officeDocument/2006/relationships/slide" Target="slides/slide19.xml"/><Relationship Id="rId136" Type="http://schemas.openxmlformats.org/officeDocument/2006/relationships/slide" Target="slides/slide20.xml"/><Relationship Id="rId137" Type="http://schemas.openxmlformats.org/officeDocument/2006/relationships/slide" Target="slides/slide21.xml"/><Relationship Id="rId138" Type="http://schemas.openxmlformats.org/officeDocument/2006/relationships/slide" Target="slides/slide22.xml"/><Relationship Id="rId139" Type="http://schemas.openxmlformats.org/officeDocument/2006/relationships/slide" Target="slides/slide23.xml"/><Relationship Id="rId140" Type="http://schemas.openxmlformats.org/officeDocument/2006/relationships/slide" Target="slides/slide24.xml"/><Relationship Id="rId141" Type="http://schemas.openxmlformats.org/officeDocument/2006/relationships/slide" Target="slides/slide25.xml"/><Relationship Id="rId142" Type="http://schemas.openxmlformats.org/officeDocument/2006/relationships/slide" Target="slides/slide26.xml"/><Relationship Id="rId143" Type="http://schemas.openxmlformats.org/officeDocument/2006/relationships/slide" Target="slides/slide27.xml"/><Relationship Id="rId144" Type="http://schemas.openxmlformats.org/officeDocument/2006/relationships/slide" Target="slides/slide28.xml"/><Relationship Id="rId145" Type="http://schemas.openxmlformats.org/officeDocument/2006/relationships/slide" Target="slides/slide29.xml"/><Relationship Id="rId146" Type="http://schemas.openxmlformats.org/officeDocument/2006/relationships/slide" Target="slides/slide30.xml"/><Relationship Id="rId147" Type="http://schemas.openxmlformats.org/officeDocument/2006/relationships/slide" Target="slides/slide31.xml"/><Relationship Id="rId148" Type="http://schemas.openxmlformats.org/officeDocument/2006/relationships/slide" Target="slides/slide32.xml"/><Relationship Id="rId149" Type="http://schemas.openxmlformats.org/officeDocument/2006/relationships/slide" Target="slides/slide33.xml"/><Relationship Id="rId1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EA1205F-A947-46BE-A556-385A828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14778E-00AA-4AC4-B74C-5561BDC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FCA0160-F627-496F-8817-A7534EF8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3D98318-6610-4B8F-8BC7-544BEF9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CF3E171-E910-4816-9D76-FB81A08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AD3C79A-5644-412E-A969-AA76C67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624C694-15BD-4592-BA94-70C636B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42350EE-73F8-41CD-A220-F741223E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30FCB46-EC4F-4501-9C30-160CBBE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884A59C-3171-4FAD-B6AE-DD5D9541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FF902C1-1196-45AD-9923-BCE6B485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D01267-C5E5-47CD-B08D-F4FD719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23A9A88-0123-42E1-8E9F-96A0F689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4D6B962-1616-41C4-A338-F630338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2659CA9-8F27-41A8-85DD-FCEB4D10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6371758-6C1E-4619-B760-22AD557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0DA282F-A290-43BE-9CAF-3B06A76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1B43D32-B187-4C4D-8B5A-61E06BD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932149-F843-40FB-A8A6-60E4600B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CFF9A9-E3DD-4D61-B0B0-BE06387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6753105-CEA8-4667-8BB2-2041786F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D2E928A-4883-4627-BB8F-719D98EF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0F93A44-0013-4DD8-BBBB-27901F48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D8EF723-68AD-440D-9971-19D3D81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64D86D5-7C80-4805-BEBF-60B5C19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85256FC-B58B-4647-81B7-B0206ED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DCD0A05-EE04-47A9-8A61-1009668B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47D94FF-9EEB-4F8B-9D1B-43C7FA4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AAB9DF4-8D1B-4811-8BA9-268E544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EE44648-7DAB-4B78-A4B0-1332753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88C5EA2-35A7-4FF7-B656-8FE8938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9CBA9DB-3020-414A-9712-D5A605A4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B5C0BBD-66BA-47E0-AAEC-6C87DE1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14C6D6-8A82-4ADA-9540-EADE82D2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6FAD685-0312-4E01-8187-6F8A84CE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2633CF6-F230-4125-B618-62F03DC2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02F7543-E159-4501-AF83-47A64ED6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41DF0A-9CA6-4AE6-AB9F-B0180EC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67C69F7-15B3-42C6-938D-F739835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28D6C77-8964-4E14-8D4A-E55DF5E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F93DBEB-4AC6-4066-8642-ADE2BD6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5675F76-0F8D-4B4A-BC52-E88A157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0F8711F-3104-41F3-B14A-64624FC7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2257037-B15C-4084-9414-5A751DA4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F595AA7-ED0E-40A8-BF48-2B3C56FA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CA2AC56-0565-4D76-9B1E-01543823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7A2A9C-02C9-4487-AF26-920C10C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97AA320-7A06-4DC3-A7BA-99643B49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A752E0E-E3FB-4D97-A1B2-B8AAD506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337A1A7-549B-4145-8811-07C0D4BC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04440C-89A2-45FF-BAC7-67969450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76A8E08-2632-4666-8BC0-920CB31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C30F20D-9BE0-4EC6-A312-6A9A8ED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8266A6-4262-485F-B989-22F54E4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E7A1733-B375-41EC-A47F-E6E3032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6C065E8-9B05-4BBB-8AB9-639288F7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A720B16-2447-4B31-AC5C-88DBAE9C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EF7FBD6-D3E5-492E-BFF9-44B4BECF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3F97AB6-DD76-49CC-AD57-73653F55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A905BF9-E41E-438C-8A52-9855171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ED0850B-47FA-4CD4-91DF-DEC0E7DD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C97D981-FD16-4E16-8A50-44B885C7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34809F3-5880-4E39-A945-BA2DEFA6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270E1F9-5F16-47EB-9758-A506C27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9AD863F-E7F4-4610-B0F5-7342170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EB13BCF-A124-4EA8-B9A6-122C927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29A7A69-3F6F-4E93-807D-0F5F9E5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B5F953F-36EF-488D-8D58-C0011DFF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96E66F4-8578-4FCD-9863-826B7ADF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721F641-9FD4-4E5B-90B0-4E1BEA27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8226E9B-8CC7-4F69-8428-A94E7B23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F98D55B-F66C-40C5-9EA7-0D7EE4F6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46EAEB3-2438-4113-BFE0-5BF17522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7EFC258-C055-44BD-9E9B-AC0491B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4294612-148E-4F48-A8EF-E54AF53D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5C64BD7-67A6-4CBC-B70F-6145330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10E665F-CDDD-44BE-B265-B3E007E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6C2AAC9-F8FB-4816-A9DE-7FA855FD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19C3E7E-0AAC-42A0-B72C-515E07C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C08F230-CB2D-49F0-BB20-A0969EE1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F338F82-021F-4749-AF66-CF3F3509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43086E9-A335-44A1-8FE2-2955669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6DACE5D-D5B7-4730-BA81-9E5A7F4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AC2F4C6-9382-465C-AEF8-58D4113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72369C-3CF0-445E-84BB-CABEC073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327A0AD-9351-4439-A808-B5799A6D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1B2E303-50BD-45D2-802B-E105A215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A3C1E1E-10B4-460D-9D59-CACD75F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FD0BF5A-38AF-442C-86D4-3D650B8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ED4683-BF61-4186-A697-EC67E832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A44FD4A-052D-4F32-BEEA-40DD3A1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47D4C03-F1C5-4EC4-BB0A-F31E531C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E66F952-B5F1-4549-B699-789B695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D2136A0-A1F5-4BAB-94B4-1038C220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F8ECD8-D619-49FD-B0B5-8A543E9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5890CC7-0367-40B6-8893-F4B4ACB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CA01667-9861-48FD-B7D2-788C9441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6FA98E-77F6-439B-AF1C-B05C840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BAE64CA-C448-4B7A-BE28-5161C67C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F0B2D0-2812-4EC8-BF09-944FD78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29D7A33-ED79-4077-95ED-4303FD90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7EEF2BE-E611-4556-8DD5-57E7C5B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23B4755-C928-43C2-8D8D-BF9C60A1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FB6104-7705-400D-8F3F-B54C7A18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E51BBDE-B233-4297-A901-9E4014B6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17F3927-C01C-4386-B598-E4EBF95F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E6F5619-FAAD-4F4B-851D-ED02FE9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B7DBFD4-A1CC-4178-80EB-B2B3578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7B0C64A-3818-4119-A91C-EE31F860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6DF1C86-A65D-498A-9BDA-8913263B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05810F4-57BD-4879-B326-FCE470F9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AC12D24-D2E5-4561-B4C6-FAE5136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96462DB-F24E-448D-9A29-EBF8647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162711-5665-40E3-B87C-73AF343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4A371FC-4F39-4E18-B543-9F5CF5FF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95879F5-60C2-4283-87F0-EEB4CA92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153BB72-5143-4188-96E8-DE208E9E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C85EFDE-BDB8-408F-B074-F87A625C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8233529-39FC-43DA-8069-9612DD4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CA71171-EE1C-446B-8BB1-4CCF67F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CFB1A4E-63D7-47E3-A043-BDCC4CE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64D88CC-A17F-4F51-B04A-F460565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05ED4BA-70E9-4547-B0CF-4D9E3C3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277B176-1859-41CA-AD9B-0B6FC4C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B430C42-26C4-4952-A995-28C7857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D181853-6998-4F57-BCFC-57AE648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021B732-EEF7-48F0-8644-3F3255E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50B5390-F24D-45E2-84E2-993513A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58E4A5D-41E8-4612-B588-3F3609AF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8A22403-7CB1-44F2-9523-830742AB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A348639-A2B2-4D42-8826-D4AD30D5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C59E9B5-8C16-4DDF-8443-16EBFA45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522BAE3-40FA-468A-B51D-CC7B1581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5348EC4-4B1D-4679-A22E-0705B856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8AEC6CA-1241-4DF3-B07C-234F65A8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F1535E8-2B3B-4C16-9ACB-D259B01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3347CF6-BB40-4E0F-A4E7-9FDA564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D45C59D-5785-4715-AC9E-6302A37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AECECD4-A608-4484-B5DA-34447B6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2DEECAA-CD69-4A18-9D28-BF31F2CF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1C8D605-B31C-407C-B7B6-2383F22D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F422038-7571-46B1-BAE5-9208F3C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1C91C64-C241-4575-9BB2-3AB5742E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35D531C-44A3-4517-B2BA-BD85FCE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46D86D-D75A-4CBD-90D7-97123D97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C5D29DA-4A41-4980-AAE1-C194611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9F2183B-31F5-41D1-921A-8296E00F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13ABAB4-1801-4B2F-B0DD-CC329DB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68228B8-B351-4367-A763-C35C293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6BCA0A3-B9BB-4408-B723-EE7BDF2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CD45439-B6F7-4DD6-9F72-111A9EF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4E39B9A-D049-45FA-AEA8-21DB01DD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8C2A86-B83D-43C2-957C-D495078D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DF3BC2E-B750-4D44-BA6F-E61C7C7A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E9CDA9B-D0CD-40A0-AE41-7BB486B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602070F-F8D5-4D1E-A68F-F664161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8BF619E-2838-44AC-9D74-6615E90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0D21257-7FF2-4CB4-B194-D76232F2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481A9AB-AB5B-4118-83FD-71C82646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43A8391-18DE-420E-8314-155759D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CC8E4E0-90BD-4597-B7FA-7C5460B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2DD9E03-91D1-44FC-86B2-56A35BD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326947F-6525-484F-B54D-2C85801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A41FD3B-9292-428F-A6E3-97E3C7D5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1C513ED-3C01-43CE-BAFF-10A7796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61E3E47-ED17-41B6-A250-255F0F4C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7FAE77B-F8FC-4555-A40A-F721AC3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EA1C391-F017-4D0D-B8E9-BA124627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8CCD019-D731-486B-BA8B-092D2DDF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62F0D2E-E916-4599-8EAE-73DE9C6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BF62C76-2DB9-47F6-AEBF-07062AF5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FE339BD-AE36-4309-ADB2-6D9D368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FE82DC7-DFC8-4B1D-BE74-59E4A56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37FB33-47CD-4C9F-A787-4E950D8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0CD7E41-785C-45EE-9BF4-2BB29B2B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F5FED7F-90B3-4905-8704-C91E8AA3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BA9CD8D-8D00-4435-A7C6-6704F0A9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47259E4-4D74-44CE-9FBC-A769294B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8555D6D-52DF-46D9-AA3B-6945541F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91C0FFA-BCAE-4A72-9E84-FD313761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1623AAD-1E6D-478D-9E84-4BCD1D0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4764A22-1F34-4B9C-B63C-D8674DD3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987B562-BBA9-42E3-B209-CA8BCCC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00A2ABA-222B-4EF0-AE8C-A3B84D1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F72CEE0-53DA-4A7A-A9C4-3BFF5CF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1573095-821D-43E5-B4EF-FBA687F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DEAF15E-7F72-41F6-88B9-703DE09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63EA053-A2EA-46AD-AC73-DA6099F4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15415D5-7B1E-4614-AF2E-D029B1D0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F85270C-21B2-45DB-A6F0-D122E59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91C08F5-04EA-4348-80E7-3E3BB76A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8A8A2DC-B3E4-4863-B815-466B5F3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3D8B8C1-F89A-4BD8-86FA-549518F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720A617-2EE7-40F0-9AC3-5E82374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770695C-12BA-4061-97EF-8385996D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13B83E8-5F2B-4C2F-9375-EAD0562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38E5966-B922-412E-AF17-2BF4ECB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F7F6854-E215-4F3D-8354-C724E41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82FE14F-9D93-4B6E-8EFF-FA41FE6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DF1630D-E551-4D1C-94A3-F383349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F9F1969-148C-46FD-B666-1FE6CA60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0455A22-B4D8-4471-A6A7-A7DA144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DA125D2-F441-4EBE-BC7D-F6E9E038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EF3967F-9B6B-49DF-A225-6E4D688A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36F5F68-7AD2-419A-82B0-5215D05D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49B14C2-83C0-46FC-90F6-B6C24FE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4DC3043-E514-43E3-9F39-097ABA9A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EB838BA-C82B-4214-A60D-A7AB78A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CD0772F-41BE-4527-8874-FD81627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F286A6C-2C99-4A88-9138-4BFA62A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F60-072B-4D5D-A798-D9CE1C3D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24B9AD3-32AB-42E2-81F2-BB4C00A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E7F3239-6B27-424D-879B-35C814F0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8C9CEFD-EA5C-4F8D-B938-C9EFA961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19CD598-41E4-4002-9F1B-390D1053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0ABC0A3-5B25-4012-9587-8AB02F2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24D8BD8-9FEE-44BB-A5C6-8FC5B12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DC58299-78A7-42B3-8893-3A432791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991F9BF-E267-4A52-9D6F-38359D77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BBA2EDE-1915-4DC1-A6F8-CB98E2D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EAB225B-700A-4B78-867E-0A12B27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4D7-DB98-4D2D-87BA-57FF5FFA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690DDA5-DF4F-4B52-97F0-AD4CB44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CB163B3-C726-4A21-A03A-51806CC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9D2B86A-6BFA-4A3B-B230-AAB901D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ED5D1B7-3B60-4981-82E0-74A75DAE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DC9B7D8-AC7B-4E06-B208-74EC4AB2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734A1C4-4176-49D1-A1AA-27876A8E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C279711-118F-4C8E-90F0-BD9B033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6D704DA-83BA-44FF-9943-07DA5C0D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F57296F-CCA0-4C7B-9198-EDC5EDE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5DB5A25-5D74-4AF4-B64B-3B931FF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BFB-4EB3-4260-AB13-5E8736A9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E09078C-AF1E-42D2-99D5-325AA4C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4B86E33-A44E-4157-B44F-C432872E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0E223DD-5ED7-417B-A9D0-B7E84B1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A5DA555-C3CA-4B6F-832B-2710703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47C78E8-84C0-42C2-820E-BA5AA34D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66CF286-2FFF-4183-94D4-08946461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59DAF22-74F7-4EE1-A53D-94B8D4AA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DE12F12-56BF-4AFE-A3F2-56E58557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7A04DDC-6143-4A02-90FC-3296B75C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6DB0666-641B-466D-BB6F-BBEE09EF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780-1CCF-4381-B27C-3E09836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4DE1471-DEFC-48B8-959A-63A7353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BDEE9B5-2AB6-4786-A6F0-378DC48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96FD438-B75D-431A-8CD4-CB805B2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5C346F1-2F48-4B35-9917-A737CA4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36328C7-8216-4143-A46E-E660D77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746EBD-A0FE-41B9-9AF8-170906F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87CE851-85F9-4A28-B08E-B6E54508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2B28A3B-5619-4F26-BEB4-18E8ECAE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4BF9E2-F264-4F16-8C8F-1009567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AFC2771-6D2C-4A03-A913-45FC2BD4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58E-6CE0-458A-A19B-D4ECC69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1D14038-7E02-4289-9C30-1D11FC6A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78135E8-73F6-4A13-BBDF-468239F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C3F0127-452C-4241-B233-8982173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4523B0B-9A1E-46C2-A61F-D277A4F4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1BBAD64-14C5-4B59-A33F-B7CCD4E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7FA7C5F-91D0-41F4-AE23-614584D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6D89E41-867F-4D59-B33A-375C1A9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54D1CFE-DB9E-480D-B579-FA230D7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668299E-D7E5-46E0-9F80-7C2BCA9B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D4B5A8D-67E4-4F5C-8943-BA2D5E2F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09D-B62C-4D0C-AF17-EF91ACC0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75106B8-F95F-41EB-8B04-1A3857B8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1A64EAE-76B9-48B3-99E4-6311082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33E9FAD-F989-403F-9797-B63F657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902F31B-E640-4024-B078-7F85535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03EDAF7-9A50-4557-A94A-798AD5C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868F527-BC7B-4B98-8432-C2F88BC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B6103DD-746E-437C-B015-6D498AB3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A417EC0-A176-41F3-AE19-A94E33D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7B465C6-A687-457E-A4B9-E3364716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E151FD9-8B03-4755-8EC3-B79043B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73D-E9D8-4783-B96F-1B0F984A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FC32FCF-3C81-4583-9C2C-6E3AE82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03CFB7D-968A-444A-A250-2B35AF94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12B154A-B649-4F1F-B227-5885CB88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93DE52F-945B-4436-8D04-EF45C0E4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B2337B9-8A87-42F3-8762-C71FE2D1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6E9C27D-3966-47AB-B5DE-92D69F85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5A4C73B-563D-48C7-8AFE-0F61FE3C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BFB96D7-7D7A-4CBE-9CC6-B15B47AF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BEF5E50-C3F3-4268-8AB9-51B3F16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1B85364-12F1-4DC8-9561-D63EF8E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418-7A54-4C34-8F09-25CA8DC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6AD920C-FBE7-4064-807C-D6DD9B3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AC945D7-7323-48CB-A5EC-A9AFC9A2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EAFD34A-2124-4A9E-8F04-E7695CE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4A5CB6D-AD59-4A96-B458-1E9A162F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999C991-23A1-4E04-BFCD-CBEF4AB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C6D8E6E-5E35-4F40-B2E3-AD78DF5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AB4AA3D-6E2E-4DF9-BBAB-65BA52A7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9F549FF-66EA-4DBC-A8ED-3FAAB0C2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68CE434-DA0F-46A4-93AE-0E6CF23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C2A9724-C8EA-45DC-88D7-B498863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463-1A85-47E6-BC25-3C29DCC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58E7491-9330-46C5-BBEE-B58713A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58B217C-0187-4796-A0C1-CCD051F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45D4522-93FC-464C-9515-15F6538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272997F-DDAD-4267-A3AA-87E86B8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36D31FA-E60B-48BF-BFDD-45B4767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4C9C4B4-5C1B-44FE-BA45-64818676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D95FA51-FC5D-49BF-A8D8-A797D22A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417056D-B2F1-42A6-AB19-9AEC144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7D09E09-399B-413F-ABB3-7C2CE60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523B326-A2F8-4858-8205-7369779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256-98FA-41CA-8C01-40EF83E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9A50327-34DD-4A1E-A245-E1590B30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5B9D363-851C-498F-A6FB-DF33DBFA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87443C7-0ECB-4338-B4C2-D4E7D3C3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F073D49-3D04-4549-9820-4746FB8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DDC667C-E6F3-409F-BBD6-F00EBF3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AA644FC-A99F-43AE-A325-DFB7BFC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B14ECC7-2D49-4F8E-A12A-5A6C3E5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40F5784-9F6D-4955-A0F7-A861FC73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BFFA91F-90D0-4E74-AF2F-A6C12AA0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810A906-AB50-4A40-9088-8672FB74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695-171D-40FF-8DF3-CB001DDD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2E8EC43-421B-4391-8C42-E0708D3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198F372-E624-41FF-871E-9B3E595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CC8817D-43D8-4202-804A-9B7F583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04FEC2B-1DE4-4B55-9359-90C768C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EEFE8EA-D941-45E4-8CAC-4C0D2930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6DCF1E3-53C7-4E03-AC89-CB8B6EA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7A2CD00-3A1B-4E14-BE43-0909F68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FC9C546-1130-4F17-B63C-69E0604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27BED97-046E-40B3-90DD-E489299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501F4F0-A40D-477A-9821-D6244A84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FB5-50FE-4000-B58F-9E3D940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B85B117-0FDD-464C-A0B3-5139BC26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0277889-7103-4195-BBD3-C1E6AC39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F91E57B-7480-41BF-8614-E99B755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7355681-F015-401B-808F-EC7D8AB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0E303D4-2B42-487A-A2A4-84A8DE0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1230192-F1B1-4B72-AC0C-DEF8AAA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EAAF86E-BA4C-424F-AD0B-3558A78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3751A85-0919-416B-9F6A-BF3FF9D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303EEB3-3F73-492D-AF8F-5936612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25BED58-FAC1-4CBE-86C0-F0BAC3D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623-D4B2-491A-9DC0-7C324B31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29E32E2-C2E4-4255-81B1-E7555C5C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1DE6653-C1F2-483A-8E52-547FDB69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B6281CB-01B8-4409-BDE2-654661FC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E7106BB-2FD3-4CEE-AECD-5C0D547A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0178D56-ABD1-47F5-8952-AC3C1CB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93DABE6-D59E-4F86-9E1A-231C687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4CBABC0-574A-4661-83AE-A8C9670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B1E8BAA-8675-4614-8C9E-B93FF81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719283E-F0CA-44A4-B969-C2B37E26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127B8DE-4E15-447D-A7AF-D09275F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FB69-4BED-4B84-B355-90E0BF6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C56DB2B-C453-4C22-BE41-CBCBC7A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CECDE4D-C3B6-4071-8F70-2A4AAFC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5649486-98A4-4B78-85A3-91F3EF9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F63832B-03BD-4883-B8D7-B432034D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1F9DF08-B52C-4294-8365-040CDA7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5B1FC63-B0BD-4390-84A1-859B0858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DC57271-B5D1-443D-8A63-DB221A0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9F53B8D-1352-4F7D-B369-49A2D6A1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B232C27-4166-4DD7-8790-94A997BF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7D49DA2-802A-48D9-8276-CFF6D19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E06D-B75F-41A4-8F34-0E9B27FB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E402908-4BDF-4F53-BEAB-5AE89F8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A0AD49F-DD65-4BDE-81F0-8AC0237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9D13654-46BA-47D2-9C7C-C89EFE1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5366FDB-C29E-4A91-A336-9CC92A7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7C2E65C-FA07-4421-BBF4-94474EB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C29FA55-C633-469B-B5A1-658A0282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1CFB1FA-32AB-46F7-BAA4-0F9AF60E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8F4041D-4819-45B2-BDB4-743A1FA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E191D77-20F3-42BB-9142-31A4D016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0929567-AE7F-4A7F-8AC5-5F0FC61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CDC-FFFA-4181-9A35-870A048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3128812-6EC5-41FB-B2E0-7C0EE71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03AFB06-78B1-415A-975E-32412C9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F80A2D9-9C7C-45E5-959C-A0DE16D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A847549-9BD1-4CDB-BA8E-61B12FE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813A67D-4974-499D-891B-CFE321F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48A39EB-B02C-43B7-9664-443899A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7FCCFBC-C77C-44A0-BE1A-8591683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D5BDB81-C101-4184-8BD5-2E76C3E7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76B8E5D-9E85-4969-A7D4-7DB9B0C4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E8E495D-D74C-4BAC-9C7E-713247E4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7EC6-5E4A-4DFE-A261-F4E53A2D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BFBBCE8-910E-4AF7-B651-54FDB45B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D882B55-190B-4616-8404-FED55E0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920B268-F395-4920-8C09-B646918B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6043EBA-25A7-4A14-B3A2-83FD4450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A178FB0-1CC1-4643-BAF8-DA8C162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59D64BC-2E83-46D7-939B-1BA3CAD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84D2E91-7FBB-46B3-B469-EC85C1F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188C789-3F96-4BD5-B9A5-FE0FBC2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2A5819C-CA2D-4E0C-9CDB-1490AAF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EA29308-9B60-4275-A51D-346D8E84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FF2-706C-4252-9EF0-8C9DA854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DD6227B-3DF7-40B4-AF57-A3CC55A3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D80B-9BB1-4801-9007-88DA1A5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A00-7DFB-4664-B97B-D5361E9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F1F1-7B4D-4541-AEF5-65C3BCA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E7E7-6DB6-4929-81F2-5D91447F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9F4-AF31-48B4-9391-D9235F9F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1064-ADE8-4C47-A4BA-B978BB43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CD4B-0CB5-44B6-A436-53EE32F7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0A9C-4C21-40FC-80C3-DD35ADD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15A8-48AE-4B59-A684-203F51B3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3767-DF0D-4953-919F-611438C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3C1C-F145-4925-B9E8-4673682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BB14-68A5-4874-9502-42608DF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C9A0-0C7A-4DFD-865C-E4901CA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D76E-294A-45B7-8852-8785F8E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A73E-60F3-4A51-92D4-3BE87DCF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F73D-4F5E-4A86-948D-FD868CE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8C74-A34D-4E00-98DB-7FE649AC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1699-6EDE-4E52-9AB4-480A4F76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3E03-4776-4C72-B85C-1BF04B4A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7EDF-76F9-4731-99D6-86B025B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2240-DF50-4814-8711-5EAAFA1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C78C-EEAB-4272-B352-87E270E9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01B6-A8A6-48F1-8AE7-455B7CF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5327-1880-49C8-BB5C-31B84CFF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757E-EEE5-40FA-AE6E-371F46D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39DF-4981-48BB-982C-83BEF2A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C765-8CF1-4B1F-8ACC-33286F8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DAF2-FC34-4C9B-9EF5-352B42C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9219-1346-4092-B4A9-A213E083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F30B-3522-4129-ABDA-3AD3D930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CB7D0-CF83-490D-BF1A-FA3DA10A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2BC2-054C-49E8-A3D9-2D0B16A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A91C-90FF-41B3-9FD3-24C031D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42078-5126-4657-BD24-54BFA1C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C777-D11D-4474-8FEA-F4501183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BAAC-199D-449D-BD5D-6690F41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402F-760D-40CB-9773-A9D3E41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6748-8A96-436D-BD08-CFE2F7C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74FD-2593-4C91-9CC9-6B66F19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B60D-04AE-4ED7-AD8A-4701FB7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BB5A-07D7-4BA5-9CA4-17C5127C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6FE5-4608-4428-87DB-4F337D97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3F50-AA03-4D5F-AC1C-52F8A53E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C8258-8880-40A0-842D-DDE4DCB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71A18-BD1C-4C7C-A3EA-B9E95CF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BD773-F723-47DD-8906-913F341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BC7D-E69D-4CFE-BF47-9EB6FEF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551D-7D14-477D-8A83-3E9AFF6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0F7C-8FBE-4B5B-98AD-BFCF891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C84AB-AD6C-44F9-A692-F88504A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236C-F32C-4833-A5CB-44363C9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F220-913E-42E2-BB29-F5CFDE1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78A23-3302-46C7-BD4A-665A5D35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4E4D-500F-484A-8D7C-3734E439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3A751-6D80-404A-8B2F-80D5CCE7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5093-B0A6-4470-A73B-2E3A33FD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0398-18B1-4AC5-BABD-6AC85B4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4BE7-3D34-43D8-9348-E4E6B8E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5B3D-6B73-4AAD-9472-F20490F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F99A-612A-4633-8DC8-9518DA0E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C47C-BE2C-4DD8-A59F-2C78D046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D34B-A0C2-428D-89CD-5672D8F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0A64-1D04-450C-862F-C4CB741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D1A5-52A4-4F79-8A25-E18AD79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F6BE-1F9D-4709-B40F-4C9AC285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E7991-38DD-4B04-9059-8002235A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C8A0-F4D2-4732-AED7-CE725AE3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B2DB-5909-4143-BA63-7DB86769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D162-1149-4FEE-AAAE-41242615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E794B-6207-4456-81A5-39465E8D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9F53-67E1-4284-8EB1-FC84C9E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ED607-F4A2-4286-89D9-8510D8E1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D352D-C4D7-47FA-9A2B-3E656FB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C004-A6C9-4FA4-A8A9-586FFF8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531C-6FE2-444C-8FFD-57D673B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127C-6123-4B7E-99F9-4600F0B9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FD8EE-D433-44F4-9D10-3E7D1A05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C942-C9B7-49CD-9272-38789044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D34DE-F043-40E7-8F04-B37029AC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C3E56-EB30-4EEC-8A2F-26E1AF6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758BE-B561-453A-AD46-EDA94B2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DB56-A8E3-4ED9-B4C0-4076098A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F1A0C-6A63-4ED9-84BB-F8638AE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8AC43-DD8B-4AED-8A9D-1792D41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CDE91-44DE-4DDB-99AA-48F9751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16A0-D8A8-4ABB-A3AA-BAF3BE9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1E49D-31D6-475B-9274-F899553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D1757-4C70-42B4-B573-4EA35F0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C7415-0FA3-4A54-870D-3D165C7A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00556-1640-4651-8C97-86DCF915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96BAF-214E-4472-B19F-7E505C7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ACEB8-B2FC-4393-8939-9992D98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CAFD8-5A0B-4131-A232-C57EDFC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A102A-E820-4552-87B2-8AAF1CCF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21469-05EE-44F5-9C55-2BDAA99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43885-E870-48D1-9811-C78B491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7912D-E61C-40D1-B451-B244991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F049-779B-48CD-82D5-3F72DEC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CD076-CA37-43A2-ABC1-A1927AE0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CDF2A-3786-4322-B120-C11AEE6E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55657-0C11-459A-BB60-CB0AA6DE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58972-FB21-422D-BD02-CD4C63B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FC98-5803-4FED-93C3-CC13D7A3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9F40C-6653-4058-A383-26B33A06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0375-D462-4869-B28F-9E670234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73EA-42B0-4848-B91F-B857B44F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4C054-8660-4434-AA2A-3537B95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2CE7-811E-4F35-A0A4-525DBF70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F64EC-8237-4F6B-B0EC-284AC6D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4607-9900-461A-A8C4-4F1922E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DAE3-1E7C-4399-B547-3CE72B5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EA367-CE80-4BDA-B309-3E5BDFD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141AC-1B68-40F2-BA0F-3519E503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56A30-281B-49EC-B23A-FDDC08E7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55F96-10FE-4E83-A538-69134819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ECE46-FBAF-47A7-A32F-1F24DF5C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31F81-2320-41AE-A4FE-8B6444D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0D0AA-7B6B-46B1-A258-EB7FB3C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BD78-3A6F-4514-8FB3-DADA5130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3D5D3-8A09-4304-B43C-BD41849C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B6855-2FC3-4B0A-9A83-21179A45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6D1CA-BEFB-4F74-9743-F1914F5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20358-8A36-4C3C-B01E-8FF326D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E1EE3-4AB4-46C7-A7B3-82E683B2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08CBB-894E-438A-93ED-3D27D8DE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D5D8B-2C98-4B5D-9592-2C4A343B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49D57-240A-40AF-8F62-F379E0B3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E6CDE-1B9A-4A43-9556-D2A1013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38B58-04CF-48E5-9BFE-3A5E833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1E7C5-88E2-4119-BD8B-3ECC7F71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291B4-A4CA-4DAD-8E33-73037BD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F3738-89FE-4527-ACC7-72EBF5DA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3C166-9D9E-43E7-AC6E-2435213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08658-F3A4-49C3-B1FC-E4B52EF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62711-CACD-4598-BBB7-8178F67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B8E3D-7F65-4BAC-A9F5-61A83882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8C778-6388-4360-984E-2BD7CA90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14FD-CF4F-4DFF-A22D-E20DE51F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FCEFA-C17F-4C49-BB48-1F55BA09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78380-4C66-40B7-88C8-DDC1A8D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A7C81-5426-4AED-84B7-3B11656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6B762-F345-42D3-9C06-FD6007B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F52A9-739D-4E1E-9263-F3950F7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16F99-5E3F-4E67-B29F-C3FEE2EA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B44B6-4AA2-476A-AA98-19B6AE1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96A48-6BE5-4663-8252-B86F650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041AC-6709-4A36-9572-45389DD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46A3E-AFF0-4B3C-8B94-F8C9F20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B4F8A-BF2A-4634-8AEE-35147D6D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F2FBB-A18D-4472-8598-64AFBD5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886A4-381F-4D0D-8E37-5DEA8A56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3A7BD-2782-47F5-97A7-DD244A21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18616-18D2-4FB6-A8AB-946B6425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6AD0B-DC36-401B-AB9D-18E40B6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A7EFA-C3C9-4979-B305-D023F29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0A0A9-E397-444B-A602-D33E19D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E87D6-48A7-4F7B-AB26-43E17D1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0C674-9C0A-4E84-A630-F19ED71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D7D0B-5F62-4266-B9A3-735C00B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292BD-3107-4D80-9087-8BB5262D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43C5D-5C6A-4F28-9F28-6A4DBD36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21258-B2FE-44F8-99D9-5BCC354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BAE7F-243C-4D65-945C-D36B1C70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19D05-1EEB-455A-ACDE-E2B64F2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2488F-78FC-4B79-8558-E3A4DC30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7C11C-DB8A-46DB-8DDC-DF7458F7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F6202-62DB-420C-859D-64003CA7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3C2A9-3EFA-4E40-AE06-0C54556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C46E6-F9DB-4F34-95D7-E0C9DFF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B07FA-96AA-4232-BF71-6EFA3B4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1A6E0-0879-4F7B-A152-30D4E90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77AC4-B9C3-43F5-9FFA-4EC7242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0A60B-50FA-45C1-A8BC-F0B5262C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62EA8-CDAD-4BFE-808F-79682ABC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3F717-5BED-4DB9-A483-FED6996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31810-FB7C-4E47-9461-25721BF8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9E41B-7DCB-4FC9-B8C6-9BE9590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E7693-32B3-4E70-BC27-0E9AD18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CAC14-63A5-4E56-B90F-F8477E8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5A6F3-8F42-4254-B2AA-9060FC2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23F7A-9444-4267-BA9D-5D147E6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AFC8A-6599-4F47-9EE8-A54328B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AA4E8-5D06-46C4-8377-FC1570D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2877B-33B9-4358-8900-811F0FC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145F5-45DF-44CE-99A7-B91077EE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27C4D-1716-4D06-88D6-48FD9348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7F96D-8E5C-4618-9FA2-EDA57C9C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497C0-A02B-4ACF-9DD6-677036BF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A4E9D-76BB-4C92-825D-97DAD95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D8A23-2D37-4DFF-87BA-FDB30076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FA631-5BED-4C5E-837B-E7B69D13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78C28-2FF2-439A-A65A-65B367DA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5DF4A-B515-4567-8838-B913ED2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BC4F7-C586-46A7-B284-651716A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8A258-0834-4BF9-8C5B-F6F9668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BEDAA-DBE7-4155-88E5-9F10C52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C1EBA-EF97-4E0B-99A4-DCD88A1E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8D049-1C14-42E0-8B0A-502982AB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19876-AF88-41D2-99FD-F801F926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A1400-4FE3-47E2-986E-4FCB5D3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3352E-D46D-4755-B4FF-0B49E0A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CAD67-D36F-434E-8E86-80BF972F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4BD43-953D-4C21-8A6A-3E5AB5C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D1A50-315C-47A5-8BAD-D624A0B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A8E2F-167B-44F2-9FD9-0622181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949C6-D47B-4222-BA71-2B32D38C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701FD-92E4-4704-910B-9EABF5C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CC30A-7456-48F0-A6D9-2864291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DAF20-956D-406C-9DB4-E006DA8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66EBA-7D53-4666-9A2D-7DE6415C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9808F5-2508-4532-BDFE-D35701CB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25231-5C71-4A69-835B-E63F0313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6EF8B-0AF2-44B5-92D5-9739FC7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CA170-48DC-44C1-89DE-2EBF751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72DDC-6CD2-43B9-86A6-242D8D0D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D6036-81D6-46BF-AA3B-F1B59B1F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BE1BD-0A2E-42B1-BF9D-166E96A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04A37-E708-434D-AA30-49256B1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B3B1E-A06B-4436-B14E-0E8FC261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FDD1E-96FB-4B09-994A-5418A85E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0C729-A5AD-47FC-98CC-4BF0DAE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179D5-8ED1-4C61-8DED-3531E571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DBBA7-0F5B-4431-9B10-418023C6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63F4E-C331-487D-8A2A-113C5ED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A3168-DDC6-4358-954A-4224309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33231-C69F-496B-A935-2469149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A3C46-B730-412D-93F0-7E7FD2E5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106BC-4233-4ABE-B98F-60FA3B8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EF313-B388-4D7D-A6B0-9398C195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5B954-7E2B-4ACA-9502-D49D975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C51C5-A40F-4FE1-90CE-D4BE5A79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70D16-544D-4078-BC88-B898C3B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4A9D8-D4C5-486D-AED9-303964A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7911EA-47B4-465B-9E48-CB4FE228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362EF-0796-454E-89F5-397F6FA4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B8DE24-18E3-4945-B81D-71880FC5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B9BCBD-27CB-46C3-ABAF-709A9DF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1BE8B2-C431-49A8-98B1-F919C9B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5D3FEC-F306-4FDE-A260-0D49BB9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C8C31-DA60-49A0-A7B3-7E881944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731CE-7DB8-4399-BEDD-83ED3F6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6BEC1-2481-4E23-BFD7-E5D151B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5A26C0-56FF-4694-8C2E-9B6BE3EC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8CA09-A784-43DD-A057-9765CC3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47B90F-A335-4CDB-BF36-035E790E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48DD7-0D1E-4719-8243-CB7739B9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30118-F45A-4331-BFF4-CA02607A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9A11E-C34E-4165-9CE9-8D74228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7F6A00-51F8-4BFD-8D32-6C8F68ED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1D162-E6B6-4C8C-9709-5E6DDA6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D421E9-BE11-43BB-97D3-D080F45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C0D00-9B7A-44EF-955B-F59FDBB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9D8ED-E8E1-4C08-A6F8-F4079062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D0083-58E4-434F-9F04-65B40AA5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C8D92-CFD6-4DA6-AB94-BACDC45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FE5C6A-11A9-4CD9-B728-CD7EC11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3A20D-CE49-45D2-ABC3-32545155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03EF4-3203-4131-960A-6CB52924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31DAB5-FA93-4904-B79D-4AD9A3E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45FF6-F342-49E5-895E-8D0171E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2CE13D-E7D4-4716-998C-2D83D51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C2A611-E667-46D9-BB20-B45E612F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07E0A-FBE8-4AF3-BE7A-FF4C3F3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D6C671-974D-4AE6-9A0F-2C177DB3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C38522-8996-4FCC-B6B3-1D00257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3C365C-9177-413B-A247-C9E469A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36EEC-621D-4FA0-8B0F-9D363874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9C259-F1B4-4C9D-A2FA-BAD3873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4AFA55-5A56-41F5-AD0A-FED9633A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BF67A1-DB3F-4D71-AAA5-7D432B62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4A587B-E8E3-4692-B7D7-FEF0E15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3801A-4A70-4272-8AE3-9B4017D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57813-AB11-4E81-8613-5D0D20A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C287D-4753-49A3-8B92-E1F0A3B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87EB23-3D12-46DB-BDF9-55A8D69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A606B5-794D-4C9F-BBEB-C7DDDFD6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5A1A1E-8349-46E0-8180-057CCFC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995E2E-7D7B-438D-9C3C-4C44708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587229-998D-409C-8B4F-3C5FDAD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937B1F-5FEC-43D3-BCE9-D9DB586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EACBE2-A67D-4B3C-8B08-54F1A095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DB79F-8C58-4459-8426-458FA5D1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B6CFB9-F2DF-4836-9A2C-7729D180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61B45-4DC7-422A-A3BE-E7F20B56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5B34ED-86ED-4DB7-8984-D3AD3691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EB1CA-E7C6-4657-A0B9-F88F6EF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D24580-6C2C-4FE4-9D79-E37000F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139E5F-94D3-407C-8B7B-D75F4B7A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03AEA-471B-441A-A944-6FE2F23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8D4179-1A3B-48F8-B2E3-4D8B87B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98F0C9-418E-491D-A934-118B00A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AED20A-CA45-4915-A930-499762B0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36BF83-459F-42EA-9C5C-70A2D509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A6431B-3156-4C2D-A885-37C4C1F2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F28FB0-CB34-4777-89D2-79FC0735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7B5181-2FC3-4A49-BE47-9A5AFBB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505D8F-5875-4AC8-8B34-F1A2D95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FA012A-86FC-44A1-B7A6-006338B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4E75F0-3251-4661-BBAE-819EC50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CA4BB1-2B0C-459C-9BC5-3272AB1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8B84C2-39F9-4171-A26E-A3347883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A77456-9793-46CC-9EB1-0D0929A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71AEA8-CB3F-41DB-A52A-0C56DA5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BD8FA-DF58-4FE6-9288-5554EF3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3E2E7-9B0D-4288-B33A-53E23942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6471B4-47A3-4646-B1E6-2C02D031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E3D541-C91F-44B0-BF7F-74627325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4B0D32-BE3E-4E6F-8068-F0BC8F2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D1033B-39B3-4070-AC15-C3B4683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B9513D-9D8A-483E-A2D1-C2172DF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D00F49-6AB4-4E1E-B8CB-D877EE3A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E6119-BE8F-44C5-91F9-E4C23658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CE7311-408F-426B-8C0A-17F170E1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17BC3-B3F3-41A2-A1CE-EB2EB92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F30720-A842-4C21-BBEF-ECCCE9E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B9443E-61E8-402E-A2DF-1372DCD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0C127C-FE9C-4B51-BAC3-5901C060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26E66D-B0C1-4968-A541-3C19AC06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3AB67F-9605-4841-947B-2F47F8BF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0840B9-314C-4B41-A07C-D6BEC81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FDAE80-5FEE-45FC-8C5F-3414F597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3A6BEF-511B-4237-829E-1AE4FDF8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166ED8-867B-416F-83D0-4307DF02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40CB43-000F-4D29-8BEF-42F1012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E6CAA3-D7A7-4449-99D4-27E8F38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07654C-178B-49F7-B2AB-BB81CEF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A6A61F-B0C9-4FC7-B43C-CACFA88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C07EB3-DD94-463A-B9F9-3519632F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8D9E74-906C-4439-843B-99A7FB8F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162E0F-B9CB-4CD8-9926-E35691FD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FE74A2-3047-4CD8-A9A2-F9903DB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664DCC-CA6E-475A-BD87-5D48FB4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826DA-7C6C-4F98-920E-FCE3922E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1816D0-DF48-4CEE-92A8-3E73D9D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F758CE-5DF8-4E04-ACEE-6944D476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275DCB-1BD3-4DC3-A82D-47EA4DF8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0EBA11-B9C2-47D2-B583-B7AB816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0A4DE7-C48A-497B-80EB-2E3A996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C1C40C-B17D-4EFD-B09D-4F239C7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AF77C8-5BA3-4968-A17A-543AF59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875A9C-026D-481D-9890-C1841EB5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9AE1D-9B3F-4FD9-A96B-7A85C502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E18BAD-39F2-477E-9B5D-6C8AE74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B06037-B4A9-4226-BDDC-063D146D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CE86F-61F5-4F0F-B878-0199A9D5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E86898-059C-4F8D-AEDF-F36184E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2CAE35-DAF4-4067-96C6-757C3E5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7FFDBA-2B72-480A-9EA4-4F6208DB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8EBAED-7CD4-433C-9544-9225060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01C8F6-97F6-45BF-8FD3-EE84F85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FB337A-B46A-4CE3-9E11-6C3C089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C65B04-E932-4738-B83F-DA12A0A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C4C301-7F00-442D-AFEE-49860372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30E6E0-26AB-43C1-9F09-65B768BC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90B895-EAD6-4C28-9692-CD20BC68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3F7F0B-5688-488F-9462-2525614A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1D2521-FDE5-44CE-89C1-14DB0FF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BFBBAD-445B-4322-B595-DF3686D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9704AF-5708-4294-82A3-D93CB45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D1A71D-EEAF-4705-B5A9-FE4A59D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F3E799-6C2B-47F3-82F7-4BDADD9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605C41-046B-4A04-BCD7-37CDC69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194979-5D4B-4FE4-888C-A3C5DD7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6CBD13-13FB-435E-B865-6F803F9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6808F9-C679-43DD-AFC1-3F7F1AF2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A4F49F-3A80-428A-A416-9AC7E99B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FDD566-B5FD-4B37-A627-EC073DD5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10DAF5-C0AA-490C-9F85-E9968C8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77D28A-BEE1-4576-B35E-C6C8231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2EE6C1-04FB-4987-B0CD-BB2EC44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9A7B16-12B1-407A-AC40-2E25EA9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2248D0-452B-4FCA-A999-81C31A52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75676C-6D6D-41AE-8BE3-D655110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BB4791-6CA3-47BC-A6E3-DA7E334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D30747-7FF5-4AC9-96C1-459B62F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9958F4-D466-449E-9D2F-A2A1EAE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46DDA6-CA7A-4596-ABC3-D93E6736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DAE0AA-8F1E-4B76-96DC-B4A9C502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0B69CC-9393-4DE3-95B1-5782B73A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AA40FC-C81D-480D-9552-2D467D0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49A7F2-6C92-4906-AC46-EAF5E78E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380DA2-4A54-4FBB-8CB3-36BDB0B9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FCDE1B-3434-42EE-AAFB-43592E86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905707-766E-42BF-9344-FDD7ADF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E8EA3A-829E-48CD-B59F-5FFD364B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081824-0B2D-48DB-8BB7-0BE7442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CC7B52-D9D3-437A-8193-4AE3C3B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13B21E-6E8F-42A6-91E2-8881806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9481CC-EDDB-4E7B-8450-F344F32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B31FC5-826C-409D-903A-5B65BAD5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FA7797-B592-4850-B861-C1A591BC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7029C9-F388-45AB-BAA4-A7E7CA1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5C7347-1F46-4298-9C4B-BE8DCFF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50A89F-953C-41EC-BA46-146D2FA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CACAF0-4C8E-4B8C-A299-84590B3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93AC28-8DBD-4092-AE5E-9DCEFE68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527207-6568-435D-9E67-6CB6749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3BCE6A-EA49-4F2E-8373-031A0CF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4A6726-8CF9-43D8-AE31-45743BA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083341-92F0-4AB9-A159-57C6D13B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E967E9-A7CE-4E8C-941A-8D047E00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542FAF-875E-44AD-9412-EEEEAD8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1B81D5-005C-4B51-8C8B-2F3E998C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FE4C2D-6BDF-4B3E-BC92-35129BE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33485C-674B-41EC-835F-B6B4C3A2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BAE808-FE74-4D6D-8589-911DD32F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A929EB-01F6-4A1C-8957-A7BFA48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6B64E5-64BC-48A4-A392-19541E0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01DBC9-E90A-42C6-A6DB-01469D2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E7EA5D-93CF-4395-8377-10C91CD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68BD0D-1CC5-4A39-B8C1-A72D3A0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AA641B-6464-4C9C-A3FE-E36F0AF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C66D75-2F7A-43E8-8342-FD2295B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F0AFCF-7055-4FA6-AD6E-6A9E8AAC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0EAFBD-1DF8-49D1-8277-DF2A514A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1B1532-3487-40AF-8B97-6C44788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10AC92-C05E-4E78-8C2B-3948717F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9DF03C-C042-4730-9EF6-F6341633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F6765E-49B9-4E3F-B082-C2A2877B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B3D55E-76AC-4826-928E-BEA806E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8B5AEE-E2F2-41CC-9766-DECE06A9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2E2301-896F-466C-BE52-9DE1AC0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F26A93-EB49-4557-BACB-D62A6E2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A56FAF-4DD6-4DDC-8B09-5F4AB4E2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8F5E15-CF92-4FB3-84ED-65531539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0CC1BB-E656-4418-96C5-96F041E5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2959AC-1E54-4CC9-A4D8-18F0D787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03F6C1-5D94-4653-82E7-BA5DD2D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759B2C-081F-42A8-B083-C55F2836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794901-C213-41B2-80B1-7571229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C7855F-348D-4882-85BE-8BC75EC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FBB0CA-13D1-4B36-B5A7-93C06A9E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8699F3-0B81-4816-A0CF-069EAD0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85A296-0411-49D0-B7C0-5C11FBF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2E1CF8-40B2-4CE0-BEE8-9D94E1D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97260B-3788-4404-8D1B-BC33F612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AC1319-0195-48CB-8FCE-248BA480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E17F1D-8C7B-4982-8B7A-BD801B39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60F093-CDE9-4F8C-8E26-9850325B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1DAC31-6A03-476C-9D13-5823757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C73E33-78B1-4313-BC2C-4C5C1EAD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B6D7A8-14D8-408C-848E-A5CAF13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43938C-41FE-45F1-9E30-3B2A9908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085617-F4BF-4518-A1FE-D2916D5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F21948-B20F-44FA-8E11-0186466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D3C773-62EE-4F76-9240-0ACF314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3B7B34-CBEF-46DD-8B55-1FF822E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34BA00-21F5-4D81-9B60-2420F31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146053-A9B0-4BDF-935F-A081CFD9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533654-9CAB-4334-BA86-05EE37DC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093691-6259-411B-9D7F-021B76F3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BB31CA-E556-48E1-AE8B-67B2C61F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177024-2661-48BD-8765-FC07E8CA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44F1D5-1EB3-4EBA-A2D6-3E89577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4698BA-8708-4947-9EA7-CE5BDC34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7FD6E7-2A75-43D2-8532-372714D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C3420B-1C1E-430A-A5E6-B4D182B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9E4FA5-B58A-49F8-8CA9-C9235D8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63AF56-1734-4466-B196-DE823E0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D0226E-9E13-4F49-A441-9F7C6774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2EBB53-7E4D-4EA2-875B-ED63218E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5360E8-225E-4AD9-AE9D-E29A182D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524693-8993-46D7-813C-01020482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8FC23A-AFC6-432F-ABC0-16ED4E0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ACAF58-7169-48F4-BEC7-8400A81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5431BB-5829-4BC7-8466-E96314AE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60D4B3-5ED4-4B44-99C7-98DB55D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F51B17-647A-4381-8E06-04BC8A80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FCA055-AF46-4892-B777-7C5AE26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323739-BE37-465A-BAE1-CAC2E53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47F2F5-D783-4AC0-B17D-E72C164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EA8E0F-B6C5-4B9B-A68E-06F8385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3FBF77-307C-4C61-B532-93753952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7DD587-AB94-46D0-97FF-CAD08041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E98384-101E-4C7A-ABFE-5985830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56B7F0-B8FF-4D15-80E1-326C5AF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71B5BC-0CC2-4C02-90DC-612F0465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81BF29-5368-48F7-86D9-869A5AE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82C0A7-AEF2-48C0-BE8E-6D265B10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08384D-78D1-4935-94A7-21AC41F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A66EAC-8D43-4FCB-8489-127E09A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BB9B64-5E5B-4599-A754-A0067EE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DB1D18-0AF1-4B22-9ABC-676BD92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75CD5A-F4F1-45A6-8B00-799A53F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DACD48-45FD-4300-B56A-A1F6DF3A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DEA73A-2F24-40BF-9E76-A7DA70B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2B9835-370E-4ABC-866F-C45E240A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2649C8-E6A6-4C63-9D18-8867338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67191B-F9C9-47F0-94EA-BDFAA5E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E35403-13F3-4DA7-9253-C9C4F9E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05CA89-24BC-4400-A0D6-E661574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30EC58-F637-4BC4-8269-238AFA84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CDBDED-C4BD-4FAD-B8A8-CD2887D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77D7DB-6084-4045-ACB8-30F0FD1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710C83-E4CE-4EDC-9488-6F190E6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7EC6FC-177D-4568-971F-15532B7A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6981E4-76EF-45E3-AC9F-60F67114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2AAD65-2128-4323-89F3-7E1A0A9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85EC2B-9279-4793-8AEC-720E1D53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253A86-B095-41D1-8212-EEE70C20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A9DD8D-D281-4FA3-8234-1825559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96944E-753A-4058-A10C-BB96BE7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B2FDBD0-E779-4D80-ABD4-1DF3BE41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72DE2E-3AB0-4000-9571-ACCC6CE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90A194-4E1C-4D38-BD58-43EA100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05AA19-916B-4568-B838-F01B8E4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9E6FE9-404B-4EDB-AF28-CD723E6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63CF12-40F7-42D5-AA06-826A193E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F0E075-7152-43C5-AC6E-1969C89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92474E-102C-439B-8355-0F89FD3C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23E520-05D5-4BD6-A7BB-D13E88E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0B5895-53C6-4233-A542-58F6303D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1651E9-8847-4E16-A4AD-C73CC2A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0ABCCF-AA9D-4F32-B45E-EB1A9344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ED8A48-4129-4507-BCA4-D2BAE631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D3ADF7-8035-4047-8577-23522DC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395FF6-9CF5-4B88-8577-6484098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8A3824-E37C-48CE-971E-C1B8542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AD4946-1F53-4219-A6BD-32E9AB8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DA4BD7-8A9E-4271-856A-EAAF9CB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3CCDB7-F415-459B-9197-27FC15AA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7A50C8-A556-4CBF-89B1-BE283527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149F0C-7E5A-408A-AA0A-D95E85C0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B22A2B-85EF-476D-B5F0-6408925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FAC543-D0BB-4D1C-ACD4-B00915C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0B6CB0-5481-4378-A585-4B6F4B3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2379EC-7E6A-4F82-BA69-E7987B1F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A41CD1-3338-4275-8D84-62A3C961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77D67D-A71A-4785-8E72-F44EB44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A6F780-DA52-4E1C-8185-B6774D0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2F8B4E-7002-43E3-B2B6-8183B82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49ADB9-85A6-4CB2-A87F-0B4F406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CFABD4-A98E-4592-9ED6-C77B1E87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F5C30F-D939-4CCB-8C57-FD6C5266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92C078-AF32-4D1E-A1CE-D8D59DC7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F68B7A-322B-4324-9F17-A42DBA0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CAC6B1-6ABA-41B3-B9CD-D5D604D8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395B6F-BA5E-4DEA-964D-4F534A3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8CD2D1-89FC-497D-9E61-3D6DD0B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98E667-5B41-4FA3-988D-B3E68CB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F474BB-DAE7-456E-9506-7AB8678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0D5542-00CF-4E94-937B-284D8AF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2127271-4327-4A6E-B7A2-D20CD30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23537D-DBDE-4328-B5C5-FE42756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C6FF71-42A6-496A-89AA-C5916A2B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6E9BD3-EA08-4651-B518-EE34C0E1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EACED1-7526-4FB5-93DF-46D5636B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4FDA20-5B92-47C7-A35F-7AB7E15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DD0F37-848E-4578-AFBF-C6D9000D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534ED9-ECB2-4D6B-A0E6-49E9713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35B6C4-5D25-4DD8-A238-AB675E3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BA016E8-B920-47CE-8C9F-719667AD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A78C28-09E0-4A3A-9036-D110B8EE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4E1CEE-B98F-42D6-B487-9633F96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400AB0-1E96-4AE2-9934-EA39F27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2DDF60-B6A7-4F6B-8E2E-258AEDB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3CBE36-0F81-4897-9A28-2FEA0AF6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5481E0-DDE7-4BE3-902B-8453B6BD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768622-16DA-4199-B0AB-4D9BCB15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5DFDD8-8911-4061-AC66-F07C0E8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7AD8B0-402A-42B0-A874-78B136C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4A81D6-A623-4D65-A542-96C48047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F05848E-F43A-48D4-863F-0ACE3DB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7CF87A-73D5-4410-8BF9-B1578F20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818956-82E9-4E77-958D-B20676A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32CDCF-FDF0-4D3A-8912-7D13837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DA4BEF-F6B3-4E7F-B290-00D5355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B9339E-B4B3-4AE1-82A7-11D20C48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9557CA-0612-4F23-8F5B-303030B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DFE7AD-A76F-4BC7-9257-893A73C3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E0176F-259B-4C0D-B34B-3ED018A8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B28759-E61C-4B76-959E-7D7ED7C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6BA1D1-D185-43DE-9ACF-4901BC00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282101-03B7-420B-8AD9-B23B7FF6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0A0F9D3-941E-4CDB-98A2-0EC254B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5205AE-4BB7-400B-9447-AB3F8E1A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C86C7F-C574-4182-9508-CF80513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A199D0-60DF-4166-B3AF-1E02DD4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788345-AC1E-4AF8-AC7A-2F2D368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B0F6DF1-84EC-4DFF-8758-3A12E29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F803B0-D504-4B27-A825-5B27CADD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0A33D0-AE3C-4930-8E27-7D25EDAC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0A4F59-6CA4-4D29-A09B-C8F1A23B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A2AAB7-099A-4267-BC9F-C8A3058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781EF6-51BC-46F6-A6C3-4A613EE6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F01C26F-2842-4A7E-B783-27F5AA5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8C7997-2122-4A2F-8731-EB7DE27C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372106B-165E-4B63-A11D-0011755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736219-5E3F-4A8C-B23C-71A6E4A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8905D8-2DA6-4A37-83B3-9DA3CE0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A407CE-6BB8-4CF5-B25E-D6B1486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CFE7E8-FA84-4C2C-8C8F-2A32154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E9F6C6-BD88-45F1-A7C1-8B038C95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4D0D8A6-420E-466C-8F4C-F893D9D5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F17801-FA4D-4FDF-8E00-375D6F6C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D2904C-B4E3-4691-89F7-255CFE3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37576C-056D-41DF-AD9E-69B18344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AA8A0C-9420-4246-AA38-88DF96A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027002-9D24-4F6A-A05C-8A9ED5D2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DC36A6-544F-4F38-BCF4-09F3CD35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BBA53E-938A-4B00-AF28-57448FE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6E2915-25B2-4E5F-99FE-372CE18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4D09F6-E8E0-48EE-994C-91C1AA6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CE1BA0-0068-4D9D-B1F7-B346FDD8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F4A2D1-706E-48A5-88ED-8A58206C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4CB7E0-61D8-41D8-9DDE-71756F66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5A21D14-B26C-4571-AD0D-A9956B43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3033B2-955C-4E5E-A1BD-2C1371F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4E3709-63F8-464C-949B-2B0503E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B071D5-9FC1-4882-8326-13AC444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3AE8DD8-624A-4783-9F69-7856827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2ED4775-16BF-4ED5-8A52-6E38788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CEBC19-C2F9-4BCA-A1BF-2D52295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E24407-83B6-4DA2-B5EC-B8EB829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1E3AB38-840F-4F8A-90D4-E386E18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E22C2A7-0E45-4D2B-9E58-894DC46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24F315-335D-433B-9D72-ECB6F74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2F5338-31AA-4554-9C5C-A4606781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FCC3D7-6F81-4D88-B6DA-F39CE2A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9D7123D-6A60-4396-99FB-996C27A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C98571-86F5-43B2-87C0-15A49B8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CCDE5A-4E41-4653-A562-5242637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BD539B-35D6-446C-9B55-FE08EB9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A8918F-5A91-4995-8C50-4310628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BDC63B-7404-491A-850B-BBD966FD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9C9A6F6-0808-4646-A172-69E3896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B18650-1295-4852-AF14-2E0DDB6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8E8092-2210-409F-94D0-F0F9D32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2F7C5A-F0AC-402F-89A3-C142A118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24DAB0-F9AE-43CB-80F0-625CD9FF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77F842-19E9-463E-97D8-FCB35CA0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F9206A-148D-471F-8374-BC062F8C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749FB34-0158-4EB7-B81A-6C4BF404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27BE4E-42E6-48B1-A6FD-0EBB151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B8EF52-56B3-4604-B6F6-E6F641A2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E439F4-5413-4748-A3B1-27E1AA71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8EE141-0249-4FB8-9AE7-DF6AC02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995261-4544-41BD-9334-4340B34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A5D07B-FA66-4B8E-B7FF-9F7C73B2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2AF84E-0BB3-47EB-BA34-3F811427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9CCE17-C4BC-4443-AAC3-D930F78B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D218B9-5AEE-49D4-ACFA-EE9B3AC2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366814-2AD4-48B9-A479-6699CEA7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E64DBD0-C78F-443B-A20E-CD2A6CE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3FF2FA-9287-4D09-94F2-F7F7BFBA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D66516-75C6-4A01-97F3-20D3E6A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2543E1-8220-4829-B731-BE277947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2FC8E8-9330-4325-8F95-AA3A627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4DFEB7-DEB7-4634-99AE-94A03E5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F8CE6A-B997-43E6-8978-4CA7CFB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808F181-9DB5-4052-9E97-6A1AFD12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0BFD1F-3970-4EE7-8F03-2BE140F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3C8864-3A36-4FC6-A684-498C0FB5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90080E-9FD8-4307-9637-D1226D05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7902F3-A56D-427B-AE0F-EC29332F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57E2B97-9553-4386-A253-4FF20A99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EDC365-BEED-43CA-A14A-A4ABFBF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B03133-0689-4D6B-BFB7-EA12A1A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F7BACB-964B-4CB4-980F-180540DA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9619A0B-0719-4A14-BEFF-EB6EE4F6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F8E98E-5FF4-4436-86C5-4842B6B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FD0FBA-D828-4AFD-BEEF-9FD2009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2A7A58-EEE7-43C1-AFF5-A31FDDE1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8A8EF0-22E2-4FE0-80F7-B80DF4C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A8D79B-04A9-4071-81E6-5C6CB739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0C60E3-6AA1-491F-A0E9-27D597B1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3D28C8-F886-4A4C-B181-8292B75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E574BAB-86AA-485E-9930-EFB8985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B40D53-AB13-4932-8E6F-DB8EE352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47B861-BE34-4129-B878-25727B7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9BC4EC1-33EC-4178-BE8F-5BAB9F08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62B2AB-16AE-4B13-8EEF-D79920E4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84D175-7C2E-444D-8DA4-7C0B9B2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C2599B-6625-4FC8-8A8E-55326AF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99607D4-3651-49FF-A31F-4A156EC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A0E8C3-AF99-46E5-829E-0D2A5C32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40D7B3-8515-4D5E-879E-EA2C44E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0424D1-199F-49BD-A4A5-CE295DDA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98BA22C-3DA2-4CC7-9A17-F381E08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44AB86B-734C-4166-B4E3-FF55162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C47D69D-0C37-4D5A-9D93-331FB163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73EC7F-7F36-417E-A329-6DD66EC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383AB1E-9ACB-4A9B-A0AF-E04280DA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065566D-3C08-41E7-90E1-5B6A45D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CDB5FDB-1C5C-475C-9702-71A8A46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DCACD63-9635-4587-8D03-D729090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6E0F336-4326-415D-BD87-22233B3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A1418EC-A24A-45F0-A946-57B6E61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DC569F4-0997-4789-88C9-5CFA6078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07AB26-1C61-4A93-9AC8-A25D886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B7D244-4966-4895-AC61-73A66B2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4689A5-0BFA-462A-980B-E1B60985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0CE3DA4-A6F2-42D4-A7DF-3DFF356C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38FEC2-54F1-436E-BD4C-EFBFC11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9A48D5-5D6B-45FF-818E-CEF78B6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17957BA-CF52-49E0-B1DC-6953739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16C9BB2-C066-45AD-A12E-738EE16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9FB327-CE4E-4A4F-B8F7-BA130B6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AC3D57A-7992-4A6C-92E7-BC22B76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8236AA5-6751-4AEB-9953-0AC0140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3F32E6-249D-49CC-B55C-CD049336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99F05A2-4CF1-4773-94F0-A9EFD472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6131DA9-0714-4C73-9701-40CB221D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D30EC17-D0BC-4D3E-8045-8F86A06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89FC522-4BEB-41C9-853F-A6677E19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0FD0705-08C3-4065-B5D5-4F639C3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30B2AB-0248-4C3A-819B-F98BC19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3015820-B51A-444D-875F-3756B1E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B42098E-1004-4348-9094-C054036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BB6A1A3-BC0D-4C5D-B488-691E561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C58A32-4B16-4AF4-AA1C-D5BF140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A1736D2-C361-4A4F-A8AC-4A1FDC8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F8ED06-4233-48F9-B7AA-A8D1297D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549883-6702-4D3B-AADD-AADD35BE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67533D7-D8B8-4970-B5A4-3908D664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23AED8F-542A-455B-B18E-2CF7301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1942E38-D7EB-486A-BEC9-D4813094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1151B54-EC5F-44C8-8D23-F77470A7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52BBBE9-8AC0-4E1E-90BE-6B4DF7E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C5FB860-23B2-4738-A15C-32AB97A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EB82CCA-137F-4E8F-81DA-67B2705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4ADF22-C181-48BB-A03D-5881D7D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B016752-95CA-4D8E-B82F-6BF099CF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9ADDA4E-A196-4FE1-9CB4-3D33BC8B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515B781-E491-41F3-BD1C-298C49D5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C76542-47A0-4016-BB43-48DD7B30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BBB51D9-8462-488E-AECF-6A40D934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C582345-485D-4EE4-AB96-92E3BB62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081A2CD-6614-4426-B88F-C5C2D47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96850A-CF00-4441-88A9-95C1006A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F10116C-6B97-4031-BC1E-33EE31BC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5298356-D9FB-43D0-87B7-5832289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48BBF85-B4B2-469F-8474-734CA507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C63EA9A-3111-4745-B30D-F48FDF9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F095C3-CBC4-4C4D-8AA2-D67FA7C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6DB2DC-8CC5-4BD2-AFA9-A876737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487B922-B80C-4002-9AEE-7C7B2EF4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5BAFE2F-6825-441C-95DA-9F23E0E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F96125-4855-470B-961D-9DC78561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E6C608F-E69B-4035-94A7-C01EB15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0E03EB4-4514-402D-833B-E9D27B0C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238CA25-C6C9-474B-92DA-583A3E9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207BC21-D0FE-4A9E-9743-DF685DB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54521D-9515-4701-B2F4-B28E83D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31953E-9296-44B1-9657-9C832F9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0DC1222-33C7-40BA-A9EA-358B078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B27420-46F9-443C-A5DD-7DBEA067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249D457-E143-4A5F-9CB0-32EB7F6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92EC703-5435-4343-9AB1-AFCC9917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3BAD6C4-6546-4EC1-BE4D-EC5CF77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5267C41-E40B-44AB-9BF4-91859D55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488E33F-EC6F-49CC-AEA3-0F847793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DA5DB1-E1D9-4C54-BF47-6E98F07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5AD941D-126A-4908-BA32-B0C6B5E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4DFD952-1D12-4401-87CA-36C7BAA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87FE9AE-07FC-46F1-99EA-0D0C492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D866C16-0CD9-4D9D-84AC-F4225C8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14A1ACE-4292-4C2E-9B3E-A494940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697A41-AAB5-4399-AA64-822113E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DE30529-36D6-48B0-89FF-DA276B7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C03B7FE-EC23-4664-A876-1392E351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0E0A46A-FDE8-4DB9-B058-740D9AFB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B552333-B5BB-4FA4-90BE-E0E2ACE3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3615DA-536B-4794-892D-10F09537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276A8B8-0869-4F2A-8A35-66993FE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986B472-99C2-4DF5-942E-83518D7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F70B76A-3605-4557-9C08-DB21C03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1544CB6-8288-420B-B257-AE40C92B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57BB1C-EFAC-4D31-9041-57A0AC6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71B558-E196-4C24-A317-650221A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1B11EAE-4AC6-492C-A9E2-9F2E1A9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509DB5F-E0C9-41B5-BA55-2C5BE7A7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EC0CF0B-BF39-4A32-A701-B6FEF557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C1FEE54-6459-4062-9E86-495CEF32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DD366D5-B4E2-45D2-BB5F-45C886EC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C8154A8-CDAA-46A0-BE0E-6B2B3BE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5170EA-2C35-458E-9EBB-23C6197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6F4F15-04DB-479D-AA7C-D131ADB7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C0F3A17-71EB-48AD-A079-D5197CF9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12E4ACB-ACF3-4BE3-AB57-349E50A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C633826-A790-44F1-9C3C-E8E85BE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5B9B2A2-6518-4FCE-A210-0F4359C5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A39173-FA3C-4A0A-AA88-E0FC1C1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BA15196-5315-42F2-B59B-85BA448A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70EB804-74D8-486A-BF61-FDB8B8C2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4DBF060-E804-4909-ACF9-3DBADF8C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D2C3C94-13D9-406B-A095-53BC4EE2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83CE3B-3719-4B98-94EB-8CB0DFF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244D6F-D691-4BE0-A175-9BDB8B7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12EC7FD-722B-4715-8035-6EEB6CF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D866F0B-A1B5-45AE-8910-52816EE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DF6A62F-CAF6-4E4C-86C7-3B7AEFC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7A985D4-46DF-4736-9555-EE39664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22BF71C-7048-451A-98A9-92080FC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5048279-7A98-4D81-89B9-E3C31BEF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68EFBEF-A8D9-47A0-A3AF-819719D3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29794F-DA32-4C25-9CCF-4824C5B3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460B032-9183-4109-ADDF-9D3730EE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554A7B9-B73F-4D54-BEF5-DB1A8BFB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69399DA-EB3E-48DE-B960-01B61822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F291F1A-2512-4A2B-834B-97973818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551F244-45DE-468B-A299-7D2517A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284B9E6-7EE0-49A0-864A-1936096F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869E24D-BEFA-43E2-A290-D021E161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1B9A72-D133-4F61-8E3E-D6B5BFF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A166840-343B-4A3E-8351-02929B1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47900F-1156-43CB-977B-940CBED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40296D-C0A8-494C-91C6-DC475B9A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AF1717B-9127-4F9F-BAF9-AECEAE15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D64F5E1-38C8-439F-9707-02CD1082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7275FF-F723-409E-9B82-04DAC491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B2213B-8FE5-4D81-A9C7-7353BBA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8FE9016-7268-4F5E-9A5C-2243FD44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3616882-346E-487A-985D-C15C222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E77B040-0414-42ED-B136-B8E914D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A08D85-91EE-41C4-8FD9-E9E4F26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2774F2-AFF3-4E57-81F5-C8AB0E6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CC1230-B403-4F25-82F8-755C3AF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A1BA5B0-3E9C-444A-93C8-5EF7678E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0B0D9D-7C1A-4196-8D35-311EA274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4B744D1-7F0E-469E-B0D9-63930ABE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62AB20F-BF67-429D-BDE8-1219DC14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C842A37-EC44-4C51-8563-2075A22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BDE7853-780C-48DB-B152-312B76E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C333CDF-5361-4BD7-BD63-B1BF12A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50E9EDE-6EFC-4505-A314-920C676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80E5AC-D24E-4CB3-9E1B-43C8041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5D5352D-A9B5-4BDD-9D77-93F6F39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1593FCE-C561-49B1-A8E6-2F0B6A3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0AB722-FBD4-481D-9523-68BB5F1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B52BDAF-1069-47A3-B794-A9711BF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52C2A95-B6F7-4AE8-B570-D298F6A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7A98A3C-7900-494C-9635-C0FB1919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7F39CD-44D7-445A-8AAB-AE0F4683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567780A-093C-4748-83C7-7F99C0EF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6FE77B6-1E5D-4C62-8814-9B565CC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BED77C0-9F5C-4EC7-8477-20EF536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DED3E1C-7CC5-4E39-9734-7CC3ECAD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4640C22-2F2D-428D-BD25-EC393C0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58750DC-08DF-4FF1-8542-53ADCB60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42A0EF-666B-489F-AC88-3E26531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072157D-786C-43F1-8561-963042A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210200E-29AB-49BA-9CBE-BD59A42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48194D-50B4-449D-B73C-9E767B9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20AE416-287F-44B5-896F-E9CD2AA4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F66461-9727-4702-9077-537C2FAD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0CBF68-185E-4AEF-848E-1DD87097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EE1824D-1D07-4C56-B4DF-D3960A9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F2ACB05-6BCF-41E8-BAC1-A5ADAEF8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95D4BE-9983-47C1-94B1-20230FA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451094F-81CB-4D1F-98E0-08F02FD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3B9C585-32DE-4EA1-8CCE-678342BD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EF66A37-EBD5-4BB5-B178-E3D0F8F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2B984AA-F943-4948-A81E-E3AA2328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947B079-D29E-4143-A2ED-DDCD281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B3236E5-E0EF-4677-B8D2-82D7244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044215F-4060-4F60-B4A7-B4312317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498AEC8-DF6E-4C1B-B3D0-18A6D2D1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8366507-B9CD-46F9-872C-7FF6231C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A6B920-6F3A-4B9A-B581-BA390D98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D3992E-1EDF-4350-AB88-3292498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dt" idx="26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5DB-BDB4-4F92-8521-89864265231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 type="ftr" idx="26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 type="sldNum" idx="27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717-736B-4481-967F-40569CAE90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dt" idx="27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86E-0376-4383-A948-AC0531643D9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 type="ftr" idx="27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 type="sldNum" idx="27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734-45FC-4F48-B199-1CA4DEB0A9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dt" idx="27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1D0-18A9-414A-8F08-40C1BF3636A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 type="ftr" idx="27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 type="sldNum" idx="27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CDE3-54C1-42EC-9D16-A8B38025BE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dt" idx="2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 type="ftr" idx="2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 type="sldNum" idx="2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A97-F5C0-4358-8706-3668758525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dt" idx="28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E8BD-AC27-4B2F-8453-051954A1773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 type="ftr" idx="28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 type="sldNum" idx="28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C0F9-3992-412E-8ADA-0DAD71F81E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dt" idx="28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76AC-D989-4251-81D8-298B03E2647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 type="ftr" idx="28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 type="sldNum" idx="28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1CD-9E22-43DC-9689-0128D023CB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dt" idx="28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D43-1FED-4EBD-80FA-2EA4BA6A15BF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 type="ftr" idx="28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 type="sldNum" idx="28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18B-9430-4CB3-B10A-83F39922DE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dt" idx="28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1E47-1174-4D2A-A025-CDC349B3BCD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 type="ftr" idx="29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 type="sldNum" idx="29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5C9-8B76-4272-878F-763305067C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dt" idx="29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F0A-8191-4D7F-AC45-1546DCD31F6B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ftr" idx="29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3"/>
          <p:cNvSpPr>
            <a:spLocks noGrp="1"/>
          </p:cNvSpPr>
          <p:nvPr>
            <p:ph type="sldNum" idx="29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D1C-B075-4121-8BC5-71F4642264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dt" idx="29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433-4AE6-4F55-8FE5-E13A178A165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 type="ftr" idx="29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 type="sldNum" idx="29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EC7-FA0C-4E1E-880C-F8A9B1CEE1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2CF5-96BB-4D40-8408-31B0CD7242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dt" idx="29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EADA-F9AD-4814-BAD7-904DA354FD6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ftr" idx="29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sldNum" idx="30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B1F3-0BF2-4719-AAD6-0276738006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dt" idx="30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FDCA-8EE0-47E6-BC9B-1D98F2DD7A9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 type="ftr" idx="30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 type="sldNum" idx="30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649B-EEE6-4EAB-82D6-FF6E11DF42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dt" idx="30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9B1-22DC-4ACD-83A1-948B702F937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ftr" idx="30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3"/>
          <p:cNvSpPr>
            <a:spLocks noGrp="1"/>
          </p:cNvSpPr>
          <p:nvPr>
            <p:ph type="sldNum" idx="30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0F7-90B5-4676-B259-3D7BCCC19B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dt" idx="30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184-68C2-424F-A57E-0BEBAB4D4F2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 type="ftr" idx="30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 type="sldNum" idx="30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6C55-CA62-494F-A7CB-F5E2BC10EC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dt" idx="3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A08F-231C-4319-91C2-D486C6951D5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 type="ftr" idx="3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 type="sldNum" idx="3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710-0325-4152-9F04-0233D74F9B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dt" idx="3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A25-2EE9-4E23-828B-C4A1D94CCB1B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 type="ftr" idx="3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PlaceHolder 3"/>
          <p:cNvSpPr>
            <a:spLocks noGrp="1"/>
          </p:cNvSpPr>
          <p:nvPr>
            <p:ph type="sldNum" idx="3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DF7-5A04-49D0-8347-9211FA91BA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00F-3A91-4B08-B2FA-82015FF25F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39A-8A78-4830-ACB3-2135C7D7BB0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1F25-8EE0-46F0-A969-3EC0DF5E12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789-FF28-436F-9052-95BBE5B0220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DAA-4ABD-4A29-8CC9-5407A1ED67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C4B9-820C-4D12-B92E-A55F3F62608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1BE7-3A75-4B07-A650-2A0B77FFA8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844-D572-4486-AE8F-565DCF9ED09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BA4-6F00-489A-8903-8F74905CFC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BE1-1CC1-4B82-822A-4D6F78C588D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CD2-2F1D-4DBF-95D7-C949CA8C54E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9CA-BCEB-4313-AC89-BE3E88496C9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351E-0E7F-4D10-9B3A-14FAF621ED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29D-361E-43C3-9942-4DE0B1DB22D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75C-37C7-4A38-B777-0EA2F09F76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08A-26B1-45B4-AA01-30E071AF5DA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EE8-A5D1-4FF1-998F-C178F31EBB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43D-A4A4-43C3-B27C-2D1BCE4428E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575-0EA9-487C-93E2-8BDB1B7D74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50D4-9EEF-4CE8-8C9D-9847B6D53C4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AB24-FBF8-477B-BB2D-099E6BCBCF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5F07-EC54-4DFD-B9E4-9BE45343731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D60-0166-4F81-A771-BD3358E374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DB8-FF0F-4173-A4AD-3EFE89A07F9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AD8-520D-401D-8A6D-C06C621671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EB7-82BC-4271-AB19-D0DA5980F7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2FBF-6C6F-4A0A-AC93-808D7A8A87E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8FE-F8EF-4E02-90AC-DCF6BFD1C2F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C20-D0A5-40BC-AC42-B6448A81421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143-2101-4CE4-96BC-1423E14323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EAC-7083-4D18-BDCD-B0DEF0DB9C8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D2E0-7502-4C83-A5DD-BB0017B91B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8FE-DAB0-4BF2-B258-7A784BEC19CF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42D-E193-43F7-9B4B-DAEC3C240A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856-7FB9-40F0-BBDC-D7C487C41EC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5279-B650-4F00-8D31-A98FED4DF8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03E-B9A1-4B30-BFBB-DA9BA632013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56E-6A56-424C-A1FC-CD7437036F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0E4-ABBA-48F3-BDE4-136DCCFEF8A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9E4-7EC8-4EDC-B33C-395D69D00D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FC59-D42B-4FD2-8152-F6F48595476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45E5-D062-4DF4-AECE-5E3B2762B0E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1280-9360-4133-A425-947B46915E9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E4C-84C5-4E10-B24E-9BDCF9426F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787-A2B2-4DCD-A61A-39DFE1C6B08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8EF-B1A2-4975-A148-6EC9B6A9F8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dt" idx="7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09A-B6E8-4F96-A838-2E4BCBE2282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sldNum" idx="7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15D-C8E0-44AE-8E5A-ACF8107980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5473-E8E6-4226-B478-D8B4173280E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A10-6AFE-4314-ADBB-EFFA4C6A17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A25-2BFB-4341-AAC8-271B75F41D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559C-6060-4F64-9DB6-5B5F486AB7B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727-CF5D-4939-B4E4-A8D21600D2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735-A1F9-466D-945B-F74B864AC55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709-3EA4-411E-857F-6CAB4D0390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dt" idx="9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44F-5A85-48F0-98F2-44343BA2AA5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 type="sldNum" idx="9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A51-8F76-4660-B7DB-939F29224E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dt" idx="9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0DC5-175D-42B8-8FEA-A0DF0A16E79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sldNum" idx="9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2AA-FB21-462C-B174-A316B03F46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556-7ACA-4FBA-A88B-589006A7F1A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FA16-B70F-4495-9A60-D5FB700969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BBD-5416-45E1-96C9-02E7DE7FEFD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56A6-D7BF-4CC5-A9FA-3B6DD6E87F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0CB-A5BC-44BE-B1F4-F697A3241A6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ED7D-ABBD-4B99-9F0F-C01F1D7654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B39F-60EB-45DB-94E5-C9506B16608B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6A8-229C-4D30-A2B7-ED50DD9FB3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144-A1CE-423C-857E-1BE07AC2E54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092C-C141-499A-821F-51D1FB8EF6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69A-49AD-4455-81EE-14C0912C82B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DAD2-5B6B-46AE-9DD9-AC3B4DCE6A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dt" idx="11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313-4C58-4D0F-9712-83230E9544D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sldNum" idx="11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7BF-A195-48ED-B561-FC18E94BC2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DC32-6433-403E-9613-3DAC01A9CA5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E167-4BD7-407B-867F-9E2E9D3CCC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43F-8727-4C86-9F4B-74AE67A574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BB0-D5F9-45B1-9117-A00485CFA29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12A-CC48-418B-BE78-60C4777249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E1CF-B064-4DBC-BE99-6BCC43CDFEF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F34-6BC1-4C08-9009-96F17DF20D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dt" idx="13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702-8D02-4357-B54A-8D42BEC7281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sldNum" idx="1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52BA-0DDC-4094-97FE-F600B98CD9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dt" idx="13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186F-04E6-41F5-8DE6-ACD8A922462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 type="sldNum" idx="1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0743-1C73-4310-966D-EC62F02656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66DB-200F-4D60-A4C0-9E814597C1BF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FEA-ACEA-45C2-AECF-7DF94EA228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783C-3CB8-4D03-82F2-844F3D2A5AF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F0D-2337-4C27-8685-6D5418B0F4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C27D-1820-4FAE-BBCE-B7271D080E8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6E51-8765-4EE3-B6AB-68F69FD902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A4E-28FE-41A7-B807-33A16ADECC6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95B-5500-4620-96C8-AF867309FA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dt" idx="14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740-0C52-4403-AB74-B3F0246F392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ftr" idx="14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5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AFE-FA8B-46AC-A625-933B838348D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dt" idx="15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FFEE-ADF5-4500-90D2-E149B416DA3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ftr" idx="15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 type="sldNum" idx="15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791-45EC-4BEB-998E-CB7BDC2FC9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dt" idx="15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AD0-EECC-40DF-B831-EAF8609827B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 type="ftr" idx="15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 type="sldNum" idx="15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10B0-33ED-4DE3-8F1D-0E4DDE46E77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dt" idx="15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776-F393-4F30-B67F-E040C411F19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ftr" idx="15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 type="sldNum" idx="15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070D-9B31-462C-8643-238ACDA4FC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AAB-D9C5-4607-B400-C86533710E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dt" idx="16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8DD-1EE2-420C-9ADA-652A79BED9A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ftr" idx="16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sldNum" idx="16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1A27-49B4-474B-907F-5831D58E67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dt" idx="16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FB7-A16E-4F1D-A8CF-49AA15BDE8C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ftr" idx="16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16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D78-860E-43C5-B8CF-442DF500DA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dt" idx="16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FC04-45E2-40EA-A5D8-F58CC39B6AD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ftr" idx="17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sldNum" idx="17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F31-79C4-4F4C-A96B-E60F3A5641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dt" idx="17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97C-D8CC-47B4-8694-8D802092BEB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 type="ftr" idx="17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 type="sldNum" idx="17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871-B515-4BF2-8516-68C424E610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dt" idx="17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C6E-14C2-4754-B69F-91F36733F35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ftr" idx="17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sldNum" idx="17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92F-35B3-4CA9-B2E7-905F9E0DAF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dt" idx="17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480D-449A-43FC-B173-ED98AA1D7EF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ftr" idx="17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sldNum" idx="18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80D4-83A4-4D90-AE93-97243D971E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dt" idx="18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9DF3-C987-4DAD-9834-538473DF4BF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ftr" idx="18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 type="sldNum" idx="18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AA29-83FE-4D05-BC7F-7F0545DAA1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dt" idx="18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46E-717A-44EC-9EAE-FB1BAF7C22A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ftr" idx="18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 type="sldNum" idx="18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3FD5-4F42-4767-BCF5-F7138D308E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dt" idx="18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CC82-A7D6-47AB-976E-9D27B9DF69C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 type="ftr" idx="18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 type="sldNum" idx="18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F450-1F66-47B4-B2DF-0E5CC0359C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dt" idx="19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5DC-5B67-4CD3-AC69-8BBA94D8CAC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ftr" idx="19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sldNum" idx="19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16A-652B-4C2C-A384-90A6840001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dt" idx="19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0DD9-724F-4B2A-B493-04AF73FEDAA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ftr" idx="19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 type="sldNum" idx="19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8221-E456-431E-8010-1C3A9EB29E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dt" idx="19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4A4-C0FC-4AC0-B836-177E2852C0F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 type="ftr" idx="19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 type="sldNum" idx="19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E0E-5169-4A39-9D9C-316D947270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5368-2892-407F-9A67-C188CDC800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dt" idx="20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A0D6-AA98-47A1-91F0-EBD468D0309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 type="ftr" idx="20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 type="sldNum" idx="20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706E-8FE8-42B4-A527-A15EA27FF5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dt" idx="20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FCC6-E95D-452B-84EF-0D3A1D3564E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 type="ftr" idx="20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 type="sldNum" idx="20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BBAF-FBBA-4594-9AE7-436C7C70CC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dt" idx="20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6836-3CD0-4876-8A70-66B3576B5C1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ftr" idx="20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 type="sldNum" idx="21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0ED-CA1B-44AE-A9CB-F2B7786D01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dt" idx="2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5E3-489C-47E4-96DD-EE30C9BB71F1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 type="ftr" idx="2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 type="sldNum" idx="21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FF8A-5526-472D-8F90-4EC1F0CAE0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dt" idx="2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E17-C118-4105-8BAE-E1F88AF11EC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 type="ftr" idx="2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 type="sldNum" idx="21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72E3-C8EF-4B9C-9BBC-CF1ED017EA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dt" idx="2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71F-0A04-4DBC-8DDC-FB6262871A5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ftr" idx="2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 type="sldNum" idx="21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B87C-5EA7-4995-A0ED-55376C4334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dt" idx="2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4027-215C-43A5-80C8-ADD325EF251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ftr" idx="2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 type="sldNum" idx="22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41E6-1613-4C6B-96B5-4660846AA4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dt" idx="2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403-17A8-4CA7-B2B8-2698586009D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ftr" idx="2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 type="sldNum" idx="22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D210-7B8A-417D-8BB8-EE3C5B847D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dt" idx="2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994-0F0D-4066-B107-05FC6565CD6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ftr" idx="2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 type="sldNum" idx="22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6EAD-D530-4DFF-8C9B-93C91E1081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dt" idx="2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C80-D62B-4198-BC3C-C9983CE2414D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ftr" idx="2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 type="sldNum" idx="23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7E4-2AE2-4F55-87BC-654387E5EA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dt" idx="2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000F-F78D-49DB-B80C-697C2EF1048B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 type="ftr" idx="2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3"/>
          <p:cNvSpPr>
            <a:spLocks noGrp="1"/>
          </p:cNvSpPr>
          <p:nvPr>
            <p:ph type="sldNum" idx="23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D62-472B-4FF2-A642-250F4D44DD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dt" idx="2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3F1-D306-4490-8934-AAC87894FBF9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ftr" idx="2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 type="sldNum" idx="23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296-0AA6-474B-908D-DE5F0B3BD8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dt" idx="2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 type="ftr" idx="2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 type="sldNum" idx="2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30F-3E6C-4AEC-A85A-B2F71FB5E7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dt" idx="2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486-45EA-4EEA-8533-1EBB0FEABE80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ftr" idx="2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sldNum" idx="24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2F9-FC8F-48FD-B3E9-C2B0BBB4F3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dt" idx="2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616A-2AD4-45E7-B50C-5B80A378C5C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 type="ftr" idx="2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 type="sldNum" idx="24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C7D-DEAA-4A2E-A151-C6C3FC3B87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dt" idx="2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1EF-3BF2-41C7-817E-7CBB930FBFB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 type="ftr" idx="2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 type="sldNum" idx="24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8FF-D015-44B0-9DD6-756AE90659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dt" idx="2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B4E-D96A-4D55-837F-0EBB02B2258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ftr" idx="2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sldNum" idx="25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4C5C-2D61-4DC8-BA3E-A55853EE36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dt" idx="2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611-8102-4AF9-A563-A4E12965DEF4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 type="ftr" idx="2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 type="sldNum" idx="25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072-0888-40FF-8CF2-06557E6401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dt" idx="2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EB0-C3E9-44A4-B39F-B8E3882F2B2F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 type="ftr" idx="2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 type="sldNum" idx="25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ACA-6767-4630-9D23-510468D1AE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dt" idx="2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A529-233C-47A5-BDA1-51BE0BCD083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 type="ftr" idx="2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 type="sldNum" idx="26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2A37-4AF1-4132-AEED-D49986EE3B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dt" idx="26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8E7-6C32-4E75-ACEB-9A398EF5388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 type="ftr" idx="26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 type="sldNum" idx="26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072-8556-418B-9244-E521AA7A2D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dt" idx="26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2DF-9B32-42A4-8C92-23D14A17F3D5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 type="ftr" idx="26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 type="sldNum" idx="26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D25-8791-4C85-9EED-E209B8A2D6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0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7" name="图片 1" descr=""/>
          <p:cNvPicPr/>
          <p:nvPr/>
        </p:nvPicPr>
        <p:blipFill>
          <a:blip r:embed="rId1"/>
          <a:srcRect l="0" t="0" r="0" b="7071"/>
          <a:stretch/>
        </p:blipFill>
        <p:spPr>
          <a:xfrm>
            <a:off x="6480" y="-9360"/>
            <a:ext cx="9240840" cy="6914880"/>
          </a:xfrm>
          <a:prstGeom prst="rect">
            <a:avLst/>
          </a:prstGeom>
          <a:ln w="0">
            <a:noFill/>
          </a:ln>
        </p:spPr>
      </p:pic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1422360" y="142920"/>
            <a:ext cx="6299280" cy="73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8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天下第一楼（节选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文本框 12289"/>
          <p:cNvSpPr/>
          <p:nvPr/>
        </p:nvSpPr>
        <p:spPr>
          <a:xfrm>
            <a:off x="843120" y="196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TextBox 3"/>
          <p:cNvSpPr/>
          <p:nvPr/>
        </p:nvSpPr>
        <p:spPr>
          <a:xfrm>
            <a:off x="604800" y="1257480"/>
            <a:ext cx="79930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侦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怯懦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忌讳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捣蛋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拾掇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凄惨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幌子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请高明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雕梁画栋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TextBox 4"/>
          <p:cNvSpPr/>
          <p:nvPr/>
        </p:nvSpPr>
        <p:spPr>
          <a:xfrm>
            <a:off x="1926000" y="12574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ēn 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TextBox 5"/>
          <p:cNvSpPr/>
          <p:nvPr/>
        </p:nvSpPr>
        <p:spPr>
          <a:xfrm>
            <a:off x="5357880" y="12574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è n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TextBox 6"/>
          <p:cNvSpPr/>
          <p:nvPr/>
        </p:nvSpPr>
        <p:spPr>
          <a:xfrm>
            <a:off x="2064600" y="202392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TextBox 7"/>
          <p:cNvSpPr/>
          <p:nvPr/>
        </p:nvSpPr>
        <p:spPr>
          <a:xfrm>
            <a:off x="5259240" y="2023920"/>
            <a:ext cx="16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TextBox 8"/>
          <p:cNvSpPr/>
          <p:nvPr/>
        </p:nvSpPr>
        <p:spPr>
          <a:xfrm>
            <a:off x="1848240" y="297504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í d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TextBox 9"/>
          <p:cNvSpPr/>
          <p:nvPr/>
        </p:nvSpPr>
        <p:spPr>
          <a:xfrm>
            <a:off x="5565600" y="29750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ī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TextBox 10"/>
          <p:cNvSpPr/>
          <p:nvPr/>
        </p:nvSpPr>
        <p:spPr>
          <a:xfrm>
            <a:off x="1940040" y="378936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 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TextBox 11"/>
          <p:cNvSpPr/>
          <p:nvPr/>
        </p:nvSpPr>
        <p:spPr>
          <a:xfrm>
            <a:off x="2743920" y="473724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 q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 g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TextBox 12"/>
          <p:cNvSpPr/>
          <p:nvPr/>
        </p:nvSpPr>
        <p:spPr>
          <a:xfrm>
            <a:off x="2834640" y="5586480"/>
            <a:ext cx="35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l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 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文本框 1"/>
          <p:cNvSpPr/>
          <p:nvPr/>
        </p:nvSpPr>
        <p:spPr>
          <a:xfrm>
            <a:off x="604800" y="2844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a4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音释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TextBox 2"/>
          <p:cNvSpPr/>
          <p:nvPr/>
        </p:nvSpPr>
        <p:spPr>
          <a:xfrm>
            <a:off x="324000" y="136440"/>
            <a:ext cx="813744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侦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怯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忌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拾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凄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咬牙跺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捣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雕梁画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幌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TextBox 3"/>
          <p:cNvSpPr/>
          <p:nvPr/>
        </p:nvSpPr>
        <p:spPr>
          <a:xfrm>
            <a:off x="324000" y="4226040"/>
            <a:ext cx="21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请高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TextBox 4"/>
          <p:cNvSpPr/>
          <p:nvPr/>
        </p:nvSpPr>
        <p:spPr>
          <a:xfrm>
            <a:off x="2474640" y="136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侦查缉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TextBox 5"/>
          <p:cNvSpPr/>
          <p:nvPr/>
        </p:nvSpPr>
        <p:spPr>
          <a:xfrm>
            <a:off x="2368080" y="658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胆小懦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TextBox 6"/>
          <p:cNvSpPr/>
          <p:nvPr/>
        </p:nvSpPr>
        <p:spPr>
          <a:xfrm>
            <a:off x="1476360" y="118116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由于风俗习惯等，对某些言谈或举动有所顾忌，相沿日久而成为禁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TextBox 7"/>
          <p:cNvSpPr/>
          <p:nvPr/>
        </p:nvSpPr>
        <p:spPr>
          <a:xfrm>
            <a:off x="2010960" y="2293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惩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TextBox 8"/>
          <p:cNvSpPr/>
          <p:nvPr/>
        </p:nvSpPr>
        <p:spPr>
          <a:xfrm>
            <a:off x="2284200" y="2879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凄凉悲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TextBox 9"/>
          <p:cNvSpPr/>
          <p:nvPr/>
        </p:nvSpPr>
        <p:spPr>
          <a:xfrm>
            <a:off x="2197080" y="3402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般是用来形容女孩子生气的样子。或是表情比较无可奈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TextBox 10"/>
          <p:cNvSpPr/>
          <p:nvPr/>
        </p:nvSpPr>
        <p:spPr>
          <a:xfrm>
            <a:off x="5300640" y="4287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另外请一个较高明的人，意即不想受委托或聘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TextBox 11"/>
          <p:cNvSpPr/>
          <p:nvPr/>
        </p:nvSpPr>
        <p:spPr>
          <a:xfrm>
            <a:off x="4071600" y="4938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端生事，制造麻烦，无理取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TextBox 12"/>
          <p:cNvSpPr/>
          <p:nvPr/>
        </p:nvSpPr>
        <p:spPr>
          <a:xfrm>
            <a:off x="4898880" y="5460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指有彩绘装饰的十分华丽的房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TextBox 13"/>
          <p:cNvSpPr/>
          <p:nvPr/>
        </p:nvSpPr>
        <p:spPr>
          <a:xfrm>
            <a:off x="4250160" y="6080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比喻进行某种活动时所假借的名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Rectangle 5"/>
          <p:cNvSpPr/>
          <p:nvPr/>
        </p:nvSpPr>
        <p:spPr>
          <a:xfrm>
            <a:off x="557280" y="1501920"/>
            <a:ext cx="7951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快速阅读全文，梳理出主要情节，并用自己的话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文本框 1"/>
          <p:cNvSpPr/>
          <p:nvPr/>
        </p:nvSpPr>
        <p:spPr>
          <a:xfrm>
            <a:off x="476280" y="313704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唐茂昌强行要钱，王子西勉强应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文本框 1"/>
          <p:cNvSpPr/>
          <p:nvPr/>
        </p:nvSpPr>
        <p:spPr>
          <a:xfrm>
            <a:off x="476280" y="3952800"/>
            <a:ext cx="7950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克五以罗大头藏烟土为要挟骗吃喝，遭卢孟实赶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文本框 3"/>
          <p:cNvSpPr/>
          <p:nvPr/>
        </p:nvSpPr>
        <p:spPr>
          <a:xfrm>
            <a:off x="615960" y="31428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文本框 1"/>
          <p:cNvSpPr/>
          <p:nvPr/>
        </p:nvSpPr>
        <p:spPr>
          <a:xfrm>
            <a:off x="476280" y="158760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卢孟实处罚不成器小伙计，厚赏成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文本框 1"/>
          <p:cNvSpPr/>
          <p:nvPr/>
        </p:nvSpPr>
        <p:spPr>
          <a:xfrm>
            <a:off x="476280" y="2622600"/>
            <a:ext cx="795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罗大头自恃烤鸭技艺自大，侮辱卢孟实并撂挑子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文本框 3"/>
          <p:cNvSpPr/>
          <p:nvPr/>
        </p:nvSpPr>
        <p:spPr>
          <a:xfrm>
            <a:off x="476280" y="463536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五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唐茂盛借机要钱，挖走堂头常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Rectangle 5"/>
          <p:cNvSpPr/>
          <p:nvPr/>
        </p:nvSpPr>
        <p:spPr>
          <a:xfrm>
            <a:off x="598320" y="325440"/>
            <a:ext cx="8141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述情节也正是本文的戏剧冲突，说说这些戏剧冲突是围绕什么展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文本框 1"/>
          <p:cNvSpPr/>
          <p:nvPr/>
        </p:nvSpPr>
        <p:spPr>
          <a:xfrm>
            <a:off x="1284120" y="1890720"/>
            <a:ext cx="5999400" cy="581400"/>
          </a:xfrm>
          <a:prstGeom prst="rect">
            <a:avLst/>
          </a:prstGeom>
          <a:solidFill>
            <a:srgbClr val="fdead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围绕“福聚德”的即将衰落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Rectangle 5"/>
          <p:cNvSpPr/>
          <p:nvPr/>
        </p:nvSpPr>
        <p:spPr>
          <a:xfrm>
            <a:off x="366840" y="3157560"/>
            <a:ext cx="8410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中哪句话最能概括情节？结合课文内容，说说你对福聚的衰落原因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文本框 1"/>
          <p:cNvSpPr/>
          <p:nvPr/>
        </p:nvSpPr>
        <p:spPr>
          <a:xfrm>
            <a:off x="760320" y="4540320"/>
            <a:ext cx="781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修鼎新的一句话“一个人干，八个人拆”是对情节最好的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文本框 2"/>
          <p:cNvSpPr/>
          <p:nvPr/>
        </p:nvSpPr>
        <p:spPr>
          <a:xfrm>
            <a:off x="585720" y="1650960"/>
            <a:ext cx="79725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从全文来看，唐茂昌与唐茂盛是只知出不知入的二世祖，成心要钱挥霍，且二少爷直接挖走店里的得力助手，这比坐吃山空的后果更加严重；罗大头是烤鸭一把手，克五又知道他藏着土烟，这无疑是罗大头将要出事的信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 2"/>
          <p:cNvSpPr/>
          <p:nvPr/>
        </p:nvSpPr>
        <p:spPr>
          <a:xfrm>
            <a:off x="398520" y="800280"/>
            <a:ext cx="1324080" cy="76176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文本框 2"/>
          <p:cNvSpPr/>
          <p:nvPr/>
        </p:nvSpPr>
        <p:spPr>
          <a:xfrm>
            <a:off x="414360" y="1316160"/>
            <a:ext cx="477036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且罗大头自恃烤鸭技艺离去，这对于“福聚德”无疑是有打击力的；此外，连小伙计都不成器；种种迹象，几乎都指向“福聚德”即将衰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7" name="图片 2" descr=""/>
          <p:cNvPicPr/>
          <p:nvPr/>
        </p:nvPicPr>
        <p:blipFill>
          <a:blip r:embed="rId1"/>
          <a:srcRect l="16604" t="0" r="0" b="4657"/>
          <a:stretch/>
        </p:blipFill>
        <p:spPr>
          <a:xfrm>
            <a:off x="5398920" y="2089080"/>
            <a:ext cx="3129120" cy="26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文本框 2"/>
          <p:cNvSpPr/>
          <p:nvPr/>
        </p:nvSpPr>
        <p:spPr>
          <a:xfrm>
            <a:off x="407880" y="1760400"/>
            <a:ext cx="81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究其根本原因，可以说，这是勤劳务实的人与东家少爷、克五这样混吃混喝的人的矛盾，是平民与欺压平民的官僚之间的矛盾。这矛盾，才是“福聚德”真正衰落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Rectangle 5"/>
          <p:cNvSpPr/>
          <p:nvPr/>
        </p:nvSpPr>
        <p:spPr>
          <a:xfrm>
            <a:off x="473040" y="144612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语言十分具有方言特色，甚至有些方言运用比较低俗，你如何看待这个问题？请结合文章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文本框 1"/>
          <p:cNvSpPr/>
          <p:nvPr/>
        </p:nvSpPr>
        <p:spPr>
          <a:xfrm>
            <a:off x="501480" y="3471840"/>
            <a:ext cx="8020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王子西说：“要不孟实这么咬牙跺地地干，心里窝着口气。”一个窝字将方言特征凸显无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文本框 1"/>
          <p:cNvSpPr/>
          <p:nvPr/>
        </p:nvSpPr>
        <p:spPr>
          <a:xfrm>
            <a:off x="615960" y="31428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文本框 2"/>
          <p:cNvSpPr/>
          <p:nvPr/>
        </p:nvSpPr>
        <p:spPr>
          <a:xfrm>
            <a:off x="490680" y="1405080"/>
            <a:ext cx="81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又如卢孟实骂小伙计时说“瞎话”“下作的东西”，这里不仅方言味十足，且显得比较低俗。但是，呈现出这样的语言特征是比较必要的。首先，作者选取的是北京的“福聚德”，倘若不用方言，便失了京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文本框 11272"/>
          <p:cNvSpPr/>
          <p:nvPr/>
        </p:nvSpPr>
        <p:spPr>
          <a:xfrm>
            <a:off x="3352680" y="1770120"/>
            <a:ext cx="5461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Box 3"/>
          <p:cNvSpPr/>
          <p:nvPr/>
        </p:nvSpPr>
        <p:spPr>
          <a:xfrm>
            <a:off x="900000" y="16286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噪京师的烤鸭老字号“福聚德”创业于清同治年间。传业至民国初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掌柜唐德源因年迈多病而退居内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店业全仗二掌柜王子西协助两位少掌柜惨淡经营。店铺入不敷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王子西推荐他的换帖兄弟卢孟实来操持店业。卢孟实使“福聚德”东山再起， “福聚德”名噪京华。然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事违人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在福聚德发展正盛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却又遭到了东家、官府等内外逼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终走向没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1" name="图片 4" descr="福聚德.jpg"/>
          <p:cNvPicPr/>
          <p:nvPr/>
        </p:nvPicPr>
        <p:blipFill>
          <a:blip r:embed="rId1"/>
          <a:stretch/>
        </p:blipFill>
        <p:spPr>
          <a:xfrm>
            <a:off x="-25560" y="-23760"/>
            <a:ext cx="930456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文本框 6147"/>
          <p:cNvSpPr/>
          <p:nvPr/>
        </p:nvSpPr>
        <p:spPr>
          <a:xfrm>
            <a:off x="646200" y="1166760"/>
            <a:ext cx="7708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宋体"/>
              </a:rPr>
              <a:t>其次，话剧所表现的是真实，“福聚德”绝不是一个雅文化的聚集地，文中的语言正是当地文化真实的语言，还原场景语言最真实的特征。而且也正是以方言表现其真实性，才将话剧中的诸多人物形象刻画得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Rectangle 5"/>
          <p:cNvSpPr/>
          <p:nvPr/>
        </p:nvSpPr>
        <p:spPr>
          <a:xfrm>
            <a:off x="577800" y="1120680"/>
            <a:ext cx="7988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中用语简单明了，符合真实生活，但也有不少语言含义深刻，请你找出几句，并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文本框 1"/>
          <p:cNvSpPr/>
          <p:nvPr/>
        </p:nvSpPr>
        <p:spPr>
          <a:xfrm>
            <a:off x="717480" y="3192480"/>
            <a:ext cx="7709040" cy="825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克五：烟太多了我闻不出来。（嬉笑）得了，给俩鸭脖子行不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6" name="文本框 1"/>
          <p:cNvSpPr/>
          <p:nvPr/>
        </p:nvSpPr>
        <p:spPr>
          <a:xfrm>
            <a:off x="569880" y="1314360"/>
            <a:ext cx="80042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烟太多了我闻不出来”，烟多为什么会闻不出来呢？这明显是个反讽的句子。作者看似在这里只是说克五一人，事实上是讽刺了一大批欺软怕硬的人。他们占着自己有一丁点地位就欺压朴实善良的民众，而面对恶势力，却又谄媚地陪着笑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文本框 6147"/>
          <p:cNvSpPr/>
          <p:nvPr/>
        </p:nvSpPr>
        <p:spPr>
          <a:xfrm>
            <a:off x="484200" y="1212840"/>
            <a:ext cx="8040600" cy="678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披红挂绿，骑马去坐轿子，怎么红火怎么办。让那些不开眼的看看，福聚德的伙计也是体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文本框 6147"/>
          <p:cNvSpPr/>
          <p:nvPr/>
        </p:nvSpPr>
        <p:spPr>
          <a:xfrm>
            <a:off x="415800" y="3262320"/>
            <a:ext cx="8109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卢孟实骂小伙计，是想伙计们能争口气，即使社会地位低下也要维护自己的尊严。而让成顺将喜事办得有面子，也是为了维护尊严，体现出了劳动人民的傲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Rectangle 5"/>
          <p:cNvSpPr/>
          <p:nvPr/>
        </p:nvSpPr>
        <p:spPr>
          <a:xfrm>
            <a:off x="560520" y="2611440"/>
            <a:ext cx="802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人物出场极多，但是许多人都给我们留下了十分鲜明的印象，这得益于作者对人物的个性化刻画。请你认真阅读文章，挑选出几个你喜欢的人物，分析其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文本框 1"/>
          <p:cNvSpPr/>
          <p:nvPr/>
        </p:nvSpPr>
        <p:spPr>
          <a:xfrm>
            <a:off x="1154160" y="107316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物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文本框 6147"/>
          <p:cNvSpPr/>
          <p:nvPr/>
        </p:nvSpPr>
        <p:spPr>
          <a:xfrm>
            <a:off x="568440" y="1582560"/>
            <a:ext cx="80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卢孟实在未出场时就通过王子西等人的评价，“咬牙跺地地干”，侧面表现出他是一个务实勤劳的人。②卢孟实一经出场，便不屑与克五这样的游手好闲之后打交道，且将事物安排得妥帖，这就说明了他是个精明能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 2"/>
          <p:cNvSpPr/>
          <p:nvPr/>
        </p:nvSpPr>
        <p:spPr>
          <a:xfrm>
            <a:off x="398520" y="800280"/>
            <a:ext cx="251280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卢孟实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文本框 2"/>
          <p:cNvSpPr/>
          <p:nvPr/>
        </p:nvSpPr>
        <p:spPr>
          <a:xfrm>
            <a:off x="417600" y="1547640"/>
            <a:ext cx="8181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斥伙计，赏成顺，让成顺体面一点，又表现了一个劳动者的自尊，他不仅关心着自己的自尊，同时也关注着伙计们的自尊。④而与罗大头的对话中，又体现了他是个不固执的人，对陈腐该改的规矩力图改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文本框 2"/>
          <p:cNvSpPr/>
          <p:nvPr/>
        </p:nvSpPr>
        <p:spPr>
          <a:xfrm>
            <a:off x="558720" y="1547640"/>
            <a:ext cx="8026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过，从他对待罗大头过程中，又能见其刚直的性格。这与后来东家二少爷出场时似有所矛盾，对待这位东家二少爷，卢孟实依然要陪着笑，这是这个时代阶级之分下朴实劳动人民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文本框 6"/>
          <p:cNvSpPr/>
          <p:nvPr/>
        </p:nvSpPr>
        <p:spPr>
          <a:xfrm>
            <a:off x="604800" y="1655640"/>
            <a:ext cx="793260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卢孟实是一个务实勤劳、精明能干、自尊自强、关心伙计、拒绝陈腐不变通、刚直却又不得不学着屈服于社会环境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文本框 6147"/>
          <p:cNvSpPr/>
          <p:nvPr/>
        </p:nvSpPr>
        <p:spPr>
          <a:xfrm>
            <a:off x="568440" y="1960560"/>
            <a:ext cx="80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罗大头是福聚德的烤鸭师傅，从“别忘了你们当初怎么把我请回来的”一语中，可以看出罗大头的技艺精湛，是店里的“顶梁柱”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 2"/>
          <p:cNvSpPr/>
          <p:nvPr/>
        </p:nvSpPr>
        <p:spPr>
          <a:xfrm>
            <a:off x="390600" y="1035000"/>
            <a:ext cx="251136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罗大头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TextBox 2"/>
          <p:cNvSpPr/>
          <p:nvPr/>
        </p:nvSpPr>
        <p:spPr>
          <a:xfrm>
            <a:off x="318960" y="1281240"/>
            <a:ext cx="85042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同学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如果我们想创办文明班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但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今天有人惹是生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明天又有人考试作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那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们还能打造文明班级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里说明了一个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即当一个集体想要有所成就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要是处处有人拉后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便奠定了这个集体的失败。今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将走进“福聚德”更加深刻地感受该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们翻开课文《天下第一楼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3"/>
          <p:cNvSpPr/>
          <p:nvPr/>
        </p:nvSpPr>
        <p:spPr>
          <a:xfrm>
            <a:off x="561960" y="17604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a4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课导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文本框 2"/>
          <p:cNvSpPr/>
          <p:nvPr/>
        </p:nvSpPr>
        <p:spPr>
          <a:xfrm>
            <a:off x="449280" y="1247760"/>
            <a:ext cx="8091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是他固执，不变通，如强调不到七十不传人；自恃技艺精湛，心胸狭窄，容不得人，动辄要撩杆子走人。③脾气也十分火爆。不过，他的火爆脾气与他的性格之真是连贯的，他看重自身的价值与名誉，丝毫瞧不起克五那种混吃混喝、人品卑污的“爷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文本框 6"/>
          <p:cNvSpPr/>
          <p:nvPr/>
        </p:nvSpPr>
        <p:spPr>
          <a:xfrm>
            <a:off x="604800" y="1655640"/>
            <a:ext cx="793260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罗大头是一个恃才自傲，迂腐固执，心胸狭窄，容不得人，脾气火爆，同时又一身正气，真率，不懈与小人为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文本框 6147"/>
          <p:cNvSpPr/>
          <p:nvPr/>
        </p:nvSpPr>
        <p:spPr>
          <a:xfrm>
            <a:off x="1349280" y="2184480"/>
            <a:ext cx="644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贵：同情他人，老实厚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福子：仗势欺人，谄媚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唐茂盛：势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 2"/>
          <p:cNvSpPr/>
          <p:nvPr/>
        </p:nvSpPr>
        <p:spPr>
          <a:xfrm>
            <a:off x="390600" y="1035000"/>
            <a:ext cx="311940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文本框 6147"/>
          <p:cNvSpPr/>
          <p:nvPr/>
        </p:nvSpPr>
        <p:spPr>
          <a:xfrm>
            <a:off x="600120" y="2660760"/>
            <a:ext cx="79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同学们结合分析的人物形象，代入角色进行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织话剧表演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文本框 1"/>
          <p:cNvSpPr/>
          <p:nvPr/>
        </p:nvSpPr>
        <p:spPr>
          <a:xfrm>
            <a:off x="1071720" y="1224000"/>
            <a:ext cx="323028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织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100"/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100"/>
                                        <p:tgtEl>
                                          <p:spTgt spid="4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00"/>
                                        <p:tgtEl>
                                          <p:spTgt spid="4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文本框 4"/>
          <p:cNvSpPr/>
          <p:nvPr/>
        </p:nvSpPr>
        <p:spPr>
          <a:xfrm>
            <a:off x="598320" y="1612800"/>
            <a:ext cx="7947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梳理主要情节，把握文本戏剧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析人物形象，理解人物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品味语言，揣摩具有深刻意义的台词，并代入情景，有感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朗读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了解故事背景，深入理解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文本框 1"/>
          <p:cNvSpPr/>
          <p:nvPr/>
        </p:nvSpPr>
        <p:spPr>
          <a:xfrm>
            <a:off x="615960" y="31428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7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46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9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0" name="文本框 1"/>
          <p:cNvSpPr/>
          <p:nvPr/>
        </p:nvSpPr>
        <p:spPr>
          <a:xfrm>
            <a:off x="2421000" y="1919160"/>
            <a:ext cx="39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冰泉冷涩弦凝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TextBox 2"/>
          <p:cNvSpPr/>
          <p:nvPr/>
        </p:nvSpPr>
        <p:spPr>
          <a:xfrm>
            <a:off x="324000" y="1542960"/>
            <a:ext cx="41605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何冀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951-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剧作家。中央戏剧学院戏剧文学系毕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毕业后从事专职戏剧创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曾任北京人民艺术剧院编剧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何冀平创作的《天下第一楼》演出后轰动京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演出场次仅次于《茶馆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被誉为当代现实主义经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2" name="图片 3" descr="何冀平.jpg"/>
          <p:cNvPicPr/>
          <p:nvPr/>
        </p:nvPicPr>
        <p:blipFill>
          <a:blip r:embed="rId1"/>
          <a:stretch/>
        </p:blipFill>
        <p:spPr>
          <a:xfrm>
            <a:off x="4705200" y="719280"/>
            <a:ext cx="3810240" cy="5419440"/>
          </a:xfrm>
          <a:prstGeom prst="rect">
            <a:avLst/>
          </a:prstGeom>
          <a:ln w="0">
            <a:noFill/>
          </a:ln>
        </p:spPr>
      </p:pic>
      <p:sp>
        <p:nvSpPr>
          <p:cNvPr id="4473" name="文本框 1"/>
          <p:cNvSpPr/>
          <p:nvPr/>
        </p:nvSpPr>
        <p:spPr>
          <a:xfrm>
            <a:off x="615960" y="31428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a4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4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4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Rectangle 5"/>
          <p:cNvSpPr/>
          <p:nvPr/>
        </p:nvSpPr>
        <p:spPr>
          <a:xfrm>
            <a:off x="452520" y="1415880"/>
            <a:ext cx="823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名噪京师的烤鸭老字号“福聚德”创业于清同治年间。传至民国初年，老掌柜唐德源因年迈多病而退居内室，店业全仗二掌柜王子西协助两位少掌柜惨淡经营。怎奈两位少爷与鸭子无缘，大少爷迷戏玩票，二少爷崇尚武林，闹得店铺入不敷出，王子西几次向老掌柜推荐他的换帖兄弟卢孟实来操持店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文本框 1"/>
          <p:cNvSpPr/>
          <p:nvPr/>
        </p:nvSpPr>
        <p:spPr>
          <a:xfrm>
            <a:off x="615960" y="314280"/>
            <a:ext cx="3230640" cy="1222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背景资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Rectangle 5"/>
          <p:cNvSpPr/>
          <p:nvPr/>
        </p:nvSpPr>
        <p:spPr>
          <a:xfrm>
            <a:off x="530280" y="885960"/>
            <a:ext cx="808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生性聪慧的卢孟实立誓要干出一番事业来，以泄人间不平。面对势如垒卵的“福聚德”，他绞尽了脑汁，结果在不长的时间里竟使这三间老屋翻盖起了二层楼。卢孟实之所以能使“福聚德”东山再起，除了靠他本人的精明干练，还得助于与他相好的青楼妓女玉雏姑娘，更靠技艺超群的厨师罗大头和善于迎来送往的堂头常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Rectangle 5"/>
          <p:cNvSpPr/>
          <p:nvPr/>
        </p:nvSpPr>
        <p:spPr>
          <a:xfrm>
            <a:off x="565200" y="1211400"/>
            <a:ext cx="80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光阴荏苒，十年一晃而过，“福聚德”名噪京华。然而，事违人愿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福聚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展正盛时，却又遭到了东家、官府等内外逼压，最终走向没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8" name="图片 1" descr=""/>
          <p:cNvPicPr/>
          <p:nvPr/>
        </p:nvPicPr>
        <p:blipFill>
          <a:blip r:embed="rId1"/>
          <a:stretch/>
        </p:blipFill>
        <p:spPr>
          <a:xfrm>
            <a:off x="4680000" y="3651120"/>
            <a:ext cx="3647880" cy="27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dc:language>en-US</dc:language>
  <cp:lastModifiedBy>asus</cp:lastModifiedBy>
  <dcterms:modified xsi:type="dcterms:W3CDTF">2018-11-04T11:18:18Z</dcterms:modified>
  <cp:revision>2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66</vt:lpwstr>
  </property>
</Properties>
</file>