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22222"/>
          <p:cNvPicPr/>
          <p:nvPr/>
        </p:nvPicPr>
        <p:blipFill>
          <a:blip r:embed="rId2"/>
          <a:srcRect l="0" t="0" r="0" b="4878"/>
          <a:stretch/>
        </p:blipFill>
        <p:spPr>
          <a:xfrm>
            <a:off x="0" y="3886200"/>
            <a:ext cx="2343240" cy="29718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1371600" y="762120"/>
            <a:ext cx="1905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2544840" y="2929680"/>
            <a:ext cx="452088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0" bIns="209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dobe 楷体 Std R"/>
                <a:ea typeface="Adobe 楷体 Std R"/>
              </a:rPr>
              <a:t>第十八课  天下第一楼</a:t>
            </a:r>
            <a:r>
              <a:rPr b="1" lang="en-US" sz="4800" spc="-1" strike="noStrike">
                <a:solidFill>
                  <a:srgbClr val="000099"/>
                </a:solidFill>
                <a:latin typeface="Adobe 楷体 Std R"/>
                <a:ea typeface="Adobe 楷体 Std R"/>
              </a:rPr>
              <a:t>(</a:t>
            </a:r>
            <a:r>
              <a:rPr b="1" lang="zh-CN" sz="4800" spc="-1" strike="noStrike">
                <a:solidFill>
                  <a:srgbClr val="000099"/>
                </a:solidFill>
                <a:latin typeface="Adobe 楷体 Std R"/>
                <a:ea typeface="Adobe 楷体 Std R"/>
              </a:rPr>
              <a:t>节选</a:t>
            </a:r>
            <a:r>
              <a:rPr b="1" lang="en-US" sz="4800" spc="-1" strike="noStrike">
                <a:solidFill>
                  <a:srgbClr val="000099"/>
                </a:solidFill>
                <a:latin typeface="Adobe 楷体 Std R"/>
                <a:ea typeface="Adobe 楷体 Std R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"/>
          <p:cNvSpPr/>
          <p:nvPr/>
        </p:nvSpPr>
        <p:spPr>
          <a:xfrm>
            <a:off x="395280" y="1238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章中哪句话最能概括上述情节？结合课文内容，说说你对福聚德的衰落原因的认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修鼎新的一句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个人干，八个人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对上述情节最好的概括。从全文来看，唐茂昌与唐茂盛是只知出不知入的二世祖，成心要钱挥霍，且二少爷直接挖走店里的得力助手，这比坐吃山空的后果更加严重；罗大头是烤鸭一把手，克五又知道他藏着烟土，这无疑是罗大头将要出事的信号。且罗大头自恃烤鸭技艺离去，这对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福聚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疑是有打击力的；此外，连小伙计都不成器。种种迹象，几乎都指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福聚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即将衰落。究其根本原因，可以说，这是勤劳务实的人与东家少爷、克五这样混吃混喝的人的矛盾，是平民与欺压平民的官僚之间的矛盾。这矛盾，才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福聚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正衰落的原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1"/>
          <p:cNvSpPr/>
          <p:nvPr/>
        </p:nvSpPr>
        <p:spPr>
          <a:xfrm>
            <a:off x="250920" y="11970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合作探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文本探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人物出场极多，但是许多人都给了我们十分鲜明的印象，这得益于作者对人物的个性化刻画，请你认真阅读文章，挑选出几个你喜欢的人物，分析其人物形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分析卢孟实形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务实勤劳、精明能干、自尊自强、关心伙计、拒绝陈腐不变通、刚直却又不得不学着屈服于社会环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468360" y="1268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分析罗大头形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恃才自傲，迂腐固执，心胸狭窄，容不得人，脾气火爆，同时又一身正气，真率，不屑与小人为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分析其他人物形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常贵：同情他人，老实厚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福子：仗势欺人，谄媚姿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唐茂盛：势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1"/>
          <p:cNvSpPr/>
          <p:nvPr/>
        </p:nvSpPr>
        <p:spPr>
          <a:xfrm>
            <a:off x="395280" y="13824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品味语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本文语言十分具有方言特色，甚至有些方言运用比较低俗，你如何看待这个问题，请结合文章做简要分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如王子西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要不孟实这么咬牙跺脚地干，心里窝着口气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，一个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窝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字将方言特征凸显无疑；又如卢孟实骂小伙计时说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瞎话！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”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下作的东西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，这里不仅方言味十足，且显得比较低俗。但是，呈现出这样的语言特征是比较必要的。首先，作者选取的是北京的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福聚德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，倘若不用方言，便失了京味。其次，话剧所表现的是真实，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福聚德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绝不是一个雅文化的聚集地，文中的语言正是当地真实的语言，还原场景语言最真实的特征，而也正是以方言表现其真实性，才将话剧中的诸多人物形象刻画得栩栩如生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3"/>
          <p:cNvSpPr/>
          <p:nvPr/>
        </p:nvSpPr>
        <p:spPr>
          <a:xfrm>
            <a:off x="468360" y="476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文中用语简单明了，符合真实生活，但也有不少语言含义深刻，请你找出几句，并做简要分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克五：烟太多我就闻不出来了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嬉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得了，给俩鸭脖子还不行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太多我就闻不出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烟多为什么会闻不出来呢？这明显是个反讽的句子。作者看似在这里只是说克五一人，事实上是讽刺了一大批欺软怕硬的人，他们占着自己有一丁点地位就欺压朴实善良的民众，而面对恶势力，却又谄媚地陪着笑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3"/>
          <p:cNvSpPr/>
          <p:nvPr/>
        </p:nvSpPr>
        <p:spPr>
          <a:xfrm>
            <a:off x="539640" y="1700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披红挂绿，骑马坐轿子，怎么红火怎么办。让那些不开眼的看看，福聚德的伙计也是体面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卢孟实骂小伙计，是想伙计们能争口气，即使社会地位低下也要维护自己的尊严。而让成顺将喜事办得有面子，也是为了维护尊严，体现出了劳动人民的傲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611280" y="2133720"/>
            <a:ext cx="7848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迁移拓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请同学们结合分析的人物形象，代入角色进行朗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组织话剧表演活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"/>
          <p:cNvSpPr/>
          <p:nvPr/>
        </p:nvSpPr>
        <p:spPr>
          <a:xfrm>
            <a:off x="468360" y="126828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板书设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黑体"/>
              </a:rPr>
              <a:t>              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福聚德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的衰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唐茂昌强行要钱，王子西勉强应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克五以罗大头藏烟土为要挟骗吃喝，遭卢孟实赶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卢孟实处罚不成器小伙计，厚赏成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罗大头自恃烤鸭技艺自大，侮辱卢孟实并撂挑子离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五、唐茂盛借机要钱，挖走堂头常贵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1"/>
          <p:cNvSpPr/>
          <p:nvPr/>
        </p:nvSpPr>
        <p:spPr>
          <a:xfrm>
            <a:off x="468360" y="148428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教学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梳理主要情节，把握文本戏剧冲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分析人物形象，理解人物内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品味语言，揣摩具有深刻意义的台词，并代入情景，有感情地朗读台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了解故事背景，深入理解主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611280" y="836280"/>
            <a:ext cx="397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教学重难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312800" y="3214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品味语言，分析人物形象，理解人物内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1"/>
          <p:cNvSpPr/>
          <p:nvPr/>
        </p:nvSpPr>
        <p:spPr>
          <a:xfrm>
            <a:off x="468360" y="98100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教学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情景导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学们，如果我们想创办文明班级，但是，今天有人惹是生非，明天有人打架闹事，后天又有人考试作弊，那么，我们还能打造文明班级吗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里说明了一个道理，即当一个集体想要有所成就时，要是处处有人拉后腿，便奠定了这个集体的失败。今天，我们将走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福聚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更加深刻地感受该道理，请同学们翻开课文《天下第一楼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矩形 1"/>
          <p:cNvSpPr/>
          <p:nvPr/>
        </p:nvSpPr>
        <p:spPr>
          <a:xfrm>
            <a:off x="468360" y="1484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自主预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走近作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何冀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9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中国剧作家。中央戏剧学院戏剧文学系毕业，毕业后从事专职戏剧创作，曾任北京人民艺术剧院编剧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9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，何冀平创作的《天下第一楼》演出后轰动京城，演出场次仅次于《茶馆》，被誉为当代现实主义经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1"/>
          <p:cNvSpPr/>
          <p:nvPr/>
        </p:nvSpPr>
        <p:spPr>
          <a:xfrm>
            <a:off x="539640" y="7650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背景资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噪京师的烤鸭老字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福聚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创业于清同治年间。传业至民国初年，老掌柜唐德源因年迈多病而退居内室，店业全仗二掌柜王子西协助两位少掌柜惨淡经营。怎奈两位少爷与鸭子无缘，大少爷迷戏玩票，二少爷崇尚武林，闹得店铺入不敷出，王子西几次向老掌柜推荐他的换帖兄弟卢孟实来操持店业。生性聪慧的卢孟实立誓要干出一番事业来，以泄人间不平。面对势如垒卵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福聚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他绞尽了脑汁，结果在不长的时间里竟使这三间老屋翻盖起了二层楼。卢孟实之所以能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福聚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东山再起，除了靠他本人的精明干练，还得助于与他相好的青楼妓女玉雏姑娘，更靠技艺超群的厨师罗大头和善于迎来送往的堂头常贵。光阴荏苒，十年一晃而过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福聚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噪京华。然而，事违人愿，就在福聚德发展正盛时，却又遭到了东家、官府等内外逼压，最终走向没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对象 1"/>
          <p:cNvGraphicFramePr/>
          <p:nvPr/>
        </p:nvGraphicFramePr>
        <p:xfrm>
          <a:off x="-181080" y="981000"/>
          <a:ext cx="1107144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981000"/>
                    <a:ext cx="1107144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矩形 2"/>
          <p:cNvSpPr/>
          <p:nvPr/>
        </p:nvSpPr>
        <p:spPr>
          <a:xfrm>
            <a:off x="1619280" y="1700280"/>
            <a:ext cx="720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3"/>
          <p:cNvSpPr/>
          <p:nvPr/>
        </p:nvSpPr>
        <p:spPr>
          <a:xfrm>
            <a:off x="4284720" y="1700280"/>
            <a:ext cx="3585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4"/>
          <p:cNvSpPr/>
          <p:nvPr/>
        </p:nvSpPr>
        <p:spPr>
          <a:xfrm>
            <a:off x="7407360" y="1700280"/>
            <a:ext cx="260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5"/>
          <p:cNvSpPr/>
          <p:nvPr/>
        </p:nvSpPr>
        <p:spPr>
          <a:xfrm>
            <a:off x="1547640" y="2492280"/>
            <a:ext cx="2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26"/>
          <p:cNvSpPr/>
          <p:nvPr/>
        </p:nvSpPr>
        <p:spPr>
          <a:xfrm>
            <a:off x="4211640" y="2421000"/>
            <a:ext cx="43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27"/>
          <p:cNvSpPr/>
          <p:nvPr/>
        </p:nvSpPr>
        <p:spPr>
          <a:xfrm>
            <a:off x="7451640" y="2421000"/>
            <a:ext cx="21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28"/>
          <p:cNvSpPr/>
          <p:nvPr/>
        </p:nvSpPr>
        <p:spPr>
          <a:xfrm>
            <a:off x="1619280" y="3213000"/>
            <a:ext cx="504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9"/>
          <p:cNvSpPr/>
          <p:nvPr/>
        </p:nvSpPr>
        <p:spPr>
          <a:xfrm>
            <a:off x="4448160" y="3132000"/>
            <a:ext cx="6285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30"/>
          <p:cNvSpPr/>
          <p:nvPr/>
        </p:nvSpPr>
        <p:spPr>
          <a:xfrm>
            <a:off x="7407360" y="3141720"/>
            <a:ext cx="620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1"/>
          <p:cNvSpPr/>
          <p:nvPr/>
        </p:nvSpPr>
        <p:spPr>
          <a:xfrm>
            <a:off x="1579680" y="3956040"/>
            <a:ext cx="3999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32"/>
          <p:cNvSpPr/>
          <p:nvPr/>
        </p:nvSpPr>
        <p:spPr>
          <a:xfrm>
            <a:off x="4284720" y="3902040"/>
            <a:ext cx="1079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33"/>
          <p:cNvSpPr/>
          <p:nvPr/>
        </p:nvSpPr>
        <p:spPr>
          <a:xfrm>
            <a:off x="7407360" y="395604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4"/>
          <p:cNvSpPr/>
          <p:nvPr/>
        </p:nvSpPr>
        <p:spPr>
          <a:xfrm>
            <a:off x="1592280" y="4700520"/>
            <a:ext cx="243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35"/>
          <p:cNvSpPr/>
          <p:nvPr/>
        </p:nvSpPr>
        <p:spPr>
          <a:xfrm>
            <a:off x="4334040" y="4667400"/>
            <a:ext cx="720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36"/>
          <p:cNvSpPr/>
          <p:nvPr/>
        </p:nvSpPr>
        <p:spPr>
          <a:xfrm>
            <a:off x="7967520" y="4649760"/>
            <a:ext cx="636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37"/>
          <p:cNvSpPr/>
          <p:nvPr/>
        </p:nvSpPr>
        <p:spPr>
          <a:xfrm>
            <a:off x="1544760" y="5397480"/>
            <a:ext cx="72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"/>
          <p:cNvSpPr/>
          <p:nvPr/>
        </p:nvSpPr>
        <p:spPr>
          <a:xfrm>
            <a:off x="324000" y="189000"/>
            <a:ext cx="871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词语积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金碧辉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容建筑物等异常华丽、光彩夺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搭济：帮人脱离困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赫赫扬扬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显著盛大的样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噪京师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声很大，在京城都传播开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忌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风俗习惯或个人理由等，对某些言语或举动有所顾忌，相沿日久成为禁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手而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手：手下垂，表示恭敬，这里指恭敬地站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拾掇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指打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雕梁画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雕花、彩绘的栋梁。亦借指有彩绘装饰的富丽堂皇的房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侦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侦查缉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"/>
          <p:cNvSpPr/>
          <p:nvPr/>
        </p:nvSpPr>
        <p:spPr>
          <a:xfrm>
            <a:off x="2484360" y="836640"/>
            <a:ext cx="5327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7"/>
          <p:cNvSpPr/>
          <p:nvPr/>
        </p:nvSpPr>
        <p:spPr>
          <a:xfrm>
            <a:off x="1908000" y="1341360"/>
            <a:ext cx="532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8"/>
          <p:cNvSpPr/>
          <p:nvPr/>
        </p:nvSpPr>
        <p:spPr>
          <a:xfrm>
            <a:off x="2513160" y="1954080"/>
            <a:ext cx="532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9"/>
          <p:cNvSpPr/>
          <p:nvPr/>
        </p:nvSpPr>
        <p:spPr>
          <a:xfrm>
            <a:off x="2484360" y="2492280"/>
            <a:ext cx="532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"/>
          <p:cNvSpPr/>
          <p:nvPr/>
        </p:nvSpPr>
        <p:spPr>
          <a:xfrm>
            <a:off x="1763640" y="3094200"/>
            <a:ext cx="705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1"/>
          <p:cNvSpPr/>
          <p:nvPr/>
        </p:nvSpPr>
        <p:spPr>
          <a:xfrm>
            <a:off x="347760" y="3500280"/>
            <a:ext cx="53290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2"/>
          <p:cNvSpPr/>
          <p:nvPr/>
        </p:nvSpPr>
        <p:spPr>
          <a:xfrm>
            <a:off x="2411280" y="4135320"/>
            <a:ext cx="1008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3"/>
          <p:cNvSpPr/>
          <p:nvPr/>
        </p:nvSpPr>
        <p:spPr>
          <a:xfrm>
            <a:off x="3416400" y="4149720"/>
            <a:ext cx="5329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14"/>
          <p:cNvSpPr/>
          <p:nvPr/>
        </p:nvSpPr>
        <p:spPr>
          <a:xfrm>
            <a:off x="1908000" y="4638600"/>
            <a:ext cx="5328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5"/>
          <p:cNvSpPr/>
          <p:nvPr/>
        </p:nvSpPr>
        <p:spPr>
          <a:xfrm>
            <a:off x="2513160" y="5156280"/>
            <a:ext cx="62323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16"/>
          <p:cNvSpPr/>
          <p:nvPr/>
        </p:nvSpPr>
        <p:spPr>
          <a:xfrm>
            <a:off x="324000" y="5783400"/>
            <a:ext cx="5327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7"/>
          <p:cNvSpPr/>
          <p:nvPr/>
        </p:nvSpPr>
        <p:spPr>
          <a:xfrm>
            <a:off x="1789200" y="6288120"/>
            <a:ext cx="5329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1"/>
          <p:cNvSpPr/>
          <p:nvPr/>
        </p:nvSpPr>
        <p:spPr>
          <a:xfrm>
            <a:off x="250920" y="26676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朗读课文，整体感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快速阅读全文，梳理出主要情节，并用自己的话概括情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情节一：唐茂昌强行要钱，王子西勉强应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情节二：克五以罗大头藏烟土为要挟骗吃喝，遭卢孟实赶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情节三：卢孟实处罚不成器小伙计，厚赏成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情节四：罗大头自恃烤鸭技艺自大，侮辱卢孟实并撂挑子离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情节五：唐茂盛借机要钱，挖走堂头常贵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述情节也正是本文的戏剧冲突，说说本文戏剧冲突是围绕什么展开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交流点拨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黑体"/>
              </a:rPr>
              <a:t>]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本文戏剧冲突是围绕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福聚德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的即将衰落展开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2:08:51Z</dcterms:created>
  <dc:creator/>
  <dc:description/>
  <cp:keywords/>
  <dc:language>en-US</dc:language>
  <cp:lastModifiedBy>微软用户</cp:lastModifiedBy>
  <dcterms:modified xsi:type="dcterms:W3CDTF">2019-05-20T14:19:24Z</dcterms:modified>
  <cp:revision>51</cp:revision>
  <dc:subject/>
  <dc:title>幻灯片 1</dc:title>
</cp:coreProperties>
</file>