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51.xml" ContentType="application/vnd.openxmlformats-officedocument.theme+xml"/>
  <Override PartName="/ppt/theme/theme108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88.xml" ContentType="application/vnd.openxmlformats-officedocument.theme+xml"/>
  <Override PartName="/ppt/theme/theme79.xml" ContentType="application/vnd.openxmlformats-officedocument.theme+xml"/>
  <Override PartName="/ppt/theme/theme96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95.xml" ContentType="application/vnd.openxmlformats-officedocument.theme+xml"/>
  <Override PartName="/ppt/theme/theme114.xml" ContentType="application/vnd.openxmlformats-officedocument.theme+xml"/>
  <Override PartName="/ppt/theme/theme69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113.xml" ContentType="application/vnd.openxmlformats-officedocument.theme+xml"/>
  <Override PartName="/ppt/theme/theme68.xml" ContentType="application/vnd.openxmlformats-officedocument.theme+xml"/>
  <Override PartName="/ppt/theme/theme101.xml" ContentType="application/vnd.openxmlformats-officedocument.theme+xml"/>
  <Override PartName="/ppt/theme/theme112.xml" ContentType="application/vnd.openxmlformats-officedocument.theme+xml"/>
  <Override PartName="/ppt/theme/theme67.xml" ContentType="application/vnd.openxmlformats-officedocument.theme+xml"/>
  <Override PartName="/ppt/theme/theme111.xml" ContentType="application/vnd.openxmlformats-officedocument.theme+xml"/>
  <Override PartName="/ppt/theme/theme66.xml" ContentType="application/vnd.openxmlformats-officedocument.theme+xml"/>
  <Override PartName="/ppt/theme/theme87.xml" ContentType="application/vnd.openxmlformats-officedocument.theme+xml"/>
  <Override PartName="/ppt/theme/theme106.xml" ContentType="application/vnd.openxmlformats-officedocument.theme+xml"/>
  <Override PartName="/ppt/theme/theme86.xml" ContentType="application/vnd.openxmlformats-officedocument.theme+xml"/>
  <Override PartName="/ppt/theme/theme105.xml" ContentType="application/vnd.openxmlformats-officedocument.theme+xml"/>
  <Override PartName="/ppt/theme/theme85.xml" ContentType="application/vnd.openxmlformats-officedocument.theme+xml"/>
  <Override PartName="/ppt/theme/theme104.xml" ContentType="application/vnd.openxmlformats-officedocument.theme+xml"/>
  <Override PartName="/ppt/theme/theme10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2.xml" ContentType="application/vnd.openxmlformats-officedocument.theme+xml"/>
  <Override PartName="/ppt/theme/theme100.xml" ContentType="application/vnd.openxmlformats-officedocument.theme+xml"/>
  <Override PartName="/ppt/theme/theme89.xml" ContentType="application/vnd.openxmlformats-officedocument.theme+xml"/>
  <Override PartName="/ppt/theme/theme99.xml" ContentType="application/vnd.openxmlformats-officedocument.theme+xml"/>
  <Override PartName="/ppt/theme/theme110.xml" ContentType="application/vnd.openxmlformats-officedocument.theme+xml"/>
  <Override PartName="/ppt/theme/theme65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70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34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</p:sldMasterIdLst>
  <p:sldIdLst>
    <p:sldId id="256" r:id="rId116"/>
    <p:sldId id="257" r:id="rId117"/>
    <p:sldId id="258" r:id="rId118"/>
    <p:sldId id="259" r:id="rId119"/>
    <p:sldId id="260" r:id="rId120"/>
    <p:sldId id="261" r:id="rId121"/>
    <p:sldId id="262" r:id="rId122"/>
    <p:sldId id="263" r:id="rId123"/>
    <p:sldId id="264" r:id="rId124"/>
    <p:sldId id="265" r:id="rId125"/>
    <p:sldId id="266" r:id="rId126"/>
    <p:sldId id="267" r:id="rId127"/>
    <p:sldId id="268" r:id="rId128"/>
    <p:sldId id="269" r:id="rId129"/>
    <p:sldId id="270" r:id="rId130"/>
    <p:sldId id="271" r:id="rId131"/>
    <p:sldId id="272" r:id="rId132"/>
    <p:sldId id="273" r:id="rId133"/>
    <p:sldId id="274" r:id="rId134"/>
    <p:sldId id="275" r:id="rId135"/>
    <p:sldId id="276" r:id="rId136"/>
    <p:sldId id="277" r:id="rId137"/>
    <p:sldId id="278" r:id="rId138"/>
    <p:sldId id="279" r:id="rId139"/>
    <p:sldId id="280" r:id="rId140"/>
    <p:sldId id="281" r:id="rId141"/>
    <p:sldId id="282" r:id="rId142"/>
    <p:sldId id="283" r:id="rId143"/>
    <p:sldId id="284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" Target="slides/slide1.xml"/><Relationship Id="rId117" Type="http://schemas.openxmlformats.org/officeDocument/2006/relationships/slide" Target="slides/slide2.xml"/><Relationship Id="rId118" Type="http://schemas.openxmlformats.org/officeDocument/2006/relationships/slide" Target="slides/slide3.xml"/><Relationship Id="rId119" Type="http://schemas.openxmlformats.org/officeDocument/2006/relationships/slide" Target="slides/slide4.xml"/><Relationship Id="rId120" Type="http://schemas.openxmlformats.org/officeDocument/2006/relationships/slide" Target="slides/slide5.xml"/><Relationship Id="rId121" Type="http://schemas.openxmlformats.org/officeDocument/2006/relationships/slide" Target="slides/slide6.xml"/><Relationship Id="rId122" Type="http://schemas.openxmlformats.org/officeDocument/2006/relationships/slide" Target="slides/slide7.xml"/><Relationship Id="rId123" Type="http://schemas.openxmlformats.org/officeDocument/2006/relationships/slide" Target="slides/slide8.xml"/><Relationship Id="rId124" Type="http://schemas.openxmlformats.org/officeDocument/2006/relationships/slide" Target="slides/slide9.xml"/><Relationship Id="rId125" Type="http://schemas.openxmlformats.org/officeDocument/2006/relationships/slide" Target="slides/slide10.xml"/><Relationship Id="rId126" Type="http://schemas.openxmlformats.org/officeDocument/2006/relationships/slide" Target="slides/slide11.xml"/><Relationship Id="rId127" Type="http://schemas.openxmlformats.org/officeDocument/2006/relationships/slide" Target="slides/slide12.xml"/><Relationship Id="rId128" Type="http://schemas.openxmlformats.org/officeDocument/2006/relationships/slide" Target="slides/slide13.xml"/><Relationship Id="rId129" Type="http://schemas.openxmlformats.org/officeDocument/2006/relationships/slide" Target="slides/slide14.xml"/><Relationship Id="rId130" Type="http://schemas.openxmlformats.org/officeDocument/2006/relationships/slide" Target="slides/slide15.xml"/><Relationship Id="rId131" Type="http://schemas.openxmlformats.org/officeDocument/2006/relationships/slide" Target="slides/slide16.xml"/><Relationship Id="rId132" Type="http://schemas.openxmlformats.org/officeDocument/2006/relationships/slide" Target="slides/slide17.xml"/><Relationship Id="rId133" Type="http://schemas.openxmlformats.org/officeDocument/2006/relationships/slide" Target="slides/slide18.xml"/><Relationship Id="rId134" Type="http://schemas.openxmlformats.org/officeDocument/2006/relationships/slide" Target="slides/slide19.xml"/><Relationship Id="rId135" Type="http://schemas.openxmlformats.org/officeDocument/2006/relationships/slide" Target="slides/slide20.xml"/><Relationship Id="rId136" Type="http://schemas.openxmlformats.org/officeDocument/2006/relationships/slide" Target="slides/slide21.xml"/><Relationship Id="rId137" Type="http://schemas.openxmlformats.org/officeDocument/2006/relationships/slide" Target="slides/slide22.xml"/><Relationship Id="rId138" Type="http://schemas.openxmlformats.org/officeDocument/2006/relationships/slide" Target="slides/slide23.xml"/><Relationship Id="rId139" Type="http://schemas.openxmlformats.org/officeDocument/2006/relationships/slide" Target="slides/slide24.xml"/><Relationship Id="rId140" Type="http://schemas.openxmlformats.org/officeDocument/2006/relationships/slide" Target="slides/slide25.xml"/><Relationship Id="rId141" Type="http://schemas.openxmlformats.org/officeDocument/2006/relationships/slide" Target="slides/slide26.xml"/><Relationship Id="rId142" Type="http://schemas.openxmlformats.org/officeDocument/2006/relationships/slide" Target="slides/slide27.xml"/><Relationship Id="rId143" Type="http://schemas.openxmlformats.org/officeDocument/2006/relationships/slide" Target="slides/slide28.xml"/><Relationship Id="rId144" Type="http://schemas.openxmlformats.org/officeDocument/2006/relationships/slide" Target="slides/slide29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49A7AB1-A34C-429F-9F76-B1BC8BB8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5E33B7F-A575-4C61-AED8-B1E16A02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4912068-00D4-41C5-B964-1F1237FE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21D8BBD-3CDE-4C45-9596-A573DEEC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295BAF8-4CC7-43F8-853F-308B57DD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804C34C-0741-4B2E-8CED-FA871157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5EC462C-1955-4AC7-BC6E-A9FB9296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3D615FD-BBE6-49B3-9FCE-846004E9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A910836-836B-4AFD-86C7-3251500C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01AC160-2CBB-4E6A-8176-8DD60830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9FF3AB8-BB9E-4A69-9ADD-A28FFF9F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783AD30-E5A5-4E29-B6B5-BA3751D5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7573353-9CE4-4890-9040-4F8F17C7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EA39057-3F10-49D8-A56C-35EFE358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F97FD1B-348C-4893-BB7D-BB018BDF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5C4A234-BBB6-46C7-ACB1-F1598E6A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F945F6E-E6C6-4A28-B508-D5D107C8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987142C-0E4B-4ADD-8782-FD57CB80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D2AB284-EA1E-4347-B293-4D917739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107AD23-E606-4B39-A3F3-6030F170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75399F8-A625-406B-AAE7-7D3D5108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CF58E46-3E9B-4618-9B65-49246656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704CCCE-C9E4-43A8-A261-B379AA6A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FCC8CD8-C8B2-48C2-9BCA-FDD5ADB0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D9E714D-1121-4C13-87DD-53329DBE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20DE0A9-23DC-4FB4-8B9F-78CAB70B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57B13AC-C1FF-4CAB-89B1-C1A54398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EFF8626-B830-4A2C-8215-D075838B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7041133-5D6D-4B8E-B581-64C1A841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6977FFE-6A32-4C8A-B755-CEB73FF6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05E851A-77DD-4B54-A7DD-9534612D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A4167C1-07F6-4DD9-93F3-9AC94429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2E17CAF-73CD-4EEF-AB25-7BA2E069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3DE8411-61FC-4EA0-9DB1-1D5B2EE5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B7BF60E-8502-4C62-86BE-D873513C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C3C88DE-1740-4CD2-9CDC-CC57D9FD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4835A1D-EA52-43E8-BEFB-330E92A8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34027E0-80EA-4EAB-BA14-969366E9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22DC83F-B25B-405A-9234-FC2520DB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432FD5E-DC39-4F89-8AEF-3BE78374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5B20E8E-6F59-4974-AA4C-9C00DFA2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522AC13-2FB7-4A1A-8ABB-B6D51710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B495B07-6C33-405A-A553-DA3DDE95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8889CD6-3C13-49E5-8DE0-E27CA164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75C88EE-D4BC-4EE9-A5CF-F70DB9BE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460F7B3-C10F-4A69-AC4B-74CC8BFF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445A4E1-085D-4337-B0B4-3FE35705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14382C8-D55A-4EAA-81C6-6AC3AFD2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1E7D453-1D36-4FEE-8BFE-59F7A3E2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2FF6E16-2F15-4A55-858E-325CA55A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ABF59FCC-C12B-4496-941C-0EAD9C1F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775F85F-7795-4EFB-A032-64B6E022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BC3C209-3213-44C0-84D1-6A667B9E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A7B1B09-2416-4C87-A80B-FA97DAF5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4B13DCB-C69F-4B55-A47D-5E6E893C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E20556B-615F-4E2A-9EC7-696695DA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A1FB2E0-9FB0-49C7-B780-70012B7A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5E6C017-1A8C-4B4B-97B5-858B0CD2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6BF26CA-10F7-44C4-B2F4-0846FA0D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50FE247-BA2B-47CF-A7D1-813DE9D0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57B4D17-509B-42CA-B27C-B75A17B1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6AA1BFD-4A22-44F8-8745-59D126A1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1786509-9EE4-4806-B0C7-EFAFE003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41FA3A7-3867-49D7-971C-00C21FD7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477EBFA-0727-4423-A13D-FC97DBD8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1996AF0-EBFA-4925-AE9E-0CC9ADBF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3D6A194-976F-4BF5-8E69-EFDFCBFE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6438A2A-A63A-4849-9EC8-16E4EDD8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3555594-2AA3-4842-BD1B-32EC1537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DFD630A-DB07-4B9C-A4AC-67FDA40F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345B414-6B50-4421-BF4B-E2FBCADB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0CF6CF0-CDA3-4F93-980A-2A74A03C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A58ADA2-CB46-4EFC-90EC-71E0C199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3E1998C-C2BF-4C55-B2C4-176E5092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241728E-09B3-4975-8CDC-E1999858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C8A8AC5-8902-4FF9-9840-8A3F24B8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891DA10-B855-40FB-8FBD-B540F76F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020AB20-23F6-44F1-9E66-ABD5E724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11F285F-ED98-453B-B8FA-61425ECE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AE0189D-FA50-49D1-8C9B-037911F3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2BF9A8F-5C34-4231-A886-7B3551BF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266A4AF-80F6-4A8B-8700-3802C6FE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E7006A4-183C-4ABF-8B6D-15A3FB02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DFBC898-A4CF-423F-8DD6-6156D250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A7D998B-3019-486A-BA16-E7D1E796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51EB8DD-8BE6-46AF-B41F-95BFD9C8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36A13A6-4EB3-4BF0-A425-A20E739C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7ACC5C2-0C41-4ABF-92D7-7510EED5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E2B4540-2BAF-4853-B381-3A1036E9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C0FDD23-07BA-43CF-A452-3B7D45DF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0C0D591-DE5E-4EDB-8C4B-19781B34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3A50483-B63E-4A59-B93E-D629557C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3F0F1A3-46F2-48BA-930E-13C6A6C0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A68986C-F30B-4A62-A2C7-DDA8F505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4187DC3-E793-4F51-8C77-46F424C7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F183C22-5718-4694-AEDE-CDEBD433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97CB747-D206-45FC-A413-5C76BE3F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5D28808-77CD-4132-BBCB-43E3BAAF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68E8BA9-911F-4542-BDB5-320589BF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176FB44-C58C-4953-94C6-B9E094BE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A016D45-7EB9-4017-BC72-C33F9DCD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A2112F9-1510-445B-AA02-360BEA39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23DF78D-32E8-44F3-83A0-04C14408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7E7E616-9DB5-4999-BACC-DD6F97DA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0204F64-5DC9-4A7E-8342-71BA50C5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4BE2124-75F9-474B-8E65-73AF7D83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2235564-9562-40B2-8A8F-C9E54B60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BBF1FA9-7070-444A-89E3-C395C4C7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296DDF4-B4E0-4956-B8EC-C72CBBA1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1965C9F-10E7-4E00-8CBA-8217A568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E77975C-D216-40D0-A2E4-3021BAD7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C4290C4-3F10-4262-BB31-9A545192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C7ED21C-A983-49F5-9311-92B5E2B8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44F98E6-855C-4514-8DD4-880537E4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5C27B33-1233-43BF-9BE1-F550C1B3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34D0E2A-4BF6-4CCC-907D-1F546D5C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FE8455C-4DDE-4204-A9B4-0C40CA54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11B4A65-D92E-411A-A2D4-DD62C822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393C263-E70B-4F46-B919-70A8D6BA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7F8C471-CDCB-4E77-8C5B-A979E20B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65F1502-AA4A-485D-AE17-0B47F972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A633DE5-BE40-4874-A1C1-45E58879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17A4E64-0F26-4233-8831-2C71293D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339674B-3893-4EBD-85C6-997EA9AC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2FFE537-D0D2-4E07-B591-C721D4E3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D86594F-4352-4360-88F3-1C9E97B5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FDFD958-BB1D-4011-B706-7586B330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143231B-6D2C-4556-B87A-495399ED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E57A123-02B4-4775-8767-BD0CBB00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BE6F848-66CF-47FD-A490-E93BF05D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8C9C77D-2384-4F6B-9F62-0300389D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8C37824-8DDB-4E23-8742-1B3980F5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02734ED-263E-48FD-B9B9-C4C3ACA0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4432E60-CE63-4F16-8294-65E9CD24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C9E942B-8A3D-46CB-A828-8C3A59F6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7676055-FE22-4C50-A111-2FE64139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DCE11D4-54E1-4127-A0A3-174FD7D9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B96E65C-493D-4D89-BF33-0CC0258B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9EA1823-7423-4B83-8BCE-3D3C2E7A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74FBE82-1AE8-4AB2-A7C5-9F3A1F3A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D9ADC51-31DB-4312-A620-E23C7C5E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C794C58-AFCC-4E31-AEF5-60FBEA42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A055C2D-2CB0-4F90-BC06-200913E9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29BE865-7B10-4954-AF79-2E4D7EEB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A4802FF-CFD0-4020-9726-D712D74B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A2A8676-CF92-466E-BDD8-BE6ED379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0046DA5-2DDE-4868-95BC-149F7B2B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96D2485-1C02-4599-BA93-4C26D956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6A8B3AB-6A19-49A0-991E-6B68585D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8736FA56-A869-40EA-9ECB-A3EE83BE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77880FA-A2A9-41B2-B82D-3E843FF7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470869E-D852-4B32-AA2C-5926AA8D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9151907-4236-4B6F-9D08-08E0BD68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6FEA6D9-D313-47F1-844F-7F8BE5D1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0E745591-F2F9-4DC6-BB11-9446ED91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29E3B64-FC39-46F5-8F06-10559D65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6356FDC9-102C-44A2-B28B-27E76BD3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28A84B32-E05C-404B-816F-11C75CEB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6D2AA0CC-4D62-4679-85DB-2138234D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B3CA32B1-689A-435E-8743-7F790C94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B3EA2A75-5033-42EB-A0A2-A00C3702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8E57CB67-1E89-461C-B294-511D1936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184DD97F-6CCE-4F7B-9EB3-6D352A21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4F250748-3336-4BE4-82FA-2E20BD1B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615E5F59-7CD7-4FAC-AAF4-E85A37C2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ECC53907-E277-4FFA-8489-C420F913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9A080ECF-1A54-4ADB-A86C-32D4AB1F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8C84F16B-2284-42F7-85DD-7663923C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C4D0A3E-C593-42FD-8A40-A8251CF7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1AA83D48-7038-437E-8914-41EE2008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FC1F96A7-9F8F-48CB-99E2-3EEF9B67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64B05386-0DFF-4043-B268-B7E078CE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8FDF0802-91BE-4005-93BB-75DD4883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0624F663-8053-4E9C-9CE9-B3F1CDF5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2FE0924-3F2C-43AD-8181-37107B71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6C3CF1C6-CDF9-4C85-96C1-57FF4CAC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3E46F50C-120D-4ED3-8649-8EE81653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A2825780-40CA-4CFD-A603-B96830F2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29F7CC0-C370-4F1D-BF1A-14FDF33E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4DCAA1AD-30CA-4792-B0A9-4A764A1F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848A988C-BFE6-433D-9AD7-9F347132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5E3D27EF-27B4-44C1-9A34-66D69428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8E6D159F-C068-40C0-9661-832DFC64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FB7AB614-092F-42F7-82E6-69EBF87E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F774F170-9D24-46DE-96B2-B8059E8B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34924FE2-9369-49A8-BAC5-CB0129AC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4ADD467-1E31-4A55-AF57-9ADD8D3B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48BD947C-51E0-445E-A8E5-29908B88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813FA674-694E-4AA5-B4BD-6D536BA6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9806495D-12DC-4F5A-B68D-2AB5203C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878982F7-C053-4826-B17B-27E47FC3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3CF17C90-99BB-408A-9DEE-195A36F4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7DDFB1B5-771C-4ABE-B75F-3C248693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9E5571E-76D7-49AB-916A-AD525105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03C41775-531B-40C8-89A8-55976A64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4CFD96F4-72CB-4E7A-A0C8-40D39181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B647CD22-FB47-42DB-9BCB-31046F20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955E3B86-B699-433E-A65A-1BB1A9EE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CFCFBA0E-4451-478A-8A41-7F577D4D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CFBD3CCB-F794-4467-87C1-6D725D5C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17B13484-7DCE-45C4-809C-D840F10B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1560244D-A2C9-49C4-86D6-2ACDF57C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2C02D3B7-3644-48AE-B767-3407C4A7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D8875D4-6F0A-4E9F-9392-BF5FFF10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757813E7-2CE9-4DE2-851A-AA501816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FA853D5B-482B-4DD2-A28F-F08FA46B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A5A908AA-F17A-4AE6-9D68-53C0C97D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C861532D-D22A-49D9-B927-8416E34C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804BC61D-D9A8-4137-ADFB-1A0808B0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CA9EC9BA-95A3-4867-AE4A-7AA1B88A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C022-9DB9-41D2-936B-41D4C0BE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700520D4-B911-4080-AE28-9E874E02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EDD1BF96-204E-4F7B-866D-3148DB4F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DB90CA27-3135-4580-85D0-C78DF085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3815A5BE-2206-4533-9AAE-DD429030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7717FF04-658B-42F8-801A-C743D30B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5503333D-530F-41A8-97E9-5B16D7AC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7AC3B28A-81A6-4DCE-8114-DDA2D397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8E9212D3-9D60-4001-B3B7-05595493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E65F3AC9-0779-4E85-8A56-26B8EAB7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18AAF68E-880F-41EE-B0E2-A9D65513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45C-729E-4DCA-B886-F773AEA1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8A06D69A-4E98-4A54-94B4-42837F88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2D660194-452E-4FF8-8AA6-7713ACEA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4FE385E2-1B70-4F19-BD8F-0D313CA1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CC159A65-00CC-4E43-B3C9-6D03F137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1BECFF6C-E2B1-44A5-A989-D0643E3E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278477DD-2626-4575-A6DB-C7A17225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846A0A3B-587E-4D75-B2DF-B1A56FD4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95728B7B-93DD-4407-A1FE-4997293B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5FAE579F-DF16-4D90-851D-1E29CA45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BECB9227-B466-46C8-B3E2-6A6B4599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DFD-0911-47A7-A97F-5084270E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1F446E90-6BA9-48E8-848E-0499BF5F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3A510251-431B-47EC-98F8-44E41055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67C00F63-B359-406E-8E92-BD285625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AF106957-73CD-4811-9A56-246C74DF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4FB47A66-9EA0-442D-B57B-29AA15A8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43586C79-6F54-480B-B5EA-CF290846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4386D42B-A26C-4683-BB00-BF4AC2EE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969C7674-47A9-4BBC-A96E-ED95A8BC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04C19CC7-7741-4C9A-98F3-AA503210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D6246796-853C-40DA-932C-B291CAD1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1F6-2A0A-457F-9C43-65353154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A6C76881-1356-4F2B-AC4F-B0DBB747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E142B968-140D-4EC4-866F-2C13E5DC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0784E634-B6F9-4C6E-8EB9-7D8B583E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AC83D97D-9863-4FCA-8F6C-FABD590F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5CBB8B27-DAB6-4FF9-A85E-ADD50DA9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006E90B8-0C52-424D-BBA3-6F074CD7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8601CF6D-E058-4AB6-B661-A36F6F30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DD9952E2-9A63-41A1-AFB2-43084483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7559993B-B60F-47AB-B404-E9EE43EE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EA3D0968-0007-4517-B1BD-C64C3720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A962-BD87-4FD3-9B79-D64927CD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B16D06C2-066A-4681-9FAD-FD74B9AE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E5B1E91B-9A97-482C-87C0-9D4AC6D2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6A415ABC-C0A2-43F4-BD7E-1E603C8D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5A8EC0CE-B6FB-421C-94B2-47AE8375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91CA4F30-E8D8-4FB0-A4C2-21B55BC6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ED47A83A-A594-4748-8A37-388692E7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A624D622-663F-4F21-B3BA-89129807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F312FBBC-76DA-44DB-BF52-CD000F89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BB04204E-736C-44F1-BE4F-0CA215BD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77BAF789-6E85-45E4-9AB5-DCD74AB6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493-41F0-42A3-B1BC-A5A60776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1AB5A834-9B28-49CE-8042-79B24558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0FA9465E-4CF7-4993-82BC-489E2152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3184FA90-7CAE-4EA4-BA35-B249C162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5D9911D9-7350-4C64-BFBC-C3068EDE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A7EAC179-186E-4227-872C-D051197A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BE95E472-6A07-4C9B-AF10-365B91C5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9B00AC64-DC91-41DE-A55F-B6F235EB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2E8EA253-E8F0-4DBF-8A04-F1726636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E0800755-6530-4956-8157-D07EA940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ADE056B8-2F71-4E48-86FA-71FCC4F5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DFF-69DA-4378-BE3B-421614DE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48913AD4-896F-40D1-8243-6ADD7888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BC81B6DC-FB97-4F09-AE3D-067CBDDD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099B4F1B-7220-4FFF-A62F-755DBED9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1CE37CFE-71EF-4F67-A032-18F2190A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F319F94E-69BE-4EE7-8ACF-9A8438AA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D04DB014-75E0-4C71-8272-8F2FCDB7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8CDB635F-54B8-487A-9741-540AF14F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6B1D69B9-3AFF-4380-A40E-4BAECE91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00F1BF3C-9CB4-4396-BE6B-0F12C34D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01EB9B4C-2EED-42E0-9DCE-3F30FC37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A25-396C-4DFC-88B7-DC2E97BC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E9BC2BE6-6B00-46F3-980E-CC62F7E5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F4329C0C-6627-4385-97B5-8ECCB482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9463C9F3-87AB-4C70-871F-2E338AAC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3AF35C4F-27B9-4DC4-BD97-DAB2433A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31CBF549-E2E4-4AF6-BA8D-4B449201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CFEB0158-08ED-4A61-98AA-816134CE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09932803-A520-45D1-B909-B961FFF5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E74B91D2-53DC-48B5-AB2A-388549F9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9009D3BF-FB45-4814-B5C5-C4BFC7F6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1D4B33A2-651F-4712-9F8A-B3E872E8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50C-C0AE-43B6-AF39-F75DAB63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2EE80BC7-7576-45A3-852F-25422D6B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AA8EE11C-5E1C-476F-82FB-6CF1857F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2D003F83-4507-4CB4-B8B4-F3D5EA73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C081BFC5-5BAC-4938-AE5E-541AEB0F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47165AAC-8719-476B-B8A0-2357FC48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864E7494-1920-4963-8276-9B6BE215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D51BC948-E6A0-4290-98F3-65A3A266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C9BFEB1B-E619-48E6-BF9B-DC3E6E5B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61C879CC-27AA-4BF3-8ACD-2AABF964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1943F188-572B-491D-B5FF-155D6D6D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20AA-2C5A-482E-BBFC-8879F37D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8D4BA399-A97E-4C10-BB0A-4EE2F1E8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7468FC44-9B7E-4E8E-AE9D-9C292575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F6E585D4-68AC-402A-8DA3-7169ADA6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A6D623B6-CCDC-4848-8EB4-9BD97A67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C6F44382-6EF9-4311-BEF1-9C70C3BD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5B31DEEF-7588-4BCA-A688-73CB0EE7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D812EF7A-FB18-49B4-9B98-EFAAD4A0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AE001B65-8331-452F-87FF-A914C229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3D841224-20D5-41E1-804F-2C11A132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A06E2F46-09CD-404E-AE4A-402F85C4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9073-9B9A-4A5E-BA72-365BB509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D7D16005-500A-4341-9B22-C21EC52B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08649B92-58CE-44B3-9FD1-B7C4CCE9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A7895055-E71D-4809-B369-AC8D8F9E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E6D06458-3AB1-4A35-B4DB-9DF5A52D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E02415BF-A239-478C-8E2B-FCE6827B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DDB35254-0617-47D6-9E7B-F76839C7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7A1A1FD3-FD0A-480C-8451-C22660CF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375A3560-5F66-4B66-A7DC-550615FD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8E7FC8BC-AED8-4D61-BDE7-38A0F637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27BC1853-0EEE-4D69-A344-39BB2FBE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6D7-4D85-4546-A86F-D25A4C16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420599CF-B3DB-46C7-8778-1E95B2A2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C1B62B96-DB05-4F6B-8408-0335E359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CC80ED4B-8AAA-48E2-A8BC-42385A5F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490322EC-92FE-419A-981E-E8BBE3CB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F63B41CD-8B81-4E76-B348-81E9513D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CF57D1EE-2A2A-4B60-ADC2-317F8F92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C764035C-AD42-4543-8C54-A50B28E2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B7117CE4-DE50-4EAB-BA4E-B9961198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CBE23856-4B5F-414D-8E03-44C26475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99BB7A82-87DA-46E5-BF4F-E5C19E23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1B0B-B02D-43A0-BC0D-6FF8B2AB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4AEE314D-900A-4824-BDDE-1BBC4AD8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4055B220-FC75-4632-A142-9D9297BB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3AEBBA24-C7A2-439F-A41A-C883C547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73CAEBAD-1910-4B0E-8878-F5C766D0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7A9D59ED-BE62-448E-8E58-E9E2A456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E1139F48-451C-4403-90AF-5A7A6E30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C903E1A6-D87B-4E59-BFF5-D4E6DCA6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3A588037-2F8E-435E-9424-D3B5FF52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9BA2C8AC-A6E1-46CF-B465-42F333E1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FD209582-F6CF-4BB7-BC4E-CCEEED52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77B1-4F3D-4DB7-BA08-25E982B6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CBDE03CD-073E-4EB9-89BD-A43367C8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E7739AD3-6F89-4755-8865-05CE79C7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C65AEA7C-39CC-4F0F-8615-9E994F0A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ACC3D16D-2EF6-4BF7-AB41-2CB536D0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C2723E8C-6E38-430E-BAB7-81DCFF09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2BEB4D38-0C1C-43BD-8DB5-0C4ED15C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3B75CCF0-CEBF-4BB7-A8AE-FA08713E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C25C4372-9A5A-4115-AC3A-DC7D5C67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EB2270EB-C811-4886-AA78-876E666B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4F4DFB46-69D9-43C5-AFF6-CADF579B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3008-CD09-4F9E-9BD1-B3BE7610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E76E6702-2450-4F9F-855B-975CF11E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7BC16745-B6DF-47D4-8C7E-2CC7A358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6E6F34FB-71FC-42AB-8D3E-2217A9B6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7FF513B1-2A4A-4F2E-8DA9-3AE86233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2CDCB64A-B260-46BC-904C-9BF5F34B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F44DF5BB-85E6-457C-8441-44AEFC18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E55EA4A5-186D-4D66-9F30-01EB40E6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6ECE7355-F9FB-44DC-8BAD-D81956CB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0EBBA805-3BB1-4645-9DF7-F02828FB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124893AA-A369-41FC-9418-1FCAF8CC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CE56-94C3-44DF-89D2-BD9A9F08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74863C59-24B0-4F06-9556-3A23F1E3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C7D8BD4A-A963-4D4C-9538-6C946348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47B2D293-2AC4-468E-9B80-2F75B920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592B4BDB-38F1-48C6-8483-0CBBA026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630BF3F5-296C-4A8E-98EB-7D09F850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9765FD61-E494-48F5-81D5-E8F5AF60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5171A015-F910-4AA0-96A4-5C2D3261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9CE3E9D8-CB6B-48C3-B5D8-2FDF42A8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809DADC1-1F12-488F-B3BB-DAC49D26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80F3-E662-4CCB-9AF2-C718836C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7E61-E0EA-4811-BBA1-0819E517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3BB9-7CF6-44CC-9A84-B833531F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BB8C-B0B2-4EC7-B4FF-0679FA63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6D34-0D7B-4912-9B4C-89DEC71A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49E2-9A03-4D7C-B9C3-44B6F06B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322C-9686-419C-B665-1D502C29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60BD-0678-4E8D-8660-75AF1A6A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291A1-6969-4D96-8976-9BCB0499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9A307-03B8-4278-BE63-EA4E3F71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73537-B5DA-43AF-834C-873EA752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A6917-3E41-475D-ACCB-11E9747D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66237-AA38-4ADD-AC5A-C5E227A2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44988-8C58-4B22-BFFA-786588E1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96019-386F-42AC-947D-5B567CA3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74348-AC89-40C9-9836-6468DFD9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3E053-9AC1-452A-AE16-EF281B67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1C438-0F61-4086-B9D2-5D07282A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84250-95B5-479F-8F3C-F17F1F90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C0FC4-5BCB-48B8-99ED-0F7B5288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DA910-738B-4BC6-A0E8-C53C7F92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ABC39-478C-4A57-A279-E69C7BF4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B38A1-080B-4795-AE30-A8CBAC19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F72DC-65D7-4F83-8FA1-A4117026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B0DA3-9C5F-4A5C-B5D2-D5606BBE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5E396-1BEA-40F7-B5DB-3E7D4A63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AB619-601F-4795-8026-24CA9C44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DFED3-BA64-4CA4-86DA-1DE46228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DF206-D9D2-4F4D-BCA7-DD9CE82C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35546-92BF-419D-ABFC-B067C213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B822F-A2C8-465A-BBBB-62760105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334CA-92C0-4B8B-81F8-6FFDD219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C3948-2FBA-44E3-A0DD-6ECA2125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D6813-ECB2-4280-95ED-D64A3537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2EFD9-3B4F-4FDB-A105-EBCF4DD0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20D9E-FF9C-41C6-9238-02DFDE0A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B918B-02E1-46F6-82D4-8CF7A93A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705DA-0E3A-405F-8B9E-0B0FCF9A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99DC3-4FD2-43C9-B4C3-CA4AF50D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56AEC-4CC1-4059-AF16-1F481CC1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4BF2E-BFB3-4695-9DBA-6C66BF1D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51CD8-E920-45BA-899B-30C58CF6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27568-AEF3-4428-8426-2EEAC605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68656-F6DA-415C-936D-7059CA4E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CA05B-B22E-46DE-9F36-588BAD42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DDD3C-CD53-4398-B2D0-1FA8F6ED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4BD0F-AF24-4465-AB4B-A76C7B45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1A8A5-454D-40AC-A1D3-5885B060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F72D0-E5E0-4345-9773-A4CFE50A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9D1DC-C4B2-47BB-81DB-CF358070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37327-DD36-45C1-BA60-D5247DDB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62E76-C898-41E4-A26F-89A6425D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B9854-7FC4-4596-BF40-FDD6FFEA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62D50-6A91-45BD-9C25-7DE279FF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26361-04A2-4BA9-BECA-585F59D7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C6EBA-0ECD-4663-A66B-9455DF45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077F2-CF1B-4383-89C0-E59A7958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720AE-4404-4DDB-8FAA-900B2168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9293E-3506-4DA0-8349-12BA9DBE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EB16F-194F-4628-BDC9-109D81DA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4551D-9100-481F-B473-3569A8E3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327D4-3DD2-47BD-86D5-5869DBFA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39E9C-F219-4B13-85B6-7AA92233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D3BB7-859C-4F36-A472-04A77724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0F441-E0B3-4AAC-9FFE-D760D0D0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28A31-E67D-430D-BB5F-9F043F36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AE8B2-93E3-4999-BDD6-55D5D3BF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3B14D-0571-4925-93F6-A4DF58FE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CC818-0FB8-4090-A7BD-9CC6AE64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F7B44-1DE5-40D2-A8E5-1ADEFF45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30DF5-2713-4452-9127-0DD7F491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B6F7E-E40C-4535-A322-F1CE404D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15591-E021-4524-A47C-944E3BEB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8B8E8-8BD2-435A-ADED-47A632C5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7074D-53E1-4498-9135-43F57602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8EDA7-D9D2-4E19-83F6-92FFF16F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DF567-7856-4D52-B4CD-204CD804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4E7A8-70E7-44C2-AEC1-A50AF6E0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A0764-A9CD-4142-86ED-1431F9B8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668C8-0A61-4A0D-AF85-6F08B889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7FA54-F9B4-49BD-AEC9-EA74D823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A6958-AC2C-4E29-97B5-FD31DECF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211FB-5492-43F7-B5F1-1669B54D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A63A6-50A0-4CBD-A89B-75F3DCBB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BE563-461D-45B6-A430-D0CDB9AB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23FD0-2C4A-4773-8D6E-0A896995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4DC17-D267-4F77-AFB2-395473D6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C877A-C6F7-4C64-9DD6-07552BEA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BF806-B8DB-4BDF-B6CB-D0399388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0B532-23BC-4255-BA42-EA4ECBB3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ADB0C-DCE5-4054-A079-79E734E5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F9604-9162-4549-9C5D-517A54A0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F64A3-F073-44BA-A88D-A0CF9D12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D1E5F-A7D2-42B4-967B-8AFD14BE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532D8-ED9C-43AD-8D2C-585A2A3B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0EEC6-8338-48D2-84F6-051C5E3E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6026E-8F8E-4723-90D7-79AC679F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83140-421A-4C3B-880C-13797BE7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2C3DC-900C-40A5-A665-EF429095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78441-1914-4C8E-BF7E-92CB2E90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44342-10A2-48AB-911D-BF084D77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6AF79-B45C-48AE-BCC1-11A32A0A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BED0B-E5AD-49A4-81CB-C31E5F25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CD607-C640-4C62-AE58-C86C6050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3B821-F010-4639-BF4A-401A12E8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C192D-90E0-41A7-B0FB-40CA4ECE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5149E-BA93-4150-BB1A-470C5BBE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FACA2-311F-41BC-A691-65318658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5179E-E77F-4C78-B4F9-13D6BC22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B80F1-17C3-45A9-B7BC-BCAD60E1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DFE03-6E97-4AE4-A4E4-2C08EA0D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718C4-2945-4C91-BBF9-64F9A4CB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2407F-B4EE-4ABD-8860-91F503BE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3E724-B486-4158-BCED-02A9A2F1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7B792-DF65-47AD-8173-76221DC5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D507C-B35E-4558-B6CE-89FF32FC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B54C3-53EB-4F1D-A9A1-1E5B774E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3E5C5-DEF5-4DD1-91CA-213D6558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3464C-946C-4B80-BFE5-2F559448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F7D16-C3AA-49BF-88AA-33972DFD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95549-331D-446B-ADC5-BF5572AD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BAB29-D409-4574-926B-FE38FA39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6FDCA-E9BA-4D31-956A-BC6D28AB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06E0F-F474-4A29-88A0-30016B15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05760-FE7A-4E2D-9831-C8FB220F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5E51E-0664-417C-A9D0-019562FE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E9B7D-6545-4D37-B46C-65F35E72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CA3F7-4439-477B-90D2-59EA9FC5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69D28D-62C8-413C-A30B-2847F41C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E566BF-27A6-4ADE-9A2F-DBD70C8F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BECB75-618F-4192-A0D1-841459DA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92B82-3984-4CB1-9399-B9FFF72B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87F240-00F9-4D00-8E15-B6D26940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223E71-8CAF-4E43-9D9E-91F184EC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E3307-DBC1-47FD-ADB4-C1E52793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14B4A-69C9-4719-960E-8E77E372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3C9FFD-5280-4547-ADF9-E733AEF9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13C00D-38F1-4780-986D-2729E8C6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877D8-03C9-4F07-915D-84F9314D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600EAA-A217-4974-9029-7141EE4C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98C275-8873-4FB1-866C-9D9C8E91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910DB8-1F1F-40D7-B22A-B0776F6A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9EE5BE-1DFF-45BE-BC1F-2D5FE4CC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FC92DF-585A-45C1-ABBB-3D9A6FEF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585836-09A4-4604-BDC0-0A0DC6C0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72E794-B184-484C-94EB-23C33362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5B46FC-EF7B-48B2-B9E8-249B70F9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EE77AE-C661-4ED8-BEA8-134BDA24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3A3A10-BAC0-4A79-BFF6-FFFF2759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FC4A79-E137-451A-9954-243DB1CE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F72BDF-309B-4F8A-9E50-15887910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B16657-29DC-4E17-973C-BC4E29B3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B3D47E-8792-4A47-BBE9-43CB8F90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32A499-53FE-44EB-8043-15C182A1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59FA77-AD37-4E0B-80D0-A8597E85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D49B0A-520A-414B-932C-446FF7DF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58B1AA-BC36-47D6-BF26-1F5E2FE7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7733F9-3ED1-48C8-9ECD-C4393D78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99188F-CBD0-4F8E-8E0E-49B66E82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CBCE4D-3F09-427D-9C20-FBAB2A5C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BDFE4A-4C8A-4F68-96B4-35812842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96E2B3-1880-4490-8B02-E6727FEA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86FDC8-E334-41EE-B879-2252AC24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3635D7-D16A-4A97-95E3-769B6CB4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C0DA0E-E858-4BE9-AB61-930979AD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63B157-5281-4607-9DA3-56A9FF98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A2D078-0B32-4FDF-B7DF-4F2D68A4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61930E-2364-4C82-8FB9-6942A8F7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2F76AF-912F-465B-A852-F1310F17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C5E620-5DF2-4676-BC41-5F51DDC6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01425C-8565-41E8-B4B2-C6E65613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48043A-5438-4516-A367-E0582A73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31D6FA-4094-48D2-8116-407FDB8D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4BBF2E-3FCB-4FD2-8161-EE1C7D91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96AF1A-BE01-4C89-A78A-2802E9F4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6A11BF-36C8-4F63-8E37-389F2A5B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3C83D3-6798-45DC-9B49-BD8FB5A0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44B404-3BA3-4461-AF7A-B828F97D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A3E488-CCC2-458D-AD3F-8DD12D11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A3A6B4-E79A-4701-8C8B-8384C11C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1490DE-0D08-4809-B908-A5224127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EBF4C4-B4DA-48AF-B0B6-F1319851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B3EE23-DF95-423D-94F0-7CC4EDCA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FF0B19-EF12-42F5-AF7B-6D35A4E5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F639F1-8B2F-46AE-8FD4-C9D9D8C8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560FE3-2285-43A8-803B-96096C84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CD6A31-A871-4D6C-8AAB-D95E48B5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2C8B2B-7D20-4EDA-989F-BBB8310C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53DB60-93CF-4ECA-B78B-B444D894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C3B152-B052-474E-9866-838AD917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222AC5-D1A2-4FE5-9C5A-833CACC5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D0CCED-2743-449B-9F5F-0A617928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67EAFD-8BE2-41B8-B603-914247C8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88F325-18B8-4CF3-A6DF-B42A2955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905850-6263-4967-8602-6B5D1AF5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F27A7F-1201-43BA-A2C7-3BAAB700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AC6A17-9C33-4455-9EE1-0A8A865D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70B7FE-156D-4560-A029-B2B568AC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7C2C2A-BEF4-4045-80CD-0618A60F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63F61E-4394-4F6C-9AB3-902B8D49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3186B5-7B3D-4CA3-AF8E-05E7C79B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9F13D7-74EF-4BCF-A6C6-2EC31EDE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305026-719F-4E3C-8852-444DC397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74C3E9-A273-49AC-9CCD-3B732531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8F91F9-6FBA-4963-B2FC-9DACC1F2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96A451-8937-4770-9C65-82746EDB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0290FD-11CB-446E-893C-9424EF11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740AC4-D28F-4AA9-AC63-BCEC19A0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8F2C73-9367-4084-B7ED-9DA769E7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D596FC-D26D-4784-BB80-7D573F21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C3808E-434D-4E6C-B96B-AC49B21E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DD1B53-03A4-4674-853D-A327442F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E09E7C-70B1-48A8-B63C-D1407831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7FF949-52BB-4732-9C8B-3C430275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8A7A06-3B2B-4256-88F1-EFDC8AFC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69C56D-8957-4A15-B200-9DEEBB83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4E1D73-F928-42D7-A2B0-67316BD4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6F1FBE-3CF5-4699-BFD6-F5B1DCC7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5E0FB5-53EB-4B01-9B14-782CDE75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F74806-3BC3-4F04-89C8-C2E5AE8E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8C12C3-46CE-4FC8-9729-27D86821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DD4942-23EC-483C-AA02-00B42C9A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F64E22-A377-45CA-B363-7110621C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740269-3165-448B-AAB7-B4442CFB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9F3E12-810F-4C7D-9363-D33A5A7F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3FBA7E-3016-400C-99FF-3544155F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8069D3-9F49-46A1-B0BE-F54709C4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976D70-AC03-492C-8D3C-6ADD33DF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5685C2-4830-414E-BE70-659A6928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D4A80F-5335-4231-9CCA-BFF2D5F4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1F08C9-629E-494E-AE87-BEF3C293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8CB450-A7F9-4B36-9F08-FDB488EF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DF2712-7D2E-475D-ADE6-6ADCCE7E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E71E1E-696F-48A7-BF7A-1466AFA5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226D8E-564B-4185-85C5-C33A29BD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037482-B595-4B6D-B8D3-6D489A3E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B4BF87-16F9-4F20-A336-38B40B95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730C58-C68C-4C02-BCCE-239DD117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3BC16B-96E2-44B9-A278-986238F3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5FC0C2-5DBF-40EA-84D2-C1E76774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2BD0B5-7A99-4829-AEDC-614901D5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4FBC0D-689E-4D4D-A922-92C769C6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FC4633-B7B8-41AE-8FA0-87C0BB54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F95F25-E104-44C7-A0D2-7AAC2313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8C33D7-6998-411B-B327-39E240BD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9D6016-5203-4280-A202-3763EEFF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218E66-50D1-4D1F-A290-706C201F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88205E-EA0F-446C-BBD2-3CFF38DD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F07572-5E7E-48EF-BA8E-F795DEFA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525518-4881-4954-826C-76C1635C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70E39E-A4CF-4E47-8C66-31BCE771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76271B-EDE5-4FB5-A001-6B6DE93F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0D818B-BBEE-4B7C-B57D-F4CDC5BC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19C254-42A6-4460-BE1C-D0A3CC77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D9D5D8-C32C-46DF-887A-4D2D3FD0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B818AF-4E5E-4194-9C69-01367FDE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AD69E2-9190-457A-818B-6C9FE6C0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E0DB46-EF05-40D8-AF40-856AD3B3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98A591-2848-4F6F-AEFB-4835C1B8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CAF5D6-C327-4C5A-ACFB-8FA07FB9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C2D574-C830-4063-9FCC-F3CA2C87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631C87-D982-4FEF-90D7-FDEC1B23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184CF7-E17D-498E-A6F2-C7C80775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7FC6B1-04FC-4C3D-9DAB-BA5AB1F2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B96B0E-33E6-4D57-BD25-E8B8A853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54CE38-E6C9-4FEF-9D44-A46B3155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E39196-90F4-4465-97AA-8BA5CA6E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732CEC-BA5D-47BA-A284-DD15BEF0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435F1F-BE8D-4F80-9FBF-A38D62C8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4D3C3F-1837-43AB-B2EF-95A8E3E2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156CA9-36FD-48F4-AE4C-14197953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8AA13E-F2F8-4CE9-9485-DA62E99D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4CD3E5-9CBC-4949-A305-7606B843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0A5764-51B2-4E4C-95B5-9B07A6A0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59573E-F3D3-479F-8D6F-C1D48EA2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1F509B-4083-4238-8E87-D4046352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A088AD-9918-461A-B192-29A256E5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888A20-9A42-49A3-AC79-5CE9AF7E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91A729-D5C9-4555-8787-0209ECDB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16A31E-D512-418B-BAC6-F10205E3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694670-BBA3-4A3C-9B8B-7F2F51D3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2DDDC7-6470-4F21-B7BB-07C002B7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302D03-CAB2-4358-8D4B-AB5F13E2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6FCED6-3DB8-4BE8-998E-A32C1490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F04B2F-1720-474A-9A6A-23C7D142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D75D3A-24E8-44D7-86B7-1963C764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C4F8E4-5763-45CD-AB2A-AFECCCFB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EA0BEA-BA70-44EE-A3BC-9E23E81B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378D28-E5C3-457A-8F1E-8D2AB2FC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F1FB46-F38B-4E04-9902-6B714297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3D09CD-4F9B-4EA9-B601-97784E6B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08EB74-E59B-41EC-BFB8-25A360BE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6A168F-DEA1-4CDF-8CA4-94CD361D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E79862-6CC9-4470-A15A-7723A997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1D83B7-0AE7-41E9-B89C-A3F08E8E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2C0C9E-F59A-414B-96AB-9BF17FD7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AAF152-F820-4915-B782-503B60FA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9F268F-BAB8-41CD-9D7D-566EA087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0300C6-868C-45F2-8514-FAC0E6DC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D68B1F-A37D-4F76-A84C-B577368F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6452A4-8BF3-4E39-9B3C-2D7B32DA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89670F-CFD3-48AE-BF5B-F9E1C6A9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0D4D20-E4DF-4C08-9B72-E9F851B4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BADFB4-2AE3-43B6-8655-0AE0CF27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2A9F30-1598-40CD-8AA9-2DD4DA8C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626BE0-679D-48C3-AA39-4BC6DF42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97C7B3-536C-4059-994C-DFFEB962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61B723-664A-4CE0-A6EC-4611BBF2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AADD1D-F4F6-4FDA-8689-D5E27981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613D51-75FC-4E72-ACB6-E27BE963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B3C51A-2ACF-47A5-9FC1-DA37E739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8BB4D1-3FC0-4C53-AECD-A8BE767B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106917-2CB4-4E37-B2B4-AA2F90D6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AB7785-A6F8-4053-9A59-912C6768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D5BEB2-0E30-4E4D-8575-FFB84D06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2A2C27-6554-406E-BC2F-7D322325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135C8B-4E06-42EF-8E8C-E9374AA6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890DE7-841F-4500-A7D5-A51F892F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A791B7-39DA-44FB-84D1-ED5A8F3F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D9F78B-4757-415D-8CAC-20E92569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CA7171-97C7-41B6-93E2-7F724903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C1F300-62EC-4F7A-BB9B-27FE9337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5F36CD-30F0-45B4-8546-F4A63DEC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7AC61D-6F0D-40D5-9DA8-B123DE49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B22400-4E2E-4E8D-B229-8CC9B255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D73A19-B03B-4738-B7EB-3EA14643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2E3065-D527-418E-9BEB-806B7793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4509BB-9AA7-4114-8E13-D0D42D5A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DC618E-F194-4EED-BB16-5273274E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385C2D-A82E-4839-81C1-3116CB9B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380CC4-92C5-47D3-8C6F-212BCFCE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9DD23E-FDA5-410D-8C7D-3FF833DA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8759AF-95BF-4DA4-8181-63E427AD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65CCC6-9FF5-4AEF-83B4-4245664D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8C0EA1-D897-43E6-BABF-DC0F1D53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E7996F-72A4-40E2-880C-4005F29B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911DAC-A44F-494A-AAD2-8799E593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27A472-F717-438A-9CAD-7CFE6830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24D6CA-543F-42AB-ABB6-FF8F72A0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205A73-B7DF-4A49-A0AD-AB77B559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52E708-CA6D-42A8-B33E-0238359C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CFFD04-1E3B-4E4B-834B-D85749B6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7326C3-149D-4CE8-AD19-91AB8EDA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135024-4731-41AA-B417-B94E8C8F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5710B3-305B-4962-8A22-129518EE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B183FC-894B-40BF-9CAD-55081498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6A46A6-A803-4170-92DA-D3BBB066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C86C21-AE0A-4EF2-9504-CEB8BC57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E336A6-ECD5-441F-BA5A-AA80DE52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A79EAC-4B56-4181-A241-B02288C7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D81330-DD51-4694-8B47-D958A2C7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529B6F-85A2-4D1F-9806-342BE180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EA3210-5A09-464A-91ED-96E0C04A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64FF35-DA8E-41DF-8917-87B53848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12DAB8-B3BF-4436-853A-449BF334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3CE69E-51D7-4C4A-9934-35D001D1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8998E5-C7DB-4DF1-99BE-69F90B4A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8DE9DB-7E86-4639-923A-6A869682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768EFF-9FBA-4FE8-8C6F-B3322F56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C539A9-C06A-49EB-B333-F0072DCC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27E13C0-7EFF-4297-ABB9-AC3718ED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B848A5E-5209-4447-87F6-CEA6864F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012041E-02FC-4149-B92A-BD751CA7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08E4BF-02BB-4872-9FF9-3A1B83C0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CAD15E-1CE4-4179-82AE-C373C635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AF02FE-8C1B-4768-AAFC-B38838D6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4B4B13-D276-4458-B427-53D3CD68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AF2216-4165-477F-BE84-975D56B2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D5720F4-511F-4C0C-94F7-4E3CFBCD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37A488C-D474-4ECC-825C-1CB10744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50D67C-66E0-4181-A488-ADDBB4F5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0AE5F27-B1C6-47A8-81F2-4CF00D4C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2789722-8937-46EA-A4DB-7165B1A3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EA69DA-6232-4E4B-98C2-B5F0781C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A6B604C-4EC4-486C-9725-9A28AB54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5D8C7D-1F87-45C7-801B-A4E3205C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F140AED-7579-4519-A101-33C6E996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9F3C7A-1E1F-480B-BB6C-20A75FE1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A97A59-DD3C-46A6-810A-71EBD2A9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924F4D-B11B-4D06-BB10-85CBFA22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27BF1A-A177-4699-97D7-157397BA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1D489FA-692C-4046-B2F6-789728A8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1783B0-6B4E-463C-AAFD-30110B6C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51554E-F6B8-45BD-9570-A8D9ACFA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7018564-91F4-442D-846E-1CA41C36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CC6F0F-FF3A-4AA1-8DBA-F98B8D82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A5D2DBB-FBF1-420E-BF6C-6EED00C3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761F64-7E9F-4E5E-9D76-2BADE496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920EA0-8802-4F52-BE36-A447D894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AA64382-464F-461F-A817-4E47A654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810AF2B-A784-40CE-B72F-FA6B82C7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5BD1D7-2B97-4E36-B34B-E19D9997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EAD08F8-8BA6-4267-9F56-F96850E9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10E453-4D70-4CE8-B231-2B1FC8F3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615F1D0-3200-433E-8088-B65CAE86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4825B47-CEF9-4FAF-9AA8-BCE0D5B9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BD2E99-1048-470A-A46D-88B20B44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6074BE4-589D-4509-977D-E5FB4F39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121CF69-EB6B-49B7-885B-71052A51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88E9393-8984-4644-ACBA-8BD7AB33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586B12B-2C34-4EFD-A7B7-E3C70284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E8C673E-9830-4B32-9D89-A20CF473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EDDAED8-B28B-42AC-A704-EA4CBF7A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DD47C08-8834-4E95-9A91-71EDC724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76FD140-C46F-4ADE-9EA6-5C5FB101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CA13351-1CCA-447A-8C99-5ABA72F5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B20A96-A78D-47A2-9680-ACBCEAE7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233668D-0539-4662-9421-74C1D128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BA1552-2709-4AB2-9626-079AB785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9BEA195-3F9B-405A-8B90-CB96E74C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7C3E64-82A2-422C-B112-22306B88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BA87E09-2BA1-4A5E-A078-25D63AE4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6E451A-8786-418F-A6A9-42A4F8C8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359ECF-3E98-42D8-BFAA-DB62B427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78D036-AFE3-4809-AB5A-1D2BF4F1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AB6F11F-6B73-4B53-B91C-6E849E1A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9859530-177C-41D0-B375-74A12D29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2CA7AD6-9A73-40EE-8D0E-F237C148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0A96DCE-2A98-4E58-90D3-749C6461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17E8271-A4A8-4305-B886-882B8DB2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286DBD3-38F1-42F8-B36B-C29D40F8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EF4EE2A-B18B-4370-9855-BED17966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D2D82CA-BB4E-4B9C-BA00-74E764B7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4C81A89-0E56-407C-9163-9622CF8D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39D7AFC-B6E8-4F73-95CC-B77B6411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63575B3-AF39-4508-A082-26F13BD2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77FC791-B20C-4C20-A235-008A5AA7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7034891-376B-496E-A764-C0AA990F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AF13153-D65F-4B2D-AE6B-C3C5D924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E362BA0-ADFE-4ED2-B0A4-3BFCA44C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DF392B8-93E3-4A03-A89C-20F319E0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8D923C2-E5F6-4949-B3DA-0D36B1A2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354E6D9-336E-41D1-A3E7-857A0A04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1B965FF-466A-4379-9246-708E364F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AAE1A93-921E-46AE-9050-E02C6EC0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BE9218B-8312-4B93-8098-DAF8098F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C249FBA-7772-412D-B0B1-B7821B82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78EDD23-E7C6-4C04-9698-01F8F978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46D772C-4C94-4DFA-AB72-C9569288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AA8F619-57FA-495A-B6AC-C90EF9D9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DC8E94B-C479-4CD2-BA67-0FFF74FE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4E327D0-C3E2-44A4-B45C-EADE4050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F314964-D883-4089-8F34-771F7A8E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20A8E68-F324-4D30-B66D-8AE5DCCF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8D9B08C-E04A-4060-8450-FA410FF5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AB8737C-93B4-4B46-B0DE-FB1D78B7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C240782-76C8-4FDC-81CA-3A344D00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CE01916-F86C-470B-B986-9BFD3002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A7C5B03-3FD5-4EDE-B265-1FCBB38E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26DEA51-FA08-475C-8F55-BB9FE1F3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5A23826-FA65-4E50-B5A5-D7BD6D4C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EB1C6F2-5988-41AF-BCBA-A6A0A39E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DAD0834-513F-44EA-8C52-D2A70012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D990A4C-DA73-4078-944A-A0B728B7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22D07DA-7889-46B5-8D8A-9C1A6796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243A6F4-AAB7-4769-B6D6-9FB4DF69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EF07E88-6196-4BCE-9E16-616B77A6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A12FAF4-9947-4AFC-8693-DAC44F8D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AD1605B-E372-48B9-B06B-54FD184E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7558533-0F2C-46B7-BDC2-9694CCAC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5C04F78-8969-422B-8187-E626C0FF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CA5157A-CBC2-4A77-A144-6D47B1CF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D389D93-CFDC-4B5E-9F5E-B476AA03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9F11697-90DB-4901-9BB1-A1CF06FF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1CDC2D1-38FD-40D8-8254-61217A0F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49AEC3C-6558-49D8-8552-E4E5D2FA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D78D9D6-B60A-4707-8884-FE08D32E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9B2D716-D3B7-4E5C-906A-7FB62EC4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65F4817-452B-4AB2-94E0-2181E5F3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6B3405A-E360-44F9-B884-172FFF7F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8D0595B-09BE-408E-A4A0-CE2C8AB5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8A0A7D0-4DEC-45A5-83C0-1348D867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F8766D0-4F4D-4EF0-8BA0-9190E577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576A6AC-7A46-47CB-BCD8-DB17FBF2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E86D352-8AAE-46A1-840A-C8F2BF2D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759343D-B5CC-4406-89FB-C829EF17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998998F-E1F0-4647-9ECE-19970634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5E3190C-2026-4433-BF64-3DD6560E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B0E512B-72B4-4C13-803C-28022176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B8BB2F8-FC89-4879-B418-D32F004F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4E15AA9-BDE2-4C51-BF10-AF21E564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4D0A055-48F1-45F0-996E-53BF2A69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840249D-C7BB-4CFD-A61B-DDAB4B98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DB9BF5A-6B0C-4CB5-9889-29989AF2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F3836C7-6C05-4932-94B1-80CE82F3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22125B7-9A4C-4EB7-864C-1B4CBADD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59EE7E2-7F94-406F-9733-249A5821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217433A-EA03-4A33-8066-06EACC4E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FB3C96A-E2EE-4DCB-BA8E-C80E526F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A24FFB5-D931-403D-9339-F47C8CEF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CDBD700-92A0-4973-942A-D63FDB27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4F33C49-1DF1-4275-8705-8095BF4B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362B670-4962-4DD3-9B65-48FFF7C4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415C3E6-1003-47D7-9901-EF992E97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FCF4C61-FC74-48DB-97ED-39FF4BF7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DFB0C99-0F8E-4A3F-992F-C28DB47E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3547EA9-FEB1-4E38-947E-B3F1EDD4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E6E046B-C94A-41BC-A641-0B48C30A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360FF3D-317A-40B3-8D45-036FE63B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B154AD9-830D-448F-82AC-A7E412C1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58F6BD1-2FDA-47A3-B897-1472DAF9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5753820-108E-48F8-8B84-1146ABD2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5D1A73E-5251-43CB-B9D1-A864C83B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7844FF9-A2AD-48FC-A96C-02408AD7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6DD2077-EB77-4181-B2BA-FB58F4FA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0459E25-ADBF-4887-AF49-F1CFD247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246616F-7B25-45C7-8F29-1AEF6B41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9C2BA10-F82A-47FB-BE4B-F2C26D60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7FA505E-AE1B-4D8C-954B-8E93156B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41FB12C-8D03-4C1B-98FF-DF3BF229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0DD0C2A-F7BE-4E85-A775-659C6EBF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ED2057E-6C42-4506-B72B-D7968C92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548BA44-A1D7-48EB-BB8B-B842C2B0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CB561BD-4892-4BD5-ACD5-73443160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5D7DE72-EDA0-4B73-9BA0-1B1D066B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F88F3DA-9430-4F40-A247-6571EBD7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B00D10D-87DC-4D1C-8D93-E310902A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7332451-CB15-498C-8B39-7D5B446A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19414D8-E0A4-4C2E-A2DA-77F7F13F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5B7E3DD-E8C5-4073-A467-8CC4BF7A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1460362-C033-4F14-9B17-611F94A4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54099B7-60D0-4E84-8C37-7168947E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F466352-C590-4C36-BCB0-E67C3B5B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394E887-F685-4273-9D28-1D1C6845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F7FF9A0-684D-4DD5-A672-C728C55E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6ECB4B3-946A-4BB7-BD91-4E97C822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A1D435A-FCCB-4BEC-8C67-E3A9EF23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8439B28-2459-4789-89A0-8A078567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E51FF53-0F41-4B88-A5E5-07AAC630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9A9D3C0-F2A6-4AF6-85EF-B9FF2D47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F6FEBF9-345C-42D5-8FFC-FEE649E9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03D2C80-04CD-4CB4-AD57-299FB52B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B610897-FA6D-4742-8DA6-852E7A3D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C3FD78D-C93A-4A49-8FF0-5AD051EA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8F26436-74C5-4235-995F-8F425FD7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E1D544F-72C9-42B1-8DFD-F8F22F97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A4A297F-4E50-43A1-A158-0259362D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CA9555C-29C8-4106-83D1-E6033809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4410DAC-F1A6-477E-B644-E87F345B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E8ABDBA-AC03-4782-9DBF-FDC8E8E7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51ED52D-2CF5-4503-9A1E-A2F36CB8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3ADA0E9-1F06-41AD-8DBB-BF47FAAA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85BAAA9-F0BD-4011-BA25-4494F0C3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CEA75AD-AE2D-4004-B4A6-761DBDB7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D12A4A0-5759-4FA3-8C2C-95675BBC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34D4C1F-3BD6-4DFC-A2D6-CCFD4EF4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B2291AC-C719-4D63-A032-078FA597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3F701D9-495B-43EC-ACFD-D257FF98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4AEBC17-B64D-417F-B461-1E524CE7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CED4AF0-68CA-418B-83C9-E0F9E013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F0F7C9F-69D3-4386-B4E9-1B1606B5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C7880FC-CE01-448A-8376-738F0036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83C07BA-8283-42D9-86A0-F7A854DA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AF608BD-B365-4AA5-A821-AE05F665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EC383B6-E2B8-4E57-AEA4-BE164158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55F2655-89F1-47CA-A8BB-79729368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833BCB5-1E03-47CB-8FBD-DF5EFCCE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38BE6E3-72AC-47A6-B4B4-AA1BF4C3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1713736-0D92-462B-BDB5-7540867D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B93F85D-BE7F-4D3F-A861-BD1B06A6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7CA9A4E-571C-492C-BFBA-1FEBA306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BFF8A70-6C76-4441-A0B7-03001DCB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9C741F6-84B3-4222-BC11-8F1439CF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65CA4EA-DFDC-410A-879E-CA7E01D3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B2100CC-9781-4773-A6AD-42E4F5B4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2048A18-C485-456B-8949-956570FD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74BCEC4-063E-486D-835F-F56696E3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1D6E661-21D2-4DB2-8201-A8912D6B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1FA60B6-1BF8-4DE1-B4BA-59394C4A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0AC8162-86D5-4B62-881A-41CCD809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79D9149-6525-4404-985D-64F89891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1A48228-6EBF-4717-B325-44059134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B1B29E1-4C37-4ACB-94EC-2C9E1647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0AE9EEC-B298-40CB-878A-41A1E872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B1A92D8-DE83-44DC-9A22-93AF2D2C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5B9A472-70C7-4C92-8D87-1C0FBC74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CE83C04-D1D4-435D-836E-CF619262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C33E138-7070-4456-B7A1-C1930FF0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D81418A-63A8-423D-8FAF-33444F5F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10681C5-B3E0-42EC-B7E6-84CEE33A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218DA7C-1540-47BB-8186-BC87511B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426FDFA-A563-48A7-80DD-F7DEE0CC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6ED784E-3FC1-44BC-932A-E43396BE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F3EEF9A-BDB3-45D7-BA8A-DA975E4F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74EED00-87AC-47B9-AC6D-7FFBDFD2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B30AC7C-45CB-4A75-B9DE-F9191901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CF364BB-3F1A-4681-AFF7-E0CDBDDF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5A45819-9F3A-4DDE-8A23-717E2CC5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FCB34DC-CB07-4B65-B2B9-FC23EEDD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5130900-20FB-416B-B5E0-29F67265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589BF49-A6F8-42C4-A054-15E92658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8A0ACC1-C8DF-49CF-90D0-05F752DF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680236A-9754-41EA-A0E1-8D4C0968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F6AABEB-7519-42E4-A48F-C831242D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8AF3FCE-3E4E-4A85-BFCD-AD46440E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36873F2-4CC2-4B20-8AED-1556EE77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750E1C5-DE23-4117-9687-A2E5D923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57C299A-FBC4-4FB7-8DC7-6CB40D6E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45B868E-E2E5-45E0-8C62-FFE74F6F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411DD6F-8A3E-4F5F-9E01-5676954E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EEDB993-137C-429A-A06A-042C9FD8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9610391-FB50-4BED-B2BB-57F8714C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2AA8268-0DBE-43E3-9E97-07C66185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78A8C56-02F2-48D7-B0C8-0070D1B1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540741A-B87F-4017-AB8B-61E765D2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504BBA9-6C68-4E3D-9CFE-8E14B1F6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EE92AA0-20BC-4301-B146-5A24DA9E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ECC114C-B7AD-4BE9-86F1-B025B78D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D3EDB1B-33AB-4D2C-8D2A-4D7A733A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6C80F36-9F78-419B-9525-EE1198BA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43763A7-0E33-43B3-B8C2-74E885B4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CE1F5D9-F683-4E06-99B5-103946DC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7E27964-7043-4D1C-84B8-4AB40934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240C8B0-DC70-489A-8A54-B43AC1D3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D7BD2E6-9AF5-419F-A3EF-93C0112D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C9029F0-C30E-4B8D-BA1F-CA829F6E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B52FE84-6034-445F-ACA4-8EFE6B7C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7A14F9D-9D47-44D0-9727-F407664C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0223D60-307F-4CBC-AB05-1F1BA21B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454C491-9DFB-4CB1-8CEC-B9B2C3B7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10907E6-1FBD-446A-B3D1-13EA3D2D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06BDD7E-00BC-42C3-BB7F-EB90927B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E5AD1D7-AA5C-4960-879B-96A557C9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B00CD82-B641-4B1C-A598-340A9BAF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CE259FE-0E78-4371-A087-1AE29140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324C1B2-5C94-4384-BF47-0342DA32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01D42CE-FCB4-4F88-A33E-B23427CA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F7CA6BC-7622-4877-8983-3C065E1E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BDA9517-F0A7-4651-896A-6C537861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4824F79-E2F9-4630-B17F-4DE636F0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073CAEE-3FAF-4B6E-AA42-4F48B245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5C5DE26-8F6E-4C82-A931-757B9388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7379FDC-E407-42DB-8948-4CD22993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1EEF5D6-C09C-4613-B650-6F513A8A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F80AC51-B9F9-4586-8A50-9600A898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D94B3F4-D1B5-4FFB-B55B-1E7E6397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834D7A2-1173-4CC8-A6FA-0EF6A87C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BD6888D-F661-4070-AEEB-E1CAC311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796C65A-05A9-41AD-BD7E-FF9104C7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41057FA-83B4-492A-85B3-77C6B6E5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69CAD88-60E2-4EBA-BC85-E6201931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F79D066-DB2A-4610-A330-BF7E7570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AEBB3A7-4BCA-4D93-B492-7C88D450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35A974E-8C29-4795-BEE5-29D0E712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7502122-E8DB-4F46-86B8-152D8734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543A78F-BEBA-44B5-841C-AF3B9A1F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0A9BC7E-FE8F-4B33-9223-099FB385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139C18B-54A7-484B-B5C8-95B2F0AB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0F3A214-AF6B-4EEA-A0D2-EF4EF456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DBA3F7D-C846-4A92-B033-CC480B6E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C17D990-954D-48AB-9B5C-3A66680B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62A9589-46EF-491D-B1D2-153F8C87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61953D5-BB04-47E3-9ECE-33B621BD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E74BC85-4C59-4B96-B00B-946477FC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8C9C77B-1C0F-4470-B024-4DC468A7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46AA856-27BC-45AE-A6AC-390FF8CE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09D7A99-F853-44AC-89C5-CDB46C27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6AD37E0-0C2B-4CE2-94E9-801D94C9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10336E5-FB44-4829-A651-63E43191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F9052EC-8E85-4B71-8518-2A62B99E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E8DD912-9D61-42F1-943C-0F7266F5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B6DC8B4-F63F-4B76-8281-881DB9E1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F306781-9557-4A59-A502-49995A3C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E217FBF-2ED6-4426-A90E-0D7EFF15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4FC0537-957F-4758-929E-EBB1C273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E2142D9-E75B-4C5A-9536-68492C3B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D522A29-3090-45F0-BCED-26E95997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8A7C77F-4739-42B0-9736-0706C027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3B14595-A6B8-47C8-98AB-C7F223BD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643971C-7CBC-4CA7-B1C5-6DD36C03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5860CF8-656C-4595-8CD3-733D590C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0B69848-5EE9-46EE-B307-46CAE16A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A7D4773-E607-4931-B4B5-B866E190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2EFF347-1640-4F0D-9F41-4B908EF2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3CF8CBE-211D-4F36-A59D-A234FA56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B036715-8AD6-4953-9128-24C6AA82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21FA6A0-53DA-408A-B7CD-A3A8A7B8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ED5CB2D-B3D2-4CA4-98F3-2BF533E8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FAD0F34-76A5-4F7B-B2FA-475A8392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E5AB735-976B-43AD-96DB-4D3E0CCC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F0C15E1-A056-4787-9302-5808ECF8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589CB4D-79DD-42B1-A66A-3CDC6320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E88A153-FCD6-427C-811C-71060515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C5B8312-0C64-4D1A-89BA-97A7A373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8AFCB5C-9F8B-4BA1-BC43-0094F978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0FE0B4C-F5D2-4405-AE40-629C2AA8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31EF4A5-A464-474A-A7DF-A3908FD0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DB784A8-A30A-485D-A33F-AB81E30C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349AF6F-9070-4806-BCD4-AE8B46BB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197B420-8001-4380-816D-639A6D83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4837592-6567-4C75-ADA0-5E42B8C3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8F46E80-69CC-450E-9170-E237F171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CB66F99-8200-48AE-A83A-56DB0929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6DBABB5-25DC-4B03-B35E-13A9FC84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C8E4D91-ABFA-48CD-B9BB-25B987CD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A9FB5BE-C630-40B5-9868-F8BC54BA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8BC7C91-8B1F-4BCF-BF30-0D8B1092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B058208-BD44-457E-B7B0-3586533A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8828568-27AB-4BB6-A8CE-CBBAF1DB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D6DB357-F7FF-401F-B92A-9ADE0D0D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A51D1FF-E8E5-4CB4-B282-6382DFB0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5EB8230-C009-41DA-B622-68B359AE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CCCEAF4-E47B-4BF0-8AC2-69313BCC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BF52DEC-9B96-4219-BDEA-1DF540F2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745F1CF-4946-4CEE-80F7-5DE7168C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1F140C5-A1A7-4FE7-B723-1EFDDDC5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74AF7B4-17B3-4568-8E5F-1EA13269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7CF56F1-E7C5-4359-8C2B-ECC7A55F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C377F73-DF4B-4773-85CC-004984CE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A39B803-971B-44D9-ABBC-99BC6721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7EACE9F-FF78-41E8-B2B2-D603E1E0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22CA24D-BD2E-4274-8857-088421B5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56EBE34-4600-4745-9FFC-DBEE6307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6BE6A31-CD1D-4A08-83ED-89C06E23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C1AF6DA-1B51-4CD0-8655-11552C33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6E56106-1673-4DE4-AFBE-CFB25D42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6101D9D-9034-413F-910B-A0092EC2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A8D581D-DB72-4D3E-A6F1-B0AF6A7A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BE587CC-98AF-4528-AD30-CACBBDBB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AF78161-007C-4E8F-B86A-E8DEDC1E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0E52EB1-5968-4266-A4A8-D10F7DE3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E3A04FB-B9FA-48AA-A148-934BDB92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1629DE6-38D9-4432-B17B-3C70E2E3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A615BB1-8E68-47AF-9BDB-600E5FD8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9A22885-8463-48B9-973F-4CDFDE32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87EFA73-8D30-4A55-B188-7A929212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690C370-A49C-4019-A19E-4E313203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067173D-C7A7-4167-9E78-55B3C0AD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CBAA313-7683-4C3B-B255-8FA3F3E8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65D101C-C648-4DC9-9F1C-6F79B630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308A358-774C-4F83-ADC9-6366F683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703456C-90DE-433F-AFD7-2448D44E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853198F-4A80-434F-9AF8-3B2730F3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308BF6F-449B-43B1-865D-ED9729FF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AE19B7E-C533-49D9-A2A7-F9E8F717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2205CB6-F4A5-472B-BEFC-2F98EFB7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A674205-0B7F-4D34-95C6-7F8CA498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653BE5F-FB4C-4611-A6DC-6E9AA382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F5E6369-D77E-4450-B427-30ECC931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4AD2BAB-FD73-4475-8349-EE0E7223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58690B5-F7B2-4837-87D4-A0D0BA24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46D3AF0-74F3-44A3-A303-B8C90ED1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DC8721C-CB48-4350-881D-0B253CD9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1E216B3-E556-45BC-B788-9CBE3C8D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C545232-120D-440A-8EC3-01D9A66A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54378B8-95B4-40F2-AB57-D0DC658F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49D3D76-B92E-49C7-BF1D-CD069DD9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A91484B-C0ED-4CB2-AFEA-DDBC1F20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9084634-EEEC-4B6B-BD90-7AC6514F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14AB781-7203-44CB-8E77-9F58BCE6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3CCDA45-591E-4A71-BEF8-7CB0DEF7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BDDB4EE-A9F2-469E-B178-9632FC1D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CE97794-D1F2-4AB4-92AA-E7CEF0A6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799913C-4037-4848-B96A-F9BA9B2E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29044AB-41CB-4D72-ABC3-9C8EB05B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6505891-FF4A-421E-A539-B04E4DD2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7E2C3E9-19AB-47E0-B5E6-396E301B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8BE1C26-A71E-407A-B7ED-3AB86D77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0ECACE9-AF03-4D91-A1A5-C8E6AD8D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9E3D5C3-4C4A-47A1-B1E7-600FA3DE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8C33C2B-BABA-458F-9562-A20A83AB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5BAF92B-C50C-4E07-B131-A524BFD5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695BCDE-F5B8-4577-AC62-4D9C1B0F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88D28C3-7436-4C7F-AC40-D5A2C1A4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2350276-7C17-4907-85DF-CAAA6C65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C6482A2-4FCD-4B96-B193-E40E6A15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E0DFBD8-6B34-4964-B2F8-EEF5FB99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A7FC885-1101-4C6D-B7B7-63C80712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EC366E3-9F55-4F4B-BCF2-F61CE523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20A758B-FC27-4761-B0AD-ED03F726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F96BEAC-09FE-4F0F-AAC4-6387B2F2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EE167CF-7E12-428E-96E8-61E05FB7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7B4074E-DE1C-40AE-B59F-0D26CF06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E4C6306-D964-4859-A7CF-6714621B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9711FA4-6AB0-45EB-AAAC-A8772602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EA1DB9C-28ED-4A0A-AD23-CE2CED67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EE37C7F-E9FB-490E-9DA7-0D745C23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BE0A7E5-91E1-432F-866B-D3536E11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CF62CD4-1876-4991-91DF-0FFA73F4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10577C7-ED75-4DBC-837F-A4A6EAE9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D1B4E6C-863A-47F3-989A-88748B16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2936608-DA4A-4F51-9BDB-34F1AE7A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3C20C93-DF86-41ED-AB7C-F4595AD5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73F757C-8E9D-4742-95B6-E599052D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8935367-0759-4963-BDEC-980F1AF6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F8DB23C-605F-4913-B65A-90062FE3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DFE19E8-C5C0-444C-9A87-7D8FB80F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D97CD57-9926-4FC9-9C05-8551AB3E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78CE039-CA99-4942-98A1-0C6F31ED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251EBB9-197F-4806-8EE1-F4D9C4E4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6E5EC6B-6B84-42CB-8990-BFCC3E4E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F4B81CA-ACBA-4C25-ABF2-FDCCF426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27848FF-3528-4467-BB58-D67B06CE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83ECB55-6B89-4A9C-B95F-005F330D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4A8DC33-B92A-42EA-86CD-14D4BE46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7450087-94FD-4581-989A-0C093657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1A91625-BA8B-4B10-9A8F-F3502AEB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6CC1458-63DC-4139-937C-CE227E5A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ED8D9C0-81A2-4726-A897-E8D3DDB6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6396D47-8219-423F-A433-E51E4E7F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5C18A9D-8462-49A4-9BD4-FCDEBE3D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706634D-1CFF-46D6-8FEF-DA047B4C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53688EB-5458-40C4-A35B-C334127D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46255EA-D8B9-4800-896B-B8D409DF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6E7AF93-AF1F-48A1-8C56-08B7AD34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6C13E2E-5A47-4511-9D7D-EC0FDFA3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E64EC2F-5B7D-4661-999D-33816F48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FADB90B-0AF9-4D13-98A0-12E71CB5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86A2D65-67B5-4D17-B734-6614797D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0A500F1-1DD7-4D20-AE4C-E87201B0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95E1870-B681-42FD-A931-F4AB42E9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42E3659-AF6B-4F90-B3F7-CC69C429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75627D1-5869-4EEB-A662-45115B12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9366BDA-A919-410E-985E-CF7B813B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1C2ECB1-227B-46D0-86FB-3F0D3598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35D0EAC-F81A-4C57-8A38-79838258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9327895-6292-4970-BA9B-0E7F173F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0B37AB3-4DAF-445E-935A-9997E038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E54DED7-77E2-4589-8B4D-5ED06FFF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6726E24-4E4F-4B80-908E-772F65D6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41C6A20-6AA0-4F53-A0B1-91CAEF68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FE18152-E4AA-4CE1-BAB9-23A0EDCF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AB1132E-FC07-4525-8DFD-AF82C76E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602615D-B6B3-4FD6-8B9B-149CC18E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BE0AE3C-1A8D-42AC-9B8F-1232A3F8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D2CA6F0-4C6D-4BCB-95B7-9F2B5665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03C7282-50B5-498D-B16D-89389A98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695045C-ADBC-447B-BF41-553F1949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C485FAA-AA02-4978-AC14-5245A7D6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7D89A02-5816-426A-8CA4-C2E1C735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5EE0D46-3A75-4543-8FB9-5A671DCA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2DAE89F-6794-46C8-8329-6FB21BFD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E0D38DE-7021-4A59-8C52-5287C99F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F7DB5FE-A818-417E-8122-E92C2A94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0A9A2E8-ECB1-4853-A6A0-B7FDC681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896FAEE-445D-45B1-892F-F83BFEDE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868DD27-4574-47D7-98AB-51EA44B9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483F8BC-F27F-486D-BDE4-2801F00D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87046E4-E87D-4A67-91F3-62A2564A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AC8EE54-2B2C-45AF-9092-DA4F7671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1C49AC8-C1A7-4446-912C-8C5E3C62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1F9E5F0-DCC5-4332-B3EB-324CCFC8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E2A1621-FF25-43D9-B662-0EEF7E85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C192F52-A2C0-4A79-8D81-6B46B890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B0B8640-03B2-4FEF-B38D-CCD9D938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E143159-A6B0-4671-A763-6C4D69DD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6EF1C80-962B-4450-8AEF-6AE10828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B566C20-A92E-47F9-8D10-984283AB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7798BBF-0ABB-43A5-AFA5-3B29770D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D74826C-1C02-4C25-8530-983149A1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8AB39C5-F880-47D6-AFDA-2B4DCEF6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CCED752-D7F8-410A-93C5-2150FC9E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D0CE3AC-B8AD-4C3F-919B-86832541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29028F1-634E-42F8-9790-B12CF897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3FD7162-E11C-4A1B-B56D-DBBE34CB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975F026-213C-4748-9640-51F19795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5F381F2-53B2-4DAF-9CA3-6E76FE2C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4946ECA-3B1E-4A19-914B-571DD3FF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FC2D145-7B42-485A-AA8F-EF74AD2A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5524DED-2C12-4B15-A279-123902D8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A5806ED-7689-4B56-A391-73B6E6CC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CC1A5E3-334C-4620-9910-5DDDECD8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00CFB85-8DD2-4304-AF65-948D677F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89.xml"/><Relationship Id="rId6" Type="http://schemas.openxmlformats.org/officeDocument/2006/relationships/slideLayout" Target="../slideLayouts/slideLayout1190.xml"/><Relationship Id="rId7" Type="http://schemas.openxmlformats.org/officeDocument/2006/relationships/slideLayout" Target="../slideLayouts/slideLayout1191.xml"/><Relationship Id="rId8" Type="http://schemas.openxmlformats.org/officeDocument/2006/relationships/slideLayout" Target="../slideLayouts/slideLayout1192.xml"/><Relationship Id="rId9" Type="http://schemas.openxmlformats.org/officeDocument/2006/relationships/slideLayout" Target="../slideLayouts/slideLayout1193.xml"/><Relationship Id="rId10" Type="http://schemas.openxmlformats.org/officeDocument/2006/relationships/slideLayout" Target="../slideLayouts/slideLayout1194.xml"/><Relationship Id="rId11" Type="http://schemas.openxmlformats.org/officeDocument/2006/relationships/slideLayout" Target="../slideLayouts/slideLayout1195.xml"/><Relationship Id="rId12" Type="http://schemas.openxmlformats.org/officeDocument/2006/relationships/slideLayout" Target="../slideLayouts/slideLayout1196.xml"/><Relationship Id="rId13" Type="http://schemas.openxmlformats.org/officeDocument/2006/relationships/slideLayout" Target="../slideLayouts/slideLayout1197.xml"/><Relationship Id="rId14" Type="http://schemas.openxmlformats.org/officeDocument/2006/relationships/slideLayout" Target="../slideLayouts/slideLayout1198.xml"/><Relationship Id="rId15" Type="http://schemas.openxmlformats.org/officeDocument/2006/relationships/slideLayout" Target="../slideLayouts/slideLayout1199.xml"/><Relationship Id="rId16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201.xml"/><Relationship Id="rId6" Type="http://schemas.openxmlformats.org/officeDocument/2006/relationships/slideLayout" Target="../slideLayouts/slideLayout1202.xml"/><Relationship Id="rId7" Type="http://schemas.openxmlformats.org/officeDocument/2006/relationships/slideLayout" Target="../slideLayouts/slideLayout1203.xml"/><Relationship Id="rId8" Type="http://schemas.openxmlformats.org/officeDocument/2006/relationships/slideLayout" Target="../slideLayouts/slideLayout1204.xml"/><Relationship Id="rId9" Type="http://schemas.openxmlformats.org/officeDocument/2006/relationships/slideLayout" Target="../slideLayouts/slideLayout1205.xml"/><Relationship Id="rId10" Type="http://schemas.openxmlformats.org/officeDocument/2006/relationships/slideLayout" Target="../slideLayouts/slideLayout1206.xml"/><Relationship Id="rId11" Type="http://schemas.openxmlformats.org/officeDocument/2006/relationships/slideLayout" Target="../slideLayouts/slideLayout1207.xml"/><Relationship Id="rId12" Type="http://schemas.openxmlformats.org/officeDocument/2006/relationships/slideLayout" Target="../slideLayouts/slideLayout1208.xml"/><Relationship Id="rId13" Type="http://schemas.openxmlformats.org/officeDocument/2006/relationships/slideLayout" Target="../slideLayouts/slideLayout1209.xml"/><Relationship Id="rId14" Type="http://schemas.openxmlformats.org/officeDocument/2006/relationships/slideLayout" Target="../slideLayouts/slideLayout1210.xml"/><Relationship Id="rId15" Type="http://schemas.openxmlformats.org/officeDocument/2006/relationships/slideLayout" Target="../slideLayouts/slideLayout1211.xml"/><Relationship Id="rId16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213.xml"/><Relationship Id="rId6" Type="http://schemas.openxmlformats.org/officeDocument/2006/relationships/slideLayout" Target="../slideLayouts/slideLayout1214.xml"/><Relationship Id="rId7" Type="http://schemas.openxmlformats.org/officeDocument/2006/relationships/slideLayout" Target="../slideLayouts/slideLayout1215.xml"/><Relationship Id="rId8" Type="http://schemas.openxmlformats.org/officeDocument/2006/relationships/slideLayout" Target="../slideLayouts/slideLayout1216.xml"/><Relationship Id="rId9" Type="http://schemas.openxmlformats.org/officeDocument/2006/relationships/slideLayout" Target="../slideLayouts/slideLayout1217.xml"/><Relationship Id="rId10" Type="http://schemas.openxmlformats.org/officeDocument/2006/relationships/slideLayout" Target="../slideLayouts/slideLayout1218.xml"/><Relationship Id="rId11" Type="http://schemas.openxmlformats.org/officeDocument/2006/relationships/slideLayout" Target="../slideLayouts/slideLayout1219.xml"/><Relationship Id="rId12" Type="http://schemas.openxmlformats.org/officeDocument/2006/relationships/slideLayout" Target="../slideLayouts/slideLayout1220.xml"/><Relationship Id="rId13" Type="http://schemas.openxmlformats.org/officeDocument/2006/relationships/slideLayout" Target="../slideLayouts/slideLayout1221.xml"/><Relationship Id="rId14" Type="http://schemas.openxmlformats.org/officeDocument/2006/relationships/slideLayout" Target="../slideLayouts/slideLayout1222.xml"/><Relationship Id="rId15" Type="http://schemas.openxmlformats.org/officeDocument/2006/relationships/slideLayout" Target="../slideLayouts/slideLayout1223.xml"/><Relationship Id="rId16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225.xml"/><Relationship Id="rId6" Type="http://schemas.openxmlformats.org/officeDocument/2006/relationships/slideLayout" Target="../slideLayouts/slideLayout1226.xml"/><Relationship Id="rId7" Type="http://schemas.openxmlformats.org/officeDocument/2006/relationships/slideLayout" Target="../slideLayouts/slideLayout1227.xml"/><Relationship Id="rId8" Type="http://schemas.openxmlformats.org/officeDocument/2006/relationships/slideLayout" Target="../slideLayouts/slideLayout1228.xml"/><Relationship Id="rId9" Type="http://schemas.openxmlformats.org/officeDocument/2006/relationships/slideLayout" Target="../slideLayouts/slideLayout1229.xml"/><Relationship Id="rId10" Type="http://schemas.openxmlformats.org/officeDocument/2006/relationships/slideLayout" Target="../slideLayouts/slideLayout1230.xml"/><Relationship Id="rId11" Type="http://schemas.openxmlformats.org/officeDocument/2006/relationships/slideLayout" Target="../slideLayouts/slideLayout1231.xml"/><Relationship Id="rId12" Type="http://schemas.openxmlformats.org/officeDocument/2006/relationships/slideLayout" Target="../slideLayouts/slideLayout1232.xml"/><Relationship Id="rId13" Type="http://schemas.openxmlformats.org/officeDocument/2006/relationships/slideLayout" Target="../slideLayouts/slideLayout1233.xml"/><Relationship Id="rId14" Type="http://schemas.openxmlformats.org/officeDocument/2006/relationships/slideLayout" Target="../slideLayouts/slideLayout1234.xml"/><Relationship Id="rId15" Type="http://schemas.openxmlformats.org/officeDocument/2006/relationships/slideLayout" Target="../slideLayouts/slideLayout1235.xml"/><Relationship Id="rId16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237.xml"/><Relationship Id="rId6" Type="http://schemas.openxmlformats.org/officeDocument/2006/relationships/slideLayout" Target="../slideLayouts/slideLayout1238.xml"/><Relationship Id="rId7" Type="http://schemas.openxmlformats.org/officeDocument/2006/relationships/slideLayout" Target="../slideLayouts/slideLayout1239.xml"/><Relationship Id="rId8" Type="http://schemas.openxmlformats.org/officeDocument/2006/relationships/slideLayout" Target="../slideLayouts/slideLayout1240.xml"/><Relationship Id="rId9" Type="http://schemas.openxmlformats.org/officeDocument/2006/relationships/slideLayout" Target="../slideLayouts/slideLayout1241.xml"/><Relationship Id="rId10" Type="http://schemas.openxmlformats.org/officeDocument/2006/relationships/slideLayout" Target="../slideLayouts/slideLayout1242.xml"/><Relationship Id="rId11" Type="http://schemas.openxmlformats.org/officeDocument/2006/relationships/slideLayout" Target="../slideLayouts/slideLayout1243.xml"/><Relationship Id="rId12" Type="http://schemas.openxmlformats.org/officeDocument/2006/relationships/slideLayout" Target="../slideLayouts/slideLayout1244.xml"/><Relationship Id="rId13" Type="http://schemas.openxmlformats.org/officeDocument/2006/relationships/slideLayout" Target="../slideLayouts/slideLayout1245.xml"/><Relationship Id="rId14" Type="http://schemas.openxmlformats.org/officeDocument/2006/relationships/slideLayout" Target="../slideLayouts/slideLayout1246.xml"/><Relationship Id="rId15" Type="http://schemas.openxmlformats.org/officeDocument/2006/relationships/slideLayout" Target="../slideLayouts/slideLayout1247.xml"/><Relationship Id="rId16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249.xml"/><Relationship Id="rId6" Type="http://schemas.openxmlformats.org/officeDocument/2006/relationships/slideLayout" Target="../slideLayouts/slideLayout1250.xml"/><Relationship Id="rId7" Type="http://schemas.openxmlformats.org/officeDocument/2006/relationships/slideLayout" Target="../slideLayouts/slideLayout1251.xml"/><Relationship Id="rId8" Type="http://schemas.openxmlformats.org/officeDocument/2006/relationships/slideLayout" Target="../slideLayouts/slideLayout1252.xml"/><Relationship Id="rId9" Type="http://schemas.openxmlformats.org/officeDocument/2006/relationships/slideLayout" Target="../slideLayouts/slideLayout1253.xml"/><Relationship Id="rId10" Type="http://schemas.openxmlformats.org/officeDocument/2006/relationships/slideLayout" Target="../slideLayouts/slideLayout1254.xml"/><Relationship Id="rId11" Type="http://schemas.openxmlformats.org/officeDocument/2006/relationships/slideLayout" Target="../slideLayouts/slideLayout1255.xml"/><Relationship Id="rId12" Type="http://schemas.openxmlformats.org/officeDocument/2006/relationships/slideLayout" Target="../slideLayouts/slideLayout1256.xml"/><Relationship Id="rId13" Type="http://schemas.openxmlformats.org/officeDocument/2006/relationships/slideLayout" Target="../slideLayouts/slideLayout1257.xml"/><Relationship Id="rId14" Type="http://schemas.openxmlformats.org/officeDocument/2006/relationships/slideLayout" Target="../slideLayouts/slideLayout1258.xml"/><Relationship Id="rId15" Type="http://schemas.openxmlformats.org/officeDocument/2006/relationships/slideLayout" Target="../slideLayouts/slideLayout1259.xml"/><Relationship Id="rId16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261.xml"/><Relationship Id="rId6" Type="http://schemas.openxmlformats.org/officeDocument/2006/relationships/slideLayout" Target="../slideLayouts/slideLayout1262.xml"/><Relationship Id="rId7" Type="http://schemas.openxmlformats.org/officeDocument/2006/relationships/slideLayout" Target="../slideLayouts/slideLayout1263.xml"/><Relationship Id="rId8" Type="http://schemas.openxmlformats.org/officeDocument/2006/relationships/slideLayout" Target="../slideLayouts/slideLayout1264.xml"/><Relationship Id="rId9" Type="http://schemas.openxmlformats.org/officeDocument/2006/relationships/slideLayout" Target="../slideLayouts/slideLayout1265.xml"/><Relationship Id="rId10" Type="http://schemas.openxmlformats.org/officeDocument/2006/relationships/slideLayout" Target="../slideLayouts/slideLayout1266.xml"/><Relationship Id="rId11" Type="http://schemas.openxmlformats.org/officeDocument/2006/relationships/slideLayout" Target="../slideLayouts/slideLayout1267.xml"/><Relationship Id="rId12" Type="http://schemas.openxmlformats.org/officeDocument/2006/relationships/slideLayout" Target="../slideLayouts/slideLayout1268.xml"/><Relationship Id="rId13" Type="http://schemas.openxmlformats.org/officeDocument/2006/relationships/slideLayout" Target="../slideLayouts/slideLayout1269.xml"/><Relationship Id="rId14" Type="http://schemas.openxmlformats.org/officeDocument/2006/relationships/slideLayout" Target="../slideLayouts/slideLayout1270.xml"/><Relationship Id="rId15" Type="http://schemas.openxmlformats.org/officeDocument/2006/relationships/slideLayout" Target="../slideLayouts/slideLayout1271.xml"/><Relationship Id="rId16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273.xml"/><Relationship Id="rId6" Type="http://schemas.openxmlformats.org/officeDocument/2006/relationships/slideLayout" Target="../slideLayouts/slideLayout1274.xml"/><Relationship Id="rId7" Type="http://schemas.openxmlformats.org/officeDocument/2006/relationships/slideLayout" Target="../slideLayouts/slideLayout1275.xml"/><Relationship Id="rId8" Type="http://schemas.openxmlformats.org/officeDocument/2006/relationships/slideLayout" Target="../slideLayouts/slideLayout1276.xml"/><Relationship Id="rId9" Type="http://schemas.openxmlformats.org/officeDocument/2006/relationships/slideLayout" Target="../slideLayouts/slideLayout1277.xml"/><Relationship Id="rId10" Type="http://schemas.openxmlformats.org/officeDocument/2006/relationships/slideLayout" Target="../slideLayouts/slideLayout1278.xml"/><Relationship Id="rId11" Type="http://schemas.openxmlformats.org/officeDocument/2006/relationships/slideLayout" Target="../slideLayouts/slideLayout1279.xml"/><Relationship Id="rId12" Type="http://schemas.openxmlformats.org/officeDocument/2006/relationships/slideLayout" Target="../slideLayouts/slideLayout1280.xml"/><Relationship Id="rId13" Type="http://schemas.openxmlformats.org/officeDocument/2006/relationships/slideLayout" Target="../slideLayouts/slideLayout1281.xml"/><Relationship Id="rId14" Type="http://schemas.openxmlformats.org/officeDocument/2006/relationships/slideLayout" Target="../slideLayouts/slideLayout1282.xml"/><Relationship Id="rId15" Type="http://schemas.openxmlformats.org/officeDocument/2006/relationships/slideLayout" Target="../slideLayouts/slideLayout1283.xml"/><Relationship Id="rId16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285.xml"/><Relationship Id="rId6" Type="http://schemas.openxmlformats.org/officeDocument/2006/relationships/slideLayout" Target="../slideLayouts/slideLayout1286.xml"/><Relationship Id="rId7" Type="http://schemas.openxmlformats.org/officeDocument/2006/relationships/slideLayout" Target="../slideLayouts/slideLayout1287.xml"/><Relationship Id="rId8" Type="http://schemas.openxmlformats.org/officeDocument/2006/relationships/slideLayout" Target="../slideLayouts/slideLayout1288.xml"/><Relationship Id="rId9" Type="http://schemas.openxmlformats.org/officeDocument/2006/relationships/slideLayout" Target="../slideLayouts/slideLayout1289.xml"/><Relationship Id="rId10" Type="http://schemas.openxmlformats.org/officeDocument/2006/relationships/slideLayout" Target="../slideLayouts/slideLayout1290.xml"/><Relationship Id="rId11" Type="http://schemas.openxmlformats.org/officeDocument/2006/relationships/slideLayout" Target="../slideLayouts/slideLayout1291.xml"/><Relationship Id="rId12" Type="http://schemas.openxmlformats.org/officeDocument/2006/relationships/slideLayout" Target="../slideLayouts/slideLayout1292.xml"/><Relationship Id="rId13" Type="http://schemas.openxmlformats.org/officeDocument/2006/relationships/slideLayout" Target="../slideLayouts/slideLayout1293.xml"/><Relationship Id="rId14" Type="http://schemas.openxmlformats.org/officeDocument/2006/relationships/slideLayout" Target="../slideLayouts/slideLayout1294.xml"/><Relationship Id="rId15" Type="http://schemas.openxmlformats.org/officeDocument/2006/relationships/slideLayout" Target="../slideLayouts/slideLayout1295.xml"/><Relationship Id="rId16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297.xml"/><Relationship Id="rId6" Type="http://schemas.openxmlformats.org/officeDocument/2006/relationships/slideLayout" Target="../slideLayouts/slideLayout1298.xml"/><Relationship Id="rId7" Type="http://schemas.openxmlformats.org/officeDocument/2006/relationships/slideLayout" Target="../slideLayouts/slideLayout1299.xml"/><Relationship Id="rId8" Type="http://schemas.openxmlformats.org/officeDocument/2006/relationships/slideLayout" Target="../slideLayouts/slideLayout1300.xml"/><Relationship Id="rId9" Type="http://schemas.openxmlformats.org/officeDocument/2006/relationships/slideLayout" Target="../slideLayouts/slideLayout1301.xml"/><Relationship Id="rId10" Type="http://schemas.openxmlformats.org/officeDocument/2006/relationships/slideLayout" Target="../slideLayouts/slideLayout1302.xml"/><Relationship Id="rId11" Type="http://schemas.openxmlformats.org/officeDocument/2006/relationships/slideLayout" Target="../slideLayouts/slideLayout1303.xml"/><Relationship Id="rId12" Type="http://schemas.openxmlformats.org/officeDocument/2006/relationships/slideLayout" Target="../slideLayouts/slideLayout1304.xml"/><Relationship Id="rId13" Type="http://schemas.openxmlformats.org/officeDocument/2006/relationships/slideLayout" Target="../slideLayouts/slideLayout1305.xml"/><Relationship Id="rId14" Type="http://schemas.openxmlformats.org/officeDocument/2006/relationships/slideLayout" Target="../slideLayouts/slideLayout1306.xml"/><Relationship Id="rId15" Type="http://schemas.openxmlformats.org/officeDocument/2006/relationships/slideLayout" Target="../slideLayouts/slideLayout1307.xml"/><Relationship Id="rId16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09.xml"/><Relationship Id="rId6" Type="http://schemas.openxmlformats.org/officeDocument/2006/relationships/slideLayout" Target="../slideLayouts/slideLayout1310.xml"/><Relationship Id="rId7" Type="http://schemas.openxmlformats.org/officeDocument/2006/relationships/slideLayout" Target="../slideLayouts/slideLayout1311.xml"/><Relationship Id="rId8" Type="http://schemas.openxmlformats.org/officeDocument/2006/relationships/slideLayout" Target="../slideLayouts/slideLayout1312.xml"/><Relationship Id="rId9" Type="http://schemas.openxmlformats.org/officeDocument/2006/relationships/slideLayout" Target="../slideLayouts/slideLayout1313.xml"/><Relationship Id="rId10" Type="http://schemas.openxmlformats.org/officeDocument/2006/relationships/slideLayout" Target="../slideLayouts/slideLayout1314.xml"/><Relationship Id="rId11" Type="http://schemas.openxmlformats.org/officeDocument/2006/relationships/slideLayout" Target="../slideLayouts/slideLayout1315.xml"/><Relationship Id="rId12" Type="http://schemas.openxmlformats.org/officeDocument/2006/relationships/slideLayout" Target="../slideLayouts/slideLayout1316.xml"/><Relationship Id="rId13" Type="http://schemas.openxmlformats.org/officeDocument/2006/relationships/slideLayout" Target="../slideLayouts/slideLayout1317.xml"/><Relationship Id="rId14" Type="http://schemas.openxmlformats.org/officeDocument/2006/relationships/slideLayout" Target="../slideLayouts/slideLayout1318.xml"/><Relationship Id="rId15" Type="http://schemas.openxmlformats.org/officeDocument/2006/relationships/slideLayout" Target="../slideLayouts/slideLayout1319.xml"/><Relationship Id="rId16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21.xml"/><Relationship Id="rId6" Type="http://schemas.openxmlformats.org/officeDocument/2006/relationships/slideLayout" Target="../slideLayouts/slideLayout1322.xml"/><Relationship Id="rId7" Type="http://schemas.openxmlformats.org/officeDocument/2006/relationships/slideLayout" Target="../slideLayouts/slideLayout1323.xml"/><Relationship Id="rId8" Type="http://schemas.openxmlformats.org/officeDocument/2006/relationships/slideLayout" Target="../slideLayouts/slideLayout1324.xml"/><Relationship Id="rId9" Type="http://schemas.openxmlformats.org/officeDocument/2006/relationships/slideLayout" Target="../slideLayouts/slideLayout1325.xml"/><Relationship Id="rId10" Type="http://schemas.openxmlformats.org/officeDocument/2006/relationships/slideLayout" Target="../slideLayouts/slideLayout1326.xml"/><Relationship Id="rId11" Type="http://schemas.openxmlformats.org/officeDocument/2006/relationships/slideLayout" Target="../slideLayouts/slideLayout1327.xml"/><Relationship Id="rId12" Type="http://schemas.openxmlformats.org/officeDocument/2006/relationships/slideLayout" Target="../slideLayouts/slideLayout1328.xml"/><Relationship Id="rId13" Type="http://schemas.openxmlformats.org/officeDocument/2006/relationships/slideLayout" Target="../slideLayouts/slideLayout1329.xml"/><Relationship Id="rId14" Type="http://schemas.openxmlformats.org/officeDocument/2006/relationships/slideLayout" Target="../slideLayouts/slideLayout1330.xml"/><Relationship Id="rId15" Type="http://schemas.openxmlformats.org/officeDocument/2006/relationships/slideLayout" Target="../slideLayouts/slideLayout1331.xml"/><Relationship Id="rId16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33.xml"/><Relationship Id="rId6" Type="http://schemas.openxmlformats.org/officeDocument/2006/relationships/slideLayout" Target="../slideLayouts/slideLayout1334.xml"/><Relationship Id="rId7" Type="http://schemas.openxmlformats.org/officeDocument/2006/relationships/slideLayout" Target="../slideLayouts/slideLayout1335.xml"/><Relationship Id="rId8" Type="http://schemas.openxmlformats.org/officeDocument/2006/relationships/slideLayout" Target="../slideLayouts/slideLayout1336.xml"/><Relationship Id="rId9" Type="http://schemas.openxmlformats.org/officeDocument/2006/relationships/slideLayout" Target="../slideLayouts/slideLayout1337.xml"/><Relationship Id="rId10" Type="http://schemas.openxmlformats.org/officeDocument/2006/relationships/slideLayout" Target="../slideLayouts/slideLayout1338.xml"/><Relationship Id="rId11" Type="http://schemas.openxmlformats.org/officeDocument/2006/relationships/slideLayout" Target="../slideLayouts/slideLayout1339.xml"/><Relationship Id="rId12" Type="http://schemas.openxmlformats.org/officeDocument/2006/relationships/slideLayout" Target="../slideLayouts/slideLayout1340.xml"/><Relationship Id="rId13" Type="http://schemas.openxmlformats.org/officeDocument/2006/relationships/slideLayout" Target="../slideLayouts/slideLayout1341.xml"/><Relationship Id="rId14" Type="http://schemas.openxmlformats.org/officeDocument/2006/relationships/slideLayout" Target="../slideLayouts/slideLayout1342.xml"/><Relationship Id="rId15" Type="http://schemas.openxmlformats.org/officeDocument/2006/relationships/slideLayout" Target="../slideLayouts/slideLayout1343.xml"/><Relationship Id="rId16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45.xml"/><Relationship Id="rId6" Type="http://schemas.openxmlformats.org/officeDocument/2006/relationships/slideLayout" Target="../slideLayouts/slideLayout1346.xml"/><Relationship Id="rId7" Type="http://schemas.openxmlformats.org/officeDocument/2006/relationships/slideLayout" Target="../slideLayouts/slideLayout1347.xml"/><Relationship Id="rId8" Type="http://schemas.openxmlformats.org/officeDocument/2006/relationships/slideLayout" Target="../slideLayouts/slideLayout1348.xml"/><Relationship Id="rId9" Type="http://schemas.openxmlformats.org/officeDocument/2006/relationships/slideLayout" Target="../slideLayouts/slideLayout1349.xml"/><Relationship Id="rId10" Type="http://schemas.openxmlformats.org/officeDocument/2006/relationships/slideLayout" Target="../slideLayouts/slideLayout1350.xml"/><Relationship Id="rId11" Type="http://schemas.openxmlformats.org/officeDocument/2006/relationships/slideLayout" Target="../slideLayouts/slideLayout1351.xml"/><Relationship Id="rId12" Type="http://schemas.openxmlformats.org/officeDocument/2006/relationships/slideLayout" Target="../slideLayouts/slideLayout1352.xml"/><Relationship Id="rId13" Type="http://schemas.openxmlformats.org/officeDocument/2006/relationships/slideLayout" Target="../slideLayouts/slideLayout1353.xml"/><Relationship Id="rId14" Type="http://schemas.openxmlformats.org/officeDocument/2006/relationships/slideLayout" Target="../slideLayouts/slideLayout1354.xml"/><Relationship Id="rId15" Type="http://schemas.openxmlformats.org/officeDocument/2006/relationships/slideLayout" Target="../slideLayouts/slideLayout1355.xml"/><Relationship Id="rId16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57.xml"/><Relationship Id="rId6" Type="http://schemas.openxmlformats.org/officeDocument/2006/relationships/slideLayout" Target="../slideLayouts/slideLayout458.xml"/><Relationship Id="rId7" Type="http://schemas.openxmlformats.org/officeDocument/2006/relationships/slideLayout" Target="../slideLayouts/slideLayout459.xml"/><Relationship Id="rId8" Type="http://schemas.openxmlformats.org/officeDocument/2006/relationships/slideLayout" Target="../slideLayouts/slideLayout460.xml"/><Relationship Id="rId9" Type="http://schemas.openxmlformats.org/officeDocument/2006/relationships/slideLayout" Target="../slideLayouts/slideLayout461.xml"/><Relationship Id="rId10" Type="http://schemas.openxmlformats.org/officeDocument/2006/relationships/slideLayout" Target="../slideLayouts/slideLayout462.xml"/><Relationship Id="rId11" Type="http://schemas.openxmlformats.org/officeDocument/2006/relationships/slideLayout" Target="../slideLayouts/slideLayout463.xml"/><Relationship Id="rId12" Type="http://schemas.openxmlformats.org/officeDocument/2006/relationships/slideLayout" Target="../slideLayouts/slideLayout464.xml"/><Relationship Id="rId13" Type="http://schemas.openxmlformats.org/officeDocument/2006/relationships/slideLayout" Target="../slideLayouts/slideLayout465.xml"/><Relationship Id="rId14" Type="http://schemas.openxmlformats.org/officeDocument/2006/relationships/slideLayout" Target="../slideLayouts/slideLayout466.xml"/><Relationship Id="rId15" Type="http://schemas.openxmlformats.org/officeDocument/2006/relationships/slideLayout" Target="../slideLayouts/slideLayout467.xml"/><Relationship Id="rId16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81.xml"/><Relationship Id="rId6" Type="http://schemas.openxmlformats.org/officeDocument/2006/relationships/slideLayout" Target="../slideLayouts/slideLayout482.xml"/><Relationship Id="rId7" Type="http://schemas.openxmlformats.org/officeDocument/2006/relationships/slideLayout" Target="../slideLayouts/slideLayout483.xml"/><Relationship Id="rId8" Type="http://schemas.openxmlformats.org/officeDocument/2006/relationships/slideLayout" Target="../slideLayouts/slideLayout484.xml"/><Relationship Id="rId9" Type="http://schemas.openxmlformats.org/officeDocument/2006/relationships/slideLayout" Target="../slideLayouts/slideLayout485.xml"/><Relationship Id="rId10" Type="http://schemas.openxmlformats.org/officeDocument/2006/relationships/slideLayout" Target="../slideLayouts/slideLayout486.xml"/><Relationship Id="rId11" Type="http://schemas.openxmlformats.org/officeDocument/2006/relationships/slideLayout" Target="../slideLayouts/slideLayout487.xml"/><Relationship Id="rId12" Type="http://schemas.openxmlformats.org/officeDocument/2006/relationships/slideLayout" Target="../slideLayouts/slideLayout488.xml"/><Relationship Id="rId13" Type="http://schemas.openxmlformats.org/officeDocument/2006/relationships/slideLayout" Target="../slideLayouts/slideLayout489.xml"/><Relationship Id="rId14" Type="http://schemas.openxmlformats.org/officeDocument/2006/relationships/slideLayout" Target="../slideLayouts/slideLayout490.xml"/><Relationship Id="rId15" Type="http://schemas.openxmlformats.org/officeDocument/2006/relationships/slideLayout" Target="../slideLayouts/slideLayout491.xml"/><Relationship Id="rId16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05.xml"/><Relationship Id="rId6" Type="http://schemas.openxmlformats.org/officeDocument/2006/relationships/slideLayout" Target="../slideLayouts/slideLayout506.xml"/><Relationship Id="rId7" Type="http://schemas.openxmlformats.org/officeDocument/2006/relationships/slideLayout" Target="../slideLayouts/slideLayout507.xml"/><Relationship Id="rId8" Type="http://schemas.openxmlformats.org/officeDocument/2006/relationships/slideLayout" Target="../slideLayouts/slideLayout508.xml"/><Relationship Id="rId9" Type="http://schemas.openxmlformats.org/officeDocument/2006/relationships/slideLayout" Target="../slideLayouts/slideLayout509.xml"/><Relationship Id="rId10" Type="http://schemas.openxmlformats.org/officeDocument/2006/relationships/slideLayout" Target="../slideLayouts/slideLayout510.xml"/><Relationship Id="rId11" Type="http://schemas.openxmlformats.org/officeDocument/2006/relationships/slideLayout" Target="../slideLayouts/slideLayout511.xml"/><Relationship Id="rId12" Type="http://schemas.openxmlformats.org/officeDocument/2006/relationships/slideLayout" Target="../slideLayouts/slideLayout512.xml"/><Relationship Id="rId13" Type="http://schemas.openxmlformats.org/officeDocument/2006/relationships/slideLayout" Target="../slideLayouts/slideLayout513.xml"/><Relationship Id="rId14" Type="http://schemas.openxmlformats.org/officeDocument/2006/relationships/slideLayout" Target="../slideLayouts/slideLayout514.xml"/><Relationship Id="rId15" Type="http://schemas.openxmlformats.org/officeDocument/2006/relationships/slideLayout" Target="../slideLayouts/slideLayout515.xml"/><Relationship Id="rId16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17.xml"/><Relationship Id="rId6" Type="http://schemas.openxmlformats.org/officeDocument/2006/relationships/slideLayout" Target="../slideLayouts/slideLayout518.xml"/><Relationship Id="rId7" Type="http://schemas.openxmlformats.org/officeDocument/2006/relationships/slideLayout" Target="../slideLayouts/slideLayout519.xml"/><Relationship Id="rId8" Type="http://schemas.openxmlformats.org/officeDocument/2006/relationships/slideLayout" Target="../slideLayouts/slideLayout520.xml"/><Relationship Id="rId9" Type="http://schemas.openxmlformats.org/officeDocument/2006/relationships/slideLayout" Target="../slideLayouts/slideLayout521.xml"/><Relationship Id="rId10" Type="http://schemas.openxmlformats.org/officeDocument/2006/relationships/slideLayout" Target="../slideLayouts/slideLayout522.xml"/><Relationship Id="rId11" Type="http://schemas.openxmlformats.org/officeDocument/2006/relationships/slideLayout" Target="../slideLayouts/slideLayout523.xml"/><Relationship Id="rId12" Type="http://schemas.openxmlformats.org/officeDocument/2006/relationships/slideLayout" Target="../slideLayouts/slideLayout524.xml"/><Relationship Id="rId13" Type="http://schemas.openxmlformats.org/officeDocument/2006/relationships/slideLayout" Target="../slideLayouts/slideLayout525.xml"/><Relationship Id="rId14" Type="http://schemas.openxmlformats.org/officeDocument/2006/relationships/slideLayout" Target="../slideLayouts/slideLayout526.xml"/><Relationship Id="rId15" Type="http://schemas.openxmlformats.org/officeDocument/2006/relationships/slideLayout" Target="../slideLayouts/slideLayout527.xml"/><Relationship Id="rId16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29.xml"/><Relationship Id="rId6" Type="http://schemas.openxmlformats.org/officeDocument/2006/relationships/slideLayout" Target="../slideLayouts/slideLayout530.xml"/><Relationship Id="rId7" Type="http://schemas.openxmlformats.org/officeDocument/2006/relationships/slideLayout" Target="../slideLayouts/slideLayout531.xml"/><Relationship Id="rId8" Type="http://schemas.openxmlformats.org/officeDocument/2006/relationships/slideLayout" Target="../slideLayouts/slideLayout532.xml"/><Relationship Id="rId9" Type="http://schemas.openxmlformats.org/officeDocument/2006/relationships/slideLayout" Target="../slideLayouts/slideLayout533.xml"/><Relationship Id="rId10" Type="http://schemas.openxmlformats.org/officeDocument/2006/relationships/slideLayout" Target="../slideLayouts/slideLayout534.xml"/><Relationship Id="rId11" Type="http://schemas.openxmlformats.org/officeDocument/2006/relationships/slideLayout" Target="../slideLayouts/slideLayout535.xml"/><Relationship Id="rId12" Type="http://schemas.openxmlformats.org/officeDocument/2006/relationships/slideLayout" Target="../slideLayouts/slideLayout536.xml"/><Relationship Id="rId13" Type="http://schemas.openxmlformats.org/officeDocument/2006/relationships/slideLayout" Target="../slideLayouts/slideLayout537.xml"/><Relationship Id="rId14" Type="http://schemas.openxmlformats.org/officeDocument/2006/relationships/slideLayout" Target="../slideLayouts/slideLayout538.xml"/><Relationship Id="rId15" Type="http://schemas.openxmlformats.org/officeDocument/2006/relationships/slideLayout" Target="../slideLayouts/slideLayout539.xml"/><Relationship Id="rId16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41.xml"/><Relationship Id="rId6" Type="http://schemas.openxmlformats.org/officeDocument/2006/relationships/slideLayout" Target="../slideLayouts/slideLayout542.xml"/><Relationship Id="rId7" Type="http://schemas.openxmlformats.org/officeDocument/2006/relationships/slideLayout" Target="../slideLayouts/slideLayout543.xml"/><Relationship Id="rId8" Type="http://schemas.openxmlformats.org/officeDocument/2006/relationships/slideLayout" Target="../slideLayouts/slideLayout544.xml"/><Relationship Id="rId9" Type="http://schemas.openxmlformats.org/officeDocument/2006/relationships/slideLayout" Target="../slideLayouts/slideLayout545.xml"/><Relationship Id="rId10" Type="http://schemas.openxmlformats.org/officeDocument/2006/relationships/slideLayout" Target="../slideLayouts/slideLayout546.xml"/><Relationship Id="rId11" Type="http://schemas.openxmlformats.org/officeDocument/2006/relationships/slideLayout" Target="../slideLayouts/slideLayout547.xml"/><Relationship Id="rId12" Type="http://schemas.openxmlformats.org/officeDocument/2006/relationships/slideLayout" Target="../slideLayouts/slideLayout548.xml"/><Relationship Id="rId13" Type="http://schemas.openxmlformats.org/officeDocument/2006/relationships/slideLayout" Target="../slideLayouts/slideLayout549.xml"/><Relationship Id="rId14" Type="http://schemas.openxmlformats.org/officeDocument/2006/relationships/slideLayout" Target="../slideLayouts/slideLayout550.xml"/><Relationship Id="rId15" Type="http://schemas.openxmlformats.org/officeDocument/2006/relationships/slideLayout" Target="../slideLayouts/slideLayout551.xml"/><Relationship Id="rId16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53.xml"/><Relationship Id="rId6" Type="http://schemas.openxmlformats.org/officeDocument/2006/relationships/slideLayout" Target="../slideLayouts/slideLayout554.xml"/><Relationship Id="rId7" Type="http://schemas.openxmlformats.org/officeDocument/2006/relationships/slideLayout" Target="../slideLayouts/slideLayout555.xml"/><Relationship Id="rId8" Type="http://schemas.openxmlformats.org/officeDocument/2006/relationships/slideLayout" Target="../slideLayouts/slideLayout556.xml"/><Relationship Id="rId9" Type="http://schemas.openxmlformats.org/officeDocument/2006/relationships/slideLayout" Target="../slideLayouts/slideLayout557.xml"/><Relationship Id="rId10" Type="http://schemas.openxmlformats.org/officeDocument/2006/relationships/slideLayout" Target="../slideLayouts/slideLayout558.xml"/><Relationship Id="rId11" Type="http://schemas.openxmlformats.org/officeDocument/2006/relationships/slideLayout" Target="../slideLayouts/slideLayout559.xml"/><Relationship Id="rId12" Type="http://schemas.openxmlformats.org/officeDocument/2006/relationships/slideLayout" Target="../slideLayouts/slideLayout560.xml"/><Relationship Id="rId13" Type="http://schemas.openxmlformats.org/officeDocument/2006/relationships/slideLayout" Target="../slideLayouts/slideLayout561.xml"/><Relationship Id="rId14" Type="http://schemas.openxmlformats.org/officeDocument/2006/relationships/slideLayout" Target="../slideLayouts/slideLayout562.xml"/><Relationship Id="rId15" Type="http://schemas.openxmlformats.org/officeDocument/2006/relationships/slideLayout" Target="../slideLayouts/slideLayout563.xml"/><Relationship Id="rId16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65.xml"/><Relationship Id="rId6" Type="http://schemas.openxmlformats.org/officeDocument/2006/relationships/slideLayout" Target="../slideLayouts/slideLayout566.xml"/><Relationship Id="rId7" Type="http://schemas.openxmlformats.org/officeDocument/2006/relationships/slideLayout" Target="../slideLayouts/slideLayout567.xml"/><Relationship Id="rId8" Type="http://schemas.openxmlformats.org/officeDocument/2006/relationships/slideLayout" Target="../slideLayouts/slideLayout568.xml"/><Relationship Id="rId9" Type="http://schemas.openxmlformats.org/officeDocument/2006/relationships/slideLayout" Target="../slideLayouts/slideLayout569.xml"/><Relationship Id="rId10" Type="http://schemas.openxmlformats.org/officeDocument/2006/relationships/slideLayout" Target="../slideLayouts/slideLayout570.xml"/><Relationship Id="rId11" Type="http://schemas.openxmlformats.org/officeDocument/2006/relationships/slideLayout" Target="../slideLayouts/slideLayout571.xml"/><Relationship Id="rId12" Type="http://schemas.openxmlformats.org/officeDocument/2006/relationships/slideLayout" Target="../slideLayouts/slideLayout572.xml"/><Relationship Id="rId13" Type="http://schemas.openxmlformats.org/officeDocument/2006/relationships/slideLayout" Target="../slideLayouts/slideLayout573.xml"/><Relationship Id="rId14" Type="http://schemas.openxmlformats.org/officeDocument/2006/relationships/slideLayout" Target="../slideLayouts/slideLayout574.xml"/><Relationship Id="rId15" Type="http://schemas.openxmlformats.org/officeDocument/2006/relationships/slideLayout" Target="../slideLayouts/slideLayout575.xml"/><Relationship Id="rId16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77.xml"/><Relationship Id="rId6" Type="http://schemas.openxmlformats.org/officeDocument/2006/relationships/slideLayout" Target="../slideLayouts/slideLayout578.xml"/><Relationship Id="rId7" Type="http://schemas.openxmlformats.org/officeDocument/2006/relationships/slideLayout" Target="../slideLayouts/slideLayout579.xml"/><Relationship Id="rId8" Type="http://schemas.openxmlformats.org/officeDocument/2006/relationships/slideLayout" Target="../slideLayouts/slideLayout580.xml"/><Relationship Id="rId9" Type="http://schemas.openxmlformats.org/officeDocument/2006/relationships/slideLayout" Target="../slideLayouts/slideLayout581.xml"/><Relationship Id="rId10" Type="http://schemas.openxmlformats.org/officeDocument/2006/relationships/slideLayout" Target="../slideLayouts/slideLayout582.xml"/><Relationship Id="rId11" Type="http://schemas.openxmlformats.org/officeDocument/2006/relationships/slideLayout" Target="../slideLayouts/slideLayout583.xml"/><Relationship Id="rId12" Type="http://schemas.openxmlformats.org/officeDocument/2006/relationships/slideLayout" Target="../slideLayouts/slideLayout584.xml"/><Relationship Id="rId13" Type="http://schemas.openxmlformats.org/officeDocument/2006/relationships/slideLayout" Target="../slideLayouts/slideLayout585.xml"/><Relationship Id="rId14" Type="http://schemas.openxmlformats.org/officeDocument/2006/relationships/slideLayout" Target="../slideLayouts/slideLayout586.xml"/><Relationship Id="rId15" Type="http://schemas.openxmlformats.org/officeDocument/2006/relationships/slideLayout" Target="../slideLayouts/slideLayout587.xml"/><Relationship Id="rId16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89.xml"/><Relationship Id="rId6" Type="http://schemas.openxmlformats.org/officeDocument/2006/relationships/slideLayout" Target="../slideLayouts/slideLayout590.xml"/><Relationship Id="rId7" Type="http://schemas.openxmlformats.org/officeDocument/2006/relationships/slideLayout" Target="../slideLayouts/slideLayout591.xml"/><Relationship Id="rId8" Type="http://schemas.openxmlformats.org/officeDocument/2006/relationships/slideLayout" Target="../slideLayouts/slideLayout592.xml"/><Relationship Id="rId9" Type="http://schemas.openxmlformats.org/officeDocument/2006/relationships/slideLayout" Target="../slideLayouts/slideLayout593.xml"/><Relationship Id="rId10" Type="http://schemas.openxmlformats.org/officeDocument/2006/relationships/slideLayout" Target="../slideLayouts/slideLayout594.xml"/><Relationship Id="rId11" Type="http://schemas.openxmlformats.org/officeDocument/2006/relationships/slideLayout" Target="../slideLayouts/slideLayout595.xml"/><Relationship Id="rId12" Type="http://schemas.openxmlformats.org/officeDocument/2006/relationships/slideLayout" Target="../slideLayouts/slideLayout596.xml"/><Relationship Id="rId13" Type="http://schemas.openxmlformats.org/officeDocument/2006/relationships/slideLayout" Target="../slideLayouts/slideLayout597.xml"/><Relationship Id="rId14" Type="http://schemas.openxmlformats.org/officeDocument/2006/relationships/slideLayout" Target="../slideLayouts/slideLayout598.xml"/><Relationship Id="rId15" Type="http://schemas.openxmlformats.org/officeDocument/2006/relationships/slideLayout" Target="../slideLayouts/slideLayout599.xml"/><Relationship Id="rId16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601.xml"/><Relationship Id="rId6" Type="http://schemas.openxmlformats.org/officeDocument/2006/relationships/slideLayout" Target="../slideLayouts/slideLayout602.xml"/><Relationship Id="rId7" Type="http://schemas.openxmlformats.org/officeDocument/2006/relationships/slideLayout" Target="../slideLayouts/slideLayout603.xml"/><Relationship Id="rId8" Type="http://schemas.openxmlformats.org/officeDocument/2006/relationships/slideLayout" Target="../slideLayouts/slideLayout604.xml"/><Relationship Id="rId9" Type="http://schemas.openxmlformats.org/officeDocument/2006/relationships/slideLayout" Target="../slideLayouts/slideLayout605.xml"/><Relationship Id="rId10" Type="http://schemas.openxmlformats.org/officeDocument/2006/relationships/slideLayout" Target="../slideLayouts/slideLayout606.xml"/><Relationship Id="rId11" Type="http://schemas.openxmlformats.org/officeDocument/2006/relationships/slideLayout" Target="../slideLayouts/slideLayout607.xml"/><Relationship Id="rId12" Type="http://schemas.openxmlformats.org/officeDocument/2006/relationships/slideLayout" Target="../slideLayouts/slideLayout608.xml"/><Relationship Id="rId13" Type="http://schemas.openxmlformats.org/officeDocument/2006/relationships/slideLayout" Target="../slideLayouts/slideLayout609.xml"/><Relationship Id="rId14" Type="http://schemas.openxmlformats.org/officeDocument/2006/relationships/slideLayout" Target="../slideLayouts/slideLayout610.xml"/><Relationship Id="rId15" Type="http://schemas.openxmlformats.org/officeDocument/2006/relationships/slideLayout" Target="../slideLayouts/slideLayout611.xml"/><Relationship Id="rId16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613.xml"/><Relationship Id="rId6" Type="http://schemas.openxmlformats.org/officeDocument/2006/relationships/slideLayout" Target="../slideLayouts/slideLayout614.xml"/><Relationship Id="rId7" Type="http://schemas.openxmlformats.org/officeDocument/2006/relationships/slideLayout" Target="../slideLayouts/slideLayout615.xml"/><Relationship Id="rId8" Type="http://schemas.openxmlformats.org/officeDocument/2006/relationships/slideLayout" Target="../slideLayouts/slideLayout616.xml"/><Relationship Id="rId9" Type="http://schemas.openxmlformats.org/officeDocument/2006/relationships/slideLayout" Target="../slideLayouts/slideLayout617.xml"/><Relationship Id="rId10" Type="http://schemas.openxmlformats.org/officeDocument/2006/relationships/slideLayout" Target="../slideLayouts/slideLayout618.xml"/><Relationship Id="rId11" Type="http://schemas.openxmlformats.org/officeDocument/2006/relationships/slideLayout" Target="../slideLayouts/slideLayout619.xml"/><Relationship Id="rId12" Type="http://schemas.openxmlformats.org/officeDocument/2006/relationships/slideLayout" Target="../slideLayouts/slideLayout620.xml"/><Relationship Id="rId13" Type="http://schemas.openxmlformats.org/officeDocument/2006/relationships/slideLayout" Target="../slideLayouts/slideLayout621.xml"/><Relationship Id="rId14" Type="http://schemas.openxmlformats.org/officeDocument/2006/relationships/slideLayout" Target="../slideLayouts/slideLayout622.xml"/><Relationship Id="rId15" Type="http://schemas.openxmlformats.org/officeDocument/2006/relationships/slideLayout" Target="../slideLayouts/slideLayout623.xml"/><Relationship Id="rId16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625.xml"/><Relationship Id="rId6" Type="http://schemas.openxmlformats.org/officeDocument/2006/relationships/slideLayout" Target="../slideLayouts/slideLayout626.xml"/><Relationship Id="rId7" Type="http://schemas.openxmlformats.org/officeDocument/2006/relationships/slideLayout" Target="../slideLayouts/slideLayout627.xml"/><Relationship Id="rId8" Type="http://schemas.openxmlformats.org/officeDocument/2006/relationships/slideLayout" Target="../slideLayouts/slideLayout628.xml"/><Relationship Id="rId9" Type="http://schemas.openxmlformats.org/officeDocument/2006/relationships/slideLayout" Target="../slideLayouts/slideLayout629.xml"/><Relationship Id="rId10" Type="http://schemas.openxmlformats.org/officeDocument/2006/relationships/slideLayout" Target="../slideLayouts/slideLayout630.xml"/><Relationship Id="rId11" Type="http://schemas.openxmlformats.org/officeDocument/2006/relationships/slideLayout" Target="../slideLayouts/slideLayout631.xml"/><Relationship Id="rId12" Type="http://schemas.openxmlformats.org/officeDocument/2006/relationships/slideLayout" Target="../slideLayouts/slideLayout632.xml"/><Relationship Id="rId13" Type="http://schemas.openxmlformats.org/officeDocument/2006/relationships/slideLayout" Target="../slideLayouts/slideLayout633.xml"/><Relationship Id="rId14" Type="http://schemas.openxmlformats.org/officeDocument/2006/relationships/slideLayout" Target="../slideLayouts/slideLayout634.xml"/><Relationship Id="rId15" Type="http://schemas.openxmlformats.org/officeDocument/2006/relationships/slideLayout" Target="../slideLayouts/slideLayout635.xml"/><Relationship Id="rId16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637.xml"/><Relationship Id="rId6" Type="http://schemas.openxmlformats.org/officeDocument/2006/relationships/slideLayout" Target="../slideLayouts/slideLayout638.xml"/><Relationship Id="rId7" Type="http://schemas.openxmlformats.org/officeDocument/2006/relationships/slideLayout" Target="../slideLayouts/slideLayout639.xml"/><Relationship Id="rId8" Type="http://schemas.openxmlformats.org/officeDocument/2006/relationships/slideLayout" Target="../slideLayouts/slideLayout640.xml"/><Relationship Id="rId9" Type="http://schemas.openxmlformats.org/officeDocument/2006/relationships/slideLayout" Target="../slideLayouts/slideLayout641.xml"/><Relationship Id="rId10" Type="http://schemas.openxmlformats.org/officeDocument/2006/relationships/slideLayout" Target="../slideLayouts/slideLayout642.xml"/><Relationship Id="rId11" Type="http://schemas.openxmlformats.org/officeDocument/2006/relationships/slideLayout" Target="../slideLayouts/slideLayout643.xml"/><Relationship Id="rId12" Type="http://schemas.openxmlformats.org/officeDocument/2006/relationships/slideLayout" Target="../slideLayouts/slideLayout644.xml"/><Relationship Id="rId13" Type="http://schemas.openxmlformats.org/officeDocument/2006/relationships/slideLayout" Target="../slideLayouts/slideLayout645.xml"/><Relationship Id="rId14" Type="http://schemas.openxmlformats.org/officeDocument/2006/relationships/slideLayout" Target="../slideLayouts/slideLayout646.xml"/><Relationship Id="rId15" Type="http://schemas.openxmlformats.org/officeDocument/2006/relationships/slideLayout" Target="../slideLayouts/slideLayout647.xml"/><Relationship Id="rId16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649.xml"/><Relationship Id="rId6" Type="http://schemas.openxmlformats.org/officeDocument/2006/relationships/slideLayout" Target="../slideLayouts/slideLayout650.xml"/><Relationship Id="rId7" Type="http://schemas.openxmlformats.org/officeDocument/2006/relationships/slideLayout" Target="../slideLayouts/slideLayout651.xml"/><Relationship Id="rId8" Type="http://schemas.openxmlformats.org/officeDocument/2006/relationships/slideLayout" Target="../slideLayouts/slideLayout652.xml"/><Relationship Id="rId9" Type="http://schemas.openxmlformats.org/officeDocument/2006/relationships/slideLayout" Target="../slideLayouts/slideLayout653.xml"/><Relationship Id="rId10" Type="http://schemas.openxmlformats.org/officeDocument/2006/relationships/slideLayout" Target="../slideLayouts/slideLayout654.xml"/><Relationship Id="rId11" Type="http://schemas.openxmlformats.org/officeDocument/2006/relationships/slideLayout" Target="../slideLayouts/slideLayout655.xml"/><Relationship Id="rId12" Type="http://schemas.openxmlformats.org/officeDocument/2006/relationships/slideLayout" Target="../slideLayouts/slideLayout656.xml"/><Relationship Id="rId13" Type="http://schemas.openxmlformats.org/officeDocument/2006/relationships/slideLayout" Target="../slideLayouts/slideLayout657.xml"/><Relationship Id="rId14" Type="http://schemas.openxmlformats.org/officeDocument/2006/relationships/slideLayout" Target="../slideLayouts/slideLayout658.xml"/><Relationship Id="rId15" Type="http://schemas.openxmlformats.org/officeDocument/2006/relationships/slideLayout" Target="../slideLayouts/slideLayout659.xml"/><Relationship Id="rId16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661.xml"/><Relationship Id="rId6" Type="http://schemas.openxmlformats.org/officeDocument/2006/relationships/slideLayout" Target="../slideLayouts/slideLayout662.xml"/><Relationship Id="rId7" Type="http://schemas.openxmlformats.org/officeDocument/2006/relationships/slideLayout" Target="../slideLayouts/slideLayout663.xml"/><Relationship Id="rId8" Type="http://schemas.openxmlformats.org/officeDocument/2006/relationships/slideLayout" Target="../slideLayouts/slideLayout664.xml"/><Relationship Id="rId9" Type="http://schemas.openxmlformats.org/officeDocument/2006/relationships/slideLayout" Target="../slideLayouts/slideLayout665.xml"/><Relationship Id="rId10" Type="http://schemas.openxmlformats.org/officeDocument/2006/relationships/slideLayout" Target="../slideLayouts/slideLayout666.xml"/><Relationship Id="rId11" Type="http://schemas.openxmlformats.org/officeDocument/2006/relationships/slideLayout" Target="../slideLayouts/slideLayout667.xml"/><Relationship Id="rId12" Type="http://schemas.openxmlformats.org/officeDocument/2006/relationships/slideLayout" Target="../slideLayouts/slideLayout668.xml"/><Relationship Id="rId13" Type="http://schemas.openxmlformats.org/officeDocument/2006/relationships/slideLayout" Target="../slideLayouts/slideLayout669.xml"/><Relationship Id="rId14" Type="http://schemas.openxmlformats.org/officeDocument/2006/relationships/slideLayout" Target="../slideLayouts/slideLayout670.xml"/><Relationship Id="rId15" Type="http://schemas.openxmlformats.org/officeDocument/2006/relationships/slideLayout" Target="../slideLayouts/slideLayout671.xml"/><Relationship Id="rId16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673.xml"/><Relationship Id="rId6" Type="http://schemas.openxmlformats.org/officeDocument/2006/relationships/slideLayout" Target="../slideLayouts/slideLayout674.xml"/><Relationship Id="rId7" Type="http://schemas.openxmlformats.org/officeDocument/2006/relationships/slideLayout" Target="../slideLayouts/slideLayout675.xml"/><Relationship Id="rId8" Type="http://schemas.openxmlformats.org/officeDocument/2006/relationships/slideLayout" Target="../slideLayouts/slideLayout676.xml"/><Relationship Id="rId9" Type="http://schemas.openxmlformats.org/officeDocument/2006/relationships/slideLayout" Target="../slideLayouts/slideLayout677.xml"/><Relationship Id="rId10" Type="http://schemas.openxmlformats.org/officeDocument/2006/relationships/slideLayout" Target="../slideLayouts/slideLayout678.xml"/><Relationship Id="rId11" Type="http://schemas.openxmlformats.org/officeDocument/2006/relationships/slideLayout" Target="../slideLayouts/slideLayout679.xml"/><Relationship Id="rId12" Type="http://schemas.openxmlformats.org/officeDocument/2006/relationships/slideLayout" Target="../slideLayouts/slideLayout680.xml"/><Relationship Id="rId13" Type="http://schemas.openxmlformats.org/officeDocument/2006/relationships/slideLayout" Target="../slideLayouts/slideLayout681.xml"/><Relationship Id="rId14" Type="http://schemas.openxmlformats.org/officeDocument/2006/relationships/slideLayout" Target="../slideLayouts/slideLayout682.xml"/><Relationship Id="rId15" Type="http://schemas.openxmlformats.org/officeDocument/2006/relationships/slideLayout" Target="../slideLayouts/slideLayout683.xml"/><Relationship Id="rId16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685.xml"/><Relationship Id="rId6" Type="http://schemas.openxmlformats.org/officeDocument/2006/relationships/slideLayout" Target="../slideLayouts/slideLayout686.xml"/><Relationship Id="rId7" Type="http://schemas.openxmlformats.org/officeDocument/2006/relationships/slideLayout" Target="../slideLayouts/slideLayout687.xml"/><Relationship Id="rId8" Type="http://schemas.openxmlformats.org/officeDocument/2006/relationships/slideLayout" Target="../slideLayouts/slideLayout688.xml"/><Relationship Id="rId9" Type="http://schemas.openxmlformats.org/officeDocument/2006/relationships/slideLayout" Target="../slideLayouts/slideLayout689.xml"/><Relationship Id="rId10" Type="http://schemas.openxmlformats.org/officeDocument/2006/relationships/slideLayout" Target="../slideLayouts/slideLayout690.xml"/><Relationship Id="rId11" Type="http://schemas.openxmlformats.org/officeDocument/2006/relationships/slideLayout" Target="../slideLayouts/slideLayout691.xml"/><Relationship Id="rId12" Type="http://schemas.openxmlformats.org/officeDocument/2006/relationships/slideLayout" Target="../slideLayouts/slideLayout692.xml"/><Relationship Id="rId13" Type="http://schemas.openxmlformats.org/officeDocument/2006/relationships/slideLayout" Target="../slideLayouts/slideLayout693.xml"/><Relationship Id="rId14" Type="http://schemas.openxmlformats.org/officeDocument/2006/relationships/slideLayout" Target="../slideLayouts/slideLayout694.xml"/><Relationship Id="rId15" Type="http://schemas.openxmlformats.org/officeDocument/2006/relationships/slideLayout" Target="../slideLayouts/slideLayout695.xml"/><Relationship Id="rId16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697.xml"/><Relationship Id="rId6" Type="http://schemas.openxmlformats.org/officeDocument/2006/relationships/slideLayout" Target="../slideLayouts/slideLayout698.xml"/><Relationship Id="rId7" Type="http://schemas.openxmlformats.org/officeDocument/2006/relationships/slideLayout" Target="../slideLayouts/slideLayout699.xml"/><Relationship Id="rId8" Type="http://schemas.openxmlformats.org/officeDocument/2006/relationships/slideLayout" Target="../slideLayouts/slideLayout700.xml"/><Relationship Id="rId9" Type="http://schemas.openxmlformats.org/officeDocument/2006/relationships/slideLayout" Target="../slideLayouts/slideLayout701.xml"/><Relationship Id="rId10" Type="http://schemas.openxmlformats.org/officeDocument/2006/relationships/slideLayout" Target="../slideLayouts/slideLayout702.xml"/><Relationship Id="rId11" Type="http://schemas.openxmlformats.org/officeDocument/2006/relationships/slideLayout" Target="../slideLayouts/slideLayout703.xml"/><Relationship Id="rId12" Type="http://schemas.openxmlformats.org/officeDocument/2006/relationships/slideLayout" Target="../slideLayouts/slideLayout704.xml"/><Relationship Id="rId13" Type="http://schemas.openxmlformats.org/officeDocument/2006/relationships/slideLayout" Target="../slideLayouts/slideLayout705.xml"/><Relationship Id="rId14" Type="http://schemas.openxmlformats.org/officeDocument/2006/relationships/slideLayout" Target="../slideLayouts/slideLayout706.xml"/><Relationship Id="rId15" Type="http://schemas.openxmlformats.org/officeDocument/2006/relationships/slideLayout" Target="../slideLayouts/slideLayout707.xml"/><Relationship Id="rId16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709.xml"/><Relationship Id="rId6" Type="http://schemas.openxmlformats.org/officeDocument/2006/relationships/slideLayout" Target="../slideLayouts/slideLayout710.xml"/><Relationship Id="rId7" Type="http://schemas.openxmlformats.org/officeDocument/2006/relationships/slideLayout" Target="../slideLayouts/slideLayout711.xml"/><Relationship Id="rId8" Type="http://schemas.openxmlformats.org/officeDocument/2006/relationships/slideLayout" Target="../slideLayouts/slideLayout712.xml"/><Relationship Id="rId9" Type="http://schemas.openxmlformats.org/officeDocument/2006/relationships/slideLayout" Target="../slideLayouts/slideLayout713.xml"/><Relationship Id="rId10" Type="http://schemas.openxmlformats.org/officeDocument/2006/relationships/slideLayout" Target="../slideLayouts/slideLayout714.xml"/><Relationship Id="rId11" Type="http://schemas.openxmlformats.org/officeDocument/2006/relationships/slideLayout" Target="../slideLayouts/slideLayout715.xml"/><Relationship Id="rId12" Type="http://schemas.openxmlformats.org/officeDocument/2006/relationships/slideLayout" Target="../slideLayouts/slideLayout716.xml"/><Relationship Id="rId13" Type="http://schemas.openxmlformats.org/officeDocument/2006/relationships/slideLayout" Target="../slideLayouts/slideLayout717.xml"/><Relationship Id="rId14" Type="http://schemas.openxmlformats.org/officeDocument/2006/relationships/slideLayout" Target="../slideLayouts/slideLayout718.xml"/><Relationship Id="rId15" Type="http://schemas.openxmlformats.org/officeDocument/2006/relationships/slideLayout" Target="../slideLayouts/slideLayout719.xml"/><Relationship Id="rId16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721.xml"/><Relationship Id="rId6" Type="http://schemas.openxmlformats.org/officeDocument/2006/relationships/slideLayout" Target="../slideLayouts/slideLayout722.xml"/><Relationship Id="rId7" Type="http://schemas.openxmlformats.org/officeDocument/2006/relationships/slideLayout" Target="../slideLayouts/slideLayout723.xml"/><Relationship Id="rId8" Type="http://schemas.openxmlformats.org/officeDocument/2006/relationships/slideLayout" Target="../slideLayouts/slideLayout724.xml"/><Relationship Id="rId9" Type="http://schemas.openxmlformats.org/officeDocument/2006/relationships/slideLayout" Target="../slideLayouts/slideLayout725.xml"/><Relationship Id="rId10" Type="http://schemas.openxmlformats.org/officeDocument/2006/relationships/slideLayout" Target="../slideLayouts/slideLayout726.xml"/><Relationship Id="rId11" Type="http://schemas.openxmlformats.org/officeDocument/2006/relationships/slideLayout" Target="../slideLayouts/slideLayout727.xml"/><Relationship Id="rId12" Type="http://schemas.openxmlformats.org/officeDocument/2006/relationships/slideLayout" Target="../slideLayouts/slideLayout728.xml"/><Relationship Id="rId13" Type="http://schemas.openxmlformats.org/officeDocument/2006/relationships/slideLayout" Target="../slideLayouts/slideLayout729.xml"/><Relationship Id="rId14" Type="http://schemas.openxmlformats.org/officeDocument/2006/relationships/slideLayout" Target="../slideLayouts/slideLayout730.xml"/><Relationship Id="rId15" Type="http://schemas.openxmlformats.org/officeDocument/2006/relationships/slideLayout" Target="../slideLayouts/slideLayout731.xml"/><Relationship Id="rId16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733.xml"/><Relationship Id="rId6" Type="http://schemas.openxmlformats.org/officeDocument/2006/relationships/slideLayout" Target="../slideLayouts/slideLayout734.xml"/><Relationship Id="rId7" Type="http://schemas.openxmlformats.org/officeDocument/2006/relationships/slideLayout" Target="../slideLayouts/slideLayout735.xml"/><Relationship Id="rId8" Type="http://schemas.openxmlformats.org/officeDocument/2006/relationships/slideLayout" Target="../slideLayouts/slideLayout736.xml"/><Relationship Id="rId9" Type="http://schemas.openxmlformats.org/officeDocument/2006/relationships/slideLayout" Target="../slideLayouts/slideLayout737.xml"/><Relationship Id="rId10" Type="http://schemas.openxmlformats.org/officeDocument/2006/relationships/slideLayout" Target="../slideLayouts/slideLayout738.xml"/><Relationship Id="rId11" Type="http://schemas.openxmlformats.org/officeDocument/2006/relationships/slideLayout" Target="../slideLayouts/slideLayout739.xml"/><Relationship Id="rId12" Type="http://schemas.openxmlformats.org/officeDocument/2006/relationships/slideLayout" Target="../slideLayouts/slideLayout740.xml"/><Relationship Id="rId13" Type="http://schemas.openxmlformats.org/officeDocument/2006/relationships/slideLayout" Target="../slideLayouts/slideLayout741.xml"/><Relationship Id="rId14" Type="http://schemas.openxmlformats.org/officeDocument/2006/relationships/slideLayout" Target="../slideLayouts/slideLayout742.xml"/><Relationship Id="rId15" Type="http://schemas.openxmlformats.org/officeDocument/2006/relationships/slideLayout" Target="../slideLayouts/slideLayout743.xml"/><Relationship Id="rId16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745.xml"/><Relationship Id="rId6" Type="http://schemas.openxmlformats.org/officeDocument/2006/relationships/slideLayout" Target="../slideLayouts/slideLayout746.xml"/><Relationship Id="rId7" Type="http://schemas.openxmlformats.org/officeDocument/2006/relationships/slideLayout" Target="../slideLayouts/slideLayout747.xml"/><Relationship Id="rId8" Type="http://schemas.openxmlformats.org/officeDocument/2006/relationships/slideLayout" Target="../slideLayouts/slideLayout748.xml"/><Relationship Id="rId9" Type="http://schemas.openxmlformats.org/officeDocument/2006/relationships/slideLayout" Target="../slideLayouts/slideLayout749.xml"/><Relationship Id="rId10" Type="http://schemas.openxmlformats.org/officeDocument/2006/relationships/slideLayout" Target="../slideLayouts/slideLayout750.xml"/><Relationship Id="rId11" Type="http://schemas.openxmlformats.org/officeDocument/2006/relationships/slideLayout" Target="../slideLayouts/slideLayout751.xml"/><Relationship Id="rId12" Type="http://schemas.openxmlformats.org/officeDocument/2006/relationships/slideLayout" Target="../slideLayouts/slideLayout752.xml"/><Relationship Id="rId13" Type="http://schemas.openxmlformats.org/officeDocument/2006/relationships/slideLayout" Target="../slideLayouts/slideLayout753.xml"/><Relationship Id="rId14" Type="http://schemas.openxmlformats.org/officeDocument/2006/relationships/slideLayout" Target="../slideLayouts/slideLayout754.xml"/><Relationship Id="rId15" Type="http://schemas.openxmlformats.org/officeDocument/2006/relationships/slideLayout" Target="../slideLayouts/slideLayout755.xml"/><Relationship Id="rId16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757.xml"/><Relationship Id="rId6" Type="http://schemas.openxmlformats.org/officeDocument/2006/relationships/slideLayout" Target="../slideLayouts/slideLayout758.xml"/><Relationship Id="rId7" Type="http://schemas.openxmlformats.org/officeDocument/2006/relationships/slideLayout" Target="../slideLayouts/slideLayout759.xml"/><Relationship Id="rId8" Type="http://schemas.openxmlformats.org/officeDocument/2006/relationships/slideLayout" Target="../slideLayouts/slideLayout760.xml"/><Relationship Id="rId9" Type="http://schemas.openxmlformats.org/officeDocument/2006/relationships/slideLayout" Target="../slideLayouts/slideLayout761.xml"/><Relationship Id="rId10" Type="http://schemas.openxmlformats.org/officeDocument/2006/relationships/slideLayout" Target="../slideLayouts/slideLayout762.xml"/><Relationship Id="rId11" Type="http://schemas.openxmlformats.org/officeDocument/2006/relationships/slideLayout" Target="../slideLayouts/slideLayout763.xml"/><Relationship Id="rId12" Type="http://schemas.openxmlformats.org/officeDocument/2006/relationships/slideLayout" Target="../slideLayouts/slideLayout764.xml"/><Relationship Id="rId13" Type="http://schemas.openxmlformats.org/officeDocument/2006/relationships/slideLayout" Target="../slideLayouts/slideLayout765.xml"/><Relationship Id="rId14" Type="http://schemas.openxmlformats.org/officeDocument/2006/relationships/slideLayout" Target="../slideLayouts/slideLayout766.xml"/><Relationship Id="rId15" Type="http://schemas.openxmlformats.org/officeDocument/2006/relationships/slideLayout" Target="../slideLayouts/slideLayout767.xml"/><Relationship Id="rId16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769.xml"/><Relationship Id="rId6" Type="http://schemas.openxmlformats.org/officeDocument/2006/relationships/slideLayout" Target="../slideLayouts/slideLayout770.xml"/><Relationship Id="rId7" Type="http://schemas.openxmlformats.org/officeDocument/2006/relationships/slideLayout" Target="../slideLayouts/slideLayout771.xml"/><Relationship Id="rId8" Type="http://schemas.openxmlformats.org/officeDocument/2006/relationships/slideLayout" Target="../slideLayouts/slideLayout772.xml"/><Relationship Id="rId9" Type="http://schemas.openxmlformats.org/officeDocument/2006/relationships/slideLayout" Target="../slideLayouts/slideLayout773.xml"/><Relationship Id="rId10" Type="http://schemas.openxmlformats.org/officeDocument/2006/relationships/slideLayout" Target="../slideLayouts/slideLayout774.xml"/><Relationship Id="rId11" Type="http://schemas.openxmlformats.org/officeDocument/2006/relationships/slideLayout" Target="../slideLayouts/slideLayout775.xml"/><Relationship Id="rId12" Type="http://schemas.openxmlformats.org/officeDocument/2006/relationships/slideLayout" Target="../slideLayouts/slideLayout776.xml"/><Relationship Id="rId13" Type="http://schemas.openxmlformats.org/officeDocument/2006/relationships/slideLayout" Target="../slideLayouts/slideLayout777.xml"/><Relationship Id="rId14" Type="http://schemas.openxmlformats.org/officeDocument/2006/relationships/slideLayout" Target="../slideLayouts/slideLayout778.xml"/><Relationship Id="rId15" Type="http://schemas.openxmlformats.org/officeDocument/2006/relationships/slideLayout" Target="../slideLayouts/slideLayout779.xml"/><Relationship Id="rId16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781.xml"/><Relationship Id="rId6" Type="http://schemas.openxmlformats.org/officeDocument/2006/relationships/slideLayout" Target="../slideLayouts/slideLayout782.xml"/><Relationship Id="rId7" Type="http://schemas.openxmlformats.org/officeDocument/2006/relationships/slideLayout" Target="../slideLayouts/slideLayout783.xml"/><Relationship Id="rId8" Type="http://schemas.openxmlformats.org/officeDocument/2006/relationships/slideLayout" Target="../slideLayouts/slideLayout784.xml"/><Relationship Id="rId9" Type="http://schemas.openxmlformats.org/officeDocument/2006/relationships/slideLayout" Target="../slideLayouts/slideLayout785.xml"/><Relationship Id="rId10" Type="http://schemas.openxmlformats.org/officeDocument/2006/relationships/slideLayout" Target="../slideLayouts/slideLayout786.xml"/><Relationship Id="rId11" Type="http://schemas.openxmlformats.org/officeDocument/2006/relationships/slideLayout" Target="../slideLayouts/slideLayout787.xml"/><Relationship Id="rId12" Type="http://schemas.openxmlformats.org/officeDocument/2006/relationships/slideLayout" Target="../slideLayouts/slideLayout788.xml"/><Relationship Id="rId13" Type="http://schemas.openxmlformats.org/officeDocument/2006/relationships/slideLayout" Target="../slideLayouts/slideLayout789.xml"/><Relationship Id="rId14" Type="http://schemas.openxmlformats.org/officeDocument/2006/relationships/slideLayout" Target="../slideLayouts/slideLayout790.xml"/><Relationship Id="rId15" Type="http://schemas.openxmlformats.org/officeDocument/2006/relationships/slideLayout" Target="../slideLayouts/slideLayout791.xml"/><Relationship Id="rId16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793.xml"/><Relationship Id="rId6" Type="http://schemas.openxmlformats.org/officeDocument/2006/relationships/slideLayout" Target="../slideLayouts/slideLayout794.xml"/><Relationship Id="rId7" Type="http://schemas.openxmlformats.org/officeDocument/2006/relationships/slideLayout" Target="../slideLayouts/slideLayout795.xml"/><Relationship Id="rId8" Type="http://schemas.openxmlformats.org/officeDocument/2006/relationships/slideLayout" Target="../slideLayouts/slideLayout796.xml"/><Relationship Id="rId9" Type="http://schemas.openxmlformats.org/officeDocument/2006/relationships/slideLayout" Target="../slideLayouts/slideLayout797.xml"/><Relationship Id="rId10" Type="http://schemas.openxmlformats.org/officeDocument/2006/relationships/slideLayout" Target="../slideLayouts/slideLayout798.xml"/><Relationship Id="rId11" Type="http://schemas.openxmlformats.org/officeDocument/2006/relationships/slideLayout" Target="../slideLayouts/slideLayout799.xml"/><Relationship Id="rId12" Type="http://schemas.openxmlformats.org/officeDocument/2006/relationships/slideLayout" Target="../slideLayouts/slideLayout800.xml"/><Relationship Id="rId13" Type="http://schemas.openxmlformats.org/officeDocument/2006/relationships/slideLayout" Target="../slideLayouts/slideLayout801.xml"/><Relationship Id="rId14" Type="http://schemas.openxmlformats.org/officeDocument/2006/relationships/slideLayout" Target="../slideLayouts/slideLayout802.xml"/><Relationship Id="rId15" Type="http://schemas.openxmlformats.org/officeDocument/2006/relationships/slideLayout" Target="../slideLayouts/slideLayout803.xml"/><Relationship Id="rId16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05.xml"/><Relationship Id="rId6" Type="http://schemas.openxmlformats.org/officeDocument/2006/relationships/slideLayout" Target="../slideLayouts/slideLayout806.xml"/><Relationship Id="rId7" Type="http://schemas.openxmlformats.org/officeDocument/2006/relationships/slideLayout" Target="../slideLayouts/slideLayout807.xml"/><Relationship Id="rId8" Type="http://schemas.openxmlformats.org/officeDocument/2006/relationships/slideLayout" Target="../slideLayouts/slideLayout808.xml"/><Relationship Id="rId9" Type="http://schemas.openxmlformats.org/officeDocument/2006/relationships/slideLayout" Target="../slideLayouts/slideLayout809.xml"/><Relationship Id="rId10" Type="http://schemas.openxmlformats.org/officeDocument/2006/relationships/slideLayout" Target="../slideLayouts/slideLayout810.xml"/><Relationship Id="rId11" Type="http://schemas.openxmlformats.org/officeDocument/2006/relationships/slideLayout" Target="../slideLayouts/slideLayout811.xml"/><Relationship Id="rId12" Type="http://schemas.openxmlformats.org/officeDocument/2006/relationships/slideLayout" Target="../slideLayouts/slideLayout812.xml"/><Relationship Id="rId13" Type="http://schemas.openxmlformats.org/officeDocument/2006/relationships/slideLayout" Target="../slideLayouts/slideLayout813.xml"/><Relationship Id="rId14" Type="http://schemas.openxmlformats.org/officeDocument/2006/relationships/slideLayout" Target="../slideLayouts/slideLayout814.xml"/><Relationship Id="rId15" Type="http://schemas.openxmlformats.org/officeDocument/2006/relationships/slideLayout" Target="../slideLayouts/slideLayout815.xml"/><Relationship Id="rId16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17.xml"/><Relationship Id="rId6" Type="http://schemas.openxmlformats.org/officeDocument/2006/relationships/slideLayout" Target="../slideLayouts/slideLayout818.xml"/><Relationship Id="rId7" Type="http://schemas.openxmlformats.org/officeDocument/2006/relationships/slideLayout" Target="../slideLayouts/slideLayout819.xml"/><Relationship Id="rId8" Type="http://schemas.openxmlformats.org/officeDocument/2006/relationships/slideLayout" Target="../slideLayouts/slideLayout820.xml"/><Relationship Id="rId9" Type="http://schemas.openxmlformats.org/officeDocument/2006/relationships/slideLayout" Target="../slideLayouts/slideLayout821.xml"/><Relationship Id="rId10" Type="http://schemas.openxmlformats.org/officeDocument/2006/relationships/slideLayout" Target="../slideLayouts/slideLayout822.xml"/><Relationship Id="rId11" Type="http://schemas.openxmlformats.org/officeDocument/2006/relationships/slideLayout" Target="../slideLayouts/slideLayout823.xml"/><Relationship Id="rId12" Type="http://schemas.openxmlformats.org/officeDocument/2006/relationships/slideLayout" Target="../slideLayouts/slideLayout824.xml"/><Relationship Id="rId13" Type="http://schemas.openxmlformats.org/officeDocument/2006/relationships/slideLayout" Target="../slideLayouts/slideLayout825.xml"/><Relationship Id="rId14" Type="http://schemas.openxmlformats.org/officeDocument/2006/relationships/slideLayout" Target="../slideLayouts/slideLayout826.xml"/><Relationship Id="rId15" Type="http://schemas.openxmlformats.org/officeDocument/2006/relationships/slideLayout" Target="../slideLayouts/slideLayout827.xml"/><Relationship Id="rId16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29.xml"/><Relationship Id="rId6" Type="http://schemas.openxmlformats.org/officeDocument/2006/relationships/slideLayout" Target="../slideLayouts/slideLayout830.xml"/><Relationship Id="rId7" Type="http://schemas.openxmlformats.org/officeDocument/2006/relationships/slideLayout" Target="../slideLayouts/slideLayout831.xml"/><Relationship Id="rId8" Type="http://schemas.openxmlformats.org/officeDocument/2006/relationships/slideLayout" Target="../slideLayouts/slideLayout832.xml"/><Relationship Id="rId9" Type="http://schemas.openxmlformats.org/officeDocument/2006/relationships/slideLayout" Target="../slideLayouts/slideLayout833.xml"/><Relationship Id="rId10" Type="http://schemas.openxmlformats.org/officeDocument/2006/relationships/slideLayout" Target="../slideLayouts/slideLayout834.xml"/><Relationship Id="rId11" Type="http://schemas.openxmlformats.org/officeDocument/2006/relationships/slideLayout" Target="../slideLayouts/slideLayout835.xml"/><Relationship Id="rId12" Type="http://schemas.openxmlformats.org/officeDocument/2006/relationships/slideLayout" Target="../slideLayouts/slideLayout836.xml"/><Relationship Id="rId13" Type="http://schemas.openxmlformats.org/officeDocument/2006/relationships/slideLayout" Target="../slideLayouts/slideLayout837.xml"/><Relationship Id="rId14" Type="http://schemas.openxmlformats.org/officeDocument/2006/relationships/slideLayout" Target="../slideLayouts/slideLayout838.xml"/><Relationship Id="rId15" Type="http://schemas.openxmlformats.org/officeDocument/2006/relationships/slideLayout" Target="../slideLayouts/slideLayout839.xml"/><Relationship Id="rId16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41.xml"/><Relationship Id="rId6" Type="http://schemas.openxmlformats.org/officeDocument/2006/relationships/slideLayout" Target="../slideLayouts/slideLayout842.xml"/><Relationship Id="rId7" Type="http://schemas.openxmlformats.org/officeDocument/2006/relationships/slideLayout" Target="../slideLayouts/slideLayout843.xml"/><Relationship Id="rId8" Type="http://schemas.openxmlformats.org/officeDocument/2006/relationships/slideLayout" Target="../slideLayouts/slideLayout844.xml"/><Relationship Id="rId9" Type="http://schemas.openxmlformats.org/officeDocument/2006/relationships/slideLayout" Target="../slideLayouts/slideLayout845.xml"/><Relationship Id="rId10" Type="http://schemas.openxmlformats.org/officeDocument/2006/relationships/slideLayout" Target="../slideLayouts/slideLayout846.xml"/><Relationship Id="rId11" Type="http://schemas.openxmlformats.org/officeDocument/2006/relationships/slideLayout" Target="../slideLayouts/slideLayout847.xml"/><Relationship Id="rId12" Type="http://schemas.openxmlformats.org/officeDocument/2006/relationships/slideLayout" Target="../slideLayouts/slideLayout848.xml"/><Relationship Id="rId13" Type="http://schemas.openxmlformats.org/officeDocument/2006/relationships/slideLayout" Target="../slideLayouts/slideLayout849.xml"/><Relationship Id="rId14" Type="http://schemas.openxmlformats.org/officeDocument/2006/relationships/slideLayout" Target="../slideLayouts/slideLayout850.xml"/><Relationship Id="rId15" Type="http://schemas.openxmlformats.org/officeDocument/2006/relationships/slideLayout" Target="../slideLayouts/slideLayout851.xml"/><Relationship Id="rId16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53.xml"/><Relationship Id="rId6" Type="http://schemas.openxmlformats.org/officeDocument/2006/relationships/slideLayout" Target="../slideLayouts/slideLayout854.xml"/><Relationship Id="rId7" Type="http://schemas.openxmlformats.org/officeDocument/2006/relationships/slideLayout" Target="../slideLayouts/slideLayout855.xml"/><Relationship Id="rId8" Type="http://schemas.openxmlformats.org/officeDocument/2006/relationships/slideLayout" Target="../slideLayouts/slideLayout856.xml"/><Relationship Id="rId9" Type="http://schemas.openxmlformats.org/officeDocument/2006/relationships/slideLayout" Target="../slideLayouts/slideLayout857.xml"/><Relationship Id="rId10" Type="http://schemas.openxmlformats.org/officeDocument/2006/relationships/slideLayout" Target="../slideLayouts/slideLayout858.xml"/><Relationship Id="rId11" Type="http://schemas.openxmlformats.org/officeDocument/2006/relationships/slideLayout" Target="../slideLayouts/slideLayout859.xml"/><Relationship Id="rId12" Type="http://schemas.openxmlformats.org/officeDocument/2006/relationships/slideLayout" Target="../slideLayouts/slideLayout860.xml"/><Relationship Id="rId13" Type="http://schemas.openxmlformats.org/officeDocument/2006/relationships/slideLayout" Target="../slideLayouts/slideLayout861.xml"/><Relationship Id="rId14" Type="http://schemas.openxmlformats.org/officeDocument/2006/relationships/slideLayout" Target="../slideLayouts/slideLayout862.xml"/><Relationship Id="rId15" Type="http://schemas.openxmlformats.org/officeDocument/2006/relationships/slideLayout" Target="../slideLayouts/slideLayout863.xml"/><Relationship Id="rId16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65.xml"/><Relationship Id="rId6" Type="http://schemas.openxmlformats.org/officeDocument/2006/relationships/slideLayout" Target="../slideLayouts/slideLayout866.xml"/><Relationship Id="rId7" Type="http://schemas.openxmlformats.org/officeDocument/2006/relationships/slideLayout" Target="../slideLayouts/slideLayout867.xml"/><Relationship Id="rId8" Type="http://schemas.openxmlformats.org/officeDocument/2006/relationships/slideLayout" Target="../slideLayouts/slideLayout868.xml"/><Relationship Id="rId9" Type="http://schemas.openxmlformats.org/officeDocument/2006/relationships/slideLayout" Target="../slideLayouts/slideLayout869.xml"/><Relationship Id="rId10" Type="http://schemas.openxmlformats.org/officeDocument/2006/relationships/slideLayout" Target="../slideLayouts/slideLayout870.xml"/><Relationship Id="rId11" Type="http://schemas.openxmlformats.org/officeDocument/2006/relationships/slideLayout" Target="../slideLayouts/slideLayout871.xml"/><Relationship Id="rId12" Type="http://schemas.openxmlformats.org/officeDocument/2006/relationships/slideLayout" Target="../slideLayouts/slideLayout872.xml"/><Relationship Id="rId13" Type="http://schemas.openxmlformats.org/officeDocument/2006/relationships/slideLayout" Target="../slideLayouts/slideLayout873.xml"/><Relationship Id="rId14" Type="http://schemas.openxmlformats.org/officeDocument/2006/relationships/slideLayout" Target="../slideLayouts/slideLayout874.xml"/><Relationship Id="rId15" Type="http://schemas.openxmlformats.org/officeDocument/2006/relationships/slideLayout" Target="../slideLayouts/slideLayout875.xml"/><Relationship Id="rId16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77.xml"/><Relationship Id="rId6" Type="http://schemas.openxmlformats.org/officeDocument/2006/relationships/slideLayout" Target="../slideLayouts/slideLayout878.xml"/><Relationship Id="rId7" Type="http://schemas.openxmlformats.org/officeDocument/2006/relationships/slideLayout" Target="../slideLayouts/slideLayout879.xml"/><Relationship Id="rId8" Type="http://schemas.openxmlformats.org/officeDocument/2006/relationships/slideLayout" Target="../slideLayouts/slideLayout880.xml"/><Relationship Id="rId9" Type="http://schemas.openxmlformats.org/officeDocument/2006/relationships/slideLayout" Target="../slideLayouts/slideLayout881.xml"/><Relationship Id="rId10" Type="http://schemas.openxmlformats.org/officeDocument/2006/relationships/slideLayout" Target="../slideLayouts/slideLayout882.xml"/><Relationship Id="rId11" Type="http://schemas.openxmlformats.org/officeDocument/2006/relationships/slideLayout" Target="../slideLayouts/slideLayout883.xml"/><Relationship Id="rId12" Type="http://schemas.openxmlformats.org/officeDocument/2006/relationships/slideLayout" Target="../slideLayouts/slideLayout884.xml"/><Relationship Id="rId13" Type="http://schemas.openxmlformats.org/officeDocument/2006/relationships/slideLayout" Target="../slideLayouts/slideLayout885.xml"/><Relationship Id="rId14" Type="http://schemas.openxmlformats.org/officeDocument/2006/relationships/slideLayout" Target="../slideLayouts/slideLayout886.xml"/><Relationship Id="rId15" Type="http://schemas.openxmlformats.org/officeDocument/2006/relationships/slideLayout" Target="../slideLayouts/slideLayout887.xml"/><Relationship Id="rId16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89.xml"/><Relationship Id="rId6" Type="http://schemas.openxmlformats.org/officeDocument/2006/relationships/slideLayout" Target="../slideLayouts/slideLayout890.xml"/><Relationship Id="rId7" Type="http://schemas.openxmlformats.org/officeDocument/2006/relationships/slideLayout" Target="../slideLayouts/slideLayout891.xml"/><Relationship Id="rId8" Type="http://schemas.openxmlformats.org/officeDocument/2006/relationships/slideLayout" Target="../slideLayouts/slideLayout892.xml"/><Relationship Id="rId9" Type="http://schemas.openxmlformats.org/officeDocument/2006/relationships/slideLayout" Target="../slideLayouts/slideLayout893.xml"/><Relationship Id="rId10" Type="http://schemas.openxmlformats.org/officeDocument/2006/relationships/slideLayout" Target="../slideLayouts/slideLayout894.xml"/><Relationship Id="rId11" Type="http://schemas.openxmlformats.org/officeDocument/2006/relationships/slideLayout" Target="../slideLayouts/slideLayout895.xml"/><Relationship Id="rId12" Type="http://schemas.openxmlformats.org/officeDocument/2006/relationships/slideLayout" Target="../slideLayouts/slideLayout896.xml"/><Relationship Id="rId13" Type="http://schemas.openxmlformats.org/officeDocument/2006/relationships/slideLayout" Target="../slideLayouts/slideLayout897.xml"/><Relationship Id="rId14" Type="http://schemas.openxmlformats.org/officeDocument/2006/relationships/slideLayout" Target="../slideLayouts/slideLayout898.xml"/><Relationship Id="rId15" Type="http://schemas.openxmlformats.org/officeDocument/2006/relationships/slideLayout" Target="../slideLayouts/slideLayout899.xml"/><Relationship Id="rId16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901.xml"/><Relationship Id="rId6" Type="http://schemas.openxmlformats.org/officeDocument/2006/relationships/slideLayout" Target="../slideLayouts/slideLayout902.xml"/><Relationship Id="rId7" Type="http://schemas.openxmlformats.org/officeDocument/2006/relationships/slideLayout" Target="../slideLayouts/slideLayout903.xml"/><Relationship Id="rId8" Type="http://schemas.openxmlformats.org/officeDocument/2006/relationships/slideLayout" Target="../slideLayouts/slideLayout904.xml"/><Relationship Id="rId9" Type="http://schemas.openxmlformats.org/officeDocument/2006/relationships/slideLayout" Target="../slideLayouts/slideLayout905.xml"/><Relationship Id="rId10" Type="http://schemas.openxmlformats.org/officeDocument/2006/relationships/slideLayout" Target="../slideLayouts/slideLayout906.xml"/><Relationship Id="rId11" Type="http://schemas.openxmlformats.org/officeDocument/2006/relationships/slideLayout" Target="../slideLayouts/slideLayout907.xml"/><Relationship Id="rId12" Type="http://schemas.openxmlformats.org/officeDocument/2006/relationships/slideLayout" Target="../slideLayouts/slideLayout908.xml"/><Relationship Id="rId13" Type="http://schemas.openxmlformats.org/officeDocument/2006/relationships/slideLayout" Target="../slideLayouts/slideLayout909.xml"/><Relationship Id="rId14" Type="http://schemas.openxmlformats.org/officeDocument/2006/relationships/slideLayout" Target="../slideLayouts/slideLayout910.xml"/><Relationship Id="rId15" Type="http://schemas.openxmlformats.org/officeDocument/2006/relationships/slideLayout" Target="../slideLayouts/slideLayout911.xml"/><Relationship Id="rId16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913.xml"/><Relationship Id="rId6" Type="http://schemas.openxmlformats.org/officeDocument/2006/relationships/slideLayout" Target="../slideLayouts/slideLayout914.xml"/><Relationship Id="rId7" Type="http://schemas.openxmlformats.org/officeDocument/2006/relationships/slideLayout" Target="../slideLayouts/slideLayout915.xml"/><Relationship Id="rId8" Type="http://schemas.openxmlformats.org/officeDocument/2006/relationships/slideLayout" Target="../slideLayouts/slideLayout916.xml"/><Relationship Id="rId9" Type="http://schemas.openxmlformats.org/officeDocument/2006/relationships/slideLayout" Target="../slideLayouts/slideLayout917.xml"/><Relationship Id="rId10" Type="http://schemas.openxmlformats.org/officeDocument/2006/relationships/slideLayout" Target="../slideLayouts/slideLayout918.xml"/><Relationship Id="rId11" Type="http://schemas.openxmlformats.org/officeDocument/2006/relationships/slideLayout" Target="../slideLayouts/slideLayout919.xml"/><Relationship Id="rId12" Type="http://schemas.openxmlformats.org/officeDocument/2006/relationships/slideLayout" Target="../slideLayouts/slideLayout920.xml"/><Relationship Id="rId13" Type="http://schemas.openxmlformats.org/officeDocument/2006/relationships/slideLayout" Target="../slideLayouts/slideLayout921.xml"/><Relationship Id="rId14" Type="http://schemas.openxmlformats.org/officeDocument/2006/relationships/slideLayout" Target="../slideLayouts/slideLayout922.xml"/><Relationship Id="rId15" Type="http://schemas.openxmlformats.org/officeDocument/2006/relationships/slideLayout" Target="../slideLayouts/slideLayout923.xml"/><Relationship Id="rId16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925.xml"/><Relationship Id="rId6" Type="http://schemas.openxmlformats.org/officeDocument/2006/relationships/slideLayout" Target="../slideLayouts/slideLayout926.xml"/><Relationship Id="rId7" Type="http://schemas.openxmlformats.org/officeDocument/2006/relationships/slideLayout" Target="../slideLayouts/slideLayout927.xml"/><Relationship Id="rId8" Type="http://schemas.openxmlformats.org/officeDocument/2006/relationships/slideLayout" Target="../slideLayouts/slideLayout928.xml"/><Relationship Id="rId9" Type="http://schemas.openxmlformats.org/officeDocument/2006/relationships/slideLayout" Target="../slideLayouts/slideLayout929.xml"/><Relationship Id="rId10" Type="http://schemas.openxmlformats.org/officeDocument/2006/relationships/slideLayout" Target="../slideLayouts/slideLayout930.xml"/><Relationship Id="rId11" Type="http://schemas.openxmlformats.org/officeDocument/2006/relationships/slideLayout" Target="../slideLayouts/slideLayout931.xml"/><Relationship Id="rId12" Type="http://schemas.openxmlformats.org/officeDocument/2006/relationships/slideLayout" Target="../slideLayouts/slideLayout932.xml"/><Relationship Id="rId13" Type="http://schemas.openxmlformats.org/officeDocument/2006/relationships/slideLayout" Target="../slideLayouts/slideLayout933.xml"/><Relationship Id="rId14" Type="http://schemas.openxmlformats.org/officeDocument/2006/relationships/slideLayout" Target="../slideLayouts/slideLayout934.xml"/><Relationship Id="rId15" Type="http://schemas.openxmlformats.org/officeDocument/2006/relationships/slideLayout" Target="../slideLayouts/slideLayout935.xml"/><Relationship Id="rId16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937.xml"/><Relationship Id="rId6" Type="http://schemas.openxmlformats.org/officeDocument/2006/relationships/slideLayout" Target="../slideLayouts/slideLayout938.xml"/><Relationship Id="rId7" Type="http://schemas.openxmlformats.org/officeDocument/2006/relationships/slideLayout" Target="../slideLayouts/slideLayout939.xml"/><Relationship Id="rId8" Type="http://schemas.openxmlformats.org/officeDocument/2006/relationships/slideLayout" Target="../slideLayouts/slideLayout940.xml"/><Relationship Id="rId9" Type="http://schemas.openxmlformats.org/officeDocument/2006/relationships/slideLayout" Target="../slideLayouts/slideLayout941.xml"/><Relationship Id="rId10" Type="http://schemas.openxmlformats.org/officeDocument/2006/relationships/slideLayout" Target="../slideLayouts/slideLayout942.xml"/><Relationship Id="rId11" Type="http://schemas.openxmlformats.org/officeDocument/2006/relationships/slideLayout" Target="../slideLayouts/slideLayout943.xml"/><Relationship Id="rId12" Type="http://schemas.openxmlformats.org/officeDocument/2006/relationships/slideLayout" Target="../slideLayouts/slideLayout944.xml"/><Relationship Id="rId13" Type="http://schemas.openxmlformats.org/officeDocument/2006/relationships/slideLayout" Target="../slideLayouts/slideLayout945.xml"/><Relationship Id="rId14" Type="http://schemas.openxmlformats.org/officeDocument/2006/relationships/slideLayout" Target="../slideLayouts/slideLayout946.xml"/><Relationship Id="rId15" Type="http://schemas.openxmlformats.org/officeDocument/2006/relationships/slideLayout" Target="../slideLayouts/slideLayout947.xml"/><Relationship Id="rId16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949.xml"/><Relationship Id="rId6" Type="http://schemas.openxmlformats.org/officeDocument/2006/relationships/slideLayout" Target="../slideLayouts/slideLayout950.xml"/><Relationship Id="rId7" Type="http://schemas.openxmlformats.org/officeDocument/2006/relationships/slideLayout" Target="../slideLayouts/slideLayout951.xml"/><Relationship Id="rId8" Type="http://schemas.openxmlformats.org/officeDocument/2006/relationships/slideLayout" Target="../slideLayouts/slideLayout952.xml"/><Relationship Id="rId9" Type="http://schemas.openxmlformats.org/officeDocument/2006/relationships/slideLayout" Target="../slideLayouts/slideLayout953.xml"/><Relationship Id="rId10" Type="http://schemas.openxmlformats.org/officeDocument/2006/relationships/slideLayout" Target="../slideLayouts/slideLayout954.xml"/><Relationship Id="rId11" Type="http://schemas.openxmlformats.org/officeDocument/2006/relationships/slideLayout" Target="../slideLayouts/slideLayout955.xml"/><Relationship Id="rId12" Type="http://schemas.openxmlformats.org/officeDocument/2006/relationships/slideLayout" Target="../slideLayouts/slideLayout956.xml"/><Relationship Id="rId13" Type="http://schemas.openxmlformats.org/officeDocument/2006/relationships/slideLayout" Target="../slideLayouts/slideLayout957.xml"/><Relationship Id="rId14" Type="http://schemas.openxmlformats.org/officeDocument/2006/relationships/slideLayout" Target="../slideLayouts/slideLayout958.xml"/><Relationship Id="rId15" Type="http://schemas.openxmlformats.org/officeDocument/2006/relationships/slideLayout" Target="../slideLayouts/slideLayout959.xml"/><Relationship Id="rId16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961.xml"/><Relationship Id="rId6" Type="http://schemas.openxmlformats.org/officeDocument/2006/relationships/slideLayout" Target="../slideLayouts/slideLayout962.xml"/><Relationship Id="rId7" Type="http://schemas.openxmlformats.org/officeDocument/2006/relationships/slideLayout" Target="../slideLayouts/slideLayout963.xml"/><Relationship Id="rId8" Type="http://schemas.openxmlformats.org/officeDocument/2006/relationships/slideLayout" Target="../slideLayouts/slideLayout964.xml"/><Relationship Id="rId9" Type="http://schemas.openxmlformats.org/officeDocument/2006/relationships/slideLayout" Target="../slideLayouts/slideLayout965.xml"/><Relationship Id="rId10" Type="http://schemas.openxmlformats.org/officeDocument/2006/relationships/slideLayout" Target="../slideLayouts/slideLayout966.xml"/><Relationship Id="rId11" Type="http://schemas.openxmlformats.org/officeDocument/2006/relationships/slideLayout" Target="../slideLayouts/slideLayout967.xml"/><Relationship Id="rId12" Type="http://schemas.openxmlformats.org/officeDocument/2006/relationships/slideLayout" Target="../slideLayouts/slideLayout968.xml"/><Relationship Id="rId13" Type="http://schemas.openxmlformats.org/officeDocument/2006/relationships/slideLayout" Target="../slideLayouts/slideLayout969.xml"/><Relationship Id="rId14" Type="http://schemas.openxmlformats.org/officeDocument/2006/relationships/slideLayout" Target="../slideLayouts/slideLayout970.xml"/><Relationship Id="rId15" Type="http://schemas.openxmlformats.org/officeDocument/2006/relationships/slideLayout" Target="../slideLayouts/slideLayout971.xml"/><Relationship Id="rId16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973.xml"/><Relationship Id="rId6" Type="http://schemas.openxmlformats.org/officeDocument/2006/relationships/slideLayout" Target="../slideLayouts/slideLayout974.xml"/><Relationship Id="rId7" Type="http://schemas.openxmlformats.org/officeDocument/2006/relationships/slideLayout" Target="../slideLayouts/slideLayout975.xml"/><Relationship Id="rId8" Type="http://schemas.openxmlformats.org/officeDocument/2006/relationships/slideLayout" Target="../slideLayouts/slideLayout976.xml"/><Relationship Id="rId9" Type="http://schemas.openxmlformats.org/officeDocument/2006/relationships/slideLayout" Target="../slideLayouts/slideLayout977.xml"/><Relationship Id="rId10" Type="http://schemas.openxmlformats.org/officeDocument/2006/relationships/slideLayout" Target="../slideLayouts/slideLayout978.xml"/><Relationship Id="rId11" Type="http://schemas.openxmlformats.org/officeDocument/2006/relationships/slideLayout" Target="../slideLayouts/slideLayout979.xml"/><Relationship Id="rId12" Type="http://schemas.openxmlformats.org/officeDocument/2006/relationships/slideLayout" Target="../slideLayouts/slideLayout980.xml"/><Relationship Id="rId13" Type="http://schemas.openxmlformats.org/officeDocument/2006/relationships/slideLayout" Target="../slideLayouts/slideLayout981.xml"/><Relationship Id="rId14" Type="http://schemas.openxmlformats.org/officeDocument/2006/relationships/slideLayout" Target="../slideLayouts/slideLayout982.xml"/><Relationship Id="rId15" Type="http://schemas.openxmlformats.org/officeDocument/2006/relationships/slideLayout" Target="../slideLayouts/slideLayout983.xml"/><Relationship Id="rId16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985.xml"/><Relationship Id="rId6" Type="http://schemas.openxmlformats.org/officeDocument/2006/relationships/slideLayout" Target="../slideLayouts/slideLayout986.xml"/><Relationship Id="rId7" Type="http://schemas.openxmlformats.org/officeDocument/2006/relationships/slideLayout" Target="../slideLayouts/slideLayout987.xml"/><Relationship Id="rId8" Type="http://schemas.openxmlformats.org/officeDocument/2006/relationships/slideLayout" Target="../slideLayouts/slideLayout988.xml"/><Relationship Id="rId9" Type="http://schemas.openxmlformats.org/officeDocument/2006/relationships/slideLayout" Target="../slideLayouts/slideLayout989.xml"/><Relationship Id="rId10" Type="http://schemas.openxmlformats.org/officeDocument/2006/relationships/slideLayout" Target="../slideLayouts/slideLayout990.xml"/><Relationship Id="rId11" Type="http://schemas.openxmlformats.org/officeDocument/2006/relationships/slideLayout" Target="../slideLayouts/slideLayout991.xml"/><Relationship Id="rId12" Type="http://schemas.openxmlformats.org/officeDocument/2006/relationships/slideLayout" Target="../slideLayouts/slideLayout992.xml"/><Relationship Id="rId13" Type="http://schemas.openxmlformats.org/officeDocument/2006/relationships/slideLayout" Target="../slideLayouts/slideLayout993.xml"/><Relationship Id="rId14" Type="http://schemas.openxmlformats.org/officeDocument/2006/relationships/slideLayout" Target="../slideLayouts/slideLayout994.xml"/><Relationship Id="rId15" Type="http://schemas.openxmlformats.org/officeDocument/2006/relationships/slideLayout" Target="../slideLayouts/slideLayout995.xml"/><Relationship Id="rId16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997.xml"/><Relationship Id="rId6" Type="http://schemas.openxmlformats.org/officeDocument/2006/relationships/slideLayout" Target="../slideLayouts/slideLayout998.xml"/><Relationship Id="rId7" Type="http://schemas.openxmlformats.org/officeDocument/2006/relationships/slideLayout" Target="../slideLayouts/slideLayout999.xml"/><Relationship Id="rId8" Type="http://schemas.openxmlformats.org/officeDocument/2006/relationships/slideLayout" Target="../slideLayouts/slideLayout1000.xml"/><Relationship Id="rId9" Type="http://schemas.openxmlformats.org/officeDocument/2006/relationships/slideLayout" Target="../slideLayouts/slideLayout1001.xml"/><Relationship Id="rId10" Type="http://schemas.openxmlformats.org/officeDocument/2006/relationships/slideLayout" Target="../slideLayouts/slideLayout1002.xml"/><Relationship Id="rId11" Type="http://schemas.openxmlformats.org/officeDocument/2006/relationships/slideLayout" Target="../slideLayouts/slideLayout1003.xml"/><Relationship Id="rId12" Type="http://schemas.openxmlformats.org/officeDocument/2006/relationships/slideLayout" Target="../slideLayouts/slideLayout1004.xml"/><Relationship Id="rId13" Type="http://schemas.openxmlformats.org/officeDocument/2006/relationships/slideLayout" Target="../slideLayouts/slideLayout1005.xml"/><Relationship Id="rId14" Type="http://schemas.openxmlformats.org/officeDocument/2006/relationships/slideLayout" Target="../slideLayouts/slideLayout1006.xml"/><Relationship Id="rId15" Type="http://schemas.openxmlformats.org/officeDocument/2006/relationships/slideLayout" Target="../slideLayouts/slideLayout1007.xml"/><Relationship Id="rId16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009.xml"/><Relationship Id="rId6" Type="http://schemas.openxmlformats.org/officeDocument/2006/relationships/slideLayout" Target="../slideLayouts/slideLayout1010.xml"/><Relationship Id="rId7" Type="http://schemas.openxmlformats.org/officeDocument/2006/relationships/slideLayout" Target="../slideLayouts/slideLayout1011.xml"/><Relationship Id="rId8" Type="http://schemas.openxmlformats.org/officeDocument/2006/relationships/slideLayout" Target="../slideLayouts/slideLayout1012.xml"/><Relationship Id="rId9" Type="http://schemas.openxmlformats.org/officeDocument/2006/relationships/slideLayout" Target="../slideLayouts/slideLayout1013.xml"/><Relationship Id="rId10" Type="http://schemas.openxmlformats.org/officeDocument/2006/relationships/slideLayout" Target="../slideLayouts/slideLayout1014.xml"/><Relationship Id="rId11" Type="http://schemas.openxmlformats.org/officeDocument/2006/relationships/slideLayout" Target="../slideLayouts/slideLayout1015.xml"/><Relationship Id="rId12" Type="http://schemas.openxmlformats.org/officeDocument/2006/relationships/slideLayout" Target="../slideLayouts/slideLayout1016.xml"/><Relationship Id="rId13" Type="http://schemas.openxmlformats.org/officeDocument/2006/relationships/slideLayout" Target="../slideLayouts/slideLayout1017.xml"/><Relationship Id="rId14" Type="http://schemas.openxmlformats.org/officeDocument/2006/relationships/slideLayout" Target="../slideLayouts/slideLayout1018.xml"/><Relationship Id="rId15" Type="http://schemas.openxmlformats.org/officeDocument/2006/relationships/slideLayout" Target="../slideLayouts/slideLayout1019.xml"/><Relationship Id="rId16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021.xml"/><Relationship Id="rId6" Type="http://schemas.openxmlformats.org/officeDocument/2006/relationships/slideLayout" Target="../slideLayouts/slideLayout1022.xml"/><Relationship Id="rId7" Type="http://schemas.openxmlformats.org/officeDocument/2006/relationships/slideLayout" Target="../slideLayouts/slideLayout1023.xml"/><Relationship Id="rId8" Type="http://schemas.openxmlformats.org/officeDocument/2006/relationships/slideLayout" Target="../slideLayouts/slideLayout1024.xml"/><Relationship Id="rId9" Type="http://schemas.openxmlformats.org/officeDocument/2006/relationships/slideLayout" Target="../slideLayouts/slideLayout1025.xml"/><Relationship Id="rId10" Type="http://schemas.openxmlformats.org/officeDocument/2006/relationships/slideLayout" Target="../slideLayouts/slideLayout1026.xml"/><Relationship Id="rId11" Type="http://schemas.openxmlformats.org/officeDocument/2006/relationships/slideLayout" Target="../slideLayouts/slideLayout1027.xml"/><Relationship Id="rId12" Type="http://schemas.openxmlformats.org/officeDocument/2006/relationships/slideLayout" Target="../slideLayouts/slideLayout1028.xml"/><Relationship Id="rId13" Type="http://schemas.openxmlformats.org/officeDocument/2006/relationships/slideLayout" Target="../slideLayouts/slideLayout1029.xml"/><Relationship Id="rId14" Type="http://schemas.openxmlformats.org/officeDocument/2006/relationships/slideLayout" Target="../slideLayouts/slideLayout1030.xml"/><Relationship Id="rId15" Type="http://schemas.openxmlformats.org/officeDocument/2006/relationships/slideLayout" Target="../slideLayouts/slideLayout1031.xml"/><Relationship Id="rId16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033.xml"/><Relationship Id="rId6" Type="http://schemas.openxmlformats.org/officeDocument/2006/relationships/slideLayout" Target="../slideLayouts/slideLayout1034.xml"/><Relationship Id="rId7" Type="http://schemas.openxmlformats.org/officeDocument/2006/relationships/slideLayout" Target="../slideLayouts/slideLayout1035.xml"/><Relationship Id="rId8" Type="http://schemas.openxmlformats.org/officeDocument/2006/relationships/slideLayout" Target="../slideLayouts/slideLayout1036.xml"/><Relationship Id="rId9" Type="http://schemas.openxmlformats.org/officeDocument/2006/relationships/slideLayout" Target="../slideLayouts/slideLayout1037.xml"/><Relationship Id="rId10" Type="http://schemas.openxmlformats.org/officeDocument/2006/relationships/slideLayout" Target="../slideLayouts/slideLayout1038.xml"/><Relationship Id="rId11" Type="http://schemas.openxmlformats.org/officeDocument/2006/relationships/slideLayout" Target="../slideLayouts/slideLayout1039.xml"/><Relationship Id="rId12" Type="http://schemas.openxmlformats.org/officeDocument/2006/relationships/slideLayout" Target="../slideLayouts/slideLayout1040.xml"/><Relationship Id="rId13" Type="http://schemas.openxmlformats.org/officeDocument/2006/relationships/slideLayout" Target="../slideLayouts/slideLayout1041.xml"/><Relationship Id="rId14" Type="http://schemas.openxmlformats.org/officeDocument/2006/relationships/slideLayout" Target="../slideLayouts/slideLayout1042.xml"/><Relationship Id="rId15" Type="http://schemas.openxmlformats.org/officeDocument/2006/relationships/slideLayout" Target="../slideLayouts/slideLayout1043.xml"/><Relationship Id="rId16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045.xml"/><Relationship Id="rId6" Type="http://schemas.openxmlformats.org/officeDocument/2006/relationships/slideLayout" Target="../slideLayouts/slideLayout1046.xml"/><Relationship Id="rId7" Type="http://schemas.openxmlformats.org/officeDocument/2006/relationships/slideLayout" Target="../slideLayouts/slideLayout1047.xml"/><Relationship Id="rId8" Type="http://schemas.openxmlformats.org/officeDocument/2006/relationships/slideLayout" Target="../slideLayouts/slideLayout1048.xml"/><Relationship Id="rId9" Type="http://schemas.openxmlformats.org/officeDocument/2006/relationships/slideLayout" Target="../slideLayouts/slideLayout1049.xml"/><Relationship Id="rId10" Type="http://schemas.openxmlformats.org/officeDocument/2006/relationships/slideLayout" Target="../slideLayouts/slideLayout1050.xml"/><Relationship Id="rId11" Type="http://schemas.openxmlformats.org/officeDocument/2006/relationships/slideLayout" Target="../slideLayouts/slideLayout1051.xml"/><Relationship Id="rId12" Type="http://schemas.openxmlformats.org/officeDocument/2006/relationships/slideLayout" Target="../slideLayouts/slideLayout1052.xml"/><Relationship Id="rId13" Type="http://schemas.openxmlformats.org/officeDocument/2006/relationships/slideLayout" Target="../slideLayouts/slideLayout1053.xml"/><Relationship Id="rId14" Type="http://schemas.openxmlformats.org/officeDocument/2006/relationships/slideLayout" Target="../slideLayouts/slideLayout1054.xml"/><Relationship Id="rId15" Type="http://schemas.openxmlformats.org/officeDocument/2006/relationships/slideLayout" Target="../slideLayouts/slideLayout1055.xml"/><Relationship Id="rId16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057.xml"/><Relationship Id="rId6" Type="http://schemas.openxmlformats.org/officeDocument/2006/relationships/slideLayout" Target="../slideLayouts/slideLayout1058.xml"/><Relationship Id="rId7" Type="http://schemas.openxmlformats.org/officeDocument/2006/relationships/slideLayout" Target="../slideLayouts/slideLayout1059.xml"/><Relationship Id="rId8" Type="http://schemas.openxmlformats.org/officeDocument/2006/relationships/slideLayout" Target="../slideLayouts/slideLayout1060.xml"/><Relationship Id="rId9" Type="http://schemas.openxmlformats.org/officeDocument/2006/relationships/slideLayout" Target="../slideLayouts/slideLayout1061.xml"/><Relationship Id="rId10" Type="http://schemas.openxmlformats.org/officeDocument/2006/relationships/slideLayout" Target="../slideLayouts/slideLayout1062.xml"/><Relationship Id="rId11" Type="http://schemas.openxmlformats.org/officeDocument/2006/relationships/slideLayout" Target="../slideLayouts/slideLayout1063.xml"/><Relationship Id="rId12" Type="http://schemas.openxmlformats.org/officeDocument/2006/relationships/slideLayout" Target="../slideLayouts/slideLayout1064.xml"/><Relationship Id="rId13" Type="http://schemas.openxmlformats.org/officeDocument/2006/relationships/slideLayout" Target="../slideLayouts/slideLayout1065.xml"/><Relationship Id="rId14" Type="http://schemas.openxmlformats.org/officeDocument/2006/relationships/slideLayout" Target="../slideLayouts/slideLayout1066.xml"/><Relationship Id="rId15" Type="http://schemas.openxmlformats.org/officeDocument/2006/relationships/slideLayout" Target="../slideLayouts/slideLayout1067.xml"/><Relationship Id="rId16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069.xml"/><Relationship Id="rId6" Type="http://schemas.openxmlformats.org/officeDocument/2006/relationships/slideLayout" Target="../slideLayouts/slideLayout1070.xml"/><Relationship Id="rId7" Type="http://schemas.openxmlformats.org/officeDocument/2006/relationships/slideLayout" Target="../slideLayouts/slideLayout1071.xml"/><Relationship Id="rId8" Type="http://schemas.openxmlformats.org/officeDocument/2006/relationships/slideLayout" Target="../slideLayouts/slideLayout1072.xml"/><Relationship Id="rId9" Type="http://schemas.openxmlformats.org/officeDocument/2006/relationships/slideLayout" Target="../slideLayouts/slideLayout1073.xml"/><Relationship Id="rId10" Type="http://schemas.openxmlformats.org/officeDocument/2006/relationships/slideLayout" Target="../slideLayouts/slideLayout1074.xml"/><Relationship Id="rId11" Type="http://schemas.openxmlformats.org/officeDocument/2006/relationships/slideLayout" Target="../slideLayouts/slideLayout1075.xml"/><Relationship Id="rId12" Type="http://schemas.openxmlformats.org/officeDocument/2006/relationships/slideLayout" Target="../slideLayouts/slideLayout1076.xml"/><Relationship Id="rId13" Type="http://schemas.openxmlformats.org/officeDocument/2006/relationships/slideLayout" Target="../slideLayouts/slideLayout1077.xml"/><Relationship Id="rId14" Type="http://schemas.openxmlformats.org/officeDocument/2006/relationships/slideLayout" Target="../slideLayouts/slideLayout1078.xml"/><Relationship Id="rId15" Type="http://schemas.openxmlformats.org/officeDocument/2006/relationships/slideLayout" Target="../slideLayouts/slideLayout1079.xml"/><Relationship Id="rId16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081.xml"/><Relationship Id="rId6" Type="http://schemas.openxmlformats.org/officeDocument/2006/relationships/slideLayout" Target="../slideLayouts/slideLayout1082.xml"/><Relationship Id="rId7" Type="http://schemas.openxmlformats.org/officeDocument/2006/relationships/slideLayout" Target="../slideLayouts/slideLayout1083.xml"/><Relationship Id="rId8" Type="http://schemas.openxmlformats.org/officeDocument/2006/relationships/slideLayout" Target="../slideLayouts/slideLayout1084.xml"/><Relationship Id="rId9" Type="http://schemas.openxmlformats.org/officeDocument/2006/relationships/slideLayout" Target="../slideLayouts/slideLayout1085.xml"/><Relationship Id="rId10" Type="http://schemas.openxmlformats.org/officeDocument/2006/relationships/slideLayout" Target="../slideLayouts/slideLayout1086.xml"/><Relationship Id="rId11" Type="http://schemas.openxmlformats.org/officeDocument/2006/relationships/slideLayout" Target="../slideLayouts/slideLayout1087.xml"/><Relationship Id="rId12" Type="http://schemas.openxmlformats.org/officeDocument/2006/relationships/slideLayout" Target="../slideLayouts/slideLayout1088.xml"/><Relationship Id="rId13" Type="http://schemas.openxmlformats.org/officeDocument/2006/relationships/slideLayout" Target="../slideLayouts/slideLayout1089.xml"/><Relationship Id="rId14" Type="http://schemas.openxmlformats.org/officeDocument/2006/relationships/slideLayout" Target="../slideLayouts/slideLayout1090.xml"/><Relationship Id="rId15" Type="http://schemas.openxmlformats.org/officeDocument/2006/relationships/slideLayout" Target="../slideLayouts/slideLayout1091.xml"/><Relationship Id="rId16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093.xml"/><Relationship Id="rId6" Type="http://schemas.openxmlformats.org/officeDocument/2006/relationships/slideLayout" Target="../slideLayouts/slideLayout1094.xml"/><Relationship Id="rId7" Type="http://schemas.openxmlformats.org/officeDocument/2006/relationships/slideLayout" Target="../slideLayouts/slideLayout1095.xml"/><Relationship Id="rId8" Type="http://schemas.openxmlformats.org/officeDocument/2006/relationships/slideLayout" Target="../slideLayouts/slideLayout1096.xml"/><Relationship Id="rId9" Type="http://schemas.openxmlformats.org/officeDocument/2006/relationships/slideLayout" Target="../slideLayouts/slideLayout1097.xml"/><Relationship Id="rId10" Type="http://schemas.openxmlformats.org/officeDocument/2006/relationships/slideLayout" Target="../slideLayouts/slideLayout1098.xml"/><Relationship Id="rId11" Type="http://schemas.openxmlformats.org/officeDocument/2006/relationships/slideLayout" Target="../slideLayouts/slideLayout1099.xml"/><Relationship Id="rId12" Type="http://schemas.openxmlformats.org/officeDocument/2006/relationships/slideLayout" Target="../slideLayouts/slideLayout1100.xml"/><Relationship Id="rId13" Type="http://schemas.openxmlformats.org/officeDocument/2006/relationships/slideLayout" Target="../slideLayouts/slideLayout1101.xml"/><Relationship Id="rId14" Type="http://schemas.openxmlformats.org/officeDocument/2006/relationships/slideLayout" Target="../slideLayouts/slideLayout1102.xml"/><Relationship Id="rId15" Type="http://schemas.openxmlformats.org/officeDocument/2006/relationships/slideLayout" Target="../slideLayouts/slideLayout1103.xml"/><Relationship Id="rId16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05.xml"/><Relationship Id="rId6" Type="http://schemas.openxmlformats.org/officeDocument/2006/relationships/slideLayout" Target="../slideLayouts/slideLayout1106.xml"/><Relationship Id="rId7" Type="http://schemas.openxmlformats.org/officeDocument/2006/relationships/slideLayout" Target="../slideLayouts/slideLayout1107.xml"/><Relationship Id="rId8" Type="http://schemas.openxmlformats.org/officeDocument/2006/relationships/slideLayout" Target="../slideLayouts/slideLayout1108.xml"/><Relationship Id="rId9" Type="http://schemas.openxmlformats.org/officeDocument/2006/relationships/slideLayout" Target="../slideLayouts/slideLayout1109.xml"/><Relationship Id="rId10" Type="http://schemas.openxmlformats.org/officeDocument/2006/relationships/slideLayout" Target="../slideLayouts/slideLayout1110.xml"/><Relationship Id="rId11" Type="http://schemas.openxmlformats.org/officeDocument/2006/relationships/slideLayout" Target="../slideLayouts/slideLayout1111.xml"/><Relationship Id="rId12" Type="http://schemas.openxmlformats.org/officeDocument/2006/relationships/slideLayout" Target="../slideLayouts/slideLayout1112.xml"/><Relationship Id="rId13" Type="http://schemas.openxmlformats.org/officeDocument/2006/relationships/slideLayout" Target="../slideLayouts/slideLayout1113.xml"/><Relationship Id="rId14" Type="http://schemas.openxmlformats.org/officeDocument/2006/relationships/slideLayout" Target="../slideLayouts/slideLayout1114.xml"/><Relationship Id="rId15" Type="http://schemas.openxmlformats.org/officeDocument/2006/relationships/slideLayout" Target="../slideLayouts/slideLayout1115.xml"/><Relationship Id="rId16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17.xml"/><Relationship Id="rId6" Type="http://schemas.openxmlformats.org/officeDocument/2006/relationships/slideLayout" Target="../slideLayouts/slideLayout1118.xml"/><Relationship Id="rId7" Type="http://schemas.openxmlformats.org/officeDocument/2006/relationships/slideLayout" Target="../slideLayouts/slideLayout1119.xml"/><Relationship Id="rId8" Type="http://schemas.openxmlformats.org/officeDocument/2006/relationships/slideLayout" Target="../slideLayouts/slideLayout1120.xml"/><Relationship Id="rId9" Type="http://schemas.openxmlformats.org/officeDocument/2006/relationships/slideLayout" Target="../slideLayouts/slideLayout1121.xml"/><Relationship Id="rId10" Type="http://schemas.openxmlformats.org/officeDocument/2006/relationships/slideLayout" Target="../slideLayouts/slideLayout1122.xml"/><Relationship Id="rId11" Type="http://schemas.openxmlformats.org/officeDocument/2006/relationships/slideLayout" Target="../slideLayouts/slideLayout1123.xml"/><Relationship Id="rId12" Type="http://schemas.openxmlformats.org/officeDocument/2006/relationships/slideLayout" Target="../slideLayouts/slideLayout1124.xml"/><Relationship Id="rId13" Type="http://schemas.openxmlformats.org/officeDocument/2006/relationships/slideLayout" Target="../slideLayouts/slideLayout1125.xml"/><Relationship Id="rId14" Type="http://schemas.openxmlformats.org/officeDocument/2006/relationships/slideLayout" Target="../slideLayouts/slideLayout1126.xml"/><Relationship Id="rId15" Type="http://schemas.openxmlformats.org/officeDocument/2006/relationships/slideLayout" Target="../slideLayouts/slideLayout1127.xml"/><Relationship Id="rId16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29.xml"/><Relationship Id="rId6" Type="http://schemas.openxmlformats.org/officeDocument/2006/relationships/slideLayout" Target="../slideLayouts/slideLayout1130.xml"/><Relationship Id="rId7" Type="http://schemas.openxmlformats.org/officeDocument/2006/relationships/slideLayout" Target="../slideLayouts/slideLayout1131.xml"/><Relationship Id="rId8" Type="http://schemas.openxmlformats.org/officeDocument/2006/relationships/slideLayout" Target="../slideLayouts/slideLayout1132.xml"/><Relationship Id="rId9" Type="http://schemas.openxmlformats.org/officeDocument/2006/relationships/slideLayout" Target="../slideLayouts/slideLayout1133.xml"/><Relationship Id="rId10" Type="http://schemas.openxmlformats.org/officeDocument/2006/relationships/slideLayout" Target="../slideLayouts/slideLayout1134.xml"/><Relationship Id="rId11" Type="http://schemas.openxmlformats.org/officeDocument/2006/relationships/slideLayout" Target="../slideLayouts/slideLayout1135.xml"/><Relationship Id="rId12" Type="http://schemas.openxmlformats.org/officeDocument/2006/relationships/slideLayout" Target="../slideLayouts/slideLayout1136.xml"/><Relationship Id="rId13" Type="http://schemas.openxmlformats.org/officeDocument/2006/relationships/slideLayout" Target="../slideLayouts/slideLayout1137.xml"/><Relationship Id="rId14" Type="http://schemas.openxmlformats.org/officeDocument/2006/relationships/slideLayout" Target="../slideLayouts/slideLayout1138.xml"/><Relationship Id="rId15" Type="http://schemas.openxmlformats.org/officeDocument/2006/relationships/slideLayout" Target="../slideLayouts/slideLayout1139.xml"/><Relationship Id="rId16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41.xml"/><Relationship Id="rId6" Type="http://schemas.openxmlformats.org/officeDocument/2006/relationships/slideLayout" Target="../slideLayouts/slideLayout1142.xml"/><Relationship Id="rId7" Type="http://schemas.openxmlformats.org/officeDocument/2006/relationships/slideLayout" Target="../slideLayouts/slideLayout1143.xml"/><Relationship Id="rId8" Type="http://schemas.openxmlformats.org/officeDocument/2006/relationships/slideLayout" Target="../slideLayouts/slideLayout1144.xml"/><Relationship Id="rId9" Type="http://schemas.openxmlformats.org/officeDocument/2006/relationships/slideLayout" Target="../slideLayouts/slideLayout1145.xml"/><Relationship Id="rId10" Type="http://schemas.openxmlformats.org/officeDocument/2006/relationships/slideLayout" Target="../slideLayouts/slideLayout1146.xml"/><Relationship Id="rId11" Type="http://schemas.openxmlformats.org/officeDocument/2006/relationships/slideLayout" Target="../slideLayouts/slideLayout1147.xml"/><Relationship Id="rId12" Type="http://schemas.openxmlformats.org/officeDocument/2006/relationships/slideLayout" Target="../slideLayouts/slideLayout1148.xml"/><Relationship Id="rId13" Type="http://schemas.openxmlformats.org/officeDocument/2006/relationships/slideLayout" Target="../slideLayouts/slideLayout1149.xml"/><Relationship Id="rId14" Type="http://schemas.openxmlformats.org/officeDocument/2006/relationships/slideLayout" Target="../slideLayouts/slideLayout1150.xml"/><Relationship Id="rId15" Type="http://schemas.openxmlformats.org/officeDocument/2006/relationships/slideLayout" Target="../slideLayouts/slideLayout1151.xml"/><Relationship Id="rId16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53.xml"/><Relationship Id="rId6" Type="http://schemas.openxmlformats.org/officeDocument/2006/relationships/slideLayout" Target="../slideLayouts/slideLayout1154.xml"/><Relationship Id="rId7" Type="http://schemas.openxmlformats.org/officeDocument/2006/relationships/slideLayout" Target="../slideLayouts/slideLayout1155.xml"/><Relationship Id="rId8" Type="http://schemas.openxmlformats.org/officeDocument/2006/relationships/slideLayout" Target="../slideLayouts/slideLayout1156.xml"/><Relationship Id="rId9" Type="http://schemas.openxmlformats.org/officeDocument/2006/relationships/slideLayout" Target="../slideLayouts/slideLayout1157.xml"/><Relationship Id="rId10" Type="http://schemas.openxmlformats.org/officeDocument/2006/relationships/slideLayout" Target="../slideLayouts/slideLayout1158.xml"/><Relationship Id="rId11" Type="http://schemas.openxmlformats.org/officeDocument/2006/relationships/slideLayout" Target="../slideLayouts/slideLayout1159.xml"/><Relationship Id="rId12" Type="http://schemas.openxmlformats.org/officeDocument/2006/relationships/slideLayout" Target="../slideLayouts/slideLayout1160.xml"/><Relationship Id="rId13" Type="http://schemas.openxmlformats.org/officeDocument/2006/relationships/slideLayout" Target="../slideLayouts/slideLayout1161.xml"/><Relationship Id="rId14" Type="http://schemas.openxmlformats.org/officeDocument/2006/relationships/slideLayout" Target="../slideLayouts/slideLayout1162.xml"/><Relationship Id="rId15" Type="http://schemas.openxmlformats.org/officeDocument/2006/relationships/slideLayout" Target="../slideLayouts/slideLayout1163.xml"/><Relationship Id="rId16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65.xml"/><Relationship Id="rId6" Type="http://schemas.openxmlformats.org/officeDocument/2006/relationships/slideLayout" Target="../slideLayouts/slideLayout1166.xml"/><Relationship Id="rId7" Type="http://schemas.openxmlformats.org/officeDocument/2006/relationships/slideLayout" Target="../slideLayouts/slideLayout1167.xml"/><Relationship Id="rId8" Type="http://schemas.openxmlformats.org/officeDocument/2006/relationships/slideLayout" Target="../slideLayouts/slideLayout1168.xml"/><Relationship Id="rId9" Type="http://schemas.openxmlformats.org/officeDocument/2006/relationships/slideLayout" Target="../slideLayouts/slideLayout1169.xml"/><Relationship Id="rId10" Type="http://schemas.openxmlformats.org/officeDocument/2006/relationships/slideLayout" Target="../slideLayouts/slideLayout1170.xml"/><Relationship Id="rId11" Type="http://schemas.openxmlformats.org/officeDocument/2006/relationships/slideLayout" Target="../slideLayouts/slideLayout1171.xml"/><Relationship Id="rId12" Type="http://schemas.openxmlformats.org/officeDocument/2006/relationships/slideLayout" Target="../slideLayouts/slideLayout1172.xml"/><Relationship Id="rId13" Type="http://schemas.openxmlformats.org/officeDocument/2006/relationships/slideLayout" Target="../slideLayouts/slideLayout1173.xml"/><Relationship Id="rId14" Type="http://schemas.openxmlformats.org/officeDocument/2006/relationships/slideLayout" Target="../slideLayouts/slideLayout1174.xml"/><Relationship Id="rId15" Type="http://schemas.openxmlformats.org/officeDocument/2006/relationships/slideLayout" Target="../slideLayouts/slideLayout1175.xml"/><Relationship Id="rId16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77.xml"/><Relationship Id="rId6" Type="http://schemas.openxmlformats.org/officeDocument/2006/relationships/slideLayout" Target="../slideLayouts/slideLayout1178.xml"/><Relationship Id="rId7" Type="http://schemas.openxmlformats.org/officeDocument/2006/relationships/slideLayout" Target="../slideLayouts/slideLayout1179.xml"/><Relationship Id="rId8" Type="http://schemas.openxmlformats.org/officeDocument/2006/relationships/slideLayout" Target="../slideLayouts/slideLayout1180.xml"/><Relationship Id="rId9" Type="http://schemas.openxmlformats.org/officeDocument/2006/relationships/slideLayout" Target="../slideLayouts/slideLayout1181.xml"/><Relationship Id="rId10" Type="http://schemas.openxmlformats.org/officeDocument/2006/relationships/slideLayout" Target="../slideLayouts/slideLayout1182.xml"/><Relationship Id="rId11" Type="http://schemas.openxmlformats.org/officeDocument/2006/relationships/slideLayout" Target="../slideLayouts/slideLayout1183.xml"/><Relationship Id="rId12" Type="http://schemas.openxmlformats.org/officeDocument/2006/relationships/slideLayout" Target="../slideLayouts/slideLayout1184.xml"/><Relationship Id="rId13" Type="http://schemas.openxmlformats.org/officeDocument/2006/relationships/slideLayout" Target="../slideLayouts/slideLayout1185.xml"/><Relationship Id="rId14" Type="http://schemas.openxmlformats.org/officeDocument/2006/relationships/slideLayout" Target="../slideLayouts/slideLayout1186.xml"/><Relationship Id="rId15" Type="http://schemas.openxmlformats.org/officeDocument/2006/relationships/slideLayout" Target="../slideLayouts/slideLayout1187.xml"/><Relationship Id="rId16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234280" y="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  <p:sp>
        <p:nvSpPr>
          <p:cNvPr id="3" name="文本框 1"/>
          <p:cNvSpPr/>
          <p:nvPr/>
        </p:nvSpPr>
        <p:spPr>
          <a:xfrm>
            <a:off x="3414600" y="6518160"/>
            <a:ext cx="23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6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7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228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229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230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PlaceHolder 1"/>
          <p:cNvSpPr>
            <a:spLocks noGrp="1"/>
          </p:cNvSpPr>
          <p:nvPr>
            <p:ph type="dt" idx="26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PlaceHolder 2"/>
          <p:cNvSpPr>
            <a:spLocks noGrp="1"/>
          </p:cNvSpPr>
          <p:nvPr>
            <p:ph type="ftr" idx="26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PlaceHolder 3"/>
          <p:cNvSpPr>
            <a:spLocks noGrp="1"/>
          </p:cNvSpPr>
          <p:nvPr>
            <p:ph type="sldNum" idx="27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DE9E-8EEF-4AF9-8516-E8567DD7232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5"/>
    <p:sldLayoutId id="2147484937" r:id="rId6"/>
    <p:sldLayoutId id="2147484938" r:id="rId7"/>
    <p:sldLayoutId id="2147484939" r:id="rId8"/>
    <p:sldLayoutId id="2147484940" r:id="rId9"/>
    <p:sldLayoutId id="2147484941" r:id="rId10"/>
    <p:sldLayoutId id="2147484942" r:id="rId11"/>
    <p:sldLayoutId id="2147484943" r:id="rId12"/>
    <p:sldLayoutId id="2147484944" r:id="rId13"/>
    <p:sldLayoutId id="2147484945" r:id="rId14"/>
    <p:sldLayoutId id="2147484946" r:id="rId15"/>
    <p:sldLayoutId id="2147484947" r:id="rId16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27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27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27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PlaceHolder 1"/>
          <p:cNvSpPr>
            <a:spLocks noGrp="1"/>
          </p:cNvSpPr>
          <p:nvPr>
            <p:ph type="dt" idx="27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PlaceHolder 2"/>
          <p:cNvSpPr>
            <a:spLocks noGrp="1"/>
          </p:cNvSpPr>
          <p:nvPr>
            <p:ph type="ftr" idx="27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PlaceHolder 3"/>
          <p:cNvSpPr>
            <a:spLocks noGrp="1"/>
          </p:cNvSpPr>
          <p:nvPr>
            <p:ph type="sldNum" idx="27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2D5A-E78A-494D-AD68-10D0AC535E0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5"/>
    <p:sldLayoutId id="2147484950" r:id="rId6"/>
    <p:sldLayoutId id="2147484951" r:id="rId7"/>
    <p:sldLayoutId id="2147484952" r:id="rId8"/>
    <p:sldLayoutId id="2147484953" r:id="rId9"/>
    <p:sldLayoutId id="2147484954" r:id="rId10"/>
    <p:sldLayoutId id="2147484955" r:id="rId11"/>
    <p:sldLayoutId id="2147484956" r:id="rId12"/>
    <p:sldLayoutId id="2147484957" r:id="rId13"/>
    <p:sldLayoutId id="2147484958" r:id="rId14"/>
    <p:sldLayoutId id="2147484959" r:id="rId15"/>
    <p:sldLayoutId id="2147484960" r:id="rId16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3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314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315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316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PlaceHolder 1"/>
          <p:cNvSpPr>
            <a:spLocks noGrp="1"/>
          </p:cNvSpPr>
          <p:nvPr>
            <p:ph type="dt" idx="27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 type="ftr" idx="27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 type="sldNum" idx="27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AF93-AEA6-4529-B396-4BA29982605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5"/>
    <p:sldLayoutId id="2147484963" r:id="rId6"/>
    <p:sldLayoutId id="2147484964" r:id="rId7"/>
    <p:sldLayoutId id="2147484965" r:id="rId8"/>
    <p:sldLayoutId id="2147484966" r:id="rId9"/>
    <p:sldLayoutId id="2147484967" r:id="rId10"/>
    <p:sldLayoutId id="2147484968" r:id="rId11"/>
    <p:sldLayoutId id="2147484969" r:id="rId12"/>
    <p:sldLayoutId id="2147484970" r:id="rId13"/>
    <p:sldLayoutId id="2147484971" r:id="rId14"/>
    <p:sldLayoutId id="2147484972" r:id="rId15"/>
    <p:sldLayoutId id="2147484973" r:id="rId16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6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357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358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359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PlaceHolder 1"/>
          <p:cNvSpPr>
            <a:spLocks noGrp="1"/>
          </p:cNvSpPr>
          <p:nvPr>
            <p:ph type="dt" idx="27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PlaceHolder 2"/>
          <p:cNvSpPr>
            <a:spLocks noGrp="1"/>
          </p:cNvSpPr>
          <p:nvPr>
            <p:ph type="ftr" idx="27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PlaceHolder 3"/>
          <p:cNvSpPr>
            <a:spLocks noGrp="1"/>
          </p:cNvSpPr>
          <p:nvPr>
            <p:ph type="sldNum" idx="27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9A04-79D1-4581-9188-7E7354D3A99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5"/>
    <p:sldLayoutId id="2147484976" r:id="rId6"/>
    <p:sldLayoutId id="2147484977" r:id="rId7"/>
    <p:sldLayoutId id="2147484978" r:id="rId8"/>
    <p:sldLayoutId id="2147484979" r:id="rId9"/>
    <p:sldLayoutId id="2147484980" r:id="rId10"/>
    <p:sldLayoutId id="2147484981" r:id="rId11"/>
    <p:sldLayoutId id="2147484982" r:id="rId12"/>
    <p:sldLayoutId id="2147484983" r:id="rId13"/>
    <p:sldLayoutId id="2147484984" r:id="rId14"/>
    <p:sldLayoutId id="2147484985" r:id="rId15"/>
    <p:sldLayoutId id="2147484986" r:id="rId16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9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400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401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402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PlaceHolder 1"/>
          <p:cNvSpPr>
            <a:spLocks noGrp="1"/>
          </p:cNvSpPr>
          <p:nvPr>
            <p:ph type="dt" idx="28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PlaceHolder 2"/>
          <p:cNvSpPr>
            <a:spLocks noGrp="1"/>
          </p:cNvSpPr>
          <p:nvPr>
            <p:ph type="ftr" idx="28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PlaceHolder 3"/>
          <p:cNvSpPr>
            <a:spLocks noGrp="1"/>
          </p:cNvSpPr>
          <p:nvPr>
            <p:ph type="sldNum" idx="28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3AF7-3C03-44E4-A359-944DDEB91EB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5"/>
    <p:sldLayoutId id="2147484989" r:id="rId6"/>
    <p:sldLayoutId id="2147484990" r:id="rId7"/>
    <p:sldLayoutId id="2147484991" r:id="rId8"/>
    <p:sldLayoutId id="2147484992" r:id="rId9"/>
    <p:sldLayoutId id="2147484993" r:id="rId10"/>
    <p:sldLayoutId id="2147484994" r:id="rId11"/>
    <p:sldLayoutId id="2147484995" r:id="rId12"/>
    <p:sldLayoutId id="2147484996" r:id="rId13"/>
    <p:sldLayoutId id="2147484997" r:id="rId14"/>
    <p:sldLayoutId id="2147484998" r:id="rId15"/>
    <p:sldLayoutId id="2147484999" r:id="rId16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2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443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444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445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PlaceHolder 1"/>
          <p:cNvSpPr>
            <a:spLocks noGrp="1"/>
          </p:cNvSpPr>
          <p:nvPr>
            <p:ph type="dt" idx="28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 type="ftr" idx="28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 type="sldNum" idx="28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F1F5-05AF-4B17-97A6-2B84F5F9EB6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5"/>
    <p:sldLayoutId id="2147485002" r:id="rId6"/>
    <p:sldLayoutId id="2147485003" r:id="rId7"/>
    <p:sldLayoutId id="2147485004" r:id="rId8"/>
    <p:sldLayoutId id="2147485005" r:id="rId9"/>
    <p:sldLayoutId id="2147485006" r:id="rId10"/>
    <p:sldLayoutId id="2147485007" r:id="rId11"/>
    <p:sldLayoutId id="2147485008" r:id="rId12"/>
    <p:sldLayoutId id="2147485009" r:id="rId13"/>
    <p:sldLayoutId id="2147485010" r:id="rId14"/>
    <p:sldLayoutId id="2147485011" r:id="rId15"/>
    <p:sldLayoutId id="2147485012" r:id="rId16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5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486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487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488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PlaceHolder 1"/>
          <p:cNvSpPr>
            <a:spLocks noGrp="1"/>
          </p:cNvSpPr>
          <p:nvPr>
            <p:ph type="dt" idx="28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PlaceHolder 2"/>
          <p:cNvSpPr>
            <a:spLocks noGrp="1"/>
          </p:cNvSpPr>
          <p:nvPr>
            <p:ph type="ftr" idx="28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PlaceHolder 3"/>
          <p:cNvSpPr>
            <a:spLocks noGrp="1"/>
          </p:cNvSpPr>
          <p:nvPr>
            <p:ph type="sldNum" idx="28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4938-FA19-4359-B08F-9C1FF008B9C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5"/>
    <p:sldLayoutId id="2147485015" r:id="rId6"/>
    <p:sldLayoutId id="2147485016" r:id="rId7"/>
    <p:sldLayoutId id="2147485017" r:id="rId8"/>
    <p:sldLayoutId id="2147485018" r:id="rId9"/>
    <p:sldLayoutId id="2147485019" r:id="rId10"/>
    <p:sldLayoutId id="2147485020" r:id="rId11"/>
    <p:sldLayoutId id="2147485021" r:id="rId12"/>
    <p:sldLayoutId id="2147485022" r:id="rId13"/>
    <p:sldLayoutId id="2147485023" r:id="rId14"/>
    <p:sldLayoutId id="2147485024" r:id="rId15"/>
    <p:sldLayoutId id="2147485025" r:id="rId16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8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529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530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531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PlaceHolder 1"/>
          <p:cNvSpPr>
            <a:spLocks noGrp="1"/>
          </p:cNvSpPr>
          <p:nvPr>
            <p:ph type="dt" idx="28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PlaceHolder 2"/>
          <p:cNvSpPr>
            <a:spLocks noGrp="1"/>
          </p:cNvSpPr>
          <p:nvPr>
            <p:ph type="ftr" idx="29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PlaceHolder 3"/>
          <p:cNvSpPr>
            <a:spLocks noGrp="1"/>
          </p:cNvSpPr>
          <p:nvPr>
            <p:ph type="sldNum" idx="29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4AA8-C539-45D8-B6A8-B9953344D1C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5"/>
    <p:sldLayoutId id="2147485028" r:id="rId6"/>
    <p:sldLayoutId id="2147485029" r:id="rId7"/>
    <p:sldLayoutId id="2147485030" r:id="rId8"/>
    <p:sldLayoutId id="2147485031" r:id="rId9"/>
    <p:sldLayoutId id="2147485032" r:id="rId10"/>
    <p:sldLayoutId id="2147485033" r:id="rId11"/>
    <p:sldLayoutId id="2147485034" r:id="rId12"/>
    <p:sldLayoutId id="2147485035" r:id="rId13"/>
    <p:sldLayoutId id="2147485036" r:id="rId14"/>
    <p:sldLayoutId id="2147485037" r:id="rId15"/>
    <p:sldLayoutId id="2147485038" r:id="rId16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1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572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573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574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PlaceHolder 1"/>
          <p:cNvSpPr>
            <a:spLocks noGrp="1"/>
          </p:cNvSpPr>
          <p:nvPr>
            <p:ph type="dt" idx="29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PlaceHolder 2"/>
          <p:cNvSpPr>
            <a:spLocks noGrp="1"/>
          </p:cNvSpPr>
          <p:nvPr>
            <p:ph type="ftr" idx="29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PlaceHolder 3"/>
          <p:cNvSpPr>
            <a:spLocks noGrp="1"/>
          </p:cNvSpPr>
          <p:nvPr>
            <p:ph type="sldNum" idx="29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08C7-4736-4F0D-84B8-E1626A72B26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5"/>
    <p:sldLayoutId id="2147485041" r:id="rId6"/>
    <p:sldLayoutId id="2147485042" r:id="rId7"/>
    <p:sldLayoutId id="2147485043" r:id="rId8"/>
    <p:sldLayoutId id="2147485044" r:id="rId9"/>
    <p:sldLayoutId id="2147485045" r:id="rId10"/>
    <p:sldLayoutId id="2147485046" r:id="rId11"/>
    <p:sldLayoutId id="2147485047" r:id="rId12"/>
    <p:sldLayoutId id="2147485048" r:id="rId13"/>
    <p:sldLayoutId id="2147485049" r:id="rId14"/>
    <p:sldLayoutId id="2147485050" r:id="rId15"/>
    <p:sldLayoutId id="2147485051" r:id="rId16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4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615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616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617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PlaceHolder 1"/>
          <p:cNvSpPr>
            <a:spLocks noGrp="1"/>
          </p:cNvSpPr>
          <p:nvPr>
            <p:ph type="dt" idx="29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PlaceHolder 2"/>
          <p:cNvSpPr>
            <a:spLocks noGrp="1"/>
          </p:cNvSpPr>
          <p:nvPr>
            <p:ph type="ftr" idx="29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PlaceHolder 3"/>
          <p:cNvSpPr>
            <a:spLocks noGrp="1"/>
          </p:cNvSpPr>
          <p:nvPr>
            <p:ph type="sldNum" idx="29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9E3F-0DB2-4315-8FB1-7493A82ED3E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5"/>
    <p:sldLayoutId id="2147485054" r:id="rId6"/>
    <p:sldLayoutId id="2147485055" r:id="rId7"/>
    <p:sldLayoutId id="2147485056" r:id="rId8"/>
    <p:sldLayoutId id="2147485057" r:id="rId9"/>
    <p:sldLayoutId id="2147485058" r:id="rId10"/>
    <p:sldLayoutId id="2147485059" r:id="rId11"/>
    <p:sldLayoutId id="2147485060" r:id="rId12"/>
    <p:sldLayoutId id="2147485061" r:id="rId13"/>
    <p:sldLayoutId id="2147485062" r:id="rId14"/>
    <p:sldLayoutId id="2147485063" r:id="rId15"/>
    <p:sldLayoutId id="2147485064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0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E285-36B0-4F31-AB3C-B0B07CEDAF5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7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658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659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660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PlaceHolder 1"/>
          <p:cNvSpPr>
            <a:spLocks noGrp="1"/>
          </p:cNvSpPr>
          <p:nvPr>
            <p:ph type="dt" idx="29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2" name="PlaceHolder 2"/>
          <p:cNvSpPr>
            <a:spLocks noGrp="1"/>
          </p:cNvSpPr>
          <p:nvPr>
            <p:ph type="ftr" idx="29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PlaceHolder 3"/>
          <p:cNvSpPr>
            <a:spLocks noGrp="1"/>
          </p:cNvSpPr>
          <p:nvPr>
            <p:ph type="sldNum" idx="30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0439-73F4-4599-9E5F-42FE6554EC4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5"/>
    <p:sldLayoutId id="2147485067" r:id="rId6"/>
    <p:sldLayoutId id="2147485068" r:id="rId7"/>
    <p:sldLayoutId id="2147485069" r:id="rId8"/>
    <p:sldLayoutId id="2147485070" r:id="rId9"/>
    <p:sldLayoutId id="2147485071" r:id="rId10"/>
    <p:sldLayoutId id="2147485072" r:id="rId11"/>
    <p:sldLayoutId id="2147485073" r:id="rId12"/>
    <p:sldLayoutId id="2147485074" r:id="rId13"/>
    <p:sldLayoutId id="2147485075" r:id="rId14"/>
    <p:sldLayoutId id="2147485076" r:id="rId15"/>
    <p:sldLayoutId id="2147485077" r:id="rId16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70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70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70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PlaceHolder 1"/>
          <p:cNvSpPr>
            <a:spLocks noGrp="1"/>
          </p:cNvSpPr>
          <p:nvPr>
            <p:ph type="dt" idx="30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PlaceHolder 2"/>
          <p:cNvSpPr>
            <a:spLocks noGrp="1"/>
          </p:cNvSpPr>
          <p:nvPr>
            <p:ph type="ftr" idx="30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PlaceHolder 3"/>
          <p:cNvSpPr>
            <a:spLocks noGrp="1"/>
          </p:cNvSpPr>
          <p:nvPr>
            <p:ph type="sldNum" idx="30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1106-B303-4305-AB11-3E7FEA52098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5"/>
    <p:sldLayoutId id="2147485080" r:id="rId6"/>
    <p:sldLayoutId id="2147485081" r:id="rId7"/>
    <p:sldLayoutId id="2147485082" r:id="rId8"/>
    <p:sldLayoutId id="2147485083" r:id="rId9"/>
    <p:sldLayoutId id="2147485084" r:id="rId10"/>
    <p:sldLayoutId id="2147485085" r:id="rId11"/>
    <p:sldLayoutId id="2147485086" r:id="rId12"/>
    <p:sldLayoutId id="2147485087" r:id="rId13"/>
    <p:sldLayoutId id="2147485088" r:id="rId14"/>
    <p:sldLayoutId id="2147485089" r:id="rId15"/>
    <p:sldLayoutId id="2147485090" r:id="rId16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3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744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745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746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PlaceHolder 1"/>
          <p:cNvSpPr>
            <a:spLocks noGrp="1"/>
          </p:cNvSpPr>
          <p:nvPr>
            <p:ph type="dt" idx="30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PlaceHolder 2"/>
          <p:cNvSpPr>
            <a:spLocks noGrp="1"/>
          </p:cNvSpPr>
          <p:nvPr>
            <p:ph type="ftr" idx="30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PlaceHolder 3"/>
          <p:cNvSpPr>
            <a:spLocks noGrp="1"/>
          </p:cNvSpPr>
          <p:nvPr>
            <p:ph type="sldNum" idx="30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6F31-A8E9-408D-A233-402E076FA55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5"/>
    <p:sldLayoutId id="2147485093" r:id="rId6"/>
    <p:sldLayoutId id="2147485094" r:id="rId7"/>
    <p:sldLayoutId id="2147485095" r:id="rId8"/>
    <p:sldLayoutId id="2147485096" r:id="rId9"/>
    <p:sldLayoutId id="2147485097" r:id="rId10"/>
    <p:sldLayoutId id="2147485098" r:id="rId11"/>
    <p:sldLayoutId id="2147485099" r:id="rId12"/>
    <p:sldLayoutId id="2147485100" r:id="rId13"/>
    <p:sldLayoutId id="2147485101" r:id="rId14"/>
    <p:sldLayoutId id="2147485102" r:id="rId15"/>
    <p:sldLayoutId id="2147485103" r:id="rId16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6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787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788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789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PlaceHolder 1"/>
          <p:cNvSpPr>
            <a:spLocks noGrp="1"/>
          </p:cNvSpPr>
          <p:nvPr>
            <p:ph type="dt" idx="30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 type="ftr" idx="30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PlaceHolder 3"/>
          <p:cNvSpPr>
            <a:spLocks noGrp="1"/>
          </p:cNvSpPr>
          <p:nvPr>
            <p:ph type="sldNum" idx="30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333D-B435-493F-8072-5B50B913EBD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5"/>
    <p:sldLayoutId id="2147485106" r:id="rId6"/>
    <p:sldLayoutId id="2147485107" r:id="rId7"/>
    <p:sldLayoutId id="2147485108" r:id="rId8"/>
    <p:sldLayoutId id="2147485109" r:id="rId9"/>
    <p:sldLayoutId id="2147485110" r:id="rId10"/>
    <p:sldLayoutId id="2147485111" r:id="rId11"/>
    <p:sldLayoutId id="2147485112" r:id="rId12"/>
    <p:sldLayoutId id="2147485113" r:id="rId13"/>
    <p:sldLayoutId id="2147485114" r:id="rId14"/>
    <p:sldLayoutId id="2147485115" r:id="rId15"/>
    <p:sldLayoutId id="2147485116" r:id="rId16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PlaceHolder 3"/>
          <p:cNvSpPr>
            <a:spLocks noGrp="1"/>
          </p:cNvSpPr>
          <p:nvPr>
            <p:ph type="dt" idx="3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2" name="PlaceHolder 4"/>
          <p:cNvSpPr>
            <a:spLocks noGrp="1"/>
          </p:cNvSpPr>
          <p:nvPr>
            <p:ph type="ftr" idx="3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3" name="PlaceHolder 5"/>
          <p:cNvSpPr>
            <a:spLocks noGrp="1"/>
          </p:cNvSpPr>
          <p:nvPr>
            <p:ph type="sldNum" idx="3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18A1-06B4-4232-8435-87891A01F7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46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BB55-D6B9-4787-89E6-A7E15B0E479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87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89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43B3-D7D7-40E5-9C17-8D4FCCF3247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532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B65E-5D0B-4DE5-A1F0-F578D8D1A72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573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575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8645-A6C3-49C8-8703-2A521E064FB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616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E348-5A29-4AAE-8F99-5FB09C00847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659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661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20C1-A2BC-4C0A-8649-D8C0A5D8735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702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704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6A8C-C3B8-43E5-AD20-CE7A5A2A478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747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0C64-E090-4C0D-9421-2F0540F1D08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790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896F-5096-4517-898F-E2591123797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83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528F-0C45-4FB2-B5D5-741925A310F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876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C44F-BA81-4656-9667-031A4C2DABB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917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919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276B-72DE-40FC-981A-2FA6625438E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962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B987-A54F-4266-9D6B-F78154AD446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003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005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dt" idx="4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sldNum" idx="4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815A-370B-430B-88C6-B42FED67396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048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dt" idx="4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sldNum" idx="4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47FC-DEF2-4E81-8C9D-7F83687F793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8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089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091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dt" idx="4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sldNum" idx="5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E322-EB78-4DE7-888A-CDAFE80FD7E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132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134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dt" idx="5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sldNum" idx="5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35E9-75E5-4C89-964B-4E60600F90B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175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177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dt" idx="5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sldNum" idx="5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3875-2771-470F-B76A-E822D916329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234280" y="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1"/>
          <p:cNvSpPr/>
          <p:nvPr/>
        </p:nvSpPr>
        <p:spPr>
          <a:xfrm>
            <a:off x="3414600" y="6518160"/>
            <a:ext cx="23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7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218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220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dt" idx="5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Num" idx="6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5049-5ECB-481F-BB05-1A0EF2F4F26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26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26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dt" idx="6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sldNum" idx="6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36B8-1B2E-4697-9E9F-C7037563D52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3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304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306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dt" idx="6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 type="sldNum" idx="6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3648-3D87-4875-8273-2F8E870A1B6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347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348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349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dt" idx="6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 type="sldNum" idx="6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C9FA-2CE2-499B-A4BE-934B29966E2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390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392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dt" idx="7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sldNum" idx="7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085E-31E3-46AE-8545-AA4CD3D982A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435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dt" idx="7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sldNum" idx="7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C4FC-3D61-4661-9192-5C80F3522A0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476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478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CA9A-421F-42BD-AC8F-4B661C3949F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8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519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520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521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dt" idx="7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 type="sldNum" idx="8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36DA-F3FE-478D-A917-245CE6DFA00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1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562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563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564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dt" idx="8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 type="sldNum" idx="8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110A-6D79-491B-B366-15B1A24FB46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4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605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607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1"/>
          <p:cNvSpPr>
            <a:spLocks noGrp="1"/>
          </p:cNvSpPr>
          <p:nvPr>
            <p:ph type="dt" idx="8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ftr" idx="8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 type="sldNum" idx="8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37DF-0793-46FF-B32C-DBF81D635CA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5"/>
    <p:sldLayoutId id="2147484144" r:id="rId6"/>
    <p:sldLayoutId id="2147484145" r:id="rId7"/>
    <p:sldLayoutId id="2147484146" r:id="rId8"/>
    <p:sldLayoutId id="2147484147" r:id="rId9"/>
    <p:sldLayoutId id="2147484148" r:id="rId10"/>
    <p:sldLayoutId id="2147484149" r:id="rId11"/>
    <p:sldLayoutId id="2147484150" r:id="rId12"/>
    <p:sldLayoutId id="2147484151" r:id="rId13"/>
    <p:sldLayoutId id="2147484152" r:id="rId14"/>
    <p:sldLayoutId id="2147484153" r:id="rId15"/>
    <p:sldLayoutId id="2147484154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7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648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650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dt" idx="8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 type="ftr" idx="8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 type="sldNum" idx="9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85BF-9916-4A4E-82FF-85613F961D1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69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69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69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dt" idx="9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ftr" idx="9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 type="sldNum" idx="9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E3ED-5B08-44FA-872B-00E5ABD10E8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5"/>
    <p:sldLayoutId id="2147484170" r:id="rId6"/>
    <p:sldLayoutId id="2147484171" r:id="rId7"/>
    <p:sldLayoutId id="2147484172" r:id="rId8"/>
    <p:sldLayoutId id="2147484173" r:id="rId9"/>
    <p:sldLayoutId id="2147484174" r:id="rId10"/>
    <p:sldLayoutId id="2147484175" r:id="rId11"/>
    <p:sldLayoutId id="2147484176" r:id="rId12"/>
    <p:sldLayoutId id="2147484177" r:id="rId13"/>
    <p:sldLayoutId id="2147484178" r:id="rId14"/>
    <p:sldLayoutId id="2147484179" r:id="rId15"/>
    <p:sldLayoutId id="2147484180" r:id="rId16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3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734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735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736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1"/>
          <p:cNvSpPr>
            <a:spLocks noGrp="1"/>
          </p:cNvSpPr>
          <p:nvPr>
            <p:ph type="dt" idx="9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 type="ftr" idx="9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 type="sldNum" idx="9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0647-ED84-494E-A6E9-6369506CB31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6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777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778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779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dt" idx="9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 type="ftr" idx="9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 type="sldNum" idx="9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F0C1-FB2E-41F9-9813-317BA9FA123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5"/>
    <p:sldLayoutId id="2147484196" r:id="rId6"/>
    <p:sldLayoutId id="2147484197" r:id="rId7"/>
    <p:sldLayoutId id="2147484198" r:id="rId8"/>
    <p:sldLayoutId id="2147484199" r:id="rId9"/>
    <p:sldLayoutId id="2147484200" r:id="rId10"/>
    <p:sldLayoutId id="2147484201" r:id="rId11"/>
    <p:sldLayoutId id="2147484202" r:id="rId12"/>
    <p:sldLayoutId id="2147484203" r:id="rId13"/>
    <p:sldLayoutId id="2147484204" r:id="rId14"/>
    <p:sldLayoutId id="2147484205" r:id="rId15"/>
    <p:sldLayoutId id="2147484206" r:id="rId16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9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820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821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822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1"/>
          <p:cNvSpPr>
            <a:spLocks noGrp="1"/>
          </p:cNvSpPr>
          <p:nvPr>
            <p:ph type="dt" idx="10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 type="ftr" idx="10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 type="sldNum" idx="10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7E06-49E8-4F77-89EC-3AA06FCDED1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5"/>
    <p:sldLayoutId id="2147484209" r:id="rId6"/>
    <p:sldLayoutId id="2147484210" r:id="rId7"/>
    <p:sldLayoutId id="2147484211" r:id="rId8"/>
    <p:sldLayoutId id="2147484212" r:id="rId9"/>
    <p:sldLayoutId id="2147484213" r:id="rId10"/>
    <p:sldLayoutId id="2147484214" r:id="rId11"/>
    <p:sldLayoutId id="2147484215" r:id="rId12"/>
    <p:sldLayoutId id="2147484216" r:id="rId13"/>
    <p:sldLayoutId id="2147484217" r:id="rId14"/>
    <p:sldLayoutId id="2147484218" r:id="rId15"/>
    <p:sldLayoutId id="2147484219" r:id="rId16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2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863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864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865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1"/>
          <p:cNvSpPr>
            <a:spLocks noGrp="1"/>
          </p:cNvSpPr>
          <p:nvPr>
            <p:ph type="dt" idx="10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 type="ftr" idx="10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 type="sldNum" idx="10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CD66-A116-4F94-8D09-184CCF1D14B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5"/>
    <p:sldLayoutId id="2147484222" r:id="rId6"/>
    <p:sldLayoutId id="2147484223" r:id="rId7"/>
    <p:sldLayoutId id="2147484224" r:id="rId8"/>
    <p:sldLayoutId id="2147484225" r:id="rId9"/>
    <p:sldLayoutId id="2147484226" r:id="rId10"/>
    <p:sldLayoutId id="2147484227" r:id="rId11"/>
    <p:sldLayoutId id="2147484228" r:id="rId12"/>
    <p:sldLayoutId id="2147484229" r:id="rId13"/>
    <p:sldLayoutId id="2147484230" r:id="rId14"/>
    <p:sldLayoutId id="2147484231" r:id="rId15"/>
    <p:sldLayoutId id="2147484232" r:id="rId16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5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906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907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908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1"/>
          <p:cNvSpPr>
            <a:spLocks noGrp="1"/>
          </p:cNvSpPr>
          <p:nvPr>
            <p:ph type="dt" idx="10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 type="ftr" idx="10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 type="sldNum" idx="10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E384-3214-436D-9629-36D4F7F3F0D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5"/>
    <p:sldLayoutId id="2147484235" r:id="rId6"/>
    <p:sldLayoutId id="2147484236" r:id="rId7"/>
    <p:sldLayoutId id="2147484237" r:id="rId8"/>
    <p:sldLayoutId id="2147484238" r:id="rId9"/>
    <p:sldLayoutId id="2147484239" r:id="rId10"/>
    <p:sldLayoutId id="2147484240" r:id="rId11"/>
    <p:sldLayoutId id="2147484241" r:id="rId12"/>
    <p:sldLayoutId id="2147484242" r:id="rId13"/>
    <p:sldLayoutId id="2147484243" r:id="rId14"/>
    <p:sldLayoutId id="2147484244" r:id="rId15"/>
    <p:sldLayoutId id="2147484245" r:id="rId16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8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949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951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1"/>
          <p:cNvSpPr>
            <a:spLocks noGrp="1"/>
          </p:cNvSpPr>
          <p:nvPr>
            <p:ph type="dt" idx="10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 type="ftr" idx="11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 type="sldNum" idx="11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4084-9826-47E4-80DF-AE9E6F8DF29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5"/>
    <p:sldLayoutId id="2147484248" r:id="rId6"/>
    <p:sldLayoutId id="2147484249" r:id="rId7"/>
    <p:sldLayoutId id="2147484250" r:id="rId8"/>
    <p:sldLayoutId id="2147484251" r:id="rId9"/>
    <p:sldLayoutId id="2147484252" r:id="rId10"/>
    <p:sldLayoutId id="2147484253" r:id="rId11"/>
    <p:sldLayoutId id="2147484254" r:id="rId12"/>
    <p:sldLayoutId id="2147484255" r:id="rId13"/>
    <p:sldLayoutId id="2147484256" r:id="rId14"/>
    <p:sldLayoutId id="2147484257" r:id="rId15"/>
    <p:sldLayoutId id="2147484258" r:id="rId16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1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992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993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994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1"/>
          <p:cNvSpPr>
            <a:spLocks noGrp="1"/>
          </p:cNvSpPr>
          <p:nvPr>
            <p:ph type="dt" idx="11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 type="ftr" idx="11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 type="sldNum" idx="11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B31B-04F3-4373-B4A7-5D4A504E5DF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5"/>
    <p:sldLayoutId id="2147484261" r:id="rId6"/>
    <p:sldLayoutId id="2147484262" r:id="rId7"/>
    <p:sldLayoutId id="2147484263" r:id="rId8"/>
    <p:sldLayoutId id="2147484264" r:id="rId9"/>
    <p:sldLayoutId id="2147484265" r:id="rId10"/>
    <p:sldLayoutId id="2147484266" r:id="rId11"/>
    <p:sldLayoutId id="2147484267" r:id="rId12"/>
    <p:sldLayoutId id="2147484268" r:id="rId13"/>
    <p:sldLayoutId id="2147484269" r:id="rId14"/>
    <p:sldLayoutId id="2147484270" r:id="rId15"/>
    <p:sldLayoutId id="2147484271" r:id="rId16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4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035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036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037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1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BFD9-D8BF-4794-8CE1-FC63E86D859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5"/>
    <p:sldLayoutId id="2147484274" r:id="rId6"/>
    <p:sldLayoutId id="2147484275" r:id="rId7"/>
    <p:sldLayoutId id="2147484276" r:id="rId8"/>
    <p:sldLayoutId id="2147484277" r:id="rId9"/>
    <p:sldLayoutId id="2147484278" r:id="rId10"/>
    <p:sldLayoutId id="2147484279" r:id="rId11"/>
    <p:sldLayoutId id="2147484280" r:id="rId12"/>
    <p:sldLayoutId id="2147484281" r:id="rId13"/>
    <p:sldLayoutId id="2147484282" r:id="rId14"/>
    <p:sldLayoutId id="2147484283" r:id="rId15"/>
    <p:sldLayoutId id="2147484284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7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078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079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080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dt" idx="11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 type="ftr" idx="11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 type="sldNum" idx="12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E120-6D8B-45E1-AE87-F76F68EC282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5"/>
    <p:sldLayoutId id="2147484287" r:id="rId6"/>
    <p:sldLayoutId id="2147484288" r:id="rId7"/>
    <p:sldLayoutId id="2147484289" r:id="rId8"/>
    <p:sldLayoutId id="2147484290" r:id="rId9"/>
    <p:sldLayoutId id="2147484291" r:id="rId10"/>
    <p:sldLayoutId id="2147484292" r:id="rId11"/>
    <p:sldLayoutId id="2147484293" r:id="rId12"/>
    <p:sldLayoutId id="2147484294" r:id="rId13"/>
    <p:sldLayoutId id="2147484295" r:id="rId14"/>
    <p:sldLayoutId id="2147484296" r:id="rId15"/>
    <p:sldLayoutId id="2147484297" r:id="rId16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12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12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12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dt" idx="12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 type="ftr" idx="12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 type="sldNum" idx="12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B36F-2560-40B4-A8A7-CA6D6E6DED3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5"/>
    <p:sldLayoutId id="2147484300" r:id="rId6"/>
    <p:sldLayoutId id="2147484301" r:id="rId7"/>
    <p:sldLayoutId id="2147484302" r:id="rId8"/>
    <p:sldLayoutId id="2147484303" r:id="rId9"/>
    <p:sldLayoutId id="2147484304" r:id="rId10"/>
    <p:sldLayoutId id="2147484305" r:id="rId11"/>
    <p:sldLayoutId id="2147484306" r:id="rId12"/>
    <p:sldLayoutId id="2147484307" r:id="rId13"/>
    <p:sldLayoutId id="2147484308" r:id="rId14"/>
    <p:sldLayoutId id="2147484309" r:id="rId15"/>
    <p:sldLayoutId id="2147484310" r:id="rId16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3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164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165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166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1"/>
          <p:cNvSpPr>
            <a:spLocks noGrp="1"/>
          </p:cNvSpPr>
          <p:nvPr>
            <p:ph type="dt" idx="12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 type="ftr" idx="12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 type="sldNum" idx="12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AB94-93A0-4DEE-A9BC-321F2BCE4E4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5"/>
    <p:sldLayoutId id="2147484313" r:id="rId6"/>
    <p:sldLayoutId id="2147484314" r:id="rId7"/>
    <p:sldLayoutId id="2147484315" r:id="rId8"/>
    <p:sldLayoutId id="2147484316" r:id="rId9"/>
    <p:sldLayoutId id="2147484317" r:id="rId10"/>
    <p:sldLayoutId id="2147484318" r:id="rId11"/>
    <p:sldLayoutId id="2147484319" r:id="rId12"/>
    <p:sldLayoutId id="2147484320" r:id="rId13"/>
    <p:sldLayoutId id="2147484321" r:id="rId14"/>
    <p:sldLayoutId id="2147484322" r:id="rId15"/>
    <p:sldLayoutId id="2147484323" r:id="rId16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6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207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208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209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1"/>
          <p:cNvSpPr>
            <a:spLocks noGrp="1"/>
          </p:cNvSpPr>
          <p:nvPr>
            <p:ph type="dt" idx="12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 type="ftr" idx="12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 type="sldNum" idx="12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792A-63D2-4C9C-94CD-695D74A14DB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5"/>
    <p:sldLayoutId id="2147484326" r:id="rId6"/>
    <p:sldLayoutId id="2147484327" r:id="rId7"/>
    <p:sldLayoutId id="2147484328" r:id="rId8"/>
    <p:sldLayoutId id="2147484329" r:id="rId9"/>
    <p:sldLayoutId id="2147484330" r:id="rId10"/>
    <p:sldLayoutId id="2147484331" r:id="rId11"/>
    <p:sldLayoutId id="2147484332" r:id="rId12"/>
    <p:sldLayoutId id="2147484333" r:id="rId13"/>
    <p:sldLayoutId id="2147484334" r:id="rId14"/>
    <p:sldLayoutId id="2147484335" r:id="rId15"/>
    <p:sldLayoutId id="2147484336" r:id="rId16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9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250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251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252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1"/>
          <p:cNvSpPr>
            <a:spLocks noGrp="1"/>
          </p:cNvSpPr>
          <p:nvPr>
            <p:ph type="dt" idx="13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ftr" idx="13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 type="sldNum" idx="13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E69A-4A08-4FFC-A0B0-F8635CF7FA2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5"/>
    <p:sldLayoutId id="2147484339" r:id="rId6"/>
    <p:sldLayoutId id="2147484340" r:id="rId7"/>
    <p:sldLayoutId id="2147484341" r:id="rId8"/>
    <p:sldLayoutId id="2147484342" r:id="rId9"/>
    <p:sldLayoutId id="2147484343" r:id="rId10"/>
    <p:sldLayoutId id="2147484344" r:id="rId11"/>
    <p:sldLayoutId id="2147484345" r:id="rId12"/>
    <p:sldLayoutId id="2147484346" r:id="rId13"/>
    <p:sldLayoutId id="2147484347" r:id="rId14"/>
    <p:sldLayoutId id="2147484348" r:id="rId15"/>
    <p:sldLayoutId id="2147484349" r:id="rId16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2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293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294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295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PlaceHolder 1"/>
          <p:cNvSpPr>
            <a:spLocks noGrp="1"/>
          </p:cNvSpPr>
          <p:nvPr>
            <p:ph type="dt" idx="13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ftr" idx="13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sldNum" idx="13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0464-C414-4EF5-8086-B57F86DEBA0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5"/>
    <p:sldLayoutId id="2147484352" r:id="rId6"/>
    <p:sldLayoutId id="2147484353" r:id="rId7"/>
    <p:sldLayoutId id="2147484354" r:id="rId8"/>
    <p:sldLayoutId id="2147484355" r:id="rId9"/>
    <p:sldLayoutId id="2147484356" r:id="rId10"/>
    <p:sldLayoutId id="2147484357" r:id="rId11"/>
    <p:sldLayoutId id="2147484358" r:id="rId12"/>
    <p:sldLayoutId id="2147484359" r:id="rId13"/>
    <p:sldLayoutId id="2147484360" r:id="rId14"/>
    <p:sldLayoutId id="2147484361" r:id="rId15"/>
    <p:sldLayoutId id="2147484362" r:id="rId16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5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336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337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338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1"/>
          <p:cNvSpPr>
            <a:spLocks noGrp="1"/>
          </p:cNvSpPr>
          <p:nvPr>
            <p:ph type="dt" idx="13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 type="ftr" idx="13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 type="sldNum" idx="13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4378-CA03-4B90-91B4-D2E0EE04DCD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5"/>
    <p:sldLayoutId id="2147484365" r:id="rId6"/>
    <p:sldLayoutId id="2147484366" r:id="rId7"/>
    <p:sldLayoutId id="2147484367" r:id="rId8"/>
    <p:sldLayoutId id="2147484368" r:id="rId9"/>
    <p:sldLayoutId id="2147484369" r:id="rId10"/>
    <p:sldLayoutId id="2147484370" r:id="rId11"/>
    <p:sldLayoutId id="2147484371" r:id="rId12"/>
    <p:sldLayoutId id="2147484372" r:id="rId13"/>
    <p:sldLayoutId id="2147484373" r:id="rId14"/>
    <p:sldLayoutId id="2147484374" r:id="rId15"/>
    <p:sldLayoutId id="2147484375" r:id="rId16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8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379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380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381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1"/>
          <p:cNvSpPr>
            <a:spLocks noGrp="1"/>
          </p:cNvSpPr>
          <p:nvPr>
            <p:ph type="dt" idx="13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 type="ftr" idx="14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 type="sldNum" idx="14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51F3-9CB2-431A-B683-D930A6FFDAF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5"/>
    <p:sldLayoutId id="2147484378" r:id="rId6"/>
    <p:sldLayoutId id="2147484379" r:id="rId7"/>
    <p:sldLayoutId id="2147484380" r:id="rId8"/>
    <p:sldLayoutId id="2147484381" r:id="rId9"/>
    <p:sldLayoutId id="2147484382" r:id="rId10"/>
    <p:sldLayoutId id="2147484383" r:id="rId11"/>
    <p:sldLayoutId id="2147484384" r:id="rId12"/>
    <p:sldLayoutId id="2147484385" r:id="rId13"/>
    <p:sldLayoutId id="2147484386" r:id="rId14"/>
    <p:sldLayoutId id="2147484387" r:id="rId15"/>
    <p:sldLayoutId id="2147484388" r:id="rId16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1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422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423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424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1"/>
          <p:cNvSpPr>
            <a:spLocks noGrp="1"/>
          </p:cNvSpPr>
          <p:nvPr>
            <p:ph type="dt" idx="14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 type="ftr" idx="14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 type="sldNum" idx="14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C9BF-B272-4B35-8779-2A270F2FDFC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5"/>
    <p:sldLayoutId id="2147484391" r:id="rId6"/>
    <p:sldLayoutId id="2147484392" r:id="rId7"/>
    <p:sldLayoutId id="2147484393" r:id="rId8"/>
    <p:sldLayoutId id="2147484394" r:id="rId9"/>
    <p:sldLayoutId id="2147484395" r:id="rId10"/>
    <p:sldLayoutId id="2147484396" r:id="rId11"/>
    <p:sldLayoutId id="2147484397" r:id="rId12"/>
    <p:sldLayoutId id="2147484398" r:id="rId13"/>
    <p:sldLayoutId id="2147484399" r:id="rId14"/>
    <p:sldLayoutId id="2147484400" r:id="rId15"/>
    <p:sldLayoutId id="2147484401" r:id="rId16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4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465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466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467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1"/>
          <p:cNvSpPr>
            <a:spLocks noGrp="1"/>
          </p:cNvSpPr>
          <p:nvPr>
            <p:ph type="dt" idx="14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 type="ftr" idx="14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 type="sldNum" idx="14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DC60-E887-40D6-9184-01B8FFA6346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5"/>
    <p:sldLayoutId id="2147484404" r:id="rId6"/>
    <p:sldLayoutId id="2147484405" r:id="rId7"/>
    <p:sldLayoutId id="2147484406" r:id="rId8"/>
    <p:sldLayoutId id="2147484407" r:id="rId9"/>
    <p:sldLayoutId id="2147484408" r:id="rId10"/>
    <p:sldLayoutId id="2147484409" r:id="rId11"/>
    <p:sldLayoutId id="2147484410" r:id="rId12"/>
    <p:sldLayoutId id="2147484411" r:id="rId13"/>
    <p:sldLayoutId id="2147484412" r:id="rId14"/>
    <p:sldLayoutId id="2147484413" r:id="rId15"/>
    <p:sldLayoutId id="2147484414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7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508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509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510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PlaceHolder 1"/>
          <p:cNvSpPr>
            <a:spLocks noGrp="1"/>
          </p:cNvSpPr>
          <p:nvPr>
            <p:ph type="dt" idx="14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 type="ftr" idx="14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 type="sldNum" idx="15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019F-0D88-4CB5-9DE9-3E02E426BB4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5"/>
    <p:sldLayoutId id="2147484417" r:id="rId6"/>
    <p:sldLayoutId id="2147484418" r:id="rId7"/>
    <p:sldLayoutId id="2147484419" r:id="rId8"/>
    <p:sldLayoutId id="2147484420" r:id="rId9"/>
    <p:sldLayoutId id="2147484421" r:id="rId10"/>
    <p:sldLayoutId id="2147484422" r:id="rId11"/>
    <p:sldLayoutId id="2147484423" r:id="rId12"/>
    <p:sldLayoutId id="2147484424" r:id="rId13"/>
    <p:sldLayoutId id="2147484425" r:id="rId14"/>
    <p:sldLayoutId id="2147484426" r:id="rId15"/>
    <p:sldLayoutId id="2147484427" r:id="rId16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55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55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55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PlaceHolder 1"/>
          <p:cNvSpPr>
            <a:spLocks noGrp="1"/>
          </p:cNvSpPr>
          <p:nvPr>
            <p:ph type="dt" idx="15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ftr" idx="15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 type="sldNum" idx="15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F8E1-D900-4006-82E2-0830DBC47C8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5"/>
    <p:sldLayoutId id="2147484430" r:id="rId6"/>
    <p:sldLayoutId id="2147484431" r:id="rId7"/>
    <p:sldLayoutId id="2147484432" r:id="rId8"/>
    <p:sldLayoutId id="2147484433" r:id="rId9"/>
    <p:sldLayoutId id="2147484434" r:id="rId10"/>
    <p:sldLayoutId id="2147484435" r:id="rId11"/>
    <p:sldLayoutId id="2147484436" r:id="rId12"/>
    <p:sldLayoutId id="2147484437" r:id="rId13"/>
    <p:sldLayoutId id="2147484438" r:id="rId14"/>
    <p:sldLayoutId id="2147484439" r:id="rId15"/>
    <p:sldLayoutId id="2147484440" r:id="rId16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3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594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595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596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PlaceHolder 1"/>
          <p:cNvSpPr>
            <a:spLocks noGrp="1"/>
          </p:cNvSpPr>
          <p:nvPr>
            <p:ph type="dt" idx="1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 type="ftr" idx="1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 type="sldNum" idx="15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0626-F5F7-4A6A-B5A4-E2BB28E1542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5"/>
    <p:sldLayoutId id="2147484443" r:id="rId6"/>
    <p:sldLayoutId id="2147484444" r:id="rId7"/>
    <p:sldLayoutId id="2147484445" r:id="rId8"/>
    <p:sldLayoutId id="2147484446" r:id="rId9"/>
    <p:sldLayoutId id="2147484447" r:id="rId10"/>
    <p:sldLayoutId id="2147484448" r:id="rId11"/>
    <p:sldLayoutId id="2147484449" r:id="rId12"/>
    <p:sldLayoutId id="2147484450" r:id="rId13"/>
    <p:sldLayoutId id="2147484451" r:id="rId14"/>
    <p:sldLayoutId id="2147484452" r:id="rId15"/>
    <p:sldLayoutId id="2147484453" r:id="rId16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6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637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638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639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PlaceHolder 1"/>
          <p:cNvSpPr>
            <a:spLocks noGrp="1"/>
          </p:cNvSpPr>
          <p:nvPr>
            <p:ph type="dt" idx="15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 type="ftr" idx="15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 type="sldNum" idx="15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F8F1-192A-4332-A185-CD5EE782E60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5"/>
    <p:sldLayoutId id="2147484456" r:id="rId6"/>
    <p:sldLayoutId id="2147484457" r:id="rId7"/>
    <p:sldLayoutId id="2147484458" r:id="rId8"/>
    <p:sldLayoutId id="2147484459" r:id="rId9"/>
    <p:sldLayoutId id="2147484460" r:id="rId10"/>
    <p:sldLayoutId id="2147484461" r:id="rId11"/>
    <p:sldLayoutId id="2147484462" r:id="rId12"/>
    <p:sldLayoutId id="2147484463" r:id="rId13"/>
    <p:sldLayoutId id="2147484464" r:id="rId14"/>
    <p:sldLayoutId id="2147484465" r:id="rId15"/>
    <p:sldLayoutId id="2147484466" r:id="rId16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9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680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681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682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PlaceHolder 1"/>
          <p:cNvSpPr>
            <a:spLocks noGrp="1"/>
          </p:cNvSpPr>
          <p:nvPr>
            <p:ph type="dt" idx="16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ftr" idx="16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sldNum" idx="16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0F1E-3B94-4D76-9E10-967269ADA5C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5"/>
    <p:sldLayoutId id="2147484469" r:id="rId6"/>
    <p:sldLayoutId id="2147484470" r:id="rId7"/>
    <p:sldLayoutId id="2147484471" r:id="rId8"/>
    <p:sldLayoutId id="2147484472" r:id="rId9"/>
    <p:sldLayoutId id="2147484473" r:id="rId10"/>
    <p:sldLayoutId id="2147484474" r:id="rId11"/>
    <p:sldLayoutId id="2147484475" r:id="rId12"/>
    <p:sldLayoutId id="2147484476" r:id="rId13"/>
    <p:sldLayoutId id="2147484477" r:id="rId14"/>
    <p:sldLayoutId id="2147484478" r:id="rId15"/>
    <p:sldLayoutId id="2147484479" r:id="rId16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2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723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724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725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PlaceHolder 1"/>
          <p:cNvSpPr>
            <a:spLocks noGrp="1"/>
          </p:cNvSpPr>
          <p:nvPr>
            <p:ph type="dt" idx="16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 type="ftr" idx="16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 type="sldNum" idx="16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D36B-074D-48CB-BEA4-DC879C35DEA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5"/>
    <p:sldLayoutId id="2147484482" r:id="rId6"/>
    <p:sldLayoutId id="2147484483" r:id="rId7"/>
    <p:sldLayoutId id="2147484484" r:id="rId8"/>
    <p:sldLayoutId id="2147484485" r:id="rId9"/>
    <p:sldLayoutId id="2147484486" r:id="rId10"/>
    <p:sldLayoutId id="2147484487" r:id="rId11"/>
    <p:sldLayoutId id="2147484488" r:id="rId12"/>
    <p:sldLayoutId id="2147484489" r:id="rId13"/>
    <p:sldLayoutId id="2147484490" r:id="rId14"/>
    <p:sldLayoutId id="2147484491" r:id="rId15"/>
    <p:sldLayoutId id="2147484492" r:id="rId16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5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766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767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768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PlaceHolder 1"/>
          <p:cNvSpPr>
            <a:spLocks noGrp="1"/>
          </p:cNvSpPr>
          <p:nvPr>
            <p:ph type="dt" idx="16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 type="ftr" idx="16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 type="sldNum" idx="16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FFB1-A2F1-439C-B812-AB5038E2870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5"/>
    <p:sldLayoutId id="2147484495" r:id="rId6"/>
    <p:sldLayoutId id="2147484496" r:id="rId7"/>
    <p:sldLayoutId id="2147484497" r:id="rId8"/>
    <p:sldLayoutId id="2147484498" r:id="rId9"/>
    <p:sldLayoutId id="2147484499" r:id="rId10"/>
    <p:sldLayoutId id="2147484500" r:id="rId11"/>
    <p:sldLayoutId id="2147484501" r:id="rId12"/>
    <p:sldLayoutId id="2147484502" r:id="rId13"/>
    <p:sldLayoutId id="2147484503" r:id="rId14"/>
    <p:sldLayoutId id="2147484504" r:id="rId15"/>
    <p:sldLayoutId id="2147484505" r:id="rId16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8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809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810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811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PlaceHolder 1"/>
          <p:cNvSpPr>
            <a:spLocks noGrp="1"/>
          </p:cNvSpPr>
          <p:nvPr>
            <p:ph type="dt" idx="16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 type="ftr" idx="17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 type="sldNum" idx="17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4DAA-7FCE-4F73-8F21-31D6B0484D5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5"/>
    <p:sldLayoutId id="2147484508" r:id="rId6"/>
    <p:sldLayoutId id="2147484509" r:id="rId7"/>
    <p:sldLayoutId id="2147484510" r:id="rId8"/>
    <p:sldLayoutId id="2147484511" r:id="rId9"/>
    <p:sldLayoutId id="2147484512" r:id="rId10"/>
    <p:sldLayoutId id="2147484513" r:id="rId11"/>
    <p:sldLayoutId id="2147484514" r:id="rId12"/>
    <p:sldLayoutId id="2147484515" r:id="rId13"/>
    <p:sldLayoutId id="2147484516" r:id="rId14"/>
    <p:sldLayoutId id="2147484517" r:id="rId15"/>
    <p:sldLayoutId id="2147484518" r:id="rId16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1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852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853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854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PlaceHolder 1"/>
          <p:cNvSpPr>
            <a:spLocks noGrp="1"/>
          </p:cNvSpPr>
          <p:nvPr>
            <p:ph type="dt" idx="17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 type="ftr" idx="17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 type="sldNum" idx="17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B127-097E-4EBE-920E-3A35BFFB8ED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5"/>
    <p:sldLayoutId id="2147484521" r:id="rId6"/>
    <p:sldLayoutId id="2147484522" r:id="rId7"/>
    <p:sldLayoutId id="2147484523" r:id="rId8"/>
    <p:sldLayoutId id="2147484524" r:id="rId9"/>
    <p:sldLayoutId id="2147484525" r:id="rId10"/>
    <p:sldLayoutId id="2147484526" r:id="rId11"/>
    <p:sldLayoutId id="2147484527" r:id="rId12"/>
    <p:sldLayoutId id="2147484528" r:id="rId13"/>
    <p:sldLayoutId id="2147484529" r:id="rId14"/>
    <p:sldLayoutId id="2147484530" r:id="rId15"/>
    <p:sldLayoutId id="2147484531" r:id="rId16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4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895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896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897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1"/>
          <p:cNvSpPr>
            <a:spLocks noGrp="1"/>
          </p:cNvSpPr>
          <p:nvPr>
            <p:ph type="dt" idx="17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ftr" idx="17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sldNum" idx="17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3DB4-8F67-4CC7-8DEB-1E05889C8A9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5"/>
    <p:sldLayoutId id="2147484534" r:id="rId6"/>
    <p:sldLayoutId id="2147484535" r:id="rId7"/>
    <p:sldLayoutId id="2147484536" r:id="rId8"/>
    <p:sldLayoutId id="2147484537" r:id="rId9"/>
    <p:sldLayoutId id="2147484538" r:id="rId10"/>
    <p:sldLayoutId id="2147484539" r:id="rId11"/>
    <p:sldLayoutId id="2147484540" r:id="rId12"/>
    <p:sldLayoutId id="2147484541" r:id="rId13"/>
    <p:sldLayoutId id="2147484542" r:id="rId14"/>
    <p:sldLayoutId id="2147484543" r:id="rId15"/>
    <p:sldLayoutId id="2147484544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7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938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939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940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PlaceHolder 1"/>
          <p:cNvSpPr>
            <a:spLocks noGrp="1"/>
          </p:cNvSpPr>
          <p:nvPr>
            <p:ph type="dt" idx="17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 type="ftr" idx="17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 type="sldNum" idx="18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7985-5B51-4D9D-BB62-5C7A35B71C6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5"/>
    <p:sldLayoutId id="2147484547" r:id="rId6"/>
    <p:sldLayoutId id="2147484548" r:id="rId7"/>
    <p:sldLayoutId id="2147484549" r:id="rId8"/>
    <p:sldLayoutId id="2147484550" r:id="rId9"/>
    <p:sldLayoutId id="2147484551" r:id="rId10"/>
    <p:sldLayoutId id="2147484552" r:id="rId11"/>
    <p:sldLayoutId id="2147484553" r:id="rId12"/>
    <p:sldLayoutId id="2147484554" r:id="rId13"/>
    <p:sldLayoutId id="2147484555" r:id="rId14"/>
    <p:sldLayoutId id="2147484556" r:id="rId15"/>
    <p:sldLayoutId id="2147484557" r:id="rId16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98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98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98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PlaceHolder 1"/>
          <p:cNvSpPr>
            <a:spLocks noGrp="1"/>
          </p:cNvSpPr>
          <p:nvPr>
            <p:ph type="dt" idx="18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 type="ftr" idx="18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PlaceHolder 3"/>
          <p:cNvSpPr>
            <a:spLocks noGrp="1"/>
          </p:cNvSpPr>
          <p:nvPr>
            <p:ph type="sldNum" idx="18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05C9-06EC-47B4-8750-3050010C70A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5"/>
    <p:sldLayoutId id="2147484560" r:id="rId6"/>
    <p:sldLayoutId id="2147484561" r:id="rId7"/>
    <p:sldLayoutId id="2147484562" r:id="rId8"/>
    <p:sldLayoutId id="2147484563" r:id="rId9"/>
    <p:sldLayoutId id="2147484564" r:id="rId10"/>
    <p:sldLayoutId id="2147484565" r:id="rId11"/>
    <p:sldLayoutId id="2147484566" r:id="rId12"/>
    <p:sldLayoutId id="2147484567" r:id="rId13"/>
    <p:sldLayoutId id="2147484568" r:id="rId14"/>
    <p:sldLayoutId id="2147484569" r:id="rId15"/>
    <p:sldLayoutId id="2147484570" r:id="rId16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3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024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025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026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PlaceHolder 1"/>
          <p:cNvSpPr>
            <a:spLocks noGrp="1"/>
          </p:cNvSpPr>
          <p:nvPr>
            <p:ph type="dt" idx="18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 type="ftr" idx="18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 type="sldNum" idx="18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2C6E-1CDB-4B36-9185-918E6789D0B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5"/>
    <p:sldLayoutId id="2147484573" r:id="rId6"/>
    <p:sldLayoutId id="2147484574" r:id="rId7"/>
    <p:sldLayoutId id="2147484575" r:id="rId8"/>
    <p:sldLayoutId id="2147484576" r:id="rId9"/>
    <p:sldLayoutId id="2147484577" r:id="rId10"/>
    <p:sldLayoutId id="2147484578" r:id="rId11"/>
    <p:sldLayoutId id="2147484579" r:id="rId12"/>
    <p:sldLayoutId id="2147484580" r:id="rId13"/>
    <p:sldLayoutId id="2147484581" r:id="rId14"/>
    <p:sldLayoutId id="2147484582" r:id="rId15"/>
    <p:sldLayoutId id="2147484583" r:id="rId16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6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067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068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069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PlaceHolder 1"/>
          <p:cNvSpPr>
            <a:spLocks noGrp="1"/>
          </p:cNvSpPr>
          <p:nvPr>
            <p:ph type="dt" idx="18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 type="ftr" idx="18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 type="sldNum" idx="18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196B-C1BF-40E4-8C39-E2639894CB4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5"/>
    <p:sldLayoutId id="2147484586" r:id="rId6"/>
    <p:sldLayoutId id="2147484587" r:id="rId7"/>
    <p:sldLayoutId id="2147484588" r:id="rId8"/>
    <p:sldLayoutId id="2147484589" r:id="rId9"/>
    <p:sldLayoutId id="2147484590" r:id="rId10"/>
    <p:sldLayoutId id="2147484591" r:id="rId11"/>
    <p:sldLayoutId id="2147484592" r:id="rId12"/>
    <p:sldLayoutId id="2147484593" r:id="rId13"/>
    <p:sldLayoutId id="2147484594" r:id="rId14"/>
    <p:sldLayoutId id="2147484595" r:id="rId15"/>
    <p:sldLayoutId id="2147484596" r:id="rId16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9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110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111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112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PlaceHolder 1"/>
          <p:cNvSpPr>
            <a:spLocks noGrp="1"/>
          </p:cNvSpPr>
          <p:nvPr>
            <p:ph type="dt" idx="19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 type="ftr" idx="19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 type="sldNum" idx="19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615D-9BFC-4E0F-B3EB-7746F84BFC0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5"/>
    <p:sldLayoutId id="2147484599" r:id="rId6"/>
    <p:sldLayoutId id="2147484600" r:id="rId7"/>
    <p:sldLayoutId id="2147484601" r:id="rId8"/>
    <p:sldLayoutId id="2147484602" r:id="rId9"/>
    <p:sldLayoutId id="2147484603" r:id="rId10"/>
    <p:sldLayoutId id="2147484604" r:id="rId11"/>
    <p:sldLayoutId id="2147484605" r:id="rId12"/>
    <p:sldLayoutId id="2147484606" r:id="rId13"/>
    <p:sldLayoutId id="2147484607" r:id="rId14"/>
    <p:sldLayoutId id="2147484608" r:id="rId15"/>
    <p:sldLayoutId id="2147484609" r:id="rId16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2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153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154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155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PlaceHolder 1"/>
          <p:cNvSpPr>
            <a:spLocks noGrp="1"/>
          </p:cNvSpPr>
          <p:nvPr>
            <p:ph type="dt" idx="19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PlaceHolder 2"/>
          <p:cNvSpPr>
            <a:spLocks noGrp="1"/>
          </p:cNvSpPr>
          <p:nvPr>
            <p:ph type="ftr" idx="19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3"/>
          <p:cNvSpPr>
            <a:spLocks noGrp="1"/>
          </p:cNvSpPr>
          <p:nvPr>
            <p:ph type="sldNum" idx="19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969C-3F9C-430B-B1A6-408CA64F272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5"/>
    <p:sldLayoutId id="2147484612" r:id="rId6"/>
    <p:sldLayoutId id="2147484613" r:id="rId7"/>
    <p:sldLayoutId id="2147484614" r:id="rId8"/>
    <p:sldLayoutId id="2147484615" r:id="rId9"/>
    <p:sldLayoutId id="2147484616" r:id="rId10"/>
    <p:sldLayoutId id="2147484617" r:id="rId11"/>
    <p:sldLayoutId id="2147484618" r:id="rId12"/>
    <p:sldLayoutId id="2147484619" r:id="rId13"/>
    <p:sldLayoutId id="2147484620" r:id="rId14"/>
    <p:sldLayoutId id="2147484621" r:id="rId15"/>
    <p:sldLayoutId id="2147484622" r:id="rId16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5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196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197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198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PlaceHolder 1"/>
          <p:cNvSpPr>
            <a:spLocks noGrp="1"/>
          </p:cNvSpPr>
          <p:nvPr>
            <p:ph type="dt" idx="19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PlaceHolder 2"/>
          <p:cNvSpPr>
            <a:spLocks noGrp="1"/>
          </p:cNvSpPr>
          <p:nvPr>
            <p:ph type="ftr" idx="19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PlaceHolder 3"/>
          <p:cNvSpPr>
            <a:spLocks noGrp="1"/>
          </p:cNvSpPr>
          <p:nvPr>
            <p:ph type="sldNum" idx="19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653F-294F-4DBF-9B50-830DC795549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5"/>
    <p:sldLayoutId id="2147484625" r:id="rId6"/>
    <p:sldLayoutId id="2147484626" r:id="rId7"/>
    <p:sldLayoutId id="2147484627" r:id="rId8"/>
    <p:sldLayoutId id="2147484628" r:id="rId9"/>
    <p:sldLayoutId id="2147484629" r:id="rId10"/>
    <p:sldLayoutId id="2147484630" r:id="rId11"/>
    <p:sldLayoutId id="2147484631" r:id="rId12"/>
    <p:sldLayoutId id="2147484632" r:id="rId13"/>
    <p:sldLayoutId id="2147484633" r:id="rId14"/>
    <p:sldLayoutId id="2147484634" r:id="rId15"/>
    <p:sldLayoutId id="2147484635" r:id="rId16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8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239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240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241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PlaceHolder 1"/>
          <p:cNvSpPr>
            <a:spLocks noGrp="1"/>
          </p:cNvSpPr>
          <p:nvPr>
            <p:ph type="dt" idx="19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 type="ftr" idx="20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 type="sldNum" idx="20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5D69-DF83-4E80-AAF8-709F8EE818B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5"/>
    <p:sldLayoutId id="2147484638" r:id="rId6"/>
    <p:sldLayoutId id="2147484639" r:id="rId7"/>
    <p:sldLayoutId id="2147484640" r:id="rId8"/>
    <p:sldLayoutId id="2147484641" r:id="rId9"/>
    <p:sldLayoutId id="2147484642" r:id="rId10"/>
    <p:sldLayoutId id="2147484643" r:id="rId11"/>
    <p:sldLayoutId id="2147484644" r:id="rId12"/>
    <p:sldLayoutId id="2147484645" r:id="rId13"/>
    <p:sldLayoutId id="2147484646" r:id="rId14"/>
    <p:sldLayoutId id="2147484647" r:id="rId15"/>
    <p:sldLayoutId id="2147484648" r:id="rId16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1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282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283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284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PlaceHolder 1"/>
          <p:cNvSpPr>
            <a:spLocks noGrp="1"/>
          </p:cNvSpPr>
          <p:nvPr>
            <p:ph type="dt" idx="20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 type="ftr" idx="20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PlaceHolder 3"/>
          <p:cNvSpPr>
            <a:spLocks noGrp="1"/>
          </p:cNvSpPr>
          <p:nvPr>
            <p:ph type="sldNum" idx="20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884C-57FA-4453-87E4-EEA911193AA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5"/>
    <p:sldLayoutId id="2147484651" r:id="rId6"/>
    <p:sldLayoutId id="2147484652" r:id="rId7"/>
    <p:sldLayoutId id="2147484653" r:id="rId8"/>
    <p:sldLayoutId id="2147484654" r:id="rId9"/>
    <p:sldLayoutId id="2147484655" r:id="rId10"/>
    <p:sldLayoutId id="2147484656" r:id="rId11"/>
    <p:sldLayoutId id="2147484657" r:id="rId12"/>
    <p:sldLayoutId id="2147484658" r:id="rId13"/>
    <p:sldLayoutId id="2147484659" r:id="rId14"/>
    <p:sldLayoutId id="2147484660" r:id="rId15"/>
    <p:sldLayoutId id="2147484661" r:id="rId16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4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325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326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327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PlaceHolder 1"/>
          <p:cNvSpPr>
            <a:spLocks noGrp="1"/>
          </p:cNvSpPr>
          <p:nvPr>
            <p:ph type="dt" idx="20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 type="ftr" idx="20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PlaceHolder 3"/>
          <p:cNvSpPr>
            <a:spLocks noGrp="1"/>
          </p:cNvSpPr>
          <p:nvPr>
            <p:ph type="sldNum" idx="20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BD78-4ED2-47FC-8F3F-E8ADE1D45A0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5"/>
    <p:sldLayoutId id="2147484664" r:id="rId6"/>
    <p:sldLayoutId id="2147484665" r:id="rId7"/>
    <p:sldLayoutId id="2147484666" r:id="rId8"/>
    <p:sldLayoutId id="2147484667" r:id="rId9"/>
    <p:sldLayoutId id="2147484668" r:id="rId10"/>
    <p:sldLayoutId id="2147484669" r:id="rId11"/>
    <p:sldLayoutId id="2147484670" r:id="rId12"/>
    <p:sldLayoutId id="2147484671" r:id="rId13"/>
    <p:sldLayoutId id="2147484672" r:id="rId14"/>
    <p:sldLayoutId id="2147484673" r:id="rId15"/>
    <p:sldLayoutId id="2147484674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8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7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368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369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370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PlaceHolder 1"/>
          <p:cNvSpPr>
            <a:spLocks noGrp="1"/>
          </p:cNvSpPr>
          <p:nvPr>
            <p:ph type="dt" idx="20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 type="ftr" idx="20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 type="sldNum" idx="21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1E1E-9E95-4139-AB49-F61F4B9B125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5"/>
    <p:sldLayoutId id="2147484677" r:id="rId6"/>
    <p:sldLayoutId id="2147484678" r:id="rId7"/>
    <p:sldLayoutId id="2147484679" r:id="rId8"/>
    <p:sldLayoutId id="2147484680" r:id="rId9"/>
    <p:sldLayoutId id="2147484681" r:id="rId10"/>
    <p:sldLayoutId id="2147484682" r:id="rId11"/>
    <p:sldLayoutId id="2147484683" r:id="rId12"/>
    <p:sldLayoutId id="2147484684" r:id="rId13"/>
    <p:sldLayoutId id="2147484685" r:id="rId14"/>
    <p:sldLayoutId id="2147484686" r:id="rId15"/>
    <p:sldLayoutId id="2147484687" r:id="rId16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41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41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41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PlaceHolder 1"/>
          <p:cNvSpPr>
            <a:spLocks noGrp="1"/>
          </p:cNvSpPr>
          <p:nvPr>
            <p:ph type="dt" idx="21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 type="ftr" idx="21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PlaceHolder 3"/>
          <p:cNvSpPr>
            <a:spLocks noGrp="1"/>
          </p:cNvSpPr>
          <p:nvPr>
            <p:ph type="sldNum" idx="21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6254-3E9B-489A-A2C3-71B9AF72206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5"/>
    <p:sldLayoutId id="2147484690" r:id="rId6"/>
    <p:sldLayoutId id="2147484691" r:id="rId7"/>
    <p:sldLayoutId id="2147484692" r:id="rId8"/>
    <p:sldLayoutId id="2147484693" r:id="rId9"/>
    <p:sldLayoutId id="2147484694" r:id="rId10"/>
    <p:sldLayoutId id="2147484695" r:id="rId11"/>
    <p:sldLayoutId id="2147484696" r:id="rId12"/>
    <p:sldLayoutId id="2147484697" r:id="rId13"/>
    <p:sldLayoutId id="2147484698" r:id="rId14"/>
    <p:sldLayoutId id="2147484699" r:id="rId15"/>
    <p:sldLayoutId id="2147484700" r:id="rId16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3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454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455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456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PlaceHolder 1"/>
          <p:cNvSpPr>
            <a:spLocks noGrp="1"/>
          </p:cNvSpPr>
          <p:nvPr>
            <p:ph type="dt" idx="21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 type="ftr" idx="21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 type="sldNum" idx="21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415D-7806-4E40-AD25-1B914BA108F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5"/>
    <p:sldLayoutId id="2147484703" r:id="rId6"/>
    <p:sldLayoutId id="2147484704" r:id="rId7"/>
    <p:sldLayoutId id="2147484705" r:id="rId8"/>
    <p:sldLayoutId id="2147484706" r:id="rId9"/>
    <p:sldLayoutId id="2147484707" r:id="rId10"/>
    <p:sldLayoutId id="2147484708" r:id="rId11"/>
    <p:sldLayoutId id="2147484709" r:id="rId12"/>
    <p:sldLayoutId id="2147484710" r:id="rId13"/>
    <p:sldLayoutId id="2147484711" r:id="rId14"/>
    <p:sldLayoutId id="2147484712" r:id="rId15"/>
    <p:sldLayoutId id="2147484713" r:id="rId16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6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497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498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499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PlaceHolder 1"/>
          <p:cNvSpPr>
            <a:spLocks noGrp="1"/>
          </p:cNvSpPr>
          <p:nvPr>
            <p:ph type="dt" idx="21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PlaceHolder 2"/>
          <p:cNvSpPr>
            <a:spLocks noGrp="1"/>
          </p:cNvSpPr>
          <p:nvPr>
            <p:ph type="ftr" idx="21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PlaceHolder 3"/>
          <p:cNvSpPr>
            <a:spLocks noGrp="1"/>
          </p:cNvSpPr>
          <p:nvPr>
            <p:ph type="sldNum" idx="21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97D2-E1B7-403E-BC86-A16B88451B8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5"/>
    <p:sldLayoutId id="2147484716" r:id="rId6"/>
    <p:sldLayoutId id="2147484717" r:id="rId7"/>
    <p:sldLayoutId id="2147484718" r:id="rId8"/>
    <p:sldLayoutId id="2147484719" r:id="rId9"/>
    <p:sldLayoutId id="2147484720" r:id="rId10"/>
    <p:sldLayoutId id="2147484721" r:id="rId11"/>
    <p:sldLayoutId id="2147484722" r:id="rId12"/>
    <p:sldLayoutId id="2147484723" r:id="rId13"/>
    <p:sldLayoutId id="2147484724" r:id="rId14"/>
    <p:sldLayoutId id="2147484725" r:id="rId15"/>
    <p:sldLayoutId id="2147484726" r:id="rId16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9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540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541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542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PlaceHolder 1"/>
          <p:cNvSpPr>
            <a:spLocks noGrp="1"/>
          </p:cNvSpPr>
          <p:nvPr>
            <p:ph type="dt" idx="22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 type="ftr" idx="22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PlaceHolder 3"/>
          <p:cNvSpPr>
            <a:spLocks noGrp="1"/>
          </p:cNvSpPr>
          <p:nvPr>
            <p:ph type="sldNum" idx="22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1411-341D-44E8-9FB0-B7150AB7233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5"/>
    <p:sldLayoutId id="2147484729" r:id="rId6"/>
    <p:sldLayoutId id="2147484730" r:id="rId7"/>
    <p:sldLayoutId id="2147484731" r:id="rId8"/>
    <p:sldLayoutId id="2147484732" r:id="rId9"/>
    <p:sldLayoutId id="2147484733" r:id="rId10"/>
    <p:sldLayoutId id="2147484734" r:id="rId11"/>
    <p:sldLayoutId id="2147484735" r:id="rId12"/>
    <p:sldLayoutId id="2147484736" r:id="rId13"/>
    <p:sldLayoutId id="2147484737" r:id="rId14"/>
    <p:sldLayoutId id="2147484738" r:id="rId15"/>
    <p:sldLayoutId id="2147484739" r:id="rId16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2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583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584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585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PlaceHolder 1"/>
          <p:cNvSpPr>
            <a:spLocks noGrp="1"/>
          </p:cNvSpPr>
          <p:nvPr>
            <p:ph type="dt" idx="22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PlaceHolder 2"/>
          <p:cNvSpPr>
            <a:spLocks noGrp="1"/>
          </p:cNvSpPr>
          <p:nvPr>
            <p:ph type="ftr" idx="22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PlaceHolder 3"/>
          <p:cNvSpPr>
            <a:spLocks noGrp="1"/>
          </p:cNvSpPr>
          <p:nvPr>
            <p:ph type="sldNum" idx="22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8D65-5DC8-4ADB-8172-E366E1E5D1A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5"/>
    <p:sldLayoutId id="2147484742" r:id="rId6"/>
    <p:sldLayoutId id="2147484743" r:id="rId7"/>
    <p:sldLayoutId id="2147484744" r:id="rId8"/>
    <p:sldLayoutId id="2147484745" r:id="rId9"/>
    <p:sldLayoutId id="2147484746" r:id="rId10"/>
    <p:sldLayoutId id="2147484747" r:id="rId11"/>
    <p:sldLayoutId id="2147484748" r:id="rId12"/>
    <p:sldLayoutId id="2147484749" r:id="rId13"/>
    <p:sldLayoutId id="2147484750" r:id="rId14"/>
    <p:sldLayoutId id="2147484751" r:id="rId15"/>
    <p:sldLayoutId id="2147484752" r:id="rId16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5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626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627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628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PlaceHolder 1"/>
          <p:cNvSpPr>
            <a:spLocks noGrp="1"/>
          </p:cNvSpPr>
          <p:nvPr>
            <p:ph type="dt" idx="22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 type="ftr" idx="22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PlaceHolder 3"/>
          <p:cNvSpPr>
            <a:spLocks noGrp="1"/>
          </p:cNvSpPr>
          <p:nvPr>
            <p:ph type="sldNum" idx="22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5ED0-49AC-415D-BB2B-BF9BD069E3A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5"/>
    <p:sldLayoutId id="2147484755" r:id="rId6"/>
    <p:sldLayoutId id="2147484756" r:id="rId7"/>
    <p:sldLayoutId id="2147484757" r:id="rId8"/>
    <p:sldLayoutId id="2147484758" r:id="rId9"/>
    <p:sldLayoutId id="2147484759" r:id="rId10"/>
    <p:sldLayoutId id="2147484760" r:id="rId11"/>
    <p:sldLayoutId id="2147484761" r:id="rId12"/>
    <p:sldLayoutId id="2147484762" r:id="rId13"/>
    <p:sldLayoutId id="2147484763" r:id="rId14"/>
    <p:sldLayoutId id="2147484764" r:id="rId15"/>
    <p:sldLayoutId id="2147484765" r:id="rId16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8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669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670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671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PlaceHolder 1"/>
          <p:cNvSpPr>
            <a:spLocks noGrp="1"/>
          </p:cNvSpPr>
          <p:nvPr>
            <p:ph type="dt" idx="22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2"/>
          <p:cNvSpPr>
            <a:spLocks noGrp="1"/>
          </p:cNvSpPr>
          <p:nvPr>
            <p:ph type="ftr" idx="23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PlaceHolder 3"/>
          <p:cNvSpPr>
            <a:spLocks noGrp="1"/>
          </p:cNvSpPr>
          <p:nvPr>
            <p:ph type="sldNum" idx="23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D9C9-3DCE-4290-9E21-8420634BE97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5"/>
    <p:sldLayoutId id="2147484768" r:id="rId6"/>
    <p:sldLayoutId id="2147484769" r:id="rId7"/>
    <p:sldLayoutId id="2147484770" r:id="rId8"/>
    <p:sldLayoutId id="2147484771" r:id="rId9"/>
    <p:sldLayoutId id="2147484772" r:id="rId10"/>
    <p:sldLayoutId id="2147484773" r:id="rId11"/>
    <p:sldLayoutId id="2147484774" r:id="rId12"/>
    <p:sldLayoutId id="2147484775" r:id="rId13"/>
    <p:sldLayoutId id="2147484776" r:id="rId14"/>
    <p:sldLayoutId id="2147484777" r:id="rId15"/>
    <p:sldLayoutId id="2147484778" r:id="rId16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1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712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713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714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PlaceHolder 1"/>
          <p:cNvSpPr>
            <a:spLocks noGrp="1"/>
          </p:cNvSpPr>
          <p:nvPr>
            <p:ph type="dt" idx="2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PlaceHolder 2"/>
          <p:cNvSpPr>
            <a:spLocks noGrp="1"/>
          </p:cNvSpPr>
          <p:nvPr>
            <p:ph type="ftr" idx="2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PlaceHolder 3"/>
          <p:cNvSpPr>
            <a:spLocks noGrp="1"/>
          </p:cNvSpPr>
          <p:nvPr>
            <p:ph type="sldNum" idx="2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D86A-23B6-42E8-BCFD-FD4A38EF808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5"/>
    <p:sldLayoutId id="2147484781" r:id="rId6"/>
    <p:sldLayoutId id="2147484782" r:id="rId7"/>
    <p:sldLayoutId id="2147484783" r:id="rId8"/>
    <p:sldLayoutId id="2147484784" r:id="rId9"/>
    <p:sldLayoutId id="2147484785" r:id="rId10"/>
    <p:sldLayoutId id="2147484786" r:id="rId11"/>
    <p:sldLayoutId id="2147484787" r:id="rId12"/>
    <p:sldLayoutId id="2147484788" r:id="rId13"/>
    <p:sldLayoutId id="2147484789" r:id="rId14"/>
    <p:sldLayoutId id="2147484790" r:id="rId15"/>
    <p:sldLayoutId id="2147484791" r:id="rId16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4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755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756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757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PlaceHolder 1"/>
          <p:cNvSpPr>
            <a:spLocks noGrp="1"/>
          </p:cNvSpPr>
          <p:nvPr>
            <p:ph type="dt" idx="23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PlaceHolder 2"/>
          <p:cNvSpPr>
            <a:spLocks noGrp="1"/>
          </p:cNvSpPr>
          <p:nvPr>
            <p:ph type="ftr" idx="23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PlaceHolder 3"/>
          <p:cNvSpPr>
            <a:spLocks noGrp="1"/>
          </p:cNvSpPr>
          <p:nvPr>
            <p:ph type="sldNum" idx="23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B318-FB31-463B-A796-DA6B7AB3019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5"/>
    <p:sldLayoutId id="2147484794" r:id="rId6"/>
    <p:sldLayoutId id="2147484795" r:id="rId7"/>
    <p:sldLayoutId id="2147484796" r:id="rId8"/>
    <p:sldLayoutId id="2147484797" r:id="rId9"/>
    <p:sldLayoutId id="2147484798" r:id="rId10"/>
    <p:sldLayoutId id="2147484799" r:id="rId11"/>
    <p:sldLayoutId id="2147484800" r:id="rId12"/>
    <p:sldLayoutId id="2147484801" r:id="rId13"/>
    <p:sldLayoutId id="2147484802" r:id="rId14"/>
    <p:sldLayoutId id="2147484803" r:id="rId15"/>
    <p:sldLayoutId id="2147484804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2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2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7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798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799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800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PlaceHolder 1"/>
          <p:cNvSpPr>
            <a:spLocks noGrp="1"/>
          </p:cNvSpPr>
          <p:nvPr>
            <p:ph type="dt" idx="23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 type="ftr" idx="23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 type="sldNum" idx="24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7E47-7C96-428E-A798-84E6260845E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5"/>
    <p:sldLayoutId id="2147484807" r:id="rId6"/>
    <p:sldLayoutId id="2147484808" r:id="rId7"/>
    <p:sldLayoutId id="2147484809" r:id="rId8"/>
    <p:sldLayoutId id="2147484810" r:id="rId9"/>
    <p:sldLayoutId id="2147484811" r:id="rId10"/>
    <p:sldLayoutId id="2147484812" r:id="rId11"/>
    <p:sldLayoutId id="2147484813" r:id="rId12"/>
    <p:sldLayoutId id="2147484814" r:id="rId13"/>
    <p:sldLayoutId id="2147484815" r:id="rId14"/>
    <p:sldLayoutId id="2147484816" r:id="rId15"/>
    <p:sldLayoutId id="2147484817" r:id="rId16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84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84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84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PlaceHolder 1"/>
          <p:cNvSpPr>
            <a:spLocks noGrp="1"/>
          </p:cNvSpPr>
          <p:nvPr>
            <p:ph type="dt" idx="24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PlaceHolder 2"/>
          <p:cNvSpPr>
            <a:spLocks noGrp="1"/>
          </p:cNvSpPr>
          <p:nvPr>
            <p:ph type="ftr" idx="24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PlaceHolder 3"/>
          <p:cNvSpPr>
            <a:spLocks noGrp="1"/>
          </p:cNvSpPr>
          <p:nvPr>
            <p:ph type="sldNum" idx="24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2B17-E18B-493F-B75F-5D257B566A0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5"/>
    <p:sldLayoutId id="2147484820" r:id="rId6"/>
    <p:sldLayoutId id="2147484821" r:id="rId7"/>
    <p:sldLayoutId id="2147484822" r:id="rId8"/>
    <p:sldLayoutId id="2147484823" r:id="rId9"/>
    <p:sldLayoutId id="2147484824" r:id="rId10"/>
    <p:sldLayoutId id="2147484825" r:id="rId11"/>
    <p:sldLayoutId id="2147484826" r:id="rId12"/>
    <p:sldLayoutId id="2147484827" r:id="rId13"/>
    <p:sldLayoutId id="2147484828" r:id="rId14"/>
    <p:sldLayoutId id="2147484829" r:id="rId15"/>
    <p:sldLayoutId id="2147484830" r:id="rId16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3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884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885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886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PlaceHolder 1"/>
          <p:cNvSpPr>
            <a:spLocks noGrp="1"/>
          </p:cNvSpPr>
          <p:nvPr>
            <p:ph type="dt" idx="24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PlaceHolder 2"/>
          <p:cNvSpPr>
            <a:spLocks noGrp="1"/>
          </p:cNvSpPr>
          <p:nvPr>
            <p:ph type="ftr" idx="24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PlaceHolder 3"/>
          <p:cNvSpPr>
            <a:spLocks noGrp="1"/>
          </p:cNvSpPr>
          <p:nvPr>
            <p:ph type="sldNum" idx="24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7E8E-1FF2-4B8F-8602-0B61D77FA54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5"/>
    <p:sldLayoutId id="2147484833" r:id="rId6"/>
    <p:sldLayoutId id="2147484834" r:id="rId7"/>
    <p:sldLayoutId id="2147484835" r:id="rId8"/>
    <p:sldLayoutId id="2147484836" r:id="rId9"/>
    <p:sldLayoutId id="2147484837" r:id="rId10"/>
    <p:sldLayoutId id="2147484838" r:id="rId11"/>
    <p:sldLayoutId id="2147484839" r:id="rId12"/>
    <p:sldLayoutId id="2147484840" r:id="rId13"/>
    <p:sldLayoutId id="2147484841" r:id="rId14"/>
    <p:sldLayoutId id="2147484842" r:id="rId15"/>
    <p:sldLayoutId id="2147484843" r:id="rId16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6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927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928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929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PlaceHolder 1"/>
          <p:cNvSpPr>
            <a:spLocks noGrp="1"/>
          </p:cNvSpPr>
          <p:nvPr>
            <p:ph type="dt" idx="24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PlaceHolder 2"/>
          <p:cNvSpPr>
            <a:spLocks noGrp="1"/>
          </p:cNvSpPr>
          <p:nvPr>
            <p:ph type="ftr" idx="24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PlaceHolder 3"/>
          <p:cNvSpPr>
            <a:spLocks noGrp="1"/>
          </p:cNvSpPr>
          <p:nvPr>
            <p:ph type="sldNum" idx="24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63DC-690E-44E3-870F-27BAE0AF4A7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5"/>
    <p:sldLayoutId id="2147484846" r:id="rId6"/>
    <p:sldLayoutId id="2147484847" r:id="rId7"/>
    <p:sldLayoutId id="2147484848" r:id="rId8"/>
    <p:sldLayoutId id="2147484849" r:id="rId9"/>
    <p:sldLayoutId id="2147484850" r:id="rId10"/>
    <p:sldLayoutId id="2147484851" r:id="rId11"/>
    <p:sldLayoutId id="2147484852" r:id="rId12"/>
    <p:sldLayoutId id="2147484853" r:id="rId13"/>
    <p:sldLayoutId id="2147484854" r:id="rId14"/>
    <p:sldLayoutId id="2147484855" r:id="rId15"/>
    <p:sldLayoutId id="2147484856" r:id="rId16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9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970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971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972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PlaceHolder 1"/>
          <p:cNvSpPr>
            <a:spLocks noGrp="1"/>
          </p:cNvSpPr>
          <p:nvPr>
            <p:ph type="dt" idx="25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PlaceHolder 2"/>
          <p:cNvSpPr>
            <a:spLocks noGrp="1"/>
          </p:cNvSpPr>
          <p:nvPr>
            <p:ph type="ftr" idx="25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PlaceHolder 3"/>
          <p:cNvSpPr>
            <a:spLocks noGrp="1"/>
          </p:cNvSpPr>
          <p:nvPr>
            <p:ph type="sldNum" idx="25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05DA-0C2D-4257-BC30-E8682103D55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5"/>
    <p:sldLayoutId id="2147484859" r:id="rId6"/>
    <p:sldLayoutId id="2147484860" r:id="rId7"/>
    <p:sldLayoutId id="2147484861" r:id="rId8"/>
    <p:sldLayoutId id="2147484862" r:id="rId9"/>
    <p:sldLayoutId id="2147484863" r:id="rId10"/>
    <p:sldLayoutId id="2147484864" r:id="rId11"/>
    <p:sldLayoutId id="2147484865" r:id="rId12"/>
    <p:sldLayoutId id="2147484866" r:id="rId13"/>
    <p:sldLayoutId id="2147484867" r:id="rId14"/>
    <p:sldLayoutId id="2147484868" r:id="rId15"/>
    <p:sldLayoutId id="2147484869" r:id="rId16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2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013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014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015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PlaceHolder 1"/>
          <p:cNvSpPr>
            <a:spLocks noGrp="1"/>
          </p:cNvSpPr>
          <p:nvPr>
            <p:ph type="dt" idx="25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PlaceHolder 2"/>
          <p:cNvSpPr>
            <a:spLocks noGrp="1"/>
          </p:cNvSpPr>
          <p:nvPr>
            <p:ph type="ftr" idx="25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PlaceHolder 3"/>
          <p:cNvSpPr>
            <a:spLocks noGrp="1"/>
          </p:cNvSpPr>
          <p:nvPr>
            <p:ph type="sldNum" idx="25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13A1-036F-439D-82C3-50895C2AC6C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5"/>
    <p:sldLayoutId id="2147484872" r:id="rId6"/>
    <p:sldLayoutId id="2147484873" r:id="rId7"/>
    <p:sldLayoutId id="2147484874" r:id="rId8"/>
    <p:sldLayoutId id="2147484875" r:id="rId9"/>
    <p:sldLayoutId id="2147484876" r:id="rId10"/>
    <p:sldLayoutId id="2147484877" r:id="rId11"/>
    <p:sldLayoutId id="2147484878" r:id="rId12"/>
    <p:sldLayoutId id="2147484879" r:id="rId13"/>
    <p:sldLayoutId id="2147484880" r:id="rId14"/>
    <p:sldLayoutId id="2147484881" r:id="rId15"/>
    <p:sldLayoutId id="2147484882" r:id="rId16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5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056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057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058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PlaceHolder 1"/>
          <p:cNvSpPr>
            <a:spLocks noGrp="1"/>
          </p:cNvSpPr>
          <p:nvPr>
            <p:ph type="dt" idx="25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 type="ftr" idx="25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 type="sldNum" idx="25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DF72-1379-411B-BF86-0DB6A9D4307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5"/>
    <p:sldLayoutId id="2147484885" r:id="rId6"/>
    <p:sldLayoutId id="2147484886" r:id="rId7"/>
    <p:sldLayoutId id="2147484887" r:id="rId8"/>
    <p:sldLayoutId id="2147484888" r:id="rId9"/>
    <p:sldLayoutId id="2147484889" r:id="rId10"/>
    <p:sldLayoutId id="2147484890" r:id="rId11"/>
    <p:sldLayoutId id="2147484891" r:id="rId12"/>
    <p:sldLayoutId id="2147484892" r:id="rId13"/>
    <p:sldLayoutId id="2147484893" r:id="rId14"/>
    <p:sldLayoutId id="2147484894" r:id="rId15"/>
    <p:sldLayoutId id="2147484895" r:id="rId16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8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099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100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101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PlaceHolder 1"/>
          <p:cNvSpPr>
            <a:spLocks noGrp="1"/>
          </p:cNvSpPr>
          <p:nvPr>
            <p:ph type="dt" idx="25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PlaceHolder 2"/>
          <p:cNvSpPr>
            <a:spLocks noGrp="1"/>
          </p:cNvSpPr>
          <p:nvPr>
            <p:ph type="ftr" idx="26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PlaceHolder 3"/>
          <p:cNvSpPr>
            <a:spLocks noGrp="1"/>
          </p:cNvSpPr>
          <p:nvPr>
            <p:ph type="sldNum" idx="26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0BBE-13A8-4F17-A3A2-C76AC8D97A5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5"/>
    <p:sldLayoutId id="2147484898" r:id="rId6"/>
    <p:sldLayoutId id="2147484899" r:id="rId7"/>
    <p:sldLayoutId id="2147484900" r:id="rId8"/>
    <p:sldLayoutId id="2147484901" r:id="rId9"/>
    <p:sldLayoutId id="2147484902" r:id="rId10"/>
    <p:sldLayoutId id="2147484903" r:id="rId11"/>
    <p:sldLayoutId id="2147484904" r:id="rId12"/>
    <p:sldLayoutId id="2147484905" r:id="rId13"/>
    <p:sldLayoutId id="2147484906" r:id="rId14"/>
    <p:sldLayoutId id="2147484907" r:id="rId15"/>
    <p:sldLayoutId id="2147484908" r:id="rId16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1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142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143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144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PlaceHolder 1"/>
          <p:cNvSpPr>
            <a:spLocks noGrp="1"/>
          </p:cNvSpPr>
          <p:nvPr>
            <p:ph type="dt" idx="26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PlaceHolder 2"/>
          <p:cNvSpPr>
            <a:spLocks noGrp="1"/>
          </p:cNvSpPr>
          <p:nvPr>
            <p:ph type="ftr" idx="26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PlaceHolder 3"/>
          <p:cNvSpPr>
            <a:spLocks noGrp="1"/>
          </p:cNvSpPr>
          <p:nvPr>
            <p:ph type="sldNum" idx="26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BE03-6965-4CFE-8462-708CD9130B5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5"/>
    <p:sldLayoutId id="2147484911" r:id="rId6"/>
    <p:sldLayoutId id="2147484912" r:id="rId7"/>
    <p:sldLayoutId id="2147484913" r:id="rId8"/>
    <p:sldLayoutId id="2147484914" r:id="rId9"/>
    <p:sldLayoutId id="2147484915" r:id="rId10"/>
    <p:sldLayoutId id="2147484916" r:id="rId11"/>
    <p:sldLayoutId id="2147484917" r:id="rId12"/>
    <p:sldLayoutId id="2147484918" r:id="rId13"/>
    <p:sldLayoutId id="2147484919" r:id="rId14"/>
    <p:sldLayoutId id="2147484920" r:id="rId15"/>
    <p:sldLayoutId id="2147484921" r:id="rId16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4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185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186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187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PlaceHolder 1"/>
          <p:cNvSpPr>
            <a:spLocks noGrp="1"/>
          </p:cNvSpPr>
          <p:nvPr>
            <p:ph type="dt" idx="26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PlaceHolder 2"/>
          <p:cNvSpPr>
            <a:spLocks noGrp="1"/>
          </p:cNvSpPr>
          <p:nvPr>
            <p:ph type="ftr" idx="26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PlaceHolder 3"/>
          <p:cNvSpPr>
            <a:spLocks noGrp="1"/>
          </p:cNvSpPr>
          <p:nvPr>
            <p:ph type="sldNum" idx="26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B68D-0E8C-4117-95D2-B3B0300DC7C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5"/>
    <p:sldLayoutId id="2147484924" r:id="rId6"/>
    <p:sldLayoutId id="2147484925" r:id="rId7"/>
    <p:sldLayoutId id="2147484926" r:id="rId8"/>
    <p:sldLayoutId id="2147484927" r:id="rId9"/>
    <p:sldLayoutId id="2147484928" r:id="rId10"/>
    <p:sldLayoutId id="2147484929" r:id="rId11"/>
    <p:sldLayoutId id="2147484930" r:id="rId12"/>
    <p:sldLayoutId id="2147484931" r:id="rId13"/>
    <p:sldLayoutId id="2147484932" r:id="rId14"/>
    <p:sldLayoutId id="2147484933" r:id="rId15"/>
    <p:sldLayoutId id="214748493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0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8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0" name="图片 1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438960"/>
          </a:xfrm>
          <a:prstGeom prst="rect">
            <a:avLst/>
          </a:prstGeom>
          <a:ln w="0">
            <a:noFill/>
          </a:ln>
        </p:spPr>
      </p:pic>
      <p:sp>
        <p:nvSpPr>
          <p:cNvPr id="4871" name="文本框 1"/>
          <p:cNvSpPr/>
          <p:nvPr/>
        </p:nvSpPr>
        <p:spPr>
          <a:xfrm>
            <a:off x="0" y="4579920"/>
            <a:ext cx="9144000" cy="1446120"/>
          </a:xfrm>
          <a:prstGeom prst="rect">
            <a:avLst/>
          </a:prstGeom>
          <a:solidFill>
            <a:srgbClr val="d9d9d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2" name="直接连接符 5"/>
          <p:cNvSpPr/>
          <p:nvPr/>
        </p:nvSpPr>
        <p:spPr>
          <a:xfrm>
            <a:off x="1601640" y="5546880"/>
            <a:ext cx="5583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3" name="PlaceHolder 1"/>
          <p:cNvSpPr>
            <a:spLocks noGrp="1"/>
          </p:cNvSpPr>
          <p:nvPr>
            <p:ph type="title"/>
          </p:nvPr>
        </p:nvSpPr>
        <p:spPr>
          <a:xfrm>
            <a:off x="1773000" y="4771800"/>
            <a:ext cx="5430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天下第一楼（节选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Rectangle 5"/>
          <p:cNvSpPr/>
          <p:nvPr/>
        </p:nvSpPr>
        <p:spPr>
          <a:xfrm>
            <a:off x="457200" y="576360"/>
            <a:ext cx="81406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上述情节也正是本文的戏剧冲突，说说这些戏剧冲突是围绕什么展开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文本框 1"/>
          <p:cNvSpPr/>
          <p:nvPr/>
        </p:nvSpPr>
        <p:spPr>
          <a:xfrm>
            <a:off x="971640" y="2200320"/>
            <a:ext cx="5999040" cy="581400"/>
          </a:xfrm>
          <a:prstGeom prst="rect">
            <a:avLst/>
          </a:prstGeom>
          <a:solidFill>
            <a:srgbClr val="fdead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宋体"/>
              </a:rPr>
              <a:t>围绕“福聚德”的即将衰落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Rectangle 5"/>
          <p:cNvSpPr/>
          <p:nvPr/>
        </p:nvSpPr>
        <p:spPr>
          <a:xfrm>
            <a:off x="635040" y="3117960"/>
            <a:ext cx="7908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文中哪句话最能概括情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文本框 1"/>
          <p:cNvSpPr/>
          <p:nvPr/>
        </p:nvSpPr>
        <p:spPr>
          <a:xfrm>
            <a:off x="898560" y="4059360"/>
            <a:ext cx="6405480" cy="7336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人干，八个人拆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9" name="矩形 3"/>
          <p:cNvSpPr/>
          <p:nvPr/>
        </p:nvSpPr>
        <p:spPr>
          <a:xfrm>
            <a:off x="623880" y="1198440"/>
            <a:ext cx="7550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结合课文内容，说说你对福聚的衰落原因的认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文本框 2"/>
          <p:cNvSpPr/>
          <p:nvPr/>
        </p:nvSpPr>
        <p:spPr>
          <a:xfrm>
            <a:off x="708120" y="2230560"/>
            <a:ext cx="7767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从全文来看，唐茂昌与唐茂盛是只知出不知入的二世祖，成心要钱挥霍，且二少爷直接挖走店里的得力助手，这比坐吃山空的后果更加严重；罗大头是烤鸭一把手，克五又知道他藏着土烟，这无疑是罗大头将要出事的信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1" name="Group 19"/>
          <p:cNvGrpSpPr/>
          <p:nvPr/>
        </p:nvGrpSpPr>
        <p:grpSpPr>
          <a:xfrm>
            <a:off x="196920" y="455760"/>
            <a:ext cx="2319120" cy="699840"/>
            <a:chOff x="196920" y="455760"/>
            <a:chExt cx="2319120" cy="699840"/>
          </a:xfrm>
        </p:grpSpPr>
        <p:pic>
          <p:nvPicPr>
            <p:cNvPr id="4912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96920" y="455760"/>
              <a:ext cx="231912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3" name="文本框 2"/>
            <p:cNvSpPr/>
            <p:nvPr/>
          </p:nvSpPr>
          <p:spPr>
            <a:xfrm>
              <a:off x="733320" y="53172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细读感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4" name="文本框 2"/>
          <p:cNvSpPr/>
          <p:nvPr/>
        </p:nvSpPr>
        <p:spPr>
          <a:xfrm>
            <a:off x="503280" y="590400"/>
            <a:ext cx="78930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且罗大头自恃烤鸭技艺离去，这对于“福聚德”无疑是有打击力的；此外，连小伙计都不成器；种种迹象，几乎都指向“福聚德”即将衰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5" name="图片 2" descr=""/>
          <p:cNvPicPr/>
          <p:nvPr/>
        </p:nvPicPr>
        <p:blipFill>
          <a:blip r:embed="rId1"/>
          <a:stretch/>
        </p:blipFill>
        <p:spPr>
          <a:xfrm>
            <a:off x="1000080" y="3395520"/>
            <a:ext cx="6796080" cy="564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6" name="文本框 2"/>
          <p:cNvSpPr/>
          <p:nvPr/>
        </p:nvSpPr>
        <p:spPr>
          <a:xfrm>
            <a:off x="865080" y="1303200"/>
            <a:ext cx="688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究其根本原因，可以说，这是勤劳务实的人与东家少爷、克五这样混吃混喝的人的矛盾，是平民与欺压平民的官僚之间的矛盾。这矛盾，才是“福聚德”真正衰落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7" name="Rectangle 5"/>
          <p:cNvSpPr/>
          <p:nvPr/>
        </p:nvSpPr>
        <p:spPr>
          <a:xfrm>
            <a:off x="473040" y="1211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本文语言十分具有方言特色，甚至有些方言运用比较低俗，你如何看待这个问题？请结合文章简要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8" name="文本框 1"/>
          <p:cNvSpPr/>
          <p:nvPr/>
        </p:nvSpPr>
        <p:spPr>
          <a:xfrm>
            <a:off x="557280" y="3214800"/>
            <a:ext cx="78278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王子西说：“要不孟实这么咬牙跺脚地干，心里窝着口气。”一个窝字将方言特征凸显无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9" name="Group 19"/>
          <p:cNvGrpSpPr/>
          <p:nvPr/>
        </p:nvGrpSpPr>
        <p:grpSpPr>
          <a:xfrm>
            <a:off x="74520" y="455760"/>
            <a:ext cx="2319120" cy="699840"/>
            <a:chOff x="74520" y="455760"/>
            <a:chExt cx="2319120" cy="699840"/>
          </a:xfrm>
        </p:grpSpPr>
        <p:pic>
          <p:nvPicPr>
            <p:cNvPr id="4920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74520" y="455760"/>
              <a:ext cx="231912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1" name="文本框 2"/>
            <p:cNvSpPr/>
            <p:nvPr/>
          </p:nvSpPr>
          <p:spPr>
            <a:xfrm>
              <a:off x="610920" y="53172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艺术特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4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2" name="文本框 2"/>
          <p:cNvSpPr/>
          <p:nvPr/>
        </p:nvSpPr>
        <p:spPr>
          <a:xfrm>
            <a:off x="423720" y="1216080"/>
            <a:ext cx="828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又如卢孟实骂小伙计时说“瞎话”“下作的东西”，这里不仅方言味十足，且显得比较低俗。但是，呈现出这样的语言特征是比较必要的。首先，作者选取的是北京的“福聚德”，倘若不用方言，便失了京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3" name="文本框 6147"/>
          <p:cNvSpPr/>
          <p:nvPr/>
        </p:nvSpPr>
        <p:spPr>
          <a:xfrm>
            <a:off x="646200" y="1055520"/>
            <a:ext cx="770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其次，话剧所表现的是真实，“福聚德”绝不是一个雅文化的聚集地，文中的语言正是当地文化真实的语言，还原场景语言最真实的特征。而且也正是以方言表现其真实性，才将话剧中的诸多人物形象刻画得栩栩如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4" name="Rectangle 5"/>
          <p:cNvSpPr/>
          <p:nvPr/>
        </p:nvSpPr>
        <p:spPr>
          <a:xfrm>
            <a:off x="544680" y="819000"/>
            <a:ext cx="7988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文中用语简单明了，符合真实生活，但也有不少语言含义深刻，请你找出几句，并简要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5" name="文本框 1"/>
          <p:cNvSpPr/>
          <p:nvPr/>
        </p:nvSpPr>
        <p:spPr>
          <a:xfrm>
            <a:off x="1074600" y="2970360"/>
            <a:ext cx="6944040" cy="8251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宋体"/>
                <a:ea typeface="楷体"/>
              </a:rPr>
              <a:t>    </a:t>
            </a:r>
            <a:r>
              <a:rPr b="1" sz="3200" spc="-1" strike="noStrike">
                <a:solidFill>
                  <a:srgbClr val="000000"/>
                </a:solidFill>
                <a:latin typeface="宋体"/>
                <a:ea typeface="楷体"/>
              </a:rPr>
              <a:t>1.</a:t>
            </a:r>
            <a:r>
              <a:rPr b="1" sz="3200" spc="-1" strike="noStrike">
                <a:solidFill>
                  <a:srgbClr val="000000"/>
                </a:solidFill>
                <a:latin typeface="宋体"/>
                <a:ea typeface="楷体"/>
              </a:rPr>
              <a:t>克五：烟太多我就闻不出来了。（嬉笑）得了，给俩鸭脖子还不行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文本框 1"/>
          <p:cNvSpPr/>
          <p:nvPr/>
        </p:nvSpPr>
        <p:spPr>
          <a:xfrm>
            <a:off x="849240" y="957240"/>
            <a:ext cx="7502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烟太多我就闻不出来了”，烟多为什么会闻不出来呢？这明显是个反讽的句子。作者看似在这里只是说克五一人，事实上是讽刺了一大批欺软怕硬的人。他们占着自己有一丁点地位就欺压朴实善良的民众，而面对恶势力，却又谄媚地陪着笑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7" name="文本框 6147"/>
          <p:cNvSpPr/>
          <p:nvPr/>
        </p:nvSpPr>
        <p:spPr>
          <a:xfrm>
            <a:off x="484200" y="611280"/>
            <a:ext cx="7678800" cy="6786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宋体"/>
                <a:ea typeface="楷体"/>
              </a:rPr>
              <a:t>    </a:t>
            </a:r>
            <a:r>
              <a:rPr b="1" sz="3200" spc="-1" strike="noStrike">
                <a:solidFill>
                  <a:srgbClr val="000000"/>
                </a:solidFill>
                <a:latin typeface="宋体"/>
                <a:ea typeface="楷体"/>
              </a:rPr>
              <a:t>2.</a:t>
            </a:r>
            <a:r>
              <a:rPr b="1" sz="3200" spc="-1" strike="noStrike">
                <a:solidFill>
                  <a:srgbClr val="000000"/>
                </a:solidFill>
                <a:latin typeface="宋体"/>
                <a:ea typeface="楷体"/>
              </a:rPr>
              <a:t>披红挂绿，骑马坐轿子，怎么红火怎么办。让那些不开眼的看看，福聚德的伙计也是体面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8" name="文本框 6147"/>
          <p:cNvSpPr/>
          <p:nvPr/>
        </p:nvSpPr>
        <p:spPr>
          <a:xfrm>
            <a:off x="638280" y="2693880"/>
            <a:ext cx="7468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卢孟实骂小伙计，是想伙计们能争口气，即使社会地位低下也要维护自己的尊严。而让成顺将喜事办得有面子，也是为了维护尊严，体现出了劳动人民的傲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文本框 4"/>
          <p:cNvSpPr/>
          <p:nvPr/>
        </p:nvSpPr>
        <p:spPr>
          <a:xfrm>
            <a:off x="522360" y="1608120"/>
            <a:ext cx="7947000" cy="24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能够梳理主要情节，把握文本戏剧冲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揣摩有深意的台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分析人物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故事背景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能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深入理解主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5" name="Group 19"/>
          <p:cNvGrpSpPr/>
          <p:nvPr/>
        </p:nvGrpSpPr>
        <p:grpSpPr>
          <a:xfrm>
            <a:off x="146160" y="530280"/>
            <a:ext cx="2319120" cy="700200"/>
            <a:chOff x="146160" y="530280"/>
            <a:chExt cx="2319120" cy="700200"/>
          </a:xfrm>
        </p:grpSpPr>
        <p:pic>
          <p:nvPicPr>
            <p:cNvPr id="4876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46160" y="53028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7" name="文本框 2"/>
            <p:cNvSpPr/>
            <p:nvPr/>
          </p:nvSpPr>
          <p:spPr>
            <a:xfrm>
              <a:off x="682560" y="60660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8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Rectangle 5"/>
          <p:cNvSpPr/>
          <p:nvPr/>
        </p:nvSpPr>
        <p:spPr>
          <a:xfrm>
            <a:off x="560520" y="1258920"/>
            <a:ext cx="771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本文人物出场极多，但是许多人都给我们留下了十分鲜明的印象，这得益于作者对人物的个性化刻画。请你认真阅读文章，挑选出几个你喜欢的人物，分析其人物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0" name="Group 19"/>
          <p:cNvGrpSpPr/>
          <p:nvPr/>
        </p:nvGrpSpPr>
        <p:grpSpPr>
          <a:xfrm>
            <a:off x="101520" y="419040"/>
            <a:ext cx="2319120" cy="700200"/>
            <a:chOff x="101520" y="419040"/>
            <a:chExt cx="2319120" cy="700200"/>
          </a:xfrm>
        </p:grpSpPr>
        <p:pic>
          <p:nvPicPr>
            <p:cNvPr id="4931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01520" y="419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2" name="文本框 2"/>
            <p:cNvSpPr/>
            <p:nvPr/>
          </p:nvSpPr>
          <p:spPr>
            <a:xfrm>
              <a:off x="637920" y="495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人物形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文本框 6147"/>
          <p:cNvSpPr/>
          <p:nvPr/>
        </p:nvSpPr>
        <p:spPr>
          <a:xfrm>
            <a:off x="482760" y="1735200"/>
            <a:ext cx="80071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卢孟实在未出场时就通过王子西等人的评价，“咬牙跺脚地干”，侧面表现出他是一个务实勤劳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卢孟实一经出场，便不屑与克五这样的游手好闲之人打交道，且将事物安排得妥帖，这就说明了他是个精明能干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4" name=" 2"/>
          <p:cNvSpPr/>
          <p:nvPr/>
        </p:nvSpPr>
        <p:spPr>
          <a:xfrm>
            <a:off x="398520" y="800280"/>
            <a:ext cx="2512800" cy="644400"/>
          </a:xfrm>
          <a:prstGeom prst="roundRect">
            <a:avLst>
              <a:gd name="adj" fmla="val 50000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黑体"/>
                <a:ea typeface="黑体"/>
              </a:rPr>
              <a:t>卢孟实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4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5" name="文本框 2"/>
          <p:cNvSpPr/>
          <p:nvPr/>
        </p:nvSpPr>
        <p:spPr>
          <a:xfrm>
            <a:off x="388800" y="843120"/>
            <a:ext cx="7907400" cy="17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训斥伙计，赏成顺，让成顺体面一点，又表现了一个劳动者的自尊，他不仅关心着自己的自尊，同时也关注着伙计们的自尊。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而与罗大头的对话中，又体现了他是个不固执的人，对陈腐该改的规矩力图改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6" name="文本框 2"/>
          <p:cNvSpPr/>
          <p:nvPr/>
        </p:nvSpPr>
        <p:spPr>
          <a:xfrm>
            <a:off x="777960" y="1204920"/>
            <a:ext cx="71373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过，从他对待罗大头过程中，又能见其刚直的性格。这与后来东家二少爷出场时似有所矛盾，对待这位东家二少爷，卢孟实依然要陪着笑，这是这个时代阶级之分下朴实劳动人民的悲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文本框 6"/>
          <p:cNvSpPr/>
          <p:nvPr/>
        </p:nvSpPr>
        <p:spPr>
          <a:xfrm>
            <a:off x="719280" y="1303200"/>
            <a:ext cx="7529400" cy="22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卢孟实是一个务实勤劳、精明能干、自尊自强、关心伙计、拒绝陈腐不变通、刚直却又不得不学着屈服于社会环境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4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8" name="文本框 2"/>
          <p:cNvSpPr/>
          <p:nvPr/>
        </p:nvSpPr>
        <p:spPr>
          <a:xfrm>
            <a:off x="420840" y="1066680"/>
            <a:ext cx="809136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但是他固执，不变通，如强调不到七十不传人；自恃技艺精湛，心胸狭窄，容不得人，动辄要撩杆子走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脾气也十分火爆。不过，他的火爆脾气与他的性格之真是连贯的，他看重自身的价值与名誉，丝毫瞧不起克五那种混吃混喝、人品卑污的“爷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9" name="文本框 6147"/>
          <p:cNvSpPr/>
          <p:nvPr/>
        </p:nvSpPr>
        <p:spPr>
          <a:xfrm>
            <a:off x="596880" y="1846440"/>
            <a:ext cx="718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罗大头是福聚德的烤鸭师傅，从“别忘了你们当初是怎么把我请回来的”一语中，可以看出罗大头的技艺精湛，是店里的“顶梁柱”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 2"/>
          <p:cNvSpPr/>
          <p:nvPr/>
        </p:nvSpPr>
        <p:spPr>
          <a:xfrm>
            <a:off x="380880" y="797040"/>
            <a:ext cx="2511720" cy="644400"/>
          </a:xfrm>
          <a:prstGeom prst="roundRect">
            <a:avLst>
              <a:gd name="adj" fmla="val 50000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黑体"/>
                <a:ea typeface="黑体"/>
              </a:rPr>
              <a:t>罗大头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1" name="文本框 6"/>
          <p:cNvSpPr/>
          <p:nvPr/>
        </p:nvSpPr>
        <p:spPr>
          <a:xfrm>
            <a:off x="557280" y="1208160"/>
            <a:ext cx="752004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罗大头是一个恃才自傲，迂腐固执，心胸狭窄，容不得人，脾气火爆，同时又一身正气，真率，不懈与小人为伍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文本框 6147"/>
          <p:cNvSpPr/>
          <p:nvPr/>
        </p:nvSpPr>
        <p:spPr>
          <a:xfrm>
            <a:off x="1349280" y="2184480"/>
            <a:ext cx="644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贵：同情他人，老实厚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福子：仗势欺人，谄媚姿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唐茂盛：势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 2"/>
          <p:cNvSpPr/>
          <p:nvPr/>
        </p:nvSpPr>
        <p:spPr>
          <a:xfrm>
            <a:off x="390600" y="1035000"/>
            <a:ext cx="3119400" cy="644400"/>
          </a:xfrm>
          <a:prstGeom prst="roundRect">
            <a:avLst>
              <a:gd name="adj" fmla="val 50000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人物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4" name="Group 19"/>
          <p:cNvGrpSpPr/>
          <p:nvPr/>
        </p:nvGrpSpPr>
        <p:grpSpPr>
          <a:xfrm>
            <a:off x="101520" y="419040"/>
            <a:ext cx="2319120" cy="700200"/>
            <a:chOff x="101520" y="419040"/>
            <a:chExt cx="2319120" cy="700200"/>
          </a:xfrm>
        </p:grpSpPr>
        <p:pic>
          <p:nvPicPr>
            <p:cNvPr id="4945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01520" y="419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6" name="文本框 2"/>
            <p:cNvSpPr/>
            <p:nvPr/>
          </p:nvSpPr>
          <p:spPr>
            <a:xfrm>
              <a:off x="637920" y="495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拓展延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7" name="文本框 6147"/>
          <p:cNvSpPr/>
          <p:nvPr/>
        </p:nvSpPr>
        <p:spPr>
          <a:xfrm>
            <a:off x="876240" y="1635120"/>
            <a:ext cx="638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同学们结合分析的人物形象，代入角色进行朗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织话剧表演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100"/>
                                        <p:tgtEl>
                                          <p:spTgt spid="49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100"/>
                                        <p:tgtEl>
                                          <p:spTgt spid="49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00"/>
                                        <p:tgtEl>
                                          <p:spTgt spid="49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9" name="Group 19"/>
          <p:cNvGrpSpPr/>
          <p:nvPr/>
        </p:nvGrpSpPr>
        <p:grpSpPr>
          <a:xfrm>
            <a:off x="101520" y="419040"/>
            <a:ext cx="2319120" cy="700200"/>
            <a:chOff x="101520" y="419040"/>
            <a:chExt cx="2319120" cy="700200"/>
          </a:xfrm>
        </p:grpSpPr>
        <p:pic>
          <p:nvPicPr>
            <p:cNvPr id="4880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01520" y="419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1" name="文本框 2"/>
            <p:cNvSpPr/>
            <p:nvPr/>
          </p:nvSpPr>
          <p:spPr>
            <a:xfrm>
              <a:off x="637920" y="495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新课导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2" name="TextBox 5"/>
          <p:cNvSpPr/>
          <p:nvPr/>
        </p:nvSpPr>
        <p:spPr>
          <a:xfrm>
            <a:off x="601560" y="1193760"/>
            <a:ext cx="74059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同学们，如果我们想创办文明班级，但是今天有人惹是生非。明天有人打架闹事，后天又有人考试作弊，我们还能打造文明班级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TextBox 6"/>
          <p:cNvSpPr/>
          <p:nvPr/>
        </p:nvSpPr>
        <p:spPr>
          <a:xfrm>
            <a:off x="668160" y="3341520"/>
            <a:ext cx="7383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不能打造文明班级）这说明一个道理，即当一个集体想要有所成就时，要是处处有人拉后腿，便奠定了这个集体的失败。今天我们将走进“福聚德”更加深刻的感受该道理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4" name="Group 19"/>
          <p:cNvGrpSpPr/>
          <p:nvPr/>
        </p:nvGrpSpPr>
        <p:grpSpPr>
          <a:xfrm>
            <a:off x="101520" y="419040"/>
            <a:ext cx="2319120" cy="700200"/>
            <a:chOff x="101520" y="419040"/>
            <a:chExt cx="2319120" cy="700200"/>
          </a:xfrm>
        </p:grpSpPr>
        <p:pic>
          <p:nvPicPr>
            <p:cNvPr id="4885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01520" y="419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6" name="文本框 2"/>
            <p:cNvSpPr/>
            <p:nvPr/>
          </p:nvSpPr>
          <p:spPr>
            <a:xfrm>
              <a:off x="637920" y="495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走近作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7" name="Rectangle 5"/>
          <p:cNvSpPr/>
          <p:nvPr/>
        </p:nvSpPr>
        <p:spPr>
          <a:xfrm>
            <a:off x="444600" y="1544760"/>
            <a:ext cx="5030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【何冀平】中国剧作家，中国文学艺术界联合会第十届全委会委员。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1988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年，何冀平创作的《天下第一楼》演出后轰动京城，演出场次仅次于《茶馆》，被誉为当代现实主义经典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8" name="Picture 6" descr=""/>
          <p:cNvPicPr/>
          <p:nvPr/>
        </p:nvPicPr>
        <p:blipFill>
          <a:blip r:embed="rId2"/>
          <a:stretch/>
        </p:blipFill>
        <p:spPr>
          <a:xfrm>
            <a:off x="5456160" y="1285920"/>
            <a:ext cx="2700360" cy="391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9" name="Rectangle 5"/>
          <p:cNvSpPr/>
          <p:nvPr/>
        </p:nvSpPr>
        <p:spPr>
          <a:xfrm>
            <a:off x="385920" y="1338120"/>
            <a:ext cx="823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名噪京师的烤鸭老字号“福聚德”创业于清同治年间。传至民国初年，老掌柜唐德源因年迈多病而退居内室，店业全仗二掌柜王子西协助两位少掌柜惨淡经营。怎奈两位少爷与鸭子无缘，大少爷迷戏玩票，二少爷崇尚武林，闹得店铺入不敷出，王子西几次向老掌柜推荐他的换帖兄弟卢孟实来操持店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0" name="Group 19"/>
          <p:cNvGrpSpPr/>
          <p:nvPr/>
        </p:nvGrpSpPr>
        <p:grpSpPr>
          <a:xfrm>
            <a:off x="101520" y="419040"/>
            <a:ext cx="2319120" cy="700200"/>
            <a:chOff x="101520" y="419040"/>
            <a:chExt cx="2319120" cy="700200"/>
          </a:xfrm>
        </p:grpSpPr>
        <p:pic>
          <p:nvPicPr>
            <p:cNvPr id="4891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01520" y="419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2" name="文本框 2"/>
            <p:cNvSpPr/>
            <p:nvPr/>
          </p:nvSpPr>
          <p:spPr>
            <a:xfrm>
              <a:off x="637920" y="495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背景介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3" name="Rectangle 5"/>
          <p:cNvSpPr/>
          <p:nvPr/>
        </p:nvSpPr>
        <p:spPr>
          <a:xfrm>
            <a:off x="530280" y="730080"/>
            <a:ext cx="8083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生性聪慧的卢孟实立誓要干出一番事业来，以泄人间不平。面对势如垒卵的“福聚德”，他绞尽了脑汁，结果在不长的时间里竟使这三间老屋翻盖起了二层楼。卢孟实之所以能使“福聚德”东山再起，除了靠他本人的精明干练，还得助于与他相好的青楼妓女玉雏姑娘，更靠技艺超群的厨师罗大头和善于迎来送往的堂头常贵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4" name="Rectangle 5"/>
          <p:cNvSpPr/>
          <p:nvPr/>
        </p:nvSpPr>
        <p:spPr>
          <a:xfrm>
            <a:off x="565200" y="787320"/>
            <a:ext cx="801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光阴荏苒，十年一晃而过，“福聚德”名噪京华。然而，事违人愿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福聚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展正盛时，却又遭到了东家、官府等内外逼压，最终走向没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5" name="图片 1" descr=""/>
          <p:cNvPicPr/>
          <p:nvPr/>
        </p:nvPicPr>
        <p:blipFill>
          <a:blip r:embed="rId1"/>
          <a:stretch/>
        </p:blipFill>
        <p:spPr>
          <a:xfrm>
            <a:off x="1932120" y="3340080"/>
            <a:ext cx="5151240" cy="2774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6" name="Group 19"/>
          <p:cNvGrpSpPr/>
          <p:nvPr/>
        </p:nvGrpSpPr>
        <p:grpSpPr>
          <a:xfrm>
            <a:off x="101520" y="419040"/>
            <a:ext cx="2319120" cy="700200"/>
            <a:chOff x="101520" y="419040"/>
            <a:chExt cx="2319120" cy="700200"/>
          </a:xfrm>
        </p:grpSpPr>
        <p:pic>
          <p:nvPicPr>
            <p:cNvPr id="4897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01520" y="419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8" name="文本框 2"/>
            <p:cNvSpPr/>
            <p:nvPr/>
          </p:nvSpPr>
          <p:spPr>
            <a:xfrm>
              <a:off x="637920" y="495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9" name="Rectangle 5"/>
          <p:cNvSpPr/>
          <p:nvPr/>
        </p:nvSpPr>
        <p:spPr>
          <a:xfrm>
            <a:off x="814320" y="1200240"/>
            <a:ext cx="7282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快速阅读全文，梳理出主要情节，并用自己的话概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0" name="文本框 1"/>
          <p:cNvSpPr/>
          <p:nvPr/>
        </p:nvSpPr>
        <p:spPr>
          <a:xfrm>
            <a:off x="565200" y="2735280"/>
            <a:ext cx="795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唐茂昌强行要钱，王子西勉强应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1" name="文本框 1"/>
          <p:cNvSpPr/>
          <p:nvPr/>
        </p:nvSpPr>
        <p:spPr>
          <a:xfrm>
            <a:off x="598320" y="3797280"/>
            <a:ext cx="7950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0640" indent="-11606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克五以罗大头藏烟土为要挟骗吃喝，遭卢孟实赶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2" name="文本框 1"/>
          <p:cNvSpPr/>
          <p:nvPr/>
        </p:nvSpPr>
        <p:spPr>
          <a:xfrm>
            <a:off x="442800" y="1052640"/>
            <a:ext cx="795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卢孟实处罚不成器小伙计，厚赏成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3" name="文本框 1"/>
          <p:cNvSpPr/>
          <p:nvPr/>
        </p:nvSpPr>
        <p:spPr>
          <a:xfrm>
            <a:off x="387360" y="2198520"/>
            <a:ext cx="839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0640" indent="-116064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罗大头自恃烤鸭技艺自大，侮辱卢孟实并撂挑子离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4" name="文本框 3"/>
          <p:cNvSpPr/>
          <p:nvPr/>
        </p:nvSpPr>
        <p:spPr>
          <a:xfrm>
            <a:off x="487440" y="4178160"/>
            <a:ext cx="795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唐茂盛借机要钱，挖走堂头常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5:53:56Z</dcterms:created>
  <dc:creator>  </dc:creator>
  <dc:description/>
  <cp:keywords/>
  <dc:language>en-US</dc:language>
  <cp:lastModifiedBy>微软用户</cp:lastModifiedBy>
  <dcterms:modified xsi:type="dcterms:W3CDTF">2018-11-16T04:22:04Z</dcterms:modified>
  <cp:revision>243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</Properties>
</file>