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EDF-122D-48C7-8201-C65BAA84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FB8-652A-4D4A-96E1-773FE8D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050-8A85-4C1C-BE4F-777F937E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0CE-D690-4F85-ABEA-473BC36C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94E-D07B-4819-A7A4-06686AC7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133-7F3E-4496-B046-CE65ED97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025-705B-41AB-88C8-8F4EB9E1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D46-484A-4676-9AB9-F85598E4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B7E-8324-4023-8F61-5094CE5E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D42-E5ED-42E2-934E-E1205F71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8A8-2934-43D5-B6FF-6DAEDCAC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373-E047-4975-B212-130DB9C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0EEA-17A2-46D4-896E-AAC621A7E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image" Target="../media/image7.png"/><Relationship Id="rId4" Type="http://schemas.openxmlformats.org/officeDocument/2006/relationships/slide" Target="slide7.xml"/><Relationship Id="rId5" Type="http://schemas.openxmlformats.org/officeDocument/2006/relationships/image" Target="../media/image8.gif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671640" cy="2577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53440" y="3200400"/>
            <a:ext cx="28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精彩的对话描写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53440" y="3962520"/>
            <a:ext cx="28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完美的画面组合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3440" y="4800600"/>
            <a:ext cx="28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人的情感内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3440" y="5562720"/>
            <a:ext cx="28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独特的生命理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2" descr=""/>
          <p:cNvPicPr/>
          <p:nvPr/>
        </p:nvPicPr>
        <p:blipFill>
          <a:blip r:embed="rId3"/>
          <a:stretch/>
        </p:blipFill>
        <p:spPr>
          <a:xfrm>
            <a:off x="5410080" y="4343400"/>
            <a:ext cx="3306960" cy="2249640"/>
          </a:xfrm>
          <a:prstGeom prst="rect">
            <a:avLst/>
          </a:prstGeom>
          <a:ln w="0">
            <a:noFill/>
          </a:ln>
        </p:spPr>
      </p:pic>
      <p:pic>
        <p:nvPicPr>
          <p:cNvPr id="83" name="4" descr=""/>
          <p:cNvPicPr/>
          <p:nvPr/>
        </p:nvPicPr>
        <p:blipFill>
          <a:blip r:embed="rId4"/>
          <a:stretch/>
        </p:blipFill>
        <p:spPr>
          <a:xfrm>
            <a:off x="4876920" y="533520"/>
            <a:ext cx="3581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2860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泰坦尼克号这艘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梦之船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首航在噩梦中悲惨地结束了。正是人类独有的弱点：傲慢、自负和贪婪将人类征服自然的雄心碾成粉碎。……在剧中重现泰坦尼克号的美轮美奂，表现出乘客和船员们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激情、乐观和希望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同时，揭示这场灾难中人类表现出的可歌可泣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牺牲精神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——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导演詹姆斯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卡梅伦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17220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84720" y="69228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泰坦尼克号》是警世箴言，是一部人类时时审视自己劣根性的明镜。它还是一则包融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信念、勇气、牺牲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当然还有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爱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不朽传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029200"/>
            <a:ext cx="685800" cy="16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029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假如泰坦尼克号没有沉没，罗斯与杰克的爱情结局又会如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77320" cy="6019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1905120"/>
            <a:ext cx="6934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不可沉没”的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304920" y="304920"/>
            <a:ext cx="8076600" cy="6324480"/>
            <a:chOff x="304920" y="304920"/>
            <a:chExt cx="8076600" cy="6324480"/>
          </a:xfrm>
        </p:grpSpPr>
        <p:pic>
          <p:nvPicPr>
            <p:cNvPr id="46" name="200431415262734" descr=""/>
            <p:cNvPicPr/>
            <p:nvPr/>
          </p:nvPicPr>
          <p:blipFill>
            <a:blip r:embed="rId2"/>
            <a:stretch/>
          </p:blipFill>
          <p:spPr>
            <a:xfrm>
              <a:off x="304920" y="304920"/>
              <a:ext cx="510516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445360" y="4876920"/>
              <a:ext cx="1642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节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 rot="5400000">
              <a:off x="5638320" y="2666880"/>
              <a:ext cx="4419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华文行楷"/>
                </a:rPr>
                <a:t>泰坦尼克号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788000" y="547560"/>
              <a:ext cx="4030560" cy="576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5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电影剧本的特点，培养阅读和欣赏电影剧本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体会主人公面对死别时的思想感情，认识生命的意义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ff"/>
                </a:solidFill>
                <a:latin typeface="Times New Roman"/>
                <a:ea typeface="华文彩云"/>
              </a:rPr>
              <a:t>自学提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电影剧本有哪些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最感人的一处对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最动人一处细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印象最深刻的一处画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0000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QT_12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29600" y="586728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83059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a57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电影剧本的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情节生动，人物形象吸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通过人物的语言、动作、表情表现人物的性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用文字描绘画面，表现视觉效果，通过画面与画面的组合表达内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由一个个镜头组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r_0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54936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038480"/>
            <a:ext cx="883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Tahoma"/>
              </a:rPr>
              <a:t>渲染灾难的气氛，使人更深切地感受到主人公的处境和命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Tahoma"/>
              </a:rPr>
              <a:t>反衬出他们坚贞不渝的爱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715640" y="549360"/>
            <a:ext cx="71640" cy="71280"/>
          </a:xfrm>
          <a:custGeom>
            <a:avLst/>
            <a:gdLst>
              <a:gd name="textAreaLeft" fmla="*/ 29520 w 71640"/>
              <a:gd name="textAreaRight" fmla="*/ 42120 w 7164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657600"/>
            <a:ext cx="272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ahoma"/>
              </a:rPr>
              <a:t>环境描写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7493"/>
                </a:moveTo>
                <a:lnTo>
                  <a:pt x="23476" y="7493"/>
                </a:lnTo>
                <a:lnTo>
                  <a:pt x="23476" y="12828"/>
                </a:lnTo>
                <a:cubicBezTo>
                  <a:pt x="23476" y="13751"/>
                  <a:pt x="24276" y="14482"/>
                  <a:pt x="25312" y="14482"/>
                </a:cubicBezTo>
                <a:lnTo>
                  <a:pt x="26975" y="14482"/>
                </a:lnTo>
                <a:cubicBezTo>
                  <a:pt x="28010" y="14482"/>
                  <a:pt x="28811" y="13751"/>
                  <a:pt x="28811" y="12828"/>
                </a:cubicBezTo>
                <a:lnTo>
                  <a:pt x="28811" y="7493"/>
                </a:lnTo>
                <a:lnTo>
                  <a:pt x="26975" y="7493"/>
                </a:lnTo>
                <a:lnTo>
                  <a:pt x="30482" y="3985"/>
                </a:lnTo>
                <a:lnTo>
                  <a:pt x="34155" y="7493"/>
                </a:lnTo>
                <a:lnTo>
                  <a:pt x="32319" y="7493"/>
                </a:lnTo>
                <a:lnTo>
                  <a:pt x="32319" y="12828"/>
                </a:lnTo>
                <a:cubicBezTo>
                  <a:pt x="32319" y="15596"/>
                  <a:pt x="29742" y="18155"/>
                  <a:pt x="26975" y="18155"/>
                </a:cubicBezTo>
                <a:lnTo>
                  <a:pt x="25312" y="18155"/>
                </a:lnTo>
                <a:cubicBezTo>
                  <a:pt x="22544" y="18155"/>
                  <a:pt x="19968" y="15596"/>
                  <a:pt x="19968" y="12828"/>
                </a:cubicBezTo>
                <a:close/>
              </a:path>
            </a:pathLst>
          </a:cu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6880" y="457200"/>
            <a:ext cx="5791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一句话谈谈你对“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真爱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的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梵高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爱之花开放的地方，生命便能欣欣向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泰戈尔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爱是理解的别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罗曼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·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罗兰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爱是生命的火焰，没有它，一切变成黑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左拉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爱是不会老的，它留着的是永恒的火焰与不灭的光辉，世界的存在，就以它为养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0"/>
            <a:ext cx="396216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华文行楷"/>
              </a:rPr>
              <a:t>真爱永存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华文行楷"/>
              <a:ea typeface="华文行楷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7:01:46Z</dcterms:created>
  <dc:creator>Billgates</dc:creator>
  <dc:description/>
  <dc:language>en-US</dc:language>
  <cp:lastModifiedBy>Billgates</cp:lastModifiedBy>
  <dcterms:modified xsi:type="dcterms:W3CDTF">2004-05-17T01:57:09Z</dcterms:modified>
  <cp:revision>39</cp:revision>
  <dc:subject/>
  <dc:title>PowerPoint 演示文稿</dc:title>
</cp:coreProperties>
</file>