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4.png" ContentType="image/png"/>
  <Override PartName="/ppt/media/image10.jpeg" ContentType="image/jpeg"/>
  <Override PartName="/ppt/media/image9.gif" ContentType="image/gif"/>
  <Override PartName="/ppt/media/image17.gif" ContentType="image/gif"/>
  <Override PartName="/ppt/media/image3.png" ContentType="image/png"/>
  <Override PartName="/ppt/media/image15.jpeg" ContentType="image/jpeg"/>
  <Override PartName="/ppt/media/image13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5.gif" ContentType="image/gif"/>
  <Override PartName="/ppt/media/chimes.wav" ContentType="audio/x-wav"/>
  <Override PartName="/ppt/media/image1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6B7-F147-4594-8715-AC328B52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A8D-EDCC-4D10-8195-BE70D103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0BD9D-CF04-486F-A333-F6E5B49F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26677-4E14-49FB-8D7A-CA7F404B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49EF8-5EEA-4388-8DDB-A2C1650D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EAD80-0D6E-4510-827A-88B95B33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C4826-0722-4872-AE31-1C7EE721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93B02-694E-463E-A3C2-24765ECC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94A4A-9639-4129-8C6D-04D13881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133F3-94B5-4091-B1BC-C50D0655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9F701-3A29-46C5-8EEE-733FC21F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C5AE9-CECE-4F7F-A843-4295C995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15D-8D80-46B5-9869-05CBAE85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DCEA5-E38C-4E6C-8F05-814D3FA7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2303C-2A6E-4E18-AC77-B0820F50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57E79-4E16-4F01-B83D-9D821528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EE75A-6859-4BE5-BCBF-28F43779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09BAA-275F-4C1A-BAC3-7F37B373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31C10-AB9A-4B8E-B82E-CF61686F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88BE6-F51E-4006-BBC2-E6E10A3F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7F073-B558-446D-83E8-FFA4E067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0B47D-5DD1-4673-A04A-37E1044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41611-9EDC-4934-BD55-C1BBA07B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60E-7A51-4C85-B67F-A6677C00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7B891-A9A1-4344-866B-16EF7CD5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2DF21-ECE9-4D65-B8A8-98303167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E379E-352F-455C-ADFF-8E2EC25A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81F30-8030-483E-9354-64557747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E9AD5-BA67-4E66-9167-50A76A0B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45136-55B1-401F-9EA7-7E7CD6E1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34863-DE58-4EBD-A55D-CE069226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22D39-A2EA-46A3-AA88-F7D9C4FF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B1B8D-1713-46E4-A6C9-F1DE8C68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BD89A-EAD9-4D23-A850-37B0951C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D091-0A9E-42E4-B895-5A189E70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C5FAF-BA6F-40A5-91B7-03B7BF5A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C2903-9A6C-4E1F-A905-10637CA6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A628A-D809-494B-8B18-038BE3AF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7D7C8-D291-4EB5-899A-9E5B4777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2447F-0E71-45F9-978F-5EE64388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B37FD-8EF4-430F-B348-5F7176B6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0DF95-7F22-4918-9AB9-BC6AE1AD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21054-1113-4C16-ADB4-0E6079A8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CBA6E-39E5-4219-8F59-D18A7A71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266FB-D220-46FE-820F-9ED215E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012A-BD1B-4D49-969C-1A504697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F14F5-9894-43BC-AA4F-570A4F12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9D2A6-2663-4607-95ED-BA5C7174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FF59F-5F35-4D3C-8FFE-DCB14714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FDFC3-0B19-4BCB-9D2F-FD46DDC6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837A8-82CD-4BA7-A356-9BF3BF65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3348-202D-4DE8-83EB-42FFF4A0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667F-2E86-4F1B-9707-0EB6A255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4923-373A-49FF-94F3-DBA2B824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3563-67EB-4E5D-9196-0643C4A4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DD50-6AC0-45F4-AA63-16FA2093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9D9-BF4E-432F-ACAC-A0B41BC1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4B9C-9249-435C-A721-C90D73A2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123F-334A-4917-97D8-BEB13002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4902-7BB6-427F-BCBD-8E7150C7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AA36-683F-4994-A1CC-1FABD51B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AB35-8064-410A-8641-D08EA7F0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32012-02BA-4006-9C31-7BB9EBDF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303B-A6CB-45D4-AD80-993451E2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C320-4A71-4061-968C-A92D3538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F9CC-2D9E-4BF9-B70E-2833D9E7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1198A-F9E0-4D11-B246-D3E4E697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7FA5-A077-46C4-9616-348A418D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A9B1-8BC6-4F9E-B8B4-30139AFC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E476-BB95-4020-9297-28B0797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067A-22CE-482E-9348-9B033F1A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3255-1D60-41A7-AE93-B57397C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181C-01C3-43FE-9297-07900C7D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041E-03CF-4E7C-A4FC-5560C01E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0205-A563-4144-B265-B3A0D489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C504E-A784-44D1-ACE0-9660AF33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B2BD-8078-4286-8B93-61C3552C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191A-32D3-471C-A09F-2841429A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6E0-4F90-4170-9042-E22D1A31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46E2-D544-42BD-B96E-24E375C1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B353-3FFE-463A-BCB7-B7E4589A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DC01-A376-46EB-BEC6-4FC93382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826A5-66A1-4498-8719-A826CB01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ADF2-5B1E-4A83-A5D6-18F4A667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55700-FEA9-436E-AD60-76C382D5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62A02-2D4D-4988-8BC6-F32ACFAA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5E27B-75D7-4891-A619-F07771E2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91CDD-F801-41C2-AD81-17774782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256C7-AEF7-42F4-979F-9E28C142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1CE-28C4-48DD-85DC-A57C98B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5D2C9-89A9-4AA0-9BE9-B9062E14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37AC5-C8EB-4BD2-83F0-73E04496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95B33-327A-4198-97DC-AA2A341F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1FBF-640C-4AD4-BBE9-B95D858A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6B3EA-2DC5-4DF2-8857-D08CD232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FEED6-42BF-4E34-AE55-D5FD58F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7C6D7-DDE9-4F70-9689-DB03C531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7F18E-8ADC-4B41-9EE8-0090040D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47430-0BE1-41C4-AE55-2CE4C2F1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B6892-F001-417D-8E2C-90CFCDFE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0BB-1639-40D4-9183-49D33460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4B73F-EAE7-4316-ABD5-A457AC4F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6796C-DFF3-4FA3-A58C-D4624275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739F5-6FBC-42A6-AC45-B5A73FF9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F1BBC-77C4-4B81-887E-19B31D39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84D27-D7D6-48D2-A8EE-52B08C8B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C114B-CECB-4CCB-8CE5-889D6588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646A7-D45C-45DC-9279-63A23796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1B8EF-DC96-4465-AEBE-A819433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4561-9C59-4301-A3CD-6F37D91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E9F3-458B-494F-958D-5420FEA1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8C7-8474-43AB-8EC3-D75391C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F2D15-5B98-4008-941C-4CA495FC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34DF3-6D5F-4729-9FCF-367C77FF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D4F0B-1AB4-4D65-8FBC-4208881D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4CBA2-FBDF-4B80-A4FB-A7D73DF7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42AEA-CDDC-427F-822B-97865536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503AE-F48C-435A-9CD1-77986597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5FB02-EA6F-44CD-AB6D-B3C929C9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0ED05-9A1F-4BB3-9744-12F009F1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597AF-1C39-4772-80DE-CEA3D810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0E672-54C9-49D9-AC18-EAC6A64D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FD0-F58E-47E3-8D49-056135DD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274B0-9BE2-41B9-8041-04DEF0F7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42240-25FF-4DE5-8194-08474D27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2EC74-8CC6-4D0F-BB0E-58E8025E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45DFD-A155-4530-833B-61BA073B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58B32-552E-4E7F-910B-61ED63A4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EA31C-3C98-4680-B51C-DAFD6CF2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98CE0-B7DC-44AE-BAEA-5B92DA67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5E90-95A8-4A1E-8087-F6707CCF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C4063-1928-4BF3-BB98-ABD74B1A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AF9F0-D780-4715-B46C-C72CE17F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B53-6EF0-4179-94DE-FF2CEAB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3E40D-2323-48D1-B583-3F505FF4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99F0B-33C3-4C26-8113-D6845BC8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79266-E219-41BB-A52D-084DB05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8CB35-5722-44C5-A9AC-CAB8F482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E90D4-44BF-4EDB-8B0E-1E7A2BBA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66FF4-1285-4841-A774-5CF5F159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88DA0-22C8-4898-84C5-DF241444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EF6ED-807C-426F-B969-CE4EF72A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DB6A8-DF8C-4F06-97E2-755E07A0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18FC0-7C5F-4CB8-B489-3C097902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843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" name="矩形 1843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矩形 1843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矩形 1843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just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just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7" name="图片 18440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矩形 1844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9E9E-F73B-4DAF-A457-7D3396FAF01C}" type="slidenum"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1843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5" name="矩形 1843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6" name="矩形 1843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7" name="矩形 1843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18" name="图片 18440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19" name="矩形 1844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E61F-AB0F-4DA0-BAB6-045912AA3958}" type="slidenum"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1843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2" name="矩形 1843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3" name="矩形 1843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4" name="矩形 1843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465" name="图片 18440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66" name="矩形 1844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E4BA-C633-46C9-BD9C-8F2E91EFA447}" type="slidenum"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矩形 1843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9" name="矩形 1843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0" name="矩形 1843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1" name="矩形 1843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512" name="图片 18440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513" name="矩形 1844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0966-9FB4-4FC2-8BF7-F234B4057CB6}" type="slidenum"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4ECD-BD18-48B8-A59A-9ECC064357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9457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89" name="图片 19458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矩形 1945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8791-A2D6-4C0A-BE5A-026A1288EF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843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矩形 1843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矩形 1843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矩形 1843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图片 18440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37" name="矩形 1844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DADA-A378-4DBF-87BA-614242099020}" type="slidenum"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843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矩形 1843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矩形 1843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" name="矩形 1843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3" name="图片 18440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84" name="矩形 1844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A31D-6880-460A-8570-21D4CB96011B}" type="slidenum"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843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7" name="矩形 1843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矩形 1843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9" name="矩形 1843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30" name="图片 18440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231" name="矩形 1844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E2D4-202D-4D1A-974A-D19B1A0DAABB}" type="slidenum"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1843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4" name="矩形 1843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5" name="矩形 1843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" name="矩形 1843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77" name="图片 18440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278" name="矩形 1844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8D18-D9A4-4043-A13F-BE8C38F5D634}" type="slidenum"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1843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1" name="矩形 1843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2" name="矩形 1843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3" name="矩形 1843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24" name="图片 18440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325" name="矩形 1844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F1AA-8E08-408E-8501-6D0A0B762387}" type="slidenum"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矩形 18433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8" name="矩形 18434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9" name="矩形 18435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0" name="矩形 1843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71" name="图片 18440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372" name="矩形 18441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8D3E-6712-40BF-8028-A475011A392B}" type="slidenum"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reatchinese.com/emperors/emperorpict/qinshiwang.jpg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eatchinese.com/emperors/emperorpict/qinshiwang.jpg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reatchinese.com/emperors/emperorpict/qinshiwang.jpg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5121" descr="C:/Users/admin/Downloads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122"/>
          <p:cNvSpPr/>
          <p:nvPr/>
        </p:nvSpPr>
        <p:spPr>
          <a:xfrm>
            <a:off x="127332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7" name="文本框 5124"/>
          <p:cNvSpPr/>
          <p:nvPr/>
        </p:nvSpPr>
        <p:spPr>
          <a:xfrm>
            <a:off x="2942280" y="2346480"/>
            <a:ext cx="3259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黑体"/>
                <a:ea typeface="黑体"/>
              </a:rPr>
              <a:t>唐雎不    使命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8" name="矩形 5125"/>
          <p:cNvSpPr txBox="1"/>
          <p:nvPr/>
        </p:nvSpPr>
        <p:spPr>
          <a:xfrm rot="5400000">
            <a:off x="4457520" y="232380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5681"/>
              </a:avLst>
            </a:prstTxWarp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辱</a:t>
            </a:r>
            <a:endParaRPr b="0" lang="en-US" sz="44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559" name="文本框 5127"/>
          <p:cNvSpPr/>
          <p:nvPr/>
        </p:nvSpPr>
        <p:spPr>
          <a:xfrm>
            <a:off x="2843280" y="105264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第二十三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0" name="文本框 5134"/>
          <p:cNvSpPr/>
          <p:nvPr/>
        </p:nvSpPr>
        <p:spPr>
          <a:xfrm>
            <a:off x="4301640" y="47984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战国策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矩形 50177">
            <a:hlinkClick r:id="rId1"/>
          </p:cNvPr>
          <p:cNvSpPr/>
          <p:nvPr/>
        </p:nvSpPr>
        <p:spPr>
          <a:xfrm>
            <a:off x="40719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4" name="矩形 50179"/>
          <p:cNvSpPr txBox="1"/>
          <p:nvPr/>
        </p:nvSpPr>
        <p:spPr>
          <a:xfrm>
            <a:off x="1523880" y="3886200"/>
            <a:ext cx="236232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829"/>
              </a:avLst>
            </a:prstTxWarp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机智勇敢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15" name="图片 50180" descr="2"/>
          <p:cNvPicPr/>
          <p:nvPr/>
        </p:nvPicPr>
        <p:blipFill>
          <a:blip r:embed="rId2"/>
          <a:stretch/>
        </p:blipFill>
        <p:spPr>
          <a:xfrm>
            <a:off x="990720" y="2852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50181" descr="3"/>
          <p:cNvPicPr/>
          <p:nvPr/>
        </p:nvPicPr>
        <p:blipFill>
          <a:blip r:embed="rId3"/>
          <a:stretch/>
        </p:blipFill>
        <p:spPr>
          <a:xfrm>
            <a:off x="990720" y="441972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617" name="矩形 50182"/>
          <p:cNvSpPr txBox="1"/>
          <p:nvPr/>
        </p:nvSpPr>
        <p:spPr>
          <a:xfrm>
            <a:off x="1447920" y="2362320"/>
            <a:ext cx="2438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111"/>
              </a:avLst>
            </a:prstTxWarp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爱国忠君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18" name="图片 50183" descr="2"/>
          <p:cNvPicPr/>
          <p:nvPr/>
        </p:nvPicPr>
        <p:blipFill>
          <a:blip r:embed="rId4"/>
          <a:srcRect l="0" t="0" r="80" b="109"/>
          <a:stretch/>
        </p:blipFill>
        <p:spPr>
          <a:xfrm>
            <a:off x="5219640" y="836640"/>
            <a:ext cx="369576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53249">
            <a:hlinkClick r:id="rId1"/>
          </p:cNvPr>
          <p:cNvSpPr/>
          <p:nvPr/>
        </p:nvSpPr>
        <p:spPr>
          <a:xfrm>
            <a:off x="40719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0" name="文本框 53250"/>
          <p:cNvSpPr/>
          <p:nvPr/>
        </p:nvSpPr>
        <p:spPr>
          <a:xfrm>
            <a:off x="1116000" y="2060640"/>
            <a:ext cx="40384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问题二：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你觉得秦王是一个怎样的人？请按前面分析唐雎性格的方法谈谈你的意见。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621" name="图片 53252" descr="gif014"/>
          <p:cNvPicPr/>
          <p:nvPr/>
        </p:nvPicPr>
        <p:blipFill>
          <a:blip r:embed="rId2"/>
          <a:stretch/>
        </p:blipFill>
        <p:spPr>
          <a:xfrm rot="727200">
            <a:off x="447480" y="685440"/>
            <a:ext cx="1981080" cy="145404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53253" descr="秦皇图"/>
          <p:cNvPicPr/>
          <p:nvPr/>
        </p:nvPicPr>
        <p:blipFill>
          <a:blip r:embed="rId3"/>
          <a:srcRect l="0" t="0" r="307" b="185"/>
          <a:stretch/>
        </p:blipFill>
        <p:spPr>
          <a:xfrm>
            <a:off x="5435640" y="1125360"/>
            <a:ext cx="37083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矩形 54273"/>
          <p:cNvSpPr txBox="1"/>
          <p:nvPr/>
        </p:nvSpPr>
        <p:spPr>
          <a:xfrm>
            <a:off x="1752480" y="3733920"/>
            <a:ext cx="2286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889"/>
              </a:avLst>
            </a:prstTxWarp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色厉内荏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24" name="图片 54275" descr="2"/>
          <p:cNvPicPr/>
          <p:nvPr/>
        </p:nvPicPr>
        <p:blipFill>
          <a:blip r:embed="rId1"/>
          <a:stretch/>
        </p:blipFill>
        <p:spPr>
          <a:xfrm>
            <a:off x="1219320" y="25146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54276" descr="3"/>
          <p:cNvPicPr/>
          <p:nvPr/>
        </p:nvPicPr>
        <p:blipFill>
          <a:blip r:embed="rId2"/>
          <a:stretch/>
        </p:blipFill>
        <p:spPr>
          <a:xfrm>
            <a:off x="1219320" y="4191120"/>
            <a:ext cx="576000" cy="576000"/>
          </a:xfrm>
          <a:prstGeom prst="rect">
            <a:avLst/>
          </a:prstGeom>
          <a:ln w="0">
            <a:noFill/>
          </a:ln>
        </p:spPr>
      </p:pic>
      <p:sp>
        <p:nvSpPr>
          <p:cNvPr id="626" name="矩形 54277"/>
          <p:cNvSpPr txBox="1"/>
          <p:nvPr/>
        </p:nvSpPr>
        <p:spPr>
          <a:xfrm>
            <a:off x="1752480" y="1981080"/>
            <a:ext cx="221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833"/>
              </a:avLst>
            </a:prstTxWarp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骄横狡诈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27" name="图片 54280" descr="秦始皇"/>
          <p:cNvPicPr/>
          <p:nvPr/>
        </p:nvPicPr>
        <p:blipFill>
          <a:blip r:embed="rId3"/>
          <a:stretch/>
        </p:blipFill>
        <p:spPr>
          <a:xfrm>
            <a:off x="6019920" y="990720"/>
            <a:ext cx="2819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圆角矩形标注 43010"/>
          <p:cNvSpPr/>
          <p:nvPr/>
        </p:nvSpPr>
        <p:spPr>
          <a:xfrm rot="21535200">
            <a:off x="5562720" y="3809520"/>
            <a:ext cx="2968560" cy="2438640"/>
          </a:xfrm>
          <a:prstGeom prst="wedgeRoundRectCallout">
            <a:avLst>
              <a:gd name="adj1" fmla="val -113092"/>
              <a:gd name="adj2" fmla="val -7393"/>
              <a:gd name="adj3" fmla="val 1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9" name="圆角矩形标注 43011"/>
          <p:cNvSpPr/>
          <p:nvPr/>
        </p:nvSpPr>
        <p:spPr>
          <a:xfrm>
            <a:off x="5334120" y="838080"/>
            <a:ext cx="3200400" cy="2362320"/>
          </a:xfrm>
          <a:prstGeom prst="wedgeRoundRectCallout">
            <a:avLst>
              <a:gd name="adj1" fmla="val -96277"/>
              <a:gd name="adj2" fmla="val 5310"/>
              <a:gd name="adj3" fmla="val 1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0" name="矩形 43012"/>
          <p:cNvSpPr txBox="1"/>
          <p:nvPr/>
        </p:nvSpPr>
        <p:spPr>
          <a:xfrm rot="5400000">
            <a:off x="2361960" y="160020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870"/>
              </a:avLst>
            </a:prstTxWarp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秦王</a:t>
            </a:r>
            <a:endParaRPr b="0" lang="en-US" sz="44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631" name="矩形 43013"/>
          <p:cNvSpPr txBox="1"/>
          <p:nvPr/>
        </p:nvSpPr>
        <p:spPr>
          <a:xfrm rot="5400000">
            <a:off x="2324160" y="445752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唐雎</a:t>
            </a:r>
            <a:endParaRPr b="0" lang="en-US" sz="44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632" name="左大括号 43014"/>
          <p:cNvSpPr/>
          <p:nvPr/>
        </p:nvSpPr>
        <p:spPr>
          <a:xfrm>
            <a:off x="2057400" y="2209680"/>
            <a:ext cx="380880" cy="3124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3" name="文本框 43015"/>
          <p:cNvSpPr/>
          <p:nvPr/>
        </p:nvSpPr>
        <p:spPr>
          <a:xfrm>
            <a:off x="477000" y="2666880"/>
            <a:ext cx="1399320" cy="25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黑体"/>
              </a:rPr>
              <a:t>人物性格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4" name="文本框 43016"/>
          <p:cNvSpPr/>
          <p:nvPr/>
        </p:nvSpPr>
        <p:spPr>
          <a:xfrm>
            <a:off x="642276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骄横狡诈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色厉内荏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35" name="文本框 43017"/>
          <p:cNvSpPr/>
          <p:nvPr/>
        </p:nvSpPr>
        <p:spPr>
          <a:xfrm>
            <a:off x="6422760" y="45720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爱国忠君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机智勇敢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矩形 30721"/>
          <p:cNvSpPr/>
          <p:nvPr/>
        </p:nvSpPr>
        <p:spPr>
          <a:xfrm>
            <a:off x="385776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637" name="图片 30722" descr="C:/Users/admin/Downloads/http:/www.folkwind.com/liuqing/images/qinhuang.gif"/>
          <p:cNvPicPr/>
          <p:nvPr/>
        </p:nvPicPr>
        <p:blipFill>
          <a:blip r:embed="rId1"/>
          <a:stretch/>
        </p:blipFill>
        <p:spPr>
          <a:xfrm>
            <a:off x="5257800" y="838080"/>
            <a:ext cx="3429000" cy="563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</p:pic>
      <p:sp>
        <p:nvSpPr>
          <p:cNvPr id="638" name="文本框 30723"/>
          <p:cNvSpPr/>
          <p:nvPr/>
        </p:nvSpPr>
        <p:spPr>
          <a:xfrm>
            <a:off x="598320" y="2927520"/>
            <a:ext cx="44233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问题三：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从“唐雎不辱使命”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一故事，我们可以看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出唐雎的说话技巧体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在哪些方面？你又有何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启示？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639" name="图片 30725" descr="gif014"/>
          <p:cNvPicPr/>
          <p:nvPr/>
        </p:nvPicPr>
        <p:blipFill>
          <a:blip r:embed="rId2"/>
          <a:stretch/>
        </p:blipFill>
        <p:spPr>
          <a:xfrm rot="727200">
            <a:off x="457200" y="838080"/>
            <a:ext cx="22096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图片 95233" descr="唐雎"/>
          <p:cNvPicPr/>
          <p:nvPr/>
        </p:nvPicPr>
        <p:blipFill>
          <a:blip r:embed="rId1"/>
          <a:srcRect l="0" t="0" r="0" b="-251"/>
          <a:stretch/>
        </p:blipFill>
        <p:spPr>
          <a:xfrm>
            <a:off x="0" y="0"/>
            <a:ext cx="3637080" cy="6237360"/>
          </a:xfrm>
          <a:prstGeom prst="rect">
            <a:avLst/>
          </a:prstGeom>
          <a:ln w="0">
            <a:noFill/>
          </a:ln>
        </p:spPr>
      </p:pic>
      <p:sp>
        <p:nvSpPr>
          <p:cNvPr id="641" name="云形标注 95234"/>
          <p:cNvSpPr/>
          <p:nvPr/>
        </p:nvSpPr>
        <p:spPr>
          <a:xfrm>
            <a:off x="3132000" y="-233280"/>
            <a:ext cx="4114800" cy="2438280"/>
          </a:xfrm>
          <a:prstGeom prst="cloudCallout">
            <a:avLst>
              <a:gd name="adj1" fmla="val -59143"/>
              <a:gd name="adj2" fmla="val 644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2" name="文本框 95235"/>
          <p:cNvSpPr/>
          <p:nvPr/>
        </p:nvSpPr>
        <p:spPr>
          <a:xfrm>
            <a:off x="3062520" y="2421000"/>
            <a:ext cx="1277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说话技巧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唐雎的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3" name="左大括号 95236"/>
          <p:cNvSpPr/>
          <p:nvPr/>
        </p:nvSpPr>
        <p:spPr>
          <a:xfrm>
            <a:off x="4211640" y="2276640"/>
            <a:ext cx="647640" cy="3889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01160 h 3889080"/>
              <a:gd name="textAreaBottom" fmla="*/ 3787920 h 38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4" name="文本框 95237"/>
          <p:cNvSpPr/>
          <p:nvPr/>
        </p:nvSpPr>
        <p:spPr>
          <a:xfrm>
            <a:off x="3492360" y="11592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王尝闻布衣之怒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乎。。。伏尸二人流血五步，天下缟素。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。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5" name="文本框 95238"/>
          <p:cNvSpPr/>
          <p:nvPr/>
        </p:nvSpPr>
        <p:spPr>
          <a:xfrm>
            <a:off x="4716360" y="2060640"/>
            <a:ext cx="28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6" name="文本框 95239"/>
          <p:cNvSpPr/>
          <p:nvPr/>
        </p:nvSpPr>
        <p:spPr>
          <a:xfrm>
            <a:off x="4716360" y="38606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7" name="文本框 95240"/>
          <p:cNvSpPr/>
          <p:nvPr/>
        </p:nvSpPr>
        <p:spPr>
          <a:xfrm>
            <a:off x="4572000" y="56800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8" name="文本框 95241"/>
          <p:cNvSpPr/>
          <p:nvPr/>
        </p:nvSpPr>
        <p:spPr>
          <a:xfrm>
            <a:off x="8077320" y="2278080"/>
            <a:ext cx="106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9" name="文本框 95242"/>
          <p:cNvSpPr/>
          <p:nvPr/>
        </p:nvSpPr>
        <p:spPr>
          <a:xfrm>
            <a:off x="8085240" y="3933720"/>
            <a:ext cx="1058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0" name="文本框 95244"/>
          <p:cNvSpPr/>
          <p:nvPr/>
        </p:nvSpPr>
        <p:spPr>
          <a:xfrm>
            <a:off x="7345440" y="1557360"/>
            <a:ext cx="15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否，非若是也”“而守之”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1" name="文本框 95245"/>
          <p:cNvSpPr/>
          <p:nvPr/>
        </p:nvSpPr>
        <p:spPr>
          <a:xfrm>
            <a:off x="7380360" y="3639960"/>
            <a:ext cx="15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士之怒”“而将四矣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  <a:ea typeface="宋体"/>
              </a:rPr>
              <a:t>”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2" name="文本框 95246"/>
          <p:cNvSpPr/>
          <p:nvPr/>
        </p:nvSpPr>
        <p:spPr>
          <a:xfrm>
            <a:off x="7380360" y="5224320"/>
            <a:ext cx="15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今日是也”“挺剑而起”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图片 48131" descr="C:/Users/admin/Downloads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矩形 48130"/>
          <p:cNvSpPr txBox="1"/>
          <p:nvPr/>
        </p:nvSpPr>
        <p:spPr>
          <a:xfrm>
            <a:off x="1295280" y="457200"/>
            <a:ext cx="2286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0903"/>
              </a:avLst>
            </a:prstTxWarp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启示一：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55" name="文本框 48132"/>
          <p:cNvSpPr/>
          <p:nvPr/>
        </p:nvSpPr>
        <p:spPr>
          <a:xfrm>
            <a:off x="914400" y="2514600"/>
            <a:ext cx="7772400" cy="332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说话技巧在人际交往，尤其是在重要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外交关系中，起着举足轻重的作用。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要有意识地锻炼自己的说话能力，培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养自己的说话技巧。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6" name="文本框 48133"/>
          <p:cNvSpPr/>
          <p:nvPr/>
        </p:nvSpPr>
        <p:spPr>
          <a:xfrm>
            <a:off x="2445840" y="173664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懂得一个道理：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图片 1031" descr="gif014"/>
          <p:cNvPicPr/>
          <p:nvPr/>
        </p:nvPicPr>
        <p:blipFill>
          <a:blip r:embed="rId1"/>
          <a:stretch/>
        </p:blipFill>
        <p:spPr>
          <a:xfrm rot="727200">
            <a:off x="499680" y="736560"/>
            <a:ext cx="1254240" cy="1219320"/>
          </a:xfrm>
          <a:prstGeom prst="rect">
            <a:avLst/>
          </a:prstGeom>
          <a:ln w="0">
            <a:noFill/>
          </a:ln>
        </p:spPr>
      </p:pic>
      <p:sp>
        <p:nvSpPr>
          <p:cNvPr id="658" name="文本框 1035"/>
          <p:cNvSpPr/>
          <p:nvPr/>
        </p:nvSpPr>
        <p:spPr>
          <a:xfrm>
            <a:off x="1692360" y="386352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1f85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2e1f85"/>
                </a:solidFill>
                <a:latin typeface="Times New Roman"/>
              </a:rPr>
              <a:t>李逵说：“哥哥，这黑汉子是谁？”戴宗说：“这是宋江，你要拜他。”李逵说：“要真是宋公明。我便下拜；若是闲人，我却拜他什么！”宋江道：“我是山东黑宋江。”李逵拍手叫道：“我那爷！你何不早说，也叫俺铁牛欢喜。”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49153" descr="C:/Users/admin/Downloads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矩形 49155"/>
          <p:cNvSpPr txBox="1"/>
          <p:nvPr/>
        </p:nvSpPr>
        <p:spPr>
          <a:xfrm>
            <a:off x="1066680" y="533520"/>
            <a:ext cx="2590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86"/>
              </a:avLst>
            </a:prstTxWarp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启示二：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61" name="文本框 49156"/>
          <p:cNvSpPr/>
          <p:nvPr/>
        </p:nvSpPr>
        <p:spPr>
          <a:xfrm>
            <a:off x="2369520" y="204156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培养一种能力：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2" name="文本框 49157"/>
          <p:cNvSpPr/>
          <p:nvPr/>
        </p:nvSpPr>
        <p:spPr>
          <a:xfrm>
            <a:off x="1447920" y="350532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3" name="文本框 49158"/>
          <p:cNvSpPr/>
          <p:nvPr/>
        </p:nvSpPr>
        <p:spPr>
          <a:xfrm>
            <a:off x="2336040" y="3200400"/>
            <a:ext cx="456984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要能够在我们以后的写作过程中，充分运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用个性化的人物语言来凸现人物的性格特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点，提高我们的写作能力。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图片 45069" descr="C:/Users/admin/Downloads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5" name="文本框 45058"/>
          <p:cNvSpPr/>
          <p:nvPr/>
        </p:nvSpPr>
        <p:spPr>
          <a:xfrm>
            <a:off x="98856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迁移训练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6" name="文本框 45059"/>
          <p:cNvSpPr/>
          <p:nvPr/>
        </p:nvSpPr>
        <p:spPr>
          <a:xfrm>
            <a:off x="395280" y="1413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黑体"/>
              </a:rPr>
              <a:t>请你根据下面不同的性格，设计个性化的人物语言。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7" name="文本框 45060"/>
          <p:cNvSpPr/>
          <p:nvPr/>
        </p:nvSpPr>
        <p:spPr>
          <a:xfrm>
            <a:off x="539640" y="213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当同学误以为你把他心爱的物品弄坏时，你会怎么说……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668" name="图片 45065" descr="3"/>
          <p:cNvPicPr/>
          <p:nvPr/>
        </p:nvPicPr>
        <p:blipFill>
          <a:blip r:embed="rId2"/>
          <a:stretch/>
        </p:blipFill>
        <p:spPr>
          <a:xfrm>
            <a:off x="4716360" y="486900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45066"/>
          <p:cNvSpPr/>
          <p:nvPr/>
        </p:nvSpPr>
        <p:spPr>
          <a:xfrm>
            <a:off x="1547640" y="4797360"/>
            <a:ext cx="289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性格暴躁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0" name="文本框 45067"/>
          <p:cNvSpPr/>
          <p:nvPr/>
        </p:nvSpPr>
        <p:spPr>
          <a:xfrm>
            <a:off x="5508720" y="4797360"/>
            <a:ext cx="302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性格温和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671" name="图片 45070" descr="1"/>
          <p:cNvPicPr/>
          <p:nvPr/>
        </p:nvPicPr>
        <p:blipFill>
          <a:blip r:embed="rId3"/>
          <a:stretch/>
        </p:blipFill>
        <p:spPr>
          <a:xfrm>
            <a:off x="826920" y="479736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672" name="文本框 45072"/>
          <p:cNvSpPr/>
          <p:nvPr/>
        </p:nvSpPr>
        <p:spPr>
          <a:xfrm>
            <a:off x="395280" y="3572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夜已深，邻居还在喧嚷，你怎么去劝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71683" descr="书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943600"/>
          </a:xfrm>
          <a:prstGeom prst="rect">
            <a:avLst/>
          </a:prstGeom>
          <a:ln w="0">
            <a:noFill/>
          </a:ln>
        </p:spPr>
      </p:pic>
      <p:sp>
        <p:nvSpPr>
          <p:cNvPr id="562" name="矩形 71681"/>
          <p:cNvSpPr/>
          <p:nvPr/>
        </p:nvSpPr>
        <p:spPr>
          <a:xfrm>
            <a:off x="990720" y="17524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《战国策》：战国时代国别体史书。原有《国事》《国策》《短长》等不同名号，共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篇。西汉成帝时，刘向根据战国末年的纵横家著作整理编辑而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cc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7164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复习目标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340000" y="2707920"/>
            <a:ext cx="5472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一、积累古汉语词汇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二、分析人物形象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三、体会说话技巧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矩形 64514"/>
          <p:cNvSpPr/>
          <p:nvPr/>
        </p:nvSpPr>
        <p:spPr>
          <a:xfrm>
            <a:off x="1495080" y="63036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</a:rPr>
              <a:t>解决以下字音：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6" name="矩形 64515"/>
          <p:cNvSpPr/>
          <p:nvPr/>
        </p:nvSpPr>
        <p:spPr>
          <a:xfrm>
            <a:off x="1449360" y="1981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隶书"/>
                <a:ea typeface="隶书"/>
              </a:rPr>
              <a:t>唐</a:t>
            </a:r>
            <a:r>
              <a:rPr b="0" lang="zh-CN" sz="6000" spc="-1" strike="noStrike" u="sng">
                <a:solidFill>
                  <a:srgbClr val="0000cc"/>
                </a:solidFill>
                <a:uFillTx/>
                <a:latin typeface="隶书"/>
                <a:ea typeface="隶书"/>
              </a:rPr>
              <a:t>雎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7" name="矩形 64516"/>
          <p:cNvSpPr/>
          <p:nvPr/>
        </p:nvSpPr>
        <p:spPr>
          <a:xfrm>
            <a:off x="4268880" y="19051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00cc"/>
                </a:solidFill>
                <a:uFillTx/>
                <a:latin typeface="隶书"/>
                <a:ea typeface="隶书"/>
              </a:rPr>
              <a:t>怫</a:t>
            </a:r>
            <a:r>
              <a:rPr b="0" lang="zh-CN" sz="6000" spc="-1" strike="noStrike">
                <a:solidFill>
                  <a:srgbClr val="0000cc"/>
                </a:solidFill>
                <a:latin typeface="隶书"/>
                <a:ea typeface="隶书"/>
              </a:rPr>
              <a:t>然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8" name="矩形 64517"/>
          <p:cNvSpPr/>
          <p:nvPr/>
        </p:nvSpPr>
        <p:spPr>
          <a:xfrm>
            <a:off x="1373040" y="50292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00cc"/>
                </a:solidFill>
                <a:uFillTx/>
                <a:latin typeface="隶书"/>
                <a:ea typeface="隶书"/>
              </a:rPr>
              <a:t>缟</a:t>
            </a:r>
            <a:r>
              <a:rPr b="0" lang="zh-CN" sz="6000" spc="-1" strike="noStrike">
                <a:solidFill>
                  <a:srgbClr val="0000cc"/>
                </a:solidFill>
                <a:latin typeface="隶书"/>
                <a:ea typeface="隶书"/>
              </a:rPr>
              <a:t>素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9" name="矩形 64518"/>
          <p:cNvSpPr/>
          <p:nvPr/>
        </p:nvSpPr>
        <p:spPr>
          <a:xfrm>
            <a:off x="7012080" y="50292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隶书"/>
                <a:ea typeface="隶书"/>
              </a:rPr>
              <a:t>色</a:t>
            </a:r>
            <a:r>
              <a:rPr b="0" lang="zh-CN" sz="6000" spc="-1" strike="noStrike" u="sng">
                <a:solidFill>
                  <a:srgbClr val="0000cc"/>
                </a:solidFill>
                <a:uFillTx/>
                <a:latin typeface="隶书"/>
                <a:ea typeface="隶书"/>
              </a:rPr>
              <a:t>挠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0" name="矩形 64519"/>
          <p:cNvSpPr/>
          <p:nvPr/>
        </p:nvSpPr>
        <p:spPr>
          <a:xfrm>
            <a:off x="4268880" y="50292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隶书"/>
                <a:ea typeface="隶书"/>
              </a:rPr>
              <a:t>休</a:t>
            </a:r>
            <a:r>
              <a:rPr b="0" lang="zh-CN" sz="6000" spc="-1" strike="noStrike" u="sng">
                <a:solidFill>
                  <a:srgbClr val="0000cc"/>
                </a:solidFill>
                <a:uFillTx/>
                <a:latin typeface="隶书"/>
                <a:ea typeface="隶书"/>
              </a:rPr>
              <a:t>祲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1" name="文本框 64521"/>
          <p:cNvSpPr/>
          <p:nvPr/>
        </p:nvSpPr>
        <p:spPr>
          <a:xfrm>
            <a:off x="6935760" y="19051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be"/>
                </a:solidFill>
                <a:latin typeface="Times New Roman"/>
                <a:ea typeface="隶书"/>
              </a:rPr>
              <a:t>韩</a:t>
            </a:r>
            <a:r>
              <a:rPr b="0" lang="zh-CN" sz="6000" spc="-1" strike="noStrike" u="sng">
                <a:solidFill>
                  <a:srgbClr val="0000be"/>
                </a:solidFill>
                <a:uFillTx/>
                <a:latin typeface="Times New Roman"/>
                <a:ea typeface="隶书"/>
              </a:rPr>
              <a:t>傀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2" name="文本框 64522"/>
          <p:cNvSpPr/>
          <p:nvPr/>
        </p:nvSpPr>
        <p:spPr>
          <a:xfrm>
            <a:off x="2058480" y="160020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ju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3" name="文本框 64523"/>
          <p:cNvSpPr/>
          <p:nvPr/>
        </p:nvSpPr>
        <p:spPr>
          <a:xfrm>
            <a:off x="4039560" y="152388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u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4" name="文本框 64524"/>
          <p:cNvSpPr/>
          <p:nvPr/>
        </p:nvSpPr>
        <p:spPr>
          <a:xfrm>
            <a:off x="7468200" y="1371600"/>
            <a:ext cx="8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gu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5" name="文本框 64525"/>
          <p:cNvSpPr/>
          <p:nvPr/>
        </p:nvSpPr>
        <p:spPr>
          <a:xfrm>
            <a:off x="2895840" y="312408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xia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6" name="文本框 64526"/>
          <p:cNvSpPr/>
          <p:nvPr/>
        </p:nvSpPr>
        <p:spPr>
          <a:xfrm>
            <a:off x="6705720" y="312408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qian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7" name="文本框 64527"/>
          <p:cNvSpPr/>
          <p:nvPr/>
        </p:nvSpPr>
        <p:spPr>
          <a:xfrm>
            <a:off x="1067040" y="4572000"/>
            <a:ext cx="99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ga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8" name="文本框 64528"/>
          <p:cNvSpPr/>
          <p:nvPr/>
        </p:nvSpPr>
        <p:spPr>
          <a:xfrm>
            <a:off x="4801680" y="4572000"/>
            <a:ext cx="7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ji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9" name="文本框 64529"/>
          <p:cNvSpPr/>
          <p:nvPr/>
        </p:nvSpPr>
        <p:spPr>
          <a:xfrm>
            <a:off x="7467840" y="4648320"/>
            <a:ext cx="99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a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0" name="矩形 64531"/>
          <p:cNvSpPr/>
          <p:nvPr/>
        </p:nvSpPr>
        <p:spPr>
          <a:xfrm flipV="1">
            <a:off x="2362320" y="1752480"/>
            <a:ext cx="15228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1" name="矩形 64532"/>
          <p:cNvSpPr/>
          <p:nvPr/>
        </p:nvSpPr>
        <p:spPr>
          <a:xfrm>
            <a:off x="7238880" y="3276720"/>
            <a:ext cx="22860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2" name="直接连接符 64536"/>
          <p:cNvSpPr/>
          <p:nvPr/>
        </p:nvSpPr>
        <p:spPr>
          <a:xfrm flipV="1">
            <a:off x="4419720" y="1599840"/>
            <a:ext cx="15228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3" name="矩形 64537"/>
          <p:cNvSpPr/>
          <p:nvPr/>
        </p:nvSpPr>
        <p:spPr>
          <a:xfrm>
            <a:off x="8077320" y="1523880"/>
            <a:ext cx="2286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4" name="文本框 64546"/>
          <p:cNvSpPr/>
          <p:nvPr/>
        </p:nvSpPr>
        <p:spPr>
          <a:xfrm>
            <a:off x="4953960" y="4419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\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5" name="文本框 64547"/>
          <p:cNvSpPr/>
          <p:nvPr/>
        </p:nvSpPr>
        <p:spPr>
          <a:xfrm>
            <a:off x="137340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6" name="直接连接符 64548"/>
          <p:cNvSpPr/>
          <p:nvPr/>
        </p:nvSpPr>
        <p:spPr>
          <a:xfrm flipV="1">
            <a:off x="8001000" y="4724280"/>
            <a:ext cx="15228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7" name="文本框 64549"/>
          <p:cNvSpPr/>
          <p:nvPr/>
        </p:nvSpPr>
        <p:spPr>
          <a:xfrm>
            <a:off x="33544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8" name="文本框 64550"/>
          <p:cNvSpPr/>
          <p:nvPr/>
        </p:nvSpPr>
        <p:spPr>
          <a:xfrm>
            <a:off x="1297080" y="35794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be"/>
                </a:solidFill>
                <a:latin typeface="Times New Roman"/>
                <a:ea typeface="隶书"/>
              </a:rPr>
              <a:t>免冠徒</a:t>
            </a:r>
            <a:r>
              <a:rPr b="0" lang="zh-CN" sz="6000" spc="-1" strike="noStrike" u="sng">
                <a:solidFill>
                  <a:srgbClr val="0000be"/>
                </a:solidFill>
                <a:uFillTx/>
                <a:latin typeface="Times New Roman"/>
                <a:ea typeface="隶书"/>
              </a:rPr>
              <a:t>跣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9" name="文本框 64551"/>
          <p:cNvSpPr/>
          <p:nvPr/>
        </p:nvSpPr>
        <p:spPr>
          <a:xfrm>
            <a:off x="5945400" y="35794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be"/>
                </a:solidFill>
                <a:latin typeface="Times New Roman"/>
                <a:ea typeface="隶书"/>
              </a:rPr>
              <a:t>以头</a:t>
            </a:r>
            <a:r>
              <a:rPr b="0" lang="zh-CN" sz="6000" spc="-1" strike="noStrike" u="sng">
                <a:solidFill>
                  <a:srgbClr val="0000be"/>
                </a:solidFill>
                <a:uFillTx/>
                <a:latin typeface="Times New Roman"/>
                <a:ea typeface="隶书"/>
              </a:rPr>
              <a:t>抢</a:t>
            </a:r>
            <a:r>
              <a:rPr b="0" lang="zh-CN" sz="6000" spc="-1" strike="noStrike">
                <a:solidFill>
                  <a:srgbClr val="0000be"/>
                </a:solidFill>
                <a:latin typeface="Times New Roman"/>
                <a:ea typeface="隶书"/>
              </a:rPr>
              <a:t>地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图片 67585" descr="唐雎不辱使命"/>
          <p:cNvPicPr/>
          <p:nvPr/>
        </p:nvPicPr>
        <p:blipFill>
          <a:blip r:embed="rId1"/>
          <a:stretch/>
        </p:blipFill>
        <p:spPr>
          <a:xfrm>
            <a:off x="-1752480" y="0"/>
            <a:ext cx="11353680" cy="685800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  <p:sp>
        <p:nvSpPr>
          <p:cNvPr id="591" name="云形标注 67588"/>
          <p:cNvSpPr/>
          <p:nvPr/>
        </p:nvSpPr>
        <p:spPr>
          <a:xfrm>
            <a:off x="3581280" y="0"/>
            <a:ext cx="5562720" cy="3200400"/>
          </a:xfrm>
          <a:prstGeom prst="cloudCallout">
            <a:avLst>
              <a:gd name="adj1" fmla="val 58134"/>
              <a:gd name="adj2" fmla="val -1833"/>
            </a:avLst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2" name="矩形 67592"/>
          <p:cNvSpPr/>
          <p:nvPr/>
        </p:nvSpPr>
        <p:spPr>
          <a:xfrm>
            <a:off x="4191120" y="4572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秦王谓唐雎曰：“寡人以五百里之地易安陵，安陵君不听寡人，何也？且秦灭韩亡魏，而君以五十里之地存者，以君为长者，故不错意也。今吾以十倍之地，请广于君，而君逆寡人者，轻寡人与？”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3" name="圆角矩形 67593"/>
          <p:cNvSpPr/>
          <p:nvPr/>
        </p:nvSpPr>
        <p:spPr>
          <a:xfrm>
            <a:off x="1523880" y="5029200"/>
            <a:ext cx="312444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68609" descr="唐雎不辱使命2"/>
          <p:cNvPicPr/>
          <p:nvPr/>
        </p:nvPicPr>
        <p:blipFill>
          <a:blip r:embed="rId1"/>
          <a:stretch/>
        </p:blipFill>
        <p:spPr>
          <a:xfrm>
            <a:off x="457200" y="3276720"/>
            <a:ext cx="9067680" cy="3581280"/>
          </a:xfrm>
          <a:prstGeom prst="rect">
            <a:avLst/>
          </a:prstGeom>
          <a:ln w="0">
            <a:noFill/>
          </a:ln>
        </p:spPr>
      </p:pic>
      <p:sp>
        <p:nvSpPr>
          <p:cNvPr id="595" name="云形标注 68612"/>
          <p:cNvSpPr/>
          <p:nvPr/>
        </p:nvSpPr>
        <p:spPr>
          <a:xfrm>
            <a:off x="609480" y="304920"/>
            <a:ext cx="8153640" cy="2895480"/>
          </a:xfrm>
          <a:prstGeom prst="cloudCallout">
            <a:avLst>
              <a:gd name="adj1" fmla="val 17425"/>
              <a:gd name="adj2" fmla="val 83444"/>
            </a:avLst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6" name="矩形 68613"/>
          <p:cNvSpPr/>
          <p:nvPr/>
        </p:nvSpPr>
        <p:spPr>
          <a:xfrm>
            <a:off x="2209680" y="6858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秦王怫然怒，谓唐雎曰：“公亦尝闻天子之怒乎？”唐雎对曰：“臣未尝闻也。”秦王曰：“天子之怒，伏尸百万，流血千里。”唐雎曰：“大王尝闻布衣之怒乎？”秦王曰：“布衣之怒，亦免冠徒跣，以头抢地尔。”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7" name="矩形 68617"/>
          <p:cNvSpPr/>
          <p:nvPr/>
        </p:nvSpPr>
        <p:spPr>
          <a:xfrm>
            <a:off x="395280" y="3284640"/>
            <a:ext cx="8458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8" name="椭圆 68621"/>
          <p:cNvSpPr/>
          <p:nvPr/>
        </p:nvSpPr>
        <p:spPr>
          <a:xfrm>
            <a:off x="5181480" y="3200400"/>
            <a:ext cx="9144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69633" descr="唐雎不辱使命2"/>
          <p:cNvPicPr/>
          <p:nvPr/>
        </p:nvPicPr>
        <p:blipFill>
          <a:blip r:embed="rId1"/>
          <a:stretch/>
        </p:blipFill>
        <p:spPr>
          <a:xfrm>
            <a:off x="457200" y="3276720"/>
            <a:ext cx="8991720" cy="3581280"/>
          </a:xfrm>
          <a:prstGeom prst="rect">
            <a:avLst/>
          </a:prstGeom>
          <a:ln w="0">
            <a:noFill/>
          </a:ln>
        </p:spPr>
      </p:pic>
      <p:sp>
        <p:nvSpPr>
          <p:cNvPr id="600" name="云形标注 69640"/>
          <p:cNvSpPr/>
          <p:nvPr/>
        </p:nvSpPr>
        <p:spPr>
          <a:xfrm>
            <a:off x="762120" y="0"/>
            <a:ext cx="8381880" cy="3124080"/>
          </a:xfrm>
          <a:prstGeom prst="cloudCallout">
            <a:avLst>
              <a:gd name="adj1" fmla="val -16157"/>
              <a:gd name="adj2" fmla="val 67833"/>
            </a:avLst>
          </a:prstGeom>
          <a:solidFill>
            <a:srgbClr val="ffffff"/>
          </a:solidFill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1" name="椭圆 69639"/>
          <p:cNvSpPr/>
          <p:nvPr/>
        </p:nvSpPr>
        <p:spPr>
          <a:xfrm>
            <a:off x="5257800" y="2895480"/>
            <a:ext cx="13716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2" name="矩形 69641"/>
          <p:cNvSpPr/>
          <p:nvPr/>
        </p:nvSpPr>
        <p:spPr>
          <a:xfrm>
            <a:off x="2209680" y="304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唐雎曰：“此庸夫之怒也，非士之怒也。夫专诸之刺王僚也，彗星袭月；聂政之刺韩傀也，白虹贯日；要离之刺庆忌也，仓鹰击于殿上。此三子者，皆布衣之士也，怀怒未发，休祲降于天，与臣而将四矣。若士必怒，伏尸二人，流血五步，天下缟素，今日是也。”挺剑而起。 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193" descr="C:/Users/admin/Downloads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04" name="横卷形 8198"/>
          <p:cNvSpPr/>
          <p:nvPr/>
        </p:nvSpPr>
        <p:spPr>
          <a:xfrm>
            <a:off x="2286000" y="2286000"/>
            <a:ext cx="5257800" cy="3352680"/>
          </a:xfrm>
          <a:prstGeom prst="horizontalScroll">
            <a:avLst>
              <a:gd name="adj" fmla="val 1568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5b5249"/>
            </a:solidFill>
            <a:round/>
          </a:ln>
          <a:effectLst>
            <a:outerShdw dist="107932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5" name="文本框 8195"/>
          <p:cNvSpPr/>
          <p:nvPr/>
        </p:nvSpPr>
        <p:spPr>
          <a:xfrm>
            <a:off x="505080" y="2743200"/>
            <a:ext cx="670068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0ae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动作描写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神态描写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语言描写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6" name="笑脸 8199"/>
          <p:cNvSpPr/>
          <p:nvPr/>
        </p:nvSpPr>
        <p:spPr>
          <a:xfrm>
            <a:off x="3809880" y="2209680"/>
            <a:ext cx="533520" cy="533520"/>
          </a:xfrm>
          <a:prstGeom prst="smileyFace">
            <a:avLst>
              <a:gd name="adj" fmla="val 4653"/>
            </a:avLst>
          </a:prstGeom>
          <a:solidFill>
            <a:srgbClr val="ff9900"/>
          </a:solidFill>
          <a:ln w="9360">
            <a:solidFill>
              <a:srgbClr val="5b5249"/>
            </a:solidFill>
            <a:round/>
          </a:ln>
          <a:effectLst>
            <a:outerShdw dist="153753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7" name="文本框 8201"/>
          <p:cNvSpPr/>
          <p:nvPr/>
        </p:nvSpPr>
        <p:spPr>
          <a:xfrm>
            <a:off x="324000" y="402480"/>
            <a:ext cx="69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想一想：</a:t>
            </a:r>
            <a:r>
              <a:rPr b="0" lang="zh-CN" sz="2800" spc="-1" strike="noStrike">
                <a:solidFill>
                  <a:srgbClr val="2a3d7a"/>
                </a:solidFill>
                <a:latin typeface="Times New Roman"/>
              </a:rPr>
              <a:t>课文从哪几个方面刻划人物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52225">
            <a:hlinkClick r:id="rId1"/>
          </p:cNvPr>
          <p:cNvSpPr/>
          <p:nvPr/>
        </p:nvSpPr>
        <p:spPr>
          <a:xfrm>
            <a:off x="40719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9" name="文本框 52226"/>
          <p:cNvSpPr/>
          <p:nvPr/>
        </p:nvSpPr>
        <p:spPr>
          <a:xfrm>
            <a:off x="533520" y="2666880"/>
            <a:ext cx="4038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问题一：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  <a:p>
            <a:pPr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觉得唐雎是一个怎样的人？你能谈谈唐雎的性格特点吗？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610" name="图片 52228" descr="gif014"/>
          <p:cNvPicPr/>
          <p:nvPr/>
        </p:nvPicPr>
        <p:blipFill>
          <a:blip r:embed="rId2"/>
          <a:stretch/>
        </p:blipFill>
        <p:spPr>
          <a:xfrm rot="727200">
            <a:off x="380880" y="685800"/>
            <a:ext cx="2210040" cy="155736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52229" descr="2"/>
          <p:cNvPicPr/>
          <p:nvPr/>
        </p:nvPicPr>
        <p:blipFill>
          <a:blip r:embed="rId3"/>
          <a:srcRect l="0" t="0" r="80" b="109"/>
          <a:stretch/>
        </p:blipFill>
        <p:spPr>
          <a:xfrm>
            <a:off x="5219640" y="907920"/>
            <a:ext cx="3649680" cy="5769000"/>
          </a:xfrm>
          <a:prstGeom prst="rect">
            <a:avLst/>
          </a:prstGeom>
          <a:ln w="0">
            <a:noFill/>
          </a:ln>
        </p:spPr>
      </p:pic>
      <p:sp>
        <p:nvSpPr>
          <p:cNvPr id="612" name="矩形 52231"/>
          <p:cNvSpPr txBox="1"/>
          <p:nvPr/>
        </p:nvSpPr>
        <p:spPr>
          <a:xfrm>
            <a:off x="2556000" y="1125360"/>
            <a:ext cx="2438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文研讨</a:t>
            </a:r>
            <a:endParaRPr b="1" i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7T03:49:20Z</dcterms:created>
  <dc:creator/>
  <dc:description/>
  <dc:language>en-US</dc:language>
  <cp:lastModifiedBy>admin</cp:lastModifiedBy>
  <dcterms:modified xsi:type="dcterms:W3CDTF">2019-03-27T03:49:43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