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E15-9D7C-4995-BD86-3AC22957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5C2-DE30-44F3-BAE6-D47E7E5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93C-D084-4C30-A68E-349FFDEF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1F5-5E5F-40B2-A459-CB4FE204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471-39FF-4B2C-88DB-B4B23388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4AF-D8F6-4173-9BC6-E8A20637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CFE-517F-47EA-828F-D20D05C4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E9C-49A6-4336-8B76-6291CC4A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5ED-B7F1-4AC0-9ABA-6729E6FD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31B-5D14-4973-B1B8-E1C7972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DE7-96A3-4F22-AA38-BB5C030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C04-6D26-4F73-805C-737ED605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D412-6F14-4E7F-BCC1-9740BDF19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BIRD1.WAV" TargetMode="External"/><Relationship Id="rId3" Type="http://schemas.microsoft.com/office/2007/relationships/media" Target="file:///tmp/home/.config/libreoffice/4/user/gallery/BIRD1.WAV" TargetMode="External"/><Relationship Id="rId4" Type="http://schemas.openxmlformats.org/officeDocument/2006/relationships/image" Target="../media/image13.png"/><Relationship Id="rId5" Type="http://schemas.openxmlformats.org/officeDocument/2006/relationships/audio" Target="file:///tmp/home/.config/libreoffice/4/user/gallery/BIRD3.WAV" TargetMode="External"/><Relationship Id="rId6" Type="http://schemas.microsoft.com/office/2007/relationships/media" Target="file:///tmp/home/.config/libreoffice/4/user/gallery/BIRD3.WAV" TargetMode="External"/><Relationship Id="rId7" Type="http://schemas.openxmlformats.org/officeDocument/2006/relationships/image" Target="../media/image13.png"/><Relationship Id="rId8" Type="http://schemas.openxmlformats.org/officeDocument/2006/relationships/audio" Target="file:///tmp/home/.config/libreoffice/4/user/gallery/DCHIRP2.WAV" TargetMode="External"/><Relationship Id="rId9" Type="http://schemas.microsoft.com/office/2007/relationships/media" Target="file:///tmp/home/.config/libreoffice/4/user/gallery/DCHIRP2.WAV" TargetMode="External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MTO_018.WAV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66680"/>
            <a:ext cx="5791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行楷简体"/>
              </a:rPr>
              <a:t>唐   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黄草简体"/>
              </a:rPr>
              <a:t>《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题破山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后禅院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方正黄草简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的  教  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田志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 rot="10800000">
            <a:off x="9067680" y="68580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3352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山光悦鸟性，潭影空人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:\课件\素材\插件图片1\A-1-004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800600"/>
            <a:ext cx="1228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66240" y="6780240"/>
            <a:ext cx="77760" cy="77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144000" y="63244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90676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983800" y="6780240"/>
            <a:ext cx="77760" cy="7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flipH="1">
            <a:off x="9061200" y="632448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flipH="1" rot="10800000">
            <a:off x="898524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3352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万籁此都寂，但余钟磬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F:\课件\素材\插件图片1\A-1-004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800600"/>
            <a:ext cx="1228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28800" y="19494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清晨入古寺，初日照高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27115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曲径通幽处，禅房花木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625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山光悦鸟性，潭影空人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4616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万籁此都寂，但余钟磬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体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作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2590920"/>
            <a:ext cx="6248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默写本诗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“山光悦鸟性，潭影空人心”描写的是什么样的景物，表现作者什么样的思想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:\课件\素材\插件图片2\A-2-688.BMP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5181480"/>
            <a:ext cx="1828800" cy="898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5880" y="5334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080" y="1600200"/>
            <a:ext cx="5486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预习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286000"/>
            <a:ext cx="6096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查字典，读准下列划线字的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7339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495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qì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:\课件\素材\插件图片1\A-1-027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5029200"/>
            <a:ext cx="2667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导入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13372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古诗是我国文化长廊中的瑰宝，唐宋时期，诗词发展达到顶峰。唐代是诗词最繁荣的时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我们今天学习《题破山寺后禅院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:\课件\素材\插件图片1\A-1-011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5257800"/>
            <a:ext cx="2666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正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286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《题破山寺后禅院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505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诗选自《                   》，作者         ，唐代诗人。一生仕途不得志，晚年的生活基本上是寄情琴酒，隐居作诗。他的是现存五十多首，多以山林胜景为题材。这首诗抒发了寄情山水的隐逸情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5812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河岳莫灵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常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28195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家作品简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990720"/>
            <a:ext cx="1523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琥珀简体"/>
              </a:rPr>
              <a:t>赏析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琥珀简体"/>
              <a:ea typeface="方正琥珀简体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352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清晨入古寺，初日照高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:\课件\素材\插件图片1\A-1-004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800600"/>
            <a:ext cx="1228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7920" y="33526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隶二简体"/>
              </a:rPr>
              <a:t>曲径通幽处，禅房花木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:\课件\素材\插件图片1\A-1-004.JPG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4800600"/>
            <a:ext cx="1228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7:04:08Z</dcterms:created>
  <dc:creator>郭吉军</dc:creator>
  <dc:description/>
  <dc:language>en-US</dc:language>
  <cp:lastModifiedBy>郭吉军</cp:lastModifiedBy>
  <cp:lastPrinted>1900-01-04T05:08:28Z</cp:lastPrinted>
  <dcterms:modified xsi:type="dcterms:W3CDTF">2003-04-30T09:06:21Z</dcterms:modified>
  <cp:revision>13</cp:revision>
  <dc:subject/>
  <dc:title>没有幻灯片标题</dc:title>
</cp:coreProperties>
</file>