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AB5C-1243-4F53-B7F3-735971AD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6CDE-33E0-402A-A924-1864C5EB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6C14-2EAA-46A7-94CF-8FB1AC1E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E4BB-AA15-4B04-AF59-51C0A4B2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49C1-D0AA-489F-8625-A90B5FDD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3923-2858-43E1-B49C-4396E143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86AC-830F-4F9E-ADCB-4A164432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A3B2-82A9-4A1B-8DD5-2D8975AE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43A8-FAB2-4E9A-8C98-841FB16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004A-FC9B-4979-82B8-B2AA1269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20AC-1E60-491D-B0BE-75E3D68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321E-FCEB-40A9-9017-BB265C35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1B09-BD86-48C4-9316-90F8247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35C1-A5CE-4280-8C3A-51DDE3F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70F5-0F3E-43A9-920E-39D29E60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F2E-AF0E-4339-A474-A1A4C712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F451-A620-4369-815F-8A9DFC41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8F35-E2CF-4660-8DD3-5CF3DA5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53E2-9436-4E06-9CAC-3E5AC9D5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87BD-6735-4736-A531-E610A389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3D06-AB03-4300-9A37-24F555B0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5E8F-BD9D-40AA-9253-A7D4ED2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D663-00A6-4611-97C1-B549ADDD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9125-4324-4F4F-8F54-2D203E6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CD89-73C1-457B-95D1-D50647B17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384E-268E-4E5F-9C2F-61FA0DF5B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、太空一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杨利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2_1068178324"/>
          <p:cNvPicPr/>
          <p:nvPr/>
        </p:nvPicPr>
        <p:blipFill>
          <a:blip r:embed="rId1"/>
          <a:stretch/>
        </p:blipFill>
        <p:spPr>
          <a:xfrm>
            <a:off x="1447920" y="457200"/>
            <a:ext cx="4392360" cy="3422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4572000" y="337932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WordArt 5" descr=""/>
          <p:cNvPicPr/>
          <p:nvPr/>
        </p:nvPicPr>
        <p:blipFill>
          <a:blip r:embed="rId2"/>
          <a:stretch/>
        </p:blipFill>
        <p:spPr>
          <a:xfrm>
            <a:off x="3060720" y="4218120"/>
            <a:ext cx="2266920" cy="9824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2489400" y="5257800"/>
            <a:ext cx="40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00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年十大感动中国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1"/>
          <p:cNvSpPr/>
          <p:nvPr/>
        </p:nvSpPr>
        <p:spPr>
          <a:xfrm>
            <a:off x="0" y="4572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那一刻当我们仰望星空，或许会感觉到他注视地球的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他承载着中华民族飞天 的梦想，他象征着中国走向太空的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为中华飞天的第一人，作为中国航天人的杰出代表，他的名字注定要被历史铭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。 成就这光彩人生的，是他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训练中的坚韧执着，飞天时的从容镇定，成功后的理智平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而这也正是几代中国航天人的精神，这精神开启了中国人的太空时代，还将成就我们民族更多更美好的梦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7"/>
          <p:cNvSpPr/>
          <p:nvPr/>
        </p:nvSpPr>
        <p:spPr>
          <a:xfrm>
            <a:off x="0" y="685800"/>
            <a:ext cx="89154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杨利伟耗时两年写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传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天地九重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由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万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幅珍贵图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以坦率而真挚的方式，讲述了自己的成长，回顾了一个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城少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成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军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成为一名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优秀的战斗机飞行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如何通过艰难的、接近完美的训练，终于成就了自己见证和创造奇迹的人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便节选自杨利伟的自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地九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3124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词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hì           ku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ò         kàn      áo              j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ǐ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热      轮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廓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遨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游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严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óu        zhuó                fǔ            j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密      烧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灼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五张六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千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9"/>
          <p:cNvSpPr/>
          <p:nvPr/>
        </p:nvSpPr>
        <p:spPr>
          <a:xfrm>
            <a:off x="5257800" y="2705040"/>
            <a:ext cx="2500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俯瞰地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神秘敲击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222840" y="284796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空一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左大括号 8"/>
          <p:cNvSpPr/>
          <p:nvPr/>
        </p:nvSpPr>
        <p:spPr>
          <a:xfrm>
            <a:off x="801720" y="1909800"/>
            <a:ext cx="173160" cy="3030480"/>
          </a:xfrm>
          <a:custGeom>
            <a:avLst/>
            <a:gdLst>
              <a:gd name="textAreaLeft" fmla="*/ 110520 w 173160"/>
              <a:gd name="textAreaRight" fmla="*/ 173520 w 173160"/>
              <a:gd name="textAreaTop" fmla="*/ 4320 h 3030480"/>
              <a:gd name="textAreaBottom" fmla="*/ 3026160 h 30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879480" y="1712880"/>
            <a:ext cx="2413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整 起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7799040" y="1455840"/>
            <a:ext cx="12099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心动魄的太空飞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谨科学的工作态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右大括号 17"/>
          <p:cNvSpPr/>
          <p:nvPr/>
        </p:nvSpPr>
        <p:spPr>
          <a:xfrm>
            <a:off x="7736040" y="1943280"/>
            <a:ext cx="188640" cy="3452760"/>
          </a:xfrm>
          <a:custGeom>
            <a:avLst/>
            <a:gdLst>
              <a:gd name="textAreaLeft" fmla="*/ 0 w 188640"/>
              <a:gd name="textAreaRight" fmla="*/ 68040 w 188640"/>
              <a:gd name="textAreaTop" fmla="*/ 4680 h 3452760"/>
              <a:gd name="textAreaBottom" fmla="*/ 3448080 h 345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"/>
                  <a:pt x="10800" y="98"/>
                </a:cubicBezTo>
                <a:lnTo>
                  <a:pt x="10800" y="10702"/>
                </a:lnTo>
                <a:cubicBezTo>
                  <a:pt x="10800" y="10751"/>
                  <a:pt x="16200" y="10800"/>
                  <a:pt x="21600" y="10800"/>
                </a:cubicBezTo>
                <a:cubicBezTo>
                  <a:pt x="16200" y="10800"/>
                  <a:pt x="10800" y="10849"/>
                  <a:pt x="10800" y="10898"/>
                </a:cubicBezTo>
                <a:lnTo>
                  <a:pt x="10800" y="21502"/>
                </a:lnTo>
                <a:cubicBezTo>
                  <a:pt x="10800" y="215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4" descr=""/>
          <p:cNvPicPr/>
          <p:nvPr/>
        </p:nvPicPr>
        <p:blipFill>
          <a:blip r:embed="rId1"/>
          <a:stretch/>
        </p:blipFill>
        <p:spPr>
          <a:xfrm>
            <a:off x="79200" y="158760"/>
            <a:ext cx="1067040" cy="1004760"/>
          </a:xfrm>
          <a:prstGeom prst="rect">
            <a:avLst/>
          </a:prstGeom>
          <a:ln w="0">
            <a:noFill/>
          </a:ln>
        </p:spPr>
      </p:pic>
      <p:cxnSp>
        <p:nvCxnSpPr>
          <p:cNvPr id="385" name="直接箭头连接符 5"/>
          <p:cNvCxnSpPr/>
          <p:nvPr/>
        </p:nvCxnSpPr>
        <p:spPr>
          <a:xfrm>
            <a:off x="2671560" y="2496960"/>
            <a:ext cx="1080" cy="712080"/>
          </a:xfrm>
          <a:prstGeom prst="straightConnector1">
            <a:avLst/>
          </a:prstGeom>
          <a:ln w="19080">
            <a:solidFill>
              <a:srgbClr val="9393fc"/>
            </a:solidFill>
            <a:miter/>
            <a:tailEnd len="med" type="arrow" w="med"/>
          </a:ln>
        </p:spPr>
      </p:cxnSp>
      <p:sp>
        <p:nvSpPr>
          <p:cNvPr id="386" name="TextBox 16"/>
          <p:cNvSpPr/>
          <p:nvPr/>
        </p:nvSpPr>
        <p:spPr>
          <a:xfrm>
            <a:off x="1030320" y="3208320"/>
            <a:ext cx="22622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   运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直接箭头连接符 19"/>
          <p:cNvCxnSpPr/>
          <p:nvPr/>
        </p:nvCxnSpPr>
        <p:spPr>
          <a:xfrm>
            <a:off x="2679480" y="3928680"/>
            <a:ext cx="1080" cy="415080"/>
          </a:xfrm>
          <a:prstGeom prst="straightConnector1">
            <a:avLst/>
          </a:prstGeom>
          <a:ln w="19080">
            <a:solidFill>
              <a:srgbClr val="9393fc"/>
            </a:solidFill>
            <a:miter/>
            <a:tailEnd len="med" type="arrow" w="med"/>
          </a:ln>
        </p:spPr>
      </p:cxnSp>
      <p:sp>
        <p:nvSpPr>
          <p:cNvPr id="388" name="TextBox 20"/>
          <p:cNvSpPr/>
          <p:nvPr/>
        </p:nvSpPr>
        <p:spPr>
          <a:xfrm>
            <a:off x="879480" y="4411800"/>
            <a:ext cx="25002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着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1"/>
          <p:cNvSpPr/>
          <p:nvPr/>
        </p:nvSpPr>
        <p:spPr>
          <a:xfrm>
            <a:off x="3124080" y="1676520"/>
            <a:ext cx="2441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飞船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剧抖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直接箭头连接符 22"/>
          <p:cNvCxnSpPr/>
          <p:nvPr/>
        </p:nvCxnSpPr>
        <p:spPr>
          <a:xfrm>
            <a:off x="4382640" y="2895120"/>
            <a:ext cx="1080" cy="413640"/>
          </a:xfrm>
          <a:prstGeom prst="straightConnector1">
            <a:avLst/>
          </a:prstGeom>
          <a:ln w="19080">
            <a:solidFill>
              <a:srgbClr val="9393fc"/>
            </a:solidFill>
            <a:miter/>
            <a:tailEnd len="med" type="arrow" w="med"/>
          </a:ln>
        </p:spPr>
      </p:cxnSp>
      <p:sp>
        <p:nvSpPr>
          <p:cNvPr id="391" name="TextBox 23"/>
          <p:cNvSpPr/>
          <p:nvPr/>
        </p:nvSpPr>
        <p:spPr>
          <a:xfrm>
            <a:off x="3575160" y="3208320"/>
            <a:ext cx="1792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行速度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4"/>
          <p:cNvSpPr/>
          <p:nvPr/>
        </p:nvSpPr>
        <p:spPr>
          <a:xfrm>
            <a:off x="3602160" y="4411800"/>
            <a:ext cx="1677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裂缝 晃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直接箭头连接符 25"/>
          <p:cNvCxnSpPr/>
          <p:nvPr/>
        </p:nvCxnSpPr>
        <p:spPr>
          <a:xfrm>
            <a:off x="4382640" y="3928680"/>
            <a:ext cx="1080" cy="415080"/>
          </a:xfrm>
          <a:prstGeom prst="straightConnector1">
            <a:avLst/>
          </a:prstGeom>
          <a:ln w="1908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394" name="直接箭头连接符 26"/>
          <p:cNvCxnSpPr/>
          <p:nvPr/>
        </p:nvCxnSpPr>
        <p:spPr>
          <a:xfrm>
            <a:off x="6571800" y="2374920"/>
            <a:ext cx="1080" cy="413280"/>
          </a:xfrm>
          <a:prstGeom prst="straightConnector1">
            <a:avLst/>
          </a:prstGeom>
          <a:ln w="1908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395" name="直接箭头连接符 27"/>
          <p:cNvCxnSpPr/>
          <p:nvPr/>
        </p:nvCxnSpPr>
        <p:spPr>
          <a:xfrm>
            <a:off x="6581520" y="3928680"/>
            <a:ext cx="1080" cy="415080"/>
          </a:xfrm>
          <a:prstGeom prst="straightConnector1">
            <a:avLst/>
          </a:prstGeom>
          <a:ln w="19080">
            <a:solidFill>
              <a:srgbClr val="9393fc"/>
            </a:solidFill>
            <a:miter/>
            <a:tailEnd len="med" type="arrow" w="med"/>
          </a:ln>
        </p:spPr>
      </p:cxnSp>
      <p:sp>
        <p:nvSpPr>
          <p:cNvPr id="396" name="TextBox 28"/>
          <p:cNvSpPr/>
          <p:nvPr/>
        </p:nvSpPr>
        <p:spPr>
          <a:xfrm>
            <a:off x="5257800" y="1600200"/>
            <a:ext cx="27226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航天员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苦 难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0"/>
          <p:cNvSpPr/>
          <p:nvPr/>
        </p:nvSpPr>
        <p:spPr>
          <a:xfrm>
            <a:off x="5600880" y="4292640"/>
            <a:ext cx="232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张 惊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恐惧 应付自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-360" y="6091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升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以为自己要牺牲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起飞时的生死考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振带来的痛苦感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所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到了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太空中的真实所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看到长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所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秘的敲击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飞船上的声音探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本末倒置”的错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神秘的敲击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落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途如此惊心动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返回途中的惊险际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飞船舷窗出现裂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左大括号 4"/>
          <p:cNvSpPr/>
          <p:nvPr/>
        </p:nvSpPr>
        <p:spPr>
          <a:xfrm>
            <a:off x="4648320" y="36576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7"/>
          <p:cNvSpPr/>
          <p:nvPr/>
        </p:nvSpPr>
        <p:spPr>
          <a:xfrm>
            <a:off x="0" y="1461960"/>
            <a:ext cx="89154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太空一日，充满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紧张和意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阅读课文，找找看，杨利伟遇到了哪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意外情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？他相应地又有怎样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心理活动或举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79200" y="158760"/>
            <a:ext cx="3036960" cy="1004760"/>
            <a:chOff x="79200" y="158760"/>
            <a:chExt cx="3036960" cy="1004760"/>
          </a:xfrm>
        </p:grpSpPr>
        <p:sp>
          <p:nvSpPr>
            <p:cNvPr id="402" name="圆角矩形 2"/>
            <p:cNvSpPr/>
            <p:nvPr/>
          </p:nvSpPr>
          <p:spPr>
            <a:xfrm>
              <a:off x="1058760" y="331560"/>
              <a:ext cx="2057400" cy="684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细读感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58760"/>
              <a:ext cx="1066680" cy="10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Picture 7" descr="http://img06.tooopen.com/images/20161124/tooopen_sy_187718884425.jpg"/>
          <p:cNvPicPr/>
          <p:nvPr/>
        </p:nvPicPr>
        <p:blipFill>
          <a:blip r:embed="rId2"/>
          <a:stretch/>
        </p:blipFill>
        <p:spPr>
          <a:xfrm>
            <a:off x="3651120" y="3730680"/>
            <a:ext cx="3969000" cy="30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152280" y="533520"/>
          <a:ext cx="8991720" cy="6095880"/>
        </p:xfrm>
        <a:graphic>
          <a:graphicData uri="http://schemas.openxmlformats.org/drawingml/2006/table">
            <a:tbl>
              <a:tblPr/>
              <a:tblGrid>
                <a:gridCol w="4496040"/>
                <a:gridCol w="4495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意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或举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共振叠加，五脏六腑要碎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以为要牺牲了，顽强忍受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、产生“本末倒置”的错觉，倒着飞很难受，容易诱发空间运动病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靠意志克服，最终得以适应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出现神秘的敲击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很紧张，边听边看，冷静观察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、返程时舷窗出现裂纹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紧张、担心，通过观察判断应该没事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抛伞开伞时飞船晃动很大，折磨人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让人不知道怎么回事，感到紧张，重视这个过程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609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升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起飞时的生死考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敢于探索、            不怕牺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所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没有看到长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事求是、爱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所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神秘的敲击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求实严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落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船舷窗出现裂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勇敢坚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左大括号 3"/>
          <p:cNvSpPr/>
          <p:nvPr/>
        </p:nvSpPr>
        <p:spPr>
          <a:xfrm>
            <a:off x="6781680" y="7621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就这一下，指挥大厅有人大声喊道：“快看啊，他眨眼了。利伟还活着！”所有的人都鼓掌欢呼起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体会句子所蕴含的情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用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语言描写、动作描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生动形象地写出了指挥大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工作人员的激动与喜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也表现了杨利伟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"/>
              </a:rPr>
              <a:t>太空飞行的惊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1_2-1-9-630_2003101510176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主题思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91880" y="1980720"/>
            <a:ext cx="8646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空一日，充满紧张和意外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杨利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为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我国首飞航天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表现出了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敢于探索、不怕牺牲的勇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"/>
              </a:rPr>
              <a:t>实事求是、细致严谨的科学精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文章洋溢着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中国航天科技发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骄傲和自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1_2-1-15-630_2003101510179"/>
          <p:cNvPicPr/>
          <p:nvPr/>
        </p:nvPicPr>
        <p:blipFill>
          <a:blip r:embed="rId1"/>
          <a:stretch/>
        </p:blipFill>
        <p:spPr>
          <a:xfrm>
            <a:off x="0" y="380880"/>
            <a:ext cx="4343400" cy="6477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adaf2edda3cc7cd986656f743901213fb90e91d6"/>
          <p:cNvPicPr/>
          <p:nvPr/>
        </p:nvPicPr>
        <p:blipFill>
          <a:blip r:embed="rId2"/>
          <a:stretch/>
        </p:blipFill>
        <p:spPr>
          <a:xfrm>
            <a:off x="4351320" y="380880"/>
            <a:ext cx="4792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800"/>
          <p:cNvPicPr/>
          <p:nvPr/>
        </p:nvPicPr>
        <p:blipFill>
          <a:blip r:embed="rId1"/>
          <a:stretch/>
        </p:blipFill>
        <p:spPr>
          <a:xfrm>
            <a:off x="4467240" y="380880"/>
            <a:ext cx="4676760" cy="6477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17"/>
          <p:cNvPicPr/>
          <p:nvPr/>
        </p:nvPicPr>
        <p:blipFill>
          <a:blip r:embed="rId2"/>
          <a:stretch/>
        </p:blipFill>
        <p:spPr>
          <a:xfrm>
            <a:off x="0" y="380880"/>
            <a:ext cx="4419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" descr="F2003101607504300000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http://pic41.nipic.com/20140514/2531170_215202583000_2.jpg"/>
          <p:cNvPicPr/>
          <p:nvPr/>
        </p:nvPicPr>
        <p:blipFill>
          <a:blip r:embed="rId1"/>
          <a:srcRect l="0" t="0" r="0" b="4532"/>
          <a:stretch/>
        </p:blipFill>
        <p:spPr>
          <a:xfrm>
            <a:off x="722160" y="1589040"/>
            <a:ext cx="3419640" cy="3876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2" name="Picture 6" descr="http://www.wallcoo.com/cartoon/Space_image_space_and_satellite/wallpapers/1600x1200/Space%20Satellite%20CG%20art%20images%20EF07_SI0184.jpg"/>
          <p:cNvPicPr/>
          <p:nvPr/>
        </p:nvPicPr>
        <p:blipFill>
          <a:blip r:embed="rId2"/>
          <a:stretch/>
        </p:blipFill>
        <p:spPr>
          <a:xfrm rot="21364800">
            <a:off x="4424400" y="1230120"/>
            <a:ext cx="435276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http://pic62.nipic.com/file/20150322/2531170_181448538000_2.jpg"/>
          <p:cNvPicPr/>
          <p:nvPr/>
        </p:nvPicPr>
        <p:blipFill>
          <a:blip r:embed="rId1"/>
          <a:srcRect l="0" t="0" r="0" b="3895"/>
          <a:stretch/>
        </p:blipFill>
        <p:spPr>
          <a:xfrm>
            <a:off x="768240" y="947880"/>
            <a:ext cx="3521160" cy="4817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img01.taopic.com/150329/240422-15032Z9205942.jpg"/>
          <p:cNvPicPr/>
          <p:nvPr/>
        </p:nvPicPr>
        <p:blipFill>
          <a:blip r:embed="rId2"/>
          <a:stretch/>
        </p:blipFill>
        <p:spPr>
          <a:xfrm>
            <a:off x="4440240" y="1560600"/>
            <a:ext cx="404028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742840" y="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7d"/>
                </a:solidFill>
                <a:latin typeface="Arial"/>
              </a:rPr>
              <a:t>写作背景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舟五号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载人飞船是“神舟”号系列飞船之一，简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神五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是中国载人航天工程发射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五艘飞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也是中华人民共和国发射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第一艘载人航天飞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船搭载航天员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杨利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于北京时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酒泉发射中心发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次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返回，降落于四子王旗着陆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功发射与返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标志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成为世界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把人送入太空的国家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俄国、美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733920" y="457200"/>
            <a:ext cx="5410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杨利伟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中国进入太空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6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出生，辽宁省葫芦岛市绥中县人，大学文化程度，中国共产党党员，中国人民解放军少将军衔，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特级航天员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ext-20100905112248-1275168532"/>
          <p:cNvPicPr/>
          <p:nvPr/>
        </p:nvPicPr>
        <p:blipFill>
          <a:blip r:embed="rId1"/>
          <a:stretch/>
        </p:blipFill>
        <p:spPr>
          <a:xfrm>
            <a:off x="0" y="1066680"/>
            <a:ext cx="3722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1:15:27Z</dcterms:created>
  <dc:creator>hp-</dc:creator>
  <dc:description/>
  <dc:language>en-US</dc:language>
  <cp:lastModifiedBy>AutoBVT</cp:lastModifiedBy>
  <dcterms:modified xsi:type="dcterms:W3CDTF">2017-05-23T06:08:4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