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chimes.wav" ContentType="audio/x-wav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922-3FAD-418E-A2CA-1879AD7E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211-8025-42A2-AE81-E9D2E59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ACF-E1E0-4C73-8FDE-18C61A10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E00-B761-4956-A2C5-1E357E82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5253-C421-4F52-A636-5B518D4C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9AB-74C3-42B3-8727-4481552F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FC2B-4D82-431B-A40B-82BE702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58A7-6943-4F18-986C-03A8A9D9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606-93C0-4637-AA2E-A00F5DB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6482-ECBA-4A16-ABB1-90E4CDFB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DC6D-04EA-4466-B778-EA8FC659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521-3C07-4E69-8CEF-A7FB9E83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765-ED04-4A42-88A9-FAC39A8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4212-1F53-460A-B389-C81D6A50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AFC1-122C-4BD3-A58B-01B9C18C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3EA7-1254-4A24-93BC-C6C8A67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1FEF-05C4-421B-92EA-31385B00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6A6-8AA3-4704-903F-E36B356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102-CEB4-4513-A6E9-7A40991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E1A-1E24-4D0C-997A-FD207D5C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265-C2F0-4C17-A7FB-7CF36A8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498-5F29-4593-A9B0-0F6AF5B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566-FFC5-46E8-B14F-5C8AB3BC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978-443E-4062-87FC-8737E6FA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8B1-66BB-4E8B-9BBC-7A1694B5B8C1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BB5-7274-4263-82AA-09D35833E33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30005;&#23376;&#25991;&#31295;.ppt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8436;&#31034;&#25991;&#31295;3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桃  花  源  记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08366"/>
                </a:solidFill>
                <a:latin typeface="Times New Roman"/>
              </a:rPr>
              <a:t>陶渊明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-236520"/>
            <a:ext cx="10287000" cy="9075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32040" y="873000"/>
            <a:ext cx="727992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6560" y="857160"/>
            <a:ext cx="7129440" cy="514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8920" y="36450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给桃源人写一封信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2400" y="60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总结扩展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2565360"/>
            <a:ext cx="13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总结学习文言文的方法 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838080"/>
            <a:ext cx="761976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板书设计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桃花源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陶渊明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发  现                      和平安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探  访                      怡然自得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离  开                      安居乐业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再  访                      民风淳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76720"/>
            <a:ext cx="287280" cy="158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920 h 1584360"/>
              <a:gd name="textAreaBottom" fmla="*/ 15314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6"/>
                  <a:pt x="10800" y="2312"/>
                </a:cubicBezTo>
                <a:lnTo>
                  <a:pt x="10800" y="8336"/>
                </a:lnTo>
                <a:cubicBezTo>
                  <a:pt x="10800" y="9492"/>
                  <a:pt x="5400" y="10648"/>
                  <a:pt x="0" y="10648"/>
                </a:cubicBezTo>
                <a:cubicBezTo>
                  <a:pt x="5400" y="10648"/>
                  <a:pt x="10800" y="11804"/>
                  <a:pt x="10800" y="12960"/>
                </a:cubicBezTo>
                <a:lnTo>
                  <a:pt x="10800" y="19288"/>
                </a:lnTo>
                <a:cubicBezTo>
                  <a:pt x="10800" y="20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3276720"/>
            <a:ext cx="228600" cy="1512720"/>
          </a:xfrm>
          <a:custGeom>
            <a:avLst/>
            <a:gdLst>
              <a:gd name="textAreaLeft" fmla="*/ 0 w 228600"/>
              <a:gd name="textAreaRight" fmla="*/ 82440 w 2286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16200" y="10743"/>
                  <a:pt x="21600" y="10743"/>
                </a:cubicBezTo>
                <a:cubicBezTo>
                  <a:pt x="162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-405"/>
          <a:stretch/>
        </p:blipFill>
        <p:spPr>
          <a:xfrm>
            <a:off x="7451640" y="806400"/>
            <a:ext cx="1158840" cy="66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7400" y="4876920"/>
            <a:ext cx="5256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一个与黑暗现实相对照的美好社会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寄托作者政治理想，反映人民愿望</a:t>
            </a:r>
            <a:r>
              <a:rPr b="1" lang="zh-CN" sz="2400" spc="-1" strike="noStrike">
                <a:solidFill>
                  <a:srgbClr val="4020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2316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桃花源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404640"/>
            <a:ext cx="44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74320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给下列字注音、释义：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豁然  俨然  阡陌  髫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交通  志之  要    寻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咸    向    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基础知识目标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105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积累文言词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1640" y="278136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借助工具书和学习软件疏通文意；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培养朗读和背诵的能力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5720" y="5698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能力训练目标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41911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难点：理解作者理想的进步意义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和消极意义 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7920" y="6858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教学重点、难点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05000" y="2449440"/>
            <a:ext cx="264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重点：</a:t>
            </a: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、诵读课文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、积累文言词汇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094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朗读课文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0481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113" b="-151"/>
          <a:stretch/>
        </p:blipFill>
        <p:spPr>
          <a:xfrm>
            <a:off x="7162920" y="609480"/>
            <a:ext cx="1549440" cy="84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43280" y="2924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清楚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249228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句读分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3357720"/>
            <a:ext cx="25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节奏合理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4869000"/>
            <a:ext cx="14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流畅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365720"/>
            <a:ext cx="26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语句流利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2293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音韵铿锵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5200" y="184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要求：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2852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797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68580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932200"/>
            <a:ext cx="719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69228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研读课文、突破难点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060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社会现实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2041560"/>
            <a:ext cx="22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桃 花 源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334120"/>
            <a:ext cx="23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连年内战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2240" y="533412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祥和安宁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3357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生活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7240" y="5013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环境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60880" y="3141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赋税繁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6120" y="3794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怡然自得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35480" y="4648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平等互爱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653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污秽黑暗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5920" y="31082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自食其力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789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苦不堪言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350028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5013360"/>
            <a:ext cx="71640" cy="64908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rId1"/>
          </p:cNvPr>
          <p:cNvPicPr/>
          <p:nvPr/>
        </p:nvPicPr>
        <p:blipFill>
          <a:blip r:embed="rId2"/>
          <a:srcRect l="0" t="0" r="-149" b="71"/>
          <a:stretch/>
        </p:blipFill>
        <p:spPr>
          <a:xfrm>
            <a:off x="7020000" y="5300640"/>
            <a:ext cx="1297080" cy="89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58920" y="620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反复吟诵</a:t>
            </a: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66960" y="190512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低声背诵</a:t>
            </a: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59040" y="27813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高声背诵</a:t>
            </a:r>
            <a:r>
              <a:rPr b="1" lang="zh-CN" sz="4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80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快速背诵</a:t>
            </a: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57600" y="464832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背诵比赛</a:t>
            </a:r>
            <a:r>
              <a:rPr b="1" lang="zh-CN" sz="48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052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积累文言词汇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213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）古今异义：交通   妻子   绝境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无论   俨然   鲜美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286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）通假字：  具   要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648320"/>
            <a:ext cx="58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）一词多义：舍   寻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4864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402000"/>
                </a:solidFill>
                <a:latin typeface="楷体_GB2312"/>
                <a:ea typeface="楷体_GB2312"/>
              </a:rPr>
              <a:t>）同义词：  悉  并  具  咸  皆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65080" y="533520"/>
            <a:ext cx="7974000" cy="5751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6:43:17Z</dcterms:created>
  <dc:creator>teacher</dc:creator>
  <dc:description/>
  <dc:language>en-US</dc:language>
  <cp:lastModifiedBy>liuye</cp:lastModifiedBy>
  <dcterms:modified xsi:type="dcterms:W3CDTF">2003-04-15T06:45:12Z</dcterms:modified>
  <cp:revision>51</cp:revision>
  <dc:subject/>
  <dc:title>没有幻灯片标题</dc:title>
</cp:coreProperties>
</file>