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3AC-43B4-4ECA-92FF-96809E09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DFB-4293-413B-AF13-F9807565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F4B-6BFD-4EB1-B102-F9E38F73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F43-6384-4417-8215-0CD5FFB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2787-6BAE-423C-AB7B-6B59D904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EE2F-B0CD-4F69-BDF0-510BA4A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B21-A7CF-44BA-B6E8-749E5F8C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70F1-6F2D-490A-9DF8-2F6F6A8C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C21-EC3E-4378-AF31-E5C5044E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5E1-D960-4C87-B120-6761AB8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9DF-2F22-4C85-AEE0-9F191AE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8EF-AA20-47AF-97BF-0E3A31D9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ED4-3C5A-4116-A6C3-4520C4B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2C4-16F3-4875-856F-17E01D8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FDAC-B807-47A3-B796-F83992E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1B63-5789-4F27-9DB6-86BEFD95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872F-B924-43FA-B355-91198646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E31-D4E8-4131-8CC2-363CAD2F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558-58F9-49AD-8E28-503A7DD0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C4B-E394-4D4A-A887-8742A21B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31E-330F-4D8D-8D06-0396ACEE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3B6-CFEF-4AF9-A5FF-B8ED5027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511-01CA-40E7-843B-1B563798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B89-42C3-4443-AFF1-16898A8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2A12-9D77-495E-9F03-6CC2FE307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9456-2C43-4B75-97F4-9022605FB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52480" y="1066680"/>
            <a:ext cx="5867640" cy="32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谈骨气</a:t>
            </a:r>
            <a:endParaRPr b="0" lang="en-US" sz="8000" spc="1" strike="noStrike">
              <a:ln w="3816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792680"/>
            <a:ext cx="71625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吴晗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_1-1-61_20011101245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tart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rack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mall(1)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2666880" cy="2438640"/>
          </a:xfrm>
          <a:prstGeom prst="rect">
            <a:avLst/>
          </a:prstGeom>
          <a:ln w="0">
            <a:noFill/>
          </a:ln>
        </p:spPr>
      </p:pic>
      <p:pic>
        <p:nvPicPr>
          <p:cNvPr id="117" name="small(13)" descr=""/>
          <p:cNvPicPr/>
          <p:nvPr/>
        </p:nvPicPr>
        <p:blipFill>
          <a:blip r:embed="rId2"/>
          <a:stretch/>
        </p:blipFill>
        <p:spPr>
          <a:xfrm>
            <a:off x="3276720" y="2209680"/>
            <a:ext cx="2286000" cy="2210040"/>
          </a:xfrm>
          <a:prstGeom prst="rect">
            <a:avLst/>
          </a:prstGeom>
          <a:ln w="0">
            <a:noFill/>
          </a:ln>
        </p:spPr>
      </p:pic>
      <p:pic>
        <p:nvPicPr>
          <p:cNvPr id="118" name="small" descr=""/>
          <p:cNvPicPr/>
          <p:nvPr/>
        </p:nvPicPr>
        <p:blipFill>
          <a:blip r:embed="rId3"/>
          <a:stretch/>
        </p:blipFill>
        <p:spPr>
          <a:xfrm>
            <a:off x="5105520" y="44197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_6-12-44_20011115113715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_6-12-44_2001112014439" descr=""/>
          <p:cNvPicPr/>
          <p:nvPr/>
        </p:nvPicPr>
        <p:blipFill>
          <a:blip r:embed="rId1"/>
          <a:stretch/>
        </p:blipFill>
        <p:spPr>
          <a:xfrm>
            <a:off x="1905120" y="347760"/>
            <a:ext cx="487656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_6-12-44_2001112015210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_6-12-44_2001112022732" descr=""/>
          <p:cNvPicPr/>
          <p:nvPr/>
        </p:nvPicPr>
        <p:blipFill>
          <a:blip r:embed="rId1"/>
          <a:stretch/>
        </p:blipFill>
        <p:spPr>
          <a:xfrm>
            <a:off x="2030400" y="1568520"/>
            <a:ext cx="50817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-64-120_9th_logo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124" name="6-64-121_weiwei" descr=""/>
          <p:cNvPicPr/>
          <p:nvPr/>
        </p:nvPicPr>
        <p:blipFill>
          <a:blip r:embed="rId2"/>
          <a:stretch/>
        </p:blipFill>
        <p:spPr>
          <a:xfrm>
            <a:off x="4495680" y="281952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533520"/>
            <a:ext cx="7543800" cy="19227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吴晗（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1909--1969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），浙江义乌人，著名历史学家。和邓拓、廖沫沙合称“三家村”，文革期间被“四人帮”迫害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HQ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FLOWERS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838080"/>
            <a:ext cx="6782040" cy="3420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81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目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掌握本文并列论证结构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、学习古人有骨气的崇高气节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304920"/>
            <a:ext cx="3505320" cy="916920"/>
          </a:xfrm>
          <a:prstGeom prst="rect">
            <a:avLst/>
          </a:prstGeom>
          <a:solidFill>
            <a:srgbClr val="3366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思考题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7924680" cy="239904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cc66"/>
              </a:gs>
            </a:gsLst>
            <a:lin ang="135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、议论文的三要素是什么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、什么叫论证结构？常见的论证结构有哪些？本文属于哪种结构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304920"/>
            <a:ext cx="7315200" cy="2168640"/>
          </a:xfrm>
          <a:prstGeom prst="rect">
            <a:avLst/>
          </a:prstGeom>
          <a:solidFill>
            <a:srgbClr val="000066"/>
          </a:solidFill>
          <a:ln w="76320">
            <a:solidFill>
              <a:srgbClr val="cf3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、论点、论据和论证方法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、议论文的组织结构称为论证结构。常见的论证结构有并列、层进和对比论证结构。本文是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·····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304920"/>
            <a:ext cx="7619760" cy="375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通常来说，议论文的结构形式为：                引论  本论 结论提出问题、分析问题、解决问题  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304920"/>
            <a:ext cx="7391520" cy="2399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见的论证方法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道理论证、举例论证、比喻论证、引用论证、对比论证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·····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724280"/>
            <a:ext cx="7315200" cy="100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请找出本文采用了哪些论证方法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0"/>
            <a:ext cx="7848720" cy="470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一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1-4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）提出论点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举三个事例，从三个角度论证论点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三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）总结古人“骨气”的意义，联系实际，倡导有骨气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66880" y="228600"/>
            <a:ext cx="3657600" cy="1099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要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523880"/>
            <a:ext cx="7619760" cy="3420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、并列论证结构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、选取典型材料，摆事实，讲道理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、运用辨证眼光看待问题。（与时俱进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13:46:24Z</dcterms:created>
  <dc:creator>xxx</dc:creator>
  <dc:description/>
  <dc:language>en-US</dc:language>
  <cp:lastModifiedBy>xxx</cp:lastModifiedBy>
  <dcterms:modified xsi:type="dcterms:W3CDTF">2001-11-22T00:31:28Z</dcterms:modified>
  <cp:revision>10</cp:revision>
  <dc:subject/>
  <dc:title>没有幻灯片标题</dc:title>
</cp:coreProperties>
</file>